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02A-A313-4231-88A2-B4701CD5D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162-9D94-430B-ACEC-D9856AE6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A3B-A916-4EB2-AD9A-C8212453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3B15-5A6B-4F04-802A-9CC0B23E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4E1A-ED18-4E0B-8B77-D9ECA588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7D24-58B7-49C6-89CD-B24B4A1F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ABEE-2D98-4D9D-8579-88C87A00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2F78-7C4E-43C6-9376-FA0450CD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01BA-E870-4F07-87CE-092F919F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ADEE-7136-4F17-ADCC-AB45B656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2B3-DF13-4596-BC15-EC0BE9B2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B0A-9C0E-4539-867A-5B097803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8E72-10C9-4754-BDAD-8F7691E2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F146-04FB-4D72-A12B-EB9E1A7E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AF63-A507-41C2-9421-BD165DD7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A175-BFEE-4480-BF6C-41E73AAF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00F7-AB6F-48BA-A451-6069CC2D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2ACDA-CA4B-4E09-8675-4EE3308FF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A09C-08B2-46F1-8F47-2026AD74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7F255-E9F1-470C-A63D-51DA5E1A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B447-F626-45EE-9F31-2261BCDD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EB118-94FA-4B9B-8076-B064D702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DE4-EE98-4135-92B4-A626661B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0899-61EA-46EA-9988-CA09F8D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376C-6644-4222-8466-DC51B5BC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FFBD0-8402-4EEC-BF18-5E5B8F3E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0F7EC-DB3B-4D97-99C0-B0B317B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260E-010A-4512-B3FD-3D8CA924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3D3E9-DD6E-4510-966B-60308566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061D-C6E7-42CA-98A6-66B57A1D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C49-C6F3-4150-999A-2BB3E4FE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334-56FC-44BA-8A62-78C7F2D5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9A5-721D-4A37-93F9-6A97E1B2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5E6-7D86-4456-B6F8-32A373A5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F16-79E2-4D86-AADB-9975B002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381-42A9-4999-9976-BDFFABF9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73A7-597E-4426-A721-1D8E80AD84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853C-3C2C-4E1A-BD80-2EF40A074A2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88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F454-D2E0-41FF-AD1B-0A3C486DBF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050840" y="192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419120" y="1469880"/>
            <a:ext cx="64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节  欧姆定律课件</a:t>
            </a:r>
            <a:r>
              <a:rPr b="1" lang="en-US" sz="4000" spc="-1" strike="noStrike">
                <a:solidFill>
                  <a:srgbClr val="0000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ff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图片 2" descr=""/>
          <p:cNvPicPr/>
          <p:nvPr/>
        </p:nvPicPr>
        <p:blipFill>
          <a:blip r:embed="rId2"/>
          <a:stretch/>
        </p:blipFill>
        <p:spPr>
          <a:xfrm>
            <a:off x="4013280" y="3065400"/>
            <a:ext cx="3724200" cy="24494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3" descr=""/>
          <p:cNvPicPr/>
          <p:nvPr/>
        </p:nvPicPr>
        <p:blipFill>
          <a:blip r:embed="rId3"/>
          <a:stretch/>
        </p:blipFill>
        <p:spPr>
          <a:xfrm>
            <a:off x="1905120" y="3065400"/>
            <a:ext cx="1928520" cy="245124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4"/>
          <p:cNvSpPr/>
          <p:nvPr/>
        </p:nvSpPr>
        <p:spPr>
          <a:xfrm>
            <a:off x="0" y="1749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某小灯泡工作时两端的电压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.5V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用电流表测得此时的电流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300m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此灯泡工作时的电阻是多少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WordArt 5"/>
          <p:cNvSpPr txBox="1"/>
          <p:nvPr/>
        </p:nvSpPr>
        <p:spPr>
          <a:xfrm>
            <a:off x="1019160" y="843120"/>
            <a:ext cx="424800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算算看吧！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722F-E4B7-4EF2-9A02-7AFCB3AC14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733320" y="2666880"/>
            <a:ext cx="769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当导体两端电压为零时，导体电阻也为零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导体两端的电压越大，导体的电阻也越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导体中的电流越大，导体的电阻也越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导体的电阻是导体本身的性质，它的大小与导体两端的电压及导体中的电流无关。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304920" y="39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Object 5" descr=""/>
          <p:cNvPicPr/>
          <p:nvPr/>
        </p:nvPicPr>
        <p:blipFill>
          <a:blip r:embed="rId1"/>
          <a:stretch/>
        </p:blipFill>
        <p:spPr>
          <a:xfrm>
            <a:off x="4243320" y="735120"/>
            <a:ext cx="871560" cy="79380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6" descr=""/>
          <p:cNvPicPr/>
          <p:nvPr/>
        </p:nvPicPr>
        <p:blipFill>
          <a:blip r:embed="rId2"/>
          <a:stretch/>
        </p:blipFill>
        <p:spPr>
          <a:xfrm>
            <a:off x="6288120" y="719280"/>
            <a:ext cx="914400" cy="7808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9"/>
          <p:cNvSpPr/>
          <p:nvPr/>
        </p:nvSpPr>
        <p:spPr>
          <a:xfrm>
            <a:off x="485640" y="723960"/>
            <a:ext cx="795348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欧姆定律公式            可导出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于此式，下列说法正确的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5300640" y="1800360"/>
            <a:ext cx="62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320040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导体中的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电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，跟导体两端的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电压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成正比，跟导体的</a:t>
            </a:r>
            <a:r>
              <a:rPr b="1" lang="zh-CN" sz="3200" spc="-1" strike="noStrike">
                <a:solidFill>
                  <a:srgbClr val="0000ff"/>
                </a:solidFill>
                <a:latin typeface="Verdana"/>
              </a:rPr>
              <a:t>电阻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成反比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Object 7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3276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3886200" y="914400"/>
            <a:ext cx="282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德国物理学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欧 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838080" y="3886200"/>
            <a:ext cx="24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欧姆定律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62120" y="47242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U     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电压         伏特（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V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609480" y="38862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I      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电流         安培（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A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5486400"/>
            <a:ext cx="7837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 Black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0066"/>
                </a:solidFill>
                <a:latin typeface="Arial Black"/>
                <a:ea typeface="黑体"/>
              </a:rPr>
              <a:t>R        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电阻         欧姆（</a:t>
            </a:r>
            <a:r>
              <a:rPr b="1" lang="en-US" sz="3600" spc="-1" strike="noStrike">
                <a:solidFill>
                  <a:srgbClr val="ff0000"/>
                </a:solidFill>
                <a:latin typeface="Arial Black"/>
                <a:ea typeface="黑体"/>
              </a:rPr>
              <a:t>Ω</a:t>
            </a:r>
            <a:r>
              <a:rPr b="1" lang="zh-CN" sz="3600" spc="-1" strike="noStrike">
                <a:solidFill>
                  <a:srgbClr val="ff0066"/>
                </a:solidFill>
                <a:latin typeface="Arial Black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Object 5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1676520" cy="15782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17"/>
          <p:cNvGrpSpPr/>
          <p:nvPr/>
        </p:nvGrpSpPr>
        <p:grpSpPr>
          <a:xfrm>
            <a:off x="3471120" y="1676520"/>
            <a:ext cx="2853360" cy="1992240"/>
            <a:chOff x="3471120" y="1676520"/>
            <a:chExt cx="2853360" cy="1992240"/>
          </a:xfrm>
        </p:grpSpPr>
        <p:pic>
          <p:nvPicPr>
            <p:cNvPr id="146" name="Object 6" descr=""/>
            <p:cNvPicPr/>
            <p:nvPr/>
          </p:nvPicPr>
          <p:blipFill>
            <a:blip r:embed="rId2"/>
            <a:stretch/>
          </p:blipFill>
          <p:spPr>
            <a:xfrm>
              <a:off x="4572000" y="1676520"/>
              <a:ext cx="1752480" cy="565200"/>
            </a:xfrm>
            <a:prstGeom prst="rect">
              <a:avLst/>
            </a:prstGeom>
            <a:ln w="0">
              <a:noFill/>
            </a:ln>
            <a:effectLst>
              <a:outerShdw dist="52300" dir="836435" blurRad="0" rotWithShape="0">
                <a:srgbClr val="dddddd"/>
              </a:outerShdw>
            </a:effectLst>
          </p:spPr>
        </p:pic>
        <p:pic>
          <p:nvPicPr>
            <p:cNvPr id="147" name="Object 7" descr=""/>
            <p:cNvPicPr/>
            <p:nvPr/>
          </p:nvPicPr>
          <p:blipFill>
            <a:blip r:embed="rId3"/>
            <a:stretch/>
          </p:blipFill>
          <p:spPr>
            <a:xfrm>
              <a:off x="4648320" y="2362320"/>
              <a:ext cx="1490400" cy="1306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grpSp>
          <p:nvGrpSpPr>
            <p:cNvPr id="148" name=""/>
            <p:cNvGrpSpPr/>
            <p:nvPr/>
          </p:nvGrpSpPr>
          <p:grpSpPr>
            <a:xfrm>
              <a:off x="3505320" y="1981080"/>
              <a:ext cx="914400" cy="457200"/>
              <a:chOff x="3505320" y="1981080"/>
              <a:chExt cx="914400" cy="457200"/>
            </a:xfrm>
          </p:grpSpPr>
          <p:sp>
            <p:nvSpPr>
              <p:cNvPr id="149" name="Line 8"/>
              <p:cNvSpPr/>
              <p:nvPr/>
            </p:nvSpPr>
            <p:spPr>
              <a:xfrm flipV="1">
                <a:off x="3505320" y="1981080"/>
                <a:ext cx="91440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 rot="10800000">
                <a:off x="3505320" y="1981080"/>
                <a:ext cx="9144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3471120" y="2417760"/>
              <a:ext cx="982800" cy="1031760"/>
              <a:chOff x="3471120" y="2417760"/>
              <a:chExt cx="982800" cy="1031760"/>
            </a:xfrm>
          </p:grpSpPr>
          <p:sp>
            <p:nvSpPr>
              <p:cNvPr id="152" name="Line 9"/>
              <p:cNvSpPr/>
              <p:nvPr/>
            </p:nvSpPr>
            <p:spPr>
              <a:xfrm>
                <a:off x="3471120" y="2651760"/>
                <a:ext cx="982440" cy="56340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headEnd len="med" type="oval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 rot="15126600">
                <a:off x="3543120" y="2552400"/>
                <a:ext cx="838080" cy="762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447920" y="5867280"/>
            <a:ext cx="1066680" cy="360"/>
            <a:chOff x="1447920" y="5867280"/>
            <a:chExt cx="1066680" cy="360"/>
          </a:xfrm>
        </p:grpSpPr>
        <p:sp>
          <p:nvSpPr>
            <p:cNvPr id="155" name="Line 10"/>
            <p:cNvSpPr/>
            <p:nvPr/>
          </p:nvSpPr>
          <p:spPr>
            <a:xfrm>
              <a:off x="1447920" y="58672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447920" y="58672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657600" y="5867280"/>
            <a:ext cx="1066680" cy="360"/>
            <a:chOff x="3657600" y="5867280"/>
            <a:chExt cx="1066680" cy="360"/>
          </a:xfrm>
        </p:grpSpPr>
        <p:sp>
          <p:nvSpPr>
            <p:cNvPr id="158" name="Line 11"/>
            <p:cNvSpPr/>
            <p:nvPr/>
          </p:nvSpPr>
          <p:spPr>
            <a:xfrm>
              <a:off x="3657600" y="58672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657600" y="58672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47560" y="5105160"/>
            <a:ext cx="1067040" cy="360"/>
            <a:chOff x="1447560" y="5105160"/>
            <a:chExt cx="1067040" cy="360"/>
          </a:xfrm>
        </p:grpSpPr>
        <p:sp>
          <p:nvSpPr>
            <p:cNvPr id="161" name="Line 12"/>
            <p:cNvSpPr/>
            <p:nvPr/>
          </p:nvSpPr>
          <p:spPr>
            <a:xfrm>
              <a:off x="1447920" y="51055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 rot="10800000">
              <a:off x="1447560" y="510516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657600" y="5105520"/>
            <a:ext cx="1066680" cy="360"/>
            <a:chOff x="3657600" y="5105520"/>
            <a:chExt cx="1066680" cy="360"/>
          </a:xfrm>
        </p:grpSpPr>
        <p:sp>
          <p:nvSpPr>
            <p:cNvPr id="164" name="Line 13"/>
            <p:cNvSpPr/>
            <p:nvPr/>
          </p:nvSpPr>
          <p:spPr>
            <a:xfrm>
              <a:off x="3657600" y="510552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657600" y="510552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371600" y="4267080"/>
            <a:ext cx="1066680" cy="360"/>
            <a:chOff x="1371600" y="4267080"/>
            <a:chExt cx="1066680" cy="360"/>
          </a:xfrm>
        </p:grpSpPr>
        <p:sp>
          <p:nvSpPr>
            <p:cNvPr id="167" name="Line 14"/>
            <p:cNvSpPr/>
            <p:nvPr/>
          </p:nvSpPr>
          <p:spPr>
            <a:xfrm>
              <a:off x="137160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1371600" y="42670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657600" y="4267080"/>
            <a:ext cx="1066680" cy="360"/>
            <a:chOff x="3657600" y="4267080"/>
            <a:chExt cx="1066680" cy="360"/>
          </a:xfrm>
        </p:grpSpPr>
        <p:sp>
          <p:nvSpPr>
            <p:cNvPr id="170" name="Line 15"/>
            <p:cNvSpPr/>
            <p:nvPr/>
          </p:nvSpPr>
          <p:spPr>
            <a:xfrm>
              <a:off x="3657600" y="4267080"/>
              <a:ext cx="106668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657600" y="42670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2" name="WordArt 16"/>
          <p:cNvSpPr txBox="1"/>
          <p:nvPr/>
        </p:nvSpPr>
        <p:spPr>
          <a:xfrm>
            <a:off x="1295280" y="533520"/>
            <a:ext cx="2514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欧姆定律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文本框 8199"/>
          <p:cNvSpPr/>
          <p:nvPr/>
        </p:nvSpPr>
        <p:spPr>
          <a:xfrm>
            <a:off x="3657600" y="1062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57200" y="2057400"/>
            <a:ext cx="85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公式中的单位要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统一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）公式中的各个物理量必须对应于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同一段电路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WordArt 6"/>
          <p:cNvSpPr txBox="1"/>
          <p:nvPr/>
        </p:nvSpPr>
        <p:spPr>
          <a:xfrm>
            <a:off x="1295280" y="838080"/>
            <a:ext cx="27432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要注意哦！</a:t>
            </a:r>
            <a:endParaRPr b="1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6" name="Picture 8" descr="8-6"/>
          <p:cNvPicPr/>
          <p:nvPr/>
        </p:nvPicPr>
        <p:blipFill>
          <a:blip r:embed="rId1"/>
          <a:stretch/>
        </p:blipFill>
        <p:spPr>
          <a:xfrm>
            <a:off x="4343400" y="3809880"/>
            <a:ext cx="4267080" cy="2667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例题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4120" y="1752120"/>
            <a:ext cx="8567640" cy="11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一辆汽车的车灯接在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2V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电源两端，灯丝电阻为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1" lang="el-GR" sz="30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求通过灯丝的电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835200" y="3402000"/>
            <a:ext cx="74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：根据欧姆定律可知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844640" y="4087800"/>
            <a:ext cx="6295680" cy="1219680"/>
            <a:chOff x="1844640" y="4087800"/>
            <a:chExt cx="6295680" cy="1219680"/>
          </a:xfrm>
        </p:grpSpPr>
        <p:grpSp>
          <p:nvGrpSpPr>
            <p:cNvPr id="181" name="Group 14"/>
            <p:cNvGrpSpPr/>
            <p:nvPr/>
          </p:nvGrpSpPr>
          <p:grpSpPr>
            <a:xfrm>
              <a:off x="1844640" y="4087800"/>
              <a:ext cx="1091520" cy="1219680"/>
              <a:chOff x="1844640" y="4087800"/>
              <a:chExt cx="1091520" cy="1219680"/>
            </a:xfrm>
          </p:grpSpPr>
          <p:sp>
            <p:nvSpPr>
              <p:cNvPr id="182" name="Text Box 10"/>
              <p:cNvSpPr/>
              <p:nvPr/>
            </p:nvSpPr>
            <p:spPr>
              <a:xfrm>
                <a:off x="1844640" y="4344840"/>
                <a:ext cx="577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I=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11"/>
              <p:cNvSpPr/>
              <p:nvPr/>
            </p:nvSpPr>
            <p:spPr>
              <a:xfrm>
                <a:off x="2358360" y="4087800"/>
                <a:ext cx="514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U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4" name="Text Box 12"/>
              <p:cNvSpPr/>
              <p:nvPr/>
            </p:nvSpPr>
            <p:spPr>
              <a:xfrm>
                <a:off x="2422080" y="4604040"/>
                <a:ext cx="5140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R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2358360" y="4667760"/>
                <a:ext cx="450360" cy="360"/>
                <a:chOff x="2358360" y="4667760"/>
                <a:chExt cx="450360" cy="360"/>
              </a:xfrm>
            </p:grpSpPr>
            <p:sp>
              <p:nvSpPr>
                <p:cNvPr id="186" name="Line 13"/>
                <p:cNvSpPr/>
                <p:nvPr/>
              </p:nvSpPr>
              <p:spPr>
                <a:xfrm>
                  <a:off x="2358360" y="4667760"/>
                  <a:ext cx="450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7" name=""/>
                <p:cNvSpPr txBox="1"/>
                <p:nvPr/>
              </p:nvSpPr>
              <p:spPr>
                <a:xfrm>
                  <a:off x="2358360" y="4667760"/>
                  <a:ext cx="450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88" name="Text Box 15"/>
            <p:cNvSpPr/>
            <p:nvPr/>
          </p:nvSpPr>
          <p:spPr>
            <a:xfrm>
              <a:off x="2942280" y="4390920"/>
              <a:ext cx="519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=12V/30</a:t>
              </a:r>
              <a:r>
                <a:rPr b="1" lang="el-GR" sz="3200" spc="-1" strike="noStrike">
                  <a:solidFill>
                    <a:srgbClr val="000000"/>
                  </a:solidFill>
                  <a:latin typeface="Verdana"/>
                </a:rPr>
                <a:t>Ω</a:t>
              </a: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=0.4A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"/>
                            </p:stCondLst>
                            <p:childTnLst>
                              <p:par>
                                <p:cTn id="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例题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752480"/>
            <a:ext cx="914400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如图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7.2-1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所示，闭合开关后，电压表的示数为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6V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电流表的示数为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0.3A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，求电阻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的阻值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28"/>
          <p:cNvSpPr/>
          <p:nvPr/>
        </p:nvSpPr>
        <p:spPr>
          <a:xfrm>
            <a:off x="6683400" y="51894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7.2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29"/>
          <p:cNvSpPr/>
          <p:nvPr/>
        </p:nvSpPr>
        <p:spPr>
          <a:xfrm>
            <a:off x="1139760" y="33908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：根据欧姆定律可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3" name="Group 36"/>
          <p:cNvGrpSpPr/>
          <p:nvPr/>
        </p:nvGrpSpPr>
        <p:grpSpPr>
          <a:xfrm>
            <a:off x="595440" y="4100400"/>
            <a:ext cx="5238360" cy="1314360"/>
            <a:chOff x="595440" y="4100400"/>
            <a:chExt cx="5238360" cy="1314360"/>
          </a:xfrm>
        </p:grpSpPr>
        <p:grpSp>
          <p:nvGrpSpPr>
            <p:cNvPr id="194" name="Group 14"/>
            <p:cNvGrpSpPr/>
            <p:nvPr/>
          </p:nvGrpSpPr>
          <p:grpSpPr>
            <a:xfrm>
              <a:off x="595440" y="4100400"/>
              <a:ext cx="1364760" cy="1314360"/>
              <a:chOff x="595440" y="4100400"/>
              <a:chExt cx="1364760" cy="1314360"/>
            </a:xfrm>
          </p:grpSpPr>
          <p:sp>
            <p:nvSpPr>
              <p:cNvPr id="195" name="Text Box 10"/>
              <p:cNvSpPr/>
              <p:nvPr/>
            </p:nvSpPr>
            <p:spPr>
              <a:xfrm>
                <a:off x="595440" y="4465800"/>
                <a:ext cx="722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Calibri"/>
                  </a:rPr>
                  <a:t>R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6" name="Text Box 11"/>
              <p:cNvSpPr/>
              <p:nvPr/>
            </p:nvSpPr>
            <p:spPr>
              <a:xfrm>
                <a:off x="1237680" y="4100400"/>
                <a:ext cx="642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000000"/>
                    </a:solidFill>
                    <a:latin typeface="Calibri"/>
                  </a:rPr>
                  <a:t>U</a:t>
                </a:r>
                <a:endParaRPr b="0" lang="en-US" sz="4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7" name="Text Box 12"/>
              <p:cNvSpPr/>
              <p:nvPr/>
            </p:nvSpPr>
            <p:spPr>
              <a:xfrm>
                <a:off x="1317600" y="4833360"/>
                <a:ext cx="642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Verdana"/>
                  </a:rPr>
                  <a:t>I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1237680" y="4924080"/>
                <a:ext cx="563040" cy="360"/>
                <a:chOff x="1237680" y="4924080"/>
                <a:chExt cx="563040" cy="360"/>
              </a:xfrm>
            </p:grpSpPr>
            <p:sp>
              <p:nvSpPr>
                <p:cNvPr id="199" name="Line 13"/>
                <p:cNvSpPr/>
                <p:nvPr/>
              </p:nvSpPr>
              <p:spPr>
                <a:xfrm>
                  <a:off x="1237680" y="4924080"/>
                  <a:ext cx="563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0" name=""/>
                <p:cNvSpPr txBox="1"/>
                <p:nvPr/>
              </p:nvSpPr>
              <p:spPr>
                <a:xfrm>
                  <a:off x="1237680" y="4924080"/>
                  <a:ext cx="563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01" name="Text Box 35"/>
            <p:cNvSpPr/>
            <p:nvPr/>
          </p:nvSpPr>
          <p:spPr>
            <a:xfrm>
              <a:off x="1837080" y="4524480"/>
              <a:ext cx="399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=6V/0.3A=20 </a:t>
              </a:r>
              <a:r>
                <a:rPr b="1" lang="el-GR" sz="3200" spc="-1" strike="noStrike">
                  <a:solidFill>
                    <a:srgbClr val="000000"/>
                  </a:solidFill>
                  <a:latin typeface="Verdana"/>
                </a:rPr>
                <a:t>Ω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2" name="Group 38"/>
          <p:cNvGrpSpPr/>
          <p:nvPr/>
        </p:nvGrpSpPr>
        <p:grpSpPr>
          <a:xfrm>
            <a:off x="6081840" y="3067200"/>
            <a:ext cx="2361960" cy="2030040"/>
            <a:chOff x="6081840" y="3067200"/>
            <a:chExt cx="2361960" cy="2030040"/>
          </a:xfrm>
        </p:grpSpPr>
        <p:grpSp>
          <p:nvGrpSpPr>
            <p:cNvPr id="203" name="Group 27"/>
            <p:cNvGrpSpPr/>
            <p:nvPr/>
          </p:nvGrpSpPr>
          <p:grpSpPr>
            <a:xfrm>
              <a:off x="6081840" y="3067200"/>
              <a:ext cx="2361960" cy="2030040"/>
              <a:chOff x="6081840" y="3067200"/>
              <a:chExt cx="2361960" cy="203004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6737400" y="4707360"/>
                <a:ext cx="360" cy="389880"/>
                <a:chOff x="6737400" y="4707360"/>
                <a:chExt cx="360" cy="389880"/>
              </a:xfrm>
            </p:grpSpPr>
            <p:sp>
              <p:nvSpPr>
                <p:cNvPr id="205" name="Line 20"/>
                <p:cNvSpPr/>
                <p:nvPr/>
              </p:nvSpPr>
              <p:spPr>
                <a:xfrm>
                  <a:off x="6737400" y="4707360"/>
                  <a:ext cx="0" cy="38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6" name=""/>
                <p:cNvSpPr txBox="1"/>
                <p:nvPr/>
              </p:nvSpPr>
              <p:spPr>
                <a:xfrm>
                  <a:off x="6737400" y="4707360"/>
                  <a:ext cx="360" cy="38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791400" y="4828680"/>
                <a:ext cx="360" cy="178920"/>
                <a:chOff x="6791400" y="4828680"/>
                <a:chExt cx="360" cy="178920"/>
              </a:xfrm>
            </p:grpSpPr>
            <p:sp>
              <p:nvSpPr>
                <p:cNvPr id="208" name="Line 21"/>
                <p:cNvSpPr/>
                <p:nvPr/>
              </p:nvSpPr>
              <p:spPr>
                <a:xfrm>
                  <a:off x="6791400" y="4828680"/>
                  <a:ext cx="0" cy="178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09" name=""/>
                <p:cNvSpPr txBox="1"/>
                <p:nvPr/>
              </p:nvSpPr>
              <p:spPr>
                <a:xfrm>
                  <a:off x="6791400" y="4828680"/>
                  <a:ext cx="36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10" name="Group 26"/>
              <p:cNvGrpSpPr/>
              <p:nvPr/>
            </p:nvGrpSpPr>
            <p:grpSpPr>
              <a:xfrm>
                <a:off x="6081840" y="3067200"/>
                <a:ext cx="2361960" cy="1919520"/>
                <a:chOff x="6081840" y="3067200"/>
                <a:chExt cx="2361960" cy="1919520"/>
              </a:xfrm>
            </p:grpSpPr>
            <p:grpSp>
              <p:nvGrpSpPr>
                <p:cNvPr id="211" name="Group 17"/>
                <p:cNvGrpSpPr/>
                <p:nvPr/>
              </p:nvGrpSpPr>
              <p:grpSpPr>
                <a:xfrm>
                  <a:off x="6081840" y="3067200"/>
                  <a:ext cx="2350800" cy="1854360"/>
                  <a:chOff x="6081840" y="3067200"/>
                  <a:chExt cx="2350800" cy="1854360"/>
                </a:xfrm>
              </p:grpSpPr>
              <p:grpSp>
                <p:nvGrpSpPr>
                  <p:cNvPr id="212" name="Group 11"/>
                  <p:cNvGrpSpPr/>
                  <p:nvPr/>
                </p:nvGrpSpPr>
                <p:grpSpPr>
                  <a:xfrm>
                    <a:off x="6081840" y="3211920"/>
                    <a:ext cx="349200" cy="1709640"/>
                    <a:chOff x="6081840" y="3211920"/>
                    <a:chExt cx="349200" cy="1709640"/>
                  </a:xfrm>
                </p:grpSpPr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6254640" y="3211920"/>
                      <a:ext cx="360" cy="736200"/>
                      <a:chOff x="6254640" y="3211920"/>
                      <a:chExt cx="360" cy="736200"/>
                    </a:xfrm>
                  </p:grpSpPr>
                  <p:sp>
                    <p:nvSpPr>
                      <p:cNvPr id="214" name="Line 8"/>
                      <p:cNvSpPr/>
                      <p:nvPr/>
                    </p:nvSpPr>
                    <p:spPr>
                      <a:xfrm>
                        <a:off x="6254640" y="3211920"/>
                        <a:ext cx="0" cy="736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15" name=""/>
                      <p:cNvSpPr txBox="1"/>
                      <p:nvPr/>
                    </p:nvSpPr>
                    <p:spPr>
                      <a:xfrm>
                        <a:off x="6254640" y="3211920"/>
                        <a:ext cx="360" cy="7362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254640" y="4218120"/>
                      <a:ext cx="360" cy="703440"/>
                      <a:chOff x="6254640" y="4218120"/>
                      <a:chExt cx="360" cy="703440"/>
                    </a:xfrm>
                  </p:grpSpPr>
                  <p:sp>
                    <p:nvSpPr>
                      <p:cNvPr id="217" name="Line 9"/>
                      <p:cNvSpPr/>
                      <p:nvPr/>
                    </p:nvSpPr>
                    <p:spPr>
                      <a:xfrm>
                        <a:off x="6254640" y="4218120"/>
                        <a:ext cx="0" cy="703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sp>
                    <p:nvSpPr>
                      <p:cNvPr id="218" name=""/>
                      <p:cNvSpPr txBox="1"/>
                      <p:nvPr/>
                    </p:nvSpPr>
                    <p:spPr>
                      <a:xfrm>
                        <a:off x="6254640" y="4218120"/>
                        <a:ext cx="360" cy="703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sp>
                  <p:nvSpPr>
                    <p:cNvPr id="219" name="Oval 10"/>
                    <p:cNvSpPr/>
                    <p:nvPr/>
                  </p:nvSpPr>
                  <p:spPr>
                    <a:xfrm>
                      <a:off x="6081840" y="3948120"/>
                      <a:ext cx="349200" cy="300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</p:grpSp>
              <p:grpSp>
                <p:nvGrpSpPr>
                  <p:cNvPr id="220" name="Group 16"/>
                  <p:cNvGrpSpPr/>
                  <p:nvPr/>
                </p:nvGrpSpPr>
                <p:grpSpPr>
                  <a:xfrm>
                    <a:off x="6253200" y="3067200"/>
                    <a:ext cx="2179440" cy="601560"/>
                    <a:chOff x="6253200" y="3067200"/>
                    <a:chExt cx="2179440" cy="601560"/>
                  </a:xfrm>
                </p:grpSpPr>
                <p:grpSp>
                  <p:nvGrpSpPr>
                    <p:cNvPr id="221" name="Group 7"/>
                    <p:cNvGrpSpPr/>
                    <p:nvPr/>
                  </p:nvGrpSpPr>
                  <p:grpSpPr>
                    <a:xfrm>
                      <a:off x="6265800" y="3067200"/>
                      <a:ext cx="2165040" cy="289440"/>
                      <a:chOff x="6265800" y="3067200"/>
                      <a:chExt cx="2165040" cy="289440"/>
                    </a:xfrm>
                  </p:grpSpPr>
                  <p:grpSp>
                    <p:nvGrpSpPr>
                      <p:cNvPr id="222" name=""/>
                      <p:cNvGrpSpPr/>
                      <p:nvPr/>
                    </p:nvGrpSpPr>
                    <p:grpSpPr>
                      <a:xfrm>
                        <a:off x="6265800" y="3201480"/>
                        <a:ext cx="900720" cy="360"/>
                        <a:chOff x="6265800" y="3201480"/>
                        <a:chExt cx="900720" cy="360"/>
                      </a:xfrm>
                    </p:grpSpPr>
                    <p:sp>
                      <p:nvSpPr>
                        <p:cNvPr id="223" name="Line 4"/>
                        <p:cNvSpPr/>
                        <p:nvPr/>
                      </p:nvSpPr>
                      <p:spPr>
                        <a:xfrm>
                          <a:off x="6265800" y="3201480"/>
                          <a:ext cx="9007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 txBox="1"/>
                        <p:nvPr/>
                      </p:nvSpPr>
                      <p:spPr>
                        <a:xfrm>
                          <a:off x="6265800" y="3201480"/>
                          <a:ext cx="9007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grpSp>
                    <p:nvGrpSpPr>
                      <p:cNvPr id="225" name=""/>
                      <p:cNvGrpSpPr/>
                      <p:nvPr/>
                    </p:nvGrpSpPr>
                    <p:grpSpPr>
                      <a:xfrm>
                        <a:off x="7454520" y="3211920"/>
                        <a:ext cx="976320" cy="360"/>
                        <a:chOff x="7454520" y="3211920"/>
                        <a:chExt cx="976320" cy="360"/>
                      </a:xfrm>
                    </p:grpSpPr>
                    <p:sp>
                      <p:nvSpPr>
                        <p:cNvPr id="226" name="Line 5"/>
                        <p:cNvSpPr/>
                        <p:nvPr/>
                      </p:nvSpPr>
                      <p:spPr>
                        <a:xfrm>
                          <a:off x="7454520" y="3211920"/>
                          <a:ext cx="9763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 txBox="1"/>
                        <p:nvPr/>
                      </p:nvSpPr>
                      <p:spPr>
                        <a:xfrm>
                          <a:off x="7454520" y="3211920"/>
                          <a:ext cx="97632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sp>
                    <p:nvSpPr>
                      <p:cNvPr id="228" name="Oval 6"/>
                      <p:cNvSpPr/>
                      <p:nvPr/>
                    </p:nvSpPr>
                    <p:spPr>
                      <a:xfrm>
                        <a:off x="7155000" y="3067200"/>
                        <a:ext cx="336600" cy="2894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400" spc="-1" strike="noStrike">
                            <a:solidFill>
                              <a:srgbClr val="000000"/>
                            </a:solidFill>
                            <a:latin typeface="Verdana"/>
                          </a:rPr>
                          <a:t>V</a:t>
                        </a:r>
                        <a:endPara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</p:grpSp>
                <p:grpSp>
                  <p:nvGrpSpPr>
                    <p:cNvPr id="229" name="Group 15"/>
                    <p:cNvGrpSpPr/>
                    <p:nvPr/>
                  </p:nvGrpSpPr>
                  <p:grpSpPr>
                    <a:xfrm>
                      <a:off x="6253200" y="3501720"/>
                      <a:ext cx="2179440" cy="167040"/>
                      <a:chOff x="6253200" y="3501720"/>
                      <a:chExt cx="2179440" cy="167040"/>
                    </a:xfrm>
                  </p:grpSpPr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6253200" y="3601440"/>
                        <a:ext cx="685800" cy="360"/>
                        <a:chOff x="6253200" y="3601440"/>
                        <a:chExt cx="685800" cy="360"/>
                      </a:xfrm>
                    </p:grpSpPr>
                    <p:sp>
                      <p:nvSpPr>
                        <p:cNvPr id="231" name="Line 12"/>
                        <p:cNvSpPr/>
                        <p:nvPr/>
                      </p:nvSpPr>
                      <p:spPr>
                        <a:xfrm>
                          <a:off x="6253200" y="3601440"/>
                          <a:ext cx="68580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 txBox="1"/>
                        <p:nvPr/>
                      </p:nvSpPr>
                      <p:spPr>
                        <a:xfrm>
                          <a:off x="6253200" y="3601440"/>
                          <a:ext cx="68580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  <p:sp>
                    <p:nvSpPr>
                      <p:cNvPr id="233" name="Rectangle 13"/>
                      <p:cNvSpPr/>
                      <p:nvPr/>
                    </p:nvSpPr>
                    <p:spPr>
                      <a:xfrm>
                        <a:off x="6951600" y="3501720"/>
                        <a:ext cx="700200" cy="16704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32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7639200" y="3579120"/>
                        <a:ext cx="793440" cy="360"/>
                        <a:chOff x="7639200" y="3579120"/>
                        <a:chExt cx="793440" cy="360"/>
                      </a:xfrm>
                    </p:grpSpPr>
                    <p:sp>
                      <p:nvSpPr>
                        <p:cNvPr id="235" name="Line 14"/>
                        <p:cNvSpPr/>
                        <p:nvPr/>
                      </p:nvSpPr>
                      <p:spPr>
                        <a:xfrm>
                          <a:off x="7639200" y="3579120"/>
                          <a:ext cx="7934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 txBox="1"/>
                        <p:nvPr/>
                      </p:nvSpPr>
                      <p:spPr>
                        <a:xfrm>
                          <a:off x="7639200" y="3579120"/>
                          <a:ext cx="793440" cy="3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-46440" bIns="-46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32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8431200" y="3222360"/>
                  <a:ext cx="360" cy="1697040"/>
                  <a:chOff x="8431200" y="3222360"/>
                  <a:chExt cx="360" cy="1697040"/>
                </a:xfrm>
              </p:grpSpPr>
              <p:sp>
                <p:nvSpPr>
                  <p:cNvPr id="238" name="Line 18"/>
                  <p:cNvSpPr/>
                  <p:nvPr/>
                </p:nvSpPr>
                <p:spPr>
                  <a:xfrm>
                    <a:off x="8431200" y="3222360"/>
                    <a:ext cx="0" cy="1697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>
                    <a:off x="8431200" y="3222360"/>
                    <a:ext cx="360" cy="1697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6267600" y="4907880"/>
                  <a:ext cx="455400" cy="360"/>
                  <a:chOff x="6267600" y="4907880"/>
                  <a:chExt cx="455400" cy="360"/>
                </a:xfrm>
              </p:grpSpPr>
              <p:sp>
                <p:nvSpPr>
                  <p:cNvPr id="241" name="Line 19"/>
                  <p:cNvSpPr/>
                  <p:nvPr/>
                </p:nvSpPr>
                <p:spPr>
                  <a:xfrm>
                    <a:off x="6267600" y="4907880"/>
                    <a:ext cx="4554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>
                    <a:off x="6267600" y="4907880"/>
                    <a:ext cx="455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6791400" y="4919760"/>
                  <a:ext cx="496800" cy="360"/>
                  <a:chOff x="6791400" y="4919760"/>
                  <a:chExt cx="496800" cy="360"/>
                </a:xfrm>
              </p:grpSpPr>
              <p:sp>
                <p:nvSpPr>
                  <p:cNvPr id="244" name="Line 22"/>
                  <p:cNvSpPr/>
                  <p:nvPr/>
                </p:nvSpPr>
                <p:spPr>
                  <a:xfrm>
                    <a:off x="6791400" y="4919760"/>
                    <a:ext cx="496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>
                    <a:off x="6791400" y="4919760"/>
                    <a:ext cx="496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46" name="Oval 23"/>
                <p:cNvSpPr/>
                <p:nvPr/>
              </p:nvSpPr>
              <p:spPr>
                <a:xfrm>
                  <a:off x="7327800" y="4862880"/>
                  <a:ext cx="149400" cy="123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1040" bIns="41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7462440" y="4684680"/>
                  <a:ext cx="228960" cy="189720"/>
                  <a:chOff x="7462440" y="4684680"/>
                  <a:chExt cx="228960" cy="189720"/>
                </a:xfrm>
              </p:grpSpPr>
              <p:sp>
                <p:nvSpPr>
                  <p:cNvPr id="248" name="Line 24"/>
                  <p:cNvSpPr/>
                  <p:nvPr/>
                </p:nvSpPr>
                <p:spPr>
                  <a:xfrm flipV="1">
                    <a:off x="7462800" y="4684680"/>
                    <a:ext cx="228600" cy="189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49" name=""/>
                  <p:cNvSpPr txBox="1"/>
                  <p:nvPr/>
                </p:nvSpPr>
                <p:spPr>
                  <a:xfrm rot="10800000">
                    <a:off x="7462440" y="4684680"/>
                    <a:ext cx="228600" cy="18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7705800" y="4930200"/>
                  <a:ext cx="738000" cy="360"/>
                  <a:chOff x="7705800" y="4930200"/>
                  <a:chExt cx="738000" cy="360"/>
                </a:xfrm>
              </p:grpSpPr>
              <p:sp>
                <p:nvSpPr>
                  <p:cNvPr id="251" name="Line 25"/>
                  <p:cNvSpPr/>
                  <p:nvPr/>
                </p:nvSpPr>
                <p:spPr>
                  <a:xfrm>
                    <a:off x="7705800" y="4930200"/>
                    <a:ext cx="73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52" name=""/>
                  <p:cNvSpPr txBox="1"/>
                  <p:nvPr/>
                </p:nvSpPr>
                <p:spPr>
                  <a:xfrm>
                    <a:off x="7705800" y="4930200"/>
                    <a:ext cx="73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53" name="Text Box 37"/>
            <p:cNvSpPr/>
            <p:nvPr/>
          </p:nvSpPr>
          <p:spPr>
            <a:xfrm>
              <a:off x="7074000" y="3602160"/>
              <a:ext cx="40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例题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7524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一个熨斗的电阻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0.1KΩ,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使用时流过的电流是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1A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加在电熨斗上的电压是多少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617400" y="3578400"/>
            <a:ext cx="705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解： 根据欧姆定律可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=IR=2.1A×100Ω=210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科学世界：酒精浓度检测仪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4" descr="200909030921028212"/>
          <p:cNvPicPr/>
          <p:nvPr/>
        </p:nvPicPr>
        <p:blipFill>
          <a:blip r:embed="rId1"/>
          <a:stretch/>
        </p:blipFill>
        <p:spPr>
          <a:xfrm>
            <a:off x="577800" y="1730520"/>
            <a:ext cx="8028000" cy="4754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019160" y="430200"/>
            <a:ext cx="4248000" cy="104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算算看吧！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54000" y="3649680"/>
            <a:ext cx="90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个定值电阻的阻值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0 </a:t>
            </a: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使用时流过的电流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00mA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加在这个定值电阻两端的电压是多大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0" y="1882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个电熨斗的电阻是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80</a:t>
            </a:r>
            <a:r>
              <a:rPr b="1" lang="el-GR" sz="36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，接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220V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的电压上，流过它的电流是多少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文本框 8199"/>
          <p:cNvSpPr/>
          <p:nvPr/>
        </p:nvSpPr>
        <p:spPr>
          <a:xfrm>
            <a:off x="1724040" y="198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366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8:15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19Z</dcterms:modified>
  <cp:revision>10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