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F62C-237E-4E0A-A069-464C7E1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509B-10C2-409E-972E-8B1E2C3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82243-7D46-4403-9D86-DAFAC08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18763-B31D-46FF-8229-F506E88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4CBC-F9A8-4BEE-A516-DDA4F39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0B5C2-DDC4-4C04-8C6F-6B347FE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A8DA-3155-499D-BD89-11F882E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53A92-919C-46F0-B78F-A6D4E2D1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A7C8C-B62D-4C99-96B5-B6279648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E8DE1-14E7-4F0A-B05B-8B14D1B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CF2E-D893-496A-9B00-0E6F625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A524C-31A0-42F2-90B5-3D157C4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F9A3-63FC-45D3-AD39-62C8AD04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9756-2232-4314-83B4-2A0C0B9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07970-A732-4CF8-BDD9-4C81E4B7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20C3F-A171-471E-A9CF-0E65FFD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2C46-A98A-4D6F-A05A-E50D36A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871C-D122-4D77-A8EF-5636390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C854-C43F-4355-9986-D20260D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5893-A247-49A3-A04C-4043C3C3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118E-579A-4AE0-A89D-3CD5DF4D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EA5D8-77E8-4046-897C-DCC4E016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69C84-0734-4367-BFB6-C0EE5833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B2C73-B93E-425F-BF2A-E960700E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A4C4A-5D9F-4945-B4BF-AF33C16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3597-ED57-435D-BCF6-383D8A3E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36A2-EF2B-4956-9A23-0120DE8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20192-B64D-40C0-A3A7-5DA3D95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7B6C4-F085-4C21-A9CF-7176131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8812D-002C-40AA-952A-EBF6D53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25BC-8CC6-4B57-827A-15D6C56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48656-2082-4EBC-B27E-B0AD18E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B6457-5852-4DB9-AE96-2B23CA55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E2F66-ED3C-4B0E-B315-98ADB8FC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EF871-AE8D-442D-838A-E5D07BD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515B1-24E3-45DE-9600-DE49D09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846C2-19A1-4635-B85E-08F88701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4A730-E426-4426-87AF-2EA3446A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CF614-0C11-4162-AEDF-16FDF1E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D673E-B1B5-4F93-8735-B3A70C7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187C9-47FF-4AF6-A12D-DB3768A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FE74A-F359-49AE-8FD8-B4143B8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62BBB-1E16-494C-9FF7-09C34721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4E4E3-1E41-4137-BBA7-3BC2E060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ACD3-D4FB-4077-B9F7-1C7FC8E8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D779-56C4-445B-8B47-CB709AFD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205D-9DB8-4492-914E-E98EA56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7A00-460F-41BD-8920-513813D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91B3-1062-4C8F-A423-BBF7A037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84570-68C9-42F5-8ACB-616258EE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B76E2-1123-4C0B-8AC4-FDCF51ED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67C4D-F903-48F4-B0E6-3F8E3FE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A80D4-26D5-403F-B22D-98AA4DD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388A-5C86-4D8C-9304-3B4624F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1E5EE-C8B4-4553-89B1-02CFCE3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F3C7C-9BC2-4842-A6DD-1CF1D1C8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6F572-D6E7-47D8-A352-30280002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195FE-DCB3-4BE0-84DE-52F99A08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4C688-9632-4956-B29B-12EB309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F88B1-ED5E-4073-8EDC-21C097ED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168BB-4AA5-4A50-BD69-225580F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B79D6-58E7-46A7-B929-A44AE9AC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3E558-D075-4929-9951-B3C3225A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C8872-4F31-4D46-9C1E-96215FE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D729E-FE79-47F8-A8F1-B72EAB4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6DF92-6822-4BAD-95EA-DE8C682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CDFB2-26FE-438E-B6EF-639EDAF6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142E4-EC88-401C-AF89-8BA384F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A28A-9E24-4000-A146-A09C8F18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41BD8-BB5C-468C-877F-4300E804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84351-B710-4978-B8B6-06DB3400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A8F40-EE8C-4731-B005-052DE223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AE633-67AD-4BEF-BEC2-2AAE2837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0429C-6BB9-4273-809B-6500A68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235BC-324A-4D0B-BAD1-F34C776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55B0A-A8D4-43FF-9806-E96C660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719E-2E5A-4D22-A215-A1CC7FA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8696C-85B1-4FBA-9198-57F02BD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70B91-C84E-4907-A29A-F2DC264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484AD-61DA-47FB-B0EC-FD07A982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D8381-32A5-4B8B-B715-CF74B7BA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76B-8D59-43D1-93F6-5DAA6846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76D-AB1F-44BC-BD1F-F9F4C96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B9A-4463-4EB5-8CC9-8EF6F47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C54-F8E5-4890-A00E-B8EEEEB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C88-3F3D-49ED-B4E1-2C9CBBB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5E4-0BFD-4F5C-9FA7-9140111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788-A195-4A33-A263-9511F6AF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AF4-80C8-4F4D-99FD-2954A5C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C00-943B-4050-98AF-E0D2BCB0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ACF-3D2E-4936-BEAC-E367536F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2A2-78F8-4101-8E84-B30E4D6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376-B39B-4C79-BD25-321A6837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4066-423E-4294-A248-A6E0283F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F22-BE51-42E2-AC82-7AFC9D5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BA1-CF3E-476B-8A3A-B9F53D74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AFB-39B1-4056-9B85-A099998C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1B4-FDB3-4F9F-A4D0-CA9AE987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907-4187-4CEF-BE5F-F06D3E44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215B-B265-4FAA-B8A5-5105408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938E-44C6-4890-9383-98812E0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8933-9FFC-4020-B959-2022536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14BB-73CA-4197-A15A-FE9B2BB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9785-BD7A-4F62-A292-9460E411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13C-8EB2-4076-9F50-3075303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72EA-BB41-499E-92E6-BC23993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7113-EA04-441A-A80C-8242187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FC3B-D868-4845-8FBC-3F6B83EF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97C4-BDED-4307-9A0E-08060670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D55A-D77C-473A-B913-39BE2C0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4596-2CBE-4DC4-9582-C2ECECB7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3085-8220-4E3A-96C3-464FA54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950F-1898-4C06-9145-EF28F35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6685-DBE7-4DCC-8337-0409142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7B7B-6A49-4CD1-B425-2246615A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FF07-8CCE-4C1C-A534-E9C1324D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1F20-6F8D-42F2-B27C-AA3E0AA2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1004-7D5C-48E4-8DEF-AEBF3DF6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68CA-D821-463B-AF58-4B0B401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12C2-6D4C-4648-8A38-F2F18E3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B956-ED78-42EA-805D-62152D28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A45B-EDFE-45A6-B618-C91074CC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C907-DDC9-421D-B4E7-44F52C6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73ED-A8CD-4935-8AFE-58E8288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AF1D-CD99-48FE-87B1-F0D5834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CF19-5516-4807-9472-123FAE0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8B53-497C-4F50-9B46-C2021DB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2BF1-09C3-4AFE-8443-F8646C34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FCA6-0CBF-4F46-B735-03AF908C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DDBB3-9FA1-4819-BBD4-91A8EE1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C1C0-1489-426B-99F8-74096F32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9D3A-6738-45EB-A712-C202387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7FF1-0DD6-4116-9B44-DDA58DEB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D4D62-CDB0-4672-9A40-326792C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88EF-1AEF-43C2-AB67-4953828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A5EA-61A9-47DF-9453-581B197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B89E-4521-472A-9FDF-4A19B3C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84DA-BBA3-4558-8264-6DC1B33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099D6-AE07-4890-9650-67D375B5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C436-5191-497C-BD06-1C34FD90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AF54-D5AE-4EF7-A3DD-8B167CE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142B-7052-42C5-8F7E-D79C0FA1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DB27-9E8A-4F02-AAD6-A81B5853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9B195-0B78-48A7-B545-AB57E5C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BA69-7410-4563-95D3-0E04867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7950-F129-45D5-85AF-D937DD1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D137-B788-4B20-A713-44D5617C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F548B-7C4E-4415-92C6-12049CA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3E3C3-A65C-4015-80FA-70ECA14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F125-C4AD-4425-A990-255715D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BC23-E590-401B-9F67-E5CB826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4A12-AC48-41D8-80D8-22C7A97C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36A2-9BD2-4581-B47F-9AC9F32E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F42E-523D-4AA7-B4E4-36C5EEDB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E810-D1B7-4432-AC02-2299581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54CFE-4990-4840-87F8-5715A80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2E7-43BD-469D-BF3B-CB3FE6707F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BA3-9C7F-4301-AB61-C11208A194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A496-20B3-42C5-BA5E-75FC01AC40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8D7-87CD-435A-A351-C17D1D4F09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3FF-B3A4-413D-BC5C-D7E575716F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3C20-4F69-4B83-A4FF-A23BCF4A74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8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1A96-4716-4CAE-BE86-94A62C81EF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9D4-685D-4E45-8DBC-AEDE3F40AE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A0B-D54D-4E02-95C4-17B1C8F042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111-F706-4977-B299-2C04B7EB72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418-9C02-4FF3-9260-C88C635E52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5B49-CD6E-4A77-95BF-E279C9BD90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42A5-229C-4AF8-B766-B86C4EF712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../../../../&#30446;&#24405;.ppt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5" descr="框"/>
          <p:cNvPicPr/>
          <p:nvPr/>
        </p:nvPicPr>
        <p:blipFill>
          <a:blip r:embed="rId1"/>
          <a:stretch/>
        </p:blipFill>
        <p:spPr>
          <a:xfrm>
            <a:off x="1905120" y="685800"/>
            <a:ext cx="6476760" cy="2006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老师"/>
          <p:cNvPicPr/>
          <p:nvPr/>
        </p:nvPicPr>
        <p:blipFill>
          <a:blip r:embed="rId2"/>
          <a:stretch/>
        </p:blipFill>
        <p:spPr>
          <a:xfrm>
            <a:off x="17640" y="2803680"/>
            <a:ext cx="3698640" cy="35128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752480" y="16765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平等尊重你我他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4" name="Picture 5" descr="SC20060725172627500"/>
          <p:cNvPicPr/>
          <p:nvPr/>
        </p:nvPicPr>
        <p:blipFill>
          <a:blip r:embed="rId3"/>
          <a:stretch/>
        </p:blipFill>
        <p:spPr>
          <a:xfrm>
            <a:off x="3581280" y="30481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15" name="矩形 1"/>
          <p:cNvSpPr/>
          <p:nvPr/>
        </p:nvSpPr>
        <p:spPr>
          <a:xfrm>
            <a:off x="3946680" y="9144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九课 心有他人天地宽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3"/>
          <p:cNvSpPr/>
          <p:nvPr/>
        </p:nvSpPr>
        <p:spPr>
          <a:xfrm>
            <a:off x="4038480" y="5562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平等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人类永恒的追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3679920" y="936720"/>
            <a:ext cx="4762440" cy="466704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2"/>
          <a:stretch/>
        </p:blipFill>
        <p:spPr>
          <a:xfrm>
            <a:off x="830160" y="3270240"/>
            <a:ext cx="2516400" cy="259236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" descr=""/>
          <p:cNvPicPr/>
          <p:nvPr/>
        </p:nvPicPr>
        <p:blipFill>
          <a:blip r:embed="rId3"/>
          <a:stretch/>
        </p:blipFill>
        <p:spPr>
          <a:xfrm>
            <a:off x="828720" y="762120"/>
            <a:ext cx="2517840" cy="24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4229280" y="4746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2637000" y="1015920"/>
            <a:ext cx="40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板块二：尊重从我做起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62240" cy="38386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8194"/>
          <p:cNvSpPr/>
          <p:nvPr/>
        </p:nvSpPr>
        <p:spPr>
          <a:xfrm>
            <a:off x="1571760" y="6049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789120" y="2471760"/>
            <a:ext cx="75564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剧情：老师上课时，发现成绩优异的张丽没带课本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成绩不理想的张强趴在桌子上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685800" y="3657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我想对剧中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说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1676520" y="1425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小品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书的风波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》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3" name="Picture 11" descr="2004121511115859383"/>
          <p:cNvPicPr/>
          <p:nvPr/>
        </p:nvPicPr>
        <p:blipFill>
          <a:blip r:embed="rId1"/>
          <a:stretch/>
        </p:blipFill>
        <p:spPr>
          <a:xfrm>
            <a:off x="685800" y="4865760"/>
            <a:ext cx="777240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788760" y="1968480"/>
            <a:ext cx="7481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原因：受人尊重是每个人的基本权利，成功交往也要求我们去尊重他人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具体表现：平等待人、礼貌待人、诚信待人、友善待人、理解他人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1905120" y="11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他人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6" name="Picture 10" descr="182"/>
          <p:cNvPicPr/>
          <p:nvPr/>
        </p:nvPicPr>
        <p:blipFill>
          <a:blip r:embed="rId1"/>
          <a:stretch/>
        </p:blipFill>
        <p:spPr>
          <a:xfrm>
            <a:off x="609480" y="5226120"/>
            <a:ext cx="80010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2" descr=""/>
          <p:cNvPicPr/>
          <p:nvPr/>
        </p:nvPicPr>
        <p:blipFill>
          <a:blip r:embed="rId1"/>
          <a:stretch/>
        </p:blipFill>
        <p:spPr>
          <a:xfrm>
            <a:off x="762120" y="623880"/>
            <a:ext cx="7858080" cy="56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4"/>
          <p:cNvSpPr/>
          <p:nvPr/>
        </p:nvSpPr>
        <p:spPr>
          <a:xfrm>
            <a:off x="1308240" y="2209680"/>
            <a:ext cx="760716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原因：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社会是人际关系的集合体。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  <a:ea typeface="宋体"/>
              </a:rPr>
              <a:t>尊重社会就是尊重他人，尊重自己。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具体表现</a:t>
            </a:r>
            <a:r>
              <a:rPr b="0" lang="zh-CN" sz="2100" spc="-1" strike="noStrike">
                <a:solidFill>
                  <a:srgbClr val="0000ff"/>
                </a:solidFill>
                <a:latin typeface="宋体"/>
                <a:ea typeface="宋体"/>
              </a:rPr>
              <a:t>：</a:t>
            </a:r>
            <a:endParaRPr b="1" lang="en-US" sz="2100" spc="-1" strike="noStrike">
              <a:solidFill>
                <a:srgbClr val="0000ff"/>
              </a:solidFill>
              <a:latin typeface="Arial"/>
            </a:endParaRPr>
          </a:p>
          <a:p>
            <a:pPr lvl="1" marL="907920" indent="-4363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承担责任、维护权利等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907920" indent="-4363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遵守规则（底线）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2590920" y="990720"/>
            <a:ext cx="32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1752480" y="11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社会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1" name="Picture 8" descr="1L89V294O$UBKW8N33V4%1M"/>
          <p:cNvPicPr/>
          <p:nvPr/>
        </p:nvPicPr>
        <p:blipFill>
          <a:blip r:embed="rId1"/>
          <a:stretch/>
        </p:blipFill>
        <p:spPr>
          <a:xfrm>
            <a:off x="6629400" y="4495680"/>
            <a:ext cx="137160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1"/>
          <p:cNvPicPr/>
          <p:nvPr/>
        </p:nvPicPr>
        <p:blipFill>
          <a:blip r:embed="rId1"/>
          <a:stretch/>
        </p:blipFill>
        <p:spPr>
          <a:xfrm>
            <a:off x="4648320" y="685800"/>
            <a:ext cx="3809880" cy="27576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" descr="1"/>
          <p:cNvPicPr/>
          <p:nvPr/>
        </p:nvPicPr>
        <p:blipFill>
          <a:blip r:embed="rId2"/>
          <a:stretch/>
        </p:blipFill>
        <p:spPr>
          <a:xfrm>
            <a:off x="4648320" y="3581280"/>
            <a:ext cx="3809880" cy="26244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4" descr="1"/>
          <p:cNvPicPr/>
          <p:nvPr/>
        </p:nvPicPr>
        <p:blipFill>
          <a:blip r:embed="rId3"/>
          <a:stretch/>
        </p:blipFill>
        <p:spPr>
          <a:xfrm>
            <a:off x="685800" y="3429000"/>
            <a:ext cx="3733920" cy="26938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7"/>
          <p:cNvSpPr/>
          <p:nvPr/>
        </p:nvSpPr>
        <p:spPr>
          <a:xfrm>
            <a:off x="838080" y="18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城市牛皮癣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xinsrc_66fcf28f1906416b89028e55b43a4c9c"/>
          <p:cNvPicPr/>
          <p:nvPr/>
        </p:nvPicPr>
        <p:blipFill>
          <a:blip r:embed="rId1"/>
          <a:stretch/>
        </p:blipFill>
        <p:spPr>
          <a:xfrm>
            <a:off x="895320" y="806400"/>
            <a:ext cx="741060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7"/>
          <p:cNvSpPr/>
          <p:nvPr/>
        </p:nvSpPr>
        <p:spPr>
          <a:xfrm>
            <a:off x="25909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睁眼瞎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8" name="图片 1" descr=""/>
          <p:cNvPicPr/>
          <p:nvPr/>
        </p:nvPicPr>
        <p:blipFill>
          <a:blip r:embed="rId1"/>
          <a:stretch/>
        </p:blipFill>
        <p:spPr>
          <a:xfrm>
            <a:off x="573120" y="797040"/>
            <a:ext cx="800892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63280" y="2184480"/>
            <a:ext cx="748188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原因：人类生存离不开自然，人类有责任和义务尊重无私奉献的大自然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具体表现：保护环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1828800" y="11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尊重自然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990720" y="4419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尊重自然的核心是保护环境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9" descr="学习目标"/>
          <p:cNvPicPr/>
          <p:nvPr/>
        </p:nvPicPr>
        <p:blipFill>
          <a:blip r:embed="rId1"/>
          <a:stretch/>
        </p:blipFill>
        <p:spPr>
          <a:xfrm>
            <a:off x="2755800" y="755640"/>
            <a:ext cx="3514680" cy="10317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85800" y="2133720"/>
            <a:ext cx="77724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把握平等的内涵，知道人人平等是指人格和法律地位上的平等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懂得什么是尊重，尊重自己，尊重他人，尊重自然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懂得爱护公共环境和设施，遵守公德和秩序体现着对他人的尊重。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生活中能做到平等对待他人，尤其是平等对待处境不利的人，并能提供力所能及的帮助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在遵守道德、遵纪守法，爱护公物，保护环境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．能做到尊重他人，尊重社会，尊重自然。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7" descr="200812595328254_2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F201006012134421273597079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5" descr="601893aff68c2e3e35fe9c37a9bee948"/>
          <p:cNvPicPr/>
          <p:nvPr/>
        </p:nvPicPr>
        <p:blipFill>
          <a:blip r:embed="rId1"/>
          <a:stretch/>
        </p:blipFill>
        <p:spPr>
          <a:xfrm>
            <a:off x="762120" y="797040"/>
            <a:ext cx="75438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71680" y="167616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、（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昭通中考）每个人都是社会的一员，社会交往是人类不可缺少的活动。我们在与他人交往的过程中要 获得知识、友谊和信任，就必须懂得做人的基本要求。做人的基本要求是 </a:t>
            </a: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(  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以礼相待、唯唯诺诺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真诚坦率、想说就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不近情理、坚持原则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．尊重他人、平等相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438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7" name="Picture 8" descr="课堂训练"/>
          <p:cNvPicPr/>
          <p:nvPr/>
        </p:nvPicPr>
        <p:blipFill>
          <a:blip r:embed="rId1"/>
          <a:stretch/>
        </p:blipFill>
        <p:spPr>
          <a:xfrm>
            <a:off x="2749680" y="806400"/>
            <a:ext cx="3117600" cy="717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动画人物"/>
          <p:cNvPicPr/>
          <p:nvPr/>
        </p:nvPicPr>
        <p:blipFill>
          <a:blip r:embed="rId2"/>
          <a:stretch/>
        </p:blipFill>
        <p:spPr>
          <a:xfrm>
            <a:off x="5410080" y="4114800"/>
            <a:ext cx="15717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、尽管我们每个人的境遇和条件不同，但人生而平等，下列有关平等的理解正确的有（   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在人格上，我们都有做人的尊严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在法律地位上，我们每个人都平等地享有法定的权利，平等地履行法定的义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③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金钱和地位的差异可以超越人格尊严和人们法律地位上的平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④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金钱和地位的差异不可以超越人格尊严和人们法律地位上的平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A. ②③④   B.①②③   C.①②④    D.①③④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4876920" y="1173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文本框 8194"/>
          <p:cNvSpPr/>
          <p:nvPr/>
        </p:nvSpPr>
        <p:spPr>
          <a:xfrm>
            <a:off x="965160" y="5491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Verdana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171360" y="2268360"/>
            <a:ext cx="1033560" cy="34290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平等尊重你我他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12720" y="2954160"/>
            <a:ext cx="762480" cy="360"/>
            <a:chOff x="3312720" y="2954160"/>
            <a:chExt cx="762480" cy="360"/>
          </a:xfrm>
        </p:grpSpPr>
        <p:sp>
          <p:nvSpPr>
            <p:cNvPr id="784" name="Line 10"/>
            <p:cNvSpPr/>
            <p:nvPr/>
          </p:nvSpPr>
          <p:spPr>
            <a:xfrm flipH="1">
              <a:off x="3312720" y="2954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3313080" y="295416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389040" y="4935600"/>
            <a:ext cx="686160" cy="360"/>
            <a:chOff x="3389040" y="4935600"/>
            <a:chExt cx="686160" cy="360"/>
          </a:xfrm>
        </p:grpSpPr>
        <p:sp>
          <p:nvSpPr>
            <p:cNvPr id="787" name="Line 11"/>
            <p:cNvSpPr/>
            <p:nvPr/>
          </p:nvSpPr>
          <p:spPr>
            <a:xfrm flipH="1">
              <a:off x="3389040" y="493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3389400" y="49356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89" name="Text Box 16"/>
          <p:cNvSpPr/>
          <p:nvPr/>
        </p:nvSpPr>
        <p:spPr>
          <a:xfrm>
            <a:off x="2093760" y="2554200"/>
            <a:ext cx="1143000" cy="45972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人生而平等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2093760" y="4335480"/>
            <a:ext cx="1219320" cy="8254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尊重从我做起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Text Box 18"/>
          <p:cNvSpPr/>
          <p:nvPr/>
        </p:nvSpPr>
        <p:spPr>
          <a:xfrm>
            <a:off x="4191120" y="1447920"/>
            <a:ext cx="4190760" cy="1679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平等的集体表现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“高人一等” 的思想和做法是错误的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增强平等意识、平等对待他人、取长补短是正确态度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平等对待处于不利地位的人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4200480" y="4191120"/>
            <a:ext cx="4432320" cy="128304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的意义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他人的要求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．尊重个体、尊重社会、尊重自然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55680" y="3868200"/>
            <a:ext cx="380880" cy="360"/>
            <a:chOff x="1255680" y="3868200"/>
            <a:chExt cx="380880" cy="360"/>
          </a:xfrm>
        </p:grpSpPr>
        <p:sp>
          <p:nvSpPr>
            <p:cNvPr id="794" name="Line 23"/>
            <p:cNvSpPr/>
            <p:nvPr/>
          </p:nvSpPr>
          <p:spPr>
            <a:xfrm flipH="1">
              <a:off x="1255680" y="3868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 rot="10800000">
              <a:off x="1255680" y="3868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96" name="Group 31"/>
          <p:cNvGrpSpPr/>
          <p:nvPr/>
        </p:nvGrpSpPr>
        <p:grpSpPr>
          <a:xfrm>
            <a:off x="1636560" y="3030480"/>
            <a:ext cx="380880" cy="1752840"/>
            <a:chOff x="1636560" y="3030480"/>
            <a:chExt cx="380880" cy="1752840"/>
          </a:xfrm>
        </p:grpSpPr>
        <p:grpSp>
          <p:nvGrpSpPr>
            <p:cNvPr id="797" name=""/>
            <p:cNvGrpSpPr/>
            <p:nvPr/>
          </p:nvGrpSpPr>
          <p:grpSpPr>
            <a:xfrm>
              <a:off x="1636560" y="4782960"/>
              <a:ext cx="380880" cy="360"/>
              <a:chOff x="1636560" y="4782960"/>
              <a:chExt cx="380880" cy="360"/>
            </a:xfrm>
          </p:grpSpPr>
          <p:sp>
            <p:nvSpPr>
              <p:cNvPr id="798" name="Line 27"/>
              <p:cNvSpPr/>
              <p:nvPr/>
            </p:nvSpPr>
            <p:spPr>
              <a:xfrm>
                <a:off x="1636560" y="4782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 txBox="1"/>
              <p:nvPr/>
            </p:nvSpPr>
            <p:spPr>
              <a:xfrm>
                <a:off x="1636560" y="478296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636560" y="3030480"/>
              <a:ext cx="380880" cy="360"/>
              <a:chOff x="1636560" y="3030480"/>
              <a:chExt cx="380880" cy="360"/>
            </a:xfrm>
          </p:grpSpPr>
          <p:sp>
            <p:nvSpPr>
              <p:cNvPr id="801" name="Line 28"/>
              <p:cNvSpPr/>
              <p:nvPr/>
            </p:nvSpPr>
            <p:spPr>
              <a:xfrm>
                <a:off x="1636560" y="3030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 txBox="1"/>
              <p:nvPr/>
            </p:nvSpPr>
            <p:spPr>
              <a:xfrm>
                <a:off x="1636560" y="30304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1636560" y="3030480"/>
              <a:ext cx="360" cy="1752480"/>
              <a:chOff x="1636560" y="3030480"/>
              <a:chExt cx="360" cy="1752480"/>
            </a:xfrm>
          </p:grpSpPr>
          <p:sp>
            <p:nvSpPr>
              <p:cNvPr id="804" name="Line 29"/>
              <p:cNvSpPr/>
              <p:nvPr/>
            </p:nvSpPr>
            <p:spPr>
              <a:xfrm>
                <a:off x="1636560" y="303048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 txBox="1"/>
              <p:nvPr/>
            </p:nvSpPr>
            <p:spPr>
              <a:xfrm>
                <a:off x="1636560" y="30304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pic>
        <p:nvPicPr>
          <p:cNvPr id="806" name="Picture 35" descr="图片3"/>
          <p:cNvPicPr/>
          <p:nvPr/>
        </p:nvPicPr>
        <p:blipFill>
          <a:blip r:embed="rId1"/>
          <a:stretch/>
        </p:blipFill>
        <p:spPr>
          <a:xfrm>
            <a:off x="2610000" y="758880"/>
            <a:ext cx="308916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6"/>
          <p:cNvSpPr/>
          <p:nvPr/>
        </p:nvSpPr>
        <p:spPr>
          <a:xfrm>
            <a:off x="60948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学习了本课后，你有哪些收获和感想？告诉大家好吗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685800" y="33850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等、尊重，这是人类社会理性的呼声，只要我们本着一颗善良的心，平等待人、尊重他人，我们获得的也将是平等和尊重。我们期盼的社会将会更加和谐、美好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9" name="Picture 9" descr="图片2"/>
          <p:cNvPicPr/>
          <p:nvPr/>
        </p:nvPicPr>
        <p:blipFill>
          <a:blip r:embed="rId1"/>
          <a:stretch/>
        </p:blipFill>
        <p:spPr>
          <a:xfrm>
            <a:off x="3124080" y="914400"/>
            <a:ext cx="335304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766-87E9-47F5-8A41-8554412D9F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reeform 2"/>
          <p:cNvSpPr/>
          <p:nvPr/>
        </p:nvSpPr>
        <p:spPr>
          <a:xfrm>
            <a:off x="749160" y="453384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561960" y="2492280"/>
            <a:ext cx="8058240" cy="204156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981000" y="2698920"/>
            <a:ext cx="7386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尊重别人的人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别人也不会尊重他。 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席勒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17" name="Picture 5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" descr="图片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67360"/>
            <a:ext cx="1457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1"/>
          <p:cNvSpPr/>
          <p:nvPr/>
        </p:nvSpPr>
        <p:spPr>
          <a:xfrm>
            <a:off x="2581200" y="1635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板块一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生而平等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0" name="Picture 11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179520" cy="3809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图片3"/>
          <p:cNvPicPr/>
          <p:nvPr/>
        </p:nvPicPr>
        <p:blipFill>
          <a:blip r:embed="rId2"/>
          <a:stretch/>
        </p:blipFill>
        <p:spPr>
          <a:xfrm>
            <a:off x="2971800" y="762120"/>
            <a:ext cx="334656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2639880"/>
            <a:ext cx="7619760" cy="18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某单位车辆违反交通法规并造成交通事故，造成两人身亡。其中一人为某大学教授，另一人为进城务工农民。在理赔时，肇事单位认为，应给教授赔偿</a:t>
            </a:r>
            <a:r>
              <a:rPr b="0" lang="en-US" sz="19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万元，按照农民工当地的人均收入水平，赔农民工</a:t>
            </a:r>
            <a:r>
              <a:rPr b="0" lang="en-US" sz="19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1900" spc="-1" strike="noStrike">
                <a:solidFill>
                  <a:srgbClr val="0000ff"/>
                </a:solidFill>
                <a:latin typeface="宋体"/>
              </a:rPr>
              <a:t>万元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762120" y="446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你如何看待这种 “同命不同价”的现象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438280" y="129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现实评说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2286000" y="2622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人生而平等。平等集中体现为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人格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法律地位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的平等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7432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知识驿站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609480" y="5181480"/>
            <a:ext cx="7925040" cy="914400"/>
            <a:chOff x="609480" y="5181480"/>
            <a:chExt cx="7925040" cy="914400"/>
          </a:xfrm>
        </p:grpSpPr>
        <p:sp>
          <p:nvSpPr>
            <p:cNvPr id="628" name="AutoShape 9"/>
            <p:cNvSpPr/>
            <p:nvPr/>
          </p:nvSpPr>
          <p:spPr>
            <a:xfrm>
              <a:off x="609480" y="5181480"/>
              <a:ext cx="7925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Freeform 10"/>
            <p:cNvSpPr/>
            <p:nvPr/>
          </p:nvSpPr>
          <p:spPr>
            <a:xfrm>
              <a:off x="609480" y="5337000"/>
              <a:ext cx="1586160" cy="4370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609480" y="5747400"/>
              <a:ext cx="1583640" cy="3222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Freeform 12"/>
            <p:cNvSpPr/>
            <p:nvPr/>
          </p:nvSpPr>
          <p:spPr>
            <a:xfrm>
              <a:off x="5392080" y="5320800"/>
              <a:ext cx="3142080" cy="452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5389920" y="5774040"/>
              <a:ext cx="3144600" cy="3218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Freeform 14"/>
            <p:cNvSpPr/>
            <p:nvPr/>
          </p:nvSpPr>
          <p:spPr>
            <a:xfrm>
              <a:off x="538992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Freeform 15"/>
            <p:cNvSpPr/>
            <p:nvPr/>
          </p:nvSpPr>
          <p:spPr>
            <a:xfrm>
              <a:off x="5491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>
              <a:off x="5599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5389920" y="5632560"/>
              <a:ext cx="3027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7" name="Rectangle 18"/>
            <p:cNvSpPr/>
            <p:nvPr/>
          </p:nvSpPr>
          <p:spPr>
            <a:xfrm>
              <a:off x="5389920" y="5726160"/>
              <a:ext cx="3027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7441200" y="5581800"/>
              <a:ext cx="691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75441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0" name="Freeform 21"/>
            <p:cNvSpPr/>
            <p:nvPr/>
          </p:nvSpPr>
          <p:spPr>
            <a:xfrm>
              <a:off x="765180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1" name="Freeform 22"/>
            <p:cNvSpPr/>
            <p:nvPr/>
          </p:nvSpPr>
          <p:spPr>
            <a:xfrm>
              <a:off x="775980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2" name="Freeform 23"/>
            <p:cNvSpPr/>
            <p:nvPr/>
          </p:nvSpPr>
          <p:spPr>
            <a:xfrm>
              <a:off x="7867080" y="5581800"/>
              <a:ext cx="71280" cy="20916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3" name="Freeform 24"/>
            <p:cNvSpPr/>
            <p:nvPr/>
          </p:nvSpPr>
          <p:spPr>
            <a:xfrm>
              <a:off x="7975440" y="5593680"/>
              <a:ext cx="70560" cy="2152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Freeform 25"/>
            <p:cNvSpPr/>
            <p:nvPr/>
          </p:nvSpPr>
          <p:spPr>
            <a:xfrm>
              <a:off x="8085960" y="5604840"/>
              <a:ext cx="68040" cy="22716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5" name="Freeform 26"/>
            <p:cNvSpPr/>
            <p:nvPr/>
          </p:nvSpPr>
          <p:spPr>
            <a:xfrm>
              <a:off x="8194320" y="5619600"/>
              <a:ext cx="67320" cy="2458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6" name="Freeform 27"/>
            <p:cNvSpPr/>
            <p:nvPr/>
          </p:nvSpPr>
          <p:spPr>
            <a:xfrm>
              <a:off x="8301600" y="5641560"/>
              <a:ext cx="68040" cy="2707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7" name="Freeform 28"/>
            <p:cNvSpPr/>
            <p:nvPr/>
          </p:nvSpPr>
          <p:spPr>
            <a:xfrm>
              <a:off x="8409960" y="5666400"/>
              <a:ext cx="67320" cy="31464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Freeform 29"/>
            <p:cNvSpPr/>
            <p:nvPr/>
          </p:nvSpPr>
          <p:spPr>
            <a:xfrm>
              <a:off x="8517240" y="5720400"/>
              <a:ext cx="16920" cy="3099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9" name="Freeform 30"/>
            <p:cNvSpPr/>
            <p:nvPr/>
          </p:nvSpPr>
          <p:spPr>
            <a:xfrm>
              <a:off x="7405200" y="5632560"/>
              <a:ext cx="1129320" cy="15300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0" name="Freeform 31"/>
            <p:cNvSpPr/>
            <p:nvPr/>
          </p:nvSpPr>
          <p:spPr>
            <a:xfrm>
              <a:off x="7405200" y="5726160"/>
              <a:ext cx="1129320" cy="2242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1" name="Freeform 32"/>
            <p:cNvSpPr/>
            <p:nvPr/>
          </p:nvSpPr>
          <p:spPr>
            <a:xfrm>
              <a:off x="569052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2" name="Freeform 33"/>
            <p:cNvSpPr/>
            <p:nvPr/>
          </p:nvSpPr>
          <p:spPr>
            <a:xfrm>
              <a:off x="57927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3" name="Freeform 34"/>
            <p:cNvSpPr/>
            <p:nvPr/>
          </p:nvSpPr>
          <p:spPr>
            <a:xfrm>
              <a:off x="590076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4" name="Rectangle 35"/>
            <p:cNvSpPr/>
            <p:nvPr/>
          </p:nvSpPr>
          <p:spPr>
            <a:xfrm>
              <a:off x="56905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5" name="Rectangle 36"/>
            <p:cNvSpPr/>
            <p:nvPr/>
          </p:nvSpPr>
          <p:spPr>
            <a:xfrm>
              <a:off x="56905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6" name="Freeform 37"/>
            <p:cNvSpPr/>
            <p:nvPr/>
          </p:nvSpPr>
          <p:spPr>
            <a:xfrm>
              <a:off x="599184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7" name="Freeform 38"/>
            <p:cNvSpPr/>
            <p:nvPr/>
          </p:nvSpPr>
          <p:spPr>
            <a:xfrm>
              <a:off x="609084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8" name="Freeform 39"/>
            <p:cNvSpPr/>
            <p:nvPr/>
          </p:nvSpPr>
          <p:spPr>
            <a:xfrm>
              <a:off x="620136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9" name="Rectangle 40"/>
            <p:cNvSpPr/>
            <p:nvPr/>
          </p:nvSpPr>
          <p:spPr>
            <a:xfrm>
              <a:off x="5991840" y="5632560"/>
              <a:ext cx="3027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0" name="Rectangle 41"/>
            <p:cNvSpPr/>
            <p:nvPr/>
          </p:nvSpPr>
          <p:spPr>
            <a:xfrm>
              <a:off x="5991840" y="5726160"/>
              <a:ext cx="3027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1" name="Freeform 42"/>
            <p:cNvSpPr/>
            <p:nvPr/>
          </p:nvSpPr>
          <p:spPr>
            <a:xfrm>
              <a:off x="6292080" y="5581800"/>
              <a:ext cx="6732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2" name="Freeform 43"/>
            <p:cNvSpPr/>
            <p:nvPr/>
          </p:nvSpPr>
          <p:spPr>
            <a:xfrm>
              <a:off x="63914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3" name="Freeform 44"/>
            <p:cNvSpPr/>
            <p:nvPr/>
          </p:nvSpPr>
          <p:spPr>
            <a:xfrm>
              <a:off x="649908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4" name="Rectangle 45"/>
            <p:cNvSpPr/>
            <p:nvPr/>
          </p:nvSpPr>
          <p:spPr>
            <a:xfrm>
              <a:off x="629208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5" name="Rectangle 46"/>
            <p:cNvSpPr/>
            <p:nvPr/>
          </p:nvSpPr>
          <p:spPr>
            <a:xfrm>
              <a:off x="629208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6" name="Freeform 47"/>
            <p:cNvSpPr/>
            <p:nvPr/>
          </p:nvSpPr>
          <p:spPr>
            <a:xfrm>
              <a:off x="658980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7" name="Freeform 48"/>
            <p:cNvSpPr/>
            <p:nvPr/>
          </p:nvSpPr>
          <p:spPr>
            <a:xfrm>
              <a:off x="669276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8" name="Freeform 49"/>
            <p:cNvSpPr/>
            <p:nvPr/>
          </p:nvSpPr>
          <p:spPr>
            <a:xfrm>
              <a:off x="680004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Rectangle 50"/>
            <p:cNvSpPr/>
            <p:nvPr/>
          </p:nvSpPr>
          <p:spPr>
            <a:xfrm>
              <a:off x="6589800" y="5632560"/>
              <a:ext cx="3063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0" name="Rectangle 51"/>
            <p:cNvSpPr/>
            <p:nvPr/>
          </p:nvSpPr>
          <p:spPr>
            <a:xfrm>
              <a:off x="6589800" y="5726160"/>
              <a:ext cx="30636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1" name="Freeform 52"/>
            <p:cNvSpPr/>
            <p:nvPr/>
          </p:nvSpPr>
          <p:spPr>
            <a:xfrm>
              <a:off x="6891120" y="5581800"/>
              <a:ext cx="7056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Freeform 53"/>
            <p:cNvSpPr/>
            <p:nvPr/>
          </p:nvSpPr>
          <p:spPr>
            <a:xfrm>
              <a:off x="699336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3" name="Freeform 54"/>
            <p:cNvSpPr/>
            <p:nvPr/>
          </p:nvSpPr>
          <p:spPr>
            <a:xfrm>
              <a:off x="710064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4" name="Rectangle 55"/>
            <p:cNvSpPr/>
            <p:nvPr/>
          </p:nvSpPr>
          <p:spPr>
            <a:xfrm>
              <a:off x="68911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5" name="Rectangle 56"/>
            <p:cNvSpPr/>
            <p:nvPr/>
          </p:nvSpPr>
          <p:spPr>
            <a:xfrm>
              <a:off x="68911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6" name="Freeform 57"/>
            <p:cNvSpPr/>
            <p:nvPr/>
          </p:nvSpPr>
          <p:spPr>
            <a:xfrm>
              <a:off x="7191720" y="5581800"/>
              <a:ext cx="71280" cy="192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7" name="Freeform 58"/>
            <p:cNvSpPr/>
            <p:nvPr/>
          </p:nvSpPr>
          <p:spPr>
            <a:xfrm>
              <a:off x="7294680" y="5581800"/>
              <a:ext cx="6984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8" name="Freeform 59"/>
            <p:cNvSpPr/>
            <p:nvPr/>
          </p:nvSpPr>
          <p:spPr>
            <a:xfrm>
              <a:off x="7402320" y="5581800"/>
              <a:ext cx="70200" cy="192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9" name="Rectangle 60"/>
            <p:cNvSpPr/>
            <p:nvPr/>
          </p:nvSpPr>
          <p:spPr>
            <a:xfrm>
              <a:off x="7191720" y="5632560"/>
              <a:ext cx="30348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0" name="Rectangle 61"/>
            <p:cNvSpPr/>
            <p:nvPr/>
          </p:nvSpPr>
          <p:spPr>
            <a:xfrm>
              <a:off x="7191720" y="5726160"/>
              <a:ext cx="303480" cy="2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1" name="Freeform 62"/>
            <p:cNvSpPr/>
            <p:nvPr/>
          </p:nvSpPr>
          <p:spPr>
            <a:xfrm>
              <a:off x="7490160" y="5275800"/>
              <a:ext cx="862560" cy="61164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2" name="Freeform 63"/>
            <p:cNvSpPr/>
            <p:nvPr/>
          </p:nvSpPr>
          <p:spPr>
            <a:xfrm>
              <a:off x="7245720" y="5181480"/>
              <a:ext cx="1208880" cy="447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3" name="Freeform 64"/>
            <p:cNvSpPr/>
            <p:nvPr/>
          </p:nvSpPr>
          <p:spPr>
            <a:xfrm>
              <a:off x="2195640" y="5325840"/>
              <a:ext cx="3193920" cy="4482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4" name="Freeform 65"/>
            <p:cNvSpPr/>
            <p:nvPr/>
          </p:nvSpPr>
          <p:spPr>
            <a:xfrm>
              <a:off x="2266920" y="5309640"/>
              <a:ext cx="499320" cy="4640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5" name="Freeform 66"/>
            <p:cNvSpPr/>
            <p:nvPr/>
          </p:nvSpPr>
          <p:spPr>
            <a:xfrm>
              <a:off x="2463120" y="5447520"/>
              <a:ext cx="1074960" cy="32652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6" name="Freeform 67"/>
            <p:cNvSpPr/>
            <p:nvPr/>
          </p:nvSpPr>
          <p:spPr>
            <a:xfrm>
              <a:off x="2454840" y="5420160"/>
              <a:ext cx="1095480" cy="193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7" name="Rectangle 68"/>
            <p:cNvSpPr/>
            <p:nvPr/>
          </p:nvSpPr>
          <p:spPr>
            <a:xfrm>
              <a:off x="2494800" y="5625720"/>
              <a:ext cx="380160" cy="14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Freeform 69"/>
            <p:cNvSpPr/>
            <p:nvPr/>
          </p:nvSpPr>
          <p:spPr>
            <a:xfrm>
              <a:off x="2675880" y="5420160"/>
              <a:ext cx="874440" cy="173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9" name="Rectangle 70"/>
            <p:cNvSpPr/>
            <p:nvPr/>
          </p:nvSpPr>
          <p:spPr>
            <a:xfrm>
              <a:off x="2520360" y="5637600"/>
              <a:ext cx="322920" cy="13644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0" name="Rectangle 71"/>
            <p:cNvSpPr/>
            <p:nvPr/>
          </p:nvSpPr>
          <p:spPr>
            <a:xfrm>
              <a:off x="2193120" y="5774040"/>
              <a:ext cx="3196440" cy="32184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1" name="Freeform 72"/>
            <p:cNvSpPr/>
            <p:nvPr/>
          </p:nvSpPr>
          <p:spPr>
            <a:xfrm>
              <a:off x="3479040" y="5219280"/>
              <a:ext cx="1235160" cy="298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2" name="Freeform 73"/>
            <p:cNvSpPr/>
            <p:nvPr/>
          </p:nvSpPr>
          <p:spPr>
            <a:xfrm>
              <a:off x="3490200" y="5311080"/>
              <a:ext cx="1524240" cy="4629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3" name="Rectangle 74"/>
            <p:cNvSpPr/>
            <p:nvPr/>
          </p:nvSpPr>
          <p:spPr>
            <a:xfrm>
              <a:off x="3515760" y="5562720"/>
              <a:ext cx="885600" cy="2023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4" name="Freeform 75"/>
            <p:cNvSpPr/>
            <p:nvPr/>
          </p:nvSpPr>
          <p:spPr>
            <a:xfrm>
              <a:off x="4762440" y="5692320"/>
              <a:ext cx="493560" cy="8136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5" name="Rectangle 76"/>
            <p:cNvSpPr/>
            <p:nvPr/>
          </p:nvSpPr>
          <p:spPr>
            <a:xfrm>
              <a:off x="4762440" y="5558760"/>
              <a:ext cx="209520" cy="13356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Rectangle 77"/>
            <p:cNvSpPr/>
            <p:nvPr/>
          </p:nvSpPr>
          <p:spPr>
            <a:xfrm>
              <a:off x="3935880" y="5584680"/>
              <a:ext cx="380520" cy="1512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Rectangle 78"/>
            <p:cNvSpPr/>
            <p:nvPr/>
          </p:nvSpPr>
          <p:spPr>
            <a:xfrm>
              <a:off x="4805280" y="5572800"/>
              <a:ext cx="126720" cy="1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Freeform 79"/>
            <p:cNvSpPr/>
            <p:nvPr/>
          </p:nvSpPr>
          <p:spPr>
            <a:xfrm>
              <a:off x="3479040" y="5272920"/>
              <a:ext cx="1546920" cy="2739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Rectangle 80"/>
            <p:cNvSpPr/>
            <p:nvPr/>
          </p:nvSpPr>
          <p:spPr>
            <a:xfrm>
              <a:off x="4043160" y="5593680"/>
              <a:ext cx="1652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0" name="Rectangle 81"/>
            <p:cNvSpPr/>
            <p:nvPr/>
          </p:nvSpPr>
          <p:spPr>
            <a:xfrm>
              <a:off x="3956040" y="5593680"/>
              <a:ext cx="6732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1" name="Rectangle 82"/>
            <p:cNvSpPr/>
            <p:nvPr/>
          </p:nvSpPr>
          <p:spPr>
            <a:xfrm>
              <a:off x="4231080" y="5593680"/>
              <a:ext cx="651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2" name="Rectangle 83"/>
            <p:cNvSpPr/>
            <p:nvPr/>
          </p:nvSpPr>
          <p:spPr>
            <a:xfrm>
              <a:off x="4534560" y="5593680"/>
              <a:ext cx="10512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3" name="Rectangle 84"/>
            <p:cNvSpPr/>
            <p:nvPr/>
          </p:nvSpPr>
          <p:spPr>
            <a:xfrm>
              <a:off x="4466880" y="5593680"/>
              <a:ext cx="4788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4" name="Rectangle 85"/>
            <p:cNvSpPr/>
            <p:nvPr/>
          </p:nvSpPr>
          <p:spPr>
            <a:xfrm>
              <a:off x="4663080" y="5593680"/>
              <a:ext cx="471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5" name="Freeform 86"/>
            <p:cNvSpPr/>
            <p:nvPr/>
          </p:nvSpPr>
          <p:spPr>
            <a:xfrm>
              <a:off x="4623480" y="5412600"/>
              <a:ext cx="76320" cy="295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6" name="Freeform 87"/>
            <p:cNvSpPr/>
            <p:nvPr/>
          </p:nvSpPr>
          <p:spPr>
            <a:xfrm>
              <a:off x="4727880" y="5412600"/>
              <a:ext cx="79560" cy="295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7" name="Freeform 88"/>
            <p:cNvSpPr/>
            <p:nvPr/>
          </p:nvSpPr>
          <p:spPr>
            <a:xfrm>
              <a:off x="4668480" y="5396760"/>
              <a:ext cx="90720" cy="39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8" name="Freeform 89"/>
            <p:cNvSpPr/>
            <p:nvPr/>
          </p:nvSpPr>
          <p:spPr>
            <a:xfrm>
              <a:off x="4725000" y="5431680"/>
              <a:ext cx="494280" cy="1270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9" name="Rectangle 90"/>
            <p:cNvSpPr/>
            <p:nvPr/>
          </p:nvSpPr>
          <p:spPr>
            <a:xfrm>
              <a:off x="5048640" y="5739120"/>
              <a:ext cx="19584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0" name="Rectangle 91"/>
            <p:cNvSpPr/>
            <p:nvPr/>
          </p:nvSpPr>
          <p:spPr>
            <a:xfrm>
              <a:off x="4983480" y="5699520"/>
              <a:ext cx="19584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1" name="Freeform 92"/>
            <p:cNvSpPr/>
            <p:nvPr/>
          </p:nvSpPr>
          <p:spPr>
            <a:xfrm>
              <a:off x="4980240" y="5470200"/>
              <a:ext cx="227520" cy="885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2" name="Rectangle 93"/>
            <p:cNvSpPr/>
            <p:nvPr/>
          </p:nvSpPr>
          <p:spPr>
            <a:xfrm>
              <a:off x="5156280" y="5558760"/>
              <a:ext cx="2592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3" name="Freeform 94"/>
            <p:cNvSpPr/>
            <p:nvPr/>
          </p:nvSpPr>
          <p:spPr>
            <a:xfrm>
              <a:off x="4776120" y="5431680"/>
              <a:ext cx="314640" cy="993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4" name="Rectangle 95"/>
            <p:cNvSpPr/>
            <p:nvPr/>
          </p:nvSpPr>
          <p:spPr>
            <a:xfrm>
              <a:off x="4971960" y="5558760"/>
              <a:ext cx="4248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5" name="Rectangle 96"/>
            <p:cNvSpPr/>
            <p:nvPr/>
          </p:nvSpPr>
          <p:spPr>
            <a:xfrm>
              <a:off x="4762440" y="5558760"/>
              <a:ext cx="42840" cy="13356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6" name="Freeform 97"/>
            <p:cNvSpPr/>
            <p:nvPr/>
          </p:nvSpPr>
          <p:spPr>
            <a:xfrm>
              <a:off x="1620000" y="5774040"/>
              <a:ext cx="1254600" cy="32184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7" name="Freeform 98"/>
            <p:cNvSpPr/>
            <p:nvPr/>
          </p:nvSpPr>
          <p:spPr>
            <a:xfrm>
              <a:off x="3206880" y="5626800"/>
              <a:ext cx="126720" cy="2473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8" name="Freeform 99"/>
            <p:cNvSpPr/>
            <p:nvPr/>
          </p:nvSpPr>
          <p:spPr>
            <a:xfrm>
              <a:off x="3221280" y="5646960"/>
              <a:ext cx="73440" cy="756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9" name="Freeform 100"/>
            <p:cNvSpPr/>
            <p:nvPr/>
          </p:nvSpPr>
          <p:spPr>
            <a:xfrm>
              <a:off x="3221280" y="5679360"/>
              <a:ext cx="75600" cy="576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0" name="Freeform 101"/>
            <p:cNvSpPr/>
            <p:nvPr/>
          </p:nvSpPr>
          <p:spPr>
            <a:xfrm>
              <a:off x="3221280" y="5670720"/>
              <a:ext cx="7560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1" name="Freeform 102"/>
            <p:cNvSpPr/>
            <p:nvPr/>
          </p:nvSpPr>
          <p:spPr>
            <a:xfrm>
              <a:off x="3221280" y="5714280"/>
              <a:ext cx="81720" cy="756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2" name="Freeform 103"/>
            <p:cNvSpPr/>
            <p:nvPr/>
          </p:nvSpPr>
          <p:spPr>
            <a:xfrm>
              <a:off x="3221280" y="5706720"/>
              <a:ext cx="81720" cy="468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3" name="Freeform 104"/>
            <p:cNvSpPr/>
            <p:nvPr/>
          </p:nvSpPr>
          <p:spPr>
            <a:xfrm>
              <a:off x="762480" y="5278680"/>
              <a:ext cx="862560" cy="64656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4" name="Freeform 105"/>
            <p:cNvSpPr/>
            <p:nvPr/>
          </p:nvSpPr>
          <p:spPr>
            <a:xfrm>
              <a:off x="617400" y="5190120"/>
              <a:ext cx="1157760" cy="43344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5" name="Freeform 106"/>
            <p:cNvSpPr/>
            <p:nvPr/>
          </p:nvSpPr>
          <p:spPr>
            <a:xfrm>
              <a:off x="1514520" y="5739120"/>
              <a:ext cx="226800" cy="1346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6" name="Freeform 107"/>
            <p:cNvSpPr/>
            <p:nvPr/>
          </p:nvSpPr>
          <p:spPr>
            <a:xfrm>
              <a:off x="1134360" y="5791320"/>
              <a:ext cx="133560" cy="730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7"/>
          <p:cNvSpPr/>
          <p:nvPr/>
        </p:nvSpPr>
        <p:spPr>
          <a:xfrm>
            <a:off x="4416480" y="15415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8" name="Picture 2" descr="公平"/>
          <p:cNvPicPr/>
          <p:nvPr/>
        </p:nvPicPr>
        <p:blipFill>
          <a:blip r:embed="rId1"/>
          <a:stretch/>
        </p:blipFill>
        <p:spPr>
          <a:xfrm>
            <a:off x="4572000" y="685800"/>
            <a:ext cx="3657600" cy="21718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4"/>
          <p:cNvSpPr/>
          <p:nvPr/>
        </p:nvSpPr>
        <p:spPr>
          <a:xfrm>
            <a:off x="685800" y="3656880"/>
            <a:ext cx="7848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日前，“三同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同票同权”、“同命同价”、“同工同酬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一起闯入公众视野：城乡按相同人口比例选举人大代表；处理重大交通事故、矿山事故时不考虑年龄、收入状况等因素，以同一数额确定死亡赔偿金；从事相同内容工作，获同级别工资待遇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594080" y="56386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这充分体现了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原则 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66688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平等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838080" y="114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看漫画、析道理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762120" y="441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人人都享有法律规定的政治、经济、社会、文化等方面的权利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85800" y="2013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中华人民共和国宪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规定：“中华人民共和国公民在法律面前一律平等。”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4191120" y="3505320"/>
            <a:ext cx="761760" cy="69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2514600" y="114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说法谈权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344480" y="1952640"/>
            <a:ext cx="4000680" cy="39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食品安全法实施条例</a:t>
            </a:r>
            <a:r>
              <a:rPr b="1" lang="en-US" sz="19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第二十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条规定：从事接触直接入口食品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作的人员患有痢疾、伤寒、</a:t>
            </a: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甲型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毒性肝炎、戊型病毒性肝炎等消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道传染病，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以及患有活动性肺结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核、化脓性或者渗出性皮肤病等</a:t>
            </a: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宋体"/>
              </a:rPr>
              <a:t>碍食品安全</a:t>
            </a: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的疾病的，食品生产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营者应当将其调整到其他不影响食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宋体"/>
              </a:rPr>
              <a:t>品安全的工作岗位。 </a:t>
            </a: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8" name="Picture 4" descr="8dd183111430dcd9b992518e"/>
          <p:cNvPicPr/>
          <p:nvPr/>
        </p:nvPicPr>
        <p:blipFill>
          <a:blip r:embed="rId1"/>
          <a:stretch/>
        </p:blipFill>
        <p:spPr>
          <a:xfrm>
            <a:off x="704880" y="1752480"/>
            <a:ext cx="3486240" cy="43434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7"/>
          <p:cNvSpPr/>
          <p:nvPr/>
        </p:nvSpPr>
        <p:spPr>
          <a:xfrm>
            <a:off x="1981080" y="990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法律捍卫平等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04760" y="1096560"/>
            <a:ext cx="5562360" cy="4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Verdana"/>
              </a:rPr>
              <a:t>如何正确看待人与人之间的差异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88760" y="2111040"/>
            <a:ext cx="748188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人与人之间的差异是我们尊重他人、平等待人、取长补短的现实基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自己的某些优势，不是自傲的资本；自己的某些劣势，也不是自卑的理由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增强平等意识、平等对待他人、互相取长补短，是我们应该采取的正确态度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