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5.png" ContentType="image/png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11.wmf" ContentType="image/x-wmf"/>
  <Override PartName="/ppt/media/image6.wmf" ContentType="image/x-wmf"/>
  <Override PartName="/ppt/media/image26.png" ContentType="image/png"/>
  <Override PartName="/ppt/media/image3.gif" ContentType="image/gi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22.jpeg" ContentType="image/jpeg"/>
  <Override PartName="/ppt/media/image17.wmf" ContentType="image/x-wmf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D10-DD3D-48F7-ACE5-57FFC391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465-558E-4277-A738-2545AB4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569-E3D1-4D41-A112-8D5582AF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1A0-C402-4C9E-9611-263665B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1C8-B446-4777-9A52-75B8E61C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620-0565-4901-A7E3-FCE3D2D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EDDA-0195-44A8-B8D5-64131B32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5B6-5733-4BE2-A66F-AD0EA39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2EB-DB7E-4EF0-9CB5-5CF4B41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F45-5643-4034-A1E6-DC9538D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970F-4D36-46FE-9CD8-4A399F6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57D-992F-4CD6-A13B-AB856FF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425C-7DB5-4AC3-9620-C563C14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88C-331C-439B-A96E-20FA300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7A7-D8A7-41C4-ABF4-E398F5C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3244-F53C-455C-BC7F-011B55C2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5DD-F5C0-40AA-AD27-C5679CB4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53A3-AD12-4845-A770-41916D2C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070E-7D2B-4D4F-9FE6-8128A0F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B8ED-4954-4308-B2B3-01E4732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E604-A149-46B1-8D40-BE925AC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BE4F-3FB7-4A65-8AC1-B230BFF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829-9213-4EBC-B618-3D3CD6D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2802-4E5C-4EBC-A18C-33AC818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257C-43EE-41A4-B6CC-2CEE003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815F-E36C-4A0D-90A7-F0038D9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366D-B3E7-434A-82C1-A68AC11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40BC-6B8F-469C-88EB-B5FCC88D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8130-0AB7-4AE0-8588-49730DEA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3B39-9A75-4AC3-AB93-0F298B8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1D8C-C49D-4A74-8AC9-2FC93AC8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3FA1-81EC-4F16-83FF-C6D7532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1FB5-D100-4985-8985-0D7F2B2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89D-BF7B-4BEB-A63A-BBB338E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E45A-D239-4AE0-A2FE-79F820C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AD7A-9F73-480C-AB1F-BD3EC13D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BFD12-CA42-45A1-89CB-D2E17325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0619-AE24-4759-AFC4-3EFBC37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3D63-1141-42A9-ABA2-DE79E07B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F07E-9D97-4666-BF1A-FC5B64D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55F4-1371-4471-84F2-259B3ABF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90C5-4ED5-4D0D-AB47-D5BA64A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C62F2-7A1D-44CD-A929-1882832F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3798-71AD-4C94-BAFA-CC3BAA88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E87-688C-4A79-B97F-F87E43F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C44D7-195B-45CC-BBF6-B3365089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2300-2AEE-461A-B19C-14183BF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415E-B3CE-4FB1-8756-56F8757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FAD4-9C1F-4585-BF9C-71FA4B50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75C6-7C46-47C3-8B91-52670066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9F3D-4C8B-435F-A6B8-879CA8F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47DA-BC85-4485-A44B-FE3CC7F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DA27-996E-4675-AE97-79BADC1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A24B-E520-4488-B0E1-0176BDE4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1E7D-44C7-4938-B3C8-A599EE10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953-345A-45A0-9DD4-AE1D6E73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16C8-B56E-47B0-921E-48FC447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CE1-880E-4F58-9E97-5CD2AE0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33B-0B9F-4C0E-A952-BF81EBD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BF5-5BC8-4399-A6F4-1F8E982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E04-10BB-4232-9822-7B516B749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D744-866B-494F-B4C5-380D8F2B2FE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47D-8126-435D-9AFA-311440F822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631D-57B0-4CF9-9B69-C18F3A3474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9AC-E736-4397-AA20-A22C1375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629-2314-4273-B5A4-DD8D65DCE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1940040" y="198900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平均数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ject 5" descr=""/>
          <p:cNvPicPr/>
          <p:nvPr/>
        </p:nvPicPr>
        <p:blipFill>
          <a:blip r:embed="rId1"/>
          <a:stretch/>
        </p:blipFill>
        <p:spPr>
          <a:xfrm>
            <a:off x="358920" y="2205000"/>
            <a:ext cx="867708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2554920" y="10519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因此，这批法国梧桐树干的平均周长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2825640" y="630000"/>
            <a:ext cx="38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灯泡厂为测量一批灯泡的使用寿命、从中抽查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灯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的使用寿命如下表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1628640"/>
          <a:ext cx="9109080" cy="793800"/>
        </p:xfrm>
        <a:graphic>
          <a:graphicData uri="http://schemas.openxmlformats.org/drawingml/2006/table">
            <a:tbl>
              <a:tblPr/>
              <a:tblGrid>
                <a:gridCol w="1908000"/>
                <a:gridCol w="1440000"/>
                <a:gridCol w="1440000"/>
                <a:gridCol w="1439640"/>
                <a:gridCol w="1440000"/>
                <a:gridCol w="14414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使用寿命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x</a:t>
                      </a: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（单位：时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0≤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x&lt;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0≤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x&lt;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00≤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x&lt;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00≤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x&lt;2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00≤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x&lt;2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灯泡数（单位：个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宋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Rectangle 87"/>
          <p:cNvSpPr/>
          <p:nvPr/>
        </p:nvSpPr>
        <p:spPr>
          <a:xfrm>
            <a:off x="1366560" y="243144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批灯泡的使用寿命是多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4"/>
          <p:cNvSpPr/>
          <p:nvPr/>
        </p:nvSpPr>
        <p:spPr>
          <a:xfrm>
            <a:off x="1548720" y="29959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解：根据上表，可以得到各小组的组中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于是样本的平均寿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Object 93" descr=""/>
          <p:cNvPicPr/>
          <p:nvPr/>
        </p:nvPicPr>
        <p:blipFill>
          <a:blip r:embed="rId1"/>
          <a:stretch/>
        </p:blipFill>
        <p:spPr>
          <a:xfrm>
            <a:off x="539640" y="4130640"/>
            <a:ext cx="8066160" cy="1314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95"/>
          <p:cNvSpPr/>
          <p:nvPr/>
        </p:nvSpPr>
        <p:spPr>
          <a:xfrm>
            <a:off x="176040" y="5791320"/>
            <a:ext cx="89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即样本平均数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67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 因此可以估计这批灯泡的平均使用寿命大约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67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96"/>
          <p:cNvSpPr txBox="1"/>
          <p:nvPr/>
        </p:nvSpPr>
        <p:spPr>
          <a:xfrm>
            <a:off x="-468360" y="0"/>
            <a:ext cx="1440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39" name="Text Box 98"/>
          <p:cNvSpPr/>
          <p:nvPr/>
        </p:nvSpPr>
        <p:spPr>
          <a:xfrm>
            <a:off x="1924200" y="292572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思考：用全面调查的方法考查这批灯泡的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使用寿命合适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252360" y="154764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菜能手李大叔种植了一批新品种黄瓜。为了考察这种黄瓜的生长情况，李大叔抽查了部分黄瓜株上长出的黄瓜根数，得到下面的条形图。请估计这个新品种黄瓜。平均每株结多少根黄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0" y="0"/>
            <a:ext cx="1152360" cy="692280"/>
          </a:xfrm>
          <a:prstGeom prst="cloudCallout">
            <a:avLst>
              <a:gd name="adj1" fmla="val 88291"/>
              <a:gd name="adj2" fmla="val 6215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13376" t="33333" r="30878" b="21168"/>
          <a:stretch/>
        </p:blipFill>
        <p:spPr>
          <a:xfrm>
            <a:off x="539640" y="2917800"/>
            <a:ext cx="7777440" cy="3940200"/>
          </a:xfrm>
          <a:prstGeom prst="rect">
            <a:avLst/>
          </a:prstGeom>
          <a:ln w="0">
            <a:noFill/>
          </a:ln>
        </p:spPr>
      </p:pic>
      <p:sp>
        <p:nvSpPr>
          <p:cNvPr id="343" name="文本框 8199"/>
          <p:cNvSpPr/>
          <p:nvPr/>
        </p:nvSpPr>
        <p:spPr>
          <a:xfrm>
            <a:off x="2303640" y="57312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Object 5" descr=""/>
          <p:cNvPicPr/>
          <p:nvPr/>
        </p:nvPicPr>
        <p:blipFill>
          <a:blip r:embed="rId1"/>
          <a:stretch/>
        </p:blipFill>
        <p:spPr>
          <a:xfrm>
            <a:off x="611280" y="2249640"/>
            <a:ext cx="7178760" cy="1900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1976040" y="4427280"/>
            <a:ext cx="454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即样本平均数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因此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估计这个新品种黄瓜的平均每株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黄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71560" y="112536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：李大叔能不能用全面调查的方法去考察这个新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种黄瓜的平均每株结的黄瓜根数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143000" y="1157040"/>
            <a:ext cx="59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：根据条形统计图，可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权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24000" y="765000"/>
            <a:ext cx="88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数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2,2,3,4,2,3,3,6,4,1,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,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,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,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这个数据的平均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50920" y="263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据的平均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据的平均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数据的平均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24000" y="3716280"/>
            <a:ext cx="88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数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30,40,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取它们的份数比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3:2: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这时它们的平均数   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它们的百分比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10%,20%,40%,3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 这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的平均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8028000" y="765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340000" y="134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64328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702000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40328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601200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500720" y="3068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971640" y="4797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2987640" y="602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2268360" y="18900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随堂练习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4391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…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平均数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3…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平均数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则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…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平均数是（          ）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804000" y="227664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542520" y="3500280"/>
            <a:ext cx="4244760" cy="1371600"/>
            <a:chOff x="542520" y="3500280"/>
            <a:chExt cx="4244760" cy="1371600"/>
          </a:xfrm>
        </p:grpSpPr>
        <p:grpSp>
          <p:nvGrpSpPr>
            <p:cNvPr id="364" name="Group 5"/>
            <p:cNvGrpSpPr/>
            <p:nvPr/>
          </p:nvGrpSpPr>
          <p:grpSpPr>
            <a:xfrm>
              <a:off x="1476360" y="3500280"/>
              <a:ext cx="3310920" cy="1371600"/>
              <a:chOff x="1476360" y="3500280"/>
              <a:chExt cx="3310920" cy="1371600"/>
            </a:xfrm>
          </p:grpSpPr>
          <p:pic>
            <p:nvPicPr>
              <p:cNvPr id="36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3500280"/>
                <a:ext cx="79488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7"/>
              <p:cNvSpPr/>
              <p:nvPr/>
            </p:nvSpPr>
            <p:spPr>
              <a:xfrm>
                <a:off x="2123640" y="3787560"/>
                <a:ext cx="2663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(10a+30b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Rectangle 8"/>
            <p:cNvSpPr/>
            <p:nvPr/>
          </p:nvSpPr>
          <p:spPr>
            <a:xfrm>
              <a:off x="542520" y="3789360"/>
              <a:ext cx="88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9"/>
          <p:cNvGrpSpPr/>
          <p:nvPr/>
        </p:nvGrpSpPr>
        <p:grpSpPr>
          <a:xfrm>
            <a:off x="5148360" y="3429000"/>
            <a:ext cx="3240000" cy="1444680"/>
            <a:chOff x="5148360" y="3429000"/>
            <a:chExt cx="3240000" cy="1444680"/>
          </a:xfrm>
        </p:grpSpPr>
        <p:grpSp>
          <p:nvGrpSpPr>
            <p:cNvPr id="369" name="Group 10"/>
            <p:cNvGrpSpPr/>
            <p:nvPr/>
          </p:nvGrpSpPr>
          <p:grpSpPr>
            <a:xfrm>
              <a:off x="6083280" y="3429000"/>
              <a:ext cx="2305080" cy="1444680"/>
              <a:chOff x="6083280" y="3429000"/>
              <a:chExt cx="2305080" cy="1444680"/>
            </a:xfrm>
          </p:grpSpPr>
          <p:pic>
            <p:nvPicPr>
              <p:cNvPr id="370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3280" y="3429000"/>
                <a:ext cx="825480" cy="14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 Box 12"/>
              <p:cNvSpPr/>
              <p:nvPr/>
            </p:nvSpPr>
            <p:spPr>
              <a:xfrm>
                <a:off x="6875280" y="3789360"/>
                <a:ext cx="1513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(a+b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3"/>
            <p:cNvSpPr/>
            <p:nvPr/>
          </p:nvSpPr>
          <p:spPr>
            <a:xfrm>
              <a:off x="5148360" y="3933720"/>
              <a:ext cx="93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4"/>
          <p:cNvGrpSpPr/>
          <p:nvPr/>
        </p:nvGrpSpPr>
        <p:grpSpPr>
          <a:xfrm>
            <a:off x="539640" y="5013360"/>
            <a:ext cx="3168360" cy="1339920"/>
            <a:chOff x="539640" y="5013360"/>
            <a:chExt cx="3168360" cy="1339920"/>
          </a:xfrm>
        </p:grpSpPr>
        <p:grpSp>
          <p:nvGrpSpPr>
            <p:cNvPr id="374" name="Group 15"/>
            <p:cNvGrpSpPr/>
            <p:nvPr/>
          </p:nvGrpSpPr>
          <p:grpSpPr>
            <a:xfrm>
              <a:off x="1692000" y="5013360"/>
              <a:ext cx="2016000" cy="1339920"/>
              <a:chOff x="1692000" y="5013360"/>
              <a:chExt cx="2016000" cy="1339920"/>
            </a:xfrm>
          </p:grpSpPr>
          <p:pic>
            <p:nvPicPr>
              <p:cNvPr id="37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2000" y="5013360"/>
                <a:ext cx="93672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7"/>
              <p:cNvSpPr/>
              <p:nvPr/>
            </p:nvSpPr>
            <p:spPr>
              <a:xfrm>
                <a:off x="2266560" y="530244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(a+b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8"/>
            <p:cNvSpPr/>
            <p:nvPr/>
          </p:nvSpPr>
          <p:spPr>
            <a:xfrm>
              <a:off x="539640" y="5373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9"/>
          <p:cNvGrpSpPr/>
          <p:nvPr/>
        </p:nvGrpSpPr>
        <p:grpSpPr>
          <a:xfrm>
            <a:off x="4572000" y="4941720"/>
            <a:ext cx="4247640" cy="1295280"/>
            <a:chOff x="4572000" y="4941720"/>
            <a:chExt cx="4247640" cy="1295280"/>
          </a:xfrm>
        </p:grpSpPr>
        <p:grpSp>
          <p:nvGrpSpPr>
            <p:cNvPr id="379" name="Group 20"/>
            <p:cNvGrpSpPr/>
            <p:nvPr/>
          </p:nvGrpSpPr>
          <p:grpSpPr>
            <a:xfrm>
              <a:off x="5435640" y="4941720"/>
              <a:ext cx="3384000" cy="1295280"/>
              <a:chOff x="5435640" y="4941720"/>
              <a:chExt cx="3384000" cy="1295280"/>
            </a:xfrm>
          </p:grpSpPr>
          <p:pic>
            <p:nvPicPr>
              <p:cNvPr id="380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4941720"/>
                <a:ext cx="114264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Text Box 22"/>
              <p:cNvSpPr/>
              <p:nvPr/>
            </p:nvSpPr>
            <p:spPr>
              <a:xfrm>
                <a:off x="6227280" y="5230800"/>
                <a:ext cx="259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(10a+20b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3"/>
            <p:cNvSpPr/>
            <p:nvPr/>
          </p:nvSpPr>
          <p:spPr>
            <a:xfrm>
              <a:off x="4572000" y="5230800"/>
              <a:ext cx="93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7992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某班进行个人投篮比赛，受了污损的下表记录了在规定时间内投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球的人数分布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时，已知进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以上的人平均每人投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球，进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以下的人平均投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球，问投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球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球的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379520" y="2610000"/>
          <a:ext cx="5135400" cy="1925640"/>
        </p:xfrm>
        <a:graphic>
          <a:graphicData uri="http://schemas.openxmlformats.org/drawingml/2006/table">
            <a:tbl>
              <a:tblPr/>
              <a:tblGrid>
                <a:gridCol w="1450800"/>
                <a:gridCol w="562320"/>
                <a:gridCol w="552240"/>
                <a:gridCol w="542880"/>
                <a:gridCol w="639720"/>
                <a:gridCol w="623880"/>
                <a:gridCol w="763560"/>
              </a:tblGrid>
              <a:tr h="981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进球数</a:t>
                      </a: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投进</a:t>
                      </a: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r>
                        <a:rPr b="0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球的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▓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▓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368280" y="1736640"/>
            <a:ext cx="857088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本课时的学习，需要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进一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深对加权平均数的理解，能根据频数分布表求加权平均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会运用样本平均数去估计总体平均数的意义，能用样本平均数估计总体平均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6" descr="2"/>
          <p:cNvPicPr/>
          <p:nvPr/>
        </p:nvPicPr>
        <p:blipFill>
          <a:blip r:embed="rId1"/>
          <a:stretch/>
        </p:blipFill>
        <p:spPr>
          <a:xfrm>
            <a:off x="2268360" y="372960"/>
            <a:ext cx="3602160" cy="8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Object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02680" cy="47894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7545960" y="2028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平均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6188760" y="30747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组中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739200" y="358596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963360" y="5187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样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747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商场用加权平均数来确定什锦糖的单价，由单价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的甲种糖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，单价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的乙种糖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，单价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的丙种糖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混合成的什锦糖果的单价应定为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)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)1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)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D)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Object 3" descr=""/>
          <p:cNvPicPr/>
          <p:nvPr/>
        </p:nvPicPr>
        <p:blipFill>
          <a:blip r:embed="rId1"/>
          <a:stretch/>
        </p:blipFill>
        <p:spPr>
          <a:xfrm>
            <a:off x="5365800" y="2658960"/>
            <a:ext cx="3699000" cy="6699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4"/>
          <p:cNvSpPr/>
          <p:nvPr/>
        </p:nvSpPr>
        <p:spPr>
          <a:xfrm>
            <a:off x="0" y="-6480"/>
            <a:ext cx="9144000" cy="72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、反馈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5"/>
          <p:cNvSpPr/>
          <p:nvPr/>
        </p:nvSpPr>
        <p:spPr>
          <a:xfrm>
            <a:off x="8529480" y="1560600"/>
            <a:ext cx="4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1680" y="3441600"/>
            <a:ext cx="88441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商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份随机调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的营业额，结果分别如下（单位：万元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2.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试估算该商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份的总营业额大约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 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 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 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Object 2" descr=""/>
          <p:cNvPicPr/>
          <p:nvPr/>
        </p:nvPicPr>
        <p:blipFill>
          <a:blip r:embed="rId2"/>
          <a:stretch/>
        </p:blipFill>
        <p:spPr>
          <a:xfrm>
            <a:off x="819000" y="5423040"/>
            <a:ext cx="4224600" cy="741240"/>
          </a:xfrm>
          <a:prstGeom prst="rect">
            <a:avLst/>
          </a:prstGeom>
          <a:ln w="0">
            <a:noFill/>
          </a:ln>
        </p:spPr>
      </p:pic>
      <p:sp>
        <p:nvSpPr>
          <p:cNvPr id="399" name="矩形 8"/>
          <p:cNvSpPr/>
          <p:nvPr/>
        </p:nvSpPr>
        <p:spPr>
          <a:xfrm>
            <a:off x="2578320" y="4322880"/>
            <a:ext cx="51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9"/>
          <p:cNvSpPr/>
          <p:nvPr/>
        </p:nvSpPr>
        <p:spPr>
          <a:xfrm>
            <a:off x="268200" y="6072120"/>
            <a:ext cx="8875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此可估计该商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总营业额大约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2×30=9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万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0"/>
          <p:cNvSpPr/>
          <p:nvPr/>
        </p:nvSpPr>
        <p:spPr>
          <a:xfrm>
            <a:off x="5286600" y="54849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.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万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878480" y="6195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表是校女子排球队队员的年龄分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32000" y="1052640"/>
          <a:ext cx="5413320" cy="1158840"/>
        </p:xfrm>
        <a:graphic>
          <a:graphicData uri="http://schemas.openxmlformats.org/drawingml/2006/table">
            <a:tbl>
              <a:tblPr/>
              <a:tblGrid>
                <a:gridCol w="1082520"/>
                <a:gridCol w="1082880"/>
                <a:gridCol w="1082520"/>
                <a:gridCol w="1082880"/>
                <a:gridCol w="10825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年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频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09" name="Rectangle 23"/>
          <p:cNvSpPr/>
          <p:nvPr/>
        </p:nvSpPr>
        <p:spPr>
          <a:xfrm>
            <a:off x="3483720" y="234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求校女子排球队队员的平均年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2257200" y="4221000"/>
            <a:ext cx="3479760" cy="459720"/>
          </a:xfrm>
          <a:prstGeom prst="rect">
            <a:avLst/>
          </a:prstGeom>
          <a:gradFill rotWithShape="0">
            <a:gsLst>
              <a:gs pos="0">
                <a:srgbClr val="f1adcf"/>
              </a:gs>
              <a:gs pos="50000">
                <a:srgbClr val="ffffff"/>
              </a:gs>
              <a:gs pos="100000">
                <a:srgbClr val="f1ad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均年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队员年龄总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队员总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5"/>
          <p:cNvGrpSpPr/>
          <p:nvPr/>
        </p:nvGrpSpPr>
        <p:grpSpPr>
          <a:xfrm>
            <a:off x="539640" y="4722480"/>
            <a:ext cx="6408720" cy="1326600"/>
            <a:chOff x="539640" y="4722480"/>
            <a:chExt cx="6408720" cy="1326600"/>
          </a:xfrm>
        </p:grpSpPr>
        <p:sp>
          <p:nvSpPr>
            <p:cNvPr id="212" name="Rectangle 26"/>
            <p:cNvSpPr/>
            <p:nvPr/>
          </p:nvSpPr>
          <p:spPr>
            <a:xfrm>
              <a:off x="539640" y="4722480"/>
              <a:ext cx="640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解：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13×1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＋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14×4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＋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15×5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＋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16×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7"/>
            <p:cNvSpPr/>
            <p:nvPr/>
          </p:nvSpPr>
          <p:spPr>
            <a:xfrm>
              <a:off x="1623600" y="55893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≈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（岁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WordArt 28"/>
          <p:cNvSpPr txBox="1"/>
          <p:nvPr/>
        </p:nvSpPr>
        <p:spPr>
          <a:xfrm>
            <a:off x="324000" y="44280"/>
            <a:ext cx="2952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round/>
                </a:ln>
                <a:noFill/>
                <a:latin typeface="宋体"/>
              </a:rPr>
              <a:t>研究实例 引出新知</a:t>
            </a:r>
            <a:endParaRPr b="0" lang="en-US" sz="1800" spc="1" strike="noStrike">
              <a:ln w="9360">
                <a:solidFill>
                  <a:srgbClr val="ff3300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sp>
        <p:nvSpPr>
          <p:cNvPr id="215" name="AutoShape 29"/>
          <p:cNvSpPr/>
          <p:nvPr/>
        </p:nvSpPr>
        <p:spPr>
          <a:xfrm>
            <a:off x="3851280" y="5877000"/>
            <a:ext cx="1441440" cy="57636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0"/>
          <p:cNvGrpSpPr/>
          <p:nvPr/>
        </p:nvGrpSpPr>
        <p:grpSpPr>
          <a:xfrm>
            <a:off x="468360" y="2623680"/>
            <a:ext cx="7777080" cy="1786320"/>
            <a:chOff x="468360" y="2623680"/>
            <a:chExt cx="7777080" cy="1786320"/>
          </a:xfrm>
        </p:grpSpPr>
        <p:sp>
          <p:nvSpPr>
            <p:cNvPr id="217" name="Rectangle 31"/>
            <p:cNvSpPr/>
            <p:nvPr/>
          </p:nvSpPr>
          <p:spPr>
            <a:xfrm>
              <a:off x="468360" y="2853000"/>
              <a:ext cx="777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题目中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岁出现了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次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叫做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的权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岁出现了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次，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的权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岁出现了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次，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的权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岁出现了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次，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的权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2"/>
            <p:cNvSpPr/>
            <p:nvPr/>
          </p:nvSpPr>
          <p:spPr>
            <a:xfrm>
              <a:off x="470520" y="2623680"/>
              <a:ext cx="766080" cy="644040"/>
            </a:xfrm>
            <a:prstGeom prst="flowChartMagneticTape">
              <a:avLst/>
            </a:prstGeom>
            <a:gradFill rotWithShape="0">
              <a:gsLst>
                <a:gs pos="0">
                  <a:srgbClr val="f1adcf"/>
                </a:gs>
                <a:gs pos="50000">
                  <a:srgbClr val="ffffff"/>
                </a:gs>
                <a:gs pos="100000">
                  <a:srgbClr val="f1adcf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3"/>
          <p:cNvSpPr/>
          <p:nvPr/>
        </p:nvSpPr>
        <p:spPr>
          <a:xfrm>
            <a:off x="97344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594252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320544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219744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702180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4286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31680" y="79200"/>
            <a:ext cx="88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某校为了了解学生做课外作业所用时间的情况，对学生做课外作业所用时间进行调查，下表是该校初二某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学生某一天做数学课外作业所用时间的情况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04840" y="1876320"/>
          <a:ext cx="4064040" cy="3200400"/>
        </p:xfrm>
        <a:graphic>
          <a:graphicData uri="http://schemas.openxmlformats.org/drawingml/2006/table">
            <a:tbl>
              <a:tblPr/>
              <a:tblGrid>
                <a:gridCol w="2408400"/>
                <a:gridCol w="16556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所用时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t(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分钟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3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t≤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39"/>
          <p:cNvSpPr/>
          <p:nvPr/>
        </p:nvSpPr>
        <p:spPr>
          <a:xfrm>
            <a:off x="4160880" y="1797120"/>
            <a:ext cx="49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第二组数据的组中值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求该班学生平均每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做数学作业所用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0" descr=""/>
          <p:cNvPicPr/>
          <p:nvPr/>
        </p:nvPicPr>
        <p:blipFill>
          <a:blip r:embed="rId1"/>
          <a:stretch/>
        </p:blipFill>
        <p:spPr>
          <a:xfrm>
            <a:off x="4705200" y="3925800"/>
            <a:ext cx="3391200" cy="866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1" descr=""/>
          <p:cNvPicPr/>
          <p:nvPr/>
        </p:nvPicPr>
        <p:blipFill>
          <a:blip r:embed="rId2"/>
          <a:stretch/>
        </p:blipFill>
        <p:spPr>
          <a:xfrm>
            <a:off x="1276200" y="5208480"/>
            <a:ext cx="713448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1630080" y="1440"/>
            <a:ext cx="39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某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学生身高情况如下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900000" y="1413000"/>
            <a:ext cx="7416720" cy="4103280"/>
            <a:chOff x="900000" y="1413000"/>
            <a:chExt cx="7416720" cy="4103280"/>
          </a:xfrm>
        </p:grpSpPr>
        <p:grpSp>
          <p:nvGrpSpPr>
            <p:cNvPr id="409" name=""/>
            <p:cNvGrpSpPr/>
            <p:nvPr/>
          </p:nvGrpSpPr>
          <p:grpSpPr>
            <a:xfrm>
              <a:off x="2460240" y="5001480"/>
              <a:ext cx="3589560" cy="720"/>
              <a:chOff x="2460240" y="5001480"/>
              <a:chExt cx="3589560" cy="720"/>
            </a:xfrm>
          </p:grpSpPr>
          <p:sp>
            <p:nvSpPr>
              <p:cNvPr id="410" name="Line 4"/>
              <p:cNvSpPr/>
              <p:nvPr/>
            </p:nvSpPr>
            <p:spPr>
              <a:xfrm>
                <a:off x="2460240" y="5001480"/>
                <a:ext cx="358956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2460240" y="5001480"/>
                <a:ext cx="3589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433880" y="1754280"/>
              <a:ext cx="360" cy="3246840"/>
              <a:chOff x="1433880" y="1754280"/>
              <a:chExt cx="360" cy="3246840"/>
            </a:xfrm>
          </p:grpSpPr>
          <p:sp>
            <p:nvSpPr>
              <p:cNvPr id="413" name="Line 5"/>
              <p:cNvSpPr/>
              <p:nvPr/>
            </p:nvSpPr>
            <p:spPr>
              <a:xfrm flipV="1">
                <a:off x="1434240" y="1754280"/>
                <a:ext cx="0" cy="324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 rot="10800000">
                <a:off x="1433880" y="1754280"/>
                <a:ext cx="360" cy="324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6"/>
            <p:cNvSpPr/>
            <p:nvPr/>
          </p:nvSpPr>
          <p:spPr>
            <a:xfrm>
              <a:off x="1434240" y="4830840"/>
              <a:ext cx="1026000" cy="171720"/>
            </a:xfrm>
            <a:custGeom>
              <a:avLst/>
              <a:gdLst/>
              <a:ahLst/>
              <a:rect l="l" t="t" r="r" b="b"/>
              <a:pathLst>
                <a:path w="1800" h="156">
                  <a:moveTo>
                    <a:pt x="0" y="156"/>
                  </a:moveTo>
                  <a:cubicBezTo>
                    <a:pt x="60" y="78"/>
                    <a:pt x="120" y="0"/>
                    <a:pt x="180" y="0"/>
                  </a:cubicBezTo>
                  <a:cubicBezTo>
                    <a:pt x="240" y="0"/>
                    <a:pt x="300" y="156"/>
                    <a:pt x="360" y="156"/>
                  </a:cubicBezTo>
                  <a:cubicBezTo>
                    <a:pt x="420" y="156"/>
                    <a:pt x="480" y="0"/>
                    <a:pt x="540" y="0"/>
                  </a:cubicBezTo>
                  <a:cubicBezTo>
                    <a:pt x="600" y="0"/>
                    <a:pt x="660" y="156"/>
                    <a:pt x="720" y="156"/>
                  </a:cubicBezTo>
                  <a:cubicBezTo>
                    <a:pt x="780" y="156"/>
                    <a:pt x="840" y="0"/>
                    <a:pt x="900" y="0"/>
                  </a:cubicBezTo>
                  <a:cubicBezTo>
                    <a:pt x="960" y="0"/>
                    <a:pt x="1020" y="156"/>
                    <a:pt x="1080" y="156"/>
                  </a:cubicBezTo>
                  <a:cubicBezTo>
                    <a:pt x="1140" y="156"/>
                    <a:pt x="1200" y="0"/>
                    <a:pt x="1260" y="0"/>
                  </a:cubicBezTo>
                  <a:cubicBezTo>
                    <a:pt x="1320" y="0"/>
                    <a:pt x="1380" y="156"/>
                    <a:pt x="1440" y="156"/>
                  </a:cubicBezTo>
                  <a:cubicBezTo>
                    <a:pt x="1500" y="156"/>
                    <a:pt x="1560" y="0"/>
                    <a:pt x="1620" y="0"/>
                  </a:cubicBezTo>
                  <a:cubicBezTo>
                    <a:pt x="1680" y="0"/>
                    <a:pt x="1770" y="130"/>
                    <a:pt x="1800" y="1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2973240" y="3976200"/>
              <a:ext cx="513000" cy="102528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3486240" y="3463560"/>
              <a:ext cx="512640" cy="1537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3999240" y="2096280"/>
              <a:ext cx="513000" cy="2905200"/>
            </a:xfrm>
            <a:prstGeom prst="rect">
              <a:avLst/>
            </a:prstGeom>
            <a:solidFill>
              <a:srgbClr val="ffff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4512240" y="4317840"/>
              <a:ext cx="512640" cy="68364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1434240" y="2096280"/>
              <a:ext cx="190440" cy="108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0"/>
                  </a:moveTo>
                  <a:cubicBezTo>
                    <a:pt x="45" y="0"/>
                    <a:pt x="90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2"/>
            <p:cNvSpPr/>
            <p:nvPr/>
          </p:nvSpPr>
          <p:spPr>
            <a:xfrm>
              <a:off x="1434240" y="2779920"/>
              <a:ext cx="190440" cy="216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0"/>
                  </a:moveTo>
                  <a:cubicBezTo>
                    <a:pt x="45" y="0"/>
                    <a:pt x="90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1434240" y="3463560"/>
              <a:ext cx="190440" cy="72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0"/>
                  </a:moveTo>
                  <a:cubicBezTo>
                    <a:pt x="45" y="0"/>
                    <a:pt x="90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4"/>
            <p:cNvSpPr/>
            <p:nvPr/>
          </p:nvSpPr>
          <p:spPr>
            <a:xfrm>
              <a:off x="1434240" y="4148280"/>
              <a:ext cx="193320" cy="72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0"/>
                  </a:moveTo>
                  <a:cubicBezTo>
                    <a:pt x="45" y="0"/>
                    <a:pt x="90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3486240" y="5001480"/>
              <a:ext cx="1280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921240" y="3292560"/>
              <a:ext cx="7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1006920" y="3976200"/>
              <a:ext cx="7675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6051240" y="4830840"/>
              <a:ext cx="22654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身高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9"/>
            <p:cNvSpPr/>
            <p:nvPr/>
          </p:nvSpPr>
          <p:spPr>
            <a:xfrm>
              <a:off x="4512240" y="5001480"/>
              <a:ext cx="11538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0"/>
            <p:cNvSpPr/>
            <p:nvPr/>
          </p:nvSpPr>
          <p:spPr>
            <a:xfrm>
              <a:off x="3999240" y="5001480"/>
              <a:ext cx="13251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1"/>
            <p:cNvSpPr/>
            <p:nvPr/>
          </p:nvSpPr>
          <p:spPr>
            <a:xfrm>
              <a:off x="2973240" y="5001480"/>
              <a:ext cx="12394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2"/>
            <p:cNvSpPr/>
            <p:nvPr/>
          </p:nvSpPr>
          <p:spPr>
            <a:xfrm>
              <a:off x="2460240" y="5001480"/>
              <a:ext cx="115560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3"/>
            <p:cNvSpPr/>
            <p:nvPr/>
          </p:nvSpPr>
          <p:spPr>
            <a:xfrm>
              <a:off x="900000" y="2608920"/>
              <a:ext cx="7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4"/>
            <p:cNvSpPr/>
            <p:nvPr/>
          </p:nvSpPr>
          <p:spPr>
            <a:xfrm>
              <a:off x="900000" y="1925280"/>
              <a:ext cx="7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5"/>
            <p:cNvSpPr/>
            <p:nvPr/>
          </p:nvSpPr>
          <p:spPr>
            <a:xfrm>
              <a:off x="2973240" y="3634560"/>
              <a:ext cx="7693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26"/>
            <p:cNvSpPr/>
            <p:nvPr/>
          </p:nvSpPr>
          <p:spPr>
            <a:xfrm>
              <a:off x="3400560" y="3121920"/>
              <a:ext cx="7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7"/>
            <p:cNvSpPr/>
            <p:nvPr/>
          </p:nvSpPr>
          <p:spPr>
            <a:xfrm>
              <a:off x="3935160" y="1754640"/>
              <a:ext cx="11538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8"/>
            <p:cNvSpPr/>
            <p:nvPr/>
          </p:nvSpPr>
          <p:spPr>
            <a:xfrm>
              <a:off x="4512240" y="3976200"/>
              <a:ext cx="769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29"/>
            <p:cNvSpPr/>
            <p:nvPr/>
          </p:nvSpPr>
          <p:spPr>
            <a:xfrm>
              <a:off x="921240" y="1413000"/>
              <a:ext cx="166716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人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30"/>
          <p:cNvSpPr/>
          <p:nvPr/>
        </p:nvSpPr>
        <p:spPr>
          <a:xfrm>
            <a:off x="1000080" y="479304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计算该班学生平均身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84360" y="5013360"/>
            <a:ext cx="3527640" cy="360"/>
            <a:chOff x="2484360" y="5013360"/>
            <a:chExt cx="3527640" cy="360"/>
          </a:xfrm>
        </p:grpSpPr>
        <p:sp>
          <p:nvSpPr>
            <p:cNvPr id="441" name="Line 31"/>
            <p:cNvSpPr/>
            <p:nvPr/>
          </p:nvSpPr>
          <p:spPr>
            <a:xfrm>
              <a:off x="2484360" y="5013360"/>
              <a:ext cx="3527640" cy="0"/>
            </a:xfrm>
            <a:prstGeom prst="line">
              <a:avLst/>
            </a:prstGeom>
            <a:ln w="414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2484360" y="5013360"/>
              <a:ext cx="35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20600" y="1765440"/>
            <a:ext cx="68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组的组中值分别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班学生的平均身高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5003640" y="125280"/>
            <a:ext cx="3856320" cy="2289240"/>
          </a:xfrm>
          <a:prstGeom prst="rect">
            <a:avLst/>
          </a:prstGeom>
          <a:ln w="0">
            <a:noFill/>
          </a:ln>
        </p:spPr>
      </p:pic>
      <p:sp>
        <p:nvSpPr>
          <p:cNvPr id="445" name="矩形 4"/>
          <p:cNvSpPr/>
          <p:nvPr/>
        </p:nvSpPr>
        <p:spPr>
          <a:xfrm>
            <a:off x="125280" y="222120"/>
            <a:ext cx="47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身高情况如图，请计算该班学生的平均身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6"/>
          <p:cNvGrpSpPr/>
          <p:nvPr/>
        </p:nvGrpSpPr>
        <p:grpSpPr>
          <a:xfrm>
            <a:off x="1601640" y="3613320"/>
            <a:ext cx="5646960" cy="609480"/>
            <a:chOff x="1601640" y="3613320"/>
            <a:chExt cx="5646960" cy="609480"/>
          </a:xfrm>
        </p:grpSpPr>
        <p:pic>
          <p:nvPicPr>
            <p:cNvPr id="447" name="Object 2" descr=""/>
            <p:cNvPicPr/>
            <p:nvPr/>
          </p:nvPicPr>
          <p:blipFill>
            <a:blip r:embed="rId2"/>
            <a:stretch/>
          </p:blipFill>
          <p:spPr>
            <a:xfrm>
              <a:off x="1601640" y="3613320"/>
              <a:ext cx="3721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"/>
            <p:cNvSpPr/>
            <p:nvPr/>
          </p:nvSpPr>
          <p:spPr>
            <a:xfrm>
              <a:off x="5239080" y="373356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165.5 (c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C67B-9408-470C-9F36-2E70C17072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7" descr=""/>
          <p:cNvPicPr/>
          <p:nvPr/>
        </p:nvPicPr>
        <p:blipFill>
          <a:blip r:embed="rId1"/>
          <a:stretch/>
        </p:blipFill>
        <p:spPr>
          <a:xfrm>
            <a:off x="200160" y="3389400"/>
            <a:ext cx="7799400" cy="11332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2"/>
          <a:stretch/>
        </p:blipFill>
        <p:spPr>
          <a:xfrm>
            <a:off x="5799240" y="4160880"/>
            <a:ext cx="3219480" cy="2571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3"/>
          <a:stretch/>
        </p:blipFill>
        <p:spPr>
          <a:xfrm>
            <a:off x="299880" y="4732200"/>
            <a:ext cx="5604120" cy="10191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2"/>
          <p:cNvSpPr/>
          <p:nvPr/>
        </p:nvSpPr>
        <p:spPr>
          <a:xfrm>
            <a:off x="71280" y="55440"/>
            <a:ext cx="8583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次体育课上，体育老师对九年级一班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同学进行了立定跳远项目的测试，测试所得分数及相应的人数如图所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这次测试的平均分为（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4"/>
          <a:stretch/>
        </p:blipFill>
        <p:spPr>
          <a:xfrm>
            <a:off x="5967360" y="1179360"/>
            <a:ext cx="2987640" cy="2198880"/>
          </a:xfrm>
          <a:prstGeom prst="rect">
            <a:avLst/>
          </a:prstGeom>
          <a:ln w="0">
            <a:noFill/>
          </a:ln>
        </p:spPr>
      </p:pic>
      <p:grpSp>
        <p:nvGrpSpPr>
          <p:cNvPr id="458" name="组合 7"/>
          <p:cNvGrpSpPr/>
          <p:nvPr/>
        </p:nvGrpSpPr>
        <p:grpSpPr>
          <a:xfrm>
            <a:off x="63360" y="1542960"/>
            <a:ext cx="5959440" cy="866880"/>
            <a:chOff x="63360" y="1542960"/>
            <a:chExt cx="5959440" cy="866880"/>
          </a:xfrm>
        </p:grpSpPr>
        <p:sp>
          <p:nvSpPr>
            <p:cNvPr id="459" name="Text Box 4"/>
            <p:cNvSpPr/>
            <p:nvPr/>
          </p:nvSpPr>
          <p:spPr>
            <a:xfrm>
              <a:off x="63360" y="1542960"/>
              <a:ext cx="595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(A)   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分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(B)   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分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(C)   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分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(D)8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Object 5" descr=""/>
            <p:cNvPicPr/>
            <p:nvPr/>
          </p:nvPicPr>
          <p:blipFill>
            <a:blip r:embed="rId5"/>
            <a:stretch/>
          </p:blipFill>
          <p:spPr>
            <a:xfrm>
              <a:off x="767520" y="1784520"/>
              <a:ext cx="1904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Object 6" descr=""/>
            <p:cNvPicPr/>
            <p:nvPr/>
          </p:nvPicPr>
          <p:blipFill>
            <a:blip r:embed="rId6"/>
            <a:stretch/>
          </p:blipFill>
          <p:spPr>
            <a:xfrm>
              <a:off x="2278440" y="1784520"/>
              <a:ext cx="3175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Object 7" descr=""/>
            <p:cNvPicPr/>
            <p:nvPr/>
          </p:nvPicPr>
          <p:blipFill>
            <a:blip r:embed="rId7"/>
            <a:stretch/>
          </p:blipFill>
          <p:spPr>
            <a:xfrm>
              <a:off x="3915360" y="1800000"/>
              <a:ext cx="33012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3" name="Object 8" descr=""/>
          <p:cNvPicPr/>
          <p:nvPr/>
        </p:nvPicPr>
        <p:blipFill>
          <a:blip r:embed="rId8"/>
          <a:stretch/>
        </p:blipFill>
        <p:spPr>
          <a:xfrm>
            <a:off x="770040" y="2622600"/>
            <a:ext cx="25527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826920" y="1197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统计中也常把下面的这种算术平均数看成加权平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11280" y="2205000"/>
            <a:ext cx="74674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数的算术平均数时，如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（这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+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+…+f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=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那么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数的算术平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11280" y="4581360"/>
            <a:ext cx="7559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也叫做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个数的加权平均数，其中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分别叫做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1711440" y="3538440"/>
            <a:ext cx="4254480" cy="104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395280" y="260280"/>
            <a:ext cx="1800360" cy="792360"/>
          </a:xfrm>
          <a:prstGeom prst="flowChartMagneticTape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02800" y="1052280"/>
            <a:ext cx="55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共汽车的运营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交部门统计了某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共汽车每个运行班次的载客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3"/>
          <p:cNvSpPr/>
          <p:nvPr/>
        </p:nvSpPr>
        <p:spPr>
          <a:xfrm>
            <a:off x="1391760" y="5635080"/>
            <a:ext cx="46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共汽车平均每班的载客量是多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2205000"/>
          <a:ext cx="8424720" cy="3200400"/>
        </p:xfrm>
        <a:graphic>
          <a:graphicData uri="http://schemas.openxmlformats.org/drawingml/2006/table">
            <a:tbl>
              <a:tblPr/>
              <a:tblGrid>
                <a:gridCol w="2736720"/>
                <a:gridCol w="2124360"/>
                <a:gridCol w="35636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载客量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组中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频数（班次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≤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≤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1≤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1≤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1≤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1≤x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82"/>
          <p:cNvSpPr/>
          <p:nvPr/>
        </p:nvSpPr>
        <p:spPr>
          <a:xfrm>
            <a:off x="685800" y="33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199"/>
          <p:cNvSpPr/>
          <p:nvPr/>
        </p:nvSpPr>
        <p:spPr>
          <a:xfrm>
            <a:off x="2303640" y="71748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4"/>
          <p:cNvSpPr/>
          <p:nvPr/>
        </p:nvSpPr>
        <p:spPr>
          <a:xfrm>
            <a:off x="1999800" y="1295280"/>
            <a:ext cx="513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导航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：“组中值”是数据分组后，这个小组的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端点的数的平均数。例如小组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≤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＜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组中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1801080" y="3276720"/>
            <a:ext cx="56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导航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：根据上面的频数分布表求加权平均数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统计中常用各组的组中值代表各组的实际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把各组数据的频数看作相应组中值的权。例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1&lt;x&lt;4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之间的载客量近似地看作组中值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组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值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l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权就是它的频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7" descr="0018"/>
          <p:cNvPicPr/>
          <p:nvPr/>
        </p:nvPicPr>
        <p:blipFill>
          <a:blip r:embed="rId1"/>
          <a:stretch/>
        </p:blipFill>
        <p:spPr>
          <a:xfrm>
            <a:off x="0" y="191628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ject 3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1420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1866240" y="877320"/>
            <a:ext cx="46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这天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路公共汽车平均每班的载客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7"/>
          <p:cNvSpPr/>
          <p:nvPr/>
        </p:nvSpPr>
        <p:spPr>
          <a:xfrm>
            <a:off x="2024280" y="2997360"/>
            <a:ext cx="53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接下来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学们请来思考这样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从上表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能知道这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天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路公共汽车大约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班次的载客量在平均载客量以上吗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占全天总班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百分比是多少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8"/>
          <p:cNvSpPr/>
          <p:nvPr/>
        </p:nvSpPr>
        <p:spPr>
          <a:xfrm>
            <a:off x="0" y="4724280"/>
            <a:ext cx="932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表格可知，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1≤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班次 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1≤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班次共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班次超过平均载客量，占全天总班次的百分比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3/8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约等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687040" y="7344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下表是校女子排球队队员的年龄分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557360"/>
          <a:ext cx="5400720" cy="828720"/>
        </p:xfrm>
        <a:graphic>
          <a:graphicData uri="http://schemas.openxmlformats.org/drawingml/2006/table">
            <a:tbl>
              <a:tblPr/>
              <a:tblGrid>
                <a:gridCol w="1406520"/>
                <a:gridCol w="1000080"/>
                <a:gridCol w="995400"/>
                <a:gridCol w="1000080"/>
                <a:gridCol w="998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频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1936080" y="2461320"/>
            <a:ext cx="55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求校女子排球队队员的平均年龄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可以使用计算器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1908720" y="332676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解：根据题意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校女干排球队队员的平均年龄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26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6696000" cy="11682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27"/>
          <p:cNvSpPr/>
          <p:nvPr/>
        </p:nvSpPr>
        <p:spPr>
          <a:xfrm>
            <a:off x="0" y="0"/>
            <a:ext cx="1152360" cy="692280"/>
          </a:xfrm>
          <a:prstGeom prst="cloudCallout">
            <a:avLst>
              <a:gd name="adj1" fmla="val 88291"/>
              <a:gd name="adj2" fmla="val 6215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3962520" y="244440"/>
            <a:ext cx="5181480" cy="4040640"/>
            <a:chOff x="3962520" y="244440"/>
            <a:chExt cx="5181480" cy="4040640"/>
          </a:xfrm>
        </p:grpSpPr>
        <p:sp>
          <p:nvSpPr>
            <p:cNvPr id="250" name="Rectangle 3"/>
            <p:cNvSpPr/>
            <p:nvPr/>
          </p:nvSpPr>
          <p:spPr>
            <a:xfrm>
              <a:off x="4809960" y="663480"/>
              <a:ext cx="3598920" cy="3200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"/>
            <p:cNvSpPr/>
            <p:nvPr/>
          </p:nvSpPr>
          <p:spPr>
            <a:xfrm>
              <a:off x="4809960" y="663480"/>
              <a:ext cx="372456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 flipV="1">
              <a:off x="4809960" y="3788640"/>
              <a:ext cx="3571920" cy="7452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4809960" y="34066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4809960" y="29494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4809960" y="24922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4809960" y="20350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4809960" y="15778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4809960" y="11206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4809960" y="663480"/>
              <a:ext cx="3598920" cy="1800"/>
            </a:xfrm>
            <a:custGeom>
              <a:avLst/>
              <a:gdLst/>
              <a:ahLst/>
              <a:rect l="l" t="t" r="r" b="b"/>
              <a:pathLst>
                <a:path w="516" h="1">
                  <a:moveTo>
                    <a:pt x="0" y="0"/>
                  </a:moveTo>
                  <a:lnTo>
                    <a:pt x="0" y="0"/>
                  </a:lnTo>
                  <a:lnTo>
                    <a:pt x="5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4809960" y="663480"/>
              <a:ext cx="180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809600" y="663480"/>
              <a:ext cx="2160" cy="3200400"/>
              <a:chOff x="4809600" y="663480"/>
              <a:chExt cx="2160" cy="3200400"/>
            </a:xfrm>
          </p:grpSpPr>
          <p:sp>
            <p:nvSpPr>
              <p:cNvPr id="262" name="Line 14"/>
              <p:cNvSpPr/>
              <p:nvPr/>
            </p:nvSpPr>
            <p:spPr>
              <a:xfrm flipV="1">
                <a:off x="4809960" y="663480"/>
                <a:ext cx="180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 rot="10800000">
                <a:off x="4809600" y="663480"/>
                <a:ext cx="1800" cy="320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809600" y="3863880"/>
              <a:ext cx="48240" cy="1800"/>
              <a:chOff x="4809600" y="3863880"/>
              <a:chExt cx="48240" cy="1800"/>
            </a:xfrm>
          </p:grpSpPr>
          <p:sp>
            <p:nvSpPr>
              <p:cNvPr id="265" name="Line 15"/>
              <p:cNvSpPr/>
              <p:nvPr/>
            </p:nvSpPr>
            <p:spPr>
              <a:xfrm flipH="1">
                <a:off x="4809600" y="38638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4809960" y="38638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09600" y="3406680"/>
              <a:ext cx="48240" cy="1800"/>
              <a:chOff x="4809600" y="3406680"/>
              <a:chExt cx="48240" cy="1800"/>
            </a:xfrm>
          </p:grpSpPr>
          <p:sp>
            <p:nvSpPr>
              <p:cNvPr id="268" name="Line 16"/>
              <p:cNvSpPr/>
              <p:nvPr/>
            </p:nvSpPr>
            <p:spPr>
              <a:xfrm flipH="1">
                <a:off x="4809600" y="34066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4809960" y="34066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809600" y="2949480"/>
              <a:ext cx="48240" cy="1800"/>
              <a:chOff x="4809600" y="2949480"/>
              <a:chExt cx="48240" cy="1800"/>
            </a:xfrm>
          </p:grpSpPr>
          <p:sp>
            <p:nvSpPr>
              <p:cNvPr id="271" name="Line 17"/>
              <p:cNvSpPr/>
              <p:nvPr/>
            </p:nvSpPr>
            <p:spPr>
              <a:xfrm flipH="1">
                <a:off x="4809600" y="29494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4809960" y="29494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809600" y="2492280"/>
              <a:ext cx="48240" cy="1800"/>
              <a:chOff x="4809600" y="2492280"/>
              <a:chExt cx="48240" cy="1800"/>
            </a:xfrm>
          </p:grpSpPr>
          <p:sp>
            <p:nvSpPr>
              <p:cNvPr id="274" name="Line 18"/>
              <p:cNvSpPr/>
              <p:nvPr/>
            </p:nvSpPr>
            <p:spPr>
              <a:xfrm flipH="1">
                <a:off x="4809600" y="24922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4809960" y="24922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09600" y="2035080"/>
              <a:ext cx="48240" cy="1800"/>
              <a:chOff x="4809600" y="2035080"/>
              <a:chExt cx="48240" cy="1800"/>
            </a:xfrm>
          </p:grpSpPr>
          <p:sp>
            <p:nvSpPr>
              <p:cNvPr id="277" name="Line 19"/>
              <p:cNvSpPr/>
              <p:nvPr/>
            </p:nvSpPr>
            <p:spPr>
              <a:xfrm flipH="1">
                <a:off x="4809600" y="20350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4809960" y="20350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809600" y="1577880"/>
              <a:ext cx="48240" cy="1800"/>
              <a:chOff x="4809600" y="1577880"/>
              <a:chExt cx="48240" cy="1800"/>
            </a:xfrm>
          </p:grpSpPr>
          <p:sp>
            <p:nvSpPr>
              <p:cNvPr id="280" name="Line 20"/>
              <p:cNvSpPr/>
              <p:nvPr/>
            </p:nvSpPr>
            <p:spPr>
              <a:xfrm flipH="1">
                <a:off x="4809600" y="15778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809960" y="15778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809600" y="1120680"/>
              <a:ext cx="48240" cy="1800"/>
              <a:chOff x="4809600" y="1120680"/>
              <a:chExt cx="48240" cy="1800"/>
            </a:xfrm>
          </p:grpSpPr>
          <p:sp>
            <p:nvSpPr>
              <p:cNvPr id="283" name="Line 21"/>
              <p:cNvSpPr/>
              <p:nvPr/>
            </p:nvSpPr>
            <p:spPr>
              <a:xfrm flipH="1">
                <a:off x="4809600" y="11206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4809960" y="11206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09600" y="663480"/>
              <a:ext cx="48240" cy="1800"/>
              <a:chOff x="4809600" y="663480"/>
              <a:chExt cx="48240" cy="1800"/>
            </a:xfrm>
          </p:grpSpPr>
          <p:sp>
            <p:nvSpPr>
              <p:cNvPr id="286" name="Line 22"/>
              <p:cNvSpPr/>
              <p:nvPr/>
            </p:nvSpPr>
            <p:spPr>
              <a:xfrm flipH="1">
                <a:off x="4809600" y="663480"/>
                <a:ext cx="47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4809960" y="663480"/>
                <a:ext cx="47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Rectangle 23"/>
            <p:cNvSpPr/>
            <p:nvPr/>
          </p:nvSpPr>
          <p:spPr>
            <a:xfrm>
              <a:off x="4492800" y="3759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4492800" y="33019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4492800" y="28447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4492800" y="23875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4492800" y="19303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4459320" y="1473120"/>
              <a:ext cx="39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4427640" y="1015920"/>
              <a:ext cx="32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427640" y="558720"/>
              <a:ext cx="32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809960" y="3863880"/>
              <a:ext cx="3598920" cy="1800"/>
              <a:chOff x="4809960" y="3863880"/>
              <a:chExt cx="3598920" cy="1800"/>
            </a:xfrm>
          </p:grpSpPr>
          <p:sp>
            <p:nvSpPr>
              <p:cNvPr id="297" name="Line 31"/>
              <p:cNvSpPr/>
              <p:nvPr/>
            </p:nvSpPr>
            <p:spPr>
              <a:xfrm>
                <a:off x="4809960" y="3863880"/>
                <a:ext cx="359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4809960" y="3863880"/>
                <a:ext cx="35989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809960" y="3816360"/>
              <a:ext cx="1800" cy="47520"/>
              <a:chOff x="4809960" y="3816360"/>
              <a:chExt cx="1800" cy="47520"/>
            </a:xfrm>
          </p:grpSpPr>
          <p:sp>
            <p:nvSpPr>
              <p:cNvPr id="300" name="Line 32"/>
              <p:cNvSpPr/>
              <p:nvPr/>
            </p:nvSpPr>
            <p:spPr>
              <a:xfrm>
                <a:off x="4809960" y="3816360"/>
                <a:ext cx="180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4809960" y="3816360"/>
                <a:ext cx="180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3"/>
            <p:cNvSpPr/>
            <p:nvPr/>
          </p:nvSpPr>
          <p:spPr>
            <a:xfrm>
              <a:off x="5080320" y="39304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34"/>
            <p:cNvSpPr/>
            <p:nvPr/>
          </p:nvSpPr>
          <p:spPr>
            <a:xfrm>
              <a:off x="5623200" y="39304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5"/>
            <p:cNvSpPr/>
            <p:nvPr/>
          </p:nvSpPr>
          <p:spPr>
            <a:xfrm>
              <a:off x="6080400" y="39304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6"/>
            <p:cNvSpPr/>
            <p:nvPr/>
          </p:nvSpPr>
          <p:spPr>
            <a:xfrm>
              <a:off x="6537600" y="39304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7"/>
            <p:cNvSpPr/>
            <p:nvPr/>
          </p:nvSpPr>
          <p:spPr>
            <a:xfrm>
              <a:off x="7067880" y="39322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8"/>
            <p:cNvSpPr/>
            <p:nvPr/>
          </p:nvSpPr>
          <p:spPr>
            <a:xfrm>
              <a:off x="7528320" y="39304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9"/>
            <p:cNvSpPr/>
            <p:nvPr/>
          </p:nvSpPr>
          <p:spPr>
            <a:xfrm>
              <a:off x="4813200" y="3813120"/>
              <a:ext cx="265320" cy="76320"/>
            </a:xfrm>
            <a:custGeom>
              <a:avLst/>
              <a:gdLst/>
              <a:ahLst/>
              <a:rect l="l" t="t" r="r" b="b"/>
              <a:pathLst>
                <a:path w="167" h="48">
                  <a:moveTo>
                    <a:pt x="0" y="48"/>
                  </a:moveTo>
                  <a:lnTo>
                    <a:pt x="48" y="0"/>
                  </a:lnTo>
                  <a:lnTo>
                    <a:pt x="48" y="48"/>
                  </a:lnTo>
                  <a:lnTo>
                    <a:pt x="96" y="0"/>
                  </a:lnTo>
                  <a:lnTo>
                    <a:pt x="96" y="48"/>
                  </a:lnTo>
                  <a:lnTo>
                    <a:pt x="144" y="0"/>
                  </a:lnTo>
                  <a:lnTo>
                    <a:pt x="144" y="48"/>
                  </a:lnTo>
                  <a:lnTo>
                    <a:pt x="167" y="3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812840" y="320760"/>
              <a:ext cx="360" cy="380880"/>
              <a:chOff x="4812840" y="320760"/>
              <a:chExt cx="360" cy="380880"/>
            </a:xfrm>
          </p:grpSpPr>
          <p:sp>
            <p:nvSpPr>
              <p:cNvPr id="310" name="Line 40"/>
              <p:cNvSpPr/>
              <p:nvPr/>
            </p:nvSpPr>
            <p:spPr>
              <a:xfrm flipV="1">
                <a:off x="4813200" y="3207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4812840" y="32076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255160" y="3863520"/>
              <a:ext cx="457200" cy="360"/>
              <a:chOff x="8255160" y="3863520"/>
              <a:chExt cx="457200" cy="360"/>
            </a:xfrm>
          </p:grpSpPr>
          <p:sp>
            <p:nvSpPr>
              <p:cNvPr id="313" name="Line 41"/>
              <p:cNvSpPr/>
              <p:nvPr/>
            </p:nvSpPr>
            <p:spPr>
              <a:xfrm>
                <a:off x="8255160" y="3863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 rot="10800000">
                <a:off x="8255160" y="3863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42"/>
            <p:cNvSpPr/>
            <p:nvPr/>
          </p:nvSpPr>
          <p:spPr>
            <a:xfrm>
              <a:off x="3962520" y="2444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频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7924680" y="38862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周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44"/>
          <p:cNvSpPr/>
          <p:nvPr/>
        </p:nvSpPr>
        <p:spPr>
          <a:xfrm>
            <a:off x="179280" y="1557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绿化环境，柳荫街引进一批法国梧桐，三年后这些树的树干的周长情况如图所示，计算（可以使用计算器）这批法国梧桐树干的平均周长（精确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1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19400" y="5676840"/>
            <a:ext cx="4914720" cy="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2219400" y="2476440"/>
            <a:ext cx="1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5257800" y="2035080"/>
            <a:ext cx="47628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740560" y="1120680"/>
            <a:ext cx="475920" cy="2743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203880" y="665280"/>
            <a:ext cx="476280" cy="320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0"/>
          <p:cNvSpPr/>
          <p:nvPr/>
        </p:nvSpPr>
        <p:spPr>
          <a:xfrm>
            <a:off x="6686640" y="1577880"/>
            <a:ext cx="476280" cy="228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7169040" y="2492280"/>
            <a:ext cx="476280" cy="13716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54"/>
          <p:cNvSpPr txBox="1"/>
          <p:nvPr/>
        </p:nvSpPr>
        <p:spPr>
          <a:xfrm>
            <a:off x="826920" y="476280"/>
            <a:ext cx="2449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round/>
                </a:ln>
                <a:noFill/>
                <a:latin typeface="宋体"/>
              </a:rPr>
              <a:t>练习反馈 巩固新知</a:t>
            </a:r>
            <a:endParaRPr b="0" lang="en-US" sz="1800" spc="1" strike="noStrike">
              <a:ln w="9360">
                <a:solidFill>
                  <a:srgbClr val="ff3300"/>
                </a:solidFill>
                <a:round/>
              </a:ln>
              <a:noFill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1476360" y="975600"/>
            <a:ext cx="68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绿化环境，柳荫街引进一批法国梧桐，三年后这些树的树干的周长情况见课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用计算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批法国梧桐树干的平均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 cm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2615760" y="2261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解：从条形统计图可以得到下列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3071880"/>
          <a:ext cx="6408720" cy="2743200"/>
        </p:xfrm>
        <a:graphic>
          <a:graphicData uri="http://schemas.openxmlformats.org/drawingml/2006/table">
            <a:tbl>
              <a:tblPr/>
              <a:tblGrid>
                <a:gridCol w="3000240"/>
                <a:gridCol w="1919520"/>
                <a:gridCol w="14889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树干周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中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频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&lt;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&lt;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&lt;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&lt;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&lt;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AutoShape 132"/>
          <p:cNvSpPr/>
          <p:nvPr/>
        </p:nvSpPr>
        <p:spPr>
          <a:xfrm>
            <a:off x="0" y="0"/>
            <a:ext cx="1152360" cy="692280"/>
          </a:xfrm>
          <a:prstGeom prst="cloudCallout">
            <a:avLst>
              <a:gd name="adj1" fmla="val 88291"/>
              <a:gd name="adj2" fmla="val 6215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5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26Z</dcterms:modified>
  <cp:revision>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