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3.jpeg" ContentType="image/jpeg"/>
  <Override PartName="/ppt/media/image12.png" ContentType="image/png"/>
  <Override PartName="/ppt/media/image5.png" ContentType="image/png"/>
  <Override PartName="/ppt/media/projctor.wav" ContentType="audio/x-wav"/>
  <Override PartName="/ppt/media/image9.png" ContentType="image/png"/>
  <Override PartName="/ppt/media/image2.jpeg" ContentType="image/jpeg"/>
  <Override PartName="/ppt/media/image3.png" ContentType="image/png"/>
  <Override PartName="/ppt/media/camera.wav" ContentType="audio/x-wav"/>
  <Override PartName="/ppt/media/image11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FB8-5743-4CEF-9785-A419DD1A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A45-3B91-414C-A257-A4776648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10F-78BD-4132-9821-C863FC63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D93-2D51-4022-9D23-F559C7A7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C1F2-05FB-44E2-8131-19D7C5FF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5F93-F5A7-4B0E-A30B-115896B2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495B-7EDC-4AC9-BACB-5FA20988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F1A4-E9E6-4D97-A348-6BD11A49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04EC-CC83-4006-BD62-D54A1CCC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B91C-E192-4EE0-B739-43270314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81F1-D591-431E-961C-8D94AD8A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6D9-5698-477C-B9E5-27AB544B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A02D-7087-4722-A0B2-15A1ABBC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77D3-3A49-45B3-9268-F0008A4C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D09C-5790-4D10-9FF1-04AA0A3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0972-0ECE-4A3C-AABE-3F980BF2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BCE0-D825-4B97-B58D-0136461B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F24C-0A28-4E7C-AC33-7466604D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C1D3-0895-40EA-9282-118C9236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66A9-F1D6-4262-9AD0-6B93839A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C575A-3C56-4DAF-B67D-76640F1C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9B08-A30C-4926-B888-DAFB3C28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942-47AA-43EA-868D-BF8B0E76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393AE-A4C2-4911-9305-EDE871C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17C3-2F7E-4B52-B503-F1A57D0C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1E156-BF36-4AAD-8D02-88F621C9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CE8A-4AD4-47EE-8169-83749B70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FCDC1-2546-43A3-8D63-87FCCEC8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7DA2-B5DC-4D66-9D48-49AF26BC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DEA48-33D2-4F7E-859C-19E39A42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006-D80B-4353-A896-FFDE015E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F18-439B-4FAC-A348-CCB2FC20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550-2B28-4528-B4CC-60ACB6E0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EAD-7E80-437D-9727-2C6180CC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94F-3A7A-4225-94A1-C205DD25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9A9-AC7A-4ACC-9C58-F28F4D9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160" cy="6858000"/>
            <a:chOff x="-720" y="-4680"/>
            <a:chExt cx="10641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7000" cy="6857640"/>
              <a:chOff x="41400" y="-4680"/>
              <a:chExt cx="101700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4000" y="-4680"/>
                <a:ext cx="99648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49320" y="1689120"/>
                <a:ext cx="99648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4000" y="1287000"/>
                <a:ext cx="9964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49320" y="149040"/>
                <a:ext cx="99648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4000" y="984600"/>
                <a:ext cx="99648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4000" y="680040"/>
                <a:ext cx="99648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48960" y="368280"/>
                <a:ext cx="100908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400" y="3936240"/>
                <a:ext cx="996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6080" y="3533760"/>
                <a:ext cx="9964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1400" y="2391480"/>
                <a:ext cx="9964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6080" y="3230280"/>
                <a:ext cx="99648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1400" y="2923200"/>
                <a:ext cx="99648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5720" y="2617920"/>
                <a:ext cx="100908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9320" y="4966920"/>
                <a:ext cx="996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4000" y="4564440"/>
                <a:ext cx="99648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400" y="5668920"/>
                <a:ext cx="99648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70440" y="6180840"/>
                <a:ext cx="345960" cy="997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9648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5360" y="5895000"/>
                <a:ext cx="100908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1400" y="3095640"/>
              <a:ext cx="6858000" cy="65700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960" y="3272760"/>
              <a:ext cx="6856200" cy="30096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3CAA-3A5B-4A43-96B7-BC9A59B17A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BBB8-01CA-4D0B-BF30-11C948B438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-3600" y="2479320"/>
              <a:ext cx="9147240" cy="1012680"/>
              <a:chOff x="-3600" y="2479320"/>
              <a:chExt cx="9147240" cy="1012680"/>
            </a:xfrm>
          </p:grpSpPr>
          <p:sp>
            <p:nvSpPr>
              <p:cNvPr id="107" name="Freeform 4"/>
              <p:cNvSpPr/>
              <p:nvPr/>
            </p:nvSpPr>
            <p:spPr>
              <a:xfrm flipH="1" rot="5400000">
                <a:off x="4087440" y="-1572120"/>
                <a:ext cx="99180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5"/>
              <p:cNvSpPr/>
              <p:nvPr/>
            </p:nvSpPr>
            <p:spPr>
              <a:xfrm flipH="1" rot="5400000">
                <a:off x="605412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flipH="1" rot="5400000">
                <a:off x="6589800" y="265284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7"/>
              <p:cNvSpPr/>
              <p:nvPr/>
            </p:nvSpPr>
            <p:spPr>
              <a:xfrm flipH="1" rot="5400000">
                <a:off x="8240040" y="278064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8"/>
              <p:cNvSpPr/>
              <p:nvPr/>
            </p:nvSpPr>
            <p:spPr>
              <a:xfrm flipH="1" rot="5400000">
                <a:off x="7094880" y="275436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9"/>
              <p:cNvSpPr/>
              <p:nvPr/>
            </p:nvSpPr>
            <p:spPr>
              <a:xfrm flipH="1" rot="5400000">
                <a:off x="7447320" y="2700360"/>
                <a:ext cx="99180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0"/>
              <p:cNvSpPr/>
              <p:nvPr/>
            </p:nvSpPr>
            <p:spPr>
              <a:xfrm flipH="1" rot="5400000">
                <a:off x="7894080" y="2739600"/>
                <a:ext cx="1004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1"/>
              <p:cNvSpPr/>
              <p:nvPr/>
            </p:nvSpPr>
            <p:spPr>
              <a:xfrm flipH="1" rot="5400000">
                <a:off x="3057120" y="2640960"/>
                <a:ext cx="99180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2"/>
              <p:cNvSpPr/>
              <p:nvPr/>
            </p:nvSpPr>
            <p:spPr>
              <a:xfrm flipH="1" rot="5400000">
                <a:off x="3592800" y="264492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3"/>
              <p:cNvSpPr/>
              <p:nvPr/>
            </p:nvSpPr>
            <p:spPr>
              <a:xfrm flipH="1" rot="5400000">
                <a:off x="5249520" y="2772720"/>
                <a:ext cx="99180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 flipH="1" rot="5400000">
                <a:off x="4099320" y="274644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5"/>
              <p:cNvSpPr/>
              <p:nvPr/>
            </p:nvSpPr>
            <p:spPr>
              <a:xfrm flipH="1" rot="5400000">
                <a:off x="445572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16"/>
              <p:cNvSpPr/>
              <p:nvPr/>
            </p:nvSpPr>
            <p:spPr>
              <a:xfrm flipH="1" rot="5400000">
                <a:off x="4892760" y="2735640"/>
                <a:ext cx="1004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17"/>
              <p:cNvSpPr/>
              <p:nvPr/>
            </p:nvSpPr>
            <p:spPr>
              <a:xfrm flipH="1" rot="5400000">
                <a:off x="1682280" y="2648880"/>
                <a:ext cx="99180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18"/>
              <p:cNvSpPr/>
              <p:nvPr/>
            </p:nvSpPr>
            <p:spPr>
              <a:xfrm flipH="1" rot="5400000">
                <a:off x="2217960" y="265284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 flipH="1" rot="5400000">
                <a:off x="877320" y="277272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 flipH="1">
                <a:off x="-3960" y="2482920"/>
                <a:ext cx="461880" cy="9932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 flipH="1" rot="5400000">
                <a:off x="8388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 flipH="1" rot="5400000">
                <a:off x="520920" y="2735640"/>
                <a:ext cx="1004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F980-0D0E-466C-9135-3B9F9A4BD5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1182600" y="1125360"/>
            <a:ext cx="67690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蒲柳人家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5799240" y="6322320"/>
            <a:ext cx="1093680" cy="423000"/>
          </a:xfrm>
          <a:custGeom>
            <a:avLst/>
            <a:gdLst>
              <a:gd name="textAreaLeft" fmla="*/ 27360 w 1093680"/>
              <a:gd name="textAreaRight" fmla="*/ 1066320 w 10936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4418" y="1400"/>
                </a:lnTo>
                <a:lnTo>
                  <a:pt x="1400" y="1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4418" y="20200"/>
                </a:lnTo>
                <a:lnTo>
                  <a:pt x="54418" y="1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18" y="20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90a8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归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517920" y="6322320"/>
            <a:ext cx="1049400" cy="423000"/>
          </a:xfrm>
          <a:custGeom>
            <a:avLst/>
            <a:gdLst>
              <a:gd name="textAreaLeft" fmla="*/ 27360 w 1049400"/>
              <a:gd name="textAreaRight" fmla="*/ 1022040 w 10494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3559" h="21600">
                <a:moveTo>
                  <a:pt x="0" y="0"/>
                </a:moveTo>
                <a:lnTo>
                  <a:pt x="53559" y="0"/>
                </a:lnTo>
                <a:lnTo>
                  <a:pt x="53559" y="21600"/>
                </a:lnTo>
                <a:lnTo>
                  <a:pt x="0" y="21600"/>
                </a:lnTo>
                <a:close/>
              </a:path>
              <a:path fill="lightenLess" w="53559" h="21600">
                <a:moveTo>
                  <a:pt x="0" y="0"/>
                </a:moveTo>
                <a:lnTo>
                  <a:pt x="53559" y="0"/>
                </a:lnTo>
                <a:lnTo>
                  <a:pt x="52159" y="1400"/>
                </a:lnTo>
                <a:lnTo>
                  <a:pt x="1400" y="1400"/>
                </a:lnTo>
                <a:close/>
              </a:path>
              <a:path fill="darken" w="53559" h="21600">
                <a:moveTo>
                  <a:pt x="53559" y="0"/>
                </a:moveTo>
                <a:lnTo>
                  <a:pt x="53559" y="21600"/>
                </a:lnTo>
                <a:lnTo>
                  <a:pt x="52159" y="20200"/>
                </a:lnTo>
                <a:lnTo>
                  <a:pt x="52159" y="1400"/>
                </a:lnTo>
                <a:close/>
              </a:path>
              <a:path fill="darkenLess" w="53559" h="21600">
                <a:moveTo>
                  <a:pt x="53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59" y="20200"/>
                </a:lnTo>
                <a:close/>
              </a:path>
              <a:path fill="lighten" w="53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90a8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阅读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343240" y="6322320"/>
            <a:ext cx="1081080" cy="423000"/>
          </a:xfrm>
          <a:custGeom>
            <a:avLst/>
            <a:gdLst>
              <a:gd name="textAreaLeft" fmla="*/ 27360 w 1081080"/>
              <a:gd name="textAreaRight" fmla="*/ 1053720 w 10810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176" h="21600">
                <a:moveTo>
                  <a:pt x="0" y="0"/>
                </a:moveTo>
                <a:lnTo>
                  <a:pt x="55176" y="0"/>
                </a:lnTo>
                <a:lnTo>
                  <a:pt x="55176" y="21600"/>
                </a:lnTo>
                <a:lnTo>
                  <a:pt x="0" y="21600"/>
                </a:lnTo>
                <a:close/>
              </a:path>
              <a:path fill="lightenLess" w="55176" h="21600">
                <a:moveTo>
                  <a:pt x="0" y="0"/>
                </a:moveTo>
                <a:lnTo>
                  <a:pt x="55176" y="0"/>
                </a:lnTo>
                <a:lnTo>
                  <a:pt x="53776" y="1400"/>
                </a:lnTo>
                <a:lnTo>
                  <a:pt x="1400" y="1400"/>
                </a:lnTo>
                <a:close/>
              </a:path>
              <a:path fill="darken" w="55176" h="21600">
                <a:moveTo>
                  <a:pt x="55176" y="0"/>
                </a:moveTo>
                <a:lnTo>
                  <a:pt x="55176" y="21600"/>
                </a:lnTo>
                <a:lnTo>
                  <a:pt x="53776" y="20200"/>
                </a:lnTo>
                <a:lnTo>
                  <a:pt x="53776" y="1400"/>
                </a:lnTo>
                <a:close/>
              </a:path>
              <a:path fill="darkenLess" w="55176" h="21600">
                <a:moveTo>
                  <a:pt x="55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6" y="20200"/>
                </a:lnTo>
                <a:close/>
              </a:path>
              <a:path fill="lighten" w="55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90a8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知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6986520" y="6322320"/>
            <a:ext cx="1041480" cy="423000"/>
          </a:xfrm>
          <a:custGeom>
            <a:avLst/>
            <a:gdLst>
              <a:gd name="textAreaLeft" fmla="*/ 27360 w 1041480"/>
              <a:gd name="textAreaRight" fmla="*/ 1014120 w 1041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3155" h="21600">
                <a:moveTo>
                  <a:pt x="0" y="0"/>
                </a:moveTo>
                <a:lnTo>
                  <a:pt x="53155" y="0"/>
                </a:lnTo>
                <a:lnTo>
                  <a:pt x="53155" y="21600"/>
                </a:lnTo>
                <a:lnTo>
                  <a:pt x="0" y="21600"/>
                </a:lnTo>
                <a:close/>
              </a:path>
              <a:path fill="lightenLess" w="53155" h="21600">
                <a:moveTo>
                  <a:pt x="0" y="0"/>
                </a:moveTo>
                <a:lnTo>
                  <a:pt x="53155" y="0"/>
                </a:lnTo>
                <a:lnTo>
                  <a:pt x="51755" y="1400"/>
                </a:lnTo>
                <a:lnTo>
                  <a:pt x="1400" y="1400"/>
                </a:lnTo>
                <a:close/>
              </a:path>
              <a:path fill="darken" w="53155" h="21600">
                <a:moveTo>
                  <a:pt x="53155" y="0"/>
                </a:moveTo>
                <a:lnTo>
                  <a:pt x="53155" y="21600"/>
                </a:lnTo>
                <a:lnTo>
                  <a:pt x="51755" y="20200"/>
                </a:lnTo>
                <a:lnTo>
                  <a:pt x="51755" y="1400"/>
                </a:lnTo>
                <a:close/>
              </a:path>
              <a:path fill="darkenLess" w="53155" h="21600">
                <a:moveTo>
                  <a:pt x="53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5" y="20200"/>
                </a:lnTo>
                <a:close/>
              </a:path>
              <a:path fill="lighten" w="53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90a8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660920" y="6164640"/>
            <a:ext cx="1041480" cy="737640"/>
          </a:xfrm>
          <a:custGeom>
            <a:avLst/>
            <a:gdLst>
              <a:gd name="textAreaLeft" fmla="*/ 47520 w 1041480"/>
              <a:gd name="textAreaRight" fmla="*/ 993960 w 104148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30493" h="21600">
                <a:moveTo>
                  <a:pt x="0" y="0"/>
                </a:moveTo>
                <a:lnTo>
                  <a:pt x="30493" y="0"/>
                </a:lnTo>
                <a:lnTo>
                  <a:pt x="30493" y="21600"/>
                </a:lnTo>
                <a:lnTo>
                  <a:pt x="0" y="21600"/>
                </a:lnTo>
                <a:close/>
              </a:path>
              <a:path fill="lightenLess" w="30493" h="21600">
                <a:moveTo>
                  <a:pt x="0" y="0"/>
                </a:moveTo>
                <a:lnTo>
                  <a:pt x="30493" y="0"/>
                </a:lnTo>
                <a:lnTo>
                  <a:pt x="29093" y="1400"/>
                </a:lnTo>
                <a:lnTo>
                  <a:pt x="1400" y="1400"/>
                </a:lnTo>
                <a:close/>
              </a:path>
              <a:path fill="darken" w="30493" h="21600">
                <a:moveTo>
                  <a:pt x="30493" y="0"/>
                </a:moveTo>
                <a:lnTo>
                  <a:pt x="30493" y="21600"/>
                </a:lnTo>
                <a:lnTo>
                  <a:pt x="29093" y="20200"/>
                </a:lnTo>
                <a:lnTo>
                  <a:pt x="29093" y="1400"/>
                </a:lnTo>
                <a:close/>
              </a:path>
              <a:path fill="darkenLess" w="30493" h="21600">
                <a:moveTo>
                  <a:pt x="3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3" y="20200"/>
                </a:lnTo>
                <a:close/>
              </a:path>
              <a:path fill="lighten" w="3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90a8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阅读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1157400" y="6322320"/>
            <a:ext cx="1093680" cy="423000"/>
          </a:xfrm>
          <a:custGeom>
            <a:avLst/>
            <a:gdLst>
              <a:gd name="textAreaLeft" fmla="*/ 27360 w 1093680"/>
              <a:gd name="textAreaRight" fmla="*/ 1066320 w 10936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818" h="21600">
                <a:moveTo>
                  <a:pt x="0" y="0"/>
                </a:moveTo>
                <a:lnTo>
                  <a:pt x="55818" y="0"/>
                </a:lnTo>
                <a:lnTo>
                  <a:pt x="55818" y="21600"/>
                </a:lnTo>
                <a:lnTo>
                  <a:pt x="0" y="21600"/>
                </a:lnTo>
                <a:close/>
              </a:path>
              <a:path fill="lightenLess" w="55818" h="21600">
                <a:moveTo>
                  <a:pt x="0" y="0"/>
                </a:moveTo>
                <a:lnTo>
                  <a:pt x="55818" y="0"/>
                </a:lnTo>
                <a:lnTo>
                  <a:pt x="54418" y="1400"/>
                </a:lnTo>
                <a:lnTo>
                  <a:pt x="1400" y="1400"/>
                </a:lnTo>
                <a:close/>
              </a:path>
              <a:path fill="darken" w="55818" h="21600">
                <a:moveTo>
                  <a:pt x="55818" y="0"/>
                </a:moveTo>
                <a:lnTo>
                  <a:pt x="55818" y="21600"/>
                </a:lnTo>
                <a:lnTo>
                  <a:pt x="54418" y="20200"/>
                </a:lnTo>
                <a:lnTo>
                  <a:pt x="54418" y="1400"/>
                </a:lnTo>
                <a:close/>
              </a:path>
              <a:path fill="darkenLess" w="55818" h="21600">
                <a:moveTo>
                  <a:pt x="55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18" y="20200"/>
                </a:lnTo>
                <a:close/>
              </a:path>
              <a:path fill="lighten" w="55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90a8"/>
          </a:solidFill>
          <a:ln w="936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图片 1" descr=""/>
          <p:cNvPicPr/>
          <p:nvPr/>
        </p:nvPicPr>
        <p:blipFill>
          <a:blip r:embed="rId1"/>
          <a:stretch/>
        </p:blipFill>
        <p:spPr>
          <a:xfrm>
            <a:off x="2214720" y="3313080"/>
            <a:ext cx="4535280" cy="300528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6155"/>
          <p:cNvSpPr/>
          <p:nvPr/>
        </p:nvSpPr>
        <p:spPr>
          <a:xfrm>
            <a:off x="108000" y="5805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本文是什么文体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小说（中篇小说节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原文共</a:t>
            </a:r>
            <a:r>
              <a:rPr b="1" lang="en-US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节，课文节选的是第</a:t>
            </a:r>
            <a:r>
              <a:rPr b="1" lang="en-US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课文主要写了哪几个人物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何满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何满子的奶奶，一丈青大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何满子的爷爷何，大学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文本框 8198"/>
          <p:cNvSpPr/>
          <p:nvPr/>
        </p:nvSpPr>
        <p:spPr>
          <a:xfrm>
            <a:off x="755640" y="13399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还涉及到哪几个人物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844280"/>
            <a:ext cx="820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东隔壁的望日莲姑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纤夫和船老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摆渡船的柳罐斗，钉掌铺的吉老秤，老木匠郑端午，开小店的花鞋杜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何满子的父亲、母亲、书铺掌柜（姥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老秀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在通州潞河中学念书的周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文章写的是什么时候的事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1936</a:t>
            </a: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将文章分为两部分，怎样分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原文为两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第一节写何满子的奶奶一丈青大娘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（开头到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一点也没有写字的兴致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第二节写何满子的爷爷何大学问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何满子的爷爷，官讳已不可考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到完）</a:t>
            </a: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5327640" cy="19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对照课文，你觉得这张插图画得像何满子吗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44920" y="3430440"/>
            <a:ext cx="5400720" cy="18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cc"/>
                </a:solidFill>
                <a:latin typeface="Arial"/>
                <a:ea typeface="楷体_GB2312"/>
              </a:rPr>
              <a:t>说像与不像都应说出理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Object 10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2600280" cy="2695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晒得两道眉毛只剩下淡淡的痕影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”</a:t>
            </a:r>
            <a:br>
              <a:rPr sz="4000"/>
            </a:b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意在表现什么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59080" y="3075120"/>
            <a:ext cx="380988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表现晒得很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Object 7" descr=""/>
          <p:cNvPicPr/>
          <p:nvPr/>
        </p:nvPicPr>
        <p:blipFill>
          <a:blip r:embed="rId1"/>
          <a:stretch/>
        </p:blipFill>
        <p:spPr>
          <a:xfrm>
            <a:off x="1530360" y="2282760"/>
            <a:ext cx="263844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9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一交立夏就光屁股”，</a:t>
            </a:r>
            <a:br>
              <a:rPr sz="4000"/>
            </a:b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对此有同学说：真不文明！</a:t>
            </a:r>
            <a:br>
              <a:rPr sz="4000"/>
            </a:b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你的意见是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——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173240" y="343044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老师意见：真实地写出了那个时代农村小朋友的特点，极富乡土特色和生活气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何满子在文章中起什么作用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35440" y="2661840"/>
            <a:ext cx="510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是小说的主要线索人物，作者通过这样一个机灵顽皮、充满稚气的孩子的眼睛，串起整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Object 7" descr=""/>
          <p:cNvPicPr/>
          <p:nvPr/>
        </p:nvPicPr>
        <p:blipFill>
          <a:blip r:embed="rId1"/>
          <a:stretch/>
        </p:blipFill>
        <p:spPr>
          <a:xfrm>
            <a:off x="349200" y="2062080"/>
            <a:ext cx="263844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页脚占位符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阅读</a:t>
            </a:r>
            <a:r>
              <a:rPr b="1" lang="zh-CN" sz="6000" spc="-1" strike="noStrike">
                <a:solidFill>
                  <a:srgbClr val="990000"/>
                </a:solidFill>
                <a:latin typeface="Times New Roman"/>
                <a:ea typeface="方正琥珀简体"/>
              </a:rPr>
              <a:t>“</a:t>
            </a:r>
            <a:r>
              <a:rPr b="1" lang="zh-CN" sz="6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一丈青大娘</a:t>
            </a:r>
            <a:r>
              <a:rPr b="1" lang="zh-CN" sz="6000" spc="-1" strike="noStrike">
                <a:solidFill>
                  <a:srgbClr val="990000"/>
                </a:solidFill>
                <a:latin typeface="Times New Roman"/>
                <a:ea typeface="方正琥珀简体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7" descr="34_3106"/>
          <p:cNvPicPr/>
          <p:nvPr/>
        </p:nvPicPr>
        <p:blipFill>
          <a:blip r:embed="rId1"/>
          <a:stretch/>
        </p:blipFill>
        <p:spPr>
          <a:xfrm>
            <a:off x="1380960" y="2757600"/>
            <a:ext cx="6382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88620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方正琥珀简体"/>
                <a:ea typeface="方正琥珀简体"/>
              </a:rPr>
              <a:t>作者：</a:t>
            </a:r>
            <a:br>
              <a:rPr sz="5400"/>
            </a:br>
            <a:r>
              <a:rPr b="0" lang="zh-CN" sz="5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刘绍棠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90720" y="3276360"/>
            <a:ext cx="259056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1936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Arial"/>
              </a:rPr>
              <a:t>当代作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Arial"/>
              </a:rPr>
              <a:t>河北通县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刘绍棠"/>
          <p:cNvPicPr/>
          <p:nvPr/>
        </p:nvPicPr>
        <p:blipFill>
          <a:blip r:embed="rId1"/>
          <a:stretch/>
        </p:blipFill>
        <p:spPr>
          <a:xfrm>
            <a:off x="3635280" y="1413000"/>
            <a:ext cx="4878360" cy="358596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8" descr="023"/>
          <p:cNvPicPr/>
          <p:nvPr/>
        </p:nvPicPr>
        <p:blipFill>
          <a:blip r:embed="rId1"/>
          <a:stretch/>
        </p:blipFill>
        <p:spPr>
          <a:xfrm>
            <a:off x="6681960" y="647640"/>
            <a:ext cx="246204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1143000"/>
            <a:ext cx="561528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何满子的奶奶，人人都管她叫一丈青大娘。</a:t>
            </a:r>
            <a:br>
              <a:rPr sz="2800"/>
            </a:b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你知道“一丈青”出自何处、有什么含义吗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4040" y="3500280"/>
            <a:ext cx="808668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  <a:ea typeface="楷体_GB2312"/>
              </a:rPr>
              <a:t>水浒传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  <a:ea typeface="楷体_GB2312"/>
              </a:rPr>
              <a:t>中扈三娘的外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  <a:ea typeface="楷体_GB2312"/>
              </a:rPr>
              <a:t>至于有什么含义，请看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  <a:ea typeface="楷体_GB2312"/>
              </a:rPr>
              <a:t>水浒传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第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46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回　扑天雕两修生死书　宋公明一打祝家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第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47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回　一丈青单捉王矮虎　宋公明二打祝家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第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49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回　吴学究双掌连环计　宋公明三打祝家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rojctor.wav"/>
      </p:stSnd>
    </p:sndAc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7248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何满子的奶奶为什么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号称“一丈青大娘”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318680" y="2465280"/>
            <a:ext cx="74790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奶奶一丈青大娘个高脚大，身强体健，性格豪爽，爱打抱不平，这种女中豪杰的形象，与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水浒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中的著名女将一丈青扈三娘颇为神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写一丈青大娘“一双大脚”有什么文化内涵？单单是表现她脚大吗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旧时封建礼法要求女子裹脚，而不裹脚者，一般是有反叛精神，不受封建礼法约束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这和她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一丈青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的外号是一致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701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你觉得关于一丈青大娘的哪些文字富有鲜明的个性特点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一丈青大娘骂人，就像雨打芭蕉，长短句，四六体，鼓点似的骂一天，一气呵成，也不倒嗓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她也能打架，动起手来，别看五六十岁了，三五个大小伙子不够她打一锅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一丈青大娘勃然大怒，老大一个耳刮子抢圆了扇过去；那个年轻的纤夫就像风吹乍篷，转了三转，拧了三圈儿，满脸开花，口鼻出血，一头栽倒在滚烫的沙滩上，紧一口慢一口倒气，高一声低一声呻吟。几个纤夫见他们的伙伴挨了打，唿哨而上；只听咯吧一声，一丈青大娘折断了一棵茶碗口粗细的河柳，带着呼呼风声挥舞起来，把这几个纤夫扫下河去，就像正月十五煮元宵，纷纷落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89240" y="587160"/>
            <a:ext cx="734040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续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600200" y="1125000"/>
            <a:ext cx="7182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别看一丈青大娘能镇八方，她可管不了何满子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何满子是一丈青大娘的心尖子，肺叶子，眼珠子，命根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何满子在奶奶身边长大，要天上的星星，奶奶也赶快搬梯子去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奶奶八样不放心，怕让狗咬了，怕让鹰抓了，怕掉在土井子里，怕给拍花子的拐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等到天黑回家去，奶奶抄起顶门杠子，要敲碎何满子的光葫芦头；何满子一动不动，眼皮眨也不眨，奶奶只得把顶门杠子一扔，叫了声：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小祖宗儿！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回到屋里给孙子做好吃的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7"/>
          <p:cNvSpPr txBox="1"/>
          <p:nvPr/>
        </p:nvSpPr>
        <p:spPr>
          <a:xfrm>
            <a:off x="1828800" y="2205000"/>
            <a:ext cx="54864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反复读一读  读出其中滋味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页脚占位符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066680" y="2286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一丈青大娘性格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1752480"/>
            <a:ext cx="77724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泼辣大胆　刚直不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性格豪爽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口苦心甜　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热情正直　淳厚朴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阅读</a:t>
            </a:r>
            <a:r>
              <a:rPr b="0" lang="zh-CN" sz="6000" spc="-1" strike="noStrike">
                <a:solidFill>
                  <a:srgbClr val="990000"/>
                </a:solidFill>
                <a:latin typeface="Times New Roman"/>
                <a:ea typeface="方正琥珀简体"/>
              </a:rPr>
              <a:t>“</a:t>
            </a:r>
            <a:r>
              <a:rPr b="0" lang="zh-CN" sz="6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何大学问</a:t>
            </a:r>
            <a:r>
              <a:rPr b="0" lang="zh-CN" sz="6000" spc="-1" strike="noStrike">
                <a:solidFill>
                  <a:srgbClr val="990000"/>
                </a:solidFill>
                <a:latin typeface="Times New Roman"/>
                <a:ea typeface="方正琥珀简体"/>
              </a:rPr>
              <a:t>”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8" descr="34_3106"/>
          <p:cNvPicPr/>
          <p:nvPr/>
        </p:nvPicPr>
        <p:blipFill>
          <a:blip r:embed="rId1"/>
          <a:stretch/>
        </p:blipFill>
        <p:spPr>
          <a:xfrm>
            <a:off x="1380960" y="2757600"/>
            <a:ext cx="6382080" cy="2562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95280" y="9950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何大学问的相貌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——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73240" y="2636640"/>
            <a:ext cx="777240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何大学问人高马大，膀阔腰圆，面如重枣，浓眉朗目，一副关公相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707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何大学问的经历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——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73240" y="2374560"/>
            <a:ext cx="777240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年轻的时候，当过义和团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给地主家当赶车把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改了行，给牲口贩子赶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何大学问的性格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——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他又好喝酒，脾气大，爱打抱不平，为朋友敢两肋插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不知道钱是好的，伙友们有谁家揭不开锅，沿路上遇见老、弱、病、残，伸手就掏荷包</a:t>
            </a:r>
            <a:r>
              <a:rPr b="1" lang="en-US" sz="40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好戴高帽儿，讲排场，摆阔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4038120"/>
            <a:ext cx="3168720" cy="155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刘绍棠：</a:t>
            </a:r>
            <a:br>
              <a:rPr sz="4400"/>
            </a:b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文坛奇人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636720" y="833040"/>
            <a:ext cx="53276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1949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年（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岁）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读中学时开始发表短篇小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1951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年（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岁）到河北文联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1952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年（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岁）发表短篇小说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青枝绿叶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，并选入中学语文课本，被称为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神童作家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1954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年入北大中文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1956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年入中国作家协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1957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年划为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右派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， 中断写作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刘绍棠年轻时"/>
          <p:cNvPicPr/>
          <p:nvPr/>
        </p:nvPicPr>
        <p:blipFill>
          <a:blip r:embed="rId1"/>
          <a:stretch/>
        </p:blipFill>
        <p:spPr>
          <a:xfrm>
            <a:off x="684360" y="476280"/>
            <a:ext cx="237492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936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为什么叫“何大学问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09480" y="1628280"/>
            <a:ext cx="81727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在这个小村，数他走的地方多，见的世面广；</a:t>
            </a:r>
            <a:r>
              <a:rPr b="1" lang="en-US" sz="40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他这个人非常富有想象力，编起故事来，有技有叶，有文有武，生动曲折，惊险红火。于是，人们一半是戏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楷体_GB2312"/>
              </a:rPr>
              <a:t>谑</a:t>
            </a: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，一半是尊敬，就给他送了个何大学问的外号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5651640" y="5445000"/>
            <a:ext cx="1728720" cy="792360"/>
          </a:xfrm>
          <a:prstGeom prst="wedgeRoundRectCallout">
            <a:avLst>
              <a:gd name="adj1" fmla="val -36226"/>
              <a:gd name="adj2" fmla="val -153208"/>
              <a:gd name="adj3" fmla="val 16667"/>
            </a:avLst>
          </a:prstGeom>
          <a:solidFill>
            <a:srgbClr val="ffffcc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xu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文本框 8198"/>
          <p:cNvSpPr/>
          <p:nvPr/>
        </p:nvSpPr>
        <p:spPr>
          <a:xfrm>
            <a:off x="1116000" y="404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5724360" y="260280"/>
            <a:ext cx="2016360" cy="1067040"/>
          </a:xfrm>
          <a:prstGeom prst="wedgeRoundRectCallout">
            <a:avLst>
              <a:gd name="adj1" fmla="val 32754"/>
              <a:gd name="adj2" fmla="val 81398"/>
              <a:gd name="adj3" fmla="val 16667"/>
            </a:avLst>
          </a:prstGeom>
          <a:solidFill>
            <a:srgbClr val="ffffcc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yī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539640" y="5157720"/>
            <a:ext cx="2016360" cy="1067040"/>
          </a:xfrm>
          <a:prstGeom prst="wedgeRoundRectCallout">
            <a:avLst>
              <a:gd name="adj1" fmla="val 43699"/>
              <a:gd name="adj2" fmla="val -144194"/>
              <a:gd name="adj3" fmla="val 16667"/>
            </a:avLst>
          </a:prstGeom>
          <a:solidFill>
            <a:srgbClr val="ffffcc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y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0"/>
          <p:cNvSpPr/>
          <p:nvPr/>
        </p:nvSpPr>
        <p:spPr>
          <a:xfrm>
            <a:off x="3564000" y="5157720"/>
            <a:ext cx="2016000" cy="1067040"/>
          </a:xfrm>
          <a:prstGeom prst="wedgeRoundRectCallout">
            <a:avLst>
              <a:gd name="adj1" fmla="val 16773"/>
              <a:gd name="adj2" fmla="val -147319"/>
              <a:gd name="adj3" fmla="val 16667"/>
            </a:avLst>
          </a:prstGeom>
          <a:solidFill>
            <a:srgbClr val="ffffcc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hā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5580000" y="5157720"/>
            <a:ext cx="2016360" cy="1067040"/>
          </a:xfrm>
          <a:prstGeom prst="wedgeRoundRectCallout">
            <a:avLst>
              <a:gd name="adj1" fmla="val -57717"/>
              <a:gd name="adj2" fmla="val -182143"/>
              <a:gd name="adj3" fmla="val 16667"/>
            </a:avLst>
          </a:prstGeom>
          <a:solidFill>
            <a:srgbClr val="ffffcc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tā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388880" y="2006640"/>
            <a:ext cx="754524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过去，他好听书，也会说书；在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荣膺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这个尊称之后，当真看起书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路遇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文庙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，他都要下马，作个大揖，上一股高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小城镇的文庙十有八九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坍塌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破败，只剩下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断壁残垣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，埋没于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蓬蒿荆棘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之中，成为鸟兽栖聚之地；他这一作揖，一烧香，只吓得麻雀满天飞叫，野兔望影而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琥珀简体"/>
              </a:rPr>
              <a:t>参照注释了解加红色的词语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琥珀简体"/>
              </a:rPr>
              <a:t>及历史背景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7720" y="1773000"/>
            <a:ext cx="7766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楷体_GB2312"/>
              </a:rPr>
              <a:t>妈的，我差一点儿扔了这把老骨头，你还咒我！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楷体_GB2312"/>
              </a:rPr>
              <a:t>这一回吵架，爷爷却不肯向奶奶低头服软儿，忍气吞声，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楷体_GB2312"/>
              </a:rPr>
              <a:t>日本鬼子把咱们中国大卸八块啦！先在东三省立了个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小宣统的满洲国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楷体_GB2312"/>
              </a:rPr>
              <a:t>，又在口外立了个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德王的蒙疆政府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楷体_GB2312"/>
              </a:rPr>
              <a:t>，往后没有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殷汝耕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楷体_GB2312"/>
              </a:rPr>
              <a:t>的公文护照，不许出口一步。这一趟，蒙疆军把我跟掌柜的扣住，硬说我们是共产党，不过是为了没收那几百匹马。掌柜的在牢房里上吊了，他们看我是个榨不出油水的穷光蛋，白吃他们的狱粮不上算，才把我放了。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8960" y="701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琥珀简体"/>
              </a:rPr>
              <a:t>注音，理解加红色的词语，参照注释了解关于“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方正琥珀简体"/>
              </a:rPr>
              <a:t>石敬塘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琥珀简体"/>
              </a:rPr>
              <a:t>的典故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2195640" y="836640"/>
            <a:ext cx="2016000" cy="1066680"/>
          </a:xfrm>
          <a:prstGeom prst="wedgeRoundRectCallout">
            <a:avLst>
              <a:gd name="adj1" fmla="val 37009"/>
              <a:gd name="adj2" fmla="val 163245"/>
              <a:gd name="adj3" fmla="val 16667"/>
            </a:avLst>
          </a:prstGeom>
          <a:solidFill>
            <a:srgbClr val="ffffcc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hò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6227640" y="5805360"/>
            <a:ext cx="1727280" cy="863640"/>
          </a:xfrm>
          <a:prstGeom prst="wedgeRoundRectCallout">
            <a:avLst>
              <a:gd name="adj1" fmla="val -114888"/>
              <a:gd name="adj2" fmla="val -185662"/>
              <a:gd name="adj3" fmla="val 16667"/>
            </a:avLst>
          </a:prstGeom>
          <a:solidFill>
            <a:srgbClr val="ffffcc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q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í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440" y="1844280"/>
            <a:ext cx="80629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何满子听不大懂，可是他听说过殷汝耕这个名字。去年冬天，一个下大雪的日子，乡下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哄</a:t>
            </a: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传殷汝耕在通州坐了龙庭，另立国号，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天怒人怨</a:t>
            </a: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，大地穿白挂孝。寒假里周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檎</a:t>
            </a: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回来，大骂殷汝耕是儿皇帝，管殷汝耕叫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石敬塘</a:t>
            </a: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，还给何满子讲了一段五代残唐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71629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开头写：</a:t>
            </a:r>
            <a:br>
              <a:rPr sz="3600"/>
            </a:b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何满子被爷爷拴在葡萄架的立柱上，系的是挂贼扣儿。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爷爷为什么要这样做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90360" y="3428640"/>
            <a:ext cx="7862760" cy="24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日本鬼子把咱们中国大卸八块啦，爷爷坐了牢，还险些扔了命，把满腔怒火发泄到他身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归纳    复习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AutoShape 102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102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102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1032" descr="34_3106"/>
          <p:cNvPicPr/>
          <p:nvPr/>
        </p:nvPicPr>
        <p:blipFill>
          <a:blip r:embed="rId1"/>
          <a:stretch/>
        </p:blipFill>
        <p:spPr>
          <a:xfrm>
            <a:off x="1380960" y="2757600"/>
            <a:ext cx="6382080" cy="2562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１</a:t>
            </a: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日本鬼子把咱们中国大卸八块啦！</a:t>
            </a:r>
            <a:br>
              <a:rPr sz="3600"/>
            </a:b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２</a:t>
            </a: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日本帝国主义侵占我们东三省了！</a:t>
            </a:r>
            <a:br>
              <a:rPr sz="4000"/>
            </a:b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你认为这两种说法哪个更好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8000" y="2637000"/>
            <a:ext cx="84582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两种说法各有长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前者生动形象，富有民间口语与俗语特点，充满乡土气息，也符合何大学问的身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后者有书面特点，适于比较郑重的叙述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中还有哪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富于民间口语与俗语特点的句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68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活灵活现的民间口语与俗语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9280" y="1913040"/>
            <a:ext cx="80629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楷体_GB2312"/>
              </a:rPr>
              <a:t>何满子在奶奶身边长大，要天上的星星，奶奶也赶快搬梯子去摘。长到四五岁，就像野鸟不入笼，一天不着家，整日在河滩野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楷体_GB2312"/>
              </a:rPr>
              <a:t>奶奶八样不放心，怕让狗咬了，怕让鹰抓了，怕掉在土井子里，怕给拍花子的拐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楷体_GB2312"/>
              </a:rPr>
              <a:t>何满子是一丈青大娘的心尖子，肺叶子，眼珠子，命根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楷体_GB2312"/>
              </a:rPr>
              <a:t>只听咯吧一声，一丈青大娘折断了一棵茶碗口粗细的河柳，带着呼呼风声挥舞起来，把这几个纤夫扫下河去，就像正月十五煮元宵，纷纷落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WordArt 7"/>
          <p:cNvSpPr txBox="1"/>
          <p:nvPr/>
        </p:nvSpPr>
        <p:spPr>
          <a:xfrm>
            <a:off x="1371600" y="1179360"/>
            <a:ext cx="6400800" cy="7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朗读这些文句就是一种精神享受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活灵活现的民间口语与俗语２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90360" y="1483920"/>
            <a:ext cx="7791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如果提起他的外号，北运河两岸，古北口内外，在卖力气走江湖的人们中间，那可真是叫得山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年轻的时候，当过义和团，会耍大刀，拳脚上也有两下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他给地主家当赶车把式，会摆弄牲口，打一手好鞭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他这个人好说大话，自吹站在通州东门外的北运河头，抽一个响脆的鞭花，借着水音，天津海河边上都震耳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WordArt 7"/>
          <p:cNvSpPr txBox="1"/>
          <p:nvPr/>
        </p:nvSpPr>
        <p:spPr>
          <a:xfrm>
            <a:off x="5796000" y="5734080"/>
            <a:ext cx="298440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朗读 品出其中滋味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745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活灵活现的民间口语与俗语３：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7720" y="1484280"/>
            <a:ext cx="79441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cc"/>
                </a:solidFill>
                <a:latin typeface="Arial"/>
                <a:ea typeface="楷体_GB2312"/>
              </a:rPr>
              <a:t>他这个人，不知道钱是好的，伙友们有谁家揭不开锅，沿路上遇见老、弱、病、残，伸手就掏荷包，抓多少就给多少，也不点数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cc"/>
                </a:solidFill>
                <a:latin typeface="Arial"/>
                <a:ea typeface="楷体_GB2312"/>
              </a:rPr>
              <a:t>掂量一下自己这点财力，供他念完小学，已经是鼓着肚子充胖；而中学大学的门槛九丈九尺高，没有白花花的银洋砌台阶，怎么能高攀得上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cc"/>
                </a:solidFill>
                <a:latin typeface="Arial"/>
                <a:ea typeface="楷体_GB2312"/>
              </a:rPr>
              <a:t>何大学问一走，何满子就像野马摘了笼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cc"/>
                </a:solidFill>
                <a:latin typeface="Arial"/>
                <a:ea typeface="楷体_GB2312"/>
              </a:rPr>
              <a:t>何满子对爷爷心怀不满，拿白眼珠儿翻瞪爷爷，闷坐在窗根下，小嘴噘得能挂个油瓶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WordArt 7"/>
          <p:cNvSpPr txBox="1"/>
          <p:nvPr/>
        </p:nvSpPr>
        <p:spPr>
          <a:xfrm>
            <a:off x="5796000" y="5734080"/>
            <a:ext cx="298440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朗读 品出其中滋味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random/>
    <p:sndAc>
      <p:stSnd>
        <p:snd r:embed="rId3" name="projctor.wav"/>
      </p:stSnd>
    </p:sndAc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792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1979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年平反后发表大量作品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4920" y="148428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《蒲柳人家》获得全国优秀中篇小说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《峨眉》获得全国优秀短篇奖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《京门脸子》获得北京优秀长篇小说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《敬柳亭说书》获得首届中国大众文学优秀长篇小说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《黄花闺女池塘》获得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年代优秀小说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8"/>
          <p:cNvSpPr txBox="1"/>
          <p:nvPr/>
        </p:nvSpPr>
        <p:spPr>
          <a:xfrm>
            <a:off x="1143000" y="5146560"/>
            <a:ext cx="685800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孙犁之后“荷花淀派”的代表人物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410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文中也有一些书面色彩很浓的句子：</a:t>
            </a:r>
            <a:br>
              <a:rPr sz="4000"/>
            </a:b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１</a:t>
            </a: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何满子的爷爷，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官讳</a:t>
            </a: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已不可考。</a:t>
            </a:r>
            <a:br>
              <a:rPr sz="3600"/>
            </a:b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２</a:t>
            </a: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荣膺</a:t>
            </a: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这个尊称之后</a:t>
            </a:r>
            <a:r>
              <a:rPr b="1" lang="en-US" sz="3600" spc="-1" strike="noStrike">
                <a:solidFill>
                  <a:srgbClr val="3366cc"/>
                </a:solidFill>
                <a:latin typeface="Times New Roman"/>
              </a:rPr>
              <a:t>……</a:t>
            </a:r>
            <a:br>
              <a:rPr sz="3600"/>
            </a:b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这是为什么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173240" y="379044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两种色彩的语言有机结合，给小说增添了幽默诙谐色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71629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何大学问人高马大，膀阔腰圆，面如重枣，浓眉朗目，一副关公相貌。</a:t>
            </a:r>
            <a:br>
              <a:rPr sz="3600"/>
            </a:b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这样的句子有什么特点？</a:t>
            </a:r>
            <a:br>
              <a:rPr sz="4400"/>
            </a:b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文中还有这样的句子吗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250640" y="3906720"/>
            <a:ext cx="768204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Arial"/>
                <a:ea typeface="楷体_GB2312"/>
              </a:rPr>
              <a:t>继承了中国传统说唱艺术的特点，讲究压韵和对偶，多用四字句，用词造句文白相兼，读来抑扬顿挫，很有节奏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8960" y="772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讲究压韵和对偶，抑扬顿挫，</a:t>
            </a:r>
            <a:br>
              <a:rPr sz="4000"/>
            </a:b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有传统说唱艺术特点的句子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388880" y="2400480"/>
            <a:ext cx="7545240" cy="36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一双大脚，青铜肤色，嗓门也亮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一丈青大娘骂人，就像雨打芭蕉，长短句，四六体，鼓点似的骂一天，一气呵成，也不倒嗓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那个年轻的纤夫就像风吹乍蓬，转了三转，拧了三圈儿，满脸开花，口鼻出血，一头栽倒在滚烫的沙滩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753840"/>
            <a:ext cx="771552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686d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2d686d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2d686d"/>
                </a:solidFill>
                <a:latin typeface="Times New Roman"/>
              </a:rPr>
              <a:t>水浒传</a:t>
            </a:r>
            <a:r>
              <a:rPr b="1" lang="en-US" sz="2800" spc="-1" strike="noStrike">
                <a:solidFill>
                  <a:srgbClr val="2d686d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2d686d"/>
                </a:solidFill>
                <a:latin typeface="Times New Roman"/>
              </a:rPr>
              <a:t>中宋江、吴用、李逵外号叫做“及时雨”“智多星”“黑旋风”。</a:t>
            </a:r>
            <a:br>
              <a:rPr sz="2800"/>
            </a:br>
            <a:r>
              <a:rPr b="1" lang="zh-CN" sz="2800" spc="-1" strike="noStrike">
                <a:solidFill>
                  <a:srgbClr val="2d686d"/>
                </a:solidFill>
                <a:latin typeface="Times New Roman"/>
              </a:rPr>
              <a:t>        课文中何满子的奶奶号称“一丈青大娘”，爷爷号称“何大学问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两者之间有什么联系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388880" y="3643200"/>
            <a:ext cx="754524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这篇小说塑造人物上借鉴了中国古典小说的表现手法。这是刘绍棠的创作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WordArt 7" descr=""/>
          <p:cNvPicPr/>
          <p:nvPr/>
        </p:nvPicPr>
        <p:blipFill>
          <a:blip r:embed="rId1"/>
          <a:stretch/>
        </p:blipFill>
        <p:spPr>
          <a:xfrm>
            <a:off x="1714680" y="4646520"/>
            <a:ext cx="4749480" cy="147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读一读　写一写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擀　嘬　剜　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腌臜　倒气　呼哨　隐匿　荣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一气呵成　妙手回春　断壁残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如坐针毡　芒刺在背　天伦之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  <a:ea typeface="楷体_GB2312"/>
              </a:rPr>
              <a:t>影影绰绰　望眼欲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扩展　迁移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10" descr="34_3106"/>
          <p:cNvPicPr/>
          <p:nvPr/>
        </p:nvPicPr>
        <p:blipFill>
          <a:blip r:embed="rId1"/>
          <a:stretch/>
        </p:blipFill>
        <p:spPr>
          <a:xfrm>
            <a:off x="1380960" y="2757600"/>
            <a:ext cx="6382080" cy="2562120"/>
          </a:xfrm>
          <a:prstGeom prst="rect">
            <a:avLst/>
          </a:prstGeom>
          <a:ln w="0">
            <a:noFill/>
          </a:ln>
        </p:spPr>
      </p:pic>
      <p:sp>
        <p:nvSpPr>
          <p:cNvPr id="453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projctor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532640" cy="24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cc"/>
                </a:solidFill>
                <a:latin typeface="Times New Roman"/>
              </a:rPr>
              <a:t>现在，只有一个人能搭救何满子；但是，何满子望眼欲穿，这颗救命星却迟迟不从东边闪现出来。</a:t>
            </a:r>
            <a:br>
              <a:rPr sz="3600"/>
            </a:b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这个“救命星”是谁呢？</a:t>
            </a:r>
            <a:br>
              <a:rPr sz="3600"/>
            </a:b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后文写的是什么事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85440" y="3429000"/>
            <a:ext cx="8062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花鞋杜四家的童养媳望日莲与周檎相爱，巡警麻雷子勾结杜四，要把望日莲卖给董太师做小，并要以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抗日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楷体_GB2312"/>
              </a:rPr>
              <a:t>的罪名把周檎抓走</a:t>
            </a:r>
            <a:r>
              <a:rPr b="1" lang="en-US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欲知后事如何，请看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蒲柳人家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原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页脚占位符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1066680" y="9144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蒲柳人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》是当代作家刘绍棠的代表作，发表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曾以其独特的创作风格引起当时文坛的广泛关注，并获首届全国优秀中篇小说奖。小说人物众多，但主线情节并不复杂。故事背景发生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，花鞋杜四家的童养媳望日莲与周檎相爱，可阴险邪恶的杜四夫妇另有打算。半路又杀出巡警麻雷子，勾结杜四，要把望日莲卖给董太师做小，并要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罪名把周檎抓走。于是，矛盾激化，以何大学问．一丈青大娘．柳罐斗．吉老秤等为首的父老乡亲一齐出面，挫败麻、杜阴谋、檎、莲顺利完婚。全篇小说共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记述了运河边十来个乡间人物的逸闻趣事，表现了他们的多情重义．锄奸助良．扶危济困的美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4A0F-8A08-4DB1-A48C-7F0E73A58A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556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d686d"/>
                </a:solidFill>
                <a:latin typeface="Times New Roman"/>
                <a:ea typeface="华文彩云"/>
              </a:rPr>
              <a:t>扩展阅读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173240" y="2112480"/>
            <a:ext cx="77724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这篇小说借鉴了中国传统小说和评书艺术的表现手法，具有浓郁的民族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外阅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游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及评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侠五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岳全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体会本文与它们之间的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85840" y="91728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刘绍棠的创作风格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73240" y="2925720"/>
            <a:ext cx="777384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刘绍棠将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荷花淀派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的柔媚、清丽之美与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燕赵文化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的阳刚、劲健之美很好地结合在一起，建立了独具风采的大运河乡土文学体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全部著作共</a:t>
            </a:r>
            <a:r>
              <a:rPr b="1" lang="en-US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种，约</a:t>
            </a:r>
            <a:r>
              <a:rPr b="1" lang="en-US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700</a:t>
            </a:r>
            <a:r>
              <a:rPr b="1" lang="zh-CN" sz="3200" spc="-1" strike="noStrike">
                <a:solidFill>
                  <a:srgbClr val="3366cc"/>
                </a:solidFill>
                <a:latin typeface="楷体_GB2312"/>
                <a:ea typeface="楷体_GB2312"/>
              </a:rPr>
              <a:t>万字，被公认为是高产、优产、稳产作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8" descr="z002"/>
          <p:cNvPicPr/>
          <p:nvPr/>
        </p:nvPicPr>
        <p:blipFill>
          <a:blip r:embed="rId1"/>
          <a:stretch/>
        </p:blipFill>
        <p:spPr>
          <a:xfrm>
            <a:off x="0" y="0"/>
            <a:ext cx="3780000" cy="2608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89240" y="515520"/>
            <a:ext cx="734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刘绍棠文集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大运河乡土文学体系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052280"/>
            <a:ext cx="84247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长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豆棚瓜架雨如丝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这个年月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长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敬柳辛说书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十步香草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长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京门脸子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野香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长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水边人的哀乐故事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孤村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5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长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春草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狼烟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地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6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长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村妇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系列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7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长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村妇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系列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8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长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村妇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系列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9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中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蒲柳人家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瓜棚柳巷人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花街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草莽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落 水荷风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渔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蒲剑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碧桃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二度梅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峨眉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凉月如眉桂柳湾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黄花闺女池塘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10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中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鱼菱风景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小荷才露尖尖角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绿杨堤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烟村四五家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柳伞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花天锦地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吃青杏的时节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村姑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青藤巷插曲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年年柳色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11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（早年作品）长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运河的桨声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夏天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中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运河滩上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田野落霞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等 短篇小说：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青枝绿叶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摆渡口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大青骡子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西苑草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含羞草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71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卷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12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  <a:ea typeface="楷体_GB2312"/>
              </a:rPr>
              <a:t>理论、随笔、回忆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WordArt 7" descr=""/>
          <p:cNvPicPr/>
          <p:nvPr/>
        </p:nvPicPr>
        <p:blipFill>
          <a:blip r:embed="rId1"/>
          <a:stretch/>
        </p:blipFill>
        <p:spPr>
          <a:xfrm>
            <a:off x="-463680" y="1909800"/>
            <a:ext cx="7755120" cy="334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14400" y="533520"/>
            <a:ext cx="8001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生字注音</a:t>
            </a:r>
            <a:br>
              <a:rPr sz="4400"/>
            </a:b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烟囱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ō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梆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āng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他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纤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qiàn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夫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腌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ā zā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áo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唿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ū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拗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iu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不过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到了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ǎo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儿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隐匿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勒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è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令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戏谑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uè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荣膺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yī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断壁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垣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uán     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蓬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蒿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āo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作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揖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ī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礼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ìn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uō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着嘴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ān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梢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ào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马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990720" y="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词语积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妙手回春：称赞医生医术高明，一下子就能把垂危的病人治好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生儿：高龄父母所生的儿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了儿：到最后，最终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脑门子官司：形容心中含着怒气，不满的情绪流露在脸上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勒令：用命令的方式强制人做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荣膺：光荣地获得。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耻下问：不以向地位．学识不如自己的人请教为可耻。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咬文嚼字：过分斟酌字句，多指死抠字眼而不领会精神实质。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坐针毡：形容心声不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芒刺在背：形容坐立不安，像芒和刺扎在背上一样望眼欲穿：形容盼望殷切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预习课文  整体感知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7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095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34_3106"/>
          <p:cNvPicPr/>
          <p:nvPr/>
        </p:nvPicPr>
        <p:blipFill>
          <a:blip r:embed="rId1"/>
          <a:stretch/>
        </p:blipFill>
        <p:spPr>
          <a:xfrm>
            <a:off x="1870200" y="2757600"/>
            <a:ext cx="6378480" cy="2562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10:21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44Z</dcterms:modified>
  <cp:revision>9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