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chimes.wav" ContentType="audio/x-wav"/>
  <Override PartName="/ppt/media/image2.wmf" ContentType="image/x-wmf"/>
  <Override PartName="/ppt/media/image24.wmf" ContentType="image/x-wmf"/>
  <Override PartName="/ppt/media/image22.wmf" ContentType="image/x-wmf"/>
  <Override PartName="/ppt/media/image10.wmf" ContentType="image/x-wmf"/>
  <Override PartName="/ppt/media/image4.jpeg" ContentType="image/jpeg"/>
  <Override PartName="/ppt/media/image18.wmf" ContentType="image/x-wmf"/>
  <Override PartName="/ppt/media/image5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23.wmf" ContentType="image/x-wmf"/>
  <Override PartName="/ppt/media/image28.jpeg" ContentType="image/jpeg"/>
  <Override PartName="/ppt/media/image9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0.wmf" ContentType="image/x-wmf"/>
  <Override PartName="/ppt/media/drumroll.wav" ContentType="audio/x-wav"/>
  <Override PartName="/ppt/media/image15.png" ContentType="image/png"/>
  <Override PartName="/ppt/media/camera.wav" ContentType="audio/x-wav"/>
  <Override PartName="/ppt/media/image3.png" ContentType="image/png"/>
  <Override PartName="/ppt/media/image25.wmf" ContentType="image/x-wmf"/>
  <Override PartName="/ppt/media/image13.png" ContentType="image/png"/>
  <Override PartName="/ppt/media/image14.png" ContentType="image/png"/>
  <Override PartName="/ppt/media/image12.wmf" ContentType="image/x-wmf"/>
  <Override PartName="/ppt/media/image16.gif" ContentType="image/gif"/>
  <Override PartName="/ppt/media/image32.jpeg" ContentType="image/jpeg"/>
  <Override PartName="/ppt/media/image20.wmf" ContentType="image/x-wmf"/>
  <Override PartName="/ppt/media/image17.png" ContentType="image/png"/>
  <Override PartName="/ppt/media/image21.png" ContentType="image/png"/>
  <Override PartName="/ppt/media/image1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C4C-4017-4827-BCF6-B4A8709B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F36-9492-41C6-B2E5-3124F5A6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410-E141-402C-B5D5-E8914F1F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C90-B0BD-4D31-8EF6-56627630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5405-2883-4407-BE3A-03A7B2B9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9D19-1582-424B-BC1F-7CC01F70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D783-BD9C-4EB6-A5E9-C19F7777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4DBA-88E0-4427-BC7C-7B1D68B4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1EB5-C736-40DD-861A-790D61DF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C16F-FC05-4BA1-A7A1-FBCF9D08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E855-1004-44C9-946E-6F2F9F5E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78D-344C-4B7A-B847-133A3AA1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D315-65D2-4441-8E09-FD7C0E3D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D345-49FA-4058-84F8-5A8D1CFB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EB61-E115-4FB0-9D45-5BD22E41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A928-4251-4619-9174-8DB123D3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D87F-0ED3-4F7C-A2B0-870161F4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25FB-7B24-435D-B84F-8DF770AD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8FD1-1F8C-4876-9F9F-99E4C31A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96C99-67BD-46BB-98D4-2ACF8FFD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A39BA-0CA6-49F1-A454-85CC3132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F911-53F1-4881-9AA1-6169184D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02E-456A-4252-AD74-BEF14368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9FF70-0053-44EB-BB51-6CDE1CA4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2D38-F021-473F-B3D3-37465C6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CD59C-B529-4698-9CFE-AE34A94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04A1-E758-4AF9-ABFF-8902D0BF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1AB89-8CAF-4291-8C22-CABA256D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8867-5DFA-4ABC-B94F-F475909A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41F9-734D-44FC-8694-AE266F0F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BB34-F475-4991-A22B-9A6F44FF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82DF2-D19D-4982-A748-2F4FBAF6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A24C6-028C-49E9-B4F7-D221F8FE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13E-7702-435F-B521-E299B9D0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B9F3-9158-48DA-8B10-B639D5A4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2D336-021B-41DF-898A-B90D2F7C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34BF-90D3-4CB5-BED0-B7F6FA34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C7D0-384F-4A12-B02C-96EC3D9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B631B-3DE6-4F41-9E96-7149DFB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D8ED-9678-402D-AF02-0736E19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DE70-CDC0-4CF6-B1E4-6226A4EF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6186-25F1-4B34-8C2C-648AD2B6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20A6-5DFD-4D0B-9C2F-374384F3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56361-BAF3-4189-AFA8-6A92783B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579-48F6-4893-BD23-06AACA1B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FEABD-8D1F-451D-8F91-B9442962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2506E-A53B-4FBA-89CC-419623BB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11F5-83DD-476D-822D-F63F250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D69F-843C-432B-8FFB-8266ED9E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5974-2411-4A90-8EB2-EC2E956B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C0EA6-E00B-49AB-BD87-FC9E25B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BEFB3-C9E3-4465-ACBD-4829E9E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A1AEF-50CE-4C14-BA79-D0848123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63A4F-57B2-4D43-B07F-FD6F2C74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9652A-15E7-424A-A302-F2BD82D8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E91-9E4E-4B81-89B7-CEDDBBFD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58509-D2FB-4EA8-9F8F-5BA34668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C54-44D1-46BE-A654-A27D055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D8F-1310-4653-9C6B-2763C56E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4CC-A050-48C1-B52C-B82A38C3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8DF4-2D7E-4ED1-988B-46D856426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120E-6D0F-4D28-8B62-701DCBD5C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EBE0-D193-4550-B635-208DF340DF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C040-6A58-4FF0-BADE-6C26C2854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C73C-4994-4036-9DFE-1970569BE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GEOMTRY"/>
          <p:cNvPicPr/>
          <p:nvPr/>
        </p:nvPicPr>
        <p:blipFill>
          <a:blip r:embed="rId2"/>
          <a:stretch/>
        </p:blipFill>
        <p:spPr>
          <a:xfrm>
            <a:off x="3789360" y="2924280"/>
            <a:ext cx="4165560" cy="2706480"/>
          </a:xfrm>
          <a:prstGeom prst="rect">
            <a:avLst/>
          </a:prstGeom>
          <a:ln w="0">
            <a:noFill/>
          </a:ln>
        </p:spPr>
      </p:pic>
      <p:sp>
        <p:nvSpPr>
          <p:cNvPr id="206" name="WordArt 5"/>
          <p:cNvSpPr txBox="1"/>
          <p:nvPr/>
        </p:nvSpPr>
        <p:spPr>
          <a:xfrm>
            <a:off x="1258920" y="1341360"/>
            <a:ext cx="6686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平行四边形的判定数学</a:t>
            </a: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0" y="260280"/>
            <a:ext cx="807732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例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 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角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两点，并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=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F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971640" y="2133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连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71640" y="2637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71640" y="306864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=CO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=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971640" y="3573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=C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955800" y="414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O=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97164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=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971640" y="522936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F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对角线互相平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四边形是平行四边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24440" y="4021200"/>
            <a:ext cx="1905120" cy="990360"/>
            <a:chOff x="5824440" y="4021200"/>
            <a:chExt cx="1905120" cy="990360"/>
          </a:xfrm>
        </p:grpSpPr>
        <p:sp>
          <p:nvSpPr>
            <p:cNvPr id="344" name="Line 11"/>
            <p:cNvSpPr/>
            <p:nvPr/>
          </p:nvSpPr>
          <p:spPr>
            <a:xfrm>
              <a:off x="5824440" y="4021200"/>
              <a:ext cx="1905120" cy="99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5824440" y="4021200"/>
              <a:ext cx="190512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2"/>
          <p:cNvGrpSpPr/>
          <p:nvPr/>
        </p:nvGrpSpPr>
        <p:grpSpPr>
          <a:xfrm>
            <a:off x="5291280" y="3716280"/>
            <a:ext cx="3429000" cy="1831320"/>
            <a:chOff x="5291280" y="3716280"/>
            <a:chExt cx="3429000" cy="1831320"/>
          </a:xfrm>
        </p:grpSpPr>
        <p:grpSp>
          <p:nvGrpSpPr>
            <p:cNvPr id="347" name=""/>
            <p:cNvGrpSpPr/>
            <p:nvPr/>
          </p:nvGrpSpPr>
          <p:grpSpPr>
            <a:xfrm>
              <a:off x="5367600" y="4249080"/>
              <a:ext cx="914400" cy="762120"/>
              <a:chOff x="5367600" y="4249080"/>
              <a:chExt cx="914400" cy="762120"/>
            </a:xfrm>
          </p:grpSpPr>
          <p:sp>
            <p:nvSpPr>
              <p:cNvPr id="348" name="Line 13"/>
              <p:cNvSpPr/>
              <p:nvPr/>
            </p:nvSpPr>
            <p:spPr>
              <a:xfrm flipV="1">
                <a:off x="5367600" y="4249080"/>
                <a:ext cx="91440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 rot="10800000">
                <a:off x="5367600" y="4249080"/>
                <a:ext cx="91440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272720" y="4020480"/>
              <a:ext cx="914400" cy="762120"/>
              <a:chOff x="7272720" y="4020480"/>
              <a:chExt cx="914400" cy="762120"/>
            </a:xfrm>
          </p:grpSpPr>
          <p:sp>
            <p:nvSpPr>
              <p:cNvPr id="351" name="Line 14"/>
              <p:cNvSpPr/>
              <p:nvPr/>
            </p:nvSpPr>
            <p:spPr>
              <a:xfrm flipV="1">
                <a:off x="7272720" y="4020480"/>
                <a:ext cx="91440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 rot="10800000">
                <a:off x="7272720" y="4020480"/>
                <a:ext cx="91440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15"/>
            <p:cNvGrpSpPr/>
            <p:nvPr/>
          </p:nvGrpSpPr>
          <p:grpSpPr>
            <a:xfrm>
              <a:off x="5291280" y="3716280"/>
              <a:ext cx="3429000" cy="1831320"/>
              <a:chOff x="5291280" y="3716280"/>
              <a:chExt cx="3429000" cy="1831320"/>
            </a:xfrm>
          </p:grpSpPr>
          <p:grpSp>
            <p:nvGrpSpPr>
              <p:cNvPr id="354" name="Group 16"/>
              <p:cNvGrpSpPr/>
              <p:nvPr/>
            </p:nvGrpSpPr>
            <p:grpSpPr>
              <a:xfrm>
                <a:off x="5291280" y="3716280"/>
                <a:ext cx="3429000" cy="1831320"/>
                <a:chOff x="5291280" y="3716280"/>
                <a:chExt cx="3429000" cy="1831320"/>
              </a:xfrm>
            </p:grpSpPr>
            <p:grpSp>
              <p:nvGrpSpPr>
                <p:cNvPr id="355" name="Group 17"/>
                <p:cNvGrpSpPr/>
                <p:nvPr/>
              </p:nvGrpSpPr>
              <p:grpSpPr>
                <a:xfrm>
                  <a:off x="5367600" y="4021200"/>
                  <a:ext cx="2819520" cy="991080"/>
                  <a:chOff x="5367600" y="4021200"/>
                  <a:chExt cx="2819520" cy="99108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367600" y="5011920"/>
                    <a:ext cx="2362320" cy="360"/>
                    <a:chOff x="5367600" y="5011920"/>
                    <a:chExt cx="2362320" cy="360"/>
                  </a:xfrm>
                </p:grpSpPr>
                <p:sp>
                  <p:nvSpPr>
                    <p:cNvPr id="357" name="Line 18"/>
                    <p:cNvSpPr/>
                    <p:nvPr/>
                  </p:nvSpPr>
                  <p:spPr>
                    <a:xfrm>
                      <a:off x="5367600" y="5011920"/>
                      <a:ext cx="2362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 txBox="1"/>
                    <p:nvPr/>
                  </p:nvSpPr>
                  <p:spPr>
                    <a:xfrm>
                      <a:off x="5367600" y="5011920"/>
                      <a:ext cx="2362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824800" y="4021200"/>
                    <a:ext cx="2362320" cy="360"/>
                    <a:chOff x="5824800" y="4021200"/>
                    <a:chExt cx="2362320" cy="360"/>
                  </a:xfrm>
                </p:grpSpPr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5824800" y="4021200"/>
                      <a:ext cx="2362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 txBox="1"/>
                    <p:nvPr/>
                  </p:nvSpPr>
                  <p:spPr>
                    <a:xfrm>
                      <a:off x="5824800" y="4021200"/>
                      <a:ext cx="2362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367600" y="4021200"/>
                    <a:ext cx="457200" cy="990720"/>
                    <a:chOff x="5367600" y="4021200"/>
                    <a:chExt cx="457200" cy="990720"/>
                  </a:xfrm>
                </p:grpSpPr>
                <p:sp>
                  <p:nvSpPr>
                    <p:cNvPr id="363" name="Line 20"/>
                    <p:cNvSpPr/>
                    <p:nvPr/>
                  </p:nvSpPr>
                  <p:spPr>
                    <a:xfrm flipH="1">
                      <a:off x="5367600" y="4021200"/>
                      <a:ext cx="457200" cy="990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 txBox="1"/>
                    <p:nvPr/>
                  </p:nvSpPr>
                  <p:spPr>
                    <a:xfrm>
                      <a:off x="5367600" y="4021200"/>
                      <a:ext cx="457200" cy="99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7729920" y="4021200"/>
                    <a:ext cx="457200" cy="990720"/>
                    <a:chOff x="7729920" y="4021200"/>
                    <a:chExt cx="457200" cy="990720"/>
                  </a:xfrm>
                </p:grpSpPr>
                <p:sp>
                  <p:nvSpPr>
                    <p:cNvPr id="366" name="Line 21"/>
                    <p:cNvSpPr/>
                    <p:nvPr/>
                  </p:nvSpPr>
                  <p:spPr>
                    <a:xfrm flipH="1">
                      <a:off x="7729920" y="4021200"/>
                      <a:ext cx="457200" cy="990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 txBox="1"/>
                    <p:nvPr/>
                  </p:nvSpPr>
                  <p:spPr>
                    <a:xfrm>
                      <a:off x="7729920" y="4021200"/>
                      <a:ext cx="457200" cy="99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8" name="Text Box 22"/>
                <p:cNvSpPr/>
                <p:nvPr/>
              </p:nvSpPr>
              <p:spPr>
                <a:xfrm>
                  <a:off x="5367600" y="3716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3"/>
                <p:cNvSpPr/>
                <p:nvPr/>
              </p:nvSpPr>
              <p:spPr>
                <a:xfrm>
                  <a:off x="5291280" y="508788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Text Box 24"/>
                <p:cNvSpPr/>
                <p:nvPr/>
              </p:nvSpPr>
              <p:spPr>
                <a:xfrm>
                  <a:off x="7501320" y="50878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25"/>
                <p:cNvSpPr/>
                <p:nvPr/>
              </p:nvSpPr>
              <p:spPr>
                <a:xfrm>
                  <a:off x="8339400" y="3716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Text Box 26"/>
              <p:cNvSpPr/>
              <p:nvPr/>
            </p:nvSpPr>
            <p:spPr>
              <a:xfrm>
                <a:off x="5824800" y="4020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27"/>
              <p:cNvSpPr/>
              <p:nvPr/>
            </p:nvSpPr>
            <p:spPr>
              <a:xfrm>
                <a:off x="7425000" y="45543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 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6282000" y="4020480"/>
                <a:ext cx="1905120" cy="228600"/>
                <a:chOff x="6282000" y="4020480"/>
                <a:chExt cx="1905120" cy="228600"/>
              </a:xfrm>
            </p:grpSpPr>
            <p:sp>
              <p:nvSpPr>
                <p:cNvPr id="375" name="Line 28"/>
                <p:cNvSpPr/>
                <p:nvPr/>
              </p:nvSpPr>
              <p:spPr>
                <a:xfrm flipV="1">
                  <a:off x="6282000" y="4020480"/>
                  <a:ext cx="19051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 txBox="1"/>
                <p:nvPr/>
              </p:nvSpPr>
              <p:spPr>
                <a:xfrm rot="10800000">
                  <a:off x="6282000" y="4020480"/>
                  <a:ext cx="19051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367600" y="4782600"/>
                <a:ext cx="1905120" cy="228600"/>
                <a:chOff x="5367600" y="4782600"/>
                <a:chExt cx="1905120" cy="228600"/>
              </a:xfrm>
            </p:grpSpPr>
            <p:sp>
              <p:nvSpPr>
                <p:cNvPr id="378" name="Line 29"/>
                <p:cNvSpPr/>
                <p:nvPr/>
              </p:nvSpPr>
              <p:spPr>
                <a:xfrm flipV="1">
                  <a:off x="5367600" y="4782600"/>
                  <a:ext cx="19051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 txBox="1"/>
                <p:nvPr/>
              </p:nvSpPr>
              <p:spPr>
                <a:xfrm rot="10800000">
                  <a:off x="5367600" y="4782600"/>
                  <a:ext cx="19051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0" name=""/>
          <p:cNvGrpSpPr/>
          <p:nvPr/>
        </p:nvGrpSpPr>
        <p:grpSpPr>
          <a:xfrm>
            <a:off x="5435640" y="4005000"/>
            <a:ext cx="2743200" cy="990360"/>
            <a:chOff x="5435640" y="4005000"/>
            <a:chExt cx="2743200" cy="990360"/>
          </a:xfrm>
        </p:grpSpPr>
        <p:sp>
          <p:nvSpPr>
            <p:cNvPr id="381" name="Line 30"/>
            <p:cNvSpPr/>
            <p:nvPr/>
          </p:nvSpPr>
          <p:spPr>
            <a:xfrm flipV="1">
              <a:off x="5435640" y="4005000"/>
              <a:ext cx="2743200" cy="9903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 rot="10800000">
              <a:off x="5435640" y="4005000"/>
              <a:ext cx="27432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31"/>
          <p:cNvSpPr/>
          <p:nvPr/>
        </p:nvSpPr>
        <p:spPr>
          <a:xfrm>
            <a:off x="6578640" y="408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97308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延长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468360" y="981000"/>
            <a:ext cx="4895640" cy="459720"/>
          </a:xfrm>
          <a:prstGeom prst="rect">
            <a:avLst/>
          </a:prstGeom>
          <a:solidFill>
            <a:srgbClr val="ffff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两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.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34"/>
          <p:cNvGrpSpPr/>
          <p:nvPr/>
        </p:nvGrpSpPr>
        <p:grpSpPr>
          <a:xfrm>
            <a:off x="1187280" y="1628640"/>
            <a:ext cx="3815640" cy="2305080"/>
            <a:chOff x="1187280" y="1628640"/>
            <a:chExt cx="3815640" cy="2305080"/>
          </a:xfrm>
        </p:grpSpPr>
        <p:sp>
          <p:nvSpPr>
            <p:cNvPr id="387" name="Rectangle 35"/>
            <p:cNvSpPr/>
            <p:nvPr/>
          </p:nvSpPr>
          <p:spPr>
            <a:xfrm>
              <a:off x="1187280" y="1628640"/>
              <a:ext cx="3647880" cy="2305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36"/>
            <p:cNvGrpSpPr/>
            <p:nvPr/>
          </p:nvGrpSpPr>
          <p:grpSpPr>
            <a:xfrm>
              <a:off x="1785960" y="1844640"/>
              <a:ext cx="3216960" cy="1831320"/>
              <a:chOff x="1785960" y="1844640"/>
              <a:chExt cx="3216960" cy="1831320"/>
            </a:xfrm>
          </p:grpSpPr>
          <p:grpSp>
            <p:nvGrpSpPr>
              <p:cNvPr id="389" name="Group 37"/>
              <p:cNvGrpSpPr/>
              <p:nvPr/>
            </p:nvGrpSpPr>
            <p:grpSpPr>
              <a:xfrm>
                <a:off x="1785960" y="1844640"/>
                <a:ext cx="3216960" cy="1831320"/>
                <a:chOff x="1785960" y="1844640"/>
                <a:chExt cx="3216960" cy="183132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2286360" y="2149200"/>
                  <a:ext cx="1787400" cy="990720"/>
                  <a:chOff x="2286360" y="2149200"/>
                  <a:chExt cx="1787400" cy="990720"/>
                </a:xfrm>
              </p:grpSpPr>
              <p:sp>
                <p:nvSpPr>
                  <p:cNvPr id="391" name="Line 38"/>
                  <p:cNvSpPr/>
                  <p:nvPr/>
                </p:nvSpPr>
                <p:spPr>
                  <a:xfrm>
                    <a:off x="2286360" y="2149200"/>
                    <a:ext cx="1787400" cy="990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 txBox="1"/>
                  <p:nvPr/>
                </p:nvSpPr>
                <p:spPr>
                  <a:xfrm>
                    <a:off x="2286360" y="2149200"/>
                    <a:ext cx="1787400" cy="990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Group 39"/>
                <p:cNvGrpSpPr/>
                <p:nvPr/>
              </p:nvGrpSpPr>
              <p:grpSpPr>
                <a:xfrm>
                  <a:off x="1785960" y="1844640"/>
                  <a:ext cx="3216960" cy="1831320"/>
                  <a:chOff x="1785960" y="1844640"/>
                  <a:chExt cx="3216960" cy="183132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1856880" y="2377440"/>
                    <a:ext cx="858240" cy="762120"/>
                    <a:chOff x="1856880" y="2377440"/>
                    <a:chExt cx="858240" cy="762120"/>
                  </a:xfrm>
                </p:grpSpPr>
                <p:sp>
                  <p:nvSpPr>
                    <p:cNvPr id="395" name="Line 40"/>
                    <p:cNvSpPr/>
                    <p:nvPr/>
                  </p:nvSpPr>
                  <p:spPr>
                    <a:xfrm flipV="1">
                      <a:off x="1857240" y="2377440"/>
                      <a:ext cx="857880" cy="762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 txBox="1"/>
                    <p:nvPr/>
                  </p:nvSpPr>
                  <p:spPr>
                    <a:xfrm rot="10800000">
                      <a:off x="1856880" y="2377440"/>
                      <a:ext cx="857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3644640" y="2148840"/>
                    <a:ext cx="858240" cy="762120"/>
                    <a:chOff x="3644640" y="2148840"/>
                    <a:chExt cx="858240" cy="762120"/>
                  </a:xfrm>
                </p:grpSpPr>
                <p:sp>
                  <p:nvSpPr>
                    <p:cNvPr id="398" name="Line 41"/>
                    <p:cNvSpPr/>
                    <p:nvPr/>
                  </p:nvSpPr>
                  <p:spPr>
                    <a:xfrm flipV="1">
                      <a:off x="3645000" y="2148840"/>
                      <a:ext cx="857880" cy="762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 txBox="1"/>
                    <p:nvPr/>
                  </p:nvSpPr>
                  <p:spPr>
                    <a:xfrm rot="10800000">
                      <a:off x="3644640" y="2148840"/>
                      <a:ext cx="857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42"/>
                  <p:cNvGrpSpPr/>
                  <p:nvPr/>
                </p:nvGrpSpPr>
                <p:grpSpPr>
                  <a:xfrm>
                    <a:off x="1785960" y="1844640"/>
                    <a:ext cx="3216960" cy="1831320"/>
                    <a:chOff x="1785960" y="1844640"/>
                    <a:chExt cx="3216960" cy="1831320"/>
                  </a:xfrm>
                </p:grpSpPr>
                <p:grpSp>
                  <p:nvGrpSpPr>
                    <p:cNvPr id="401" name="Group 43"/>
                    <p:cNvGrpSpPr/>
                    <p:nvPr/>
                  </p:nvGrpSpPr>
                  <p:grpSpPr>
                    <a:xfrm>
                      <a:off x="1785960" y="1844640"/>
                      <a:ext cx="3216960" cy="1831320"/>
                      <a:chOff x="1785960" y="1844640"/>
                      <a:chExt cx="3216960" cy="1831320"/>
                    </a:xfrm>
                  </p:grpSpPr>
                  <p:grpSp>
                    <p:nvGrpSpPr>
                      <p:cNvPr id="402" name="Group 44"/>
                      <p:cNvGrpSpPr/>
                      <p:nvPr/>
                    </p:nvGrpSpPr>
                    <p:grpSpPr>
                      <a:xfrm>
                        <a:off x="1856880" y="2149560"/>
                        <a:ext cx="2645280" cy="991080"/>
                        <a:chOff x="1856880" y="2149560"/>
                        <a:chExt cx="2645280" cy="991080"/>
                      </a:xfrm>
                    </p:grpSpPr>
                    <p:grpSp>
                      <p:nvGrpSpPr>
                        <p:cNvPr id="403" name=""/>
                        <p:cNvGrpSpPr/>
                        <p:nvPr/>
                      </p:nvGrpSpPr>
                      <p:grpSpPr>
                        <a:xfrm>
                          <a:off x="1857240" y="3140280"/>
                          <a:ext cx="2216160" cy="360"/>
                          <a:chOff x="1857240" y="3140280"/>
                          <a:chExt cx="2216160" cy="360"/>
                        </a:xfrm>
                      </p:grpSpPr>
                      <p:sp>
                        <p:nvSpPr>
                          <p:cNvPr id="404" name="Line 45"/>
                          <p:cNvSpPr/>
                          <p:nvPr/>
                        </p:nvSpPr>
                        <p:spPr>
                          <a:xfrm>
                            <a:off x="1857240" y="3140280"/>
                            <a:ext cx="22161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"/>
                          <p:cNvSpPr txBox="1"/>
                          <p:nvPr/>
                        </p:nvSpPr>
                        <p:spPr>
                          <a:xfrm>
                            <a:off x="1857240" y="3140280"/>
                            <a:ext cx="221616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6" name=""/>
                        <p:cNvGrpSpPr/>
                        <p:nvPr/>
                      </p:nvGrpSpPr>
                      <p:grpSpPr>
                        <a:xfrm>
                          <a:off x="2286000" y="2149560"/>
                          <a:ext cx="2216160" cy="360"/>
                          <a:chOff x="2286000" y="2149560"/>
                          <a:chExt cx="2216160" cy="360"/>
                        </a:xfrm>
                      </p:grpSpPr>
                      <p:sp>
                        <p:nvSpPr>
                          <p:cNvPr id="407" name="Line 46"/>
                          <p:cNvSpPr/>
                          <p:nvPr/>
                        </p:nvSpPr>
                        <p:spPr>
                          <a:xfrm>
                            <a:off x="2286000" y="2149560"/>
                            <a:ext cx="22161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8" name=""/>
                          <p:cNvSpPr txBox="1"/>
                          <p:nvPr/>
                        </p:nvSpPr>
                        <p:spPr>
                          <a:xfrm>
                            <a:off x="2286000" y="2149560"/>
                            <a:ext cx="2216160" cy="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9" name=""/>
                        <p:cNvGrpSpPr/>
                        <p:nvPr/>
                      </p:nvGrpSpPr>
                      <p:grpSpPr>
                        <a:xfrm>
                          <a:off x="1856880" y="2149560"/>
                          <a:ext cx="429120" cy="990720"/>
                          <a:chOff x="1856880" y="2149560"/>
                          <a:chExt cx="429120" cy="990720"/>
                        </a:xfrm>
                      </p:grpSpPr>
                      <p:sp>
                        <p:nvSpPr>
                          <p:cNvPr id="410" name="Line 47"/>
                          <p:cNvSpPr/>
                          <p:nvPr/>
                        </p:nvSpPr>
                        <p:spPr>
                          <a:xfrm flipH="1">
                            <a:off x="1856880" y="2149560"/>
                            <a:ext cx="428760" cy="990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"/>
                          <p:cNvSpPr txBox="1"/>
                          <p:nvPr/>
                        </p:nvSpPr>
                        <p:spPr>
                          <a:xfrm>
                            <a:off x="1857240" y="2149560"/>
                            <a:ext cx="428760" cy="99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2" name=""/>
                        <p:cNvGrpSpPr/>
                        <p:nvPr/>
                      </p:nvGrpSpPr>
                      <p:grpSpPr>
                        <a:xfrm>
                          <a:off x="4073040" y="2149560"/>
                          <a:ext cx="429120" cy="990720"/>
                          <a:chOff x="4073040" y="2149560"/>
                          <a:chExt cx="429120" cy="990720"/>
                        </a:xfrm>
                      </p:grpSpPr>
                      <p:sp>
                        <p:nvSpPr>
                          <p:cNvPr id="413" name="Line 48"/>
                          <p:cNvSpPr/>
                          <p:nvPr/>
                        </p:nvSpPr>
                        <p:spPr>
                          <a:xfrm flipH="1">
                            <a:off x="4073040" y="2149560"/>
                            <a:ext cx="428760" cy="990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4" name=""/>
                          <p:cNvSpPr txBox="1"/>
                          <p:nvPr/>
                        </p:nvSpPr>
                        <p:spPr>
                          <a:xfrm>
                            <a:off x="4073400" y="2149560"/>
                            <a:ext cx="428760" cy="99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15" name="Text Box 49"/>
                      <p:cNvSpPr/>
                      <p:nvPr/>
                    </p:nvSpPr>
                    <p:spPr>
                      <a:xfrm>
                        <a:off x="1857240" y="1844640"/>
                        <a:ext cx="357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Text Box 50"/>
                      <p:cNvSpPr/>
                      <p:nvPr/>
                    </p:nvSpPr>
                    <p:spPr>
                      <a:xfrm>
                        <a:off x="1785960" y="3216240"/>
                        <a:ext cx="3574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7" name="Text Box 51"/>
                      <p:cNvSpPr/>
                      <p:nvPr/>
                    </p:nvSpPr>
                    <p:spPr>
                      <a:xfrm>
                        <a:off x="3859560" y="3216240"/>
                        <a:ext cx="357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Text Box 52"/>
                      <p:cNvSpPr/>
                      <p:nvPr/>
                    </p:nvSpPr>
                    <p:spPr>
                      <a:xfrm>
                        <a:off x="4645800" y="1844640"/>
                        <a:ext cx="357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1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19" name="Text Box 53"/>
                    <p:cNvSpPr/>
                    <p:nvPr/>
                  </p:nvSpPr>
                  <p:spPr>
                    <a:xfrm>
                      <a:off x="2286360" y="2149200"/>
                      <a:ext cx="357120" cy="82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Text Box 54"/>
                    <p:cNvSpPr/>
                    <p:nvPr/>
                  </p:nvSpPr>
                  <p:spPr>
                    <a:xfrm>
                      <a:off x="3787920" y="2682720"/>
                      <a:ext cx="357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1" name=""/>
                    <p:cNvGrpSpPr/>
                    <p:nvPr/>
                  </p:nvGrpSpPr>
                  <p:grpSpPr>
                    <a:xfrm>
                      <a:off x="2715120" y="2148840"/>
                      <a:ext cx="1787760" cy="228600"/>
                      <a:chOff x="2715120" y="2148840"/>
                      <a:chExt cx="1787760" cy="228600"/>
                    </a:xfrm>
                  </p:grpSpPr>
                  <p:sp>
                    <p:nvSpPr>
                      <p:cNvPr id="422" name="Line 55"/>
                      <p:cNvSpPr/>
                      <p:nvPr/>
                    </p:nvSpPr>
                    <p:spPr>
                      <a:xfrm flipV="1">
                        <a:off x="2715480" y="2148840"/>
                        <a:ext cx="178740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" name=""/>
                      <p:cNvSpPr txBox="1"/>
                      <p:nvPr/>
                    </p:nvSpPr>
                    <p:spPr>
                      <a:xfrm rot="10800000">
                        <a:off x="2715120" y="2148840"/>
                        <a:ext cx="17874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4" name=""/>
                    <p:cNvGrpSpPr/>
                    <p:nvPr/>
                  </p:nvGrpSpPr>
                  <p:grpSpPr>
                    <a:xfrm>
                      <a:off x="1856880" y="2910960"/>
                      <a:ext cx="1787760" cy="228600"/>
                      <a:chOff x="1856880" y="2910960"/>
                      <a:chExt cx="1787760" cy="228600"/>
                    </a:xfrm>
                  </p:grpSpPr>
                  <p:sp>
                    <p:nvSpPr>
                      <p:cNvPr id="425" name="Line 56"/>
                      <p:cNvSpPr/>
                      <p:nvPr/>
                    </p:nvSpPr>
                    <p:spPr>
                      <a:xfrm flipV="1">
                        <a:off x="1857240" y="2910960"/>
                        <a:ext cx="1787400" cy="228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"/>
                      <p:cNvSpPr txBox="1"/>
                      <p:nvPr/>
                    </p:nvSpPr>
                    <p:spPr>
                      <a:xfrm rot="10800000">
                        <a:off x="1856880" y="2910960"/>
                        <a:ext cx="17874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27" name="Text Box 57"/>
              <p:cNvSpPr/>
              <p:nvPr/>
            </p:nvSpPr>
            <p:spPr>
              <a:xfrm>
                <a:off x="2903760" y="2540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1861560" y="2131560"/>
                <a:ext cx="2635200" cy="1008360"/>
                <a:chOff x="1861560" y="2131560"/>
                <a:chExt cx="2635200" cy="1008360"/>
              </a:xfrm>
            </p:grpSpPr>
            <p:sp>
              <p:nvSpPr>
                <p:cNvPr id="429" name="Line 58"/>
                <p:cNvSpPr/>
                <p:nvPr/>
              </p:nvSpPr>
              <p:spPr>
                <a:xfrm flipV="1">
                  <a:off x="1861920" y="2131560"/>
                  <a:ext cx="2634840" cy="100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 txBox="1"/>
                <p:nvPr/>
              </p:nvSpPr>
              <p:spPr>
                <a:xfrm rot="10800000">
                  <a:off x="1861560" y="2131560"/>
                  <a:ext cx="2634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1" name="Group 59"/>
          <p:cNvGrpSpPr/>
          <p:nvPr/>
        </p:nvGrpSpPr>
        <p:grpSpPr>
          <a:xfrm>
            <a:off x="1116000" y="4149720"/>
            <a:ext cx="2952720" cy="2016000"/>
            <a:chOff x="1116000" y="4149720"/>
            <a:chExt cx="2952720" cy="2016000"/>
          </a:xfrm>
        </p:grpSpPr>
        <p:pic>
          <p:nvPicPr>
            <p:cNvPr id="432" name="Picture 60" descr=""/>
            <p:cNvPicPr/>
            <p:nvPr/>
          </p:nvPicPr>
          <p:blipFill>
            <a:blip r:embed="rId3"/>
            <a:stretch/>
          </p:blipFill>
          <p:spPr>
            <a:xfrm>
              <a:off x="1116000" y="4149720"/>
              <a:ext cx="2952720" cy="201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2161080" y="4464720"/>
              <a:ext cx="731520" cy="315000"/>
              <a:chOff x="2161080" y="4464720"/>
              <a:chExt cx="731520" cy="315000"/>
            </a:xfrm>
          </p:grpSpPr>
          <p:sp>
            <p:nvSpPr>
              <p:cNvPr id="434" name="Line 61"/>
              <p:cNvSpPr/>
              <p:nvPr/>
            </p:nvSpPr>
            <p:spPr>
              <a:xfrm>
                <a:off x="2161080" y="4464720"/>
                <a:ext cx="73152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2161080" y="4464720"/>
                <a:ext cx="731520" cy="3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69880" y="5031000"/>
              <a:ext cx="731520" cy="315000"/>
              <a:chOff x="2369880" y="5031000"/>
              <a:chExt cx="731520" cy="315000"/>
            </a:xfrm>
          </p:grpSpPr>
          <p:sp>
            <p:nvSpPr>
              <p:cNvPr id="437" name="Line 62"/>
              <p:cNvSpPr/>
              <p:nvPr/>
            </p:nvSpPr>
            <p:spPr>
              <a:xfrm>
                <a:off x="2369880" y="5031000"/>
                <a:ext cx="73152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2369880" y="5031000"/>
                <a:ext cx="731520" cy="3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Text Box 63"/>
          <p:cNvSpPr/>
          <p:nvPr/>
        </p:nvSpPr>
        <p:spPr>
          <a:xfrm>
            <a:off x="6227640" y="126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4"/>
          <p:cNvSpPr/>
          <p:nvPr/>
        </p:nvSpPr>
        <p:spPr>
          <a:xfrm>
            <a:off x="468360" y="981000"/>
            <a:ext cx="4968720" cy="459720"/>
          </a:xfrm>
          <a:prstGeom prst="rect">
            <a:avLst/>
          </a:prstGeom>
          <a:solidFill>
            <a:srgbClr val="ffff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两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⊥OA.BF⊥O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65"/>
          <p:cNvGrpSpPr/>
          <p:nvPr/>
        </p:nvGrpSpPr>
        <p:grpSpPr>
          <a:xfrm>
            <a:off x="5614920" y="1557360"/>
            <a:ext cx="3529080" cy="1849320"/>
            <a:chOff x="5614920" y="1557360"/>
            <a:chExt cx="3529080" cy="1849320"/>
          </a:xfrm>
        </p:grpSpPr>
        <p:pic>
          <p:nvPicPr>
            <p:cNvPr id="442" name="Picture 66" descr=""/>
            <p:cNvPicPr/>
            <p:nvPr/>
          </p:nvPicPr>
          <p:blipFill>
            <a:blip r:embed="rId4"/>
            <a:stretch/>
          </p:blipFill>
          <p:spPr>
            <a:xfrm>
              <a:off x="5614920" y="1557360"/>
              <a:ext cx="3529080" cy="184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3" name="Group 67"/>
            <p:cNvGrpSpPr/>
            <p:nvPr/>
          </p:nvGrpSpPr>
          <p:grpSpPr>
            <a:xfrm>
              <a:off x="5902560" y="2036520"/>
              <a:ext cx="2735280" cy="747360"/>
              <a:chOff x="5902560" y="2036520"/>
              <a:chExt cx="2735280" cy="74736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902560" y="2036520"/>
                <a:ext cx="2735280" cy="718920"/>
                <a:chOff x="5902560" y="2036520"/>
                <a:chExt cx="2735280" cy="718920"/>
              </a:xfrm>
            </p:grpSpPr>
            <p:sp>
              <p:nvSpPr>
                <p:cNvPr id="445" name="Line 68"/>
                <p:cNvSpPr/>
                <p:nvPr/>
              </p:nvSpPr>
              <p:spPr>
                <a:xfrm flipV="1">
                  <a:off x="5902560" y="2036520"/>
                  <a:ext cx="2735280" cy="71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 txBox="1"/>
                <p:nvPr/>
              </p:nvSpPr>
              <p:spPr>
                <a:xfrm rot="10800000">
                  <a:off x="5902560" y="2036520"/>
                  <a:ext cx="27352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 Box 69"/>
              <p:cNvSpPr/>
              <p:nvPr/>
            </p:nvSpPr>
            <p:spPr>
              <a:xfrm>
                <a:off x="7057080" y="23241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2077560" y="907920"/>
            <a:ext cx="487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某同学说：“只要给我一把尺，我就能判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一个四边形是否为平行四边形。”  请你说出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同学是怎样判断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08077_"/>
          <p:cNvPicPr/>
          <p:nvPr/>
        </p:nvPicPr>
        <p:blipFill>
          <a:blip r:embed="rId3"/>
          <a:stretch/>
        </p:blipFill>
        <p:spPr>
          <a:xfrm>
            <a:off x="6877080" y="4797360"/>
            <a:ext cx="1655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0" y="189000"/>
            <a:ext cx="72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是非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、有三个角是直角的四边形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3509640" y="1531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、有两组对边分别相等的四边形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250800" y="2462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、两条对角线相等的四边形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3625920" y="32608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、任意相邻两个角都互补的四边形是平行四边形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58760" y="4149720"/>
            <a:ext cx="736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、一组对边平行，另一组对边相等的四边形一定是平行四边形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108000" y="5229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、有两条边相等，并且另外的两条边也相等的四边形一定是平行四边形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9"/>
          <p:cNvPicPr/>
          <p:nvPr/>
        </p:nvPicPr>
        <p:blipFill>
          <a:blip r:embed="rId1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9"/>
          <p:cNvSpPr/>
          <p:nvPr/>
        </p:nvSpPr>
        <p:spPr>
          <a:xfrm>
            <a:off x="7858440" y="784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√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/>
          <p:cNvSpPr/>
          <p:nvPr/>
        </p:nvSpPr>
        <p:spPr>
          <a:xfrm>
            <a:off x="8021880" y="162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  √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"/>
          <p:cNvSpPr/>
          <p:nvPr/>
        </p:nvSpPr>
        <p:spPr>
          <a:xfrm>
            <a:off x="8008920" y="258444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8217360" y="3232080"/>
            <a:ext cx="6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8059680" y="424008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7843680" y="560880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8199"/>
          <p:cNvSpPr/>
          <p:nvPr/>
        </p:nvSpPr>
        <p:spPr>
          <a:xfrm>
            <a:off x="75564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539640" y="836640"/>
            <a:ext cx="840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平行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对角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上两点，且＿＿＿＿＿＿，请添加一个条件，使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C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。 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3"/>
          <p:cNvGrpSpPr/>
          <p:nvPr/>
        </p:nvGrpSpPr>
        <p:grpSpPr>
          <a:xfrm>
            <a:off x="1306440" y="2924280"/>
            <a:ext cx="2963520" cy="1742760"/>
            <a:chOff x="1306440" y="2924280"/>
            <a:chExt cx="2963520" cy="1742760"/>
          </a:xfrm>
        </p:grpSpPr>
        <p:grpSp>
          <p:nvGrpSpPr>
            <p:cNvPr id="468" name="Group 4"/>
            <p:cNvGrpSpPr/>
            <p:nvPr/>
          </p:nvGrpSpPr>
          <p:grpSpPr>
            <a:xfrm>
              <a:off x="1306440" y="2924280"/>
              <a:ext cx="2963520" cy="1742760"/>
              <a:chOff x="1306440" y="2924280"/>
              <a:chExt cx="2963520" cy="17427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2051280" y="3198600"/>
                <a:ext cx="1800000" cy="360"/>
                <a:chOff x="2051280" y="3198600"/>
                <a:chExt cx="1800000" cy="360"/>
              </a:xfrm>
            </p:grpSpPr>
            <p:sp>
              <p:nvSpPr>
                <p:cNvPr id="470" name="Line 5"/>
                <p:cNvSpPr/>
                <p:nvPr/>
              </p:nvSpPr>
              <p:spPr>
                <a:xfrm>
                  <a:off x="2051280" y="3198600"/>
                  <a:ext cx="180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 txBox="1"/>
                <p:nvPr/>
              </p:nvSpPr>
              <p:spPr>
                <a:xfrm>
                  <a:off x="2051280" y="3198600"/>
                  <a:ext cx="180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1403280" y="3198600"/>
                <a:ext cx="2448000" cy="1079280"/>
                <a:chOff x="1403280" y="3198600"/>
                <a:chExt cx="2448000" cy="1079280"/>
              </a:xfrm>
            </p:grpSpPr>
            <p:sp>
              <p:nvSpPr>
                <p:cNvPr id="473" name="Line 6"/>
                <p:cNvSpPr/>
                <p:nvPr/>
              </p:nvSpPr>
              <p:spPr>
                <a:xfrm flipV="1">
                  <a:off x="1403640" y="3198600"/>
                  <a:ext cx="244764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 txBox="1"/>
                <p:nvPr/>
              </p:nvSpPr>
              <p:spPr>
                <a:xfrm rot="10800000">
                  <a:off x="1403280" y="3198600"/>
                  <a:ext cx="2447640" cy="107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Text Box 7"/>
              <p:cNvSpPr/>
              <p:nvPr/>
            </p:nvSpPr>
            <p:spPr>
              <a:xfrm>
                <a:off x="3138840" y="4298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8"/>
              <p:cNvSpPr/>
              <p:nvPr/>
            </p:nvSpPr>
            <p:spPr>
              <a:xfrm>
                <a:off x="1306440" y="42782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Ｂ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"/>
              <p:cNvSpPr/>
              <p:nvPr/>
            </p:nvSpPr>
            <p:spPr>
              <a:xfrm>
                <a:off x="3924720" y="2924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Group 10"/>
              <p:cNvGrpSpPr/>
              <p:nvPr/>
            </p:nvGrpSpPr>
            <p:grpSpPr>
              <a:xfrm>
                <a:off x="1403640" y="2924280"/>
                <a:ext cx="2447640" cy="1354320"/>
                <a:chOff x="1403640" y="2924280"/>
                <a:chExt cx="2447640" cy="135432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1428480" y="3198600"/>
                  <a:ext cx="622800" cy="1079280"/>
                  <a:chOff x="1428480" y="3198600"/>
                  <a:chExt cx="622800" cy="1079280"/>
                </a:xfrm>
              </p:grpSpPr>
              <p:sp>
                <p:nvSpPr>
                  <p:cNvPr id="480" name="Line 11"/>
                  <p:cNvSpPr/>
                  <p:nvPr/>
                </p:nvSpPr>
                <p:spPr>
                  <a:xfrm flipH="1">
                    <a:off x="1428480" y="3198600"/>
                    <a:ext cx="622440" cy="10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 txBox="1"/>
                  <p:nvPr/>
                </p:nvSpPr>
                <p:spPr>
                  <a:xfrm>
                    <a:off x="1428840" y="3198600"/>
                    <a:ext cx="622440" cy="107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1403640" y="4278240"/>
                  <a:ext cx="1871640" cy="360"/>
                  <a:chOff x="1403640" y="4278240"/>
                  <a:chExt cx="1871640" cy="360"/>
                </a:xfrm>
              </p:grpSpPr>
              <p:sp>
                <p:nvSpPr>
                  <p:cNvPr id="483" name="Line 12"/>
                  <p:cNvSpPr/>
                  <p:nvPr/>
                </p:nvSpPr>
                <p:spPr>
                  <a:xfrm>
                    <a:off x="1403640" y="4278240"/>
                    <a:ext cx="18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 txBox="1"/>
                  <p:nvPr/>
                </p:nvSpPr>
                <p:spPr>
                  <a:xfrm>
                    <a:off x="1403640" y="4278240"/>
                    <a:ext cx="1871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3275280" y="3198600"/>
                  <a:ext cx="576000" cy="1079280"/>
                  <a:chOff x="3275280" y="3198600"/>
                  <a:chExt cx="576000" cy="1079280"/>
                </a:xfrm>
              </p:grpSpPr>
              <p:sp>
                <p:nvSpPr>
                  <p:cNvPr id="486" name="Line 13"/>
                  <p:cNvSpPr/>
                  <p:nvPr/>
                </p:nvSpPr>
                <p:spPr>
                  <a:xfrm flipH="1">
                    <a:off x="3275280" y="3198600"/>
                    <a:ext cx="576000" cy="10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 txBox="1"/>
                  <p:nvPr/>
                </p:nvSpPr>
                <p:spPr>
                  <a:xfrm>
                    <a:off x="3275280" y="3198600"/>
                    <a:ext cx="576000" cy="1079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2051280" y="3198600"/>
                  <a:ext cx="360" cy="792000"/>
                  <a:chOff x="2051280" y="3198600"/>
                  <a:chExt cx="360" cy="792000"/>
                </a:xfrm>
              </p:grpSpPr>
              <p:sp>
                <p:nvSpPr>
                  <p:cNvPr id="489" name="Line 14"/>
                  <p:cNvSpPr/>
                  <p:nvPr/>
                </p:nvSpPr>
                <p:spPr>
                  <a:xfrm>
                    <a:off x="2051280" y="3198600"/>
                    <a:ext cx="0" cy="79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 txBox="1"/>
                  <p:nvPr/>
                </p:nvSpPr>
                <p:spPr>
                  <a:xfrm>
                    <a:off x="2051280" y="3198600"/>
                    <a:ext cx="360" cy="79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3274920" y="3414600"/>
                  <a:ext cx="360" cy="863280"/>
                  <a:chOff x="3274920" y="3414600"/>
                  <a:chExt cx="360" cy="863280"/>
                </a:xfrm>
              </p:grpSpPr>
              <p:sp>
                <p:nvSpPr>
                  <p:cNvPr id="492" name="Line 15"/>
                  <p:cNvSpPr/>
                  <p:nvPr/>
                </p:nvSpPr>
                <p:spPr>
                  <a:xfrm flipV="1">
                    <a:off x="3275280" y="3414600"/>
                    <a:ext cx="0" cy="86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 txBox="1"/>
                  <p:nvPr/>
                </p:nvSpPr>
                <p:spPr>
                  <a:xfrm rot="10800000">
                    <a:off x="3274920" y="3414600"/>
                    <a:ext cx="360" cy="86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4" name="Text Box 16"/>
                <p:cNvSpPr/>
                <p:nvPr/>
              </p:nvSpPr>
              <p:spPr>
                <a:xfrm>
                  <a:off x="1541880" y="292428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Text Box 17"/>
                <p:cNvSpPr/>
                <p:nvPr/>
              </p:nvSpPr>
              <p:spPr>
                <a:xfrm>
                  <a:off x="3211920" y="33573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18"/>
                <p:cNvSpPr/>
                <p:nvPr/>
              </p:nvSpPr>
              <p:spPr>
                <a:xfrm>
                  <a:off x="1698840" y="364464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"/>
            <p:cNvGrpSpPr/>
            <p:nvPr/>
          </p:nvGrpSpPr>
          <p:grpSpPr>
            <a:xfrm>
              <a:off x="2051280" y="4005360"/>
              <a:ext cx="1224000" cy="287280"/>
              <a:chOff x="2051280" y="4005360"/>
              <a:chExt cx="1224000" cy="287280"/>
            </a:xfrm>
          </p:grpSpPr>
          <p:sp>
            <p:nvSpPr>
              <p:cNvPr id="498" name="Line 19"/>
              <p:cNvSpPr/>
              <p:nvPr/>
            </p:nvSpPr>
            <p:spPr>
              <a:xfrm>
                <a:off x="2051280" y="4005360"/>
                <a:ext cx="122400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2051280" y="4005360"/>
                <a:ext cx="122400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051280" y="3213000"/>
              <a:ext cx="1224000" cy="216000"/>
              <a:chOff x="2051280" y="3213000"/>
              <a:chExt cx="1224000" cy="216000"/>
            </a:xfrm>
          </p:grpSpPr>
          <p:sp>
            <p:nvSpPr>
              <p:cNvPr id="501" name="Line 20"/>
              <p:cNvSpPr/>
              <p:nvPr/>
            </p:nvSpPr>
            <p:spPr>
              <a:xfrm>
                <a:off x="2051280" y="3213000"/>
                <a:ext cx="1224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2051280" y="3213000"/>
                <a:ext cx="122400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1334520" y="476280"/>
            <a:ext cx="340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通过了本节课学习</a:t>
            </a: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,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你有哪些收获</a:t>
            </a:r>
            <a:r>
              <a:rPr b="1" lang="en-US" sz="4000" spc="-1" strike="noStrike">
                <a:solidFill>
                  <a:srgbClr val="009900"/>
                </a:solidFill>
                <a:latin typeface="黑体"/>
                <a:ea typeface="黑体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3"/>
          <p:cNvGrpSpPr/>
          <p:nvPr/>
        </p:nvGrpSpPr>
        <p:grpSpPr>
          <a:xfrm>
            <a:off x="4741920" y="-27000"/>
            <a:ext cx="3623760" cy="2135880"/>
            <a:chOff x="4741920" y="-27000"/>
            <a:chExt cx="3623760" cy="2135880"/>
          </a:xfrm>
        </p:grpSpPr>
        <p:sp>
          <p:nvSpPr>
            <p:cNvPr id="505" name="Text Box 4"/>
            <p:cNvSpPr/>
            <p:nvPr/>
          </p:nvSpPr>
          <p:spPr>
            <a:xfrm>
              <a:off x="5354640" y="-27000"/>
              <a:ext cx="5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5"/>
            <p:cNvSpPr/>
            <p:nvPr/>
          </p:nvSpPr>
          <p:spPr>
            <a:xfrm>
              <a:off x="4741920" y="1344600"/>
              <a:ext cx="55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6"/>
            <p:cNvSpPr/>
            <p:nvPr/>
          </p:nvSpPr>
          <p:spPr>
            <a:xfrm>
              <a:off x="7226280" y="1344600"/>
              <a:ext cx="464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7"/>
            <p:cNvSpPr/>
            <p:nvPr/>
          </p:nvSpPr>
          <p:spPr>
            <a:xfrm>
              <a:off x="7770600" y="-270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Group 8"/>
            <p:cNvGrpSpPr/>
            <p:nvPr/>
          </p:nvGrpSpPr>
          <p:grpSpPr>
            <a:xfrm>
              <a:off x="5147640" y="430200"/>
              <a:ext cx="2771640" cy="1316160"/>
              <a:chOff x="5147640" y="430200"/>
              <a:chExt cx="2771640" cy="1316160"/>
            </a:xfrm>
          </p:grpSpPr>
          <p:sp>
            <p:nvSpPr>
              <p:cNvPr id="510" name="AutoShape 9"/>
              <p:cNvSpPr/>
              <p:nvPr/>
            </p:nvSpPr>
            <p:spPr>
              <a:xfrm>
                <a:off x="5176440" y="430200"/>
                <a:ext cx="2742840" cy="1295280"/>
              </a:xfrm>
              <a:prstGeom prst="parallelogram">
                <a:avLst>
                  <a:gd name="adj" fmla="val 52939"/>
                </a:avLst>
              </a:prstGeom>
              <a:solidFill>
                <a:srgbClr val="ff3399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" name="Group 10"/>
              <p:cNvGrpSpPr/>
              <p:nvPr/>
            </p:nvGrpSpPr>
            <p:grpSpPr>
              <a:xfrm>
                <a:off x="5147640" y="449280"/>
                <a:ext cx="2735280" cy="1297080"/>
                <a:chOff x="5147640" y="449280"/>
                <a:chExt cx="2735280" cy="1297080"/>
              </a:xfrm>
            </p:grpSpPr>
            <p:sp>
              <p:nvSpPr>
                <p:cNvPr id="512" name="Text Box 11"/>
                <p:cNvSpPr/>
                <p:nvPr/>
              </p:nvSpPr>
              <p:spPr>
                <a:xfrm>
                  <a:off x="6886440" y="88092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5866920" y="449280"/>
                  <a:ext cx="1368000" cy="1297080"/>
                  <a:chOff x="5866920" y="449280"/>
                  <a:chExt cx="1368000" cy="1297080"/>
                </a:xfrm>
              </p:grpSpPr>
              <p:sp>
                <p:nvSpPr>
                  <p:cNvPr id="514" name="Line 12"/>
                  <p:cNvSpPr/>
                  <p:nvPr/>
                </p:nvSpPr>
                <p:spPr>
                  <a:xfrm>
                    <a:off x="5866920" y="449280"/>
                    <a:ext cx="1368000" cy="1297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 txBox="1"/>
                  <p:nvPr/>
                </p:nvSpPr>
                <p:spPr>
                  <a:xfrm>
                    <a:off x="5866920" y="449280"/>
                    <a:ext cx="1368000" cy="12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5147640" y="449280"/>
                  <a:ext cx="2735280" cy="1297080"/>
                  <a:chOff x="5147640" y="449280"/>
                  <a:chExt cx="2735280" cy="1297080"/>
                </a:xfrm>
              </p:grpSpPr>
              <p:sp>
                <p:nvSpPr>
                  <p:cNvPr id="517" name="Line 13"/>
                  <p:cNvSpPr/>
                  <p:nvPr/>
                </p:nvSpPr>
                <p:spPr>
                  <a:xfrm flipH="1">
                    <a:off x="5147640" y="449280"/>
                    <a:ext cx="2734920" cy="1297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 txBox="1"/>
                  <p:nvPr/>
                </p:nvSpPr>
                <p:spPr>
                  <a:xfrm>
                    <a:off x="5148000" y="449280"/>
                    <a:ext cx="2734920" cy="12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519" name=""/>
          <p:cNvGraphicFramePr/>
          <p:nvPr/>
        </p:nvGraphicFramePr>
        <p:xfrm>
          <a:off x="250920" y="2205000"/>
          <a:ext cx="8497800" cy="4309920"/>
        </p:xfrm>
        <a:graphic>
          <a:graphicData uri="http://schemas.openxmlformats.org/drawingml/2006/table">
            <a:tbl>
              <a:tblPr/>
              <a:tblGrid>
                <a:gridCol w="4210200"/>
                <a:gridCol w="4287600"/>
              </a:tblGrid>
              <a:tr h="101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、两组对边分别平行的四边形是平行四边形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∵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∥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D∥B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四边形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、两组对边分别相等的四 边形是平行四边形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∵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D=CB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=C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四边形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、两组对角分别相等的四边形是平行四边形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∵ ∠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AD= ∠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，∠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= ∠AD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四边形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、对角线互相平分的四边形是平行四边形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∵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O=OC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O=O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四边形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B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0" y="189000"/>
          <a:ext cx="9144000" cy="6686640"/>
        </p:xfrm>
        <a:graphic>
          <a:graphicData uri="http://schemas.openxmlformats.org/drawingml/2006/table">
            <a:tbl>
              <a:tblPr/>
              <a:tblGrid>
                <a:gridCol w="684360"/>
                <a:gridCol w="3527280"/>
                <a:gridCol w="1873080"/>
                <a:gridCol w="305928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判定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字语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形语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语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两组对边分别平行的四边形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∥CD,AD∥BC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理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两组对边分别相等的四边形是平等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=CD,AD= BC     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定理２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角线互相平分的四边形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A=OC,OB=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   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两组对角分别相等的四边形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∵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=∠C,∠B=∠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1" name="Group 34"/>
          <p:cNvGrpSpPr/>
          <p:nvPr/>
        </p:nvGrpSpPr>
        <p:grpSpPr>
          <a:xfrm>
            <a:off x="4140360" y="981000"/>
            <a:ext cx="1944000" cy="1589400"/>
            <a:chOff x="4140360" y="981000"/>
            <a:chExt cx="1944000" cy="1589400"/>
          </a:xfrm>
        </p:grpSpPr>
        <p:sp>
          <p:nvSpPr>
            <p:cNvPr id="522" name="AutoShape 35"/>
            <p:cNvSpPr/>
            <p:nvPr/>
          </p:nvSpPr>
          <p:spPr>
            <a:xfrm>
              <a:off x="4284720" y="1485720"/>
              <a:ext cx="1655280" cy="504720"/>
            </a:xfrm>
            <a:prstGeom prst="parallelogram">
              <a:avLst>
                <a:gd name="adj" fmla="val 8199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36"/>
            <p:cNvSpPr/>
            <p:nvPr/>
          </p:nvSpPr>
          <p:spPr>
            <a:xfrm>
              <a:off x="4140360" y="1917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Ａ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37"/>
            <p:cNvSpPr/>
            <p:nvPr/>
          </p:nvSpPr>
          <p:spPr>
            <a:xfrm>
              <a:off x="5364000" y="1989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8"/>
            <p:cNvSpPr/>
            <p:nvPr/>
          </p:nvSpPr>
          <p:spPr>
            <a:xfrm>
              <a:off x="5653080" y="981000"/>
              <a:ext cx="4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Ｃ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9"/>
            <p:cNvSpPr/>
            <p:nvPr/>
          </p:nvSpPr>
          <p:spPr>
            <a:xfrm>
              <a:off x="4284720" y="981000"/>
              <a:ext cx="5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Ｄ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40"/>
          <p:cNvGrpSpPr/>
          <p:nvPr/>
        </p:nvGrpSpPr>
        <p:grpSpPr>
          <a:xfrm>
            <a:off x="4067280" y="5270400"/>
            <a:ext cx="1944720" cy="1589400"/>
            <a:chOff x="4067280" y="5270400"/>
            <a:chExt cx="1944720" cy="1589400"/>
          </a:xfrm>
        </p:grpSpPr>
        <p:sp>
          <p:nvSpPr>
            <p:cNvPr id="528" name="AutoShape 41"/>
            <p:cNvSpPr/>
            <p:nvPr/>
          </p:nvSpPr>
          <p:spPr>
            <a:xfrm>
              <a:off x="4212000" y="5775120"/>
              <a:ext cx="1655640" cy="504720"/>
            </a:xfrm>
            <a:prstGeom prst="parallelogram">
              <a:avLst>
                <a:gd name="adj" fmla="val 8200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4067280" y="62067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Ａ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291280" y="62784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4"/>
            <p:cNvSpPr/>
            <p:nvPr/>
          </p:nvSpPr>
          <p:spPr>
            <a:xfrm>
              <a:off x="5580360" y="52704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Ｃ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45"/>
            <p:cNvSpPr/>
            <p:nvPr/>
          </p:nvSpPr>
          <p:spPr>
            <a:xfrm>
              <a:off x="4212000" y="527040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Ｄ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46"/>
          <p:cNvGrpSpPr/>
          <p:nvPr/>
        </p:nvGrpSpPr>
        <p:grpSpPr>
          <a:xfrm>
            <a:off x="4067280" y="2492280"/>
            <a:ext cx="1944720" cy="2886480"/>
            <a:chOff x="4067280" y="2492280"/>
            <a:chExt cx="1944720" cy="2886480"/>
          </a:xfrm>
        </p:grpSpPr>
        <p:grpSp>
          <p:nvGrpSpPr>
            <p:cNvPr id="534" name="Group 47"/>
            <p:cNvGrpSpPr/>
            <p:nvPr/>
          </p:nvGrpSpPr>
          <p:grpSpPr>
            <a:xfrm>
              <a:off x="4067280" y="2492280"/>
              <a:ext cx="1944720" cy="1589400"/>
              <a:chOff x="4067280" y="2492280"/>
              <a:chExt cx="1944720" cy="1589400"/>
            </a:xfrm>
          </p:grpSpPr>
          <p:sp>
            <p:nvSpPr>
              <p:cNvPr id="535" name="AutoShape 48"/>
              <p:cNvSpPr/>
              <p:nvPr/>
            </p:nvSpPr>
            <p:spPr>
              <a:xfrm>
                <a:off x="4212000" y="2997000"/>
                <a:ext cx="1655640" cy="504720"/>
              </a:xfrm>
              <a:prstGeom prst="parallelogram">
                <a:avLst>
                  <a:gd name="adj" fmla="val 8200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49"/>
              <p:cNvSpPr/>
              <p:nvPr/>
            </p:nvSpPr>
            <p:spPr>
              <a:xfrm>
                <a:off x="4067280" y="342864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Ａ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50"/>
              <p:cNvSpPr/>
              <p:nvPr/>
            </p:nvSpPr>
            <p:spPr>
              <a:xfrm>
                <a:off x="5291280" y="35002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Ｂ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51"/>
              <p:cNvSpPr/>
              <p:nvPr/>
            </p:nvSpPr>
            <p:spPr>
              <a:xfrm>
                <a:off x="5580360" y="2492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Ｃ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52"/>
              <p:cNvSpPr/>
              <p:nvPr/>
            </p:nvSpPr>
            <p:spPr>
              <a:xfrm>
                <a:off x="4212000" y="24922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Ｄ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932360" y="3479760"/>
              <a:ext cx="360" cy="71640"/>
              <a:chOff x="4932360" y="3479760"/>
              <a:chExt cx="360" cy="71640"/>
            </a:xfrm>
          </p:grpSpPr>
          <p:sp>
            <p:nvSpPr>
              <p:cNvPr id="541" name="Line 53"/>
              <p:cNvSpPr/>
              <p:nvPr/>
            </p:nvSpPr>
            <p:spPr>
              <a:xfrm>
                <a:off x="4932360" y="347976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>
                <a:off x="4932360" y="3479760"/>
                <a:ext cx="36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003640" y="3500280"/>
              <a:ext cx="360" cy="71640"/>
              <a:chOff x="5003640" y="3500280"/>
              <a:chExt cx="360" cy="71640"/>
            </a:xfrm>
          </p:grpSpPr>
          <p:sp>
            <p:nvSpPr>
              <p:cNvPr id="544" name="Line 54"/>
              <p:cNvSpPr/>
              <p:nvPr/>
            </p:nvSpPr>
            <p:spPr>
              <a:xfrm>
                <a:off x="5003640" y="350028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5003640" y="3500280"/>
                <a:ext cx="36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219640" y="2955960"/>
              <a:ext cx="360" cy="71280"/>
              <a:chOff x="5219640" y="2955960"/>
              <a:chExt cx="360" cy="71280"/>
            </a:xfrm>
          </p:grpSpPr>
          <p:sp>
            <p:nvSpPr>
              <p:cNvPr id="547" name="Line 55"/>
              <p:cNvSpPr/>
              <p:nvPr/>
            </p:nvSpPr>
            <p:spPr>
              <a:xfrm>
                <a:off x="5219640" y="29559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5219640" y="29559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292720" y="2955960"/>
              <a:ext cx="360" cy="71280"/>
              <a:chOff x="5292720" y="2955960"/>
              <a:chExt cx="360" cy="71280"/>
            </a:xfrm>
          </p:grpSpPr>
          <p:sp>
            <p:nvSpPr>
              <p:cNvPr id="550" name="Line 56"/>
              <p:cNvSpPr/>
              <p:nvPr/>
            </p:nvSpPr>
            <p:spPr>
              <a:xfrm>
                <a:off x="5292720" y="295596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>
                <a:off x="5292720" y="29559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57"/>
            <p:cNvGrpSpPr/>
            <p:nvPr/>
          </p:nvGrpSpPr>
          <p:grpSpPr>
            <a:xfrm>
              <a:off x="4067280" y="3789360"/>
              <a:ext cx="1944720" cy="1589400"/>
              <a:chOff x="4067280" y="3789360"/>
              <a:chExt cx="1944720" cy="1589400"/>
            </a:xfrm>
          </p:grpSpPr>
          <p:grpSp>
            <p:nvGrpSpPr>
              <p:cNvPr id="553" name="Group 58"/>
              <p:cNvGrpSpPr/>
              <p:nvPr/>
            </p:nvGrpSpPr>
            <p:grpSpPr>
              <a:xfrm>
                <a:off x="4067280" y="3789360"/>
                <a:ext cx="1944720" cy="1589400"/>
                <a:chOff x="4067280" y="3789360"/>
                <a:chExt cx="1944720" cy="1589400"/>
              </a:xfrm>
            </p:grpSpPr>
            <p:grpSp>
              <p:nvGrpSpPr>
                <p:cNvPr id="554" name="Group 59"/>
                <p:cNvGrpSpPr/>
                <p:nvPr/>
              </p:nvGrpSpPr>
              <p:grpSpPr>
                <a:xfrm>
                  <a:off x="4067280" y="3789360"/>
                  <a:ext cx="1944720" cy="1589400"/>
                  <a:chOff x="4067280" y="3789360"/>
                  <a:chExt cx="1944720" cy="1589400"/>
                </a:xfrm>
              </p:grpSpPr>
              <p:sp>
                <p:nvSpPr>
                  <p:cNvPr id="555" name="AutoShape 60"/>
                  <p:cNvSpPr/>
                  <p:nvPr/>
                </p:nvSpPr>
                <p:spPr>
                  <a:xfrm>
                    <a:off x="4212000" y="4294080"/>
                    <a:ext cx="1655640" cy="504720"/>
                  </a:xfrm>
                  <a:prstGeom prst="parallelogram">
                    <a:avLst>
                      <a:gd name="adj" fmla="val 8200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Text Box 61"/>
                  <p:cNvSpPr/>
                  <p:nvPr/>
                </p:nvSpPr>
                <p:spPr>
                  <a:xfrm>
                    <a:off x="4067280" y="4725720"/>
                    <a:ext cx="432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Ａ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Text Box 62"/>
                  <p:cNvSpPr/>
                  <p:nvPr/>
                </p:nvSpPr>
                <p:spPr>
                  <a:xfrm>
                    <a:off x="5291280" y="4797360"/>
                    <a:ext cx="5763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Ｂ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Text Box 63"/>
                  <p:cNvSpPr/>
                  <p:nvPr/>
                </p:nvSpPr>
                <p:spPr>
                  <a:xfrm>
                    <a:off x="5580360" y="3789360"/>
                    <a:ext cx="431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Ｃ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Text Box 64"/>
                  <p:cNvSpPr/>
                  <p:nvPr/>
                </p:nvSpPr>
                <p:spPr>
                  <a:xfrm>
                    <a:off x="4212000" y="3789360"/>
                    <a:ext cx="5029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Ｄ</a:t>
                    </a: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4211280" y="4294080"/>
                  <a:ext cx="1656000" cy="503280"/>
                  <a:chOff x="4211280" y="4294080"/>
                  <a:chExt cx="1656000" cy="503280"/>
                </a:xfrm>
              </p:grpSpPr>
              <p:sp>
                <p:nvSpPr>
                  <p:cNvPr id="561" name="Line 65"/>
                  <p:cNvSpPr/>
                  <p:nvPr/>
                </p:nvSpPr>
                <p:spPr>
                  <a:xfrm flipV="1">
                    <a:off x="4211640" y="4294080"/>
                    <a:ext cx="1655640" cy="50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 txBox="1"/>
                  <p:nvPr/>
                </p:nvSpPr>
                <p:spPr>
                  <a:xfrm rot="10800000">
                    <a:off x="4211280" y="4294080"/>
                    <a:ext cx="1655640" cy="50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4643280" y="4294080"/>
                  <a:ext cx="792360" cy="503280"/>
                  <a:chOff x="4643280" y="4294080"/>
                  <a:chExt cx="792360" cy="503280"/>
                </a:xfrm>
              </p:grpSpPr>
              <p:sp>
                <p:nvSpPr>
                  <p:cNvPr id="564" name="Line 66"/>
                  <p:cNvSpPr/>
                  <p:nvPr/>
                </p:nvSpPr>
                <p:spPr>
                  <a:xfrm>
                    <a:off x="4643280" y="4294080"/>
                    <a:ext cx="792360" cy="50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 txBox="1"/>
                  <p:nvPr/>
                </p:nvSpPr>
                <p:spPr>
                  <a:xfrm>
                    <a:off x="4643280" y="4294080"/>
                    <a:ext cx="792360" cy="50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" name="Text Box 67"/>
                <p:cNvSpPr/>
                <p:nvPr/>
              </p:nvSpPr>
              <p:spPr>
                <a:xfrm>
                  <a:off x="4932360" y="4365360"/>
                  <a:ext cx="36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572000" y="4653000"/>
                <a:ext cx="360" cy="71280"/>
                <a:chOff x="4572000" y="4653000"/>
                <a:chExt cx="360" cy="71280"/>
              </a:xfrm>
            </p:grpSpPr>
            <p:sp>
              <p:nvSpPr>
                <p:cNvPr id="568" name="Line 68"/>
                <p:cNvSpPr/>
                <p:nvPr/>
              </p:nvSpPr>
              <p:spPr>
                <a:xfrm>
                  <a:off x="4572000" y="465300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 txBox="1"/>
                <p:nvPr/>
              </p:nvSpPr>
              <p:spPr>
                <a:xfrm>
                  <a:off x="4572000" y="465300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5283360" y="4653000"/>
                <a:ext cx="360" cy="71280"/>
                <a:chOff x="5283360" y="4653000"/>
                <a:chExt cx="360" cy="71280"/>
              </a:xfrm>
            </p:grpSpPr>
            <p:sp>
              <p:nvSpPr>
                <p:cNvPr id="571" name="Line 69"/>
                <p:cNvSpPr/>
                <p:nvPr/>
              </p:nvSpPr>
              <p:spPr>
                <a:xfrm>
                  <a:off x="5283360" y="465300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 txBox="1"/>
                <p:nvPr/>
              </p:nvSpPr>
              <p:spPr>
                <a:xfrm>
                  <a:off x="5283360" y="465300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859280" y="4395960"/>
                <a:ext cx="360" cy="71280"/>
                <a:chOff x="4859280" y="4395960"/>
                <a:chExt cx="360" cy="71280"/>
              </a:xfrm>
            </p:grpSpPr>
            <p:sp>
              <p:nvSpPr>
                <p:cNvPr id="574" name="Line 70"/>
                <p:cNvSpPr/>
                <p:nvPr/>
              </p:nvSpPr>
              <p:spPr>
                <a:xfrm>
                  <a:off x="4859280" y="439596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 txBox="1"/>
                <p:nvPr/>
              </p:nvSpPr>
              <p:spPr>
                <a:xfrm>
                  <a:off x="4859280" y="439596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643280" y="4643280"/>
                <a:ext cx="360" cy="71640"/>
                <a:chOff x="4643280" y="4643280"/>
                <a:chExt cx="360" cy="71640"/>
              </a:xfrm>
            </p:grpSpPr>
            <p:sp>
              <p:nvSpPr>
                <p:cNvPr id="577" name="Line 71"/>
                <p:cNvSpPr/>
                <p:nvPr/>
              </p:nvSpPr>
              <p:spPr>
                <a:xfrm>
                  <a:off x="4643280" y="464328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 txBox="1"/>
                <p:nvPr/>
              </p:nvSpPr>
              <p:spPr>
                <a:xfrm>
                  <a:off x="4643280" y="4643280"/>
                  <a:ext cx="36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5435640" y="4386240"/>
                <a:ext cx="360" cy="71640"/>
                <a:chOff x="5435640" y="4386240"/>
                <a:chExt cx="360" cy="71640"/>
              </a:xfrm>
            </p:grpSpPr>
            <p:sp>
              <p:nvSpPr>
                <p:cNvPr id="580" name="Line 72"/>
                <p:cNvSpPr/>
                <p:nvPr/>
              </p:nvSpPr>
              <p:spPr>
                <a:xfrm>
                  <a:off x="5435640" y="438624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5435640" y="4386240"/>
                  <a:ext cx="36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5364000" y="4416480"/>
                <a:ext cx="360" cy="71280"/>
                <a:chOff x="5364000" y="4416480"/>
                <a:chExt cx="360" cy="71280"/>
              </a:xfrm>
            </p:grpSpPr>
            <p:sp>
              <p:nvSpPr>
                <p:cNvPr id="583" name="Line 73"/>
                <p:cNvSpPr/>
                <p:nvPr/>
              </p:nvSpPr>
              <p:spPr>
                <a:xfrm>
                  <a:off x="5364000" y="4416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 txBox="1"/>
                <p:nvPr/>
              </p:nvSpPr>
              <p:spPr>
                <a:xfrm>
                  <a:off x="5364000" y="441648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5" name=""/>
            <p:cNvGrpSpPr/>
            <p:nvPr/>
          </p:nvGrpSpPr>
          <p:grpSpPr>
            <a:xfrm>
              <a:off x="4500720" y="3121200"/>
              <a:ext cx="360" cy="71280"/>
              <a:chOff x="4500720" y="3121200"/>
              <a:chExt cx="360" cy="71280"/>
            </a:xfrm>
          </p:grpSpPr>
          <p:sp>
            <p:nvSpPr>
              <p:cNvPr id="586" name="Line 74"/>
              <p:cNvSpPr/>
              <p:nvPr/>
            </p:nvSpPr>
            <p:spPr>
              <a:xfrm>
                <a:off x="4500720" y="31212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>
                <a:off x="4500720" y="31212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5651640" y="3254400"/>
              <a:ext cx="360" cy="71280"/>
              <a:chOff x="5651640" y="3254400"/>
              <a:chExt cx="360" cy="71280"/>
            </a:xfrm>
          </p:grpSpPr>
          <p:sp>
            <p:nvSpPr>
              <p:cNvPr id="589" name="Line 75"/>
              <p:cNvSpPr/>
              <p:nvPr/>
            </p:nvSpPr>
            <p:spPr>
              <a:xfrm>
                <a:off x="5651640" y="325440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>
                <a:off x="5651640" y="32544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250920" y="189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将一根木棒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平移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之间的位置关系、数量关系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06680" y="2637000"/>
            <a:ext cx="3024360" cy="360"/>
            <a:chOff x="3406680" y="2637000"/>
            <a:chExt cx="3024360" cy="360"/>
          </a:xfrm>
        </p:grpSpPr>
        <p:sp>
          <p:nvSpPr>
            <p:cNvPr id="593" name="Line 3"/>
            <p:cNvSpPr/>
            <p:nvPr/>
          </p:nvSpPr>
          <p:spPr>
            <a:xfrm>
              <a:off x="3406680" y="2637000"/>
              <a:ext cx="3024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3406680" y="2637000"/>
              <a:ext cx="30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406680" y="2635200"/>
            <a:ext cx="3024360" cy="360"/>
            <a:chOff x="3406680" y="2635200"/>
            <a:chExt cx="3024360" cy="360"/>
          </a:xfrm>
        </p:grpSpPr>
        <p:sp>
          <p:nvSpPr>
            <p:cNvPr id="596" name="Line 4"/>
            <p:cNvSpPr/>
            <p:nvPr/>
          </p:nvSpPr>
          <p:spPr>
            <a:xfrm>
              <a:off x="3406680" y="2635200"/>
              <a:ext cx="3024360" cy="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406680" y="2635200"/>
              <a:ext cx="30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5"/>
          <p:cNvGrpSpPr/>
          <p:nvPr/>
        </p:nvGrpSpPr>
        <p:grpSpPr>
          <a:xfrm>
            <a:off x="3017880" y="2162160"/>
            <a:ext cx="3859200" cy="624240"/>
            <a:chOff x="3017880" y="2162160"/>
            <a:chExt cx="3859200" cy="624240"/>
          </a:xfrm>
        </p:grpSpPr>
        <p:sp>
          <p:nvSpPr>
            <p:cNvPr id="599" name="Text Box 6"/>
            <p:cNvSpPr/>
            <p:nvPr/>
          </p:nvSpPr>
          <p:spPr>
            <a:xfrm>
              <a:off x="3017880" y="21621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7"/>
            <p:cNvSpPr/>
            <p:nvPr/>
          </p:nvSpPr>
          <p:spPr>
            <a:xfrm>
              <a:off x="6445080" y="220500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"/>
          <p:cNvGrpSpPr/>
          <p:nvPr/>
        </p:nvGrpSpPr>
        <p:grpSpPr>
          <a:xfrm>
            <a:off x="2038320" y="4149720"/>
            <a:ext cx="3643200" cy="595800"/>
            <a:chOff x="2038320" y="4149720"/>
            <a:chExt cx="3643200" cy="595800"/>
          </a:xfrm>
        </p:grpSpPr>
        <p:sp>
          <p:nvSpPr>
            <p:cNvPr id="602" name="Text Box 9"/>
            <p:cNvSpPr/>
            <p:nvPr/>
          </p:nvSpPr>
          <p:spPr>
            <a:xfrm>
              <a:off x="5249880" y="41641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0"/>
            <p:cNvSpPr/>
            <p:nvPr/>
          </p:nvSpPr>
          <p:spPr>
            <a:xfrm>
              <a:off x="2038320" y="414972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11"/>
          <p:cNvSpPr/>
          <p:nvPr/>
        </p:nvSpPr>
        <p:spPr>
          <a:xfrm>
            <a:off x="755640" y="1484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四边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是什么样的图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2411280" y="2565360"/>
            <a:ext cx="4032360" cy="1655640"/>
          </a:xfrm>
          <a:prstGeom prst="parallelogram">
            <a:avLst>
              <a:gd name="adj" fmla="val 60888"/>
            </a:avLst>
          </a:prstGeom>
          <a:solidFill>
            <a:srgbClr val="a1d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179280" y="4869000"/>
            <a:ext cx="8785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猜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一组对边平行且相等的四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形是平行四边形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250920" y="189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将一根木棒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平移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之间的位置关系、数量关系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755640" y="1484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四边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是什么样的图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419640" y="2565360"/>
            <a:ext cx="3024000" cy="360"/>
            <a:chOff x="3419640" y="2565360"/>
            <a:chExt cx="3024000" cy="360"/>
          </a:xfrm>
        </p:grpSpPr>
        <p:sp>
          <p:nvSpPr>
            <p:cNvPr id="610" name="Line 16"/>
            <p:cNvSpPr/>
            <p:nvPr/>
          </p:nvSpPr>
          <p:spPr>
            <a:xfrm>
              <a:off x="3419640" y="2565360"/>
              <a:ext cx="30240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3419640" y="2565360"/>
              <a:ext cx="30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6185E-006 L -0.11007 0.24116 E">
                                      <p:cBhvr>
                                        <p:cTn id="468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2"/>
          <p:cNvSpPr/>
          <p:nvPr/>
        </p:nvSpPr>
        <p:spPr>
          <a:xfrm>
            <a:off x="4630680" y="1393920"/>
            <a:ext cx="4032360" cy="1655640"/>
          </a:xfrm>
          <a:prstGeom prst="parallelogram">
            <a:avLst>
              <a:gd name="adj" fmla="val 60888"/>
            </a:avLst>
          </a:prstGeom>
          <a:solidFill>
            <a:srgbClr val="a1d3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624640" y="1397160"/>
            <a:ext cx="3024000" cy="360"/>
            <a:chOff x="5624640" y="1397160"/>
            <a:chExt cx="3024000" cy="360"/>
          </a:xfrm>
        </p:grpSpPr>
        <p:sp>
          <p:nvSpPr>
            <p:cNvPr id="614" name="Line 3"/>
            <p:cNvSpPr/>
            <p:nvPr/>
          </p:nvSpPr>
          <p:spPr>
            <a:xfrm>
              <a:off x="5624640" y="1397160"/>
              <a:ext cx="3024000" cy="0"/>
            </a:xfrm>
            <a:prstGeom prst="line">
              <a:avLst/>
            </a:prstGeom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5624640" y="1397160"/>
              <a:ext cx="30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"/>
          <p:cNvGrpSpPr/>
          <p:nvPr/>
        </p:nvGrpSpPr>
        <p:grpSpPr>
          <a:xfrm>
            <a:off x="5249880" y="919080"/>
            <a:ext cx="3859200" cy="624240"/>
            <a:chOff x="5249880" y="919080"/>
            <a:chExt cx="3859200" cy="624240"/>
          </a:xfrm>
        </p:grpSpPr>
        <p:sp>
          <p:nvSpPr>
            <p:cNvPr id="617" name="Text Box 5"/>
            <p:cNvSpPr/>
            <p:nvPr/>
          </p:nvSpPr>
          <p:spPr>
            <a:xfrm>
              <a:off x="5249880" y="9190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6"/>
            <p:cNvSpPr/>
            <p:nvPr/>
          </p:nvSpPr>
          <p:spPr>
            <a:xfrm>
              <a:off x="8677080" y="9619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716000" y="1398240"/>
            <a:ext cx="3902400" cy="1598760"/>
            <a:chOff x="4716000" y="1398240"/>
            <a:chExt cx="3902400" cy="1598760"/>
          </a:xfrm>
        </p:grpSpPr>
        <p:sp>
          <p:nvSpPr>
            <p:cNvPr id="620" name="Line 7"/>
            <p:cNvSpPr/>
            <p:nvPr/>
          </p:nvSpPr>
          <p:spPr>
            <a:xfrm flipV="1">
              <a:off x="4716360" y="1398240"/>
              <a:ext cx="3902040" cy="1598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 rot="10800000">
              <a:off x="4716000" y="1397880"/>
              <a:ext cx="3902040" cy="159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8"/>
          <p:cNvGrpSpPr/>
          <p:nvPr/>
        </p:nvGrpSpPr>
        <p:grpSpPr>
          <a:xfrm>
            <a:off x="4270320" y="2906640"/>
            <a:ext cx="3643200" cy="595800"/>
            <a:chOff x="4270320" y="2906640"/>
            <a:chExt cx="3643200" cy="595800"/>
          </a:xfrm>
        </p:grpSpPr>
        <p:sp>
          <p:nvSpPr>
            <p:cNvPr id="623" name="Text Box 9"/>
            <p:cNvSpPr/>
            <p:nvPr/>
          </p:nvSpPr>
          <p:spPr>
            <a:xfrm>
              <a:off x="7481880" y="29210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0"/>
            <p:cNvSpPr/>
            <p:nvPr/>
          </p:nvSpPr>
          <p:spPr>
            <a:xfrm>
              <a:off x="4270320" y="290664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 Box 11"/>
          <p:cNvSpPr/>
          <p:nvPr/>
        </p:nvSpPr>
        <p:spPr>
          <a:xfrm>
            <a:off x="0" y="115920"/>
            <a:ext cx="93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猜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组对边平行且相等的四边形是平行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0" y="620640"/>
            <a:ext cx="50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四边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0" y="1628640"/>
            <a:ext cx="502596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四边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34920" y="2637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连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629240" y="3040200"/>
            <a:ext cx="3024000" cy="360"/>
            <a:chOff x="4629240" y="3040200"/>
            <a:chExt cx="3024000" cy="360"/>
          </a:xfrm>
        </p:grpSpPr>
        <p:sp>
          <p:nvSpPr>
            <p:cNvPr id="630" name="Line 15"/>
            <p:cNvSpPr/>
            <p:nvPr/>
          </p:nvSpPr>
          <p:spPr>
            <a:xfrm>
              <a:off x="4629240" y="3040200"/>
              <a:ext cx="30240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4629240" y="3040200"/>
              <a:ext cx="30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16"/>
          <p:cNvGrpSpPr/>
          <p:nvPr/>
        </p:nvGrpSpPr>
        <p:grpSpPr>
          <a:xfrm>
            <a:off x="1171440" y="3141720"/>
            <a:ext cx="4733640" cy="2956320"/>
            <a:chOff x="1171440" y="3141720"/>
            <a:chExt cx="4733640" cy="2956320"/>
          </a:xfrm>
        </p:grpSpPr>
        <p:sp>
          <p:nvSpPr>
            <p:cNvPr id="633" name="Text Box 17"/>
            <p:cNvSpPr/>
            <p:nvPr/>
          </p:nvSpPr>
          <p:spPr>
            <a:xfrm>
              <a:off x="1187280" y="3141720"/>
              <a:ext cx="252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∵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8"/>
            <p:cNvSpPr/>
            <p:nvPr/>
          </p:nvSpPr>
          <p:spPr>
            <a:xfrm>
              <a:off x="1286640" y="3641760"/>
              <a:ext cx="350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∴∠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D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∠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D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9"/>
            <p:cNvSpPr/>
            <p:nvPr/>
          </p:nvSpPr>
          <p:spPr>
            <a:xfrm>
              <a:off x="1171440" y="4149720"/>
              <a:ext cx="450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D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D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0"/>
            <p:cNvSpPr/>
            <p:nvPr/>
          </p:nvSpPr>
          <p:spPr>
            <a:xfrm>
              <a:off x="1388520" y="4649760"/>
              <a:ext cx="32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∴△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D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≌△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D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1"/>
            <p:cNvSpPr/>
            <p:nvPr/>
          </p:nvSpPr>
          <p:spPr>
            <a:xfrm>
              <a:off x="1238040" y="5084640"/>
              <a:ext cx="221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D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＝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2"/>
            <p:cNvSpPr/>
            <p:nvPr/>
          </p:nvSpPr>
          <p:spPr>
            <a:xfrm>
              <a:off x="1848240" y="5516640"/>
              <a:ext cx="40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边形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BCD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是平行四边形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23"/>
          <p:cNvGrpSpPr/>
          <p:nvPr/>
        </p:nvGrpSpPr>
        <p:grpSpPr>
          <a:xfrm>
            <a:off x="5514840" y="2675160"/>
            <a:ext cx="4054680" cy="3811320"/>
            <a:chOff x="5514840" y="2675160"/>
            <a:chExt cx="4054680" cy="3811320"/>
          </a:xfrm>
        </p:grpSpPr>
        <p:sp>
          <p:nvSpPr>
            <p:cNvPr id="640" name="AutoShape 24"/>
            <p:cNvSpPr/>
            <p:nvPr/>
          </p:nvSpPr>
          <p:spPr>
            <a:xfrm rot="1719600">
              <a:off x="5940360" y="3284280"/>
              <a:ext cx="3203640" cy="2592360"/>
            </a:xfrm>
            <a:prstGeom prst="irregularSeal2">
              <a:avLst/>
            </a:prstGeom>
            <a:gradFill rotWithShape="0">
              <a:gsLst>
                <a:gs pos="0">
                  <a:srgbClr val="4b6275"/>
                </a:gs>
                <a:gs pos="50000">
                  <a:srgbClr val="a1d3fd"/>
                </a:gs>
                <a:gs pos="100000">
                  <a:srgbClr val="4b6275"/>
                </a:gs>
              </a:gsLst>
              <a:lin ang="97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5"/>
            <p:cNvSpPr/>
            <p:nvPr/>
          </p:nvSpPr>
          <p:spPr>
            <a:xfrm>
              <a:off x="6588000" y="407664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你还有其他证明方法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2071800" y="69228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判定方法（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(P88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179280" y="2781360"/>
            <a:ext cx="853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一组对边平行且相等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（记作：“   ”）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的四边形是平行四边形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5"/>
          <p:cNvSpPr/>
          <p:nvPr/>
        </p:nvSpPr>
        <p:spPr>
          <a:xfrm>
            <a:off x="5343480" y="400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292720" y="40971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6000" y="117000"/>
            <a:ext cx="630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归纳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行四边形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判定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673092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□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ABC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02"/>
          <p:cNvPicPr/>
          <p:nvPr/>
        </p:nvPicPr>
        <p:blipFill>
          <a:blip r:embed="rId1"/>
          <a:stretch/>
        </p:blipFill>
        <p:spPr>
          <a:xfrm>
            <a:off x="0" y="4653000"/>
            <a:ext cx="1960560" cy="22050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5"/>
          <p:cNvSpPr/>
          <p:nvPr/>
        </p:nvSpPr>
        <p:spPr>
          <a:xfrm>
            <a:off x="250920" y="844560"/>
            <a:ext cx="59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B∥CD, BC∥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250920" y="158112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AB=CD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C=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50920" y="300348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∠A= ∠C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 ∠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=∠ 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324000" y="2276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AO=OC, BO=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324000" y="3716280"/>
            <a:ext cx="66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AB∥CD,AB=C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0"/>
          <p:cNvSpPr/>
          <p:nvPr/>
        </p:nvSpPr>
        <p:spPr>
          <a:xfrm>
            <a:off x="3986280" y="5013360"/>
            <a:ext cx="3095640" cy="1366920"/>
          </a:xfrm>
          <a:prstGeom prst="parallelogram">
            <a:avLst>
              <a:gd name="adj" fmla="val 56617"/>
            </a:avLst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559760" y="450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3628080" y="6294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6364800" y="623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701244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778280" y="5013360"/>
            <a:ext cx="1513080" cy="1368360"/>
            <a:chOff x="4778280" y="5013360"/>
            <a:chExt cx="1513080" cy="1368360"/>
          </a:xfrm>
        </p:grpSpPr>
        <p:sp>
          <p:nvSpPr>
            <p:cNvPr id="661" name="Line 15"/>
            <p:cNvSpPr/>
            <p:nvPr/>
          </p:nvSpPr>
          <p:spPr>
            <a:xfrm>
              <a:off x="4778280" y="5013360"/>
              <a:ext cx="1513080" cy="1368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4778280" y="5013360"/>
              <a:ext cx="151308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85920" y="5013000"/>
            <a:ext cx="3097440" cy="1368360"/>
            <a:chOff x="3985920" y="5013000"/>
            <a:chExt cx="3097440" cy="1368360"/>
          </a:xfrm>
        </p:grpSpPr>
        <p:sp>
          <p:nvSpPr>
            <p:cNvPr id="664" name="Line 16"/>
            <p:cNvSpPr/>
            <p:nvPr/>
          </p:nvSpPr>
          <p:spPr>
            <a:xfrm flipV="1">
              <a:off x="3986280" y="5013000"/>
              <a:ext cx="3097080" cy="1368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 rot="10800000">
              <a:off x="3985920" y="5013000"/>
              <a:ext cx="309708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17"/>
          <p:cNvSpPr/>
          <p:nvPr/>
        </p:nvSpPr>
        <p:spPr>
          <a:xfrm>
            <a:off x="5409000" y="52135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8"/>
          <p:cNvSpPr/>
          <p:nvPr/>
        </p:nvSpPr>
        <p:spPr>
          <a:xfrm>
            <a:off x="5506920" y="1700280"/>
            <a:ext cx="1224000" cy="647640"/>
          </a:xfrm>
          <a:prstGeom prst="rightArrow">
            <a:avLst>
              <a:gd name="adj1" fmla="val 50000"/>
              <a:gd name="adj2" fmla="val 47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004760" y="1827360"/>
            <a:ext cx="2044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华文中宋"/>
                <a:ea typeface="华文中宋"/>
              </a:rPr>
              <a:t>☆</a:t>
            </a:r>
            <a:r>
              <a:rPr b="1" lang="zh-CN" sz="3200" spc="-1" strike="noStrike">
                <a:solidFill>
                  <a:srgbClr val="ff9933"/>
                </a:solidFill>
                <a:latin typeface="华文中宋"/>
                <a:ea typeface="华文中宋"/>
              </a:rPr>
              <a:t>定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446120" y="5467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249200" y="413244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平行四边形对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776840" y="4132440"/>
            <a:ext cx="37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别相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别相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322280" y="4851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平行四边形对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923000" y="4851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别相等，邻角互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1322280" y="55720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平行四边形对角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5354640" y="55720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互相平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1322280" y="674640"/>
            <a:ext cx="617220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平行四边形的性质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766800" y="2548080"/>
            <a:ext cx="82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组对边分别平行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890640" y="329580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☆ </a:t>
            </a:r>
            <a:r>
              <a:rPr b="1" lang="zh-CN" sz="3200" spc="-1" strike="noStrike">
                <a:solidFill>
                  <a:srgbClr val="ff9966"/>
                </a:solidFill>
                <a:latin typeface="Times New Roman"/>
                <a:ea typeface="宋体"/>
              </a:rPr>
              <a:t>性质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宋体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9"/>
          <p:cNvPicPr/>
          <p:nvPr/>
        </p:nvPicPr>
        <p:blipFill>
          <a:blip r:embed="rId1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9"/>
          <p:cNvPicPr/>
          <p:nvPr/>
        </p:nvPicPr>
        <p:blipFill>
          <a:blip r:embed="rId2"/>
          <a:stretch/>
        </p:blipFill>
        <p:spPr>
          <a:xfrm>
            <a:off x="34920" y="44280"/>
            <a:ext cx="9144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403280" y="23353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两组对边分别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3"/>
          <p:cNvSpPr/>
          <p:nvPr/>
        </p:nvSpPr>
        <p:spPr>
          <a:xfrm>
            <a:off x="4716360" y="1916280"/>
            <a:ext cx="289080" cy="1512720"/>
          </a:xfrm>
          <a:custGeom>
            <a:avLst/>
            <a:gdLst>
              <a:gd name="textAreaLeft" fmla="*/ 0 w 289080"/>
              <a:gd name="textAreaRight" fmla="*/ 10440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4"/>
          <p:cNvSpPr/>
          <p:nvPr/>
        </p:nvSpPr>
        <p:spPr>
          <a:xfrm>
            <a:off x="1258920" y="191628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5" descr="27_4200_1976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52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673" name="Group 7"/>
          <p:cNvGrpSpPr/>
          <p:nvPr/>
        </p:nvGrpSpPr>
        <p:grpSpPr>
          <a:xfrm>
            <a:off x="0" y="189000"/>
            <a:ext cx="8805960" cy="5574960"/>
            <a:chOff x="0" y="189000"/>
            <a:chExt cx="8805960" cy="5574960"/>
          </a:xfrm>
        </p:grpSpPr>
        <p:sp>
          <p:nvSpPr>
            <p:cNvPr id="674" name="Text Box 8"/>
            <p:cNvSpPr/>
            <p:nvPr/>
          </p:nvSpPr>
          <p:spPr>
            <a:xfrm>
              <a:off x="1547640" y="407808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Arial"/>
                </a:rPr>
                <a:t>两组对角分别相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9"/>
            <p:cNvSpPr/>
            <p:nvPr/>
          </p:nvSpPr>
          <p:spPr>
            <a:xfrm>
              <a:off x="1547640" y="52434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Arial"/>
                </a:rPr>
                <a:t>对角线互相平分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0"/>
            <p:cNvSpPr/>
            <p:nvPr/>
          </p:nvSpPr>
          <p:spPr>
            <a:xfrm>
              <a:off x="1403280" y="170172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两组对边分别平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1"/>
            <p:cNvSpPr/>
            <p:nvPr/>
          </p:nvSpPr>
          <p:spPr>
            <a:xfrm>
              <a:off x="1403280" y="292572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一组对边平行且相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5278320" y="3487680"/>
              <a:ext cx="35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6699"/>
                  </a:solidFill>
                  <a:latin typeface="Arial"/>
                </a:rPr>
                <a:t>四边形是平行四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13"/>
            <p:cNvSpPr/>
            <p:nvPr/>
          </p:nvSpPr>
          <p:spPr>
            <a:xfrm>
              <a:off x="5076720" y="1844640"/>
              <a:ext cx="216000" cy="38178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99360 h 3817800"/>
                <a:gd name="textAreaBottom" fmla="*/ 3718440 h 381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14"/>
            <p:cNvSpPr/>
            <p:nvPr/>
          </p:nvSpPr>
          <p:spPr>
            <a:xfrm>
              <a:off x="615240" y="2421000"/>
              <a:ext cx="606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</a:rPr>
                <a:t>边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15"/>
            <p:cNvSpPr/>
            <p:nvPr/>
          </p:nvSpPr>
          <p:spPr>
            <a:xfrm>
              <a:off x="615240" y="4149720"/>
              <a:ext cx="606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</a:rPr>
                <a:t>角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6"/>
            <p:cNvSpPr/>
            <p:nvPr/>
          </p:nvSpPr>
          <p:spPr>
            <a:xfrm>
              <a:off x="0" y="5214960"/>
              <a:ext cx="17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Arial"/>
                </a:rPr>
                <a:t>对角线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17"/>
            <p:cNvSpPr/>
            <p:nvPr/>
          </p:nvSpPr>
          <p:spPr>
            <a:xfrm>
              <a:off x="468360" y="189000"/>
              <a:ext cx="75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</a:rPr>
                <a:t>平行四边形的判定方法分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669960" y="781200"/>
            <a:ext cx="74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什么叫三角形的中线？有几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644400" y="2708280"/>
            <a:ext cx="62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三角形的中线有哪些性质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17840" y="3214800"/>
            <a:ext cx="2160720" cy="1582560"/>
            <a:chOff x="5217840" y="3214800"/>
            <a:chExt cx="2160720" cy="1582560"/>
          </a:xfrm>
        </p:grpSpPr>
        <p:sp>
          <p:nvSpPr>
            <p:cNvPr id="687" name="Line 4"/>
            <p:cNvSpPr/>
            <p:nvPr/>
          </p:nvSpPr>
          <p:spPr>
            <a:xfrm flipH="1">
              <a:off x="5217840" y="3214800"/>
              <a:ext cx="2160360" cy="1582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5218200" y="3214800"/>
              <a:ext cx="216036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218200" y="4797360"/>
            <a:ext cx="2808360" cy="360"/>
            <a:chOff x="5218200" y="4797360"/>
            <a:chExt cx="2808360" cy="360"/>
          </a:xfrm>
        </p:grpSpPr>
        <p:sp>
          <p:nvSpPr>
            <p:cNvPr id="690" name="Line 5"/>
            <p:cNvSpPr/>
            <p:nvPr/>
          </p:nvSpPr>
          <p:spPr>
            <a:xfrm>
              <a:off x="5218200" y="479736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5218200" y="4797360"/>
              <a:ext cx="28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7378560" y="3214800"/>
            <a:ext cx="648000" cy="1582560"/>
            <a:chOff x="7378560" y="3214800"/>
            <a:chExt cx="648000" cy="1582560"/>
          </a:xfrm>
        </p:grpSpPr>
        <p:sp>
          <p:nvSpPr>
            <p:cNvPr id="693" name="Line 6"/>
            <p:cNvSpPr/>
            <p:nvPr/>
          </p:nvSpPr>
          <p:spPr>
            <a:xfrm flipH="1" flipV="1">
              <a:off x="7378560" y="3214800"/>
              <a:ext cx="648000" cy="1582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 rot="10800000">
              <a:off x="7378560" y="3214800"/>
              <a:ext cx="64800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7"/>
          <p:cNvSpPr/>
          <p:nvPr/>
        </p:nvSpPr>
        <p:spPr>
          <a:xfrm>
            <a:off x="7162920" y="2781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4857840" y="4510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7883640" y="4510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10"/>
          <p:cNvGrpSpPr/>
          <p:nvPr/>
        </p:nvGrpSpPr>
        <p:grpSpPr>
          <a:xfrm>
            <a:off x="6437160" y="3213000"/>
            <a:ext cx="943200" cy="2094480"/>
            <a:chOff x="6437160" y="3213000"/>
            <a:chExt cx="943200" cy="2094480"/>
          </a:xfrm>
        </p:grpSpPr>
        <p:grpSp>
          <p:nvGrpSpPr>
            <p:cNvPr id="699" name=""/>
            <p:cNvGrpSpPr/>
            <p:nvPr/>
          </p:nvGrpSpPr>
          <p:grpSpPr>
            <a:xfrm>
              <a:off x="6732360" y="3213000"/>
              <a:ext cx="648000" cy="1584360"/>
              <a:chOff x="6732360" y="3213000"/>
              <a:chExt cx="648000" cy="1584360"/>
            </a:xfrm>
          </p:grpSpPr>
          <p:sp>
            <p:nvSpPr>
              <p:cNvPr id="700" name="Line 11"/>
              <p:cNvSpPr/>
              <p:nvPr/>
            </p:nvSpPr>
            <p:spPr>
              <a:xfrm flipH="1">
                <a:off x="6732360" y="3213000"/>
                <a:ext cx="647640" cy="158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 txBox="1"/>
              <p:nvPr/>
            </p:nvSpPr>
            <p:spPr>
              <a:xfrm>
                <a:off x="6732720" y="3213000"/>
                <a:ext cx="64764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Text Box 12"/>
            <p:cNvSpPr/>
            <p:nvPr/>
          </p:nvSpPr>
          <p:spPr>
            <a:xfrm>
              <a:off x="6437160" y="47260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5217840" y="3502080"/>
            <a:ext cx="3097080" cy="1295280"/>
            <a:chOff x="5217840" y="3502080"/>
            <a:chExt cx="3097080" cy="1295280"/>
          </a:xfrm>
        </p:grpSpPr>
        <p:grpSp>
          <p:nvGrpSpPr>
            <p:cNvPr id="704" name=""/>
            <p:cNvGrpSpPr/>
            <p:nvPr/>
          </p:nvGrpSpPr>
          <p:grpSpPr>
            <a:xfrm>
              <a:off x="6337080" y="3952800"/>
              <a:ext cx="1655640" cy="792360"/>
              <a:chOff x="6337080" y="3952800"/>
              <a:chExt cx="1655640" cy="792360"/>
            </a:xfrm>
          </p:grpSpPr>
          <p:sp>
            <p:nvSpPr>
              <p:cNvPr id="705" name="Line 14"/>
              <p:cNvSpPr/>
              <p:nvPr/>
            </p:nvSpPr>
            <p:spPr>
              <a:xfrm>
                <a:off x="6337080" y="3952800"/>
                <a:ext cx="1655640" cy="7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>
                <a:off x="6337080" y="3952800"/>
                <a:ext cx="165564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217840" y="4006800"/>
              <a:ext cx="2448000" cy="790560"/>
              <a:chOff x="5217840" y="4006800"/>
              <a:chExt cx="2448000" cy="790560"/>
            </a:xfrm>
          </p:grpSpPr>
          <p:sp>
            <p:nvSpPr>
              <p:cNvPr id="708" name="Line 15"/>
              <p:cNvSpPr/>
              <p:nvPr/>
            </p:nvSpPr>
            <p:spPr>
              <a:xfrm flipV="1">
                <a:off x="5218200" y="4006800"/>
                <a:ext cx="2447640" cy="7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 rot="10800000">
                <a:off x="5217840" y="4006800"/>
                <a:ext cx="2447640" cy="7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Text Box 16"/>
            <p:cNvSpPr/>
            <p:nvPr/>
          </p:nvSpPr>
          <p:spPr>
            <a:xfrm>
              <a:off x="7738920" y="36464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17"/>
            <p:cNvSpPr/>
            <p:nvPr/>
          </p:nvSpPr>
          <p:spPr>
            <a:xfrm>
              <a:off x="5938560" y="350208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Text Box 18"/>
          <p:cNvSpPr/>
          <p:nvPr/>
        </p:nvSpPr>
        <p:spPr>
          <a:xfrm>
            <a:off x="900000" y="1484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连结三角形的顶点和对边中点的线段叫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三角形的中线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9"/>
          <p:cNvSpPr/>
          <p:nvPr/>
        </p:nvSpPr>
        <p:spPr>
          <a:xfrm>
            <a:off x="684360" y="530064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的每一条中线把三角形的面积平分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的中线相交于同一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czsx.com.c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20"/>
          <p:cNvGrpSpPr/>
          <p:nvPr/>
        </p:nvGrpSpPr>
        <p:grpSpPr>
          <a:xfrm>
            <a:off x="6012000" y="2230560"/>
            <a:ext cx="1385640" cy="1632240"/>
            <a:chOff x="6012000" y="2230560"/>
            <a:chExt cx="1385640" cy="1632240"/>
          </a:xfrm>
        </p:grpSpPr>
        <p:sp>
          <p:nvSpPr>
            <p:cNvPr id="716" name="Freeform 21"/>
            <p:cNvSpPr/>
            <p:nvPr/>
          </p:nvSpPr>
          <p:spPr>
            <a:xfrm>
              <a:off x="6607080" y="2230560"/>
              <a:ext cx="701640" cy="1033200"/>
            </a:xfrm>
            <a:custGeom>
              <a:avLst/>
              <a:gdLst/>
              <a:ahLst/>
              <a:rect l="l" t="t" r="r" b="b"/>
              <a:pathLst>
                <a:path w="442" h="651">
                  <a:moveTo>
                    <a:pt x="0" y="651"/>
                  </a:moveTo>
                  <a:lnTo>
                    <a:pt x="44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6012000" y="2588760"/>
              <a:ext cx="576000" cy="647640"/>
              <a:chOff x="6012000" y="2588760"/>
              <a:chExt cx="576000" cy="647640"/>
            </a:xfrm>
          </p:grpSpPr>
          <p:sp>
            <p:nvSpPr>
              <p:cNvPr id="718" name="Line 22"/>
              <p:cNvSpPr/>
              <p:nvPr/>
            </p:nvSpPr>
            <p:spPr>
              <a:xfrm flipH="1" flipV="1">
                <a:off x="6012000" y="2588760"/>
                <a:ext cx="576000" cy="64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 txBox="1"/>
              <p:nvPr/>
            </p:nvSpPr>
            <p:spPr>
              <a:xfrm rot="10800000">
                <a:off x="6012000" y="2588760"/>
                <a:ext cx="57600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Text Box 23"/>
            <p:cNvSpPr/>
            <p:nvPr/>
          </p:nvSpPr>
          <p:spPr>
            <a:xfrm>
              <a:off x="6461280" y="3281400"/>
              <a:ext cx="93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Text Box 17"/>
          <p:cNvSpPr/>
          <p:nvPr/>
        </p:nvSpPr>
        <p:spPr>
          <a:xfrm>
            <a:off x="7308720" y="17701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"/>
          <p:cNvSpPr/>
          <p:nvPr/>
        </p:nvSpPr>
        <p:spPr>
          <a:xfrm>
            <a:off x="0" y="689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P89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连结三角形两边中点的线段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形的中位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750240" y="3281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539640" y="421812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个三角形有几条中位线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539640" y="52974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这三条中位线把三角形分成几个三角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6"/>
          <p:cNvGrpSpPr/>
          <p:nvPr/>
        </p:nvGrpSpPr>
        <p:grpSpPr>
          <a:xfrm>
            <a:off x="5006160" y="977760"/>
            <a:ext cx="3210840" cy="2813400"/>
            <a:chOff x="5006160" y="977760"/>
            <a:chExt cx="3210840" cy="2813400"/>
          </a:xfrm>
        </p:grpSpPr>
        <p:grpSp>
          <p:nvGrpSpPr>
            <p:cNvPr id="727" name=""/>
            <p:cNvGrpSpPr/>
            <p:nvPr/>
          </p:nvGrpSpPr>
          <p:grpSpPr>
            <a:xfrm>
              <a:off x="5364000" y="1414080"/>
              <a:ext cx="1441440" cy="2148120"/>
              <a:chOff x="5364000" y="1414080"/>
              <a:chExt cx="1441440" cy="2148120"/>
            </a:xfrm>
          </p:grpSpPr>
          <p:sp>
            <p:nvSpPr>
              <p:cNvPr id="728" name="Line 7"/>
              <p:cNvSpPr/>
              <p:nvPr/>
            </p:nvSpPr>
            <p:spPr>
              <a:xfrm flipH="1">
                <a:off x="5364000" y="1414080"/>
                <a:ext cx="1441440" cy="214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 txBox="1"/>
              <p:nvPr/>
            </p:nvSpPr>
            <p:spPr>
              <a:xfrm>
                <a:off x="5364000" y="1414080"/>
                <a:ext cx="1441440" cy="214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6805440" y="1414080"/>
              <a:ext cx="962280" cy="1465200"/>
              <a:chOff x="6805440" y="1414080"/>
              <a:chExt cx="962280" cy="1465200"/>
            </a:xfrm>
          </p:grpSpPr>
          <p:sp>
            <p:nvSpPr>
              <p:cNvPr id="731" name="Line 8"/>
              <p:cNvSpPr/>
              <p:nvPr/>
            </p:nvSpPr>
            <p:spPr>
              <a:xfrm>
                <a:off x="6805440" y="1414080"/>
                <a:ext cx="962280" cy="14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>
                <a:off x="6805440" y="1414080"/>
                <a:ext cx="962280" cy="146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363640" y="2878920"/>
              <a:ext cx="2404080" cy="682920"/>
              <a:chOff x="5363640" y="2878920"/>
              <a:chExt cx="2404080" cy="682920"/>
            </a:xfrm>
          </p:grpSpPr>
          <p:sp>
            <p:nvSpPr>
              <p:cNvPr id="734" name="Line 9"/>
              <p:cNvSpPr/>
              <p:nvPr/>
            </p:nvSpPr>
            <p:spPr>
              <a:xfrm flipV="1">
                <a:off x="5364000" y="2878920"/>
                <a:ext cx="2403720" cy="68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 rot="10800000">
                <a:off x="5363640" y="2878920"/>
                <a:ext cx="2403720" cy="68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Text Box 10"/>
            <p:cNvSpPr/>
            <p:nvPr/>
          </p:nvSpPr>
          <p:spPr>
            <a:xfrm>
              <a:off x="6806160" y="977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500616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12"/>
            <p:cNvSpPr/>
            <p:nvPr/>
          </p:nvSpPr>
          <p:spPr>
            <a:xfrm>
              <a:off x="7742160" y="2419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Oval 13"/>
          <p:cNvSpPr/>
          <p:nvPr/>
        </p:nvSpPr>
        <p:spPr>
          <a:xfrm>
            <a:off x="6526080" y="313992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14"/>
          <p:cNvSpPr/>
          <p:nvPr/>
        </p:nvSpPr>
        <p:spPr>
          <a:xfrm>
            <a:off x="5940360" y="249228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15"/>
          <p:cNvSpPr/>
          <p:nvPr/>
        </p:nvSpPr>
        <p:spPr>
          <a:xfrm>
            <a:off x="7213680" y="213192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6084720" y="2204640"/>
            <a:ext cx="1151280" cy="360360"/>
            <a:chOff x="6084720" y="2204640"/>
            <a:chExt cx="1151280" cy="360360"/>
          </a:xfrm>
        </p:grpSpPr>
        <p:sp>
          <p:nvSpPr>
            <p:cNvPr id="743" name="Line 16"/>
            <p:cNvSpPr/>
            <p:nvPr/>
          </p:nvSpPr>
          <p:spPr>
            <a:xfrm flipV="1">
              <a:off x="6084720" y="2204640"/>
              <a:ext cx="1151280" cy="360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 rot="10800000">
              <a:off x="6084720" y="2204640"/>
              <a:ext cx="1151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18"/>
          <p:cNvSpPr/>
          <p:nvPr/>
        </p:nvSpPr>
        <p:spPr>
          <a:xfrm>
            <a:off x="5580000" y="22017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9"/>
          <p:cNvSpPr/>
          <p:nvPr/>
        </p:nvSpPr>
        <p:spPr>
          <a:xfrm>
            <a:off x="755640" y="1628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是△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的中位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24"/>
          <p:cNvSpPr txBox="1"/>
          <p:nvPr/>
        </p:nvSpPr>
        <p:spPr>
          <a:xfrm>
            <a:off x="324000" y="189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定义：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45720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中位线与三角形的中线有什么区别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WordArt 3"/>
          <p:cNvSpPr txBox="1"/>
          <p:nvPr/>
        </p:nvSpPr>
        <p:spPr>
          <a:xfrm>
            <a:off x="457200" y="457200"/>
            <a:ext cx="1771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50000">
                      <a:srgbClr val="ff5050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华文新魏"/>
              </a:rPr>
              <a:t>思考：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50000">
                    <a:srgbClr val="ff5050"/>
                  </a:gs>
                  <a:gs pos="100000">
                    <a:srgbClr val="66ff33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750" name="Picture 4" descr="画板01"/>
          <p:cNvPicPr/>
          <p:nvPr/>
        </p:nvPicPr>
        <p:blipFill>
          <a:blip r:embed="rId1"/>
          <a:stretch/>
        </p:blipFill>
        <p:spPr>
          <a:xfrm>
            <a:off x="762120" y="1371600"/>
            <a:ext cx="3219480" cy="3147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5" descr="画板01"/>
          <p:cNvPicPr/>
          <p:nvPr/>
        </p:nvPicPr>
        <p:blipFill>
          <a:blip r:embed="rId2"/>
          <a:stretch/>
        </p:blipFill>
        <p:spPr>
          <a:xfrm>
            <a:off x="4552920" y="1279440"/>
            <a:ext cx="3524400" cy="344484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6"/>
          <p:cNvSpPr/>
          <p:nvPr/>
        </p:nvSpPr>
        <p:spPr>
          <a:xfrm>
            <a:off x="228600" y="4648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位线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两条边中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线，而中线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一个顶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对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中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连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2268360" y="2205000"/>
            <a:ext cx="216000" cy="144360"/>
            <a:chOff x="2268360" y="2205000"/>
            <a:chExt cx="216000" cy="144360"/>
          </a:xfrm>
        </p:grpSpPr>
        <p:sp>
          <p:nvSpPr>
            <p:cNvPr id="754" name="Line 7"/>
            <p:cNvSpPr/>
            <p:nvPr/>
          </p:nvSpPr>
          <p:spPr>
            <a:xfrm>
              <a:off x="2268360" y="2205000"/>
              <a:ext cx="216000" cy="1443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2268360" y="2205000"/>
              <a:ext cx="21600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332000" y="3284640"/>
            <a:ext cx="215640" cy="73080"/>
            <a:chOff x="1332000" y="3284640"/>
            <a:chExt cx="215640" cy="73080"/>
          </a:xfrm>
        </p:grpSpPr>
        <p:sp>
          <p:nvSpPr>
            <p:cNvPr id="757" name="Line 8"/>
            <p:cNvSpPr/>
            <p:nvPr/>
          </p:nvSpPr>
          <p:spPr>
            <a:xfrm>
              <a:off x="1332000" y="3284640"/>
              <a:ext cx="215640" cy="730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1332000" y="3284640"/>
              <a:ext cx="21564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3059280" y="2349360"/>
            <a:ext cx="144360" cy="360"/>
            <a:chOff x="3059280" y="2349360"/>
            <a:chExt cx="144360" cy="360"/>
          </a:xfrm>
        </p:grpSpPr>
        <p:sp>
          <p:nvSpPr>
            <p:cNvPr id="760" name="Line 9"/>
            <p:cNvSpPr/>
            <p:nvPr/>
          </p:nvSpPr>
          <p:spPr>
            <a:xfrm>
              <a:off x="3059280" y="2349360"/>
              <a:ext cx="144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3059280" y="2349360"/>
              <a:ext cx="14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132000" y="2492280"/>
            <a:ext cx="144720" cy="360"/>
            <a:chOff x="3132000" y="2492280"/>
            <a:chExt cx="144720" cy="360"/>
          </a:xfrm>
        </p:grpSpPr>
        <p:sp>
          <p:nvSpPr>
            <p:cNvPr id="763" name="Line 10"/>
            <p:cNvSpPr/>
            <p:nvPr/>
          </p:nvSpPr>
          <p:spPr>
            <a:xfrm>
              <a:off x="3132000" y="2492280"/>
              <a:ext cx="144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3132000" y="2492280"/>
              <a:ext cx="14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419640" y="3284640"/>
            <a:ext cx="288720" cy="73080"/>
            <a:chOff x="3419640" y="3284640"/>
            <a:chExt cx="288720" cy="73080"/>
          </a:xfrm>
        </p:grpSpPr>
        <p:sp>
          <p:nvSpPr>
            <p:cNvPr id="766" name="Line 11"/>
            <p:cNvSpPr/>
            <p:nvPr/>
          </p:nvSpPr>
          <p:spPr>
            <a:xfrm>
              <a:off x="3419640" y="3284640"/>
              <a:ext cx="288720" cy="730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3419640" y="3284640"/>
              <a:ext cx="28872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419640" y="3429000"/>
            <a:ext cx="288720" cy="71280"/>
            <a:chOff x="3419640" y="3429000"/>
            <a:chExt cx="288720" cy="71280"/>
          </a:xfrm>
        </p:grpSpPr>
        <p:sp>
          <p:nvSpPr>
            <p:cNvPr id="769" name="Line 12"/>
            <p:cNvSpPr/>
            <p:nvPr/>
          </p:nvSpPr>
          <p:spPr>
            <a:xfrm>
              <a:off x="3419640" y="3429000"/>
              <a:ext cx="288720" cy="71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3419640" y="3429000"/>
              <a:ext cx="28872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580000" y="3933720"/>
            <a:ext cx="71640" cy="287280"/>
            <a:chOff x="5580000" y="3933720"/>
            <a:chExt cx="71640" cy="287280"/>
          </a:xfrm>
        </p:grpSpPr>
        <p:sp>
          <p:nvSpPr>
            <p:cNvPr id="772" name="Line 13"/>
            <p:cNvSpPr/>
            <p:nvPr/>
          </p:nvSpPr>
          <p:spPr>
            <a:xfrm>
              <a:off x="5580000" y="3933720"/>
              <a:ext cx="71640" cy="28728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5580000" y="3933720"/>
              <a:ext cx="716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093080" y="3933720"/>
            <a:ext cx="71280" cy="287280"/>
            <a:chOff x="7093080" y="3933720"/>
            <a:chExt cx="71280" cy="287280"/>
          </a:xfrm>
        </p:grpSpPr>
        <p:sp>
          <p:nvSpPr>
            <p:cNvPr id="775" name="Line 14"/>
            <p:cNvSpPr/>
            <p:nvPr/>
          </p:nvSpPr>
          <p:spPr>
            <a:xfrm flipH="1">
              <a:off x="7093080" y="3933720"/>
              <a:ext cx="71280" cy="28728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7093080" y="3933720"/>
              <a:ext cx="712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"/>
          <p:cNvGrpSpPr/>
          <p:nvPr/>
        </p:nvGrpSpPr>
        <p:grpSpPr>
          <a:xfrm>
            <a:off x="2627280" y="1198440"/>
            <a:ext cx="3219480" cy="3148200"/>
            <a:chOff x="2627280" y="1198440"/>
            <a:chExt cx="3219480" cy="3148200"/>
          </a:xfrm>
        </p:grpSpPr>
        <p:pic>
          <p:nvPicPr>
            <p:cNvPr id="778" name="Picture 3" descr="画板01"/>
            <p:cNvPicPr/>
            <p:nvPr/>
          </p:nvPicPr>
          <p:blipFill>
            <a:blip r:embed="rId1"/>
            <a:stretch/>
          </p:blipFill>
          <p:spPr>
            <a:xfrm>
              <a:off x="2627280" y="1198440"/>
              <a:ext cx="3219480" cy="314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9" name=""/>
            <p:cNvGrpSpPr/>
            <p:nvPr/>
          </p:nvGrpSpPr>
          <p:grpSpPr>
            <a:xfrm>
              <a:off x="4138560" y="2063880"/>
              <a:ext cx="215640" cy="144360"/>
              <a:chOff x="4138560" y="2063880"/>
              <a:chExt cx="215640" cy="144360"/>
            </a:xfrm>
          </p:grpSpPr>
          <p:sp>
            <p:nvSpPr>
              <p:cNvPr id="780" name="Line 4"/>
              <p:cNvSpPr/>
              <p:nvPr/>
            </p:nvSpPr>
            <p:spPr>
              <a:xfrm>
                <a:off x="4138560" y="2063880"/>
                <a:ext cx="215640" cy="144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4138560" y="2063880"/>
                <a:ext cx="21564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3201840" y="3143160"/>
              <a:ext cx="216000" cy="73080"/>
              <a:chOff x="3201840" y="3143160"/>
              <a:chExt cx="216000" cy="73080"/>
            </a:xfrm>
          </p:grpSpPr>
          <p:sp>
            <p:nvSpPr>
              <p:cNvPr id="783" name="Line 5"/>
              <p:cNvSpPr/>
              <p:nvPr/>
            </p:nvSpPr>
            <p:spPr>
              <a:xfrm>
                <a:off x="3201840" y="3143160"/>
                <a:ext cx="216000" cy="73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3201840" y="3143160"/>
                <a:ext cx="21600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929120" y="2208240"/>
              <a:ext cx="144360" cy="360"/>
              <a:chOff x="4929120" y="2208240"/>
              <a:chExt cx="144360" cy="360"/>
            </a:xfrm>
          </p:grpSpPr>
          <p:sp>
            <p:nvSpPr>
              <p:cNvPr id="786" name="Line 6"/>
              <p:cNvSpPr/>
              <p:nvPr/>
            </p:nvSpPr>
            <p:spPr>
              <a:xfrm>
                <a:off x="4929120" y="220824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 txBox="1"/>
              <p:nvPr/>
            </p:nvSpPr>
            <p:spPr>
              <a:xfrm>
                <a:off x="4929120" y="220824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002200" y="2351160"/>
              <a:ext cx="144360" cy="360"/>
              <a:chOff x="5002200" y="2351160"/>
              <a:chExt cx="144360" cy="360"/>
            </a:xfrm>
          </p:grpSpPr>
          <p:sp>
            <p:nvSpPr>
              <p:cNvPr id="789" name="Line 7"/>
              <p:cNvSpPr/>
              <p:nvPr/>
            </p:nvSpPr>
            <p:spPr>
              <a:xfrm>
                <a:off x="5002200" y="2351160"/>
                <a:ext cx="14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 txBox="1"/>
              <p:nvPr/>
            </p:nvSpPr>
            <p:spPr>
              <a:xfrm>
                <a:off x="5002200" y="235116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5289480" y="3143160"/>
              <a:ext cx="288720" cy="73080"/>
              <a:chOff x="5289480" y="3143160"/>
              <a:chExt cx="288720" cy="73080"/>
            </a:xfrm>
          </p:grpSpPr>
          <p:sp>
            <p:nvSpPr>
              <p:cNvPr id="792" name="Line 8"/>
              <p:cNvSpPr/>
              <p:nvPr/>
            </p:nvSpPr>
            <p:spPr>
              <a:xfrm>
                <a:off x="5289480" y="3143160"/>
                <a:ext cx="288720" cy="7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 txBox="1"/>
              <p:nvPr/>
            </p:nvSpPr>
            <p:spPr>
              <a:xfrm>
                <a:off x="5289480" y="3143160"/>
                <a:ext cx="28872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289480" y="3287880"/>
              <a:ext cx="288720" cy="71280"/>
              <a:chOff x="5289480" y="3287880"/>
              <a:chExt cx="288720" cy="71280"/>
            </a:xfrm>
          </p:grpSpPr>
          <p:sp>
            <p:nvSpPr>
              <p:cNvPr id="795" name="Line 9"/>
              <p:cNvSpPr/>
              <p:nvPr/>
            </p:nvSpPr>
            <p:spPr>
              <a:xfrm>
                <a:off x="5289480" y="3287880"/>
                <a:ext cx="288720" cy="71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 txBox="1"/>
              <p:nvPr/>
            </p:nvSpPr>
            <p:spPr>
              <a:xfrm>
                <a:off x="5289480" y="3287880"/>
                <a:ext cx="28872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7" name="Text Box 10"/>
          <p:cNvSpPr/>
          <p:nvPr/>
        </p:nvSpPr>
        <p:spPr>
          <a:xfrm>
            <a:off x="2161800" y="3333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中位线具有怎样的性质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1"/>
          <p:cNvSpPr/>
          <p:nvPr/>
        </p:nvSpPr>
        <p:spPr>
          <a:xfrm>
            <a:off x="431640" y="4572000"/>
            <a:ext cx="838836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即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DE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与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BC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有什么样的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位置关系和数量关系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324000" y="44280"/>
            <a:ext cx="85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如图在等边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=B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E=E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27"/>
          <p:cNvGrpSpPr/>
          <p:nvPr/>
        </p:nvGrpSpPr>
        <p:grpSpPr>
          <a:xfrm>
            <a:off x="5005800" y="2997360"/>
            <a:ext cx="3499560" cy="2607840"/>
            <a:chOff x="5005800" y="2997360"/>
            <a:chExt cx="3499560" cy="2607840"/>
          </a:xfrm>
        </p:grpSpPr>
        <p:sp>
          <p:nvSpPr>
            <p:cNvPr id="801" name="AutoShape 4"/>
            <p:cNvSpPr/>
            <p:nvPr/>
          </p:nvSpPr>
          <p:spPr>
            <a:xfrm>
              <a:off x="5481720" y="3317760"/>
              <a:ext cx="2676600" cy="20584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6080040" y="4458960"/>
              <a:ext cx="1506600" cy="360"/>
              <a:chOff x="6080040" y="4458960"/>
              <a:chExt cx="1506600" cy="360"/>
            </a:xfrm>
          </p:grpSpPr>
          <p:sp>
            <p:nvSpPr>
              <p:cNvPr id="803" name="Line 5"/>
              <p:cNvSpPr/>
              <p:nvPr/>
            </p:nvSpPr>
            <p:spPr>
              <a:xfrm>
                <a:off x="6080040" y="4458960"/>
                <a:ext cx="1506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 txBox="1"/>
              <p:nvPr/>
            </p:nvSpPr>
            <p:spPr>
              <a:xfrm>
                <a:off x="6080040" y="4458960"/>
                <a:ext cx="150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Text Box 6"/>
            <p:cNvSpPr/>
            <p:nvPr/>
          </p:nvSpPr>
          <p:spPr>
            <a:xfrm>
              <a:off x="8088480" y="5057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 Box 7"/>
            <p:cNvSpPr/>
            <p:nvPr/>
          </p:nvSpPr>
          <p:spPr>
            <a:xfrm>
              <a:off x="5005800" y="5084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Text Box 8"/>
            <p:cNvSpPr/>
            <p:nvPr/>
          </p:nvSpPr>
          <p:spPr>
            <a:xfrm>
              <a:off x="7588800" y="4127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Text Box 9"/>
            <p:cNvSpPr/>
            <p:nvPr/>
          </p:nvSpPr>
          <p:spPr>
            <a:xfrm>
              <a:off x="5581800" y="4147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0"/>
            <p:cNvSpPr/>
            <p:nvPr/>
          </p:nvSpPr>
          <p:spPr>
            <a:xfrm>
              <a:off x="6374520" y="299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1"/>
          <p:cNvSpPr/>
          <p:nvPr/>
        </p:nvSpPr>
        <p:spPr>
          <a:xfrm>
            <a:off x="2050920" y="804960"/>
            <a:ext cx="4465800" cy="82512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是什么三角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755640" y="2489040"/>
            <a:ext cx="8172360" cy="5814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有什么样的位置关系和数量关系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6624720" y="836640"/>
            <a:ext cx="251928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等边三角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WordArt 14"/>
          <p:cNvSpPr txBox="1"/>
          <p:nvPr/>
        </p:nvSpPr>
        <p:spPr>
          <a:xfrm>
            <a:off x="0" y="907920"/>
            <a:ext cx="1828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请思考！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814" name="Group 15"/>
          <p:cNvGrpSpPr/>
          <p:nvPr/>
        </p:nvGrpSpPr>
        <p:grpSpPr>
          <a:xfrm>
            <a:off x="971640" y="3141720"/>
            <a:ext cx="3959280" cy="2302560"/>
            <a:chOff x="971640" y="3141720"/>
            <a:chExt cx="3959280" cy="2302560"/>
          </a:xfrm>
        </p:grpSpPr>
        <p:grpSp>
          <p:nvGrpSpPr>
            <p:cNvPr id="815" name="Group 16"/>
            <p:cNvGrpSpPr/>
            <p:nvPr/>
          </p:nvGrpSpPr>
          <p:grpSpPr>
            <a:xfrm>
              <a:off x="2482920" y="3879000"/>
              <a:ext cx="647280" cy="736920"/>
              <a:chOff x="2482920" y="3879000"/>
              <a:chExt cx="647280" cy="73692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2637720" y="3879000"/>
                <a:ext cx="228960" cy="540720"/>
                <a:chOff x="2637720" y="3879000"/>
                <a:chExt cx="228960" cy="540720"/>
              </a:xfrm>
            </p:grpSpPr>
            <p:sp>
              <p:nvSpPr>
                <p:cNvPr id="817" name="Line 17"/>
                <p:cNvSpPr/>
                <p:nvPr/>
              </p:nvSpPr>
              <p:spPr>
                <a:xfrm flipH="1">
                  <a:off x="2637720" y="3879000"/>
                  <a:ext cx="228600" cy="54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 txBox="1"/>
                <p:nvPr/>
              </p:nvSpPr>
              <p:spPr>
                <a:xfrm>
                  <a:off x="2638080" y="3879000"/>
                  <a:ext cx="228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2901240" y="3879000"/>
                <a:ext cx="228960" cy="540720"/>
                <a:chOff x="2901240" y="3879000"/>
                <a:chExt cx="228960" cy="540720"/>
              </a:xfrm>
            </p:grpSpPr>
            <p:sp>
              <p:nvSpPr>
                <p:cNvPr id="820" name="Line 18"/>
                <p:cNvSpPr/>
                <p:nvPr/>
              </p:nvSpPr>
              <p:spPr>
                <a:xfrm flipH="1">
                  <a:off x="2901240" y="3879000"/>
                  <a:ext cx="228600" cy="54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 txBox="1"/>
                <p:nvPr/>
              </p:nvSpPr>
              <p:spPr>
                <a:xfrm>
                  <a:off x="2901600" y="3879000"/>
                  <a:ext cx="228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2482920" y="4419720"/>
                <a:ext cx="567000" cy="360"/>
                <a:chOff x="2482920" y="4419720"/>
                <a:chExt cx="567000" cy="360"/>
              </a:xfrm>
            </p:grpSpPr>
            <p:sp>
              <p:nvSpPr>
                <p:cNvPr id="823" name="Line 19"/>
                <p:cNvSpPr/>
                <p:nvPr/>
              </p:nvSpPr>
              <p:spPr>
                <a:xfrm>
                  <a:off x="2482920" y="4419720"/>
                  <a:ext cx="567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 txBox="1"/>
                <p:nvPr/>
              </p:nvSpPr>
              <p:spPr>
                <a:xfrm>
                  <a:off x="2482920" y="4419720"/>
                  <a:ext cx="567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2482920" y="4615560"/>
                <a:ext cx="567000" cy="360"/>
                <a:chOff x="2482920" y="4615560"/>
                <a:chExt cx="567000" cy="360"/>
              </a:xfrm>
            </p:grpSpPr>
            <p:sp>
              <p:nvSpPr>
                <p:cNvPr id="826" name="Line 20"/>
                <p:cNvSpPr/>
                <p:nvPr/>
              </p:nvSpPr>
              <p:spPr>
                <a:xfrm>
                  <a:off x="2482920" y="4615560"/>
                  <a:ext cx="567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 txBox="1"/>
                <p:nvPr/>
              </p:nvSpPr>
              <p:spPr>
                <a:xfrm>
                  <a:off x="2482920" y="4615560"/>
                  <a:ext cx="567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8" name="Group 21"/>
            <p:cNvGrpSpPr/>
            <p:nvPr/>
          </p:nvGrpSpPr>
          <p:grpSpPr>
            <a:xfrm>
              <a:off x="971640" y="3141720"/>
              <a:ext cx="3959280" cy="2302560"/>
              <a:chOff x="971640" y="3141720"/>
              <a:chExt cx="3959280" cy="2302560"/>
            </a:xfrm>
          </p:grpSpPr>
          <p:pic>
            <p:nvPicPr>
              <p:cNvPr id="829" name="Object 22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0" y="3141720"/>
                <a:ext cx="675000" cy="230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0" name="Text Box 23"/>
              <p:cNvSpPr/>
              <p:nvPr/>
            </p:nvSpPr>
            <p:spPr>
              <a:xfrm>
                <a:off x="971640" y="3693600"/>
                <a:ext cx="3959280" cy="103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66"/>
                    </a:solidFill>
                    <a:latin typeface="Times New Roman"/>
                  </a:rPr>
                  <a:t>∴</a:t>
                </a:r>
                <a:r>
                  <a:rPr b="1" lang="en-US" sz="4000" spc="-1" strike="noStrike">
                    <a:solidFill>
                      <a:srgbClr val="ff0066"/>
                    </a:solidFill>
                    <a:latin typeface="Times New Roman"/>
                  </a:rPr>
                  <a:t>DE</a:t>
                </a:r>
                <a:r>
                  <a:rPr b="1" lang="zh-CN" sz="4000" spc="-1" strike="noStrike">
                    <a:solidFill>
                      <a:srgbClr val="ff0066"/>
                    </a:solidFill>
                    <a:latin typeface="Times New Roman"/>
                    <a:ea typeface="宋体"/>
                  </a:rPr>
                  <a:t>　　　</a:t>
                </a:r>
                <a:r>
                  <a:rPr b="1" lang="en-US" sz="4000" spc="-1" strike="noStrike">
                    <a:solidFill>
                      <a:srgbClr val="ff0066"/>
                    </a:solidFill>
                    <a:latin typeface="Times New Roman"/>
                  </a:rPr>
                  <a:t>BC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Text Box 24"/>
          <p:cNvSpPr/>
          <p:nvPr/>
        </p:nvSpPr>
        <p:spPr>
          <a:xfrm>
            <a:off x="539640" y="5589720"/>
            <a:ext cx="8280360" cy="58140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一般的三角形的中位线与第三边有什么样的位置关系和数量关系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2050920" y="1525680"/>
            <a:ext cx="4465800" cy="825120"/>
          </a:xfrm>
          <a:prstGeom prst="rect">
            <a:avLst/>
          </a:prstGeom>
          <a:gradFill rotWithShape="0">
            <a:gsLst>
              <a:gs pos="0">
                <a:srgbClr val="f8b049"/>
              </a:gs>
              <a:gs pos="5000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是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什么线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6"/>
          <p:cNvSpPr/>
          <p:nvPr/>
        </p:nvSpPr>
        <p:spPr>
          <a:xfrm>
            <a:off x="6659640" y="1658880"/>
            <a:ext cx="251928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位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2"/>
          <p:cNvSpPr/>
          <p:nvPr/>
        </p:nvSpPr>
        <p:spPr>
          <a:xfrm>
            <a:off x="539640" y="83664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猜想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三角形的中位线平行于第三边，并且等于第三边的一半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WordArt 3"/>
          <p:cNvSpPr txBox="1"/>
          <p:nvPr/>
        </p:nvSpPr>
        <p:spPr>
          <a:xfrm>
            <a:off x="2195640" y="3213000"/>
            <a:ext cx="4895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如何证明？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AutoShape 2"/>
          <p:cNvSpPr/>
          <p:nvPr/>
        </p:nvSpPr>
        <p:spPr>
          <a:xfrm>
            <a:off x="380880" y="2508120"/>
            <a:ext cx="2362320" cy="2362320"/>
          </a:xfrm>
          <a:prstGeom prst="triangle">
            <a:avLst>
              <a:gd name="adj" fmla="val 7450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219320" y="3433680"/>
            <a:ext cx="1218960" cy="581400"/>
            <a:chOff x="1219320" y="3433680"/>
            <a:chExt cx="1218960" cy="581400"/>
          </a:xfrm>
        </p:grpSpPr>
        <p:sp>
          <p:nvSpPr>
            <p:cNvPr id="838" name="Line 3"/>
            <p:cNvSpPr/>
            <p:nvPr/>
          </p:nvSpPr>
          <p:spPr>
            <a:xfrm>
              <a:off x="1219320" y="37242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1219320" y="34336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2438280" y="3436920"/>
            <a:ext cx="1143000" cy="581400"/>
            <a:chOff x="2438280" y="3436920"/>
            <a:chExt cx="1143000" cy="581400"/>
          </a:xfrm>
        </p:grpSpPr>
        <p:sp>
          <p:nvSpPr>
            <p:cNvPr id="841" name="Line 4"/>
            <p:cNvSpPr/>
            <p:nvPr/>
          </p:nvSpPr>
          <p:spPr>
            <a:xfrm>
              <a:off x="2438280" y="372744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2438280" y="34369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743200" y="3733920"/>
            <a:ext cx="838080" cy="1143000"/>
            <a:chOff x="2743200" y="3733920"/>
            <a:chExt cx="838080" cy="1143000"/>
          </a:xfrm>
        </p:grpSpPr>
        <p:sp>
          <p:nvSpPr>
            <p:cNvPr id="844" name="Line 5"/>
            <p:cNvSpPr/>
            <p:nvPr/>
          </p:nvSpPr>
          <p:spPr>
            <a:xfrm flipH="1">
              <a:off x="2743200" y="3733920"/>
              <a:ext cx="838080" cy="114300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 txBox="1"/>
            <p:nvPr/>
          </p:nvSpPr>
          <p:spPr>
            <a:xfrm>
              <a:off x="2743200" y="3733920"/>
              <a:ext cx="8380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Text Box 6"/>
          <p:cNvSpPr/>
          <p:nvPr/>
        </p:nvSpPr>
        <p:spPr>
          <a:xfrm>
            <a:off x="1752480" y="2050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7"/>
          <p:cNvSpPr/>
          <p:nvPr/>
        </p:nvSpPr>
        <p:spPr>
          <a:xfrm>
            <a:off x="0" y="4641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2590920" y="47181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9"/>
          <p:cNvSpPr/>
          <p:nvPr/>
        </p:nvSpPr>
        <p:spPr>
          <a:xfrm>
            <a:off x="838080" y="3270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0"/>
          <p:cNvSpPr/>
          <p:nvPr/>
        </p:nvSpPr>
        <p:spPr>
          <a:xfrm>
            <a:off x="2340000" y="3284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1"/>
          <p:cNvSpPr/>
          <p:nvPr/>
        </p:nvSpPr>
        <p:spPr>
          <a:xfrm>
            <a:off x="3505320" y="3346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3637080" y="235908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=E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D=∠CE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=EC∴△ADE  ≌ △C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2843280" y="142236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如 图，延 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=D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连 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3886200" y="40384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3886200" y="3141720"/>
            <a:ext cx="52578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=FC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∠E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∥F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3384720" y="4129200"/>
            <a:ext cx="56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=DB  ∴BD∥ C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D =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以 ，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F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8"/>
          <p:cNvSpPr/>
          <p:nvPr/>
        </p:nvSpPr>
        <p:spPr>
          <a:xfrm>
            <a:off x="0" y="6216480"/>
            <a:ext cx="4537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还有另外的证法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9"/>
          <p:cNvSpPr/>
          <p:nvPr/>
        </p:nvSpPr>
        <p:spPr>
          <a:xfrm>
            <a:off x="1979640" y="51577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F∥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oup 20"/>
          <p:cNvGrpSpPr/>
          <p:nvPr/>
        </p:nvGrpSpPr>
        <p:grpSpPr>
          <a:xfrm>
            <a:off x="2440080" y="5781600"/>
            <a:ext cx="5545080" cy="1076400"/>
            <a:chOff x="2440080" y="5781600"/>
            <a:chExt cx="5545080" cy="1076400"/>
          </a:xfrm>
        </p:grpSpPr>
        <p:sp>
          <p:nvSpPr>
            <p:cNvPr id="860" name="Text Box 21"/>
            <p:cNvSpPr/>
            <p:nvPr/>
          </p:nvSpPr>
          <p:spPr>
            <a:xfrm>
              <a:off x="2440080" y="5877000"/>
              <a:ext cx="554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又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1" name="Object 22" descr=""/>
            <p:cNvPicPr/>
            <p:nvPr/>
          </p:nvPicPr>
          <p:blipFill>
            <a:blip r:embed="rId1"/>
            <a:stretch/>
          </p:blipFill>
          <p:spPr>
            <a:xfrm>
              <a:off x="3448080" y="5781600"/>
              <a:ext cx="2082960" cy="10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2" name="Object 23" descr=""/>
          <p:cNvPicPr/>
          <p:nvPr/>
        </p:nvPicPr>
        <p:blipFill>
          <a:blip r:embed="rId2"/>
          <a:stretch/>
        </p:blipFill>
        <p:spPr>
          <a:xfrm>
            <a:off x="5867280" y="5746680"/>
            <a:ext cx="2374920" cy="106992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4"/>
          <p:cNvSpPr/>
          <p:nvPr/>
        </p:nvSpPr>
        <p:spPr>
          <a:xfrm>
            <a:off x="6084720" y="5157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∥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2"/>
          <p:cNvSpPr/>
          <p:nvPr/>
        </p:nvSpPr>
        <p:spPr>
          <a:xfrm>
            <a:off x="0" y="0"/>
            <a:ext cx="9144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8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已知在△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C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是△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C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中位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求证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 ∥ BC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，且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=     BC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27" descr=""/>
          <p:cNvPicPr/>
          <p:nvPr/>
        </p:nvPicPr>
        <p:blipFill>
          <a:blip r:embed="rId3"/>
          <a:stretch/>
        </p:blipFill>
        <p:spPr>
          <a:xfrm>
            <a:off x="4859280" y="476280"/>
            <a:ext cx="382680" cy="98892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28"/>
          <p:cNvSpPr/>
          <p:nvPr/>
        </p:nvSpPr>
        <p:spPr>
          <a:xfrm>
            <a:off x="4606920" y="6216480"/>
            <a:ext cx="4537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请看教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8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证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3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2"/>
          <p:cNvSpPr/>
          <p:nvPr/>
        </p:nvSpPr>
        <p:spPr>
          <a:xfrm>
            <a:off x="108000" y="203040"/>
            <a:ext cx="903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P88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宋体"/>
              </a:rPr>
              <a:t>已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求证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∥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且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=    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3" descr=""/>
          <p:cNvPicPr/>
          <p:nvPr/>
        </p:nvPicPr>
        <p:blipFill>
          <a:blip r:embed="rId1"/>
          <a:stretch/>
        </p:blipFill>
        <p:spPr>
          <a:xfrm>
            <a:off x="6084720" y="620640"/>
            <a:ext cx="370080" cy="96696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4"/>
          <p:cNvSpPr/>
          <p:nvPr/>
        </p:nvSpPr>
        <p:spPr>
          <a:xfrm>
            <a:off x="586728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5"/>
          <p:cNvSpPr/>
          <p:nvPr/>
        </p:nvSpPr>
        <p:spPr>
          <a:xfrm>
            <a:off x="766764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894360" y="3749760"/>
            <a:ext cx="1368720" cy="360"/>
            <a:chOff x="6894360" y="3749760"/>
            <a:chExt cx="1368720" cy="360"/>
          </a:xfrm>
        </p:grpSpPr>
        <p:sp>
          <p:nvSpPr>
            <p:cNvPr id="872" name="Line 6"/>
            <p:cNvSpPr/>
            <p:nvPr/>
          </p:nvSpPr>
          <p:spPr>
            <a:xfrm>
              <a:off x="6894360" y="3749760"/>
              <a:ext cx="1368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6894360" y="374976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Text Box 7"/>
          <p:cNvSpPr/>
          <p:nvPr/>
        </p:nvSpPr>
        <p:spPr>
          <a:xfrm>
            <a:off x="702000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8"/>
          <p:cNvSpPr/>
          <p:nvPr/>
        </p:nvSpPr>
        <p:spPr>
          <a:xfrm>
            <a:off x="644364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flipV="1" rot="3394200">
            <a:off x="6540480" y="3156120"/>
            <a:ext cx="2043000" cy="1144800"/>
          </a:xfrm>
          <a:prstGeom prst="parallelogram">
            <a:avLst>
              <a:gd name="adj" fmla="val 54504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0"/>
          <p:cNvGrpSpPr/>
          <p:nvPr/>
        </p:nvGrpSpPr>
        <p:grpSpPr>
          <a:xfrm>
            <a:off x="6227280" y="2565360"/>
            <a:ext cx="1398960" cy="2348280"/>
            <a:chOff x="6227280" y="2565360"/>
            <a:chExt cx="1398960" cy="2348280"/>
          </a:xfrm>
        </p:grpSpPr>
        <p:grpSp>
          <p:nvGrpSpPr>
            <p:cNvPr id="878" name=""/>
            <p:cNvGrpSpPr/>
            <p:nvPr/>
          </p:nvGrpSpPr>
          <p:grpSpPr>
            <a:xfrm>
              <a:off x="6227280" y="2565360"/>
              <a:ext cx="1243440" cy="2347920"/>
              <a:chOff x="6227280" y="2565360"/>
              <a:chExt cx="1243440" cy="2347920"/>
            </a:xfrm>
          </p:grpSpPr>
          <p:sp>
            <p:nvSpPr>
              <p:cNvPr id="879" name="Line 11"/>
              <p:cNvSpPr/>
              <p:nvPr/>
            </p:nvSpPr>
            <p:spPr>
              <a:xfrm flipH="1">
                <a:off x="6227280" y="2565360"/>
                <a:ext cx="1243080" cy="23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>
                <a:off x="6227640" y="2565360"/>
                <a:ext cx="1243080" cy="23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7470720" y="2609640"/>
              <a:ext cx="155520" cy="2289240"/>
              <a:chOff x="7470720" y="2609640"/>
              <a:chExt cx="155520" cy="2289240"/>
            </a:xfrm>
          </p:grpSpPr>
          <p:sp>
            <p:nvSpPr>
              <p:cNvPr id="882" name="Line 12"/>
              <p:cNvSpPr/>
              <p:nvPr/>
            </p:nvSpPr>
            <p:spPr>
              <a:xfrm>
                <a:off x="7470720" y="2609640"/>
                <a:ext cx="155520" cy="2289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7470720" y="2609640"/>
                <a:ext cx="15552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6246360" y="4913280"/>
              <a:ext cx="1367280" cy="360"/>
              <a:chOff x="6246360" y="4913280"/>
              <a:chExt cx="1367280" cy="360"/>
            </a:xfrm>
          </p:grpSpPr>
          <p:sp>
            <p:nvSpPr>
              <p:cNvPr id="885" name="Line 13"/>
              <p:cNvSpPr/>
              <p:nvPr/>
            </p:nvSpPr>
            <p:spPr>
              <a:xfrm flipH="1">
                <a:off x="6246360" y="4913280"/>
                <a:ext cx="1366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6246720" y="4913280"/>
                <a:ext cx="136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6865920" y="3760920"/>
              <a:ext cx="647640" cy="360"/>
              <a:chOff x="6865920" y="3760920"/>
              <a:chExt cx="647640" cy="360"/>
            </a:xfrm>
          </p:grpSpPr>
          <p:sp>
            <p:nvSpPr>
              <p:cNvPr id="888" name="Line 14"/>
              <p:cNvSpPr/>
              <p:nvPr/>
            </p:nvSpPr>
            <p:spPr>
              <a:xfrm>
                <a:off x="6865920" y="376092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6865920" y="3760920"/>
                <a:ext cx="64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0" name="Text Box 15"/>
          <p:cNvSpPr/>
          <p:nvPr/>
        </p:nvSpPr>
        <p:spPr>
          <a:xfrm>
            <a:off x="752472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6"/>
          <p:cNvSpPr/>
          <p:nvPr/>
        </p:nvSpPr>
        <p:spPr>
          <a:xfrm>
            <a:off x="8213760" y="3521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34920" y="1584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=DE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8"/>
          <p:cNvSpPr/>
          <p:nvPr/>
        </p:nvSpPr>
        <p:spPr>
          <a:xfrm>
            <a:off x="1077840" y="2592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C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9"/>
          <p:cNvSpPr/>
          <p:nvPr/>
        </p:nvSpPr>
        <p:spPr>
          <a:xfrm>
            <a:off x="1077840" y="4032360"/>
            <a:ext cx="50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BC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20"/>
          <p:cNvSpPr/>
          <p:nvPr/>
        </p:nvSpPr>
        <p:spPr>
          <a:xfrm>
            <a:off x="1077840" y="208764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=E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21"/>
          <p:cNvSpPr/>
          <p:nvPr/>
        </p:nvSpPr>
        <p:spPr>
          <a:xfrm>
            <a:off x="1440000" y="29955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=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2"/>
          <p:cNvSpPr/>
          <p:nvPr/>
        </p:nvSpPr>
        <p:spPr>
          <a:xfrm>
            <a:off x="1092240" y="350028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=B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23"/>
          <p:cNvSpPr/>
          <p:nvPr/>
        </p:nvSpPr>
        <p:spPr>
          <a:xfrm>
            <a:off x="1438200" y="4464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F=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24"/>
          <p:cNvGrpSpPr/>
          <p:nvPr/>
        </p:nvGrpSpPr>
        <p:grpSpPr>
          <a:xfrm>
            <a:off x="1366920" y="4781520"/>
            <a:ext cx="2160360" cy="865080"/>
            <a:chOff x="1366920" y="4781520"/>
            <a:chExt cx="2160360" cy="865080"/>
          </a:xfrm>
        </p:grpSpPr>
        <p:sp>
          <p:nvSpPr>
            <p:cNvPr id="900" name="Text Box 25"/>
            <p:cNvSpPr/>
            <p:nvPr/>
          </p:nvSpPr>
          <p:spPr>
            <a:xfrm>
              <a:off x="1366920" y="496872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=    DF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1" name="Object 26" descr=""/>
            <p:cNvPicPr/>
            <p:nvPr/>
          </p:nvPicPr>
          <p:blipFill>
            <a:blip r:embed="rId2"/>
            <a:stretch/>
          </p:blipFill>
          <p:spPr>
            <a:xfrm>
              <a:off x="2548080" y="4781520"/>
              <a:ext cx="33480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27"/>
          <p:cNvGrpSpPr/>
          <p:nvPr/>
        </p:nvGrpSpPr>
        <p:grpSpPr>
          <a:xfrm>
            <a:off x="1042920" y="5445000"/>
            <a:ext cx="4321080" cy="863640"/>
            <a:chOff x="1042920" y="5445000"/>
            <a:chExt cx="4321080" cy="863640"/>
          </a:xfrm>
        </p:grpSpPr>
        <p:sp>
          <p:nvSpPr>
            <p:cNvPr id="903" name="Text Box 28"/>
            <p:cNvSpPr/>
            <p:nvPr/>
          </p:nvSpPr>
          <p:spPr>
            <a:xfrm>
              <a:off x="1042920" y="5616720"/>
              <a:ext cx="43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且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=    B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4" name="Object 29" descr=""/>
            <p:cNvPicPr/>
            <p:nvPr/>
          </p:nvPicPr>
          <p:blipFill>
            <a:blip r:embed="rId3"/>
            <a:stretch/>
          </p:blipFill>
          <p:spPr>
            <a:xfrm>
              <a:off x="3900600" y="5445000"/>
              <a:ext cx="33480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2"/>
          <p:cNvSpPr/>
          <p:nvPr/>
        </p:nvSpPr>
        <p:spPr>
          <a:xfrm>
            <a:off x="2179440" y="368280"/>
            <a:ext cx="53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三角形的中位线的定理（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P89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539640" y="1125360"/>
            <a:ext cx="7848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隶书"/>
              </a:rPr>
              <a:t>三角形的中位线平行于第三边，并且等于它的一半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4"/>
          <p:cNvGrpSpPr/>
          <p:nvPr/>
        </p:nvGrpSpPr>
        <p:grpSpPr>
          <a:xfrm>
            <a:off x="762120" y="2666880"/>
            <a:ext cx="7543440" cy="4223880"/>
            <a:chOff x="762120" y="2666880"/>
            <a:chExt cx="7543440" cy="4223880"/>
          </a:xfrm>
        </p:grpSpPr>
        <p:sp>
          <p:nvSpPr>
            <p:cNvPr id="908" name="Text Box 5"/>
            <p:cNvSpPr/>
            <p:nvPr/>
          </p:nvSpPr>
          <p:spPr>
            <a:xfrm>
              <a:off x="762120" y="2666880"/>
              <a:ext cx="3504960" cy="64260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用符号语言表示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Group 6"/>
            <p:cNvGrpSpPr/>
            <p:nvPr/>
          </p:nvGrpSpPr>
          <p:grpSpPr>
            <a:xfrm>
              <a:off x="3581280" y="2971800"/>
              <a:ext cx="4724280" cy="3918960"/>
              <a:chOff x="3581280" y="2971800"/>
              <a:chExt cx="4724280" cy="3918960"/>
            </a:xfrm>
          </p:grpSpPr>
          <p:sp>
            <p:nvSpPr>
              <p:cNvPr id="910" name="Text Box 7"/>
              <p:cNvSpPr/>
              <p:nvPr/>
            </p:nvSpPr>
            <p:spPr>
              <a:xfrm>
                <a:off x="7162560" y="47242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8"/>
              <p:cNvGrpSpPr/>
              <p:nvPr/>
            </p:nvGrpSpPr>
            <p:grpSpPr>
              <a:xfrm>
                <a:off x="3581280" y="2971800"/>
                <a:ext cx="4724280" cy="3918960"/>
                <a:chOff x="3581280" y="2971800"/>
                <a:chExt cx="4724280" cy="3918960"/>
              </a:xfrm>
            </p:grpSpPr>
            <p:grpSp>
              <p:nvGrpSpPr>
                <p:cNvPr id="912" name="Group 9"/>
                <p:cNvGrpSpPr/>
                <p:nvPr/>
              </p:nvGrpSpPr>
              <p:grpSpPr>
                <a:xfrm>
                  <a:off x="3581280" y="2971800"/>
                  <a:ext cx="4724280" cy="3918960"/>
                  <a:chOff x="3581280" y="2971800"/>
                  <a:chExt cx="4724280" cy="3918960"/>
                </a:xfrm>
              </p:grpSpPr>
              <p:grpSp>
                <p:nvGrpSpPr>
                  <p:cNvPr id="913" name="Group 10"/>
                  <p:cNvGrpSpPr/>
                  <p:nvPr/>
                </p:nvGrpSpPr>
                <p:grpSpPr>
                  <a:xfrm>
                    <a:off x="3581280" y="2971800"/>
                    <a:ext cx="4724280" cy="3918960"/>
                    <a:chOff x="3581280" y="2971800"/>
                    <a:chExt cx="4724280" cy="3918960"/>
                  </a:xfrm>
                </p:grpSpPr>
                <p:sp>
                  <p:nvSpPr>
                    <p:cNvPr id="914" name="AutoShape 11"/>
                    <p:cNvSpPr/>
                    <p:nvPr/>
                  </p:nvSpPr>
                  <p:spPr>
                    <a:xfrm>
                      <a:off x="3962160" y="3504960"/>
                      <a:ext cx="3733920" cy="3047760"/>
                    </a:xfrm>
                    <a:prstGeom prst="triangle">
                      <a:avLst>
                        <a:gd name="adj" fmla="val 69472"/>
                      </a:avLst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Text Box 12"/>
                    <p:cNvSpPr/>
                    <p:nvPr/>
                  </p:nvSpPr>
                  <p:spPr>
                    <a:xfrm>
                      <a:off x="6400800" y="2971800"/>
                      <a:ext cx="6858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Text Box 13"/>
                    <p:cNvSpPr/>
                    <p:nvPr/>
                  </p:nvSpPr>
                  <p:spPr>
                    <a:xfrm>
                      <a:off x="3581280" y="6248160"/>
                      <a:ext cx="6858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Text Box 14"/>
                    <p:cNvSpPr/>
                    <p:nvPr/>
                  </p:nvSpPr>
                  <p:spPr>
                    <a:xfrm>
                      <a:off x="7619760" y="6248160"/>
                      <a:ext cx="6858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8" name="Text Box 15"/>
                  <p:cNvSpPr/>
                  <p:nvPr/>
                </p:nvSpPr>
                <p:spPr>
                  <a:xfrm>
                    <a:off x="4724280" y="4647960"/>
                    <a:ext cx="685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" name=""/>
                <p:cNvGrpSpPr/>
                <p:nvPr/>
              </p:nvGrpSpPr>
              <p:grpSpPr>
                <a:xfrm>
                  <a:off x="5257440" y="5029200"/>
                  <a:ext cx="1905120" cy="360"/>
                  <a:chOff x="5257440" y="5029200"/>
                  <a:chExt cx="1905120" cy="360"/>
                </a:xfrm>
              </p:grpSpPr>
              <p:sp>
                <p:nvSpPr>
                  <p:cNvPr id="920" name="Line 16"/>
                  <p:cNvSpPr/>
                  <p:nvPr/>
                </p:nvSpPr>
                <p:spPr>
                  <a:xfrm>
                    <a:off x="5257440" y="5029200"/>
                    <a:ext cx="1905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 txBox="1"/>
                  <p:nvPr/>
                </p:nvSpPr>
                <p:spPr>
                  <a:xfrm>
                    <a:off x="5257440" y="5029200"/>
                    <a:ext cx="1905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22" name="Group 17"/>
          <p:cNvGrpSpPr/>
          <p:nvPr/>
        </p:nvGrpSpPr>
        <p:grpSpPr>
          <a:xfrm>
            <a:off x="-36360" y="3548160"/>
            <a:ext cx="5257800" cy="2043720"/>
            <a:chOff x="-36360" y="3548160"/>
            <a:chExt cx="5257800" cy="2043720"/>
          </a:xfrm>
        </p:grpSpPr>
        <p:sp>
          <p:nvSpPr>
            <p:cNvPr id="923" name="Rectangle 18"/>
            <p:cNvSpPr/>
            <p:nvPr/>
          </p:nvSpPr>
          <p:spPr>
            <a:xfrm>
              <a:off x="-36360" y="3548160"/>
              <a:ext cx="5257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∵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E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中位线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∴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∥B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2554200" y="446256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=     BC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Group 20"/>
            <p:cNvGrpSpPr/>
            <p:nvPr/>
          </p:nvGrpSpPr>
          <p:grpSpPr>
            <a:xfrm>
              <a:off x="3019320" y="4181760"/>
              <a:ext cx="798480" cy="1167120"/>
              <a:chOff x="3019320" y="4181760"/>
              <a:chExt cx="798480" cy="1167120"/>
            </a:xfrm>
          </p:grpSpPr>
          <p:sp>
            <p:nvSpPr>
              <p:cNvPr id="926" name="AutoShape 21"/>
              <p:cNvSpPr/>
              <p:nvPr/>
            </p:nvSpPr>
            <p:spPr>
              <a:xfrm>
                <a:off x="3019320" y="4200840"/>
                <a:ext cx="4543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"/>
              <p:cNvGrpSpPr/>
              <p:nvPr/>
            </p:nvGrpSpPr>
            <p:grpSpPr>
              <a:xfrm>
                <a:off x="3544920" y="4748400"/>
                <a:ext cx="272880" cy="1440"/>
                <a:chOff x="3544920" y="4748400"/>
                <a:chExt cx="272880" cy="1440"/>
              </a:xfrm>
            </p:grpSpPr>
            <p:sp>
              <p:nvSpPr>
                <p:cNvPr id="928" name="Line 22"/>
                <p:cNvSpPr/>
                <p:nvPr/>
              </p:nvSpPr>
              <p:spPr>
                <a:xfrm>
                  <a:off x="3544920" y="4748400"/>
                  <a:ext cx="2728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 txBox="1"/>
                <p:nvPr/>
              </p:nvSpPr>
              <p:spPr>
                <a:xfrm>
                  <a:off x="3544920" y="4748400"/>
                  <a:ext cx="272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Rectangle 23"/>
              <p:cNvSpPr/>
              <p:nvPr/>
            </p:nvSpPr>
            <p:spPr>
              <a:xfrm>
                <a:off x="3574800" y="4815000"/>
                <a:ext cx="22320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24"/>
              <p:cNvSpPr/>
              <p:nvPr/>
            </p:nvSpPr>
            <p:spPr>
              <a:xfrm>
                <a:off x="3568320" y="4181760"/>
                <a:ext cx="22320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2" name="文本框 8199"/>
          <p:cNvSpPr/>
          <p:nvPr/>
        </p:nvSpPr>
        <p:spPr>
          <a:xfrm>
            <a:off x="187200" y="5589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9"/>
          <p:cNvPicPr/>
          <p:nvPr/>
        </p:nvPicPr>
        <p:blipFill>
          <a:blip r:embed="rId1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187280" y="692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平行四边形的两组对边分别相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68360" y="2060640"/>
            <a:ext cx="8675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两组对边分别相等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58920" y="292428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平行四边形两组对角分别相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85800" y="378936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两组对角分别相等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476360" y="4941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平行四边形对角线互相平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900000" y="5734080"/>
            <a:ext cx="770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线互相平分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76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Times New Roman"/>
                <a:ea typeface="宋体"/>
              </a:rPr>
              <a:t>它的逆命题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6360" y="1413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  <a:ea typeface="宋体"/>
              </a:rPr>
              <a:t>它的逆命题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276120" y="530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Times New Roman"/>
                <a:ea typeface="宋体"/>
              </a:rPr>
              <a:t>它的逆命题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66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3"/>
          <p:cNvSpPr/>
          <p:nvPr/>
        </p:nvSpPr>
        <p:spPr>
          <a:xfrm>
            <a:off x="548640" y="1268280"/>
            <a:ext cx="75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△AB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中点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C=10c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=______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684360" y="4149720"/>
            <a:ext cx="1079280" cy="1800360"/>
            <a:chOff x="684360" y="4149720"/>
            <a:chExt cx="1079280" cy="1800360"/>
          </a:xfrm>
        </p:grpSpPr>
        <p:sp>
          <p:nvSpPr>
            <p:cNvPr id="936" name="Line 4"/>
            <p:cNvSpPr/>
            <p:nvPr/>
          </p:nvSpPr>
          <p:spPr>
            <a:xfrm flipH="1">
              <a:off x="684360" y="4149720"/>
              <a:ext cx="1079280" cy="180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684360" y="4149720"/>
              <a:ext cx="107928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684000" y="5949720"/>
            <a:ext cx="1872000" cy="360"/>
            <a:chOff x="684000" y="5949720"/>
            <a:chExt cx="1872000" cy="360"/>
          </a:xfrm>
        </p:grpSpPr>
        <p:sp>
          <p:nvSpPr>
            <p:cNvPr id="939" name="Line 5"/>
            <p:cNvSpPr/>
            <p:nvPr/>
          </p:nvSpPr>
          <p:spPr>
            <a:xfrm>
              <a:off x="684360" y="59500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 rot="10800000">
              <a:off x="684000" y="594972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1763640" y="4149720"/>
            <a:ext cx="792360" cy="1800360"/>
            <a:chOff x="1763640" y="4149720"/>
            <a:chExt cx="792360" cy="1800360"/>
          </a:xfrm>
        </p:grpSpPr>
        <p:sp>
          <p:nvSpPr>
            <p:cNvPr id="942" name="Line 6"/>
            <p:cNvSpPr/>
            <p:nvPr/>
          </p:nvSpPr>
          <p:spPr>
            <a:xfrm>
              <a:off x="1763640" y="4149720"/>
              <a:ext cx="792360" cy="180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1763640" y="4149720"/>
              <a:ext cx="792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 Box 7"/>
          <p:cNvSpPr/>
          <p:nvPr/>
        </p:nvSpPr>
        <p:spPr>
          <a:xfrm>
            <a:off x="1765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2197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75780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"/>
          <p:cNvSpPr/>
          <p:nvPr/>
        </p:nvSpPr>
        <p:spPr>
          <a:xfrm>
            <a:off x="2558160" y="573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1"/>
          <p:cNvSpPr/>
          <p:nvPr/>
        </p:nvSpPr>
        <p:spPr>
          <a:xfrm>
            <a:off x="253080" y="58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1187280" y="5157720"/>
            <a:ext cx="1008360" cy="360"/>
            <a:chOff x="1187280" y="5157720"/>
            <a:chExt cx="1008360" cy="360"/>
          </a:xfrm>
        </p:grpSpPr>
        <p:sp>
          <p:nvSpPr>
            <p:cNvPr id="950" name="Line 12"/>
            <p:cNvSpPr/>
            <p:nvPr/>
          </p:nvSpPr>
          <p:spPr>
            <a:xfrm>
              <a:off x="1187280" y="515772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1187280" y="5157720"/>
              <a:ext cx="10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Text Box 13"/>
          <p:cNvSpPr/>
          <p:nvPr/>
        </p:nvSpPr>
        <p:spPr>
          <a:xfrm>
            <a:off x="1178640" y="60609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14"/>
          <p:cNvGrpSpPr/>
          <p:nvPr/>
        </p:nvGrpSpPr>
        <p:grpSpPr>
          <a:xfrm>
            <a:off x="4368960" y="3789360"/>
            <a:ext cx="2766240" cy="2720880"/>
            <a:chOff x="4368960" y="3789360"/>
            <a:chExt cx="2766240" cy="2720880"/>
          </a:xfrm>
        </p:grpSpPr>
        <p:sp>
          <p:nvSpPr>
            <p:cNvPr id="954" name="Text Box 15"/>
            <p:cNvSpPr/>
            <p:nvPr/>
          </p:nvSpPr>
          <p:spPr>
            <a:xfrm>
              <a:off x="4368960" y="580536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Group 16"/>
            <p:cNvGrpSpPr/>
            <p:nvPr/>
          </p:nvGrpSpPr>
          <p:grpSpPr>
            <a:xfrm>
              <a:off x="4790160" y="3789360"/>
              <a:ext cx="2345040" cy="2720880"/>
              <a:chOff x="4790160" y="3789360"/>
              <a:chExt cx="2345040" cy="272088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4859280" y="6021360"/>
                <a:ext cx="1800360" cy="360"/>
                <a:chOff x="4859280" y="6021360"/>
                <a:chExt cx="1800360" cy="360"/>
              </a:xfrm>
            </p:grpSpPr>
            <p:sp>
              <p:nvSpPr>
                <p:cNvPr id="957" name="Line 17"/>
                <p:cNvSpPr/>
                <p:nvPr/>
              </p:nvSpPr>
              <p:spPr>
                <a:xfrm>
                  <a:off x="4859280" y="6021360"/>
                  <a:ext cx="180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 txBox="1"/>
                <p:nvPr/>
              </p:nvSpPr>
              <p:spPr>
                <a:xfrm>
                  <a:off x="4859280" y="6021360"/>
                  <a:ext cx="180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Text Box 18"/>
              <p:cNvSpPr/>
              <p:nvPr/>
            </p:nvSpPr>
            <p:spPr>
              <a:xfrm>
                <a:off x="4790160" y="486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0" name="Group 19"/>
              <p:cNvGrpSpPr/>
              <p:nvPr/>
            </p:nvGrpSpPr>
            <p:grpSpPr>
              <a:xfrm>
                <a:off x="4859280" y="3789360"/>
                <a:ext cx="2275920" cy="2720880"/>
                <a:chOff x="4859280" y="3789360"/>
                <a:chExt cx="2275920" cy="2720880"/>
              </a:xfrm>
            </p:grpSpPr>
            <p:grpSp>
              <p:nvGrpSpPr>
                <p:cNvPr id="961" name=""/>
                <p:cNvGrpSpPr/>
                <p:nvPr/>
              </p:nvGrpSpPr>
              <p:grpSpPr>
                <a:xfrm>
                  <a:off x="5508720" y="4221000"/>
                  <a:ext cx="1150920" cy="1800360"/>
                  <a:chOff x="5508720" y="4221000"/>
                  <a:chExt cx="1150920" cy="1800360"/>
                </a:xfrm>
              </p:grpSpPr>
              <p:sp>
                <p:nvSpPr>
                  <p:cNvPr id="962" name="Line 20"/>
                  <p:cNvSpPr/>
                  <p:nvPr/>
                </p:nvSpPr>
                <p:spPr>
                  <a:xfrm>
                    <a:off x="5508720" y="4221000"/>
                    <a:ext cx="1150920" cy="1800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 txBox="1"/>
                  <p:nvPr/>
                </p:nvSpPr>
                <p:spPr>
                  <a:xfrm>
                    <a:off x="5508720" y="4221000"/>
                    <a:ext cx="1150920" cy="180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Group 21"/>
                <p:cNvGrpSpPr/>
                <p:nvPr/>
              </p:nvGrpSpPr>
              <p:grpSpPr>
                <a:xfrm>
                  <a:off x="4859280" y="3789360"/>
                  <a:ext cx="2275920" cy="2404440"/>
                  <a:chOff x="4859280" y="3789360"/>
                  <a:chExt cx="2275920" cy="2404440"/>
                </a:xfrm>
              </p:grpSpPr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4859280" y="4221000"/>
                    <a:ext cx="649440" cy="1800360"/>
                    <a:chOff x="4859280" y="4221000"/>
                    <a:chExt cx="649440" cy="1800360"/>
                  </a:xfrm>
                </p:grpSpPr>
                <p:sp>
                  <p:nvSpPr>
                    <p:cNvPr id="966" name="Line 22"/>
                    <p:cNvSpPr/>
                    <p:nvPr/>
                  </p:nvSpPr>
                  <p:spPr>
                    <a:xfrm flipH="1">
                      <a:off x="4859280" y="4221000"/>
                      <a:ext cx="649440" cy="1800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 txBox="1"/>
                    <p:nvPr/>
                  </p:nvSpPr>
                  <p:spPr>
                    <a:xfrm>
                      <a:off x="4859280" y="4221000"/>
                      <a:ext cx="649440" cy="180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8" name="Text Box 23"/>
                  <p:cNvSpPr/>
                  <p:nvPr/>
                </p:nvSpPr>
                <p:spPr>
                  <a:xfrm>
                    <a:off x="5294880" y="378936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Text Box 24"/>
                  <p:cNvSpPr/>
                  <p:nvPr/>
                </p:nvSpPr>
                <p:spPr>
                  <a:xfrm>
                    <a:off x="6086520" y="486900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Text Box 25"/>
                  <p:cNvSpPr/>
                  <p:nvPr/>
                </p:nvSpPr>
                <p:spPr>
                  <a:xfrm>
                    <a:off x="6734880" y="5734080"/>
                    <a:ext cx="400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5148360" y="5157720"/>
                  <a:ext cx="936360" cy="360"/>
                  <a:chOff x="5148360" y="5157720"/>
                  <a:chExt cx="936360" cy="360"/>
                </a:xfrm>
              </p:grpSpPr>
              <p:sp>
                <p:nvSpPr>
                  <p:cNvPr id="972" name="Line 26"/>
                  <p:cNvSpPr/>
                  <p:nvPr/>
                </p:nvSpPr>
                <p:spPr>
                  <a:xfrm>
                    <a:off x="5148360" y="5157720"/>
                    <a:ext cx="93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 txBox="1"/>
                  <p:nvPr/>
                </p:nvSpPr>
                <p:spPr>
                  <a:xfrm>
                    <a:off x="5148360" y="5157720"/>
                    <a:ext cx="936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4" name="Text Box 27"/>
                <p:cNvSpPr/>
                <p:nvPr/>
              </p:nvSpPr>
              <p:spPr>
                <a:xfrm>
                  <a:off x="5345280" y="5989680"/>
                  <a:ext cx="61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(2)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5" name="Text Box 28"/>
          <p:cNvSpPr/>
          <p:nvPr/>
        </p:nvSpPr>
        <p:spPr>
          <a:xfrm>
            <a:off x="179280" y="2565360"/>
            <a:ext cx="835344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△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别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中点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50°, ∠B=70°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则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D=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9"/>
          <p:cNvSpPr/>
          <p:nvPr/>
        </p:nvSpPr>
        <p:spPr>
          <a:xfrm>
            <a:off x="4716360" y="1773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30"/>
          <p:cNvSpPr/>
          <p:nvPr/>
        </p:nvSpPr>
        <p:spPr>
          <a:xfrm>
            <a:off x="6227640" y="3068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WordArt 2"/>
          <p:cNvSpPr txBox="1"/>
          <p:nvPr/>
        </p:nvSpPr>
        <p:spPr>
          <a:xfrm>
            <a:off x="304920" y="3049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应用：</a:t>
            </a:r>
            <a:endParaRPr b="1" lang="en-US" sz="3200" spc="1" strike="noStrike">
              <a:ln w="9360">
                <a:solidFill>
                  <a:srgbClr val="ff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79" name="Text Box 3"/>
          <p:cNvSpPr/>
          <p:nvPr/>
        </p:nvSpPr>
        <p:spPr>
          <a:xfrm>
            <a:off x="304920" y="9907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口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三角形的周长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个三角形的三条中位线围成三角形的周长是多少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"/>
          <p:cNvSpPr/>
          <p:nvPr/>
        </p:nvSpPr>
        <p:spPr>
          <a:xfrm>
            <a:off x="250920" y="3141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图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边上的中点，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=10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E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5"/>
          <p:cNvGrpSpPr/>
          <p:nvPr/>
        </p:nvGrpSpPr>
        <p:grpSpPr>
          <a:xfrm>
            <a:off x="2032200" y="4749840"/>
            <a:ext cx="3906000" cy="1777320"/>
            <a:chOff x="2032200" y="4749840"/>
            <a:chExt cx="3906000" cy="1777320"/>
          </a:xfrm>
        </p:grpSpPr>
        <p:sp>
          <p:nvSpPr>
            <p:cNvPr id="982" name="AutoShape 6"/>
            <p:cNvSpPr/>
            <p:nvPr/>
          </p:nvSpPr>
          <p:spPr>
            <a:xfrm>
              <a:off x="2411280" y="5130720"/>
              <a:ext cx="3048120" cy="914400"/>
            </a:xfrm>
            <a:prstGeom prst="parallelogram">
              <a:avLst>
                <a:gd name="adj" fmla="val 8333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"/>
            <p:cNvGrpSpPr/>
            <p:nvPr/>
          </p:nvGrpSpPr>
          <p:grpSpPr>
            <a:xfrm>
              <a:off x="3173400" y="5130720"/>
              <a:ext cx="1523880" cy="914400"/>
              <a:chOff x="3173400" y="5130720"/>
              <a:chExt cx="1523880" cy="914400"/>
            </a:xfrm>
          </p:grpSpPr>
          <p:sp>
            <p:nvSpPr>
              <p:cNvPr id="984" name="Line 7"/>
              <p:cNvSpPr/>
              <p:nvPr/>
            </p:nvSpPr>
            <p:spPr>
              <a:xfrm>
                <a:off x="3173400" y="5130720"/>
                <a:ext cx="15238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 txBox="1"/>
              <p:nvPr/>
            </p:nvSpPr>
            <p:spPr>
              <a:xfrm>
                <a:off x="3173400" y="5130720"/>
                <a:ext cx="152388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2410920" y="5130720"/>
              <a:ext cx="3048480" cy="914400"/>
              <a:chOff x="2410920" y="5130720"/>
              <a:chExt cx="3048480" cy="914400"/>
            </a:xfrm>
          </p:grpSpPr>
          <p:sp>
            <p:nvSpPr>
              <p:cNvPr id="987" name="Line 8"/>
              <p:cNvSpPr/>
              <p:nvPr/>
            </p:nvSpPr>
            <p:spPr>
              <a:xfrm flipV="1">
                <a:off x="2411280" y="5130720"/>
                <a:ext cx="304812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 rot="10800000">
                <a:off x="2410920" y="5130720"/>
                <a:ext cx="304812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2792160" y="5575320"/>
              <a:ext cx="1143360" cy="360"/>
              <a:chOff x="2792160" y="5575320"/>
              <a:chExt cx="1143360" cy="360"/>
            </a:xfrm>
          </p:grpSpPr>
          <p:sp>
            <p:nvSpPr>
              <p:cNvPr id="990" name="Line 9"/>
              <p:cNvSpPr/>
              <p:nvPr/>
            </p:nvSpPr>
            <p:spPr>
              <a:xfrm flipH="1">
                <a:off x="2792160" y="557532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>
                <a:off x="2792520" y="557532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2" name="Text Box 10"/>
            <p:cNvSpPr/>
            <p:nvPr/>
          </p:nvSpPr>
          <p:spPr>
            <a:xfrm>
              <a:off x="2768760" y="474984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2032200" y="604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5537880" y="4826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4547160" y="606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14"/>
            <p:cNvSpPr/>
            <p:nvPr/>
          </p:nvSpPr>
          <p:spPr>
            <a:xfrm>
              <a:off x="2330640" y="528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15"/>
            <p:cNvSpPr/>
            <p:nvPr/>
          </p:nvSpPr>
          <p:spPr>
            <a:xfrm>
              <a:off x="3783960" y="5130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Text Box 16"/>
          <p:cNvSpPr/>
          <p:nvPr/>
        </p:nvSpPr>
        <p:spPr>
          <a:xfrm>
            <a:off x="5796000" y="357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7"/>
          <p:cNvSpPr/>
          <p:nvPr/>
        </p:nvSpPr>
        <p:spPr>
          <a:xfrm>
            <a:off x="226836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c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2"/>
          <p:cNvSpPr/>
          <p:nvPr/>
        </p:nvSpPr>
        <p:spPr>
          <a:xfrm>
            <a:off x="517680" y="685800"/>
            <a:ext cx="862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图：如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=    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=    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=2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Group 3"/>
          <p:cNvGrpSpPr/>
          <p:nvPr/>
        </p:nvGrpSpPr>
        <p:grpSpPr>
          <a:xfrm>
            <a:off x="452880" y="2290680"/>
            <a:ext cx="2364120" cy="2364480"/>
            <a:chOff x="452880" y="2290680"/>
            <a:chExt cx="2364120" cy="2364480"/>
          </a:xfrm>
        </p:grpSpPr>
        <p:grpSp>
          <p:nvGrpSpPr>
            <p:cNvPr id="1002" name=""/>
            <p:cNvGrpSpPr/>
            <p:nvPr/>
          </p:nvGrpSpPr>
          <p:grpSpPr>
            <a:xfrm>
              <a:off x="907920" y="2823840"/>
              <a:ext cx="838080" cy="1371600"/>
              <a:chOff x="907920" y="2823840"/>
              <a:chExt cx="838080" cy="1371600"/>
            </a:xfrm>
          </p:grpSpPr>
          <p:sp>
            <p:nvSpPr>
              <p:cNvPr id="1003" name="Line 4"/>
              <p:cNvSpPr/>
              <p:nvPr/>
            </p:nvSpPr>
            <p:spPr>
              <a:xfrm flipH="1">
                <a:off x="907920" y="2823840"/>
                <a:ext cx="83808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907920" y="2823840"/>
                <a:ext cx="83808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1746000" y="2823840"/>
              <a:ext cx="685800" cy="1371600"/>
              <a:chOff x="1746000" y="2823840"/>
              <a:chExt cx="685800" cy="1371600"/>
            </a:xfrm>
          </p:grpSpPr>
          <p:sp>
            <p:nvSpPr>
              <p:cNvPr id="1006" name="Line 5"/>
              <p:cNvSpPr/>
              <p:nvPr/>
            </p:nvSpPr>
            <p:spPr>
              <a:xfrm>
                <a:off x="1746000" y="2823840"/>
                <a:ext cx="68580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>
                <a:off x="1746000" y="2823840"/>
                <a:ext cx="68580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907560" y="4195080"/>
              <a:ext cx="1524240" cy="360"/>
              <a:chOff x="907560" y="4195080"/>
              <a:chExt cx="1524240" cy="360"/>
            </a:xfrm>
          </p:grpSpPr>
          <p:sp>
            <p:nvSpPr>
              <p:cNvPr id="1009" name="Line 6"/>
              <p:cNvSpPr/>
              <p:nvPr/>
            </p:nvSpPr>
            <p:spPr>
              <a:xfrm>
                <a:off x="907920" y="419544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 rot="10800000">
                <a:off x="907560" y="4195080"/>
                <a:ext cx="152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1453680" y="3280680"/>
              <a:ext cx="533520" cy="360"/>
              <a:chOff x="1453680" y="3280680"/>
              <a:chExt cx="533520" cy="360"/>
            </a:xfrm>
          </p:grpSpPr>
          <p:sp>
            <p:nvSpPr>
              <p:cNvPr id="1012" name="Line 7"/>
              <p:cNvSpPr/>
              <p:nvPr/>
            </p:nvSpPr>
            <p:spPr>
              <a:xfrm>
                <a:off x="1454040" y="32810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 rot="10800000">
                <a:off x="1453680" y="3280680"/>
                <a:ext cx="53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Text Box 8"/>
            <p:cNvSpPr/>
            <p:nvPr/>
          </p:nvSpPr>
          <p:spPr>
            <a:xfrm>
              <a:off x="1595880" y="22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Text Box 9"/>
            <p:cNvSpPr/>
            <p:nvPr/>
          </p:nvSpPr>
          <p:spPr>
            <a:xfrm>
              <a:off x="2433600" y="4195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Text Box 10"/>
            <p:cNvSpPr/>
            <p:nvPr/>
          </p:nvSpPr>
          <p:spPr>
            <a:xfrm>
              <a:off x="1062360" y="297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11"/>
            <p:cNvSpPr/>
            <p:nvPr/>
          </p:nvSpPr>
          <p:spPr>
            <a:xfrm>
              <a:off x="452880" y="4195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12"/>
            <p:cNvSpPr/>
            <p:nvPr/>
          </p:nvSpPr>
          <p:spPr>
            <a:xfrm>
              <a:off x="2050920" y="2976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13"/>
          <p:cNvSpPr/>
          <p:nvPr/>
        </p:nvSpPr>
        <p:spPr>
          <a:xfrm>
            <a:off x="228600" y="4827600"/>
            <a:ext cx="830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在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分别为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中点，若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=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C=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，则四边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FGH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的周长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4"/>
          <p:cNvGrpSpPr/>
          <p:nvPr/>
        </p:nvGrpSpPr>
        <p:grpSpPr>
          <a:xfrm>
            <a:off x="5335560" y="2290680"/>
            <a:ext cx="2720520" cy="2303640"/>
            <a:chOff x="5335560" y="2290680"/>
            <a:chExt cx="2720520" cy="2303640"/>
          </a:xfrm>
        </p:grpSpPr>
        <p:grpSp>
          <p:nvGrpSpPr>
            <p:cNvPr id="1021" name=""/>
            <p:cNvGrpSpPr/>
            <p:nvPr/>
          </p:nvGrpSpPr>
          <p:grpSpPr>
            <a:xfrm>
              <a:off x="5641560" y="2622240"/>
              <a:ext cx="1135440" cy="1636920"/>
              <a:chOff x="5641560" y="2622240"/>
              <a:chExt cx="1135440" cy="1636920"/>
            </a:xfrm>
          </p:grpSpPr>
          <p:sp>
            <p:nvSpPr>
              <p:cNvPr id="1022" name="Line 15"/>
              <p:cNvSpPr/>
              <p:nvPr/>
            </p:nvSpPr>
            <p:spPr>
              <a:xfrm flipH="1">
                <a:off x="5641560" y="2622240"/>
                <a:ext cx="1135080" cy="163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 txBox="1"/>
              <p:nvPr/>
            </p:nvSpPr>
            <p:spPr>
              <a:xfrm>
                <a:off x="5641920" y="2622240"/>
                <a:ext cx="1135080" cy="163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6777000" y="2622240"/>
              <a:ext cx="927000" cy="1636920"/>
              <a:chOff x="6777000" y="2622240"/>
              <a:chExt cx="927000" cy="1636920"/>
            </a:xfrm>
          </p:grpSpPr>
          <p:sp>
            <p:nvSpPr>
              <p:cNvPr id="1025" name="Line 16"/>
              <p:cNvSpPr/>
              <p:nvPr/>
            </p:nvSpPr>
            <p:spPr>
              <a:xfrm>
                <a:off x="6777000" y="2622240"/>
                <a:ext cx="927000" cy="163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 txBox="1"/>
              <p:nvPr/>
            </p:nvSpPr>
            <p:spPr>
              <a:xfrm>
                <a:off x="6777000" y="2622240"/>
                <a:ext cx="927000" cy="163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5641920" y="4258800"/>
              <a:ext cx="2062080" cy="360"/>
              <a:chOff x="5641920" y="4258800"/>
              <a:chExt cx="2062080" cy="360"/>
            </a:xfrm>
          </p:grpSpPr>
          <p:sp>
            <p:nvSpPr>
              <p:cNvPr id="1028" name="Line 17"/>
              <p:cNvSpPr/>
              <p:nvPr/>
            </p:nvSpPr>
            <p:spPr>
              <a:xfrm>
                <a:off x="5641920" y="4259160"/>
                <a:ext cx="206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 txBox="1"/>
              <p:nvPr/>
            </p:nvSpPr>
            <p:spPr>
              <a:xfrm rot="10800000">
                <a:off x="5641920" y="4258800"/>
                <a:ext cx="2062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6172200" y="3509640"/>
              <a:ext cx="360" cy="533520"/>
              <a:chOff x="6172200" y="3509640"/>
              <a:chExt cx="360" cy="533520"/>
            </a:xfrm>
          </p:grpSpPr>
          <p:sp>
            <p:nvSpPr>
              <p:cNvPr id="1031" name="Line 18"/>
              <p:cNvSpPr/>
              <p:nvPr/>
            </p:nvSpPr>
            <p:spPr>
              <a:xfrm>
                <a:off x="6172200" y="350964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 txBox="1"/>
              <p:nvPr/>
            </p:nvSpPr>
            <p:spPr>
              <a:xfrm>
                <a:off x="6172200" y="350964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Text Box 19"/>
            <p:cNvSpPr/>
            <p:nvPr/>
          </p:nvSpPr>
          <p:spPr>
            <a:xfrm>
              <a:off x="6554520" y="2290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0"/>
            <p:cNvSpPr/>
            <p:nvPr/>
          </p:nvSpPr>
          <p:spPr>
            <a:xfrm>
              <a:off x="7706160" y="41954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1"/>
            <p:cNvSpPr/>
            <p:nvPr/>
          </p:nvSpPr>
          <p:spPr>
            <a:xfrm>
              <a:off x="6554520" y="3711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22"/>
            <p:cNvSpPr/>
            <p:nvPr/>
          </p:nvSpPr>
          <p:spPr>
            <a:xfrm>
              <a:off x="5335560" y="4195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23"/>
            <p:cNvSpPr/>
            <p:nvPr/>
          </p:nvSpPr>
          <p:spPr>
            <a:xfrm>
              <a:off x="5715000" y="3205080"/>
              <a:ext cx="5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705360" y="2671560"/>
              <a:ext cx="76320" cy="1066680"/>
              <a:chOff x="6705360" y="2671560"/>
              <a:chExt cx="76320" cy="1066680"/>
            </a:xfrm>
          </p:grpSpPr>
          <p:sp>
            <p:nvSpPr>
              <p:cNvPr id="1039" name="Line 24"/>
              <p:cNvSpPr/>
              <p:nvPr/>
            </p:nvSpPr>
            <p:spPr>
              <a:xfrm flipH="1">
                <a:off x="6705360" y="2671560"/>
                <a:ext cx="7596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 txBox="1"/>
              <p:nvPr/>
            </p:nvSpPr>
            <p:spPr>
              <a:xfrm>
                <a:off x="6705720" y="2671560"/>
                <a:ext cx="759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5638680" y="3738240"/>
              <a:ext cx="1067040" cy="533520"/>
              <a:chOff x="5638680" y="3738240"/>
              <a:chExt cx="1067040" cy="533520"/>
            </a:xfrm>
          </p:grpSpPr>
          <p:sp>
            <p:nvSpPr>
              <p:cNvPr id="1042" name="Line 25"/>
              <p:cNvSpPr/>
              <p:nvPr/>
            </p:nvSpPr>
            <p:spPr>
              <a:xfrm flipV="1">
                <a:off x="5638680" y="3738240"/>
                <a:ext cx="106704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 txBox="1"/>
              <p:nvPr/>
            </p:nvSpPr>
            <p:spPr>
              <a:xfrm rot="10800000">
                <a:off x="5638680" y="3738240"/>
                <a:ext cx="106704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6705720" y="3738240"/>
              <a:ext cx="990360" cy="533520"/>
              <a:chOff x="6705720" y="3738240"/>
              <a:chExt cx="990360" cy="533520"/>
            </a:xfrm>
          </p:grpSpPr>
          <p:sp>
            <p:nvSpPr>
              <p:cNvPr id="1045" name="Line 26"/>
              <p:cNvSpPr/>
              <p:nvPr/>
            </p:nvSpPr>
            <p:spPr>
              <a:xfrm>
                <a:off x="6705720" y="3738240"/>
                <a:ext cx="9903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 txBox="1"/>
              <p:nvPr/>
            </p:nvSpPr>
            <p:spPr>
              <a:xfrm>
                <a:off x="6705720" y="3738240"/>
                <a:ext cx="990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6172200" y="3509640"/>
              <a:ext cx="1143000" cy="360"/>
              <a:chOff x="6172200" y="3509640"/>
              <a:chExt cx="1143000" cy="360"/>
            </a:xfrm>
          </p:grpSpPr>
          <p:sp>
            <p:nvSpPr>
              <p:cNvPr id="1048" name="Line 27"/>
              <p:cNvSpPr/>
              <p:nvPr/>
            </p:nvSpPr>
            <p:spPr>
              <a:xfrm>
                <a:off x="6172200" y="350964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 txBox="1"/>
              <p:nvPr/>
            </p:nvSpPr>
            <p:spPr>
              <a:xfrm>
                <a:off x="6172200" y="350964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7277040" y="3509640"/>
              <a:ext cx="360" cy="533520"/>
              <a:chOff x="7277040" y="3509640"/>
              <a:chExt cx="360" cy="533520"/>
            </a:xfrm>
          </p:grpSpPr>
          <p:sp>
            <p:nvSpPr>
              <p:cNvPr id="1051" name="Line 28"/>
              <p:cNvSpPr/>
              <p:nvPr/>
            </p:nvSpPr>
            <p:spPr>
              <a:xfrm>
                <a:off x="7277040" y="350964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7277040" y="350964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6159600" y="4030560"/>
              <a:ext cx="1143000" cy="360"/>
              <a:chOff x="6159600" y="4030560"/>
              <a:chExt cx="1143000" cy="360"/>
            </a:xfrm>
          </p:grpSpPr>
          <p:sp>
            <p:nvSpPr>
              <p:cNvPr id="1054" name="Line 29"/>
              <p:cNvSpPr/>
              <p:nvPr/>
            </p:nvSpPr>
            <p:spPr>
              <a:xfrm>
                <a:off x="6159600" y="403056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6159600" y="403056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Text Box 30"/>
            <p:cNvSpPr/>
            <p:nvPr/>
          </p:nvSpPr>
          <p:spPr>
            <a:xfrm>
              <a:off x="6062760" y="39510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31"/>
            <p:cNvSpPr/>
            <p:nvPr/>
          </p:nvSpPr>
          <p:spPr>
            <a:xfrm>
              <a:off x="7011360" y="39668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32"/>
            <p:cNvSpPr/>
            <p:nvPr/>
          </p:nvSpPr>
          <p:spPr>
            <a:xfrm>
              <a:off x="7239960" y="32050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9" name="Object 33" descr=""/>
          <p:cNvPicPr/>
          <p:nvPr/>
        </p:nvPicPr>
        <p:blipFill>
          <a:blip r:embed="rId1"/>
          <a:stretch/>
        </p:blipFill>
        <p:spPr>
          <a:xfrm>
            <a:off x="6732720" y="425520"/>
            <a:ext cx="366480" cy="1066680"/>
          </a:xfrm>
          <a:prstGeom prst="rect">
            <a:avLst/>
          </a:prstGeom>
          <a:ln w="0">
            <a:noFill/>
          </a:ln>
        </p:spPr>
      </p:pic>
      <p:pic>
        <p:nvPicPr>
          <p:cNvPr id="1060" name="Object 34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3664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061" name="Group 35"/>
          <p:cNvGrpSpPr/>
          <p:nvPr/>
        </p:nvGrpSpPr>
        <p:grpSpPr>
          <a:xfrm>
            <a:off x="826920" y="3284640"/>
            <a:ext cx="1944360" cy="520560"/>
            <a:chOff x="826920" y="3284640"/>
            <a:chExt cx="1944360" cy="520560"/>
          </a:xfrm>
        </p:grpSpPr>
        <p:grpSp>
          <p:nvGrpSpPr>
            <p:cNvPr id="1062" name=""/>
            <p:cNvGrpSpPr/>
            <p:nvPr/>
          </p:nvGrpSpPr>
          <p:grpSpPr>
            <a:xfrm>
              <a:off x="1291680" y="3586320"/>
              <a:ext cx="842400" cy="360"/>
              <a:chOff x="1291680" y="3586320"/>
              <a:chExt cx="842400" cy="360"/>
            </a:xfrm>
          </p:grpSpPr>
          <p:sp>
            <p:nvSpPr>
              <p:cNvPr id="1063" name="Line 36"/>
              <p:cNvSpPr/>
              <p:nvPr/>
            </p:nvSpPr>
            <p:spPr>
              <a:xfrm>
                <a:off x="1291680" y="3586320"/>
                <a:ext cx="84240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 txBox="1"/>
              <p:nvPr/>
            </p:nvSpPr>
            <p:spPr>
              <a:xfrm>
                <a:off x="1291680" y="3586320"/>
                <a:ext cx="84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Text Box 37"/>
            <p:cNvSpPr/>
            <p:nvPr/>
          </p:nvSpPr>
          <p:spPr>
            <a:xfrm>
              <a:off x="2119680" y="3284640"/>
              <a:ext cx="6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38"/>
            <p:cNvSpPr/>
            <p:nvPr/>
          </p:nvSpPr>
          <p:spPr>
            <a:xfrm>
              <a:off x="826920" y="3284640"/>
              <a:ext cx="6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Text Box 39"/>
          <p:cNvSpPr/>
          <p:nvPr/>
        </p:nvSpPr>
        <p:spPr>
          <a:xfrm>
            <a:off x="4427640" y="1619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40"/>
          <p:cNvSpPr/>
          <p:nvPr/>
        </p:nvSpPr>
        <p:spPr>
          <a:xfrm>
            <a:off x="4500720" y="5734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3"/>
          <p:cNvSpPr/>
          <p:nvPr/>
        </p:nvSpPr>
        <p:spPr>
          <a:xfrm>
            <a:off x="2054160" y="3573360"/>
            <a:ext cx="516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imes New Roman"/>
                <a:ea typeface="宋体"/>
              </a:rPr>
              <a:t>作业：新支点</a:t>
            </a: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P6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ff6600"/>
                </a:solidFill>
                <a:latin typeface="Times New Roman"/>
                <a:ea typeface="宋体"/>
              </a:rPr>
              <a:t>第二课时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WordArt 5"/>
          <p:cNvSpPr txBox="1"/>
          <p:nvPr/>
        </p:nvSpPr>
        <p:spPr>
          <a:xfrm>
            <a:off x="2903400" y="765000"/>
            <a:ext cx="346896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再见</a:t>
            </a:r>
            <a:r>
              <a:rPr b="1" lang="en-US" sz="5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!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79 0.04093 C -0.17013 0.0407 -0.17986 0.03792 -0.1809 0.03677 C -0.18246 0.03515 -0.18281 0.03214 -0.1842 0.03029 C -0.18715 0.02613 -0.19062 0.02336 -0.19375 0.01989 C -0.20816 0.00417 -0.221 -0.00809 -0.23333 -0.02682 C -0.23923 -0.03583 -0.24566 -0.04416 -0.25086 -0.0541 C -0.25312 -0.05826 -0.25711 -0.06682 -0.25711 -0.06682 C -0.25937 -0.07907 -0.26371 -0.09063 -0.26666 -0.10289 C -0.26718 -0.10497 -0.26822 -0.10913 -0.26822 -0.10913 C -0.26875 -0.13803 -0.26979 -0.16693 -0.26979 -0.19583 C -0.26979 -0.22612 -0.26909 -0.25641 -0.26822 -0.2867 C -0.26805 -0.28971 -0.2684 -0.29341 -0.26666 -0.29526 C -0.26006 -0.30289 -0.25816 -0.29664 -0.25243 -0.3015 C -0.23767 -0.31398 -0.2217 -0.31768 -0.20486 -0.32277 C -0.15711 -0.3637 -0.09166 -0.33248 -0.03506 -0.33318 C -0.02586 -0.33826 -0.0177 -0.34173 -0.00798 -0.34381 C -0.00052 -0.35029 0.00712 -0.35052 0.0158 -0.35237 C 0.02431 -0.35676 0.03247 -0.36046 0.04132 -0.36277 C 0.18577 -0.36208 0.33021 -0.36208 0.47466 -0.36069 C 0.48108 -0.36069 0.48716 -0.35745 0.49358 -0.35653 C 0.49566 -0.35514 0.49809 -0.35422 0.5 -0.35237 C 0.50122 -0.35121 0.50191 -0.34913 0.50313 -0.34797 C 0.51823 -0.33433 0.50226 -0.35075 0.51424 -0.34173 C 0.51928 -0.33803 0.52275 -0.33017 0.52848 -0.32901 C 0.53212 -0.32832 0.53594 -0.32763 0.53959 -0.32693 C 0.54254 -0.31537 0.54306 -0.31075 0.5507 -0.30358 C 0.55539 -0.29179 0.55382 -0.27977 0.55712 -0.26774 C 0.56059 -0.25479 0.56719 -0.24138 0.57292 -0.22959 C 0.5849 -0.17225 0.57032 -0.10913 0.58403 -0.05202 C 0.58455 -0.04508 0.58455 -0.03792 0.58577 -0.03098 C 0.58629 -0.02797 0.58872 -0.02566 0.58889 -0.02242 C 0.59601 0.07145 0.58681 0.00509 0.59202 0.04093 C 0.5915 0.12971 0.61719 0.23145 0.58247 0.30729 C 0.58091 0.31792 0.57778 0.32833 0.57622 0.33896 C 0.5757 0.34243 0.57605 0.34636 0.57466 0.3496 C 0.57362 0.35191 0.57136 0.35237 0.5698 0.35376 C 0.56511 0.37318 0.55834 0.39099 0.5507 0.40879 C 0.54688 0.41734 0.54601 0.4222 0.53959 0.42775 C 0.53299 0.44162 0.52744 0.4474 0.51737 0.45734 C 0.50313 0.47122 0.49914 0.47492 0.48091 0.47862 C 0.46598 0.48648 0.44914 0.48948 0.43334 0.49341 C 0.42553 0.49526 0.4191 0.49827 0.41112 0.49966 C 0.34393 0.49827 0.27674 0.49873 0.20955 0.49549 C 0.19653 0.4948 0.17848 0.48393 0.16667 0.47862 C 0.14202 0.46775 0.11476 0.45596 0.08889 0.4511 C 0.0691 0.44255 0.0507 0.43515 0.03021 0.42983 C 0.01632 0.42636 0.00244 0.41734 -0.01128 0.41295 C -0.01736 0.41087 -0.02395 0.41041 -0.0302 0.40879 C -0.04288 0.39746 -0.06284 0.39191 -0.07777 0.38752 C -0.08941 0.37758 -0.10572 0.37388 -0.11909 0.37064 C -0.12482 0.36301 -0.13194 0.35839 -0.13975 0.35584 C -0.14392 0.35284 -0.14913 0.35214 -0.15243 0.34752 C -0.15694 0.34128 -0.16006 0.33365 -0.1651 0.32833 C -0.16875 0.32463 -0.17621 0.31792 -0.17621 0.31815 C -0.17934 0.30474 -0.17638 0.31284 -0.19045 0.29873 C -0.19305 0.29596 -0.2 0.29457 -0.2 0.2948 C -0.20503 0.2881 -0.21128 0.28255 -0.21753 0.27769 C -0.2217 0.27445 -0.2302 0.26914 -0.2302 0.26937 C -0.23263 0.26474 -0.23611 0.26128 -0.23819 0.25665 C -0.24392 0.24417 -0.24826 0.22451 -0.25086 0.20995 C -0.25034 0.15561 -0.25069 0.10151 -0.2493 0.04717 C -0.24895 0.03445 -0.2467 0.02197 -0.246 0.00925 C -0.24427 -0.02057 -0.24583 -0.06404 -0.23975 -0.09641 C -0.23871 -0.10936 -0.23784 -0.11861 -0.23489 -0.1304 C -0.2335 -0.14474 -0.22934 -0.17849 -0.22378 -0.18959 C -0.22274 -0.19375 -0.221 -0.19768 -0.22066 -0.20208 C -0.21961 -0.21641 -0.22118 -0.22474 -0.21423 -0.23398 C -0.21145 -0.24531 -0.20451 -0.24393 -0.19687 -0.24647 C -0.07708 -0.35468 0.13125 -0.28185 0.23803 -0.28254 C 0.26389 -0.28416 0.28872 -0.2867 0.31424 -0.29086 C 0.34497 -0.30543 0.37709 -0.30242 0.40955 -0.30358 C 0.44983 -0.30289 0.48994 -0.30289 0.53021 -0.3015 C 0.54167 -0.30104 0.55678 -0.29433 0.56823 -0.29318 C 0.57709 -0.28485 0.57205 -0.27699 0.57778 -0.26566 C 0.57865 -0.25549 0.58073 -0.23329 0.58403 -0.22335 C 0.58525 -0.21965 0.58872 -0.21826 0.59046 -0.21479 C 0.59167 -0.21225 0.59254 -0.20924 0.59358 -0.20647 C 0.60209 -0.13734 0.60296 -0.05688 0.58403 0.01133 C 0.5816 0.03122 0.57987 0.05249 0.57292 0.07052 C 0.57066 0.08301 0.56928 0.0911 0.56511 0.1022 C 0.56355 0.11029 0.56268 0.12232 0.56025 0.12971 C 0.55869 0.13434 0.55521 0.13711 0.554 0.14243 C 0.55139 0.15237 0.54862 0.16208 0.54601 0.17203 C 0.53976 0.19515 0.53542 0.21989 0.52691 0.24185 C 0.52309 0.2622 0.5125 0.27977 0.50625 0.29873 C 0.50244 0.31029 0.50226 0.32602 0.49514 0.3348 C 0.49098 0.34613 0.48837 0.357 0.48403 0.36856 C 0.48299 0.37133 0.48264 0.3748 0.48091 0.37711 C 0.47882 0.37989 0.47657 0.38243 0.47466 0.38544 C 0.46702 0.39769 0.46598 0.40301 0.45712 0.41087 C 0.45556 0.41365 0.45452 0.41734 0.45244 0.41943 C 0.44879 0.42289 0.44341 0.4222 0.43959 0.42567 C 0.42188 0.44139 0.43316 0.43561 0.42223 0.44047 C 0.41546 0.45388 0.39966 0.45295 0.38889 0.45526 C 0.37223 0.4585 0.3566 0.46706 0.33959 0.47006 C 0.27865 0.46706 0.2599 0.47422 0.2158 0.45526 C 0.20764 0.44786 0.19983 0.44578 0.19046 0.44255 C 0.17796 0.43815 0.16598 0.43214 0.154 0.42567 C 0.15087 0.42405 0.14775 0.42243 0.14445 0.42151 C 0.13976 0.42012 0.13021 0.41711 0.13021 0.41734 C 0.11789 0.40648 0.13351 0.41896 0.1191 0.41087 C 0.11268 0.40717 0.10678 0.40162 0.1 0.39815 C 0.09462 0.39515 0.08941 0.3926 0.08403 0.38983 C 0.08247 0.38914 0.07934 0.38752 0.07934 0.38775 C 0.07188 0.37758 0.06198 0.37688 0.054 0.36856 C 0.04549 0.35977 0.04671 0.35284 0.03646 0.3496 C 0.025 0.33781 0.01216 0.31885 -4.44444E-006 0.30937 C -0.01336 0.29896 -0.02829 0.28833 -0.04288 0.28185 C -0.05017 0.27214 -0.0552 0.27515 -0.06197 0.26914 C -0.07291 0.25943 -0.08611 0.25133 -0.09843 0.24602 C -0.10434 0.23399 -0.11788 0.2259 -0.12708 0.2185 C -0.13611 0.21064 -0.13437 0.20625 -0.14444 0.19954 C -0.14687 0.1963 -0.15034 0.19445 -0.15243 0.19099 C -0.15347 0.18937 -0.15312 0.18659 -0.15399 0.18474 C -0.15642 0.17943 -0.16145 0.17156 -0.1651 0.16786 C -0.17118 0.16162 -0.17934 0.157 -0.1842 0.14867 C -0.18697 0.14382 -0.18871 0.13804 -0.19201 0.13388 C -0.19583 0.12879 -0.20017 0.1244 -0.20312 0.11908 C -0.2085 0.10844 -0.21267 0.09688 -0.22066 0.08948 C -0.22395 0.0807 -0.22569 0.07792 -0.23177 0.0726 C -0.23385 0.05804 -0.23836 0.04463 -0.24131 0.03029 C -0.24392 0.01688 -0.24479 0.0037 -0.25086 -0.00763 C -0.25468 -0.0289 -0.24913 -0.00277 -0.25711 -0.02451 C -0.25816 -0.02705 -0.25798 -0.03029 -0.25868 -0.03306 C -0.2618 -0.04393 -0.26614 -0.05341 -0.26822 -0.06474 C -0.27066 -0.09017 -0.27621 -0.12069 -0.2651 -0.14289 C -0.26215 -0.15491 -0.25399 -0.15537 -0.246 -0.16 C -0.23663 -0.16555 -0.22743 -0.17109 -0.21753 -0.17479 C -0.21336 -0.17641 -0.20902 -0.17757 -0.20486 -0.17896 C -0.20277 -0.17965 -0.19843 -0.18104 -0.19843 -0.18081 C -0.18125 -0.1963 -0.15069 -0.1963 -0.13333 -0.19792 C -0.08836 -0.21757 -0.04131 -0.21109 0.00625 -0.21271 C 0.00834 -0.21318 0.02014 -0.21479 0.02379 -0.21688 C 0.02553 -0.2178 0.02657 -0.22034 0.02848 -0.22127 C 0.03994 -0.22635 0.05348 -0.22936 0.06511 -0.23398 C 0.08039 -0.24023 0.09549 -0.24878 0.11112 -0.25294 C 0.12796 -0.26774 0.14879 -0.27398 0.16823 -0.28046 C 0.17553 -0.28277 0.18351 -0.28462 0.19046 -0.28878 C 0.19254 -0.29017 0.19445 -0.29294 0.19688 -0.29318 C 0.23681 -0.29664 0.27726 -0.29641 0.31737 -0.29942 C 0.39375 -0.3193 0.38716 -0.30844 0.52066 -0.31005 C 0.53525 -0.31653 0.55018 -0.32208 0.56511 -0.32693 C 0.57136 -0.32624 0.57778 -0.3267 0.58403 -0.32485 C 0.58924 -0.32323 0.5974 -0.30358 0.60157 -0.29526 C 0.60938 -0.2319 0.60087 -0.10959 0.6 -0.0393 C 0.59948 0.00786 0.59931 0.05503 0.59844 0.1022 C 0.59809 0.12185 0.59462 0.13989 0.58889 0.15723 C 0.58438 0.17087 0.58438 0.18613 0.57934 0.19954 C 0.57101 0.22174 0.5625 0.24463 0.554 0.26706 C 0.55139 0.28093 0.54566 0.29365 0.54132 0.30729 C 0.53698 0.32023 0.54254 0.3059 0.53803 0.32417 C 0.53629 0.33133 0.53351 0.33827 0.53178 0.34544 C 0.53039 0.35076 0.52744 0.35538 0.52535 0.36023 C 0.52014 0.37249 0.52396 0.36509 0.5191 0.37919 C 0.51476 0.39191 0.50782 0.41619 0.49688 0.42151 C 0.49167 0.43145 0.4849 0.43538 0.47778 0.44255 C 0.47587 0.4444 0.475 0.44763 0.47292 0.44902 C 0.46997 0.4511 0.46632 0.45087 0.46355 0.45318 C 0.45348 0.46174 0.44011 0.46544 0.42848 0.46798 C 0.41858 0.47237 0.40886 0.47469 0.39844 0.4763 C 0.3816 0.48393 0.36094 0.4807 0.34289 0.48278 C 0.29132 0.49966 0.21875 0.49041 0.17466 0.4911 C 0.14358 0.49226 0.12431 0.49526 0.09514 0.49758 C 0.06719 0.49619 0.03907 0.49549 0.01112 0.49341 C 0.00105 0.49226 -0.01267 0.48509 -0.02222 0.4807 C -0.04427 0.47076 -0.06579 0.46104 -0.08732 0.44902 C -0.09444 0.43908 -0.10329 0.43746 -0.11267 0.43191 C -0.11788 0.42867 -0.12152 0.42243 -0.12534 0.41711 C -0.13055 0.40995 -0.13402 0.40995 -0.14131 0.40671 C -0.15034 0.39399 -0.13767 0.41041 -0.14947 0.40023 C -0.16614 0.38544 -0.15225 0.39284 -0.16354 0.38752 C -0.17135 0.37711 -0.17986 0.36833 -0.18732 0.35792 C -0.19236 0.33133 -0.20069 0.30636 -0.20486 0.27977 C -0.20434 0.22775 -0.20607 0.17526 -0.20312 0.12347 C -0.20277 0.11862 -0.19722 0.117 -0.19531 0.11284 C -0.18854 0.09804 -0.18732 0.07862 -0.17777 0.06636 C -0.17083 0.0474 -0.17482 0.05388 -0.16822 0.04509 C -0.16562 0.03122 -0.15868 0.02174 -0.15399 0.00925 C -0.15034 -0.01109 -0.15138 -0.0363 -0.146 -0.0541 C -0.14444 -0.05942 -0.13941 -0.06497 -0.13645 -0.0689 C -0.13506 -0.08277 -0.13263 -0.09109 -0.12534 -0.10081 C -0.12204 -0.11398 -0.12691 -0.10081 -0.11597 -0.10913 C -0.11423 -0.11052 -0.11423 -0.11422 -0.11267 -0.1156 C -0.11093 -0.11722 -0.1085 -0.11676 -0.10642 -0.11768 C -0.10329 -0.11884 -0.09687 -0.12185 -0.09687 -0.12185 C -0.10364 -0.12786 -0.10694 -0.12624 -0.11423 -0.12601 C -0.14322 -0.12462 -0.17135 -0.12462 -0.2 -0.12393 C -0.20902 -0.12092 -0.20694 -0.1193 -0.21267 -0.11121 C -0.22066 -0.07052 -0.21944 -0.083 -0.21423 -0.00971 C -0.21388 -0.00393 -0.20347 -0.00046 -0.20156 0.0007 C -0.18333 0.01203 -0.19531 0.0081 -0.17777 0.01133 C -0.15937 0.01041 -0.13524 0.01365 -0.11597 0.00509 C -0.11302 0.00093 -0.11145 -0.00023 -0.10954 -0.00555 C -0.10885 -0.00763 -0.10902 -0.01017 -0.10798 -0.01202 C -0.1026 -0.02081 -0.10312 -0.01248 -0.10312 -0.01826 E">
                                      <p:cBhvr>
                                        <p:cTn id="984" dur="5000" fill="hold"/>
                                        <p:tgtEl>
                                          <p:spTgt spid="1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Text Box 2"/>
          <p:cNvSpPr/>
          <p:nvPr/>
        </p:nvSpPr>
        <p:spPr>
          <a:xfrm>
            <a:off x="1403280" y="23353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两组对边分别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3"/>
          <p:cNvSpPr/>
          <p:nvPr/>
        </p:nvSpPr>
        <p:spPr>
          <a:xfrm>
            <a:off x="4716360" y="1916280"/>
            <a:ext cx="289080" cy="1512720"/>
          </a:xfrm>
          <a:custGeom>
            <a:avLst/>
            <a:gdLst>
              <a:gd name="textAreaLeft" fmla="*/ 0 w 289080"/>
              <a:gd name="textAreaRight" fmla="*/ 10440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4"/>
          <p:cNvSpPr/>
          <p:nvPr/>
        </p:nvSpPr>
        <p:spPr>
          <a:xfrm>
            <a:off x="1258920" y="191628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Picture 5" descr="27_4200_1976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52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6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1076" name="Group 7"/>
          <p:cNvGrpSpPr/>
          <p:nvPr/>
        </p:nvGrpSpPr>
        <p:grpSpPr>
          <a:xfrm>
            <a:off x="0" y="189000"/>
            <a:ext cx="8805960" cy="5574960"/>
            <a:chOff x="0" y="189000"/>
            <a:chExt cx="8805960" cy="5574960"/>
          </a:xfrm>
        </p:grpSpPr>
        <p:sp>
          <p:nvSpPr>
            <p:cNvPr id="1077" name="Text Box 8"/>
            <p:cNvSpPr/>
            <p:nvPr/>
          </p:nvSpPr>
          <p:spPr>
            <a:xfrm>
              <a:off x="1547640" y="407808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宋体"/>
                </a:rPr>
                <a:t>两组对角分别相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9"/>
            <p:cNvSpPr/>
            <p:nvPr/>
          </p:nvSpPr>
          <p:spPr>
            <a:xfrm>
              <a:off x="1547640" y="52434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Times New Roman"/>
                  <a:ea typeface="宋体"/>
                </a:rPr>
                <a:t>对角线互相平分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0"/>
            <p:cNvSpPr/>
            <p:nvPr/>
          </p:nvSpPr>
          <p:spPr>
            <a:xfrm>
              <a:off x="1403280" y="170172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两组对边分别平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Text Box 11"/>
            <p:cNvSpPr/>
            <p:nvPr/>
          </p:nvSpPr>
          <p:spPr>
            <a:xfrm>
              <a:off x="1403280" y="292572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一组对边平行且相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 Box 12"/>
            <p:cNvSpPr/>
            <p:nvPr/>
          </p:nvSpPr>
          <p:spPr>
            <a:xfrm>
              <a:off x="5278320" y="3487680"/>
              <a:ext cx="35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6699"/>
                  </a:solidFill>
                  <a:latin typeface="Times New Roman"/>
                  <a:ea typeface="宋体"/>
                </a:rPr>
                <a:t>四边形是平行四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3"/>
            <p:cNvSpPr/>
            <p:nvPr/>
          </p:nvSpPr>
          <p:spPr>
            <a:xfrm>
              <a:off x="5076720" y="1844640"/>
              <a:ext cx="216000" cy="38178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99360 h 3817800"/>
                <a:gd name="textAreaBottom" fmla="*/ 3718440 h 381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14"/>
            <p:cNvSpPr/>
            <p:nvPr/>
          </p:nvSpPr>
          <p:spPr>
            <a:xfrm>
              <a:off x="615240" y="2421000"/>
              <a:ext cx="606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边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15"/>
            <p:cNvSpPr/>
            <p:nvPr/>
          </p:nvSpPr>
          <p:spPr>
            <a:xfrm>
              <a:off x="615240" y="4149720"/>
              <a:ext cx="606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角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6"/>
            <p:cNvSpPr/>
            <p:nvPr/>
          </p:nvSpPr>
          <p:spPr>
            <a:xfrm>
              <a:off x="0" y="5214960"/>
              <a:ext cx="17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对角线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17"/>
            <p:cNvSpPr/>
            <p:nvPr/>
          </p:nvSpPr>
          <p:spPr>
            <a:xfrm>
              <a:off x="468360" y="189000"/>
              <a:ext cx="75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平行四边形的判定方法分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Text Box 2"/>
          <p:cNvSpPr/>
          <p:nvPr/>
        </p:nvSpPr>
        <p:spPr>
          <a:xfrm>
            <a:off x="179280" y="1461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复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428760" y="9288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三角形中位线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5"/>
          <p:cNvSpPr/>
          <p:nvPr/>
        </p:nvSpPr>
        <p:spPr>
          <a:xfrm>
            <a:off x="428760" y="2214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三角形中位线定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5"/>
          <p:cNvSpPr/>
          <p:nvPr/>
        </p:nvSpPr>
        <p:spPr>
          <a:xfrm>
            <a:off x="142920" y="164304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连接三角形两边中点的线段叫做三角形的中位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"/>
          <p:cNvSpPr/>
          <p:nvPr/>
        </p:nvSpPr>
        <p:spPr>
          <a:xfrm>
            <a:off x="142920" y="285768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形的中位线平行于三角形的第三边，且等于第三边的一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 Box 2"/>
          <p:cNvSpPr/>
          <p:nvPr/>
        </p:nvSpPr>
        <p:spPr>
          <a:xfrm>
            <a:off x="669960" y="781200"/>
            <a:ext cx="74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什么叫三角形的中线？有几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644400" y="2708280"/>
            <a:ext cx="62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三角形的中线有哪些性质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5217840" y="3214800"/>
            <a:ext cx="2160720" cy="1582560"/>
            <a:chOff x="5217840" y="3214800"/>
            <a:chExt cx="2160720" cy="1582560"/>
          </a:xfrm>
        </p:grpSpPr>
        <p:sp>
          <p:nvSpPr>
            <p:cNvPr id="1095" name="Line 4"/>
            <p:cNvSpPr/>
            <p:nvPr/>
          </p:nvSpPr>
          <p:spPr>
            <a:xfrm flipH="1">
              <a:off x="5217840" y="3214800"/>
              <a:ext cx="2160360" cy="1582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 txBox="1"/>
            <p:nvPr/>
          </p:nvSpPr>
          <p:spPr>
            <a:xfrm>
              <a:off x="5218200" y="3214800"/>
              <a:ext cx="216036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5218200" y="4797360"/>
            <a:ext cx="2808360" cy="360"/>
            <a:chOff x="5218200" y="4797360"/>
            <a:chExt cx="2808360" cy="360"/>
          </a:xfrm>
        </p:grpSpPr>
        <p:sp>
          <p:nvSpPr>
            <p:cNvPr id="1098" name="Line 5"/>
            <p:cNvSpPr/>
            <p:nvPr/>
          </p:nvSpPr>
          <p:spPr>
            <a:xfrm>
              <a:off x="5218200" y="479736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5218200" y="4797360"/>
              <a:ext cx="28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7378560" y="3214800"/>
            <a:ext cx="648000" cy="1582560"/>
            <a:chOff x="7378560" y="3214800"/>
            <a:chExt cx="648000" cy="1582560"/>
          </a:xfrm>
        </p:grpSpPr>
        <p:sp>
          <p:nvSpPr>
            <p:cNvPr id="1101" name="Line 6"/>
            <p:cNvSpPr/>
            <p:nvPr/>
          </p:nvSpPr>
          <p:spPr>
            <a:xfrm flipH="1" flipV="1">
              <a:off x="7378560" y="3214800"/>
              <a:ext cx="648000" cy="1582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 rot="10800000">
              <a:off x="7378560" y="3214800"/>
              <a:ext cx="648000" cy="158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7162920" y="2781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8"/>
          <p:cNvSpPr/>
          <p:nvPr/>
        </p:nvSpPr>
        <p:spPr>
          <a:xfrm>
            <a:off x="4857840" y="4510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9"/>
          <p:cNvSpPr/>
          <p:nvPr/>
        </p:nvSpPr>
        <p:spPr>
          <a:xfrm>
            <a:off x="7883640" y="4510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10"/>
          <p:cNvGrpSpPr/>
          <p:nvPr/>
        </p:nvGrpSpPr>
        <p:grpSpPr>
          <a:xfrm>
            <a:off x="6437160" y="3213000"/>
            <a:ext cx="943200" cy="2094480"/>
            <a:chOff x="6437160" y="3213000"/>
            <a:chExt cx="943200" cy="2094480"/>
          </a:xfrm>
        </p:grpSpPr>
        <p:grpSp>
          <p:nvGrpSpPr>
            <p:cNvPr id="1107" name=""/>
            <p:cNvGrpSpPr/>
            <p:nvPr/>
          </p:nvGrpSpPr>
          <p:grpSpPr>
            <a:xfrm>
              <a:off x="6732360" y="3213000"/>
              <a:ext cx="648000" cy="1584360"/>
              <a:chOff x="6732360" y="3213000"/>
              <a:chExt cx="648000" cy="1584360"/>
            </a:xfrm>
          </p:grpSpPr>
          <p:sp>
            <p:nvSpPr>
              <p:cNvPr id="1108" name="Line 11"/>
              <p:cNvSpPr/>
              <p:nvPr/>
            </p:nvSpPr>
            <p:spPr>
              <a:xfrm flipH="1">
                <a:off x="6732360" y="3213000"/>
                <a:ext cx="647640" cy="158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 txBox="1"/>
              <p:nvPr/>
            </p:nvSpPr>
            <p:spPr>
              <a:xfrm>
                <a:off x="6732720" y="3213000"/>
                <a:ext cx="64764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0" name="Text Box 12"/>
            <p:cNvSpPr/>
            <p:nvPr/>
          </p:nvSpPr>
          <p:spPr>
            <a:xfrm>
              <a:off x="6437160" y="47260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13"/>
          <p:cNvGrpSpPr/>
          <p:nvPr/>
        </p:nvGrpSpPr>
        <p:grpSpPr>
          <a:xfrm>
            <a:off x="5217840" y="3502080"/>
            <a:ext cx="3097080" cy="1295280"/>
            <a:chOff x="5217840" y="3502080"/>
            <a:chExt cx="3097080" cy="1295280"/>
          </a:xfrm>
        </p:grpSpPr>
        <p:grpSp>
          <p:nvGrpSpPr>
            <p:cNvPr id="1112" name=""/>
            <p:cNvGrpSpPr/>
            <p:nvPr/>
          </p:nvGrpSpPr>
          <p:grpSpPr>
            <a:xfrm>
              <a:off x="6337080" y="3952800"/>
              <a:ext cx="1655640" cy="792360"/>
              <a:chOff x="6337080" y="3952800"/>
              <a:chExt cx="1655640" cy="792360"/>
            </a:xfrm>
          </p:grpSpPr>
          <p:sp>
            <p:nvSpPr>
              <p:cNvPr id="1113" name="Line 14"/>
              <p:cNvSpPr/>
              <p:nvPr/>
            </p:nvSpPr>
            <p:spPr>
              <a:xfrm>
                <a:off x="6337080" y="3952800"/>
                <a:ext cx="1655640" cy="7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 txBox="1"/>
              <p:nvPr/>
            </p:nvSpPr>
            <p:spPr>
              <a:xfrm>
                <a:off x="6337080" y="3952800"/>
                <a:ext cx="165564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5217840" y="4006800"/>
              <a:ext cx="2448000" cy="790560"/>
              <a:chOff x="5217840" y="4006800"/>
              <a:chExt cx="2448000" cy="790560"/>
            </a:xfrm>
          </p:grpSpPr>
          <p:sp>
            <p:nvSpPr>
              <p:cNvPr id="1116" name="Line 15"/>
              <p:cNvSpPr/>
              <p:nvPr/>
            </p:nvSpPr>
            <p:spPr>
              <a:xfrm flipV="1">
                <a:off x="5218200" y="4006800"/>
                <a:ext cx="2447640" cy="79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 txBox="1"/>
              <p:nvPr/>
            </p:nvSpPr>
            <p:spPr>
              <a:xfrm rot="10800000">
                <a:off x="5217840" y="4006800"/>
                <a:ext cx="2447640" cy="7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Text Box 16"/>
            <p:cNvSpPr/>
            <p:nvPr/>
          </p:nvSpPr>
          <p:spPr>
            <a:xfrm>
              <a:off x="7738920" y="364644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7"/>
            <p:cNvSpPr/>
            <p:nvPr/>
          </p:nvSpPr>
          <p:spPr>
            <a:xfrm>
              <a:off x="5938560" y="350208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8"/>
          <p:cNvSpPr/>
          <p:nvPr/>
        </p:nvSpPr>
        <p:spPr>
          <a:xfrm>
            <a:off x="900000" y="1484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连结三角形的顶点和对边中点的线段叫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三角形的中线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9"/>
          <p:cNvSpPr/>
          <p:nvPr/>
        </p:nvSpPr>
        <p:spPr>
          <a:xfrm>
            <a:off x="684360" y="530064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的每一条中线把三角形的面积平分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三角形的中线相交于同一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3"/>
          <p:cNvSpPr/>
          <p:nvPr/>
        </p:nvSpPr>
        <p:spPr>
          <a:xfrm>
            <a:off x="252360" y="115920"/>
            <a:ext cx="8352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如图，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= ∠DE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周长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+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Group 4"/>
          <p:cNvGrpSpPr/>
          <p:nvPr/>
        </p:nvGrpSpPr>
        <p:grpSpPr>
          <a:xfrm>
            <a:off x="-36360" y="2852640"/>
            <a:ext cx="3746520" cy="3245400"/>
            <a:chOff x="-36360" y="2852640"/>
            <a:chExt cx="3746520" cy="3245400"/>
          </a:xfrm>
        </p:grpSpPr>
        <p:grpSp>
          <p:nvGrpSpPr>
            <p:cNvPr id="1124" name="Group 5"/>
            <p:cNvGrpSpPr/>
            <p:nvPr/>
          </p:nvGrpSpPr>
          <p:grpSpPr>
            <a:xfrm>
              <a:off x="325440" y="3284640"/>
              <a:ext cx="3024360" cy="2332080"/>
              <a:chOff x="325440" y="3284640"/>
              <a:chExt cx="3024360" cy="2332080"/>
            </a:xfrm>
          </p:grpSpPr>
          <p:sp>
            <p:nvSpPr>
              <p:cNvPr id="1125" name="AutoShape 6"/>
              <p:cNvSpPr/>
              <p:nvPr/>
            </p:nvSpPr>
            <p:spPr>
              <a:xfrm>
                <a:off x="325440" y="3284640"/>
                <a:ext cx="3024360" cy="2305080"/>
              </a:xfrm>
              <a:prstGeom prst="triangle">
                <a:avLst>
                  <a:gd name="adj" fmla="val 8173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7"/>
              <p:cNvSpPr/>
              <p:nvPr/>
            </p:nvSpPr>
            <p:spPr>
              <a:xfrm>
                <a:off x="1852920" y="5545080"/>
                <a:ext cx="71280" cy="7164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8"/>
              <p:cNvSpPr/>
              <p:nvPr/>
            </p:nvSpPr>
            <p:spPr>
              <a:xfrm>
                <a:off x="3019680" y="4351320"/>
                <a:ext cx="71280" cy="71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AutoShape 9"/>
              <p:cNvSpPr/>
              <p:nvPr/>
            </p:nvSpPr>
            <p:spPr>
              <a:xfrm>
                <a:off x="1578240" y="4349880"/>
                <a:ext cx="71280" cy="71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Text Box 10"/>
            <p:cNvSpPr/>
            <p:nvPr/>
          </p:nvSpPr>
          <p:spPr>
            <a:xfrm>
              <a:off x="-36360" y="544212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"/>
            <p:cNvSpPr/>
            <p:nvPr/>
          </p:nvSpPr>
          <p:spPr>
            <a:xfrm>
              <a:off x="2341800" y="2852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2"/>
            <p:cNvSpPr/>
            <p:nvPr/>
          </p:nvSpPr>
          <p:spPr>
            <a:xfrm>
              <a:off x="3060720" y="4076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3"/>
            <p:cNvSpPr/>
            <p:nvPr/>
          </p:nvSpPr>
          <p:spPr>
            <a:xfrm>
              <a:off x="1692360" y="5516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4"/>
            <p:cNvSpPr/>
            <p:nvPr/>
          </p:nvSpPr>
          <p:spPr>
            <a:xfrm>
              <a:off x="1116000" y="400212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5"/>
            <p:cNvSpPr/>
            <p:nvPr/>
          </p:nvSpPr>
          <p:spPr>
            <a:xfrm>
              <a:off x="3205080" y="544212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1620720" y="4363920"/>
            <a:ext cx="1441440" cy="73080"/>
            <a:chOff x="1620720" y="4363920"/>
            <a:chExt cx="1441440" cy="73080"/>
          </a:xfrm>
        </p:grpSpPr>
        <p:sp>
          <p:nvSpPr>
            <p:cNvPr id="1136" name="Line 16"/>
            <p:cNvSpPr/>
            <p:nvPr/>
          </p:nvSpPr>
          <p:spPr>
            <a:xfrm>
              <a:off x="1620720" y="4363920"/>
              <a:ext cx="1441440" cy="7308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1620720" y="4363920"/>
              <a:ext cx="144144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1619280" y="4365720"/>
            <a:ext cx="288720" cy="1224000"/>
            <a:chOff x="1619280" y="4365720"/>
            <a:chExt cx="288720" cy="1224000"/>
          </a:xfrm>
        </p:grpSpPr>
        <p:sp>
          <p:nvSpPr>
            <p:cNvPr id="1139" name="Line 17"/>
            <p:cNvSpPr/>
            <p:nvPr/>
          </p:nvSpPr>
          <p:spPr>
            <a:xfrm>
              <a:off x="1619280" y="4365720"/>
              <a:ext cx="288720" cy="122400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>
              <a:off x="1619280" y="4365720"/>
              <a:ext cx="28872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1908000" y="4437000"/>
            <a:ext cx="1081440" cy="1152720"/>
            <a:chOff x="1908000" y="4437000"/>
            <a:chExt cx="1081440" cy="1152720"/>
          </a:xfrm>
        </p:grpSpPr>
        <p:sp>
          <p:nvSpPr>
            <p:cNvPr id="1142" name="Line 18"/>
            <p:cNvSpPr/>
            <p:nvPr/>
          </p:nvSpPr>
          <p:spPr>
            <a:xfrm flipH="1">
              <a:off x="1908000" y="4437000"/>
              <a:ext cx="1081440" cy="115272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1908000" y="4437000"/>
              <a:ext cx="108144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WordArt 21"/>
          <p:cNvSpPr txBox="1"/>
          <p:nvPr/>
        </p:nvSpPr>
        <p:spPr>
          <a:xfrm>
            <a:off x="4067280" y="2852640"/>
            <a:ext cx="18381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思考：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45" name="Text Box 22"/>
          <p:cNvSpPr/>
          <p:nvPr/>
        </p:nvSpPr>
        <p:spPr>
          <a:xfrm>
            <a:off x="3132000" y="3789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图中有几个平行四边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3"/>
          <p:cNvSpPr/>
          <p:nvPr/>
        </p:nvSpPr>
        <p:spPr>
          <a:xfrm>
            <a:off x="3132000" y="458136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这四个三角形有什么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24"/>
          <p:cNvSpPr/>
          <p:nvPr/>
        </p:nvSpPr>
        <p:spPr>
          <a:xfrm>
            <a:off x="8317080" y="189000"/>
            <a:ext cx="50292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2"/>
          <p:cNvSpPr/>
          <p:nvPr/>
        </p:nvSpPr>
        <p:spPr>
          <a:xfrm>
            <a:off x="539640" y="4651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：已知，如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线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中位线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互相平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3"/>
          <p:cNvGrpSpPr/>
          <p:nvPr/>
        </p:nvGrpSpPr>
        <p:grpSpPr>
          <a:xfrm>
            <a:off x="1404720" y="2492280"/>
            <a:ext cx="2913480" cy="2951280"/>
            <a:chOff x="1404720" y="2492280"/>
            <a:chExt cx="2913480" cy="2951280"/>
          </a:xfrm>
        </p:grpSpPr>
        <p:grpSp>
          <p:nvGrpSpPr>
            <p:cNvPr id="1150" name=""/>
            <p:cNvGrpSpPr/>
            <p:nvPr/>
          </p:nvGrpSpPr>
          <p:grpSpPr>
            <a:xfrm>
              <a:off x="1886040" y="2857320"/>
              <a:ext cx="966960" cy="2008080"/>
              <a:chOff x="1886040" y="2857320"/>
              <a:chExt cx="966960" cy="2008080"/>
            </a:xfrm>
          </p:grpSpPr>
          <p:sp>
            <p:nvSpPr>
              <p:cNvPr id="1151" name="Line 4"/>
              <p:cNvSpPr/>
              <p:nvPr/>
            </p:nvSpPr>
            <p:spPr>
              <a:xfrm flipH="1">
                <a:off x="1886040" y="2857320"/>
                <a:ext cx="966600" cy="200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1886400" y="2857320"/>
                <a:ext cx="966600" cy="200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2853000" y="2857320"/>
              <a:ext cx="1256040" cy="2008080"/>
              <a:chOff x="2853000" y="2857320"/>
              <a:chExt cx="1256040" cy="2008080"/>
            </a:xfrm>
          </p:grpSpPr>
          <p:sp>
            <p:nvSpPr>
              <p:cNvPr id="1154" name="Line 5"/>
              <p:cNvSpPr/>
              <p:nvPr/>
            </p:nvSpPr>
            <p:spPr>
              <a:xfrm>
                <a:off x="2853000" y="2857320"/>
                <a:ext cx="1256040" cy="200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2853000" y="2857320"/>
                <a:ext cx="1256040" cy="200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2853000" y="2841840"/>
              <a:ext cx="96120" cy="2023560"/>
              <a:chOff x="2853000" y="2841840"/>
              <a:chExt cx="96120" cy="2023560"/>
            </a:xfrm>
          </p:grpSpPr>
          <p:sp>
            <p:nvSpPr>
              <p:cNvPr id="1157" name="Line 6"/>
              <p:cNvSpPr/>
              <p:nvPr/>
            </p:nvSpPr>
            <p:spPr>
              <a:xfrm>
                <a:off x="2853000" y="2841840"/>
                <a:ext cx="96120" cy="202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2853000" y="2841840"/>
                <a:ext cx="96120" cy="2023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2288520" y="3952440"/>
              <a:ext cx="1240560" cy="360"/>
              <a:chOff x="2288520" y="3952440"/>
              <a:chExt cx="1240560" cy="360"/>
            </a:xfrm>
          </p:grpSpPr>
          <p:sp>
            <p:nvSpPr>
              <p:cNvPr id="1160" name="Line 7"/>
              <p:cNvSpPr/>
              <p:nvPr/>
            </p:nvSpPr>
            <p:spPr>
              <a:xfrm>
                <a:off x="2288880" y="3952800"/>
                <a:ext cx="124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 txBox="1"/>
              <p:nvPr/>
            </p:nvSpPr>
            <p:spPr>
              <a:xfrm rot="10800000">
                <a:off x="2288520" y="3952440"/>
                <a:ext cx="124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1886400" y="4865400"/>
              <a:ext cx="2223000" cy="360"/>
              <a:chOff x="1886400" y="4865400"/>
              <a:chExt cx="2223000" cy="360"/>
            </a:xfrm>
          </p:grpSpPr>
          <p:sp>
            <p:nvSpPr>
              <p:cNvPr id="1163" name="Line 8"/>
              <p:cNvSpPr/>
              <p:nvPr/>
            </p:nvSpPr>
            <p:spPr>
              <a:xfrm>
                <a:off x="1886400" y="4865400"/>
                <a:ext cx="222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>
                <a:off x="1886400" y="4865400"/>
                <a:ext cx="222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Text Box 9"/>
            <p:cNvSpPr/>
            <p:nvPr/>
          </p:nvSpPr>
          <p:spPr>
            <a:xfrm>
              <a:off x="2274840" y="249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10"/>
            <p:cNvSpPr/>
            <p:nvPr/>
          </p:nvSpPr>
          <p:spPr>
            <a:xfrm>
              <a:off x="1404720" y="4892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3917880" y="4956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2661480" y="4983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13"/>
            <p:cNvSpPr/>
            <p:nvPr/>
          </p:nvSpPr>
          <p:spPr>
            <a:xfrm>
              <a:off x="1598760" y="370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3724920" y="3705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268360" y="3933720"/>
            <a:ext cx="648000" cy="935280"/>
            <a:chOff x="2268360" y="3933720"/>
            <a:chExt cx="648000" cy="935280"/>
          </a:xfrm>
        </p:grpSpPr>
        <p:sp>
          <p:nvSpPr>
            <p:cNvPr id="1172" name="Line 15"/>
            <p:cNvSpPr/>
            <p:nvPr/>
          </p:nvSpPr>
          <p:spPr>
            <a:xfrm>
              <a:off x="2268360" y="3933720"/>
              <a:ext cx="648000" cy="93528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 txBox="1"/>
            <p:nvPr/>
          </p:nvSpPr>
          <p:spPr>
            <a:xfrm>
              <a:off x="2268360" y="3933720"/>
              <a:ext cx="648000" cy="9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916000" y="3933720"/>
            <a:ext cx="648000" cy="1008000"/>
            <a:chOff x="2916000" y="3933720"/>
            <a:chExt cx="648000" cy="1008000"/>
          </a:xfrm>
        </p:grpSpPr>
        <p:sp>
          <p:nvSpPr>
            <p:cNvPr id="1175" name="Line 16"/>
            <p:cNvSpPr/>
            <p:nvPr/>
          </p:nvSpPr>
          <p:spPr>
            <a:xfrm flipV="1">
              <a:off x="2916360" y="3933720"/>
              <a:ext cx="647640" cy="100800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 txBox="1"/>
            <p:nvPr/>
          </p:nvSpPr>
          <p:spPr>
            <a:xfrm rot="10800000">
              <a:off x="2916000" y="3933720"/>
              <a:ext cx="64764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AutoShape 17"/>
          <p:cNvSpPr/>
          <p:nvPr/>
        </p:nvSpPr>
        <p:spPr>
          <a:xfrm>
            <a:off x="8317080" y="189000"/>
            <a:ext cx="50292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2"/>
          <p:cNvSpPr/>
          <p:nvPr/>
        </p:nvSpPr>
        <p:spPr>
          <a:xfrm>
            <a:off x="179280" y="1890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求证顺次连结四边形各边中点所得的四边形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"/>
          <p:cNvSpPr/>
          <p:nvPr/>
        </p:nvSpPr>
        <p:spPr>
          <a:xfrm>
            <a:off x="252360" y="140796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G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4" descr="画板01"/>
          <p:cNvPicPr/>
          <p:nvPr/>
        </p:nvPicPr>
        <p:blipFill>
          <a:blip r:embed="rId1"/>
          <a:stretch/>
        </p:blipFill>
        <p:spPr>
          <a:xfrm>
            <a:off x="4429080" y="2060640"/>
            <a:ext cx="4319640" cy="3500280"/>
          </a:xfrm>
          <a:prstGeom prst="rect">
            <a:avLst/>
          </a:prstGeom>
          <a:ln w="0">
            <a:noFill/>
          </a:ln>
        </p:spPr>
      </p:pic>
      <p:grpSp>
        <p:nvGrpSpPr>
          <p:cNvPr id="1181" name=""/>
          <p:cNvGrpSpPr/>
          <p:nvPr/>
        </p:nvGrpSpPr>
        <p:grpSpPr>
          <a:xfrm>
            <a:off x="4571640" y="2997360"/>
            <a:ext cx="4104000" cy="1295280"/>
            <a:chOff x="4571640" y="2997360"/>
            <a:chExt cx="4104000" cy="1295280"/>
          </a:xfrm>
        </p:grpSpPr>
        <p:sp>
          <p:nvSpPr>
            <p:cNvPr id="1182" name="Line 5"/>
            <p:cNvSpPr/>
            <p:nvPr/>
          </p:nvSpPr>
          <p:spPr>
            <a:xfrm flipV="1">
              <a:off x="4572000" y="2997360"/>
              <a:ext cx="4103640" cy="12952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 rot="10800000">
              <a:off x="4571640" y="2997360"/>
              <a:ext cx="410364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Rectangle 7"/>
          <p:cNvSpPr/>
          <p:nvPr/>
        </p:nvSpPr>
        <p:spPr>
          <a:xfrm>
            <a:off x="468360" y="5589720"/>
            <a:ext cx="8459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宋体"/>
              </a:rPr>
              <a:t>任意四边形四边中点连线所得的四边形一定是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AutoShape 8"/>
          <p:cNvSpPr/>
          <p:nvPr/>
        </p:nvSpPr>
        <p:spPr>
          <a:xfrm>
            <a:off x="8388360" y="765000"/>
            <a:ext cx="503280" cy="50508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0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判定定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8720" y="1413000"/>
            <a:ext cx="8854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两组对边分别平行的四边形是平行四边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334800" y="2362320"/>
            <a:ext cx="3624120" cy="2135520"/>
            <a:chOff x="334800" y="2362320"/>
            <a:chExt cx="3624120" cy="2135520"/>
          </a:xfrm>
        </p:grpSpPr>
        <p:sp>
          <p:nvSpPr>
            <p:cNvPr id="235" name="AutoShape 5"/>
            <p:cNvSpPr/>
            <p:nvPr/>
          </p:nvSpPr>
          <p:spPr>
            <a:xfrm>
              <a:off x="769680" y="2819160"/>
              <a:ext cx="2743200" cy="1294920"/>
            </a:xfrm>
            <a:prstGeom prst="parallelogram">
              <a:avLst>
                <a:gd name="adj" fmla="val 52961"/>
              </a:avLst>
            </a:prstGeom>
            <a:solidFill>
              <a:srgbClr val="ff33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6"/>
            <p:cNvSpPr/>
            <p:nvPr/>
          </p:nvSpPr>
          <p:spPr>
            <a:xfrm>
              <a:off x="947880" y="2362320"/>
              <a:ext cx="5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7"/>
            <p:cNvSpPr/>
            <p:nvPr/>
          </p:nvSpPr>
          <p:spPr>
            <a:xfrm>
              <a:off x="334800" y="3733560"/>
              <a:ext cx="55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2819160" y="3733560"/>
              <a:ext cx="46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336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0"/>
          <p:cNvSpPr/>
          <p:nvPr/>
        </p:nvSpPr>
        <p:spPr>
          <a:xfrm>
            <a:off x="2916360" y="3645000"/>
            <a:ext cx="68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∵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B∥C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D∥BC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已知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5499360" y="2492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数学语言表示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359160" y="4556160"/>
            <a:ext cx="567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四边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是平行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两组对 边分别平行的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是平行四边形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395280" y="219240"/>
            <a:ext cx="750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如图，任意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试说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与两条对角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什么关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3995280" y="2492280"/>
            <a:ext cx="1368720" cy="1297080"/>
            <a:chOff x="3995280" y="2492280"/>
            <a:chExt cx="1368720" cy="1297080"/>
          </a:xfrm>
        </p:grpSpPr>
        <p:sp>
          <p:nvSpPr>
            <p:cNvPr id="1188" name="Line 12"/>
            <p:cNvSpPr/>
            <p:nvPr/>
          </p:nvSpPr>
          <p:spPr>
            <a:xfrm flipH="1">
              <a:off x="3995280" y="2492280"/>
              <a:ext cx="1368360" cy="129708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 txBox="1"/>
            <p:nvPr/>
          </p:nvSpPr>
          <p:spPr>
            <a:xfrm>
              <a:off x="3995640" y="2492280"/>
              <a:ext cx="136836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3995640" y="3789360"/>
            <a:ext cx="2233800" cy="934920"/>
            <a:chOff x="3995640" y="3789360"/>
            <a:chExt cx="2233800" cy="934920"/>
          </a:xfrm>
        </p:grpSpPr>
        <p:sp>
          <p:nvSpPr>
            <p:cNvPr id="1191" name="Line 13"/>
            <p:cNvSpPr/>
            <p:nvPr/>
          </p:nvSpPr>
          <p:spPr>
            <a:xfrm>
              <a:off x="3995640" y="3789360"/>
              <a:ext cx="2233800" cy="934920"/>
            </a:xfrm>
            <a:prstGeom prst="line">
              <a:avLst/>
            </a:prstGeom>
            <a:ln w="38160">
              <a:solidFill>
                <a:srgbClr val="0000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 txBox="1"/>
            <p:nvPr/>
          </p:nvSpPr>
          <p:spPr>
            <a:xfrm>
              <a:off x="3995640" y="3789360"/>
              <a:ext cx="2233800" cy="9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Group 22"/>
          <p:cNvGrpSpPr/>
          <p:nvPr/>
        </p:nvGrpSpPr>
        <p:grpSpPr>
          <a:xfrm>
            <a:off x="3360960" y="1700280"/>
            <a:ext cx="5288040" cy="3749760"/>
            <a:chOff x="3360960" y="1700280"/>
            <a:chExt cx="5288040" cy="3749760"/>
          </a:xfrm>
        </p:grpSpPr>
        <p:grpSp>
          <p:nvGrpSpPr>
            <p:cNvPr id="1194" name=""/>
            <p:cNvGrpSpPr/>
            <p:nvPr/>
          </p:nvGrpSpPr>
          <p:grpSpPr>
            <a:xfrm>
              <a:off x="4213440" y="2059920"/>
              <a:ext cx="2590560" cy="720360"/>
              <a:chOff x="4213440" y="2059920"/>
              <a:chExt cx="2590560" cy="720360"/>
            </a:xfrm>
          </p:grpSpPr>
          <p:sp>
            <p:nvSpPr>
              <p:cNvPr id="1195" name="Line 5"/>
              <p:cNvSpPr/>
              <p:nvPr/>
            </p:nvSpPr>
            <p:spPr>
              <a:xfrm flipV="1">
                <a:off x="4213440" y="2059920"/>
                <a:ext cx="2590560" cy="72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 txBox="1"/>
              <p:nvPr/>
            </p:nvSpPr>
            <p:spPr>
              <a:xfrm rot="10800000">
                <a:off x="4213440" y="2059920"/>
                <a:ext cx="2590560" cy="72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3780000" y="2781000"/>
              <a:ext cx="433440" cy="2016000"/>
              <a:chOff x="3780000" y="2781000"/>
              <a:chExt cx="433440" cy="2016000"/>
            </a:xfrm>
          </p:grpSpPr>
          <p:sp>
            <p:nvSpPr>
              <p:cNvPr id="1198" name="Line 6"/>
              <p:cNvSpPr/>
              <p:nvPr/>
            </p:nvSpPr>
            <p:spPr>
              <a:xfrm flipH="1">
                <a:off x="3780000" y="2781000"/>
                <a:ext cx="433440" cy="20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 txBox="1"/>
              <p:nvPr/>
            </p:nvSpPr>
            <p:spPr>
              <a:xfrm>
                <a:off x="3780000" y="2781000"/>
                <a:ext cx="43344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3779640" y="4581000"/>
              <a:ext cx="4537440" cy="215640"/>
              <a:chOff x="3779640" y="4581000"/>
              <a:chExt cx="4537440" cy="215640"/>
            </a:xfrm>
          </p:grpSpPr>
          <p:sp>
            <p:nvSpPr>
              <p:cNvPr id="1201" name="Line 7"/>
              <p:cNvSpPr/>
              <p:nvPr/>
            </p:nvSpPr>
            <p:spPr>
              <a:xfrm flipV="1">
                <a:off x="3780000" y="4581000"/>
                <a:ext cx="453708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 txBox="1"/>
              <p:nvPr/>
            </p:nvSpPr>
            <p:spPr>
              <a:xfrm rot="10800000">
                <a:off x="3779640" y="4581000"/>
                <a:ext cx="453708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6803640" y="2060280"/>
              <a:ext cx="1513080" cy="2520720"/>
              <a:chOff x="6803640" y="2060280"/>
              <a:chExt cx="1513080" cy="2520720"/>
            </a:xfrm>
          </p:grpSpPr>
          <p:sp>
            <p:nvSpPr>
              <p:cNvPr id="1204" name="Line 8"/>
              <p:cNvSpPr/>
              <p:nvPr/>
            </p:nvSpPr>
            <p:spPr>
              <a:xfrm flipH="1" flipV="1">
                <a:off x="6803640" y="2060280"/>
                <a:ext cx="1513080" cy="25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 txBox="1"/>
              <p:nvPr/>
            </p:nvSpPr>
            <p:spPr>
              <a:xfrm rot="10800000">
                <a:off x="6803640" y="2060280"/>
                <a:ext cx="1513080" cy="25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3780000" y="2060280"/>
              <a:ext cx="3024000" cy="2736720"/>
              <a:chOff x="3780000" y="2060280"/>
              <a:chExt cx="3024000" cy="2736720"/>
            </a:xfrm>
          </p:grpSpPr>
          <p:sp>
            <p:nvSpPr>
              <p:cNvPr id="1207" name="Line 9"/>
              <p:cNvSpPr/>
              <p:nvPr/>
            </p:nvSpPr>
            <p:spPr>
              <a:xfrm flipH="1">
                <a:off x="3780000" y="2060280"/>
                <a:ext cx="3024000" cy="273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 txBox="1"/>
              <p:nvPr/>
            </p:nvSpPr>
            <p:spPr>
              <a:xfrm>
                <a:off x="3780000" y="2060280"/>
                <a:ext cx="3024000" cy="27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4213440" y="2781000"/>
              <a:ext cx="4032000" cy="1800000"/>
              <a:chOff x="4213440" y="2781000"/>
              <a:chExt cx="4032000" cy="1800000"/>
            </a:xfrm>
          </p:grpSpPr>
          <p:sp>
            <p:nvSpPr>
              <p:cNvPr id="1210" name="Line 10"/>
              <p:cNvSpPr/>
              <p:nvPr/>
            </p:nvSpPr>
            <p:spPr>
              <a:xfrm>
                <a:off x="4213440" y="2781000"/>
                <a:ext cx="403200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 txBox="1"/>
              <p:nvPr/>
            </p:nvSpPr>
            <p:spPr>
              <a:xfrm>
                <a:off x="4213440" y="2781000"/>
                <a:ext cx="4032000" cy="180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5364360" y="2492280"/>
              <a:ext cx="865080" cy="2231640"/>
              <a:chOff x="5364360" y="2492280"/>
              <a:chExt cx="865080" cy="2231640"/>
            </a:xfrm>
          </p:grpSpPr>
          <p:sp>
            <p:nvSpPr>
              <p:cNvPr id="1213" name="Line 11"/>
              <p:cNvSpPr/>
              <p:nvPr/>
            </p:nvSpPr>
            <p:spPr>
              <a:xfrm>
                <a:off x="5364360" y="2492280"/>
                <a:ext cx="865080" cy="22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 txBox="1"/>
              <p:nvPr/>
            </p:nvSpPr>
            <p:spPr>
              <a:xfrm>
                <a:off x="5364360" y="2492280"/>
                <a:ext cx="865080" cy="22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5" name="Text Box 14"/>
            <p:cNvSpPr/>
            <p:nvPr/>
          </p:nvSpPr>
          <p:spPr>
            <a:xfrm>
              <a:off x="3638520" y="2492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Text Box 15"/>
            <p:cNvSpPr/>
            <p:nvPr/>
          </p:nvSpPr>
          <p:spPr>
            <a:xfrm>
              <a:off x="3360960" y="486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16"/>
            <p:cNvSpPr/>
            <p:nvPr/>
          </p:nvSpPr>
          <p:spPr>
            <a:xfrm>
              <a:off x="817416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Text Box 17"/>
            <p:cNvSpPr/>
            <p:nvPr/>
          </p:nvSpPr>
          <p:spPr>
            <a:xfrm>
              <a:off x="7022880" y="1700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 Box 18"/>
            <p:cNvSpPr/>
            <p:nvPr/>
          </p:nvSpPr>
          <p:spPr>
            <a:xfrm>
              <a:off x="5078520" y="1912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19"/>
            <p:cNvSpPr/>
            <p:nvPr/>
          </p:nvSpPr>
          <p:spPr>
            <a:xfrm>
              <a:off x="6014880" y="4868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Text Box 20"/>
          <p:cNvSpPr/>
          <p:nvPr/>
        </p:nvSpPr>
        <p:spPr>
          <a:xfrm>
            <a:off x="3326760" y="33577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468360" y="5661000"/>
            <a:ext cx="84596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任意四边形一组对边中点的连线段小于两条对角线和的一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24"/>
          <p:cNvSpPr/>
          <p:nvPr/>
        </p:nvSpPr>
        <p:spPr>
          <a:xfrm>
            <a:off x="8244000" y="476280"/>
            <a:ext cx="50328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4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Group 2"/>
          <p:cNvGrpSpPr/>
          <p:nvPr/>
        </p:nvGrpSpPr>
        <p:grpSpPr>
          <a:xfrm>
            <a:off x="2702520" y="3716280"/>
            <a:ext cx="2534040" cy="2288520"/>
            <a:chOff x="2702520" y="3716280"/>
            <a:chExt cx="2534040" cy="2288520"/>
          </a:xfrm>
        </p:grpSpPr>
        <p:grpSp>
          <p:nvGrpSpPr>
            <p:cNvPr id="1225" name=""/>
            <p:cNvGrpSpPr/>
            <p:nvPr/>
          </p:nvGrpSpPr>
          <p:grpSpPr>
            <a:xfrm>
              <a:off x="3081600" y="3944880"/>
              <a:ext cx="761760" cy="1447920"/>
              <a:chOff x="3081600" y="3944880"/>
              <a:chExt cx="761760" cy="1447920"/>
            </a:xfrm>
          </p:grpSpPr>
          <p:sp>
            <p:nvSpPr>
              <p:cNvPr id="1226" name="Line 3"/>
              <p:cNvSpPr/>
              <p:nvPr/>
            </p:nvSpPr>
            <p:spPr>
              <a:xfrm flipH="1">
                <a:off x="3081600" y="3944880"/>
                <a:ext cx="76176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>
                <a:off x="3081600" y="3944880"/>
                <a:ext cx="7617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3843360" y="3944880"/>
              <a:ext cx="838440" cy="533520"/>
              <a:chOff x="3843360" y="3944880"/>
              <a:chExt cx="838440" cy="533520"/>
            </a:xfrm>
          </p:grpSpPr>
          <p:sp>
            <p:nvSpPr>
              <p:cNvPr id="1229" name="Line 4"/>
              <p:cNvSpPr/>
              <p:nvPr/>
            </p:nvSpPr>
            <p:spPr>
              <a:xfrm>
                <a:off x="3843360" y="3944880"/>
                <a:ext cx="83844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 txBox="1"/>
              <p:nvPr/>
            </p:nvSpPr>
            <p:spPr>
              <a:xfrm>
                <a:off x="3843360" y="3944880"/>
                <a:ext cx="83844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4681800" y="4478400"/>
              <a:ext cx="75960" cy="1066680"/>
              <a:chOff x="4681800" y="4478400"/>
              <a:chExt cx="75960" cy="1066680"/>
            </a:xfrm>
          </p:grpSpPr>
          <p:sp>
            <p:nvSpPr>
              <p:cNvPr id="1232" name="Line 5"/>
              <p:cNvSpPr/>
              <p:nvPr/>
            </p:nvSpPr>
            <p:spPr>
              <a:xfrm>
                <a:off x="4681800" y="4478400"/>
                <a:ext cx="7596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 txBox="1"/>
              <p:nvPr/>
            </p:nvSpPr>
            <p:spPr>
              <a:xfrm>
                <a:off x="4681800" y="4478400"/>
                <a:ext cx="759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3081600" y="5392800"/>
              <a:ext cx="1676160" cy="152280"/>
              <a:chOff x="3081600" y="5392800"/>
              <a:chExt cx="1676160" cy="152280"/>
            </a:xfrm>
          </p:grpSpPr>
          <p:sp>
            <p:nvSpPr>
              <p:cNvPr id="1235" name="Line 6"/>
              <p:cNvSpPr/>
              <p:nvPr/>
            </p:nvSpPr>
            <p:spPr>
              <a:xfrm>
                <a:off x="3081600" y="5392800"/>
                <a:ext cx="1676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 txBox="1"/>
              <p:nvPr/>
            </p:nvSpPr>
            <p:spPr>
              <a:xfrm>
                <a:off x="3081600" y="5392800"/>
                <a:ext cx="16761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3919680" y="4249800"/>
              <a:ext cx="380880" cy="1219320"/>
              <a:chOff x="3919680" y="4249800"/>
              <a:chExt cx="380880" cy="1219320"/>
            </a:xfrm>
          </p:grpSpPr>
          <p:sp>
            <p:nvSpPr>
              <p:cNvPr id="1238" name="Line 7"/>
              <p:cNvSpPr/>
              <p:nvPr/>
            </p:nvSpPr>
            <p:spPr>
              <a:xfrm flipH="1">
                <a:off x="3919680" y="4249800"/>
                <a:ext cx="380880" cy="121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 txBox="1"/>
              <p:nvPr/>
            </p:nvSpPr>
            <p:spPr>
              <a:xfrm>
                <a:off x="3919680" y="4249800"/>
                <a:ext cx="38088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0" name="Text Box 8"/>
            <p:cNvSpPr/>
            <p:nvPr/>
          </p:nvSpPr>
          <p:spPr>
            <a:xfrm>
              <a:off x="2702520" y="531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Text Box 9"/>
            <p:cNvSpPr/>
            <p:nvPr/>
          </p:nvSpPr>
          <p:spPr>
            <a:xfrm>
              <a:off x="4759560" y="5545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Text Box 10"/>
            <p:cNvSpPr/>
            <p:nvPr/>
          </p:nvSpPr>
          <p:spPr>
            <a:xfrm>
              <a:off x="3388320" y="371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1"/>
            <p:cNvSpPr/>
            <p:nvPr/>
          </p:nvSpPr>
          <p:spPr>
            <a:xfrm>
              <a:off x="4836240" y="4249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2"/>
            <p:cNvSpPr/>
            <p:nvPr/>
          </p:nvSpPr>
          <p:spPr>
            <a:xfrm>
              <a:off x="4302360" y="3792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3"/>
            <p:cNvSpPr/>
            <p:nvPr/>
          </p:nvSpPr>
          <p:spPr>
            <a:xfrm>
              <a:off x="3768840" y="5545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Text Box 15"/>
          <p:cNvSpPr/>
          <p:nvPr/>
        </p:nvSpPr>
        <p:spPr>
          <a:xfrm>
            <a:off x="395280" y="40464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已知，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中点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+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7" name="Object 16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8506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248" name=""/>
          <p:cNvGrpSpPr/>
          <p:nvPr/>
        </p:nvGrpSpPr>
        <p:grpSpPr>
          <a:xfrm>
            <a:off x="3059280" y="4508280"/>
            <a:ext cx="1584000" cy="865080"/>
            <a:chOff x="3059280" y="4508280"/>
            <a:chExt cx="1584000" cy="865080"/>
          </a:xfrm>
        </p:grpSpPr>
        <p:sp>
          <p:nvSpPr>
            <p:cNvPr id="1249" name="Line 17"/>
            <p:cNvSpPr/>
            <p:nvPr/>
          </p:nvSpPr>
          <p:spPr>
            <a:xfrm flipV="1">
              <a:off x="3059280" y="4508280"/>
              <a:ext cx="1584000" cy="865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 txBox="1"/>
            <p:nvPr/>
          </p:nvSpPr>
          <p:spPr>
            <a:xfrm rot="10800000">
              <a:off x="3059280" y="4508280"/>
              <a:ext cx="158400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Oval 18"/>
          <p:cNvSpPr/>
          <p:nvPr/>
        </p:nvSpPr>
        <p:spPr>
          <a:xfrm>
            <a:off x="3851280" y="479736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3924000" y="4221000"/>
            <a:ext cx="360720" cy="648000"/>
            <a:chOff x="3924000" y="4221000"/>
            <a:chExt cx="360720" cy="648000"/>
          </a:xfrm>
        </p:grpSpPr>
        <p:sp>
          <p:nvSpPr>
            <p:cNvPr id="1253" name="Line 19"/>
            <p:cNvSpPr/>
            <p:nvPr/>
          </p:nvSpPr>
          <p:spPr>
            <a:xfrm flipH="1">
              <a:off x="3924000" y="4221000"/>
              <a:ext cx="360360" cy="6480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 txBox="1"/>
            <p:nvPr/>
          </p:nvSpPr>
          <p:spPr>
            <a:xfrm>
              <a:off x="3924360" y="4221000"/>
              <a:ext cx="3603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3924000" y="4941360"/>
            <a:ext cx="360" cy="574920"/>
            <a:chOff x="3924000" y="4941360"/>
            <a:chExt cx="360" cy="574920"/>
          </a:xfrm>
        </p:grpSpPr>
        <p:sp>
          <p:nvSpPr>
            <p:cNvPr id="1256" name="Line 20"/>
            <p:cNvSpPr/>
            <p:nvPr/>
          </p:nvSpPr>
          <p:spPr>
            <a:xfrm flipV="1">
              <a:off x="3924360" y="4941360"/>
              <a:ext cx="0" cy="574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 txBox="1"/>
            <p:nvPr/>
          </p:nvSpPr>
          <p:spPr>
            <a:xfrm rot="10800000">
              <a:off x="3924000" y="4941360"/>
              <a:ext cx="360" cy="5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Text Box 21"/>
          <p:cNvSpPr/>
          <p:nvPr/>
        </p:nvSpPr>
        <p:spPr>
          <a:xfrm>
            <a:off x="3419640" y="4508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2"/>
          <p:cNvSpPr/>
          <p:nvPr/>
        </p:nvSpPr>
        <p:spPr>
          <a:xfrm>
            <a:off x="5364000" y="4653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23"/>
          <p:cNvSpPr/>
          <p:nvPr/>
        </p:nvSpPr>
        <p:spPr>
          <a:xfrm>
            <a:off x="5364000" y="566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AutoShape 25"/>
          <p:cNvSpPr/>
          <p:nvPr/>
        </p:nvSpPr>
        <p:spPr>
          <a:xfrm>
            <a:off x="7956720" y="1413000"/>
            <a:ext cx="50292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2"/>
          <p:cNvSpPr/>
          <p:nvPr/>
        </p:nvSpPr>
        <p:spPr>
          <a:xfrm>
            <a:off x="285840" y="1413000"/>
            <a:ext cx="8715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如图，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i="1" lang="en-US" sz="3600" spc="-1" strike="noStrike" baseline="-30000">
                <a:solidFill>
                  <a:srgbClr val="000066"/>
                </a:solidFill>
                <a:latin typeface="宋体"/>
              </a:rPr>
              <a:t>1 </a:t>
            </a:r>
            <a:r>
              <a:rPr b="1" i="1" lang="en-US" sz="3600" spc="-1" strike="noStrike">
                <a:solidFill>
                  <a:srgbClr val="000066"/>
                </a:solidFill>
                <a:latin typeface="宋体"/>
              </a:rPr>
              <a:t>// 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i="1" lang="en-US" sz="3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i="1" lang="en-US" sz="36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i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，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线段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AB//CD//EF, 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且点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E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在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i="1" lang="en-US" sz="3600" spc="-1" strike="noStrike" baseline="-30000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上，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F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在</a:t>
            </a: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i="1" lang="en-US" sz="36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上，则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AB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CD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EF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的长短相等吗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3"/>
          <p:cNvGrpSpPr/>
          <p:nvPr/>
        </p:nvGrpSpPr>
        <p:grpSpPr>
          <a:xfrm>
            <a:off x="2500200" y="3143160"/>
            <a:ext cx="5329080" cy="2751120"/>
            <a:chOff x="2500200" y="3143160"/>
            <a:chExt cx="5329080" cy="2751120"/>
          </a:xfrm>
        </p:grpSpPr>
        <p:grpSp>
          <p:nvGrpSpPr>
            <p:cNvPr id="1264" name=""/>
            <p:cNvGrpSpPr/>
            <p:nvPr/>
          </p:nvGrpSpPr>
          <p:grpSpPr>
            <a:xfrm>
              <a:off x="2525760" y="3635280"/>
              <a:ext cx="4898880" cy="1800"/>
              <a:chOff x="2525760" y="3635280"/>
              <a:chExt cx="4898880" cy="1800"/>
            </a:xfrm>
          </p:grpSpPr>
          <p:sp>
            <p:nvSpPr>
              <p:cNvPr id="1265" name="Line 4"/>
              <p:cNvSpPr/>
              <p:nvPr/>
            </p:nvSpPr>
            <p:spPr>
              <a:xfrm>
                <a:off x="2525760" y="3635280"/>
                <a:ext cx="48988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 txBox="1"/>
              <p:nvPr/>
            </p:nvSpPr>
            <p:spPr>
              <a:xfrm>
                <a:off x="2525760" y="3635280"/>
                <a:ext cx="4898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2538360" y="5402160"/>
              <a:ext cx="4998960" cy="1800"/>
              <a:chOff x="2538360" y="5402160"/>
              <a:chExt cx="4998960" cy="1800"/>
            </a:xfrm>
          </p:grpSpPr>
          <p:sp>
            <p:nvSpPr>
              <p:cNvPr id="1268" name="Line 5"/>
              <p:cNvSpPr/>
              <p:nvPr/>
            </p:nvSpPr>
            <p:spPr>
              <a:xfrm>
                <a:off x="2538360" y="5402160"/>
                <a:ext cx="49989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 txBox="1"/>
              <p:nvPr/>
            </p:nvSpPr>
            <p:spPr>
              <a:xfrm>
                <a:off x="2538360" y="5402160"/>
                <a:ext cx="49989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3483000" y="3635280"/>
              <a:ext cx="658800" cy="1766880"/>
              <a:chOff x="3483000" y="3635280"/>
              <a:chExt cx="658800" cy="1766880"/>
            </a:xfrm>
          </p:grpSpPr>
          <p:sp>
            <p:nvSpPr>
              <p:cNvPr id="1271" name="Line 6"/>
              <p:cNvSpPr/>
              <p:nvPr/>
            </p:nvSpPr>
            <p:spPr>
              <a:xfrm>
                <a:off x="3483000" y="3635280"/>
                <a:ext cx="658800" cy="176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 txBox="1"/>
              <p:nvPr/>
            </p:nvSpPr>
            <p:spPr>
              <a:xfrm>
                <a:off x="3483000" y="3635280"/>
                <a:ext cx="658800" cy="17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4192560" y="3635280"/>
              <a:ext cx="708120" cy="1766880"/>
              <a:chOff x="4192560" y="3635280"/>
              <a:chExt cx="708120" cy="1766880"/>
            </a:xfrm>
          </p:grpSpPr>
          <p:sp>
            <p:nvSpPr>
              <p:cNvPr id="1274" name="Line 7"/>
              <p:cNvSpPr/>
              <p:nvPr/>
            </p:nvSpPr>
            <p:spPr>
              <a:xfrm>
                <a:off x="4192560" y="3635280"/>
                <a:ext cx="708120" cy="176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 txBox="1"/>
              <p:nvPr/>
            </p:nvSpPr>
            <p:spPr>
              <a:xfrm>
                <a:off x="4192560" y="3635280"/>
                <a:ext cx="708120" cy="17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5461200" y="3635280"/>
              <a:ext cx="819000" cy="1766880"/>
              <a:chOff x="5461200" y="3635280"/>
              <a:chExt cx="819000" cy="1766880"/>
            </a:xfrm>
          </p:grpSpPr>
          <p:sp>
            <p:nvSpPr>
              <p:cNvPr id="1277" name="Line 8"/>
              <p:cNvSpPr/>
              <p:nvPr/>
            </p:nvSpPr>
            <p:spPr>
              <a:xfrm>
                <a:off x="5461200" y="3635280"/>
                <a:ext cx="819000" cy="1766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 txBox="1"/>
              <p:nvPr/>
            </p:nvSpPr>
            <p:spPr>
              <a:xfrm>
                <a:off x="5461200" y="3635280"/>
                <a:ext cx="819000" cy="17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Oval 9"/>
            <p:cNvSpPr/>
            <p:nvPr/>
          </p:nvSpPr>
          <p:spPr>
            <a:xfrm>
              <a:off x="2500200" y="3610080"/>
              <a:ext cx="63720" cy="65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Oval 10"/>
            <p:cNvSpPr/>
            <p:nvPr/>
          </p:nvSpPr>
          <p:spPr>
            <a:xfrm>
              <a:off x="7399440" y="3610080"/>
              <a:ext cx="63360" cy="65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11"/>
            <p:cNvSpPr/>
            <p:nvPr/>
          </p:nvSpPr>
          <p:spPr>
            <a:xfrm>
              <a:off x="7473960" y="3279960"/>
              <a:ext cx="247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2"/>
            <p:cNvSpPr/>
            <p:nvPr/>
          </p:nvSpPr>
          <p:spPr>
            <a:xfrm>
              <a:off x="7569360" y="3600360"/>
              <a:ext cx="2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Oval 13"/>
            <p:cNvSpPr/>
            <p:nvPr/>
          </p:nvSpPr>
          <p:spPr>
            <a:xfrm>
              <a:off x="2513160" y="5375160"/>
              <a:ext cx="61920" cy="65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Oval 14"/>
            <p:cNvSpPr/>
            <p:nvPr/>
          </p:nvSpPr>
          <p:spPr>
            <a:xfrm>
              <a:off x="7512120" y="5375160"/>
              <a:ext cx="61920" cy="6516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5"/>
            <p:cNvSpPr/>
            <p:nvPr/>
          </p:nvSpPr>
          <p:spPr>
            <a:xfrm>
              <a:off x="7589160" y="504504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6"/>
            <p:cNvSpPr/>
            <p:nvPr/>
          </p:nvSpPr>
          <p:spPr>
            <a:xfrm>
              <a:off x="7726320" y="5276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val 17"/>
            <p:cNvSpPr/>
            <p:nvPr/>
          </p:nvSpPr>
          <p:spPr>
            <a:xfrm>
              <a:off x="3459240" y="361008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8"/>
            <p:cNvSpPr/>
            <p:nvPr/>
          </p:nvSpPr>
          <p:spPr>
            <a:xfrm>
              <a:off x="3530520" y="314316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Oval 19"/>
            <p:cNvSpPr/>
            <p:nvPr/>
          </p:nvSpPr>
          <p:spPr>
            <a:xfrm>
              <a:off x="4118040" y="537516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20"/>
            <p:cNvSpPr/>
            <p:nvPr/>
          </p:nvSpPr>
          <p:spPr>
            <a:xfrm>
              <a:off x="3943440" y="54673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Oval 21"/>
            <p:cNvSpPr/>
            <p:nvPr/>
          </p:nvSpPr>
          <p:spPr>
            <a:xfrm>
              <a:off x="4167360" y="361008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22"/>
            <p:cNvSpPr/>
            <p:nvPr/>
          </p:nvSpPr>
          <p:spPr>
            <a:xfrm>
              <a:off x="4140360" y="31431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23"/>
            <p:cNvSpPr/>
            <p:nvPr/>
          </p:nvSpPr>
          <p:spPr>
            <a:xfrm>
              <a:off x="4875120" y="5375160"/>
              <a:ext cx="637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4"/>
            <p:cNvSpPr/>
            <p:nvPr/>
          </p:nvSpPr>
          <p:spPr>
            <a:xfrm>
              <a:off x="4800600" y="54673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Oval 25"/>
            <p:cNvSpPr/>
            <p:nvPr/>
          </p:nvSpPr>
          <p:spPr>
            <a:xfrm>
              <a:off x="5435640" y="361008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26"/>
            <p:cNvSpPr/>
            <p:nvPr/>
          </p:nvSpPr>
          <p:spPr>
            <a:xfrm>
              <a:off x="5359680" y="31431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27"/>
            <p:cNvSpPr/>
            <p:nvPr/>
          </p:nvSpPr>
          <p:spPr>
            <a:xfrm>
              <a:off x="6256440" y="5375160"/>
              <a:ext cx="61920" cy="65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28"/>
            <p:cNvSpPr/>
            <p:nvPr/>
          </p:nvSpPr>
          <p:spPr>
            <a:xfrm>
              <a:off x="6181920" y="546732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WordArt 30"/>
          <p:cNvSpPr txBox="1"/>
          <p:nvPr/>
        </p:nvSpPr>
        <p:spPr>
          <a:xfrm>
            <a:off x="714240" y="21420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猜  一  猜</a:t>
            </a:r>
            <a:endParaRPr b="1" lang="en-US" sz="3200" spc="1" strike="noStrike">
              <a:ln cap="sq"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00" name="Text Box 2"/>
          <p:cNvSpPr/>
          <p:nvPr/>
        </p:nvSpPr>
        <p:spPr>
          <a:xfrm>
            <a:off x="250920" y="5805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夹在两平行线间的平行线段相等。（补充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31"/>
          <p:cNvSpPr/>
          <p:nvPr/>
        </p:nvSpPr>
        <p:spPr>
          <a:xfrm>
            <a:off x="8172360" y="549360"/>
            <a:ext cx="50328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3"/>
          <p:cNvGrpSpPr/>
          <p:nvPr/>
        </p:nvGrpSpPr>
        <p:grpSpPr>
          <a:xfrm>
            <a:off x="428760" y="1285920"/>
            <a:ext cx="5303520" cy="2784600"/>
            <a:chOff x="428760" y="1285920"/>
            <a:chExt cx="5303520" cy="2784600"/>
          </a:xfrm>
        </p:grpSpPr>
        <p:grpSp>
          <p:nvGrpSpPr>
            <p:cNvPr id="1303" name=""/>
            <p:cNvGrpSpPr/>
            <p:nvPr/>
          </p:nvGrpSpPr>
          <p:grpSpPr>
            <a:xfrm>
              <a:off x="428760" y="1778040"/>
              <a:ext cx="4898880" cy="1800"/>
              <a:chOff x="428760" y="1778040"/>
              <a:chExt cx="4898880" cy="1800"/>
            </a:xfrm>
          </p:grpSpPr>
          <p:sp>
            <p:nvSpPr>
              <p:cNvPr id="1304" name="Line 4"/>
              <p:cNvSpPr/>
              <p:nvPr/>
            </p:nvSpPr>
            <p:spPr>
              <a:xfrm>
                <a:off x="428760" y="1778040"/>
                <a:ext cx="48988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 txBox="1"/>
              <p:nvPr/>
            </p:nvSpPr>
            <p:spPr>
              <a:xfrm>
                <a:off x="428760" y="1778040"/>
                <a:ext cx="4898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441360" y="3544920"/>
              <a:ext cx="4998960" cy="1800"/>
              <a:chOff x="441360" y="3544920"/>
              <a:chExt cx="4998960" cy="1800"/>
            </a:xfrm>
          </p:grpSpPr>
          <p:sp>
            <p:nvSpPr>
              <p:cNvPr id="1307" name="Line 5"/>
              <p:cNvSpPr/>
              <p:nvPr/>
            </p:nvSpPr>
            <p:spPr>
              <a:xfrm>
                <a:off x="441360" y="3544920"/>
                <a:ext cx="49989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 txBox="1"/>
              <p:nvPr/>
            </p:nvSpPr>
            <p:spPr>
              <a:xfrm>
                <a:off x="441360" y="3544920"/>
                <a:ext cx="49989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Rectangle 11"/>
            <p:cNvSpPr/>
            <p:nvPr/>
          </p:nvSpPr>
          <p:spPr>
            <a:xfrm>
              <a:off x="5376960" y="1422720"/>
              <a:ext cx="247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12"/>
            <p:cNvSpPr/>
            <p:nvPr/>
          </p:nvSpPr>
          <p:spPr>
            <a:xfrm>
              <a:off x="5472360" y="1743120"/>
              <a:ext cx="2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15"/>
            <p:cNvSpPr/>
            <p:nvPr/>
          </p:nvSpPr>
          <p:spPr>
            <a:xfrm>
              <a:off x="5492160" y="3187800"/>
              <a:ext cx="9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16"/>
            <p:cNvSpPr/>
            <p:nvPr/>
          </p:nvSpPr>
          <p:spPr>
            <a:xfrm>
              <a:off x="5629320" y="34196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18"/>
            <p:cNvSpPr/>
            <p:nvPr/>
          </p:nvSpPr>
          <p:spPr>
            <a:xfrm>
              <a:off x="1433520" y="128592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20"/>
            <p:cNvSpPr/>
            <p:nvPr/>
          </p:nvSpPr>
          <p:spPr>
            <a:xfrm>
              <a:off x="1474920" y="364356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22"/>
            <p:cNvSpPr/>
            <p:nvPr/>
          </p:nvSpPr>
          <p:spPr>
            <a:xfrm>
              <a:off x="2332440" y="12859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24"/>
            <p:cNvSpPr/>
            <p:nvPr/>
          </p:nvSpPr>
          <p:spPr>
            <a:xfrm>
              <a:off x="2260800" y="36435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26"/>
            <p:cNvSpPr/>
            <p:nvPr/>
          </p:nvSpPr>
          <p:spPr>
            <a:xfrm>
              <a:off x="4046760" y="12859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28"/>
            <p:cNvSpPr/>
            <p:nvPr/>
          </p:nvSpPr>
          <p:spPr>
            <a:xfrm>
              <a:off x="4084920" y="361008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19" name="肘形连接符 31"/>
          <p:cNvCxnSpPr/>
          <p:nvPr/>
        </p:nvCxnSpPr>
        <p:spPr>
          <a:xfrm>
            <a:off x="1499040" y="1785600"/>
            <a:ext cx="413640" cy="174204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1320" name="肘形连接符 36"/>
          <p:cNvCxnSpPr/>
          <p:nvPr/>
        </p:nvCxnSpPr>
        <p:spPr>
          <a:xfrm>
            <a:off x="2284560" y="1785960"/>
            <a:ext cx="358920" cy="171504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321" name="肘形连接符 39"/>
          <p:cNvCxnSpPr/>
          <p:nvPr/>
        </p:nvCxnSpPr>
        <p:spPr>
          <a:xfrm>
            <a:off x="3857760" y="1785600"/>
            <a:ext cx="357840" cy="17866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322" name="矩形 42"/>
          <p:cNvSpPr/>
          <p:nvPr/>
        </p:nvSpPr>
        <p:spPr>
          <a:xfrm rot="10800000">
            <a:off x="1500120" y="32166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43"/>
          <p:cNvSpPr/>
          <p:nvPr/>
        </p:nvSpPr>
        <p:spPr>
          <a:xfrm rot="10800000">
            <a:off x="2286000" y="32166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44"/>
          <p:cNvSpPr/>
          <p:nvPr/>
        </p:nvSpPr>
        <p:spPr>
          <a:xfrm rot="10800000">
            <a:off x="4074840" y="32166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2"/>
          <p:cNvSpPr/>
          <p:nvPr/>
        </p:nvSpPr>
        <p:spPr>
          <a:xfrm>
            <a:off x="214200" y="4143240"/>
            <a:ext cx="87156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如图，</a:t>
            </a:r>
            <a:r>
              <a:rPr b="1" i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l</a:t>
            </a:r>
            <a:r>
              <a:rPr b="1" i="1" lang="en-US" sz="3200" spc="-1" strike="noStrike" baseline="-30000">
                <a:solidFill>
                  <a:srgbClr val="000066"/>
                </a:solidFill>
                <a:latin typeface="宋体"/>
                <a:ea typeface="宋体"/>
              </a:rPr>
              <a:t>1 </a:t>
            </a:r>
            <a:r>
              <a:rPr b="1" i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// l</a:t>
            </a:r>
            <a:r>
              <a:rPr b="1" i="1" lang="en-US" sz="3200" spc="-1" strike="noStrike" baseline="-30000">
                <a:solidFill>
                  <a:srgbClr val="000066"/>
                </a:solidFill>
                <a:latin typeface="宋体"/>
                <a:ea typeface="宋体"/>
              </a:rPr>
              <a:t>2  </a:t>
            </a:r>
            <a:r>
              <a:rPr b="1" i="1" lang="zh-CN" sz="3200" spc="-1" strike="noStrike" baseline="-30000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点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在</a:t>
            </a:r>
            <a:r>
              <a:rPr b="1" i="1" lang="en-US" sz="3200" spc="-1" strike="noStrike">
                <a:solidFill>
                  <a:srgbClr val="000066"/>
                </a:solidFill>
                <a:latin typeface="宋体"/>
              </a:rPr>
              <a:t>l</a:t>
            </a:r>
            <a:r>
              <a:rPr b="1" i="1" lang="en-US" sz="3200" spc="-1" strike="noStrike" baseline="-30000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上，线段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CD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EF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都垂直与</a:t>
            </a:r>
            <a:r>
              <a:rPr b="1" i="1" lang="en-US" sz="3200" spc="-1" strike="noStrike">
                <a:solidFill>
                  <a:srgbClr val="000066"/>
                </a:solidFill>
                <a:latin typeface="宋体"/>
              </a:rPr>
              <a:t>l</a:t>
            </a:r>
            <a:r>
              <a:rPr b="1" i="1" lang="en-US" sz="3200" spc="-1" strike="noStrike" baseline="-30000">
                <a:solidFill>
                  <a:srgbClr val="000066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，垂足分别为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F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，则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CD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EF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的长短相等吗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46"/>
          <p:cNvSpPr/>
          <p:nvPr/>
        </p:nvSpPr>
        <p:spPr>
          <a:xfrm>
            <a:off x="539640" y="0"/>
            <a:ext cx="7929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条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直线上的任一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另一条直线的距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叫做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两条平行线间的距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P8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矩形 51"/>
          <p:cNvSpPr/>
          <p:nvPr/>
        </p:nvSpPr>
        <p:spPr>
          <a:xfrm>
            <a:off x="1143000" y="5786280"/>
            <a:ext cx="767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平行线间的距离处处相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圆角矩形标注 53"/>
          <p:cNvSpPr/>
          <p:nvPr/>
        </p:nvSpPr>
        <p:spPr>
          <a:xfrm>
            <a:off x="6000840" y="2143080"/>
            <a:ext cx="2857320" cy="1714680"/>
          </a:xfrm>
          <a:prstGeom prst="wedgeRoundRectCallout">
            <a:avLst>
              <a:gd name="adj1" fmla="val -72643"/>
              <a:gd name="adj2" fmla="val -10439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与点与点的距离、点到直线的距离的联系与区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AutoShape 25"/>
          <p:cNvSpPr/>
          <p:nvPr/>
        </p:nvSpPr>
        <p:spPr>
          <a:xfrm>
            <a:off x="8244000" y="549360"/>
            <a:ext cx="50328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Text Box 2"/>
          <p:cNvSpPr/>
          <p:nvPr/>
        </p:nvSpPr>
        <p:spPr>
          <a:xfrm>
            <a:off x="-1440" y="981000"/>
            <a:ext cx="91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在平行四边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一组对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上截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连接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怎样的关系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WordArt 15"/>
          <p:cNvSpPr txBox="1"/>
          <p:nvPr/>
        </p:nvSpPr>
        <p:spPr>
          <a:xfrm>
            <a:off x="357120" y="214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巩固练习</a:t>
            </a:r>
            <a:endParaRPr b="1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32" name="Group 35"/>
          <p:cNvGrpSpPr/>
          <p:nvPr/>
        </p:nvGrpSpPr>
        <p:grpSpPr>
          <a:xfrm>
            <a:off x="1785960" y="3214800"/>
            <a:ext cx="5689440" cy="2465280"/>
            <a:chOff x="1785960" y="3214800"/>
            <a:chExt cx="5689440" cy="2465280"/>
          </a:xfrm>
        </p:grpSpPr>
        <p:grpSp>
          <p:nvGrpSpPr>
            <p:cNvPr id="1333" name=""/>
            <p:cNvGrpSpPr/>
            <p:nvPr/>
          </p:nvGrpSpPr>
          <p:grpSpPr>
            <a:xfrm>
              <a:off x="3225600" y="3660840"/>
              <a:ext cx="3240360" cy="360"/>
              <a:chOff x="3225600" y="3660840"/>
              <a:chExt cx="3240360" cy="360"/>
            </a:xfrm>
          </p:grpSpPr>
          <p:sp>
            <p:nvSpPr>
              <p:cNvPr id="1334" name="Line 17"/>
              <p:cNvSpPr/>
              <p:nvPr/>
            </p:nvSpPr>
            <p:spPr>
              <a:xfrm>
                <a:off x="3225600" y="3660840"/>
                <a:ext cx="324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 txBox="1"/>
              <p:nvPr/>
            </p:nvSpPr>
            <p:spPr>
              <a:xfrm>
                <a:off x="3225600" y="3660840"/>
                <a:ext cx="324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2077920" y="5173920"/>
              <a:ext cx="3240000" cy="360"/>
              <a:chOff x="2077920" y="5173920"/>
              <a:chExt cx="3240000" cy="360"/>
            </a:xfrm>
          </p:grpSpPr>
          <p:sp>
            <p:nvSpPr>
              <p:cNvPr id="1337" name="Line 18"/>
              <p:cNvSpPr/>
              <p:nvPr/>
            </p:nvSpPr>
            <p:spPr>
              <a:xfrm>
                <a:off x="2077920" y="5173920"/>
                <a:ext cx="32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 txBox="1"/>
              <p:nvPr/>
            </p:nvSpPr>
            <p:spPr>
              <a:xfrm>
                <a:off x="2077920" y="517392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2061720" y="3660840"/>
              <a:ext cx="1151280" cy="1513080"/>
              <a:chOff x="2061720" y="3660840"/>
              <a:chExt cx="1151280" cy="1513080"/>
            </a:xfrm>
          </p:grpSpPr>
          <p:sp>
            <p:nvSpPr>
              <p:cNvPr id="1340" name="Line 19"/>
              <p:cNvSpPr/>
              <p:nvPr/>
            </p:nvSpPr>
            <p:spPr>
              <a:xfrm flipH="1">
                <a:off x="2061720" y="3660840"/>
                <a:ext cx="1150920" cy="151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 txBox="1"/>
              <p:nvPr/>
            </p:nvSpPr>
            <p:spPr>
              <a:xfrm>
                <a:off x="2062080" y="3660840"/>
                <a:ext cx="1150920" cy="151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3369960" y="3660840"/>
              <a:ext cx="719280" cy="1498680"/>
              <a:chOff x="3369960" y="3660840"/>
              <a:chExt cx="719280" cy="1498680"/>
            </a:xfrm>
          </p:grpSpPr>
          <p:sp>
            <p:nvSpPr>
              <p:cNvPr id="1343" name="Line 20"/>
              <p:cNvSpPr/>
              <p:nvPr/>
            </p:nvSpPr>
            <p:spPr>
              <a:xfrm flipH="1">
                <a:off x="3369960" y="3660840"/>
                <a:ext cx="718920" cy="1498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 txBox="1"/>
              <p:nvPr/>
            </p:nvSpPr>
            <p:spPr>
              <a:xfrm>
                <a:off x="3370320" y="3660840"/>
                <a:ext cx="718920" cy="149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5316120" y="3660840"/>
              <a:ext cx="1151280" cy="1513080"/>
              <a:chOff x="5316120" y="3660840"/>
              <a:chExt cx="1151280" cy="1513080"/>
            </a:xfrm>
          </p:grpSpPr>
          <p:sp>
            <p:nvSpPr>
              <p:cNvPr id="1346" name="Line 21"/>
              <p:cNvSpPr/>
              <p:nvPr/>
            </p:nvSpPr>
            <p:spPr>
              <a:xfrm flipH="1">
                <a:off x="5316120" y="3660840"/>
                <a:ext cx="1150920" cy="151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 txBox="1"/>
              <p:nvPr/>
            </p:nvSpPr>
            <p:spPr>
              <a:xfrm>
                <a:off x="5316480" y="3660840"/>
                <a:ext cx="1150920" cy="151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8" name="Text Box 24"/>
            <p:cNvSpPr/>
            <p:nvPr/>
          </p:nvSpPr>
          <p:spPr>
            <a:xfrm>
              <a:off x="2867040" y="322920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Text Box 26"/>
            <p:cNvSpPr/>
            <p:nvPr/>
          </p:nvSpPr>
          <p:spPr>
            <a:xfrm>
              <a:off x="1785960" y="5102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Text Box 27"/>
            <p:cNvSpPr/>
            <p:nvPr/>
          </p:nvSpPr>
          <p:spPr>
            <a:xfrm>
              <a:off x="5170320" y="508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8"/>
            <p:cNvSpPr/>
            <p:nvPr/>
          </p:nvSpPr>
          <p:spPr>
            <a:xfrm>
              <a:off x="6467400" y="322920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29"/>
            <p:cNvSpPr/>
            <p:nvPr/>
          </p:nvSpPr>
          <p:spPr>
            <a:xfrm>
              <a:off x="3875040" y="32148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30"/>
            <p:cNvSpPr/>
            <p:nvPr/>
          </p:nvSpPr>
          <p:spPr>
            <a:xfrm>
              <a:off x="4881600" y="321480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Text Box 31"/>
            <p:cNvSpPr/>
            <p:nvPr/>
          </p:nvSpPr>
          <p:spPr>
            <a:xfrm>
              <a:off x="3009960" y="51595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 Box 32"/>
            <p:cNvSpPr/>
            <p:nvPr/>
          </p:nvSpPr>
          <p:spPr>
            <a:xfrm>
              <a:off x="4017960" y="5159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4233600" y="3659400"/>
              <a:ext cx="719280" cy="1498680"/>
              <a:chOff x="4233600" y="3659400"/>
              <a:chExt cx="719280" cy="1498680"/>
            </a:xfrm>
          </p:grpSpPr>
          <p:sp>
            <p:nvSpPr>
              <p:cNvPr id="1357" name="Line 34"/>
              <p:cNvSpPr/>
              <p:nvPr/>
            </p:nvSpPr>
            <p:spPr>
              <a:xfrm flipH="1">
                <a:off x="4233600" y="3659400"/>
                <a:ext cx="718920" cy="1498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 txBox="1"/>
              <p:nvPr/>
            </p:nvSpPr>
            <p:spPr>
              <a:xfrm>
                <a:off x="4233960" y="3659400"/>
                <a:ext cx="718920" cy="149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9" name="AutoShape 19"/>
          <p:cNvSpPr/>
          <p:nvPr/>
        </p:nvSpPr>
        <p:spPr>
          <a:xfrm>
            <a:off x="8317080" y="333360"/>
            <a:ext cx="502920" cy="50472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2"/>
          <p:cNvSpPr/>
          <p:nvPr/>
        </p:nvSpPr>
        <p:spPr>
          <a:xfrm>
            <a:off x="0" y="33336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课后巩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（填空）一个三角形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35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过三角形各顶点作对边的平行线，则这三条平行线所组成的三角形的周长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（填空）已知：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边的中点，如果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么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1" name="Picture 3" descr=""/>
          <p:cNvPicPr/>
          <p:nvPr/>
        </p:nvPicPr>
        <p:blipFill>
          <a:blip r:embed="rId1"/>
          <a:stretch/>
        </p:blipFill>
        <p:spPr>
          <a:xfrm>
            <a:off x="6335640" y="4005360"/>
            <a:ext cx="2664000" cy="25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2" name=""/>
          <p:cNvGraphicFramePr/>
          <p:nvPr/>
        </p:nvGraphicFramePr>
        <p:xfrm>
          <a:off x="0" y="2852640"/>
          <a:ext cx="7129440" cy="136836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13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．已知：如图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别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中点．求证：四边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G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平行四边形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3" name="Text Box 10"/>
          <p:cNvSpPr/>
          <p:nvPr/>
        </p:nvSpPr>
        <p:spPr>
          <a:xfrm>
            <a:off x="7164360" y="10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7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 Box 11"/>
          <p:cNvSpPr/>
          <p:nvPr/>
        </p:nvSpPr>
        <p:spPr>
          <a:xfrm>
            <a:off x="7451640" y="2133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12"/>
          <p:cNvSpPr/>
          <p:nvPr/>
        </p:nvSpPr>
        <p:spPr>
          <a:xfrm>
            <a:off x="6913440" y="3573360"/>
            <a:ext cx="503280" cy="505080"/>
          </a:xfrm>
          <a:prstGeom prst="smileyFace">
            <a:avLst>
              <a:gd name="adj" fmla="val 4653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文本框 8199"/>
          <p:cNvSpPr/>
          <p:nvPr/>
        </p:nvSpPr>
        <p:spPr>
          <a:xfrm>
            <a:off x="546120" y="5540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Text Box 2"/>
          <p:cNvSpPr/>
          <p:nvPr/>
        </p:nvSpPr>
        <p:spPr>
          <a:xfrm>
            <a:off x="179280" y="1461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小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4"/>
          <p:cNvSpPr/>
          <p:nvPr/>
        </p:nvSpPr>
        <p:spPr>
          <a:xfrm>
            <a:off x="428760" y="9288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三角形中位线的定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428760" y="22147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三角形中位线定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5"/>
          <p:cNvSpPr/>
          <p:nvPr/>
        </p:nvSpPr>
        <p:spPr>
          <a:xfrm>
            <a:off x="142920" y="164304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连接三角形两边中点的线段叫做三角形的中位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6"/>
          <p:cNvSpPr/>
          <p:nvPr/>
        </p:nvSpPr>
        <p:spPr>
          <a:xfrm>
            <a:off x="142920" y="285768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三角形的中位线平行于三角形的第三边，且等于第三边的一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7"/>
          <p:cNvSpPr/>
          <p:nvPr/>
        </p:nvSpPr>
        <p:spPr>
          <a:xfrm>
            <a:off x="2644200" y="385776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两条平行线间的距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8"/>
          <p:cNvSpPr/>
          <p:nvPr/>
        </p:nvSpPr>
        <p:spPr>
          <a:xfrm>
            <a:off x="285840" y="442908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一条直线上的任一点到另一条直线的距离，叫做这两条平行线间的距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9"/>
          <p:cNvSpPr/>
          <p:nvPr/>
        </p:nvSpPr>
        <p:spPr>
          <a:xfrm>
            <a:off x="2504160" y="578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平行线间的距离处处相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C3B-350C-45B2-B238-FB37EA5801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WordArt 2"/>
          <p:cNvSpPr txBox="1"/>
          <p:nvPr/>
        </p:nvSpPr>
        <p:spPr>
          <a:xfrm>
            <a:off x="2971800" y="533520"/>
            <a:ext cx="246708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隶书"/>
              </a:rPr>
              <a:t>小结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隶书"/>
              <a:ea typeface="隶书"/>
            </a:endParaRPr>
          </a:p>
        </p:txBody>
      </p:sp>
      <p:sp>
        <p:nvSpPr>
          <p:cNvPr id="1380" name="Text Box 5"/>
          <p:cNvSpPr/>
          <p:nvPr/>
        </p:nvSpPr>
        <p:spPr>
          <a:xfrm>
            <a:off x="228600" y="1484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角形的中位线定理不仅给出了中位线与第三边的关系，而且给出了他们的数量关系，在三角形中给出一边的中点时，要转化为中位线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6"/>
          <p:cNvSpPr/>
          <p:nvPr/>
        </p:nvSpPr>
        <p:spPr>
          <a:xfrm>
            <a:off x="179280" y="3573360"/>
            <a:ext cx="85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线段的倍分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要转化为相等问题来解决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7"/>
          <p:cNvSpPr/>
          <p:nvPr/>
        </p:nvSpPr>
        <p:spPr>
          <a:xfrm>
            <a:off x="250920" y="4797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角形的中位线定理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发现过程所用到的数学方法（包括画图、实验、猜想、分析、归纳等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4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9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380880"/>
            <a:ext cx="8583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黑体"/>
              </a:rPr>
              <a:t>学习了平行四边形后，余刚同学回家用硬纸条钉制了一个平行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3"/>
          <p:cNvSpPr txBox="1"/>
          <p:nvPr/>
        </p:nvSpPr>
        <p:spPr>
          <a:xfrm>
            <a:off x="685800" y="5029200"/>
            <a:ext cx="213372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请你帮忙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245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 rot="7819200">
            <a:off x="3809520" y="3733560"/>
            <a:ext cx="20574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580000" y="3429000"/>
            <a:ext cx="283068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 rot="7819200">
            <a:off x="3941280" y="3843000"/>
            <a:ext cx="205740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5508720" y="3573360"/>
            <a:ext cx="283032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339840" y="2133720"/>
            <a:ext cx="880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问：凭什么确定这四边形就是平行四边形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1"/>
          <p:cNvPicPr/>
          <p:nvPr/>
        </p:nvPicPr>
        <p:blipFill>
          <a:blip r:embed="rId1"/>
          <a:stretch/>
        </p:blipFill>
        <p:spPr>
          <a:xfrm>
            <a:off x="2286000" y="0"/>
            <a:ext cx="4267080" cy="2098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1066680" y="1828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猜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两组对边分别相等的四 边形是平行四边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19320" y="2438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，在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=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=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219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9880" y="533520"/>
            <a:ext cx="1219320" cy="1218960"/>
            <a:chOff x="3809880" y="533520"/>
            <a:chExt cx="1219320" cy="1218960"/>
          </a:xfrm>
        </p:grpSpPr>
        <p:sp>
          <p:nvSpPr>
            <p:cNvPr id="257" name="Line 6"/>
            <p:cNvSpPr/>
            <p:nvPr/>
          </p:nvSpPr>
          <p:spPr>
            <a:xfrm>
              <a:off x="3809880" y="533520"/>
              <a:ext cx="1219320" cy="121896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3809880" y="533520"/>
              <a:ext cx="121932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7"/>
          <p:cNvSpPr/>
          <p:nvPr/>
        </p:nvSpPr>
        <p:spPr>
          <a:xfrm>
            <a:off x="1219320" y="3352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连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2050920" y="3789360"/>
            <a:ext cx="1524240" cy="10335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114300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 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DA      (SS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1143000" y="4952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=∠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=∠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3659400" y="60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480240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3964320" y="45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448164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1217520" y="52578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50507"/>
                </a:solidFill>
                <a:latin typeface="隶书"/>
                <a:ea typeface="隶书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B∥CD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D∥C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1430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 边形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平行四边形定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0" y="1268280"/>
            <a:ext cx="2124000" cy="202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判定定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8"/>
          <p:cNvGrpSpPr/>
          <p:nvPr/>
        </p:nvGrpSpPr>
        <p:grpSpPr>
          <a:xfrm>
            <a:off x="4648320" y="3581280"/>
            <a:ext cx="4419360" cy="1905120"/>
            <a:chOff x="4648320" y="3581280"/>
            <a:chExt cx="4419360" cy="1905120"/>
          </a:xfrm>
        </p:grpSpPr>
        <p:sp>
          <p:nvSpPr>
            <p:cNvPr id="271" name="AutoShape 19"/>
            <p:cNvSpPr/>
            <p:nvPr/>
          </p:nvSpPr>
          <p:spPr>
            <a:xfrm>
              <a:off x="4648320" y="3581280"/>
              <a:ext cx="4419360" cy="1905120"/>
            </a:xfrm>
            <a:prstGeom prst="wedgeRoundRectCallout">
              <a:avLst>
                <a:gd name="adj1" fmla="val -105101"/>
                <a:gd name="adj2" fmla="val -111583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0"/>
            <p:cNvSpPr/>
            <p:nvPr/>
          </p:nvSpPr>
          <p:spPr>
            <a:xfrm>
              <a:off x="5329080" y="3581280"/>
              <a:ext cx="3321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数学语言表示为：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∵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D=CB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B=C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∴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四边形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BCD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是平行四 边形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平行四边形判定定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440" y="1447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黑体"/>
              </a:rPr>
              <a:t>、 两组对角分别相等的四边形是平行四边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334800" y="2362320"/>
            <a:ext cx="3624120" cy="2135520"/>
            <a:chOff x="334800" y="2362320"/>
            <a:chExt cx="3624120" cy="2135520"/>
          </a:xfrm>
        </p:grpSpPr>
        <p:sp>
          <p:nvSpPr>
            <p:cNvPr id="276" name="AutoShape 5"/>
            <p:cNvSpPr/>
            <p:nvPr/>
          </p:nvSpPr>
          <p:spPr>
            <a:xfrm>
              <a:off x="769680" y="2819160"/>
              <a:ext cx="2743200" cy="1294920"/>
            </a:xfrm>
            <a:prstGeom prst="parallelogram">
              <a:avLst>
                <a:gd name="adj" fmla="val 52961"/>
              </a:avLst>
            </a:prstGeom>
            <a:solidFill>
              <a:srgbClr val="ff33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"/>
            <p:cNvSpPr/>
            <p:nvPr/>
          </p:nvSpPr>
          <p:spPr>
            <a:xfrm>
              <a:off x="947880" y="2362320"/>
              <a:ext cx="5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7"/>
            <p:cNvSpPr/>
            <p:nvPr/>
          </p:nvSpPr>
          <p:spPr>
            <a:xfrm>
              <a:off x="334800" y="3733560"/>
              <a:ext cx="55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8"/>
            <p:cNvSpPr/>
            <p:nvPr/>
          </p:nvSpPr>
          <p:spPr>
            <a:xfrm>
              <a:off x="2819160" y="3733560"/>
              <a:ext cx="46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336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28800" y="4724280"/>
            <a:ext cx="71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∵ 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= ∠C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 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= ∠D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已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4653720" y="3971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数学语言表示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1116000" y="5475240"/>
            <a:ext cx="969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四边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是平行四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两组对角分别相等的四边形是平行四边形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838080" y="838080"/>
            <a:ext cx="73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对角线互相平分的四边形是平行四边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250920" y="14130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已知：如图，四边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对角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相交于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并且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O=C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=D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250920" y="23493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四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292428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838080" y="3276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533520" y="37339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2438280" cy="1020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609480" y="4419720"/>
            <a:ext cx="51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OB ≌ △COD    (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SA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609480" y="48769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=C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5280" y="5373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理 ：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=C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533520" y="5791320"/>
            <a:ext cx="68468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 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平行四边形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两组对边分别相等的四 边形是平行四边形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4952880" y="2743200"/>
            <a:ext cx="3429000" cy="2002320"/>
            <a:chOff x="4952880" y="2743200"/>
            <a:chExt cx="3429000" cy="2002320"/>
          </a:xfrm>
        </p:grpSpPr>
        <p:grpSp>
          <p:nvGrpSpPr>
            <p:cNvPr id="296" name="Group 14"/>
            <p:cNvGrpSpPr/>
            <p:nvPr/>
          </p:nvGrpSpPr>
          <p:grpSpPr>
            <a:xfrm>
              <a:off x="4952880" y="2743200"/>
              <a:ext cx="3429000" cy="2002320"/>
              <a:chOff x="4952880" y="2743200"/>
              <a:chExt cx="3429000" cy="2002320"/>
            </a:xfrm>
          </p:grpSpPr>
          <p:grpSp>
            <p:nvGrpSpPr>
              <p:cNvPr id="297" name="Group 15"/>
              <p:cNvGrpSpPr/>
              <p:nvPr/>
            </p:nvGrpSpPr>
            <p:grpSpPr>
              <a:xfrm>
                <a:off x="5029200" y="3085920"/>
                <a:ext cx="2819520" cy="1114200"/>
                <a:chOff x="5029200" y="3085920"/>
                <a:chExt cx="2819520" cy="111420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5029200" y="4199760"/>
                  <a:ext cx="2362320" cy="360"/>
                  <a:chOff x="5029200" y="4199760"/>
                  <a:chExt cx="2362320" cy="360"/>
                </a:xfrm>
              </p:grpSpPr>
              <p:sp>
                <p:nvSpPr>
                  <p:cNvPr id="299" name="Line 16"/>
                  <p:cNvSpPr/>
                  <p:nvPr/>
                </p:nvSpPr>
                <p:spPr>
                  <a:xfrm>
                    <a:off x="5029200" y="419976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 txBox="1"/>
                  <p:nvPr/>
                </p:nvSpPr>
                <p:spPr>
                  <a:xfrm>
                    <a:off x="5029200" y="4199760"/>
                    <a:ext cx="2362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5486400" y="3085920"/>
                  <a:ext cx="2362320" cy="360"/>
                  <a:chOff x="5486400" y="3085920"/>
                  <a:chExt cx="2362320" cy="360"/>
                </a:xfrm>
              </p:grpSpPr>
              <p:sp>
                <p:nvSpPr>
                  <p:cNvPr id="302" name="Line 17"/>
                  <p:cNvSpPr/>
                  <p:nvPr/>
                </p:nvSpPr>
                <p:spPr>
                  <a:xfrm>
                    <a:off x="5486400" y="3085920"/>
                    <a:ext cx="2362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 txBox="1"/>
                  <p:nvPr/>
                </p:nvSpPr>
                <p:spPr>
                  <a:xfrm>
                    <a:off x="5486400" y="3085920"/>
                    <a:ext cx="2362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029200" y="3085920"/>
                  <a:ext cx="457200" cy="1113840"/>
                  <a:chOff x="5029200" y="3085920"/>
                  <a:chExt cx="457200" cy="1113840"/>
                </a:xfrm>
              </p:grpSpPr>
              <p:sp>
                <p:nvSpPr>
                  <p:cNvPr id="305" name="Line 18"/>
                  <p:cNvSpPr/>
                  <p:nvPr/>
                </p:nvSpPr>
                <p:spPr>
                  <a:xfrm flipH="1">
                    <a:off x="5029200" y="3085920"/>
                    <a:ext cx="457200" cy="111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 txBox="1"/>
                  <p:nvPr/>
                </p:nvSpPr>
                <p:spPr>
                  <a:xfrm>
                    <a:off x="5029200" y="3085920"/>
                    <a:ext cx="457200" cy="111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391520" y="3085920"/>
                  <a:ext cx="457200" cy="1113840"/>
                  <a:chOff x="7391520" y="3085920"/>
                  <a:chExt cx="457200" cy="1113840"/>
                </a:xfrm>
              </p:grpSpPr>
              <p:sp>
                <p:nvSpPr>
                  <p:cNvPr id="308" name="Line 19"/>
                  <p:cNvSpPr/>
                  <p:nvPr/>
                </p:nvSpPr>
                <p:spPr>
                  <a:xfrm flipH="1">
                    <a:off x="7391520" y="3085920"/>
                    <a:ext cx="457200" cy="111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 txBox="1"/>
                  <p:nvPr/>
                </p:nvSpPr>
                <p:spPr>
                  <a:xfrm>
                    <a:off x="7391520" y="3085920"/>
                    <a:ext cx="457200" cy="111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0" name="Text Box 20"/>
              <p:cNvSpPr/>
              <p:nvPr/>
            </p:nvSpPr>
            <p:spPr>
              <a:xfrm>
                <a:off x="5029200" y="2743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21"/>
              <p:cNvSpPr/>
              <p:nvPr/>
            </p:nvSpPr>
            <p:spPr>
              <a:xfrm>
                <a:off x="4952880" y="42858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22"/>
              <p:cNvSpPr/>
              <p:nvPr/>
            </p:nvSpPr>
            <p:spPr>
              <a:xfrm>
                <a:off x="7162920" y="4285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23"/>
              <p:cNvSpPr/>
              <p:nvPr/>
            </p:nvSpPr>
            <p:spPr>
              <a:xfrm>
                <a:off x="8001000" y="2743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486400" y="3085920"/>
              <a:ext cx="1905120" cy="1113840"/>
              <a:chOff x="5486400" y="3085920"/>
              <a:chExt cx="1905120" cy="1113840"/>
            </a:xfrm>
          </p:grpSpPr>
          <p:sp>
            <p:nvSpPr>
              <p:cNvPr id="315" name="Line 24"/>
              <p:cNvSpPr/>
              <p:nvPr/>
            </p:nvSpPr>
            <p:spPr>
              <a:xfrm>
                <a:off x="5486400" y="3085920"/>
                <a:ext cx="1905120" cy="11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5486400" y="3085920"/>
                <a:ext cx="1905120" cy="11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029200" y="3085920"/>
              <a:ext cx="2819520" cy="1113840"/>
              <a:chOff x="5029200" y="3085920"/>
              <a:chExt cx="2819520" cy="1113840"/>
            </a:xfrm>
          </p:grpSpPr>
          <p:sp>
            <p:nvSpPr>
              <p:cNvPr id="318" name="Line 25"/>
              <p:cNvSpPr/>
              <p:nvPr/>
            </p:nvSpPr>
            <p:spPr>
              <a:xfrm flipV="1">
                <a:off x="5029200" y="3085920"/>
                <a:ext cx="2819520" cy="11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10800000">
                <a:off x="5029200" y="3085920"/>
                <a:ext cx="2819520" cy="11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Text Box 26"/>
            <p:cNvSpPr/>
            <p:nvPr/>
          </p:nvSpPr>
          <p:spPr>
            <a:xfrm>
              <a:off x="6248520" y="368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27"/>
          <p:cNvSpPr/>
          <p:nvPr/>
        </p:nvSpPr>
        <p:spPr>
          <a:xfrm>
            <a:off x="380880" y="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8"/>
          <p:cNvSpPr/>
          <p:nvPr/>
        </p:nvSpPr>
        <p:spPr>
          <a:xfrm>
            <a:off x="457200" y="380880"/>
            <a:ext cx="4978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根据上述判定定理证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539640" y="333360"/>
            <a:ext cx="426744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平行四边形判定定理 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30"/>
          <p:cNvGrpSpPr/>
          <p:nvPr/>
        </p:nvGrpSpPr>
        <p:grpSpPr>
          <a:xfrm>
            <a:off x="3924360" y="4365720"/>
            <a:ext cx="5471640" cy="1437120"/>
            <a:chOff x="3924360" y="4365720"/>
            <a:chExt cx="5471640" cy="1437120"/>
          </a:xfrm>
        </p:grpSpPr>
        <p:sp>
          <p:nvSpPr>
            <p:cNvPr id="325" name="AutoShape 31"/>
            <p:cNvSpPr/>
            <p:nvPr/>
          </p:nvSpPr>
          <p:spPr>
            <a:xfrm>
              <a:off x="3924360" y="4365720"/>
              <a:ext cx="5471640" cy="1368360"/>
            </a:xfrm>
            <a:prstGeom prst="wedgeRoundRectCallout">
              <a:avLst>
                <a:gd name="adj1" fmla="val -64861"/>
                <a:gd name="adj2" fmla="val -293504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2"/>
            <p:cNvSpPr/>
            <p:nvPr/>
          </p:nvSpPr>
          <p:spPr>
            <a:xfrm>
              <a:off x="4106520" y="4429080"/>
              <a:ext cx="5107320" cy="1373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数学语言表示为；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∵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AO=OC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，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BO=O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∴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四边形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ABCD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是平行四 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4334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9"/>
          <p:cNvPicPr/>
          <p:nvPr/>
        </p:nvPicPr>
        <p:blipFill>
          <a:blip r:embed="rId2"/>
          <a:stretch/>
        </p:blipFill>
        <p:spPr>
          <a:xfrm>
            <a:off x="0" y="6424560"/>
            <a:ext cx="9144000" cy="4334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4"/>
          <p:cNvSpPr/>
          <p:nvPr/>
        </p:nvSpPr>
        <p:spPr>
          <a:xfrm>
            <a:off x="304920" y="170028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两组对边分别平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四边形是平行四边形。（定义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5"/>
          <p:cNvSpPr txBox="1"/>
          <p:nvPr/>
        </p:nvSpPr>
        <p:spPr>
          <a:xfrm>
            <a:off x="2819520" y="83808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平行四边形的判定方法（</a:t>
            </a: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P87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）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04920" y="26082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两组对边分别相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四边形是平行四边形。（判定定理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04920" y="472428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华文新魏"/>
              </a:rPr>
              <a:t>对角线互相平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四边形是平行四边形。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（判定定理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378936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华文新魏"/>
              </a:rPr>
              <a:t>两组对角分别相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四边形是平行四边形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方正魏碑简体"/>
              </a:rPr>
              <a:t>（判定定理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2:4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35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