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B0B-659F-40B4-87B0-9607FEDF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9B3-F7F7-4FE9-A6DA-943384EE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16E-256D-4DE5-9846-3E9CCCBD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407-72F4-4CA0-B471-54D74E47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C61F-4D5F-4DDB-BE04-8427E931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E88D-6BC6-4DA9-9BB1-E43A7193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054B-363A-4CB0-A35F-F9BFE6CE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EAB5-9210-4C18-85DD-9D3FB907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FFD9-AEDF-4652-ACDA-7030909D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11EE-D480-4994-B583-B89E6ED4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F729-4ECA-455A-8DE7-4FB58433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964-725E-4F40-8A1F-1BB5A402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E0A9-75CE-4B7C-AA97-CEAB54D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CAEE-9C42-4C82-B867-D89F021D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6B44-19B9-4AB7-A22D-5B19531D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87B1-17C8-4E16-BF67-74593C08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1EB1-A6E2-4DBB-A31E-92268679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33C-4FA8-4BE8-8A38-9D71547C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DC4-F99F-4927-86B6-33B9DE54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317-7F0F-4E5C-BB89-E51C452E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77E-CAAA-4539-8783-9DB8E7FB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62E-19C6-464F-AF26-70F89DFF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AB9-1965-419F-A276-1B1D3AC2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8E9-2273-4B7F-A329-862E1237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CE27-07E9-47A0-B883-2F5732AC7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7F09-90B3-4706-8F8F-C8147A01D1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419184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347760" y="1413000"/>
            <a:ext cx="7608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平行线的性质课件</a:t>
            </a:r>
            <a:r>
              <a:rPr b="1" lang="en-US" sz="40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免费下载</a:t>
            </a:r>
            <a:endParaRPr b="1" lang="en-US" sz="4000" spc="1" strike="noStrike">
              <a:ln w="12600">
                <a:solidFill>
                  <a:srgbClr val="ffffff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836640" y="3789360"/>
            <a:ext cx="3519360" cy="2997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5076720" y="3900600"/>
            <a:ext cx="2880000" cy="28414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179280" y="40644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AB∥CD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+∠E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+∠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180°  B.360°  C.540°   D.72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08000" y="22766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AB∥EF∥CD,EG∥BD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中与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等的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∠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除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共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)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179280" y="5421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∥CD,∠ABE=130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E=152°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30351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90252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一张长方形纸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折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G=50°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5003640" y="2335320"/>
            <a:ext cx="3672000" cy="3109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0" y="43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8200"/>
          <p:cNvSpPr/>
          <p:nvPr/>
        </p:nvSpPr>
        <p:spPr>
          <a:xfrm>
            <a:off x="1549440" y="7048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241440" cy="2475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3095640" cy="2621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395280" y="3816360"/>
            <a:ext cx="3097080" cy="2565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4"/>
          <a:stretch/>
        </p:blipFill>
        <p:spPr>
          <a:xfrm>
            <a:off x="5616720" y="4005360"/>
            <a:ext cx="2987640" cy="24685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252360" y="42984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∥CD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探索下列四个图形中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,∠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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所得的四个关系中任选一个加以说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1301400" y="3507120"/>
            <a:ext cx="6938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                                   (2)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                                   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AF23-0003-4A10-B717-591830CE46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41_6322"/>
          <p:cNvPicPr/>
          <p:nvPr/>
        </p:nvPicPr>
        <p:blipFill>
          <a:blip r:embed="rId1"/>
          <a:stretch/>
        </p:blipFill>
        <p:spPr>
          <a:xfrm>
            <a:off x="-69840" y="0"/>
            <a:ext cx="9250200" cy="6937200"/>
          </a:xfrm>
          <a:prstGeom prst="rect">
            <a:avLst/>
          </a:prstGeom>
          <a:ln w="0">
            <a:noFill/>
          </a:ln>
        </p:spPr>
      </p:pic>
      <p:sp>
        <p:nvSpPr>
          <p:cNvPr id="258" name="WordArt 6"/>
          <p:cNvSpPr txBox="1"/>
          <p:nvPr/>
        </p:nvSpPr>
        <p:spPr>
          <a:xfrm>
            <a:off x="1619280" y="1268280"/>
            <a:ext cx="295272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再见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95280" y="40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平行线的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24000" y="30542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两条平行线被第三条直线所截，内错角相等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简单地说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直线平行，内错角相等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50920" y="4869000"/>
            <a:ext cx="89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两条平行线被第三条直线所截，同旁内角互补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简单地说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直线平行，同旁内角互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95280" y="10112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两条平行线被第三条直线所截，同位角相等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简单地说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直线平行，同位角相等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9"/>
          <p:cNvGrpSpPr/>
          <p:nvPr/>
        </p:nvGrpSpPr>
        <p:grpSpPr>
          <a:xfrm>
            <a:off x="468360" y="620640"/>
            <a:ext cx="8532720" cy="3542040"/>
            <a:chOff x="468360" y="620640"/>
            <a:chExt cx="8532720" cy="3542040"/>
          </a:xfrm>
        </p:grpSpPr>
        <p:sp>
          <p:nvSpPr>
            <p:cNvPr id="90" name="Text Box 19"/>
            <p:cNvSpPr/>
            <p:nvPr/>
          </p:nvSpPr>
          <p:spPr>
            <a:xfrm>
              <a:off x="468360" y="620640"/>
              <a:ext cx="7308720" cy="35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例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1.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如图：已知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AB∥CD,AD∥BC.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填空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）∵ 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AB∥CD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  ∴∠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1=_____(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两直线平行，内错角相等。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）∵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AD∥BC(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已知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         ∴∠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________     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（                                  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337080" y="2347920"/>
              <a:ext cx="719280" cy="1584360"/>
              <a:chOff x="6337080" y="2347920"/>
              <a:chExt cx="719280" cy="1584360"/>
            </a:xfrm>
          </p:grpSpPr>
          <p:sp>
            <p:nvSpPr>
              <p:cNvPr id="92" name="Line 21"/>
              <p:cNvSpPr/>
              <p:nvPr/>
            </p:nvSpPr>
            <p:spPr>
              <a:xfrm flipH="1">
                <a:off x="6337080" y="2347920"/>
                <a:ext cx="719280" cy="158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6337080" y="2347920"/>
                <a:ext cx="71928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840360" y="2852640"/>
              <a:ext cx="1800360" cy="360"/>
              <a:chOff x="6840360" y="2852640"/>
              <a:chExt cx="1800360" cy="360"/>
            </a:xfrm>
          </p:grpSpPr>
          <p:sp>
            <p:nvSpPr>
              <p:cNvPr id="95" name="Line 22"/>
              <p:cNvSpPr/>
              <p:nvPr/>
            </p:nvSpPr>
            <p:spPr>
              <a:xfrm>
                <a:off x="6840360" y="2852640"/>
                <a:ext cx="180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6840360" y="2852640"/>
                <a:ext cx="18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337080" y="3932280"/>
              <a:ext cx="1800360" cy="360"/>
              <a:chOff x="6337080" y="3932280"/>
              <a:chExt cx="1800360" cy="360"/>
            </a:xfrm>
          </p:grpSpPr>
          <p:sp>
            <p:nvSpPr>
              <p:cNvPr id="98" name="Line 23"/>
              <p:cNvSpPr/>
              <p:nvPr/>
            </p:nvSpPr>
            <p:spPr>
              <a:xfrm>
                <a:off x="6337080" y="3932280"/>
                <a:ext cx="180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6337080" y="3932280"/>
                <a:ext cx="18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8136000" y="2852640"/>
              <a:ext cx="504720" cy="1079640"/>
              <a:chOff x="8136000" y="2852640"/>
              <a:chExt cx="504720" cy="1079640"/>
            </a:xfrm>
          </p:grpSpPr>
          <p:sp>
            <p:nvSpPr>
              <p:cNvPr id="101" name="Line 24"/>
              <p:cNvSpPr/>
              <p:nvPr/>
            </p:nvSpPr>
            <p:spPr>
              <a:xfrm flipH="1">
                <a:off x="8136000" y="2852640"/>
                <a:ext cx="50472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8136000" y="2852640"/>
                <a:ext cx="50472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Arc 25"/>
            <p:cNvSpPr/>
            <p:nvPr/>
          </p:nvSpPr>
          <p:spPr>
            <a:xfrm>
              <a:off x="6912000" y="2708280"/>
              <a:ext cx="73080" cy="144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40360" y="2852640"/>
              <a:ext cx="1297080" cy="1079640"/>
              <a:chOff x="6840360" y="2852640"/>
              <a:chExt cx="1297080" cy="1079640"/>
            </a:xfrm>
          </p:grpSpPr>
          <p:sp>
            <p:nvSpPr>
              <p:cNvPr id="105" name="Line 26"/>
              <p:cNvSpPr/>
              <p:nvPr/>
            </p:nvSpPr>
            <p:spPr>
              <a:xfrm>
                <a:off x="6840360" y="2852640"/>
                <a:ext cx="129708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6840360" y="2852640"/>
                <a:ext cx="129708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Arc 28"/>
            <p:cNvSpPr/>
            <p:nvPr/>
          </p:nvSpPr>
          <p:spPr>
            <a:xfrm flipV="1">
              <a:off x="7056360" y="2852640"/>
              <a:ext cx="7308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9"/>
            <p:cNvSpPr/>
            <p:nvPr/>
          </p:nvSpPr>
          <p:spPr>
            <a:xfrm>
              <a:off x="7200720" y="907920"/>
              <a:ext cx="4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7416720" y="1123920"/>
              <a:ext cx="4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1"/>
            <p:cNvSpPr/>
            <p:nvPr/>
          </p:nvSpPr>
          <p:spPr>
            <a:xfrm>
              <a:off x="7056360" y="27795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2"/>
            <p:cNvSpPr/>
            <p:nvPr/>
          </p:nvSpPr>
          <p:spPr>
            <a:xfrm>
              <a:off x="7848720" y="1555560"/>
              <a:ext cx="431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8064360" y="1771560"/>
              <a:ext cx="4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8496360" y="2203200"/>
              <a:ext cx="431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42"/>
            <p:cNvSpPr/>
            <p:nvPr/>
          </p:nvSpPr>
          <p:spPr>
            <a:xfrm>
              <a:off x="8569440" y="2492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8137440" y="35719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5976720" y="362880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6"/>
            <p:cNvSpPr/>
            <p:nvPr/>
          </p:nvSpPr>
          <p:spPr>
            <a:xfrm>
              <a:off x="6480000" y="25635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7"/>
            <p:cNvSpPr/>
            <p:nvPr/>
          </p:nvSpPr>
          <p:spPr>
            <a:xfrm>
              <a:off x="6840360" y="2466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48"/>
          <p:cNvSpPr/>
          <p:nvPr/>
        </p:nvSpPr>
        <p:spPr>
          <a:xfrm>
            <a:off x="1836720" y="1901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0"/>
          <p:cNvSpPr/>
          <p:nvPr/>
        </p:nvSpPr>
        <p:spPr>
          <a:xfrm>
            <a:off x="2700360" y="3141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1"/>
          <p:cNvSpPr/>
          <p:nvPr/>
        </p:nvSpPr>
        <p:spPr>
          <a:xfrm>
            <a:off x="1042920" y="36291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两直线平行，内错角相等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11280" y="620640"/>
            <a:ext cx="43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如图：已知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∥CD,AD∥BC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判断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是否相等，并说明理由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68360" y="3429000"/>
            <a:ext cx="46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如图已知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＋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80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平分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C. ∠CBD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相等吗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请说明理由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0"/>
          <p:cNvGrpSpPr/>
          <p:nvPr/>
        </p:nvGrpSpPr>
        <p:grpSpPr>
          <a:xfrm>
            <a:off x="5581800" y="3284640"/>
            <a:ext cx="2950920" cy="2393640"/>
            <a:chOff x="5581800" y="3284640"/>
            <a:chExt cx="2950920" cy="2393640"/>
          </a:xfrm>
        </p:grpSpPr>
        <p:grpSp>
          <p:nvGrpSpPr>
            <p:cNvPr id="125" name=""/>
            <p:cNvGrpSpPr/>
            <p:nvPr/>
          </p:nvGrpSpPr>
          <p:grpSpPr>
            <a:xfrm>
              <a:off x="6372360" y="3716280"/>
              <a:ext cx="792000" cy="1541520"/>
              <a:chOff x="6372360" y="3716280"/>
              <a:chExt cx="792000" cy="1541520"/>
            </a:xfrm>
          </p:grpSpPr>
          <p:sp>
            <p:nvSpPr>
              <p:cNvPr id="126" name="Line 11"/>
              <p:cNvSpPr/>
              <p:nvPr/>
            </p:nvSpPr>
            <p:spPr>
              <a:xfrm flipH="1">
                <a:off x="6372360" y="3716280"/>
                <a:ext cx="792000" cy="154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6372360" y="3716280"/>
                <a:ext cx="792000" cy="15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372360" y="5229360"/>
              <a:ext cx="1728720" cy="360"/>
              <a:chOff x="6372360" y="5229360"/>
              <a:chExt cx="1728720" cy="360"/>
            </a:xfrm>
          </p:grpSpPr>
          <p:sp>
            <p:nvSpPr>
              <p:cNvPr id="129" name="Line 12"/>
              <p:cNvSpPr/>
              <p:nvPr/>
            </p:nvSpPr>
            <p:spPr>
              <a:xfrm>
                <a:off x="6372360" y="5229360"/>
                <a:ext cx="172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6372360" y="522936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164360" y="3716280"/>
              <a:ext cx="936720" cy="1541520"/>
              <a:chOff x="7164360" y="3716280"/>
              <a:chExt cx="936720" cy="1541520"/>
            </a:xfrm>
          </p:grpSpPr>
          <p:sp>
            <p:nvSpPr>
              <p:cNvPr id="132" name="Line 13"/>
              <p:cNvSpPr/>
              <p:nvPr/>
            </p:nvSpPr>
            <p:spPr>
              <a:xfrm>
                <a:off x="7164360" y="3716280"/>
                <a:ext cx="936720" cy="154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7164360" y="3716280"/>
                <a:ext cx="936720" cy="15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581800" y="3716280"/>
              <a:ext cx="1582560" cy="360"/>
              <a:chOff x="5581800" y="3716280"/>
              <a:chExt cx="1582560" cy="360"/>
            </a:xfrm>
          </p:grpSpPr>
          <p:sp>
            <p:nvSpPr>
              <p:cNvPr id="135" name="Line 14"/>
              <p:cNvSpPr/>
              <p:nvPr/>
            </p:nvSpPr>
            <p:spPr>
              <a:xfrm>
                <a:off x="5581800" y="3716280"/>
                <a:ext cx="158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5581800" y="3716280"/>
                <a:ext cx="158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8101080" y="5084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5869080" y="5157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2"/>
            <p:cNvSpPr/>
            <p:nvPr/>
          </p:nvSpPr>
          <p:spPr>
            <a:xfrm>
              <a:off x="5581800" y="3284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3"/>
            <p:cNvSpPr/>
            <p:nvPr/>
          </p:nvSpPr>
          <p:spPr>
            <a:xfrm>
              <a:off x="6948360" y="3284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9"/>
          <p:cNvGrpSpPr/>
          <p:nvPr/>
        </p:nvGrpSpPr>
        <p:grpSpPr>
          <a:xfrm>
            <a:off x="5580000" y="549360"/>
            <a:ext cx="2376720" cy="2104920"/>
            <a:chOff x="5580000" y="549360"/>
            <a:chExt cx="2376720" cy="2104920"/>
          </a:xfrm>
        </p:grpSpPr>
        <p:grpSp>
          <p:nvGrpSpPr>
            <p:cNvPr id="142" name=""/>
            <p:cNvGrpSpPr/>
            <p:nvPr/>
          </p:nvGrpSpPr>
          <p:grpSpPr>
            <a:xfrm>
              <a:off x="5651640" y="1125360"/>
              <a:ext cx="2305080" cy="360"/>
              <a:chOff x="5651640" y="1125360"/>
              <a:chExt cx="2305080" cy="360"/>
            </a:xfrm>
          </p:grpSpPr>
          <p:sp>
            <p:nvSpPr>
              <p:cNvPr id="143" name="Line 7"/>
              <p:cNvSpPr/>
              <p:nvPr/>
            </p:nvSpPr>
            <p:spPr>
              <a:xfrm>
                <a:off x="5651640" y="1125360"/>
                <a:ext cx="23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5651640" y="1125360"/>
                <a:ext cx="230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580000" y="2205000"/>
              <a:ext cx="2376720" cy="360"/>
              <a:chOff x="5580000" y="2205000"/>
              <a:chExt cx="2376720" cy="360"/>
            </a:xfrm>
          </p:grpSpPr>
          <p:sp>
            <p:nvSpPr>
              <p:cNvPr id="146" name="Line 8"/>
              <p:cNvSpPr/>
              <p:nvPr/>
            </p:nvSpPr>
            <p:spPr>
              <a:xfrm>
                <a:off x="5580000" y="2205000"/>
                <a:ext cx="237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5580000" y="2205000"/>
                <a:ext cx="237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796000" y="549360"/>
              <a:ext cx="936720" cy="2016000"/>
              <a:chOff x="5796000" y="549360"/>
              <a:chExt cx="936720" cy="2016000"/>
            </a:xfrm>
          </p:grpSpPr>
          <p:sp>
            <p:nvSpPr>
              <p:cNvPr id="149" name="Line 9"/>
              <p:cNvSpPr/>
              <p:nvPr/>
            </p:nvSpPr>
            <p:spPr>
              <a:xfrm flipH="1">
                <a:off x="5796000" y="549360"/>
                <a:ext cx="936720" cy="20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5796000" y="549360"/>
                <a:ext cx="936720" cy="20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875280" y="620640"/>
              <a:ext cx="936720" cy="2016360"/>
              <a:chOff x="6875280" y="620640"/>
              <a:chExt cx="936720" cy="2016360"/>
            </a:xfrm>
          </p:grpSpPr>
          <p:sp>
            <p:nvSpPr>
              <p:cNvPr id="152" name="Line 10"/>
              <p:cNvSpPr/>
              <p:nvPr/>
            </p:nvSpPr>
            <p:spPr>
              <a:xfrm flipH="1">
                <a:off x="6875280" y="620640"/>
                <a:ext cx="936360" cy="201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6875640" y="620640"/>
                <a:ext cx="936360" cy="201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17"/>
            <p:cNvSpPr/>
            <p:nvPr/>
          </p:nvSpPr>
          <p:spPr>
            <a:xfrm>
              <a:off x="7524720" y="1052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6588000" y="6922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6443640" y="119700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1"/>
            <p:cNvSpPr/>
            <p:nvPr/>
          </p:nvSpPr>
          <p:spPr>
            <a:xfrm>
              <a:off x="6732720" y="1628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5867280" y="21337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5"/>
            <p:cNvSpPr/>
            <p:nvPr/>
          </p:nvSpPr>
          <p:spPr>
            <a:xfrm>
              <a:off x="7020000" y="2133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rc 26"/>
            <p:cNvSpPr/>
            <p:nvPr/>
          </p:nvSpPr>
          <p:spPr>
            <a:xfrm flipV="1">
              <a:off x="6372360" y="1125360"/>
              <a:ext cx="36036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rc 27"/>
            <p:cNvSpPr/>
            <p:nvPr/>
          </p:nvSpPr>
          <p:spPr>
            <a:xfrm flipH="1">
              <a:off x="6803280" y="1916280"/>
              <a:ext cx="360360" cy="288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116000" y="1197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如图：已知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＝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，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65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，求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的度数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4"/>
          <p:cNvGrpSpPr/>
          <p:nvPr/>
        </p:nvGrpSpPr>
        <p:grpSpPr>
          <a:xfrm>
            <a:off x="2556000" y="2781360"/>
            <a:ext cx="3671280" cy="3164040"/>
            <a:chOff x="2556000" y="2781360"/>
            <a:chExt cx="3671280" cy="3164040"/>
          </a:xfrm>
        </p:grpSpPr>
        <p:grpSp>
          <p:nvGrpSpPr>
            <p:cNvPr id="164" name=""/>
            <p:cNvGrpSpPr/>
            <p:nvPr/>
          </p:nvGrpSpPr>
          <p:grpSpPr>
            <a:xfrm>
              <a:off x="2817360" y="3535560"/>
              <a:ext cx="2753640" cy="360"/>
              <a:chOff x="2817360" y="3535560"/>
              <a:chExt cx="2753640" cy="360"/>
            </a:xfrm>
          </p:grpSpPr>
          <p:sp>
            <p:nvSpPr>
              <p:cNvPr id="165" name="Line 5"/>
              <p:cNvSpPr/>
              <p:nvPr/>
            </p:nvSpPr>
            <p:spPr>
              <a:xfrm>
                <a:off x="2817360" y="3535560"/>
                <a:ext cx="275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2817360" y="3535560"/>
                <a:ext cx="27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56000" y="4982400"/>
              <a:ext cx="3278520" cy="360"/>
              <a:chOff x="2556000" y="4982400"/>
              <a:chExt cx="3278520" cy="360"/>
            </a:xfrm>
          </p:grpSpPr>
          <p:sp>
            <p:nvSpPr>
              <p:cNvPr id="168" name="Line 6"/>
              <p:cNvSpPr/>
              <p:nvPr/>
            </p:nvSpPr>
            <p:spPr>
              <a:xfrm>
                <a:off x="2556000" y="4982400"/>
                <a:ext cx="327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2556000" y="4982400"/>
                <a:ext cx="327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687040" y="2843280"/>
              <a:ext cx="1836000" cy="2894400"/>
              <a:chOff x="2687040" y="2843280"/>
              <a:chExt cx="1836000" cy="2894400"/>
            </a:xfrm>
          </p:grpSpPr>
          <p:sp>
            <p:nvSpPr>
              <p:cNvPr id="171" name="Line 7"/>
              <p:cNvSpPr/>
              <p:nvPr/>
            </p:nvSpPr>
            <p:spPr>
              <a:xfrm flipH="1">
                <a:off x="2687040" y="2843280"/>
                <a:ext cx="1835640" cy="289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2687400" y="2843280"/>
                <a:ext cx="1835640" cy="289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605040" y="2781360"/>
              <a:ext cx="1900800" cy="2956680"/>
              <a:chOff x="3605040" y="2781360"/>
              <a:chExt cx="1900800" cy="2956680"/>
            </a:xfrm>
          </p:grpSpPr>
          <p:sp>
            <p:nvSpPr>
              <p:cNvPr id="174" name="Line 8"/>
              <p:cNvSpPr/>
              <p:nvPr/>
            </p:nvSpPr>
            <p:spPr>
              <a:xfrm>
                <a:off x="3605040" y="2781360"/>
                <a:ext cx="1900800" cy="295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605040" y="2781360"/>
                <a:ext cx="1900800" cy="295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Text Box 9"/>
            <p:cNvSpPr/>
            <p:nvPr/>
          </p:nvSpPr>
          <p:spPr>
            <a:xfrm>
              <a:off x="5636520" y="4668840"/>
              <a:ext cx="59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374800" y="3284640"/>
              <a:ext cx="5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5244840" y="5424840"/>
              <a:ext cx="5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2"/>
            <p:cNvSpPr/>
            <p:nvPr/>
          </p:nvSpPr>
          <p:spPr>
            <a:xfrm>
              <a:off x="2752200" y="5361120"/>
              <a:ext cx="59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3342240" y="4592520"/>
              <a:ext cx="39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3540240" y="3473280"/>
              <a:ext cx="5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4981320" y="4478760"/>
              <a:ext cx="5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4260240" y="3473280"/>
              <a:ext cx="45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rc 19"/>
            <p:cNvSpPr/>
            <p:nvPr/>
          </p:nvSpPr>
          <p:spPr>
            <a:xfrm flipH="1" flipV="1">
              <a:off x="3866040" y="3534840"/>
              <a:ext cx="65160" cy="1882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rc 21"/>
            <p:cNvSpPr/>
            <p:nvPr/>
          </p:nvSpPr>
          <p:spPr>
            <a:xfrm flipV="1">
              <a:off x="4195080" y="3534840"/>
              <a:ext cx="131760" cy="1882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rc 22"/>
            <p:cNvSpPr/>
            <p:nvPr/>
          </p:nvSpPr>
          <p:spPr>
            <a:xfrm>
              <a:off x="3277080" y="4793400"/>
              <a:ext cx="131400" cy="1886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rc 23"/>
            <p:cNvSpPr/>
            <p:nvPr/>
          </p:nvSpPr>
          <p:spPr>
            <a:xfrm>
              <a:off x="4917960" y="4793400"/>
              <a:ext cx="326520" cy="1886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3"/>
          <p:cNvGrpSpPr/>
          <p:nvPr/>
        </p:nvGrpSpPr>
        <p:grpSpPr>
          <a:xfrm>
            <a:off x="1763640" y="620640"/>
            <a:ext cx="6918120" cy="3508200"/>
            <a:chOff x="1763640" y="620640"/>
            <a:chExt cx="6918120" cy="3508200"/>
          </a:xfrm>
        </p:grpSpPr>
        <p:sp>
          <p:nvSpPr>
            <p:cNvPr id="189" name="Text Box 4"/>
            <p:cNvSpPr/>
            <p:nvPr/>
          </p:nvSpPr>
          <p:spPr>
            <a:xfrm>
              <a:off x="1763640" y="620640"/>
              <a:ext cx="54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ff"/>
                  </a:solidFill>
                  <a:latin typeface="Arial"/>
                </a:rPr>
                <a:t>例</a:t>
              </a:r>
              <a:r>
                <a:rPr b="1" lang="en-US" sz="3600" spc="-1" strike="noStrike">
                  <a:solidFill>
                    <a:srgbClr val="0066ff"/>
                  </a:solidFill>
                  <a:latin typeface="Arial"/>
                </a:rPr>
                <a:t>5.</a:t>
              </a:r>
              <a:r>
                <a:rPr b="1" lang="zh-CN" sz="3600" spc="-1" strike="noStrike">
                  <a:solidFill>
                    <a:srgbClr val="0066ff"/>
                  </a:solidFill>
                  <a:latin typeface="Arial"/>
                </a:rPr>
                <a:t>如图</a:t>
              </a:r>
              <a:r>
                <a:rPr b="1" lang="en-US" sz="3600" spc="-1" strike="noStrike">
                  <a:solidFill>
                    <a:srgbClr val="0066ff"/>
                  </a:solidFill>
                  <a:latin typeface="Arial"/>
                </a:rPr>
                <a:t>:AD∥BC, ∠A=∠C.</a:t>
              </a:r>
              <a:r>
                <a:rPr b="1" lang="zh-CN" sz="3600" spc="-1" strike="noStrike">
                  <a:solidFill>
                    <a:srgbClr val="0066ff"/>
                  </a:solidFill>
                  <a:latin typeface="Arial"/>
                </a:rPr>
                <a:t>试说明</a:t>
              </a:r>
              <a:r>
                <a:rPr b="1" lang="en-US" sz="3600" spc="-1" strike="noStrike">
                  <a:solidFill>
                    <a:srgbClr val="0066ff"/>
                  </a:solidFill>
                  <a:latin typeface="Arial"/>
                </a:rPr>
                <a:t>AB∥D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5"/>
            <p:cNvGrpSpPr/>
            <p:nvPr/>
          </p:nvGrpSpPr>
          <p:grpSpPr>
            <a:xfrm>
              <a:off x="6083280" y="1916280"/>
              <a:ext cx="2598480" cy="2212560"/>
              <a:chOff x="6083280" y="1916280"/>
              <a:chExt cx="2598480" cy="2212560"/>
            </a:xfrm>
          </p:grpSpPr>
          <p:grpSp>
            <p:nvGrpSpPr>
              <p:cNvPr id="191" name="Group 6"/>
              <p:cNvGrpSpPr/>
              <p:nvPr/>
            </p:nvGrpSpPr>
            <p:grpSpPr>
              <a:xfrm>
                <a:off x="6300720" y="2248920"/>
                <a:ext cx="2016000" cy="1511280"/>
                <a:chOff x="6300720" y="2248920"/>
                <a:chExt cx="2016000" cy="1511280"/>
              </a:xfrm>
            </p:grpSpPr>
            <p:sp>
              <p:nvSpPr>
                <p:cNvPr id="192" name="Freeform 7"/>
                <p:cNvSpPr/>
                <p:nvPr/>
              </p:nvSpPr>
              <p:spPr>
                <a:xfrm>
                  <a:off x="6300720" y="2249280"/>
                  <a:ext cx="2016000" cy="1510920"/>
                </a:xfrm>
                <a:custGeom>
                  <a:avLst/>
                  <a:gdLst/>
                  <a:ahLst/>
                  <a:rect l="l" t="t" r="r" b="b"/>
                  <a:pathLst>
                    <a:path w="1270" h="952">
                      <a:moveTo>
                        <a:pt x="408" y="0"/>
                      </a:moveTo>
                      <a:lnTo>
                        <a:pt x="1270" y="0"/>
                      </a:lnTo>
                      <a:lnTo>
                        <a:pt x="0" y="952"/>
                      </a:lnTo>
                      <a:lnTo>
                        <a:pt x="1134" y="952"/>
                      </a:lnTo>
                      <a:lnTo>
                        <a:pt x="771" y="0"/>
                      </a:lnTo>
                      <a:lnTo>
                        <a:pt x="408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6954840" y="2248920"/>
                  <a:ext cx="576000" cy="1510920"/>
                  <a:chOff x="6954840" y="2248920"/>
                  <a:chExt cx="576000" cy="1510920"/>
                </a:xfrm>
              </p:grpSpPr>
              <p:sp>
                <p:nvSpPr>
                  <p:cNvPr id="194" name="Line 8"/>
                  <p:cNvSpPr/>
                  <p:nvPr/>
                </p:nvSpPr>
                <p:spPr>
                  <a:xfrm flipH="1" flipV="1">
                    <a:off x="6954840" y="2248920"/>
                    <a:ext cx="576000" cy="1510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 txBox="1"/>
                  <p:nvPr/>
                </p:nvSpPr>
                <p:spPr>
                  <a:xfrm rot="10800000">
                    <a:off x="6954840" y="2248920"/>
                    <a:ext cx="576000" cy="151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6" name="Text Box 9"/>
              <p:cNvSpPr/>
              <p:nvPr/>
            </p:nvSpPr>
            <p:spPr>
              <a:xfrm>
                <a:off x="6716520" y="19162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10"/>
              <p:cNvSpPr/>
              <p:nvPr/>
            </p:nvSpPr>
            <p:spPr>
              <a:xfrm>
                <a:off x="7380000" y="37605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11"/>
              <p:cNvSpPr/>
              <p:nvPr/>
            </p:nvSpPr>
            <p:spPr>
              <a:xfrm>
                <a:off x="8127720" y="36892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2"/>
              <p:cNvSpPr/>
              <p:nvPr/>
            </p:nvSpPr>
            <p:spPr>
              <a:xfrm>
                <a:off x="6083280" y="3689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13"/>
              <p:cNvSpPr/>
              <p:nvPr/>
            </p:nvSpPr>
            <p:spPr>
              <a:xfrm>
                <a:off x="8250120" y="1933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4"/>
              <p:cNvSpPr/>
              <p:nvPr/>
            </p:nvSpPr>
            <p:spPr>
              <a:xfrm>
                <a:off x="7380000" y="19162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5"/>
          <p:cNvSpPr/>
          <p:nvPr/>
        </p:nvSpPr>
        <p:spPr>
          <a:xfrm>
            <a:off x="1073160" y="1989000"/>
            <a:ext cx="55450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∵AD∥BC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已知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=∠CDE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两直线平行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内错角相等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又∵ ∠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=∠C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已知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∴ ∠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=∠CDE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等量代换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B∥DC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同位角相等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两直线平行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/>
          <p:cNvSpPr/>
          <p:nvPr/>
        </p:nvSpPr>
        <p:spPr>
          <a:xfrm>
            <a:off x="1692360" y="189000"/>
            <a:ext cx="2376360" cy="792000"/>
          </a:xfrm>
          <a:prstGeom prst="flowChartPredefinedProcess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做一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2987640" y="129852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,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∥CD, ∠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4" descr="428"/>
          <p:cNvPicPr/>
          <p:nvPr/>
        </p:nvPicPr>
        <p:blipFill>
          <a:blip r:embed="rId1"/>
          <a:stretch/>
        </p:blipFill>
        <p:spPr>
          <a:xfrm>
            <a:off x="0" y="0"/>
            <a:ext cx="1547640" cy="154764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8"/>
          <p:cNvGrpSpPr/>
          <p:nvPr/>
        </p:nvGrpSpPr>
        <p:grpSpPr>
          <a:xfrm>
            <a:off x="179280" y="1700280"/>
            <a:ext cx="2519280" cy="2160360"/>
            <a:chOff x="179280" y="1700280"/>
            <a:chExt cx="2519280" cy="2160360"/>
          </a:xfrm>
        </p:grpSpPr>
        <p:grpSp>
          <p:nvGrpSpPr>
            <p:cNvPr id="207" name="Group 24"/>
            <p:cNvGrpSpPr/>
            <p:nvPr/>
          </p:nvGrpSpPr>
          <p:grpSpPr>
            <a:xfrm>
              <a:off x="179280" y="1700280"/>
              <a:ext cx="2519280" cy="2160360"/>
              <a:chOff x="179280" y="1700280"/>
              <a:chExt cx="2519280" cy="216036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20120" y="2745720"/>
                <a:ext cx="1798560" cy="360"/>
                <a:chOff x="420120" y="2745720"/>
                <a:chExt cx="1798560" cy="360"/>
              </a:xfrm>
            </p:grpSpPr>
            <p:sp>
              <p:nvSpPr>
                <p:cNvPr id="209" name="Line 5"/>
                <p:cNvSpPr/>
                <p:nvPr/>
              </p:nvSpPr>
              <p:spPr>
                <a:xfrm>
                  <a:off x="420120" y="2745720"/>
                  <a:ext cx="1798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>
                  <a:off x="420120" y="2745720"/>
                  <a:ext cx="179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99400" y="2091960"/>
                <a:ext cx="419040" cy="1372320"/>
                <a:chOff x="599400" y="2091960"/>
                <a:chExt cx="419040" cy="1372320"/>
              </a:xfrm>
            </p:grpSpPr>
            <p:sp>
              <p:nvSpPr>
                <p:cNvPr id="212" name="Line 6"/>
                <p:cNvSpPr/>
                <p:nvPr/>
              </p:nvSpPr>
              <p:spPr>
                <a:xfrm flipH="1">
                  <a:off x="599400" y="2091960"/>
                  <a:ext cx="418680" cy="137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>
                  <a:off x="599760" y="2091960"/>
                  <a:ext cx="418680" cy="13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439640" y="2091960"/>
                <a:ext cx="419040" cy="1436760"/>
                <a:chOff x="1439640" y="2091960"/>
                <a:chExt cx="419040" cy="1436760"/>
              </a:xfrm>
            </p:grpSpPr>
            <p:sp>
              <p:nvSpPr>
                <p:cNvPr id="215" name="Line 7"/>
                <p:cNvSpPr/>
                <p:nvPr/>
              </p:nvSpPr>
              <p:spPr>
                <a:xfrm flipH="1">
                  <a:off x="1439640" y="2091960"/>
                  <a:ext cx="419040" cy="14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 txBox="1"/>
                <p:nvPr/>
              </p:nvSpPr>
              <p:spPr>
                <a:xfrm>
                  <a:off x="1439640" y="2091960"/>
                  <a:ext cx="419040" cy="143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Arc 8"/>
              <p:cNvSpPr/>
              <p:nvPr/>
            </p:nvSpPr>
            <p:spPr>
              <a:xfrm flipH="1">
                <a:off x="1558080" y="2549880"/>
                <a:ext cx="179640" cy="1958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rc 13"/>
              <p:cNvSpPr/>
              <p:nvPr/>
            </p:nvSpPr>
            <p:spPr>
              <a:xfrm flipH="1" flipV="1">
                <a:off x="1438920" y="2745000"/>
                <a:ext cx="179640" cy="19548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rc 14"/>
              <p:cNvSpPr/>
              <p:nvPr/>
            </p:nvSpPr>
            <p:spPr>
              <a:xfrm flipV="1">
                <a:off x="779400" y="2745000"/>
                <a:ext cx="239040" cy="19548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5"/>
              <p:cNvSpPr/>
              <p:nvPr/>
            </p:nvSpPr>
            <p:spPr>
              <a:xfrm>
                <a:off x="898560" y="1700280"/>
                <a:ext cx="41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16"/>
              <p:cNvSpPr/>
              <p:nvPr/>
            </p:nvSpPr>
            <p:spPr>
              <a:xfrm>
                <a:off x="358920" y="3400920"/>
                <a:ext cx="4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679040" y="1700280"/>
                <a:ext cx="47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8"/>
              <p:cNvSpPr/>
              <p:nvPr/>
            </p:nvSpPr>
            <p:spPr>
              <a:xfrm>
                <a:off x="1319040" y="3399840"/>
                <a:ext cx="29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19"/>
              <p:cNvSpPr/>
              <p:nvPr/>
            </p:nvSpPr>
            <p:spPr>
              <a:xfrm>
                <a:off x="179280" y="2549880"/>
                <a:ext cx="29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20"/>
              <p:cNvSpPr/>
              <p:nvPr/>
            </p:nvSpPr>
            <p:spPr>
              <a:xfrm>
                <a:off x="2218680" y="2614680"/>
                <a:ext cx="47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21"/>
              <p:cNvSpPr/>
              <p:nvPr/>
            </p:nvSpPr>
            <p:spPr>
              <a:xfrm>
                <a:off x="779400" y="2876760"/>
                <a:ext cx="29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22"/>
              <p:cNvSpPr/>
              <p:nvPr/>
            </p:nvSpPr>
            <p:spPr>
              <a:xfrm>
                <a:off x="1378800" y="2289240"/>
                <a:ext cx="41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259640" y="2745720"/>
                <a:ext cx="29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Arc 36"/>
            <p:cNvSpPr/>
            <p:nvPr/>
          </p:nvSpPr>
          <p:spPr>
            <a:xfrm flipV="1">
              <a:off x="1647720" y="2737800"/>
              <a:ext cx="216000" cy="2156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7"/>
            <p:cNvSpPr/>
            <p:nvPr/>
          </p:nvSpPr>
          <p:spPr>
            <a:xfrm>
              <a:off x="1692360" y="27957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39"/>
          <p:cNvSpPr/>
          <p:nvPr/>
        </p:nvSpPr>
        <p:spPr>
          <a:xfrm>
            <a:off x="1979640" y="3090960"/>
            <a:ext cx="7020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解：∵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B∥C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∠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20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∴ ∠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4= ∠1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20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∠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= ∠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20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∠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=180°- ∠1= 180°-120°=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8200"/>
          <p:cNvSpPr/>
          <p:nvPr/>
        </p:nvSpPr>
        <p:spPr>
          <a:xfrm>
            <a:off x="2819520" y="98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179280" y="960840"/>
            <a:ext cx="892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∥BC,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平分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B=40°,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两条平行线被第三条直线所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一组同位角的平分线互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垂直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行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合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936720" y="4029120"/>
            <a:ext cx="3203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39640" y="44676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CD∥AB,O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⊥OE,∠D=50°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35°     B.30°     C.25°     D.2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3995640" y="3328920"/>
            <a:ext cx="46436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4:3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41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