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7.gif" ContentType="image/gif"/>
  <Override PartName="/ppt/media/image5.jpeg" ContentType="image/jpeg"/>
  <Override PartName="/ppt/media/image6.gif" ContentType="image/gif"/>
  <Override PartName="/ppt/media/image9.png" ContentType="image/png"/>
  <Override PartName="/ppt/media/image4.jpeg" ContentType="image/jpeg"/>
  <Override PartName="/ppt/media/image3.jpeg" ContentType="image/jpeg"/>
  <Override PartName="/ppt/media/projctor.wav" ContentType="audio/x-wav"/>
  <Override PartName="/ppt/media/type.wav" ContentType="audio/x-wav"/>
  <Override PartName="/ppt/media/image17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9.gif" ContentType="image/gif"/>
  <Override PartName="/ppt/media/image1.jpeg" ContentType="image/jpeg"/>
  <Override PartName="/ppt/media/image10.png" ContentType="image/png"/>
  <Override PartName="/ppt/media/image18.jpeg" ContentType="image/jpeg"/>
  <Override PartName="/ppt/media/image12.png" ContentType="image/png"/>
  <Override PartName="/ppt/media/image15.jpeg" ContentType="image/jpeg"/>
  <Override PartName="/ppt/media/image20.gif" ContentType="image/gif"/>
  <Override PartName="/ppt/media/image13.jpeg" ContentType="image/jpeg"/>
  <Override PartName="/ppt/media/image11.png" ContentType="image/png"/>
  <Override PartName="/ppt/media/image2.jpeg" ContentType="image/jpeg"/>
  <Override PartName="/ppt/media/image16.png" ContentType="image/png"/>
  <Override PartName="/ppt/media/chimes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26B-E80D-4422-BCDC-520C8B45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800-E0B1-468C-BC51-F34B341E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CF2-1A69-4D16-A9DF-228A71A2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B60-A02C-4EE9-B15A-9AE42107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C472-DA58-43F6-BF80-84367D55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F895-BC53-46A7-B865-330EA5DC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F5F3-DCA7-4C7D-928E-D9471763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C985-ECA5-4497-9A71-8A06AE23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5A62-2B79-42C6-A6DF-286D6C70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6A5E-1B52-434C-870A-A3D30CE7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6E77-4A2C-4D88-9C57-426049A7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D06-05C3-46BC-94CC-E24EB448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96BE-4FDA-4A14-A16F-236B361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6835-9923-463D-8A4B-BDAE9B9B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BC33-7FD3-46D3-9FC5-B275BA72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4EDE-246D-488A-BB63-B1463AA5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7B72-339F-45AA-93EB-FE43D37F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05D9-3F6E-4200-85E2-8B8BB277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545B-247E-4A00-B0AC-CDDE7971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32FA-E771-4D9C-82D7-4F6AFB08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330E-BAC5-4201-BED4-614B14B1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28D6B-9B50-4252-A66F-CE5EEAEA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EB7-7330-4FD6-8360-7D848B67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EDBA-012B-4B76-9150-EF043883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F929-6F0C-426B-904D-05C22A43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B442-EAF2-4B12-887A-4620971D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B1BE-A18D-4C6F-9C28-24279AA4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0520-BD84-4179-A427-7BD577B2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9F2E-EC80-4DE3-87B0-2245A1EC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598F7-EE52-4156-ACC9-38AD3E30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26B-D740-4AFF-94A6-00ED8C3C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913-A79D-459C-8102-3FC63591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D97-D702-425A-AD7D-F22D7A7D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EAF-03A2-49A4-B06F-6537ACC7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8E5-8946-43F6-A41C-C3F0C28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10F-0E54-4339-B57C-2CA5C285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9B62-5E46-47A8-8FD7-751238A0E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28AF-0FB2-4069-8B55-E666B15DAA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FEB4-4193-499F-A3D4-C370E0390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ports.sina.com.cn/o/p/2004-10-09/06161184772.shtml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01china.net/html/gifjp/gifrw/20050112153952.htm" TargetMode="Externa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1755720" y="1197000"/>
            <a:ext cx="5985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平行线课件</a:t>
            </a:r>
            <a:r>
              <a:rPr b="1" lang="en-US" sz="4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826920" y="3213000"/>
            <a:ext cx="62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在同一平面内，两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重合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的直线的位置关系只有两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a020c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相交或平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7"/>
          <p:cNvGrpSpPr/>
          <p:nvPr/>
        </p:nvGrpSpPr>
        <p:grpSpPr>
          <a:xfrm>
            <a:off x="468360" y="1268280"/>
            <a:ext cx="5356800" cy="2102760"/>
            <a:chOff x="468360" y="1268280"/>
            <a:chExt cx="5356800" cy="2102760"/>
          </a:xfrm>
        </p:grpSpPr>
        <p:grpSp>
          <p:nvGrpSpPr>
            <p:cNvPr id="284" name="Group 8"/>
            <p:cNvGrpSpPr/>
            <p:nvPr/>
          </p:nvGrpSpPr>
          <p:grpSpPr>
            <a:xfrm>
              <a:off x="468360" y="1268280"/>
              <a:ext cx="1631880" cy="1657080"/>
              <a:chOff x="468360" y="1268280"/>
              <a:chExt cx="1631880" cy="1657080"/>
            </a:xfrm>
          </p:grpSpPr>
          <p:pic>
            <p:nvPicPr>
              <p:cNvPr id="285" name="Picture 9" descr="Q_011"/>
              <p:cNvPicPr/>
              <p:nvPr/>
            </p:nvPicPr>
            <p:blipFill>
              <a:blip r:embed="rId1"/>
              <a:stretch/>
            </p:blipFill>
            <p:spPr>
              <a:xfrm>
                <a:off x="1560600" y="1268280"/>
                <a:ext cx="539640" cy="55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Picture 10" descr="米老鼠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618200"/>
                <a:ext cx="1344600" cy="1307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7" name="Text Box 11"/>
            <p:cNvSpPr/>
            <p:nvPr/>
          </p:nvSpPr>
          <p:spPr>
            <a:xfrm>
              <a:off x="4150800" y="1553040"/>
              <a:ext cx="167436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c0066"/>
                  </a:solidFill>
                  <a:latin typeface="Arial"/>
                  <a:ea typeface="华文行楷"/>
                </a:rPr>
                <a:t>在同一平面内，两条直线有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c0066"/>
                  </a:solidFill>
                  <a:latin typeface="Arial"/>
                  <a:ea typeface="华文行楷"/>
                </a:rPr>
                <a:t>种位置关系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596960" y="609480"/>
            <a:ext cx="599796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如图所示的长方体后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用符号表示下列两棱的位置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在的直线是两条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交的直线，他们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填“是”或“不是”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此可知，在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，两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相交的直线才能叫做平行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59461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354480" y="161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3368160" y="198108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5874840" y="157644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4958280" y="3672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一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8"/>
          <p:cNvGrpSpPr/>
          <p:nvPr/>
        </p:nvGrpSpPr>
        <p:grpSpPr>
          <a:xfrm>
            <a:off x="3511440" y="4584600"/>
            <a:ext cx="3174480" cy="2122920"/>
            <a:chOff x="3511440" y="4584600"/>
            <a:chExt cx="3174480" cy="2122920"/>
          </a:xfrm>
        </p:grpSpPr>
        <p:grpSp>
          <p:nvGrpSpPr>
            <p:cNvPr id="295" name=""/>
            <p:cNvGrpSpPr/>
            <p:nvPr/>
          </p:nvGrpSpPr>
          <p:grpSpPr>
            <a:xfrm>
              <a:off x="6232320" y="4952880"/>
              <a:ext cx="360" cy="838440"/>
              <a:chOff x="6232320" y="4952880"/>
              <a:chExt cx="360" cy="838440"/>
            </a:xfrm>
          </p:grpSpPr>
          <p:sp>
            <p:nvSpPr>
              <p:cNvPr id="296" name="Line 9"/>
              <p:cNvSpPr/>
              <p:nvPr/>
            </p:nvSpPr>
            <p:spPr>
              <a:xfrm>
                <a:off x="6232320" y="4952880"/>
                <a:ext cx="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6232320" y="4952880"/>
                <a:ext cx="360" cy="83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5775120" y="5562720"/>
              <a:ext cx="360" cy="838080"/>
              <a:chOff x="5775120" y="5562720"/>
              <a:chExt cx="360" cy="838080"/>
            </a:xfrm>
          </p:grpSpPr>
          <p:sp>
            <p:nvSpPr>
              <p:cNvPr id="299" name="Line 10"/>
              <p:cNvSpPr/>
              <p:nvPr/>
            </p:nvSpPr>
            <p:spPr>
              <a:xfrm>
                <a:off x="5775120" y="556272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5775120" y="5562720"/>
                <a:ext cx="36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11"/>
            <p:cNvGrpSpPr/>
            <p:nvPr/>
          </p:nvGrpSpPr>
          <p:grpSpPr>
            <a:xfrm>
              <a:off x="3511440" y="4584600"/>
              <a:ext cx="3174480" cy="2122920"/>
              <a:chOff x="3511440" y="4584600"/>
              <a:chExt cx="3174480" cy="212292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4403520" y="4952880"/>
                <a:ext cx="360" cy="838440"/>
                <a:chOff x="4403520" y="4952880"/>
                <a:chExt cx="360" cy="838440"/>
              </a:xfrm>
            </p:grpSpPr>
            <p:sp>
              <p:nvSpPr>
                <p:cNvPr id="303" name="Line 12"/>
                <p:cNvSpPr/>
                <p:nvPr/>
              </p:nvSpPr>
              <p:spPr>
                <a:xfrm>
                  <a:off x="4403520" y="4952880"/>
                  <a:ext cx="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 txBox="1"/>
                <p:nvPr/>
              </p:nvSpPr>
              <p:spPr>
                <a:xfrm>
                  <a:off x="4403520" y="4952880"/>
                  <a:ext cx="36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13"/>
              <p:cNvGrpSpPr/>
              <p:nvPr/>
            </p:nvGrpSpPr>
            <p:grpSpPr>
              <a:xfrm>
                <a:off x="3511440" y="4584600"/>
                <a:ext cx="3174480" cy="2122920"/>
                <a:chOff x="3511440" y="4584600"/>
                <a:chExt cx="3174480" cy="212292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403520" y="4965480"/>
                  <a:ext cx="1828440" cy="360"/>
                  <a:chOff x="4403520" y="4965480"/>
                  <a:chExt cx="1828440" cy="360"/>
                </a:xfrm>
              </p:grpSpPr>
              <p:sp>
                <p:nvSpPr>
                  <p:cNvPr id="307" name="Line 14"/>
                  <p:cNvSpPr/>
                  <p:nvPr/>
                </p:nvSpPr>
                <p:spPr>
                  <a:xfrm>
                    <a:off x="4403520" y="4965480"/>
                    <a:ext cx="1828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 txBox="1"/>
                  <p:nvPr/>
                </p:nvSpPr>
                <p:spPr>
                  <a:xfrm>
                    <a:off x="4403520" y="4965480"/>
                    <a:ext cx="1828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3946320" y="5575320"/>
                  <a:ext cx="1828440" cy="360"/>
                  <a:chOff x="3946320" y="5575320"/>
                  <a:chExt cx="1828440" cy="360"/>
                </a:xfrm>
              </p:grpSpPr>
              <p:sp>
                <p:nvSpPr>
                  <p:cNvPr id="310" name="Line 15"/>
                  <p:cNvSpPr/>
                  <p:nvPr/>
                </p:nvSpPr>
                <p:spPr>
                  <a:xfrm>
                    <a:off x="3946320" y="5575320"/>
                    <a:ext cx="1828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 txBox="1"/>
                  <p:nvPr/>
                </p:nvSpPr>
                <p:spPr>
                  <a:xfrm>
                    <a:off x="3946320" y="5575320"/>
                    <a:ext cx="1828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4403520" y="5803920"/>
                  <a:ext cx="1828440" cy="360"/>
                  <a:chOff x="4403520" y="5803920"/>
                  <a:chExt cx="1828440" cy="360"/>
                </a:xfrm>
              </p:grpSpPr>
              <p:sp>
                <p:nvSpPr>
                  <p:cNvPr id="313" name="Line 16"/>
                  <p:cNvSpPr/>
                  <p:nvPr/>
                </p:nvSpPr>
                <p:spPr>
                  <a:xfrm>
                    <a:off x="4403520" y="5803920"/>
                    <a:ext cx="1828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 txBox="1"/>
                  <p:nvPr/>
                </p:nvSpPr>
                <p:spPr>
                  <a:xfrm>
                    <a:off x="4403520" y="5803920"/>
                    <a:ext cx="1828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3946320" y="6413400"/>
                  <a:ext cx="1828440" cy="360"/>
                  <a:chOff x="3946320" y="6413400"/>
                  <a:chExt cx="1828440" cy="360"/>
                </a:xfrm>
              </p:grpSpPr>
              <p:sp>
                <p:nvSpPr>
                  <p:cNvPr id="316" name="Line 17"/>
                  <p:cNvSpPr/>
                  <p:nvPr/>
                </p:nvSpPr>
                <p:spPr>
                  <a:xfrm>
                    <a:off x="3946320" y="6413400"/>
                    <a:ext cx="1828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 txBox="1"/>
                  <p:nvPr/>
                </p:nvSpPr>
                <p:spPr>
                  <a:xfrm>
                    <a:off x="3946320" y="6413400"/>
                    <a:ext cx="1828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3945960" y="4965480"/>
                  <a:ext cx="457200" cy="609840"/>
                  <a:chOff x="3945960" y="4965480"/>
                  <a:chExt cx="457200" cy="609840"/>
                </a:xfrm>
              </p:grpSpPr>
              <p:sp>
                <p:nvSpPr>
                  <p:cNvPr id="319" name="Line 18"/>
                  <p:cNvSpPr/>
                  <p:nvPr/>
                </p:nvSpPr>
                <p:spPr>
                  <a:xfrm flipH="1">
                    <a:off x="3945960" y="4965480"/>
                    <a:ext cx="456840" cy="609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 txBox="1"/>
                  <p:nvPr/>
                </p:nvSpPr>
                <p:spPr>
                  <a:xfrm>
                    <a:off x="3946320" y="4965480"/>
                    <a:ext cx="456840" cy="60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5774760" y="4965480"/>
                  <a:ext cx="457200" cy="609840"/>
                  <a:chOff x="5774760" y="4965480"/>
                  <a:chExt cx="457200" cy="609840"/>
                </a:xfrm>
              </p:grpSpPr>
              <p:sp>
                <p:nvSpPr>
                  <p:cNvPr id="322" name="Line 19"/>
                  <p:cNvSpPr/>
                  <p:nvPr/>
                </p:nvSpPr>
                <p:spPr>
                  <a:xfrm flipH="1">
                    <a:off x="5774760" y="4965480"/>
                    <a:ext cx="456840" cy="609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 txBox="1"/>
                  <p:nvPr/>
                </p:nvSpPr>
                <p:spPr>
                  <a:xfrm>
                    <a:off x="5775120" y="4965480"/>
                    <a:ext cx="456840" cy="60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3946320" y="5575320"/>
                  <a:ext cx="360" cy="838080"/>
                  <a:chOff x="3946320" y="5575320"/>
                  <a:chExt cx="360" cy="838080"/>
                </a:xfrm>
              </p:grpSpPr>
              <p:sp>
                <p:nvSpPr>
                  <p:cNvPr id="325" name="Line 20"/>
                  <p:cNvSpPr/>
                  <p:nvPr/>
                </p:nvSpPr>
                <p:spPr>
                  <a:xfrm>
                    <a:off x="3946320" y="557532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 txBox="1"/>
                  <p:nvPr/>
                </p:nvSpPr>
                <p:spPr>
                  <a:xfrm>
                    <a:off x="3946320" y="5575320"/>
                    <a:ext cx="360" cy="838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3945960" y="5803920"/>
                  <a:ext cx="457200" cy="609480"/>
                  <a:chOff x="3945960" y="5803920"/>
                  <a:chExt cx="457200" cy="609480"/>
                </a:xfrm>
              </p:grpSpPr>
              <p:sp>
                <p:nvSpPr>
                  <p:cNvPr id="328" name="Line 21"/>
                  <p:cNvSpPr/>
                  <p:nvPr/>
                </p:nvSpPr>
                <p:spPr>
                  <a:xfrm flipH="1">
                    <a:off x="3945960" y="5803920"/>
                    <a:ext cx="456840" cy="609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 txBox="1"/>
                  <p:nvPr/>
                </p:nvSpPr>
                <p:spPr>
                  <a:xfrm>
                    <a:off x="3946320" y="5803920"/>
                    <a:ext cx="45684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5774760" y="5803920"/>
                  <a:ext cx="457200" cy="609480"/>
                  <a:chOff x="5774760" y="5803920"/>
                  <a:chExt cx="457200" cy="609480"/>
                </a:xfrm>
              </p:grpSpPr>
              <p:sp>
                <p:nvSpPr>
                  <p:cNvPr id="331" name="Line 22"/>
                  <p:cNvSpPr/>
                  <p:nvPr/>
                </p:nvSpPr>
                <p:spPr>
                  <a:xfrm flipH="1">
                    <a:off x="5774760" y="5803920"/>
                    <a:ext cx="456840" cy="609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 txBox="1"/>
                  <p:nvPr/>
                </p:nvSpPr>
                <p:spPr>
                  <a:xfrm>
                    <a:off x="5775120" y="5803920"/>
                    <a:ext cx="45684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Text Box 23"/>
                <p:cNvSpPr/>
                <p:nvPr/>
              </p:nvSpPr>
              <p:spPr>
                <a:xfrm>
                  <a:off x="6210000" y="56228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Text Box 24"/>
                <p:cNvSpPr/>
                <p:nvPr/>
              </p:nvSpPr>
              <p:spPr>
                <a:xfrm>
                  <a:off x="5752800" y="63086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25"/>
                <p:cNvSpPr/>
                <p:nvPr/>
              </p:nvSpPr>
              <p:spPr>
                <a:xfrm>
                  <a:off x="4100400" y="55753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26"/>
                <p:cNvSpPr/>
                <p:nvPr/>
              </p:nvSpPr>
              <p:spPr>
                <a:xfrm>
                  <a:off x="5778360" y="54226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27"/>
                <p:cNvSpPr/>
                <p:nvPr/>
              </p:nvSpPr>
              <p:spPr>
                <a:xfrm>
                  <a:off x="3511440" y="531792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Text Box 28"/>
                <p:cNvSpPr/>
                <p:nvPr/>
              </p:nvSpPr>
              <p:spPr>
                <a:xfrm>
                  <a:off x="3551040" y="61196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Text Box 29"/>
                <p:cNvSpPr/>
                <p:nvPr/>
              </p:nvSpPr>
              <p:spPr>
                <a:xfrm>
                  <a:off x="6238440" y="478476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 Box 30"/>
                <p:cNvSpPr/>
                <p:nvPr/>
              </p:nvSpPr>
              <p:spPr>
                <a:xfrm>
                  <a:off x="4025520" y="458460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1" name="Rectangle 31"/>
          <p:cNvSpPr/>
          <p:nvPr/>
        </p:nvSpPr>
        <p:spPr>
          <a:xfrm>
            <a:off x="534276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"/>
          <p:cNvGrpSpPr/>
          <p:nvPr/>
        </p:nvGrpSpPr>
        <p:grpSpPr>
          <a:xfrm>
            <a:off x="468360" y="1268280"/>
            <a:ext cx="5978160" cy="2508840"/>
            <a:chOff x="468360" y="1268280"/>
            <a:chExt cx="5978160" cy="2508840"/>
          </a:xfrm>
        </p:grpSpPr>
        <p:grpSp>
          <p:nvGrpSpPr>
            <p:cNvPr id="343" name="Group 5"/>
            <p:cNvGrpSpPr/>
            <p:nvPr/>
          </p:nvGrpSpPr>
          <p:grpSpPr>
            <a:xfrm>
              <a:off x="468360" y="1268280"/>
              <a:ext cx="1631880" cy="1657800"/>
              <a:chOff x="468360" y="1268280"/>
              <a:chExt cx="1631880" cy="1657800"/>
            </a:xfrm>
          </p:grpSpPr>
          <p:pic>
            <p:nvPicPr>
              <p:cNvPr id="344" name="Picture 6" descr="Q_011"/>
              <p:cNvPicPr/>
              <p:nvPr/>
            </p:nvPicPr>
            <p:blipFill>
              <a:blip r:embed="rId1"/>
              <a:stretch/>
            </p:blipFill>
            <p:spPr>
              <a:xfrm>
                <a:off x="1560600" y="1268280"/>
                <a:ext cx="539640" cy="55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Picture 7" descr="米老鼠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618200"/>
                <a:ext cx="1344600" cy="1307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6" name="Text Box 8"/>
            <p:cNvSpPr/>
            <p:nvPr/>
          </p:nvSpPr>
          <p:spPr>
            <a:xfrm>
              <a:off x="3522600" y="1465560"/>
              <a:ext cx="2923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0066"/>
                  </a:solidFill>
                  <a:latin typeface="Arial"/>
                  <a:ea typeface="华文行楷"/>
                </a:rPr>
                <a:t>想一想：日常生活中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0066"/>
                  </a:solidFill>
                  <a:latin typeface="Arial"/>
                  <a:ea typeface="华文行楷"/>
                </a:rPr>
                <a:t>哪些例子给你不相交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0066"/>
                  </a:solidFill>
                  <a:latin typeface="Arial"/>
                  <a:ea typeface="华文行楷"/>
                </a:rPr>
                <a:t>形象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108000" y="893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很多国家的国旗上都有平行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3048120" y="1447920"/>
            <a:ext cx="3325680" cy="2364480"/>
            <a:chOff x="3048120" y="1447920"/>
            <a:chExt cx="3325680" cy="2364480"/>
          </a:xfrm>
        </p:grpSpPr>
        <p:pic>
          <p:nvPicPr>
            <p:cNvPr id="349" name="Picture 4" descr="guba"/>
            <p:cNvPicPr/>
            <p:nvPr/>
          </p:nvPicPr>
          <p:blipFill>
            <a:blip r:embed="rId1"/>
            <a:stretch/>
          </p:blipFill>
          <p:spPr>
            <a:xfrm>
              <a:off x="3048120" y="1447920"/>
              <a:ext cx="33256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5"/>
            <p:cNvSpPr/>
            <p:nvPr/>
          </p:nvSpPr>
          <p:spPr>
            <a:xfrm>
              <a:off x="3429000" y="33526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ahoma"/>
                </a:rPr>
                <a:t>古巴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6"/>
          <p:cNvGrpSpPr/>
          <p:nvPr/>
        </p:nvGrpSpPr>
        <p:grpSpPr>
          <a:xfrm>
            <a:off x="6553080" y="1447920"/>
            <a:ext cx="2590560" cy="2217600"/>
            <a:chOff x="6553080" y="1447920"/>
            <a:chExt cx="2590560" cy="2217600"/>
          </a:xfrm>
        </p:grpSpPr>
        <p:pic>
          <p:nvPicPr>
            <p:cNvPr id="352" name="Picture 7" descr="eluosi"/>
            <p:cNvPicPr/>
            <p:nvPr/>
          </p:nvPicPr>
          <p:blipFill>
            <a:blip r:embed="rId2"/>
            <a:stretch/>
          </p:blipFill>
          <p:spPr>
            <a:xfrm>
              <a:off x="6553080" y="1447920"/>
              <a:ext cx="2310480" cy="16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8"/>
            <p:cNvSpPr/>
            <p:nvPr/>
          </p:nvSpPr>
          <p:spPr>
            <a:xfrm>
              <a:off x="6622920" y="32058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ahoma"/>
                </a:rPr>
                <a:t>俄罗斯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9"/>
          <p:cNvGrpSpPr/>
          <p:nvPr/>
        </p:nvGrpSpPr>
        <p:grpSpPr>
          <a:xfrm>
            <a:off x="5076720" y="4149720"/>
            <a:ext cx="2422440" cy="2121840"/>
            <a:chOff x="5076720" y="4149720"/>
            <a:chExt cx="2422440" cy="2121840"/>
          </a:xfrm>
        </p:grpSpPr>
        <p:pic>
          <p:nvPicPr>
            <p:cNvPr id="355" name="Picture 10" descr="bilishi"/>
            <p:cNvPicPr/>
            <p:nvPr/>
          </p:nvPicPr>
          <p:blipFill>
            <a:blip r:embed="rId3"/>
            <a:stretch/>
          </p:blipFill>
          <p:spPr>
            <a:xfrm>
              <a:off x="5076720" y="4149720"/>
              <a:ext cx="2193840" cy="159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11"/>
            <p:cNvSpPr/>
            <p:nvPr/>
          </p:nvSpPr>
          <p:spPr>
            <a:xfrm>
              <a:off x="5289480" y="581184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ahoma"/>
                </a:rPr>
                <a:t>比利时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2"/>
          <p:cNvGrpSpPr/>
          <p:nvPr/>
        </p:nvGrpSpPr>
        <p:grpSpPr>
          <a:xfrm>
            <a:off x="103320" y="1447920"/>
            <a:ext cx="2571480" cy="2288520"/>
            <a:chOff x="103320" y="1447920"/>
            <a:chExt cx="2571480" cy="2288520"/>
          </a:xfrm>
        </p:grpSpPr>
        <p:pic>
          <p:nvPicPr>
            <p:cNvPr id="358" name="Picture 13" descr="helan"/>
            <p:cNvPicPr/>
            <p:nvPr/>
          </p:nvPicPr>
          <p:blipFill>
            <a:blip r:embed="rId4"/>
            <a:stretch/>
          </p:blipFill>
          <p:spPr>
            <a:xfrm>
              <a:off x="103320" y="1447920"/>
              <a:ext cx="25714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14"/>
            <p:cNvSpPr/>
            <p:nvPr/>
          </p:nvSpPr>
          <p:spPr>
            <a:xfrm>
              <a:off x="541080" y="32767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ahoma"/>
                </a:rPr>
                <a:t>荷兰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5"/>
          <p:cNvGrpSpPr/>
          <p:nvPr/>
        </p:nvGrpSpPr>
        <p:grpSpPr>
          <a:xfrm>
            <a:off x="826920" y="4149720"/>
            <a:ext cx="3504960" cy="2130120"/>
            <a:chOff x="826920" y="4149720"/>
            <a:chExt cx="3504960" cy="2130120"/>
          </a:xfrm>
        </p:grpSpPr>
        <p:pic>
          <p:nvPicPr>
            <p:cNvPr id="361" name="Picture 16" descr="agt"/>
            <p:cNvPicPr/>
            <p:nvPr/>
          </p:nvPicPr>
          <p:blipFill>
            <a:blip r:embed="rId5"/>
            <a:stretch/>
          </p:blipFill>
          <p:spPr>
            <a:xfrm>
              <a:off x="826920" y="4149720"/>
              <a:ext cx="3504960" cy="16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7"/>
            <p:cNvSpPr/>
            <p:nvPr/>
          </p:nvSpPr>
          <p:spPr>
            <a:xfrm>
              <a:off x="1436400" y="5820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ahoma"/>
                </a:rPr>
                <a:t>阿根廷国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a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108000" y="94464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</a:rPr>
              <a:t>你喜欢滑雪吗？早在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5000</a:t>
            </a:r>
            <a:r>
              <a:rPr b="1" lang="zh-CN" sz="2000" spc="-1" strike="noStrike">
                <a:solidFill>
                  <a:srgbClr val="ffff66"/>
                </a:solidFill>
                <a:latin typeface="Times New Roman"/>
              </a:rPr>
              <a:t>年前，人们就把滑雪作为雪上旅行的一种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50292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滑雪运动最关键的是要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两只雪橇板的平行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U581P6T12D1184772F44DT200410090616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907920"/>
            <a:ext cx="4608360" cy="53294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4"/>
          <p:cNvSpPr/>
          <p:nvPr/>
        </p:nvSpPr>
        <p:spPr>
          <a:xfrm>
            <a:off x="6981120" y="537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短池游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104920" y="544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双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914-0209[1]"/>
          <p:cNvPicPr/>
          <p:nvPr/>
        </p:nvPicPr>
        <p:blipFill>
          <a:blip r:embed="rId3"/>
          <a:srcRect l="0" t="23193" r="39365" b="0"/>
          <a:stretch/>
        </p:blipFill>
        <p:spPr>
          <a:xfrm>
            <a:off x="34920" y="907920"/>
            <a:ext cx="4427640" cy="540072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7"/>
          <p:cNvSpPr/>
          <p:nvPr/>
        </p:nvSpPr>
        <p:spPr>
          <a:xfrm>
            <a:off x="127260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火车轨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94600" y="950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平行线的画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284720" y="3900600"/>
            <a:ext cx="3429000" cy="360"/>
            <a:chOff x="4284720" y="3900600"/>
            <a:chExt cx="3429000" cy="360"/>
          </a:xfrm>
        </p:grpSpPr>
        <p:sp>
          <p:nvSpPr>
            <p:cNvPr id="373" name="Line 3"/>
            <p:cNvSpPr/>
            <p:nvPr/>
          </p:nvSpPr>
          <p:spPr>
            <a:xfrm>
              <a:off x="4284720" y="3900600"/>
              <a:ext cx="3429000" cy="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4284720" y="3900600"/>
              <a:ext cx="3429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4" descr="等腰三角板"/>
          <p:cNvPicPr/>
          <p:nvPr/>
        </p:nvPicPr>
        <p:blipFill>
          <a:blip r:embed="rId1"/>
          <a:stretch/>
        </p:blipFill>
        <p:spPr>
          <a:xfrm rot="60000">
            <a:off x="5076720" y="3836520"/>
            <a:ext cx="3048120" cy="153684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4114800" y="2963880"/>
            <a:ext cx="4114800" cy="360"/>
            <a:chOff x="4114800" y="2963880"/>
            <a:chExt cx="4114800" cy="360"/>
          </a:xfrm>
        </p:grpSpPr>
        <p:sp>
          <p:nvSpPr>
            <p:cNvPr id="377" name="Line 5"/>
            <p:cNvSpPr/>
            <p:nvPr/>
          </p:nvSpPr>
          <p:spPr>
            <a:xfrm>
              <a:off x="4114800" y="2963880"/>
              <a:ext cx="41148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4114800" y="2963880"/>
              <a:ext cx="4114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6"/>
          <p:cNvSpPr/>
          <p:nvPr/>
        </p:nvSpPr>
        <p:spPr>
          <a:xfrm>
            <a:off x="864000" y="1844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一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796320" y="28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二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796320" y="3776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796320" y="464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四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 rot="8100000">
            <a:off x="4876200" y="2028960"/>
            <a:ext cx="533160" cy="44956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5482440" y="226224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62428E-006 L -0.09583 -0.13295 E">
                                      <p:cBhvr>
                                        <p:cTn id="392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WordArt 2"/>
          <p:cNvSpPr txBox="1"/>
          <p:nvPr/>
        </p:nvSpPr>
        <p:spPr>
          <a:xfrm>
            <a:off x="1258920" y="115920"/>
            <a:ext cx="136836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方法：</a:t>
            </a:r>
            <a:endParaRPr b="1" lang="en-US" sz="1800" spc="1" strike="noStrike">
              <a:ln w="12600">
                <a:solidFill>
                  <a:srgbClr val="ff9900"/>
                </a:solidFill>
                <a:round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44000" y="-26640"/>
            <a:ext cx="971640" cy="1204560"/>
            <a:chOff x="144000" y="-26640"/>
            <a:chExt cx="971640" cy="1204560"/>
          </a:xfrm>
        </p:grpSpPr>
        <p:sp>
          <p:nvSpPr>
            <p:cNvPr id="387" name="Freeform 4"/>
            <p:cNvSpPr/>
            <p:nvPr/>
          </p:nvSpPr>
          <p:spPr>
            <a:xfrm rot="158400">
              <a:off x="283320" y="105480"/>
              <a:ext cx="623160" cy="78840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5"/>
            <p:cNvSpPr/>
            <p:nvPr/>
          </p:nvSpPr>
          <p:spPr>
            <a:xfrm>
              <a:off x="491400" y="158760"/>
              <a:ext cx="624240" cy="73548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rot="961200">
              <a:off x="283320" y="0"/>
              <a:ext cx="312120" cy="84132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595800" y="1080"/>
              <a:ext cx="519840" cy="2095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>
              <a:off x="231480" y="631440"/>
              <a:ext cx="415440" cy="47376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 rot="1629000">
              <a:off x="179280" y="958680"/>
              <a:ext cx="159120" cy="1933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0"/>
            <p:cNvSpPr/>
            <p:nvPr/>
          </p:nvSpPr>
          <p:spPr>
            <a:xfrm>
              <a:off x="803880" y="52920"/>
              <a:ext cx="155160" cy="52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11"/>
          <p:cNvSpPr/>
          <p:nvPr/>
        </p:nvSpPr>
        <p:spPr>
          <a:xfrm>
            <a:off x="4711680" y="242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把三角尺的一边落在直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4708440" y="32194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紧靠三角尺的另一边放一直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13"/>
          <p:cNvSpPr txBox="1"/>
          <p:nvPr/>
        </p:nvSpPr>
        <p:spPr>
          <a:xfrm>
            <a:off x="395280" y="1235160"/>
            <a:ext cx="6048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用直尺和三角板画平行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397" name="WordArt 14"/>
          <p:cNvSpPr txBox="1"/>
          <p:nvPr/>
        </p:nvSpPr>
        <p:spPr>
          <a:xfrm>
            <a:off x="770040" y="3173400"/>
            <a:ext cx="140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2.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靠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398" name="WordArt 15"/>
          <p:cNvSpPr txBox="1"/>
          <p:nvPr/>
        </p:nvSpPr>
        <p:spPr>
          <a:xfrm>
            <a:off x="730080" y="2414520"/>
            <a:ext cx="14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1.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落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399" name="WordArt 16"/>
          <p:cNvSpPr txBox="1"/>
          <p:nvPr/>
        </p:nvSpPr>
        <p:spPr>
          <a:xfrm>
            <a:off x="768240" y="5116680"/>
            <a:ext cx="1400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4.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画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400" name="WordArt 17"/>
          <p:cNvSpPr txBox="1"/>
          <p:nvPr/>
        </p:nvSpPr>
        <p:spPr>
          <a:xfrm>
            <a:off x="728640" y="3925800"/>
            <a:ext cx="1400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3.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推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254640" y="684360"/>
            <a:ext cx="1862280" cy="360"/>
            <a:chOff x="6254640" y="684360"/>
            <a:chExt cx="1862280" cy="360"/>
          </a:xfrm>
        </p:grpSpPr>
        <p:sp>
          <p:nvSpPr>
            <p:cNvPr id="402" name="Line 18"/>
            <p:cNvSpPr/>
            <p:nvPr/>
          </p:nvSpPr>
          <p:spPr>
            <a:xfrm>
              <a:off x="6254640" y="684360"/>
              <a:ext cx="1862280" cy="0"/>
            </a:xfrm>
            <a:prstGeom prst="line">
              <a:avLst/>
            </a:prstGeom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6254640" y="684360"/>
              <a:ext cx="186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734160" y="1635120"/>
            <a:ext cx="1825560" cy="360"/>
            <a:chOff x="6734160" y="1635120"/>
            <a:chExt cx="1825560" cy="360"/>
          </a:xfrm>
        </p:grpSpPr>
        <p:sp>
          <p:nvSpPr>
            <p:cNvPr id="405" name="Line 19"/>
            <p:cNvSpPr/>
            <p:nvPr/>
          </p:nvSpPr>
          <p:spPr>
            <a:xfrm>
              <a:off x="6734160" y="1635120"/>
              <a:ext cx="1825560" cy="0"/>
            </a:xfrm>
            <a:prstGeom prst="line">
              <a:avLst/>
            </a:prstGeom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6734160" y="1635120"/>
              <a:ext cx="1825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Picture 20" descr="7"/>
          <p:cNvPicPr/>
          <p:nvPr/>
        </p:nvPicPr>
        <p:blipFill>
          <a:blip r:embed="rId1"/>
          <a:stretch/>
        </p:blipFill>
        <p:spPr>
          <a:xfrm>
            <a:off x="7164360" y="727200"/>
            <a:ext cx="1546200" cy="75708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6880320" y="260280"/>
            <a:ext cx="912600" cy="1798560"/>
            <a:chOff x="6880320" y="260280"/>
            <a:chExt cx="912600" cy="1798560"/>
          </a:xfrm>
        </p:grpSpPr>
        <p:sp>
          <p:nvSpPr>
            <p:cNvPr id="409" name="Line 21"/>
            <p:cNvSpPr/>
            <p:nvPr/>
          </p:nvSpPr>
          <p:spPr>
            <a:xfrm>
              <a:off x="6880320" y="260280"/>
              <a:ext cx="912600" cy="1798560"/>
            </a:xfrm>
            <a:prstGeom prst="line">
              <a:avLst/>
            </a:prstGeom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6880320" y="260280"/>
              <a:ext cx="912600" cy="179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22"/>
          <p:cNvSpPr/>
          <p:nvPr/>
        </p:nvSpPr>
        <p:spPr>
          <a:xfrm>
            <a:off x="2162160" y="393372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把三角尺沿直尺的边推到三角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的第一边恰好经过点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P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的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3202920" y="51642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沿三角尺的这一边画直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539640" y="183528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过直线ＡＢ外一点Ｐ作直线ＡＢ的平行线，看看你能作出吗？能作出几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93920" y="4334040"/>
            <a:ext cx="4654440" cy="31680"/>
            <a:chOff x="2293920" y="4334040"/>
            <a:chExt cx="4654440" cy="31680"/>
          </a:xfrm>
        </p:grpSpPr>
        <p:sp>
          <p:nvSpPr>
            <p:cNvPr id="415" name="Line 3"/>
            <p:cNvSpPr/>
            <p:nvPr/>
          </p:nvSpPr>
          <p:spPr>
            <a:xfrm>
              <a:off x="2293920" y="4334040"/>
              <a:ext cx="4654440" cy="31680"/>
            </a:xfrm>
            <a:prstGeom prst="line">
              <a:avLst/>
            </a:prstGeom>
            <a:ln cap="sq"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293920" y="4334040"/>
              <a:ext cx="4654440" cy="3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4" descr="等腰三角板"/>
          <p:cNvPicPr/>
          <p:nvPr/>
        </p:nvPicPr>
        <p:blipFill>
          <a:blip r:embed="rId1"/>
          <a:stretch/>
        </p:blipFill>
        <p:spPr>
          <a:xfrm rot="60000">
            <a:off x="3086280" y="4309560"/>
            <a:ext cx="3047760" cy="153684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2124000" y="3397320"/>
            <a:ext cx="4824360" cy="360"/>
            <a:chOff x="2124000" y="3397320"/>
            <a:chExt cx="4824360" cy="360"/>
          </a:xfrm>
        </p:grpSpPr>
        <p:sp>
          <p:nvSpPr>
            <p:cNvPr id="419" name="Line 5"/>
            <p:cNvSpPr/>
            <p:nvPr/>
          </p:nvSpPr>
          <p:spPr>
            <a:xfrm>
              <a:off x="2124000" y="3397320"/>
              <a:ext cx="4824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2124000" y="3397320"/>
              <a:ext cx="482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Rectangle 6"/>
          <p:cNvSpPr/>
          <p:nvPr/>
        </p:nvSpPr>
        <p:spPr>
          <a:xfrm rot="8100000">
            <a:off x="2885760" y="2461320"/>
            <a:ext cx="533520" cy="44960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491640" y="269568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1835280" y="378936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7020000" y="386064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3635280" y="242100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826920" y="76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4"/>
          <p:cNvGrpSpPr/>
          <p:nvPr/>
        </p:nvGrpSpPr>
        <p:grpSpPr>
          <a:xfrm>
            <a:off x="-1440" y="721800"/>
            <a:ext cx="2700000" cy="1166040"/>
            <a:chOff x="-1440" y="721800"/>
            <a:chExt cx="2700000" cy="1166040"/>
          </a:xfrm>
        </p:grpSpPr>
        <p:sp>
          <p:nvSpPr>
            <p:cNvPr id="428" name="AutoShape 15"/>
            <p:cNvSpPr/>
            <p:nvPr/>
          </p:nvSpPr>
          <p:spPr>
            <a:xfrm rot="10494600">
              <a:off x="34560" y="836280"/>
              <a:ext cx="2627280" cy="936720"/>
            </a:xfrm>
            <a:prstGeom prst="cloudCallout">
              <a:avLst>
                <a:gd name="adj1" fmla="val -56810"/>
                <a:gd name="adj2" fmla="val -109365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1650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6"/>
            <p:cNvSpPr/>
            <p:nvPr/>
          </p:nvSpPr>
          <p:spPr>
            <a:xfrm>
              <a:off x="627840" y="111708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Arial"/>
                  <a:ea typeface="华文新魏"/>
                </a:rPr>
                <a:t> </a:t>
              </a:r>
              <a:r>
                <a:rPr b="1" lang="zh-CN" sz="2400" spc="-1" strike="noStrike">
                  <a:solidFill>
                    <a:srgbClr val="cc0066"/>
                  </a:solidFill>
                  <a:latin typeface="Arial"/>
                  <a:ea typeface="华文新魏"/>
                </a:rPr>
                <a:t>动手实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62428E-006 L -0.09583 -0.13295 E">
                                      <p:cBhvr>
                                        <p:cTn id="427" dur="3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3"/>
          <p:cNvSpPr/>
          <p:nvPr/>
        </p:nvSpPr>
        <p:spPr>
          <a:xfrm>
            <a:off x="324000" y="30099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过直线外一点，有且只有一条直线与这条直线平行．（平行公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50920" y="4251240"/>
            <a:ext cx="82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说明：人们在长期实践中总结出来的结论叫基本事实，也称为公理，它可以作为以后推理的依据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468360" y="907920"/>
            <a:ext cx="6525000" cy="1657080"/>
            <a:chOff x="468360" y="907920"/>
            <a:chExt cx="6525000" cy="1657080"/>
          </a:xfrm>
        </p:grpSpPr>
        <p:grpSp>
          <p:nvGrpSpPr>
            <p:cNvPr id="433" name="Group 6"/>
            <p:cNvGrpSpPr/>
            <p:nvPr/>
          </p:nvGrpSpPr>
          <p:grpSpPr>
            <a:xfrm>
              <a:off x="468360" y="907920"/>
              <a:ext cx="1631880" cy="1657080"/>
              <a:chOff x="468360" y="907920"/>
              <a:chExt cx="1631880" cy="1657080"/>
            </a:xfrm>
          </p:grpSpPr>
          <p:pic>
            <p:nvPicPr>
              <p:cNvPr id="434" name="Picture 7" descr="Q_011"/>
              <p:cNvPicPr/>
              <p:nvPr/>
            </p:nvPicPr>
            <p:blipFill>
              <a:blip r:embed="rId1"/>
              <a:stretch/>
            </p:blipFill>
            <p:spPr>
              <a:xfrm>
                <a:off x="1560600" y="907920"/>
                <a:ext cx="539640" cy="55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Picture 8" descr="米老鼠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257840"/>
                <a:ext cx="1344600" cy="1307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6" name="Text Box 9"/>
            <p:cNvSpPr/>
            <p:nvPr/>
          </p:nvSpPr>
          <p:spPr>
            <a:xfrm>
              <a:off x="3642840" y="1149840"/>
              <a:ext cx="33505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0066"/>
                  </a:solidFill>
                  <a:latin typeface="Arial"/>
                  <a:ea typeface="华文行楷"/>
                </a:rPr>
                <a:t>由以上的实践你发现了什么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0066"/>
                  </a:solidFill>
                  <a:latin typeface="Arial"/>
                  <a:ea typeface="华文行楷"/>
                </a:rPr>
                <a:t>说说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24000" y="1631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位角、内错角、同旁内角的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2514600"/>
          <a:ext cx="7848360" cy="3014640"/>
        </p:xfrm>
        <a:graphic>
          <a:graphicData uri="http://schemas.openxmlformats.org/drawingml/2006/table">
            <a:tbl>
              <a:tblPr/>
              <a:tblGrid>
                <a:gridCol w="1523520"/>
                <a:gridCol w="3505320"/>
                <a:gridCol w="2819520"/>
              </a:tblGrid>
              <a:tr h="762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被截直线的关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截线的关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位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错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旁内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5"/>
          <p:cNvSpPr/>
          <p:nvPr/>
        </p:nvSpPr>
        <p:spPr>
          <a:xfrm>
            <a:off x="2057400" y="34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截直线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一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057400" y="4191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截直线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057400" y="4952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截直线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5638680" y="3429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线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5638680" y="4191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线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5638680" y="4952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截线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611280" y="549360"/>
            <a:ext cx="41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三线八角”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4497480" y="2590920"/>
            <a:ext cx="2286000" cy="360"/>
            <a:chOff x="4497480" y="2590920"/>
            <a:chExt cx="2286000" cy="360"/>
          </a:xfrm>
        </p:grpSpPr>
        <p:sp>
          <p:nvSpPr>
            <p:cNvPr id="438" name="Line 2"/>
            <p:cNvSpPr/>
            <p:nvPr/>
          </p:nvSpPr>
          <p:spPr>
            <a:xfrm>
              <a:off x="4497480" y="259092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4497480" y="25909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497480" y="3276720"/>
            <a:ext cx="2209680" cy="360"/>
            <a:chOff x="4497480" y="3276720"/>
            <a:chExt cx="2209680" cy="360"/>
          </a:xfrm>
        </p:grpSpPr>
        <p:sp>
          <p:nvSpPr>
            <p:cNvPr id="441" name="Line 3"/>
            <p:cNvSpPr/>
            <p:nvPr/>
          </p:nvSpPr>
          <p:spPr>
            <a:xfrm>
              <a:off x="4497480" y="32767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4497480" y="3276720"/>
              <a:ext cx="220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4"/>
          <p:cNvSpPr/>
          <p:nvPr/>
        </p:nvSpPr>
        <p:spPr>
          <a:xfrm>
            <a:off x="468360" y="1052640"/>
            <a:ext cx="7543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如图：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三条直线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。如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//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//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那么直线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与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有什么关系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6"/>
          <p:cNvSpPr/>
          <p:nvPr/>
        </p:nvSpPr>
        <p:spPr>
          <a:xfrm>
            <a:off x="6326280" y="3352680"/>
            <a:ext cx="106668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7"/>
          <p:cNvSpPr/>
          <p:nvPr/>
        </p:nvSpPr>
        <p:spPr>
          <a:xfrm>
            <a:off x="3735360" y="3352680"/>
            <a:ext cx="106668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9"/>
          <p:cNvSpPr/>
          <p:nvPr/>
        </p:nvSpPr>
        <p:spPr>
          <a:xfrm>
            <a:off x="3735360" y="2819520"/>
            <a:ext cx="10666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"/>
          <p:cNvSpPr/>
          <p:nvPr/>
        </p:nvSpPr>
        <p:spPr>
          <a:xfrm>
            <a:off x="3720960" y="2133720"/>
            <a:ext cx="10670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395280" y="2349360"/>
            <a:ext cx="3429000" cy="990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交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395280" y="3645000"/>
            <a:ext cx="6264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//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b/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是过点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就有两条直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都与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根据平行公理，这是不可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也就是说，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不能相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只能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14"/>
          <p:cNvGrpSpPr/>
          <p:nvPr/>
        </p:nvGrpSpPr>
        <p:grpSpPr>
          <a:xfrm>
            <a:off x="6783480" y="2514600"/>
            <a:ext cx="2057400" cy="838080"/>
            <a:chOff x="6783480" y="2514600"/>
            <a:chExt cx="2057400" cy="838080"/>
          </a:xfrm>
        </p:grpSpPr>
        <p:sp>
          <p:nvSpPr>
            <p:cNvPr id="451" name="Oval 15"/>
            <p:cNvSpPr/>
            <p:nvPr/>
          </p:nvSpPr>
          <p:spPr>
            <a:xfrm>
              <a:off x="8002440" y="2590920"/>
              <a:ext cx="838440" cy="761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6"/>
            <p:cNvSpPr/>
            <p:nvPr/>
          </p:nvSpPr>
          <p:spPr>
            <a:xfrm>
              <a:off x="6783480" y="2895480"/>
              <a:ext cx="1295280" cy="457200"/>
            </a:xfrm>
            <a:custGeom>
              <a:avLst/>
              <a:gdLst/>
              <a:ahLst/>
              <a:rect l="l" t="t" r="r" b="b"/>
              <a:pathLst>
                <a:path w="720" h="280">
                  <a:moveTo>
                    <a:pt x="0" y="240"/>
                  </a:moveTo>
                  <a:cubicBezTo>
                    <a:pt x="108" y="260"/>
                    <a:pt x="216" y="280"/>
                    <a:pt x="336" y="240"/>
                  </a:cubicBezTo>
                  <a:cubicBezTo>
                    <a:pt x="456" y="200"/>
                    <a:pt x="588" y="100"/>
                    <a:pt x="72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"/>
            <p:cNvSpPr/>
            <p:nvPr/>
          </p:nvSpPr>
          <p:spPr>
            <a:xfrm>
              <a:off x="6783480" y="2514600"/>
              <a:ext cx="1295280" cy="38088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24"/>
                  </a:moveTo>
                  <a:cubicBezTo>
                    <a:pt x="104" y="12"/>
                    <a:pt x="208" y="0"/>
                    <a:pt x="336" y="24"/>
                  </a:cubicBezTo>
                  <a:cubicBezTo>
                    <a:pt x="464" y="48"/>
                    <a:pt x="696" y="144"/>
                    <a:pt x="768" y="168"/>
                  </a:cubicBezTo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21"/>
          <p:cNvGrpSpPr/>
          <p:nvPr/>
        </p:nvGrpSpPr>
        <p:grpSpPr>
          <a:xfrm>
            <a:off x="4068720" y="3429000"/>
            <a:ext cx="2847960" cy="734760"/>
            <a:chOff x="4068720" y="3429000"/>
            <a:chExt cx="2847960" cy="734760"/>
          </a:xfrm>
        </p:grpSpPr>
        <p:grpSp>
          <p:nvGrpSpPr>
            <p:cNvPr id="455" name=""/>
            <p:cNvGrpSpPr/>
            <p:nvPr/>
          </p:nvGrpSpPr>
          <p:grpSpPr>
            <a:xfrm>
              <a:off x="4497480" y="3747960"/>
              <a:ext cx="2209680" cy="360"/>
              <a:chOff x="4497480" y="3747960"/>
              <a:chExt cx="2209680" cy="360"/>
            </a:xfrm>
          </p:grpSpPr>
          <p:sp>
            <p:nvSpPr>
              <p:cNvPr id="456" name="Line 5"/>
              <p:cNvSpPr/>
              <p:nvPr/>
            </p:nvSpPr>
            <p:spPr>
              <a:xfrm>
                <a:off x="4497480" y="3747960"/>
                <a:ext cx="22096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>
                <a:off x="4497480" y="3747960"/>
                <a:ext cx="220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4500720" y="3795480"/>
              <a:ext cx="2232000" cy="368280"/>
              <a:chOff x="4500720" y="3795480"/>
              <a:chExt cx="2232000" cy="368280"/>
            </a:xfrm>
          </p:grpSpPr>
          <p:sp>
            <p:nvSpPr>
              <p:cNvPr id="459" name="Line 18"/>
              <p:cNvSpPr/>
              <p:nvPr/>
            </p:nvSpPr>
            <p:spPr>
              <a:xfrm>
                <a:off x="4500720" y="3795480"/>
                <a:ext cx="22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>
                <a:off x="4500720" y="3795480"/>
                <a:ext cx="223200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Text Box 19"/>
            <p:cNvSpPr/>
            <p:nvPr/>
          </p:nvSpPr>
          <p:spPr>
            <a:xfrm>
              <a:off x="4068720" y="3429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0"/>
            <p:cNvSpPr/>
            <p:nvPr/>
          </p:nvSpPr>
          <p:spPr>
            <a:xfrm>
              <a:off x="6732720" y="37083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文本框 8200"/>
          <p:cNvSpPr/>
          <p:nvPr/>
        </p:nvSpPr>
        <p:spPr>
          <a:xfrm>
            <a:off x="1311120" y="617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95280" y="9777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平行公理的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95280" y="162864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果两条直线都和第三条直线平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么这两条直线也互相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871640" y="2736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几何语言表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1295280" y="349884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//c , c//b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3333ff"/>
                </a:solidFill>
                <a:latin typeface="Symbol"/>
                <a:ea typeface="Symbol"/>
              </a:rPr>
              <a:t>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//b(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如果两条直线都和第三条直线平行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那么这两条直线也互相平行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 rot="10800000">
            <a:off x="1441080" y="3476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7"/>
          <p:cNvGrpSpPr/>
          <p:nvPr/>
        </p:nvGrpSpPr>
        <p:grpSpPr>
          <a:xfrm>
            <a:off x="6627600" y="2813040"/>
            <a:ext cx="1904760" cy="3351240"/>
            <a:chOff x="6627600" y="2813040"/>
            <a:chExt cx="1904760" cy="3351240"/>
          </a:xfrm>
        </p:grpSpPr>
        <p:grpSp>
          <p:nvGrpSpPr>
            <p:cNvPr id="470" name="Group 8"/>
            <p:cNvGrpSpPr/>
            <p:nvPr/>
          </p:nvGrpSpPr>
          <p:grpSpPr>
            <a:xfrm>
              <a:off x="6627600" y="3617280"/>
              <a:ext cx="1371240" cy="2547000"/>
              <a:chOff x="6627600" y="3617280"/>
              <a:chExt cx="1371240" cy="254700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6627600" y="3617280"/>
                <a:ext cx="380880" cy="2413080"/>
                <a:chOff x="6627600" y="3617280"/>
                <a:chExt cx="380880" cy="2413080"/>
              </a:xfrm>
            </p:grpSpPr>
            <p:sp>
              <p:nvSpPr>
                <p:cNvPr id="472" name="Line 9"/>
                <p:cNvSpPr/>
                <p:nvPr/>
              </p:nvSpPr>
              <p:spPr>
                <a:xfrm flipH="1">
                  <a:off x="6627600" y="3617280"/>
                  <a:ext cx="380520" cy="2413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 txBox="1"/>
                <p:nvPr/>
              </p:nvSpPr>
              <p:spPr>
                <a:xfrm>
                  <a:off x="6627960" y="3617280"/>
                  <a:ext cx="380520" cy="241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7617960" y="3617280"/>
                <a:ext cx="380880" cy="2413080"/>
                <a:chOff x="7617960" y="3617280"/>
                <a:chExt cx="380880" cy="2413080"/>
              </a:xfrm>
            </p:grpSpPr>
            <p:sp>
              <p:nvSpPr>
                <p:cNvPr id="475" name="Line 10"/>
                <p:cNvSpPr/>
                <p:nvPr/>
              </p:nvSpPr>
              <p:spPr>
                <a:xfrm flipH="1">
                  <a:off x="7617960" y="3617280"/>
                  <a:ext cx="380520" cy="2413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 txBox="1"/>
                <p:nvPr/>
              </p:nvSpPr>
              <p:spPr>
                <a:xfrm>
                  <a:off x="7618320" y="3617280"/>
                  <a:ext cx="380520" cy="241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7084440" y="3751200"/>
                <a:ext cx="380880" cy="2413080"/>
                <a:chOff x="7084440" y="3751200"/>
                <a:chExt cx="380880" cy="2413080"/>
              </a:xfrm>
            </p:grpSpPr>
            <p:sp>
              <p:nvSpPr>
                <p:cNvPr id="478" name="Line 11"/>
                <p:cNvSpPr/>
                <p:nvPr/>
              </p:nvSpPr>
              <p:spPr>
                <a:xfrm flipH="1">
                  <a:off x="7084440" y="3751200"/>
                  <a:ext cx="380520" cy="24130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 txBox="1"/>
                <p:nvPr/>
              </p:nvSpPr>
              <p:spPr>
                <a:xfrm>
                  <a:off x="7084800" y="3751200"/>
                  <a:ext cx="380520" cy="241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0" name="Oval 12"/>
            <p:cNvSpPr/>
            <p:nvPr/>
          </p:nvSpPr>
          <p:spPr>
            <a:xfrm>
              <a:off x="7161120" y="2947320"/>
              <a:ext cx="837720" cy="804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3"/>
            <p:cNvSpPr/>
            <p:nvPr/>
          </p:nvSpPr>
          <p:spPr>
            <a:xfrm>
              <a:off x="7694280" y="2813040"/>
              <a:ext cx="838080" cy="804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4"/>
            <p:cNvSpPr/>
            <p:nvPr/>
          </p:nvSpPr>
          <p:spPr>
            <a:xfrm>
              <a:off x="6627960" y="2947320"/>
              <a:ext cx="837720" cy="804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3"/>
          <p:cNvSpPr/>
          <p:nvPr/>
        </p:nvSpPr>
        <p:spPr>
          <a:xfrm>
            <a:off x="2408040" y="69228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下列说法正确的个数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468360" y="177336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两条直线不相交就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在同一平面内，两条平行的直线有且只有一个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过一点有且只有一条直线与已知直线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平行于同一直线的两条直线互相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两直线的位置关系只有相交与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957240" y="486900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0         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       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         D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4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486108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1403280" y="1052640"/>
            <a:ext cx="58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3071520" y="835200"/>
            <a:ext cx="17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、下列推理正确的是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826920" y="220500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11280" y="242100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因为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 // d,b // c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所以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 // d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因为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 // c,b // d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所以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 // d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因为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 // b,a // c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所以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b // c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因为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 // b,c // d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所以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 // c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6158520" y="90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"/>
          <p:cNvGrpSpPr/>
          <p:nvPr/>
        </p:nvGrpSpPr>
        <p:grpSpPr>
          <a:xfrm>
            <a:off x="196920" y="1125360"/>
            <a:ext cx="8839080" cy="1198800"/>
            <a:chOff x="196920" y="1125360"/>
            <a:chExt cx="8839080" cy="1198800"/>
          </a:xfrm>
        </p:grpSpPr>
        <p:sp>
          <p:nvSpPr>
            <p:cNvPr id="493" name="Text Box 5"/>
            <p:cNvSpPr/>
            <p:nvPr/>
          </p:nvSpPr>
          <p:spPr>
            <a:xfrm>
              <a:off x="196920" y="1125360"/>
              <a:ext cx="88390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、已知直线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与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都经过点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，并且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//L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//L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，那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与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必须重合，这是因为 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                               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                                        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3016080" y="2323800"/>
              <a:ext cx="4723920" cy="360"/>
              <a:chOff x="3016080" y="2323800"/>
              <a:chExt cx="4723920" cy="360"/>
            </a:xfrm>
          </p:grpSpPr>
          <p:sp>
            <p:nvSpPr>
              <p:cNvPr id="495" name="Line 6"/>
              <p:cNvSpPr/>
              <p:nvPr/>
            </p:nvSpPr>
            <p:spPr>
              <a:xfrm>
                <a:off x="3016080" y="2323800"/>
                <a:ext cx="4723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 txBox="1"/>
              <p:nvPr/>
            </p:nvSpPr>
            <p:spPr>
              <a:xfrm>
                <a:off x="3016080" y="2323800"/>
                <a:ext cx="472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7"/>
          <p:cNvSpPr/>
          <p:nvPr/>
        </p:nvSpPr>
        <p:spPr>
          <a:xfrm>
            <a:off x="3043080" y="1574640"/>
            <a:ext cx="51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经过直线外一点，有且只有一条直线与已知直线平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179280" y="2754360"/>
            <a:ext cx="7705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下列说法正确的是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Ａ、一条直线的平行线有且只有一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Ｂ、经过一点有且只有一条直线与已知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Ｃ、经过一点有两条直线与某一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Ｄ、过直线外一点有且只有一条直线与已知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3635280" y="2755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663120" y="1027080"/>
            <a:ext cx="8039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、完成下列推理，并在括号内注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）如图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所示，因为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//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DE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//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DE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已知）。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,B,C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三点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          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）如图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所示，因为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//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CD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D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//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EF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已知），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________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//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_________(                                     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1384200" y="3913200"/>
            <a:ext cx="2209680" cy="2254680"/>
            <a:chOff x="1384200" y="3913200"/>
            <a:chExt cx="2209680" cy="2254680"/>
          </a:xfrm>
        </p:grpSpPr>
        <p:grpSp>
          <p:nvGrpSpPr>
            <p:cNvPr id="502" name="Group 5"/>
            <p:cNvGrpSpPr/>
            <p:nvPr/>
          </p:nvGrpSpPr>
          <p:grpSpPr>
            <a:xfrm>
              <a:off x="1384200" y="3913200"/>
              <a:ext cx="2209680" cy="1591560"/>
              <a:chOff x="1384200" y="3913200"/>
              <a:chExt cx="2209680" cy="159156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384200" y="4353120"/>
                <a:ext cx="2209680" cy="360"/>
                <a:chOff x="1384200" y="4353120"/>
                <a:chExt cx="2209680" cy="360"/>
              </a:xfrm>
            </p:grpSpPr>
            <p:sp>
              <p:nvSpPr>
                <p:cNvPr id="504" name="Line 6"/>
                <p:cNvSpPr/>
                <p:nvPr/>
              </p:nvSpPr>
              <p:spPr>
                <a:xfrm>
                  <a:off x="1384200" y="4353120"/>
                  <a:ext cx="2209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 txBox="1"/>
                <p:nvPr/>
              </p:nvSpPr>
              <p:spPr>
                <a:xfrm>
                  <a:off x="1384200" y="4353120"/>
                  <a:ext cx="2209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1384200" y="5108040"/>
                <a:ext cx="2209680" cy="360"/>
                <a:chOff x="1384200" y="5108040"/>
                <a:chExt cx="2209680" cy="360"/>
              </a:xfrm>
            </p:grpSpPr>
            <p:sp>
              <p:nvSpPr>
                <p:cNvPr id="507" name="Line 7"/>
                <p:cNvSpPr/>
                <p:nvPr/>
              </p:nvSpPr>
              <p:spPr>
                <a:xfrm>
                  <a:off x="1384200" y="5108040"/>
                  <a:ext cx="2209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 txBox="1"/>
                <p:nvPr/>
              </p:nvSpPr>
              <p:spPr>
                <a:xfrm>
                  <a:off x="1384200" y="5108040"/>
                  <a:ext cx="2209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Rectangle 8"/>
              <p:cNvSpPr/>
              <p:nvPr/>
            </p:nvSpPr>
            <p:spPr>
              <a:xfrm>
                <a:off x="1582560" y="3913200"/>
                <a:ext cx="43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Times New Roman"/>
                  </a:rPr>
                  <a:t>·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9"/>
              <p:cNvSpPr/>
              <p:nvPr/>
            </p:nvSpPr>
            <p:spPr>
              <a:xfrm>
                <a:off x="2954160" y="3913200"/>
                <a:ext cx="43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Times New Roman"/>
                  </a:rPr>
                  <a:t>·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0"/>
              <p:cNvSpPr/>
              <p:nvPr/>
            </p:nvSpPr>
            <p:spPr>
              <a:xfrm>
                <a:off x="2192040" y="3913200"/>
                <a:ext cx="43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Times New Roman"/>
                  </a:rPr>
                  <a:t>·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11"/>
              <p:cNvSpPr/>
              <p:nvPr/>
            </p:nvSpPr>
            <p:spPr>
              <a:xfrm>
                <a:off x="1538640" y="3975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12"/>
              <p:cNvSpPr/>
              <p:nvPr/>
            </p:nvSpPr>
            <p:spPr>
              <a:xfrm>
                <a:off x="1614960" y="5045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13"/>
              <p:cNvSpPr/>
              <p:nvPr/>
            </p:nvSpPr>
            <p:spPr>
              <a:xfrm>
                <a:off x="2833560" y="50450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14"/>
              <p:cNvSpPr/>
              <p:nvPr/>
            </p:nvSpPr>
            <p:spPr>
              <a:xfrm>
                <a:off x="2224080" y="3975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15"/>
              <p:cNvSpPr/>
              <p:nvPr/>
            </p:nvSpPr>
            <p:spPr>
              <a:xfrm>
                <a:off x="2986560" y="3975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Text Box 16"/>
            <p:cNvSpPr/>
            <p:nvPr/>
          </p:nvSpPr>
          <p:spPr>
            <a:xfrm>
              <a:off x="1927080" y="5708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图 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7"/>
          <p:cNvGrpSpPr/>
          <p:nvPr/>
        </p:nvGrpSpPr>
        <p:grpSpPr>
          <a:xfrm>
            <a:off x="4574160" y="3833640"/>
            <a:ext cx="3272400" cy="2405880"/>
            <a:chOff x="4574160" y="3833640"/>
            <a:chExt cx="3272400" cy="2405880"/>
          </a:xfrm>
        </p:grpSpPr>
        <p:grpSp>
          <p:nvGrpSpPr>
            <p:cNvPr id="519" name=""/>
            <p:cNvGrpSpPr/>
            <p:nvPr/>
          </p:nvGrpSpPr>
          <p:grpSpPr>
            <a:xfrm>
              <a:off x="5029200" y="4062240"/>
              <a:ext cx="2438640" cy="360"/>
              <a:chOff x="5029200" y="4062240"/>
              <a:chExt cx="2438640" cy="360"/>
            </a:xfrm>
          </p:grpSpPr>
          <p:sp>
            <p:nvSpPr>
              <p:cNvPr id="520" name="Line 18"/>
              <p:cNvSpPr/>
              <p:nvPr/>
            </p:nvSpPr>
            <p:spPr>
              <a:xfrm>
                <a:off x="5029200" y="4062240"/>
                <a:ext cx="2438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 txBox="1"/>
              <p:nvPr/>
            </p:nvSpPr>
            <p:spPr>
              <a:xfrm>
                <a:off x="5029200" y="406224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029200" y="4671720"/>
              <a:ext cx="2362320" cy="360"/>
              <a:chOff x="5029200" y="4671720"/>
              <a:chExt cx="2362320" cy="360"/>
            </a:xfrm>
          </p:grpSpPr>
          <p:sp>
            <p:nvSpPr>
              <p:cNvPr id="523" name="Line 19"/>
              <p:cNvSpPr/>
              <p:nvPr/>
            </p:nvSpPr>
            <p:spPr>
              <a:xfrm>
                <a:off x="5029200" y="4671720"/>
                <a:ext cx="23623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5029200" y="467172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5105520" y="5281200"/>
              <a:ext cx="2209680" cy="360"/>
              <a:chOff x="5105520" y="5281200"/>
              <a:chExt cx="2209680" cy="360"/>
            </a:xfrm>
          </p:grpSpPr>
          <p:sp>
            <p:nvSpPr>
              <p:cNvPr id="526" name="Line 20"/>
              <p:cNvSpPr/>
              <p:nvPr/>
            </p:nvSpPr>
            <p:spPr>
              <a:xfrm>
                <a:off x="5105520" y="5281200"/>
                <a:ext cx="22096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>
                <a:off x="5105520" y="5281200"/>
                <a:ext cx="220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 Box 21"/>
            <p:cNvSpPr/>
            <p:nvPr/>
          </p:nvSpPr>
          <p:spPr>
            <a:xfrm>
              <a:off x="4574160" y="3833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2"/>
            <p:cNvSpPr/>
            <p:nvPr/>
          </p:nvSpPr>
          <p:spPr>
            <a:xfrm>
              <a:off x="7463160" y="3833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3"/>
            <p:cNvSpPr/>
            <p:nvPr/>
          </p:nvSpPr>
          <p:spPr>
            <a:xfrm>
              <a:off x="4574160" y="4443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24"/>
            <p:cNvSpPr/>
            <p:nvPr/>
          </p:nvSpPr>
          <p:spPr>
            <a:xfrm>
              <a:off x="7446240" y="4443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25"/>
            <p:cNvSpPr/>
            <p:nvPr/>
          </p:nvSpPr>
          <p:spPr>
            <a:xfrm>
              <a:off x="4650120" y="5052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26"/>
            <p:cNvSpPr/>
            <p:nvPr/>
          </p:nvSpPr>
          <p:spPr>
            <a:xfrm>
              <a:off x="7317000" y="5052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27"/>
            <p:cNvSpPr/>
            <p:nvPr/>
          </p:nvSpPr>
          <p:spPr>
            <a:xfrm>
              <a:off x="5799960" y="5779800"/>
              <a:ext cx="6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图 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28"/>
          <p:cNvSpPr/>
          <p:nvPr/>
        </p:nvSpPr>
        <p:spPr>
          <a:xfrm>
            <a:off x="2635200" y="1800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在同一直线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9"/>
          <p:cNvSpPr/>
          <p:nvPr/>
        </p:nvSpPr>
        <p:spPr>
          <a:xfrm>
            <a:off x="4211640" y="18144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经过直线外一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有且只有一条直线与这条直线平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0"/>
          <p:cNvSpPr/>
          <p:nvPr/>
        </p:nvSpPr>
        <p:spPr>
          <a:xfrm>
            <a:off x="974160" y="2997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1"/>
          <p:cNvSpPr/>
          <p:nvPr/>
        </p:nvSpPr>
        <p:spPr>
          <a:xfrm>
            <a:off x="2702160" y="29718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2"/>
          <p:cNvSpPr/>
          <p:nvPr/>
        </p:nvSpPr>
        <p:spPr>
          <a:xfrm>
            <a:off x="4736160" y="3068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如果两条直线都和第三条直线平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那么这两条直线也互相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8"/>
          <p:cNvGrpSpPr/>
          <p:nvPr/>
        </p:nvGrpSpPr>
        <p:grpSpPr>
          <a:xfrm>
            <a:off x="684360" y="765000"/>
            <a:ext cx="7561080" cy="3412440"/>
            <a:chOff x="684360" y="765000"/>
            <a:chExt cx="7561080" cy="3412440"/>
          </a:xfrm>
        </p:grpSpPr>
        <p:sp>
          <p:nvSpPr>
            <p:cNvPr id="541" name="Text Box 29"/>
            <p:cNvSpPr/>
            <p:nvPr/>
          </p:nvSpPr>
          <p:spPr>
            <a:xfrm>
              <a:off x="684360" y="765000"/>
              <a:ext cx="424944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、如图所示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（１）过ＢＣ上任意一点Ｐ画ＡＢ的平行线交ＡＣ于Ｔ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（２）过Ｃ画ＭＮ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//AB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）直线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PT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MN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是何种位置关系？试说明理由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5724000" y="2781000"/>
              <a:ext cx="1080000" cy="1081080"/>
              <a:chOff x="5724000" y="2781000"/>
              <a:chExt cx="1080000" cy="1081080"/>
            </a:xfrm>
          </p:grpSpPr>
          <p:sp>
            <p:nvSpPr>
              <p:cNvPr id="543" name="Line 30"/>
              <p:cNvSpPr/>
              <p:nvPr/>
            </p:nvSpPr>
            <p:spPr>
              <a:xfrm flipH="1">
                <a:off x="5724000" y="2781000"/>
                <a:ext cx="107964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 txBox="1"/>
              <p:nvPr/>
            </p:nvSpPr>
            <p:spPr>
              <a:xfrm>
                <a:off x="5724360" y="2781000"/>
                <a:ext cx="1079640" cy="108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6804000" y="2781000"/>
              <a:ext cx="504720" cy="1008000"/>
              <a:chOff x="6804000" y="2781000"/>
              <a:chExt cx="504720" cy="1008000"/>
            </a:xfrm>
          </p:grpSpPr>
          <p:sp>
            <p:nvSpPr>
              <p:cNvPr id="546" name="Line 31"/>
              <p:cNvSpPr/>
              <p:nvPr/>
            </p:nvSpPr>
            <p:spPr>
              <a:xfrm>
                <a:off x="6804000" y="2781000"/>
                <a:ext cx="50472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 txBox="1"/>
              <p:nvPr/>
            </p:nvSpPr>
            <p:spPr>
              <a:xfrm>
                <a:off x="6804000" y="2781000"/>
                <a:ext cx="50472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724000" y="3788640"/>
              <a:ext cx="1584720" cy="73080"/>
              <a:chOff x="5724000" y="3788640"/>
              <a:chExt cx="1584720" cy="73080"/>
            </a:xfrm>
          </p:grpSpPr>
          <p:sp>
            <p:nvSpPr>
              <p:cNvPr id="549" name="Line 32"/>
              <p:cNvSpPr/>
              <p:nvPr/>
            </p:nvSpPr>
            <p:spPr>
              <a:xfrm flipV="1">
                <a:off x="5724360" y="3788640"/>
                <a:ext cx="158436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 txBox="1"/>
              <p:nvPr/>
            </p:nvSpPr>
            <p:spPr>
              <a:xfrm rot="10800000">
                <a:off x="5724000" y="3788640"/>
                <a:ext cx="158436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Oval 33"/>
            <p:cNvSpPr/>
            <p:nvPr/>
          </p:nvSpPr>
          <p:spPr>
            <a:xfrm>
              <a:off x="6372360" y="378900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34"/>
            <p:cNvSpPr/>
            <p:nvPr/>
          </p:nvSpPr>
          <p:spPr>
            <a:xfrm>
              <a:off x="6588000" y="234936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35"/>
            <p:cNvSpPr/>
            <p:nvPr/>
          </p:nvSpPr>
          <p:spPr>
            <a:xfrm>
              <a:off x="5364000" y="364608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36"/>
            <p:cNvSpPr/>
            <p:nvPr/>
          </p:nvSpPr>
          <p:spPr>
            <a:xfrm>
              <a:off x="730872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37"/>
            <p:cNvSpPr/>
            <p:nvPr/>
          </p:nvSpPr>
          <p:spPr>
            <a:xfrm>
              <a:off x="6372360" y="3717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324000" y="18860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图，直线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∥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∥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∥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那么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∥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"/>
          <p:cNvGrpSpPr/>
          <p:nvPr/>
        </p:nvGrpSpPr>
        <p:grpSpPr>
          <a:xfrm>
            <a:off x="6781320" y="1219320"/>
            <a:ext cx="2134080" cy="1981080"/>
            <a:chOff x="6781320" y="1219320"/>
            <a:chExt cx="2134080" cy="1981080"/>
          </a:xfrm>
        </p:grpSpPr>
        <p:grpSp>
          <p:nvGrpSpPr>
            <p:cNvPr id="558" name=""/>
            <p:cNvGrpSpPr/>
            <p:nvPr/>
          </p:nvGrpSpPr>
          <p:grpSpPr>
            <a:xfrm>
              <a:off x="6781320" y="1676520"/>
              <a:ext cx="228960" cy="1523880"/>
              <a:chOff x="6781320" y="1676520"/>
              <a:chExt cx="228960" cy="1523880"/>
            </a:xfrm>
          </p:grpSpPr>
          <p:sp>
            <p:nvSpPr>
              <p:cNvPr id="559" name="Line 4"/>
              <p:cNvSpPr/>
              <p:nvPr/>
            </p:nvSpPr>
            <p:spPr>
              <a:xfrm flipH="1">
                <a:off x="6781320" y="1676520"/>
                <a:ext cx="22860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>
                <a:off x="6781680" y="1676520"/>
                <a:ext cx="22860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7314840" y="1676520"/>
              <a:ext cx="228960" cy="1523880"/>
              <a:chOff x="7314840" y="1676520"/>
              <a:chExt cx="228960" cy="1523880"/>
            </a:xfrm>
          </p:grpSpPr>
          <p:sp>
            <p:nvSpPr>
              <p:cNvPr id="562" name="Line 5"/>
              <p:cNvSpPr/>
              <p:nvPr/>
            </p:nvSpPr>
            <p:spPr>
              <a:xfrm flipH="1">
                <a:off x="7314840" y="1676520"/>
                <a:ext cx="22860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>
                <a:off x="7315200" y="1676520"/>
                <a:ext cx="22860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7772040" y="1676520"/>
              <a:ext cx="228960" cy="1523880"/>
              <a:chOff x="7772040" y="1676520"/>
              <a:chExt cx="228960" cy="1523880"/>
            </a:xfrm>
          </p:grpSpPr>
          <p:sp>
            <p:nvSpPr>
              <p:cNvPr id="565" name="Line 6"/>
              <p:cNvSpPr/>
              <p:nvPr/>
            </p:nvSpPr>
            <p:spPr>
              <a:xfrm flipH="1">
                <a:off x="7772040" y="1676520"/>
                <a:ext cx="22860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>
                <a:off x="7772400" y="1676520"/>
                <a:ext cx="22860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8305560" y="1676520"/>
              <a:ext cx="228960" cy="1523880"/>
              <a:chOff x="8305560" y="1676520"/>
              <a:chExt cx="228960" cy="1523880"/>
            </a:xfrm>
          </p:grpSpPr>
          <p:sp>
            <p:nvSpPr>
              <p:cNvPr id="568" name="Line 7"/>
              <p:cNvSpPr/>
              <p:nvPr/>
            </p:nvSpPr>
            <p:spPr>
              <a:xfrm flipH="1">
                <a:off x="8305560" y="1676520"/>
                <a:ext cx="22860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8305920" y="1676520"/>
                <a:ext cx="22860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Text Box 8"/>
            <p:cNvSpPr/>
            <p:nvPr/>
          </p:nvSpPr>
          <p:spPr>
            <a:xfrm>
              <a:off x="6781680" y="137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9"/>
            <p:cNvSpPr/>
            <p:nvPr/>
          </p:nvSpPr>
          <p:spPr>
            <a:xfrm>
              <a:off x="7315200" y="1295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10"/>
            <p:cNvSpPr/>
            <p:nvPr/>
          </p:nvSpPr>
          <p:spPr>
            <a:xfrm>
              <a:off x="7772400" y="1295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1"/>
            <p:cNvSpPr/>
            <p:nvPr/>
          </p:nvSpPr>
          <p:spPr>
            <a:xfrm>
              <a:off x="822960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 Box 12"/>
          <p:cNvSpPr/>
          <p:nvPr/>
        </p:nvSpPr>
        <p:spPr>
          <a:xfrm>
            <a:off x="250920" y="270504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解：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因为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∥b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b∥c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所以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a ∥c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              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3"/>
          <p:cNvSpPr/>
          <p:nvPr/>
        </p:nvSpPr>
        <p:spPr>
          <a:xfrm>
            <a:off x="1258920" y="57340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如果两条直线都与第三条直线平行，那么这两条直线互相平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755640" y="3933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如果两条直线都与第三条直线平行，那么这两条直线互相平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826920" y="4363920"/>
            <a:ext cx="8610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因为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c∥d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所以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∥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              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16"/>
          <p:cNvSpPr txBox="1"/>
          <p:nvPr/>
        </p:nvSpPr>
        <p:spPr>
          <a:xfrm>
            <a:off x="2421000" y="836640"/>
            <a:ext cx="2438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能力拓展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" descr="5"/>
          <p:cNvPicPr/>
          <p:nvPr/>
        </p:nvPicPr>
        <p:blipFill>
          <a:blip r:embed="rId1"/>
          <a:stretch/>
        </p:blipFill>
        <p:spPr>
          <a:xfrm>
            <a:off x="0" y="1403280"/>
            <a:ext cx="2668680" cy="2170080"/>
          </a:xfrm>
          <a:prstGeom prst="rect">
            <a:avLst/>
          </a:prstGeom>
          <a:ln w="0">
            <a:noFill/>
          </a:ln>
        </p:spPr>
      </p:pic>
      <p:sp>
        <p:nvSpPr>
          <p:cNvPr id="580" name="WordArt 2"/>
          <p:cNvSpPr txBox="1"/>
          <p:nvPr/>
        </p:nvSpPr>
        <p:spPr>
          <a:xfrm>
            <a:off x="2727360" y="1392120"/>
            <a:ext cx="6337440" cy="19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d60093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这节课，我的收获是</a:t>
            </a:r>
            <a:r>
              <a:rPr b="0" lang="en-US" sz="1800" spc="1" strike="noStrike">
                <a:ln w="9360">
                  <a:solidFill>
                    <a:srgbClr val="d60093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---</a:t>
            </a:r>
            <a:endParaRPr b="0" lang="en-US" sz="1800" spc="1" strike="noStrike">
              <a:ln w="9360">
                <a:solidFill>
                  <a:srgbClr val="d60093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1" name="Picture 4" descr="米老鼠"/>
          <p:cNvPicPr/>
          <p:nvPr/>
        </p:nvPicPr>
        <p:blipFill>
          <a:blip r:embed="rId2"/>
          <a:stretch/>
        </p:blipFill>
        <p:spPr>
          <a:xfrm>
            <a:off x="3995640" y="4005360"/>
            <a:ext cx="1344600" cy="1346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7"/>
          <p:cNvSpPr/>
          <p:nvPr/>
        </p:nvSpPr>
        <p:spPr>
          <a:xfrm>
            <a:off x="108000" y="977760"/>
            <a:ext cx="244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四、回顾小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突出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8200"/>
          <p:cNvSpPr/>
          <p:nvPr/>
        </p:nvSpPr>
        <p:spPr>
          <a:xfrm>
            <a:off x="1992240" y="792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3"/>
          <p:cNvSpPr/>
          <p:nvPr/>
        </p:nvSpPr>
        <p:spPr>
          <a:xfrm>
            <a:off x="611280" y="250344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什么是平行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平行线的表示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平行线的画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平行线的公理及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在同一平面内两条直线的位置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13"/>
          <p:cNvGrpSpPr/>
          <p:nvPr/>
        </p:nvGrpSpPr>
        <p:grpSpPr>
          <a:xfrm>
            <a:off x="1053360" y="836640"/>
            <a:ext cx="8090640" cy="1481040"/>
            <a:chOff x="1053360" y="836640"/>
            <a:chExt cx="8090640" cy="1481040"/>
          </a:xfrm>
        </p:grpSpPr>
        <p:pic>
          <p:nvPicPr>
            <p:cNvPr id="587" name="Picture 14" descr="Gif0405_00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149800" y="892440"/>
              <a:ext cx="64800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Rectangle 15"/>
            <p:cNvSpPr/>
            <p:nvPr/>
          </p:nvSpPr>
          <p:spPr>
            <a:xfrm>
              <a:off x="1053360" y="971640"/>
              <a:ext cx="307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99"/>
                  </a:solidFill>
                  <a:latin typeface="Arial"/>
                </a:rPr>
                <a:t>本节课里我的收获是</a:t>
              </a:r>
              <a:r>
                <a:rPr b="1" lang="en-US" sz="3200" spc="-1" strike="noStrike">
                  <a:solidFill>
                    <a:srgbClr val="ff3399"/>
                  </a:solidFill>
                  <a:latin typeface="Arial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16" descr="B_023"/>
            <p:cNvPicPr/>
            <p:nvPr/>
          </p:nvPicPr>
          <p:blipFill>
            <a:blip r:embed="rId3"/>
            <a:stretch/>
          </p:blipFill>
          <p:spPr>
            <a:xfrm>
              <a:off x="7239240" y="836640"/>
              <a:ext cx="1904760" cy="148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818160" y="765000"/>
            <a:ext cx="8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、指出下列各图中所有的同位角、内错角、同旁内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85440" y="1676520"/>
            <a:ext cx="3962880" cy="3962160"/>
            <a:chOff x="685440" y="1676520"/>
            <a:chExt cx="3962880" cy="3962160"/>
          </a:xfrm>
        </p:grpSpPr>
        <p:sp>
          <p:nvSpPr>
            <p:cNvPr id="136" name="Arc 4"/>
            <p:cNvSpPr/>
            <p:nvPr/>
          </p:nvSpPr>
          <p:spPr>
            <a:xfrm rot="5400000">
              <a:off x="1590480" y="3876480"/>
              <a:ext cx="717480" cy="520560"/>
            </a:xfrm>
            <a:custGeom>
              <a:avLst/>
              <a:gdLst/>
              <a:ahLst/>
              <a:rect l="l" t="t" r="r" b="b"/>
              <a:pathLst>
                <a:path fill="none" w="21486" h="21155">
                  <a:moveTo>
                    <a:pt x="4362" y="0"/>
                  </a:moveTo>
                  <a:cubicBezTo>
                    <a:pt x="13589" y="1903"/>
                    <a:pt x="20517" y="9565"/>
                    <a:pt x="21485" y="18936"/>
                  </a:cubicBezTo>
                </a:path>
                <a:path stroke="0" w="21486" h="21155">
                  <a:moveTo>
                    <a:pt x="4362" y="0"/>
                  </a:moveTo>
                  <a:cubicBezTo>
                    <a:pt x="13589" y="1903"/>
                    <a:pt x="20517" y="9565"/>
                    <a:pt x="21485" y="18936"/>
                  </a:cubicBezTo>
                  <a:lnTo>
                    <a:pt x="0" y="21155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5"/>
            <p:cNvGrpSpPr/>
            <p:nvPr/>
          </p:nvGrpSpPr>
          <p:grpSpPr>
            <a:xfrm>
              <a:off x="685440" y="1676520"/>
              <a:ext cx="3962880" cy="3962160"/>
              <a:chOff x="685440" y="1676520"/>
              <a:chExt cx="3962880" cy="3962160"/>
            </a:xfrm>
          </p:grpSpPr>
          <p:grpSp>
            <p:nvGrpSpPr>
              <p:cNvPr id="138" name="Group 6"/>
              <p:cNvGrpSpPr/>
              <p:nvPr/>
            </p:nvGrpSpPr>
            <p:grpSpPr>
              <a:xfrm>
                <a:off x="685440" y="1676520"/>
                <a:ext cx="3962880" cy="3962160"/>
                <a:chOff x="685440" y="1676520"/>
                <a:chExt cx="3962880" cy="396216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685440" y="2895120"/>
                  <a:ext cx="3582000" cy="1752840"/>
                  <a:chOff x="685440" y="2895120"/>
                  <a:chExt cx="3582000" cy="1752840"/>
                </a:xfrm>
              </p:grpSpPr>
              <p:sp>
                <p:nvSpPr>
                  <p:cNvPr id="140" name="Line 7"/>
                  <p:cNvSpPr/>
                  <p:nvPr/>
                </p:nvSpPr>
                <p:spPr>
                  <a:xfrm flipV="1">
                    <a:off x="685800" y="2895120"/>
                    <a:ext cx="3581640" cy="1752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 txBox="1"/>
                  <p:nvPr/>
                </p:nvSpPr>
                <p:spPr>
                  <a:xfrm rot="10800000">
                    <a:off x="685440" y="2894760"/>
                    <a:ext cx="3581640" cy="1752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1524240" y="2133720"/>
                  <a:ext cx="761760" cy="3429000"/>
                  <a:chOff x="1524240" y="2133720"/>
                  <a:chExt cx="761760" cy="3429000"/>
                </a:xfrm>
              </p:grpSpPr>
              <p:sp>
                <p:nvSpPr>
                  <p:cNvPr id="143" name="Line 8"/>
                  <p:cNvSpPr/>
                  <p:nvPr/>
                </p:nvSpPr>
                <p:spPr>
                  <a:xfrm flipH="1">
                    <a:off x="1524240" y="2133720"/>
                    <a:ext cx="761760" cy="3429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 txBox="1"/>
                  <p:nvPr/>
                </p:nvSpPr>
                <p:spPr>
                  <a:xfrm>
                    <a:off x="1524240" y="2133720"/>
                    <a:ext cx="761760" cy="342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3200400" y="2209680"/>
                  <a:ext cx="533520" cy="3429000"/>
                  <a:chOff x="3200400" y="2209680"/>
                  <a:chExt cx="533520" cy="3429000"/>
                </a:xfrm>
              </p:grpSpPr>
              <p:sp>
                <p:nvSpPr>
                  <p:cNvPr id="146" name="Line 9"/>
                  <p:cNvSpPr/>
                  <p:nvPr/>
                </p:nvSpPr>
                <p:spPr>
                  <a:xfrm>
                    <a:off x="3200400" y="2209680"/>
                    <a:ext cx="533520" cy="3429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 txBox="1"/>
                  <p:nvPr/>
                </p:nvSpPr>
                <p:spPr>
                  <a:xfrm>
                    <a:off x="3200400" y="2209680"/>
                    <a:ext cx="533520" cy="342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" name="Text Box 10"/>
                <p:cNvSpPr/>
                <p:nvPr/>
              </p:nvSpPr>
              <p:spPr>
                <a:xfrm>
                  <a:off x="1600200" y="167652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11"/>
                <p:cNvSpPr/>
                <p:nvPr/>
              </p:nvSpPr>
              <p:spPr>
                <a:xfrm>
                  <a:off x="3200400" y="1676520"/>
                  <a:ext cx="609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12"/>
                <p:cNvSpPr/>
                <p:nvPr/>
              </p:nvSpPr>
              <p:spPr>
                <a:xfrm>
                  <a:off x="4038840" y="3048120"/>
                  <a:ext cx="609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Arc 13"/>
              <p:cNvSpPr/>
              <p:nvPr/>
            </p:nvSpPr>
            <p:spPr>
              <a:xfrm>
                <a:off x="3281400" y="2897280"/>
                <a:ext cx="376200" cy="304560"/>
              </a:xfrm>
              <a:custGeom>
                <a:avLst/>
                <a:gdLst/>
                <a:ahLst/>
                <a:rect l="l" t="t" r="r" b="b"/>
                <a:pathLst>
                  <a:path fill="none" w="21364" h="21600">
                    <a:moveTo>
                      <a:pt x="-1" y="0"/>
                    </a:moveTo>
                    <a:cubicBezTo>
                      <a:pt x="10698" y="0"/>
                      <a:pt x="19785" y="7832"/>
                      <a:pt x="21363" y="18414"/>
                    </a:cubicBezTo>
                  </a:path>
                  <a:path stroke="0" w="21364" h="21600">
                    <a:moveTo>
                      <a:pt x="-1" y="0"/>
                    </a:moveTo>
                    <a:cubicBezTo>
                      <a:pt x="10698" y="0"/>
                      <a:pt x="19785" y="7832"/>
                      <a:pt x="21363" y="18414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rc 14"/>
              <p:cNvSpPr/>
              <p:nvPr/>
            </p:nvSpPr>
            <p:spPr>
              <a:xfrm>
                <a:off x="1905120" y="3733920"/>
                <a:ext cx="250920" cy="304560"/>
              </a:xfrm>
              <a:custGeom>
                <a:avLst/>
                <a:gdLst/>
                <a:ahLst/>
                <a:rect l="l" t="t" r="r" b="b"/>
                <a:pathLst>
                  <a:path fill="none" w="17758" h="21398">
                    <a:moveTo>
                      <a:pt x="2949" y="0"/>
                    </a:moveTo>
                    <a:cubicBezTo>
                      <a:pt x="8942" y="826"/>
                      <a:pt x="14314" y="4127"/>
                      <a:pt x="17757" y="9101"/>
                    </a:cubicBezTo>
                  </a:path>
                  <a:path stroke="0" w="17758" h="21398">
                    <a:moveTo>
                      <a:pt x="2949" y="0"/>
                    </a:moveTo>
                    <a:cubicBezTo>
                      <a:pt x="8942" y="826"/>
                      <a:pt x="14314" y="4127"/>
                      <a:pt x="17757" y="9101"/>
                    </a:cubicBezTo>
                    <a:lnTo>
                      <a:pt x="0" y="21398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rc 15"/>
              <p:cNvSpPr/>
              <p:nvPr/>
            </p:nvSpPr>
            <p:spPr>
              <a:xfrm flipH="1">
                <a:off x="1599480" y="3733920"/>
                <a:ext cx="685800" cy="431640"/>
              </a:xfrm>
              <a:custGeom>
                <a:avLst/>
                <a:gdLst/>
                <a:ahLst/>
                <a:rect l="l" t="t" r="r" b="b"/>
                <a:pathLst>
                  <a:path fill="none" w="21600" h="23822">
                    <a:moveTo>
                      <a:pt x="12236" y="-1"/>
                    </a:moveTo>
                    <a:cubicBezTo>
                      <a:pt x="18097" y="4029"/>
                      <a:pt x="21600" y="10686"/>
                      <a:pt x="21600" y="17800"/>
                    </a:cubicBezTo>
                    <a:cubicBezTo>
                      <a:pt x="21600" y="19837"/>
                      <a:pt x="21311" y="21865"/>
                      <a:pt x="20743" y="23822"/>
                    </a:cubicBezTo>
                  </a:path>
                  <a:path stroke="0" w="21600" h="23822">
                    <a:moveTo>
                      <a:pt x="12236" y="-1"/>
                    </a:moveTo>
                    <a:cubicBezTo>
                      <a:pt x="18097" y="4029"/>
                      <a:pt x="21600" y="10686"/>
                      <a:pt x="21600" y="17800"/>
                    </a:cubicBezTo>
                    <a:cubicBezTo>
                      <a:pt x="21600" y="19837"/>
                      <a:pt x="21311" y="21865"/>
                      <a:pt x="20743" y="23822"/>
                    </a:cubicBezTo>
                    <a:lnTo>
                      <a:pt x="0" y="1780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rc 16"/>
              <p:cNvSpPr/>
              <p:nvPr/>
            </p:nvSpPr>
            <p:spPr>
              <a:xfrm rot="10800000">
                <a:off x="1447920" y="4190760"/>
                <a:ext cx="380880" cy="363240"/>
              </a:xfrm>
              <a:custGeom>
                <a:avLst/>
                <a:gdLst/>
                <a:ahLst/>
                <a:rect l="l" t="t" r="r" b="b"/>
                <a:pathLst>
                  <a:path fill="none" w="21600" h="20617">
                    <a:moveTo>
                      <a:pt x="6441" y="0"/>
                    </a:moveTo>
                    <a:cubicBezTo>
                      <a:pt x="15459" y="2817"/>
                      <a:pt x="21600" y="11169"/>
                      <a:pt x="21600" y="20617"/>
                    </a:cubicBezTo>
                  </a:path>
                  <a:path stroke="0" w="21600" h="20617">
                    <a:moveTo>
                      <a:pt x="6441" y="0"/>
                    </a:moveTo>
                    <a:cubicBezTo>
                      <a:pt x="15459" y="2817"/>
                      <a:pt x="21600" y="11169"/>
                      <a:pt x="21600" y="20617"/>
                    </a:cubicBezTo>
                    <a:lnTo>
                      <a:pt x="0" y="20617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7"/>
              <p:cNvSpPr/>
              <p:nvPr/>
            </p:nvSpPr>
            <p:spPr>
              <a:xfrm flipH="1">
                <a:off x="2971080" y="3052800"/>
                <a:ext cx="381240" cy="452520"/>
              </a:xfrm>
              <a:custGeom>
                <a:avLst/>
                <a:gdLst/>
                <a:ahLst/>
                <a:rect l="l" t="t" r="r" b="b"/>
                <a:pathLst>
                  <a:path fill="none" w="21600" h="21386">
                    <a:moveTo>
                      <a:pt x="3030" y="-1"/>
                    </a:moveTo>
                    <a:cubicBezTo>
                      <a:pt x="13682" y="1508"/>
                      <a:pt x="21600" y="10627"/>
                      <a:pt x="21600" y="21386"/>
                    </a:cubicBezTo>
                  </a:path>
                  <a:path stroke="0" w="21600" h="21386">
                    <a:moveTo>
                      <a:pt x="3030" y="-1"/>
                    </a:moveTo>
                    <a:cubicBezTo>
                      <a:pt x="13682" y="1508"/>
                      <a:pt x="21600" y="10627"/>
                      <a:pt x="21600" y="21386"/>
                    </a:cubicBezTo>
                    <a:lnTo>
                      <a:pt x="0" y="21386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8"/>
              <p:cNvSpPr/>
              <p:nvPr/>
            </p:nvSpPr>
            <p:spPr>
              <a:xfrm flipH="1" rot="10800000">
                <a:off x="3427920" y="3200400"/>
                <a:ext cx="304920" cy="38088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9"/>
              <p:cNvSpPr/>
              <p:nvPr/>
            </p:nvSpPr>
            <p:spPr>
              <a:xfrm flipH="1">
                <a:off x="2876760" y="3505320"/>
                <a:ext cx="558720" cy="304560"/>
              </a:xfrm>
              <a:custGeom>
                <a:avLst/>
                <a:gdLst/>
                <a:ahLst/>
                <a:rect l="l" t="t" r="r" b="b"/>
                <a:pathLst>
                  <a:path fill="none" w="40406" h="21600">
                    <a:moveTo>
                      <a:pt x="40405" y="5290"/>
                    </a:moveTo>
                    <a:cubicBezTo>
                      <a:pt x="37983" y="14881"/>
                      <a:pt x="29355" y="21599"/>
                      <a:pt x="19464" y="21600"/>
                    </a:cubicBezTo>
                    <a:cubicBezTo>
                      <a:pt x="11164" y="21600"/>
                      <a:pt x="3598" y="16844"/>
                      <a:pt x="-1" y="9365"/>
                    </a:cubicBezTo>
                  </a:path>
                  <a:path stroke="0" w="40406" h="21600">
                    <a:moveTo>
                      <a:pt x="40405" y="5290"/>
                    </a:moveTo>
                    <a:cubicBezTo>
                      <a:pt x="37983" y="14881"/>
                      <a:pt x="29355" y="21599"/>
                      <a:pt x="19464" y="21600"/>
                    </a:cubicBezTo>
                    <a:cubicBezTo>
                      <a:pt x="11164" y="21600"/>
                      <a:pt x="3598" y="16844"/>
                      <a:pt x="-1" y="9365"/>
                    </a:cubicBezTo>
                    <a:lnTo>
                      <a:pt x="19464" y="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20"/>
              <p:cNvSpPr/>
              <p:nvPr/>
            </p:nvSpPr>
            <p:spPr>
              <a:xfrm>
                <a:off x="2819520" y="37339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21"/>
              <p:cNvSpPr/>
              <p:nvPr/>
            </p:nvSpPr>
            <p:spPr>
              <a:xfrm>
                <a:off x="2057400" y="419112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22"/>
              <p:cNvSpPr/>
              <p:nvPr/>
            </p:nvSpPr>
            <p:spPr>
              <a:xfrm>
                <a:off x="1143000" y="449568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23"/>
              <p:cNvSpPr/>
              <p:nvPr/>
            </p:nvSpPr>
            <p:spPr>
              <a:xfrm>
                <a:off x="1295640" y="35053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24"/>
              <p:cNvSpPr/>
              <p:nvPr/>
            </p:nvSpPr>
            <p:spPr>
              <a:xfrm>
                <a:off x="2057400" y="327672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25"/>
              <p:cNvSpPr/>
              <p:nvPr/>
            </p:nvSpPr>
            <p:spPr>
              <a:xfrm>
                <a:off x="3581640" y="33526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26"/>
              <p:cNvSpPr/>
              <p:nvPr/>
            </p:nvSpPr>
            <p:spPr>
              <a:xfrm>
                <a:off x="3429000" y="251460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27"/>
              <p:cNvSpPr/>
              <p:nvPr/>
            </p:nvSpPr>
            <p:spPr>
              <a:xfrm>
                <a:off x="2667240" y="28195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8"/>
          <p:cNvGrpSpPr/>
          <p:nvPr/>
        </p:nvGrpSpPr>
        <p:grpSpPr>
          <a:xfrm>
            <a:off x="5181480" y="2057400"/>
            <a:ext cx="3505320" cy="2895840"/>
            <a:chOff x="5181480" y="2057400"/>
            <a:chExt cx="3505320" cy="2895840"/>
          </a:xfrm>
        </p:grpSpPr>
        <p:grpSp>
          <p:nvGrpSpPr>
            <p:cNvPr id="167" name="Group 29"/>
            <p:cNvGrpSpPr/>
            <p:nvPr/>
          </p:nvGrpSpPr>
          <p:grpSpPr>
            <a:xfrm>
              <a:off x="5181480" y="2057400"/>
              <a:ext cx="3505320" cy="2895840"/>
              <a:chOff x="5181480" y="2057400"/>
              <a:chExt cx="3505320" cy="28958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5181480" y="4952880"/>
                <a:ext cx="3124440" cy="360"/>
                <a:chOff x="5181480" y="4952880"/>
                <a:chExt cx="3124440" cy="360"/>
              </a:xfrm>
            </p:grpSpPr>
            <p:sp>
              <p:nvSpPr>
                <p:cNvPr id="169" name="Line 30"/>
                <p:cNvSpPr/>
                <p:nvPr/>
              </p:nvSpPr>
              <p:spPr>
                <a:xfrm>
                  <a:off x="5181480" y="4952880"/>
                  <a:ext cx="3124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 txBox="1"/>
                <p:nvPr/>
              </p:nvSpPr>
              <p:spPr>
                <a:xfrm>
                  <a:off x="5181480" y="4952880"/>
                  <a:ext cx="3124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019920" y="2514600"/>
                <a:ext cx="360" cy="2438280"/>
                <a:chOff x="6019920" y="2514600"/>
                <a:chExt cx="360" cy="2438280"/>
              </a:xfrm>
            </p:grpSpPr>
            <p:sp>
              <p:nvSpPr>
                <p:cNvPr id="172" name="Line 31"/>
                <p:cNvSpPr/>
                <p:nvPr/>
              </p:nvSpPr>
              <p:spPr>
                <a:xfrm>
                  <a:off x="6019920" y="2514600"/>
                  <a:ext cx="0" cy="2438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 txBox="1"/>
                <p:nvPr/>
              </p:nvSpPr>
              <p:spPr>
                <a:xfrm>
                  <a:off x="6019920" y="2514600"/>
                  <a:ext cx="360" cy="24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7238880" y="2514600"/>
                <a:ext cx="360" cy="2438280"/>
                <a:chOff x="7238880" y="2514600"/>
                <a:chExt cx="360" cy="2438280"/>
              </a:xfrm>
            </p:grpSpPr>
            <p:sp>
              <p:nvSpPr>
                <p:cNvPr id="175" name="Line 32"/>
                <p:cNvSpPr/>
                <p:nvPr/>
              </p:nvSpPr>
              <p:spPr>
                <a:xfrm>
                  <a:off x="7238880" y="2514600"/>
                  <a:ext cx="0" cy="2438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 txBox="1"/>
                <p:nvPr/>
              </p:nvSpPr>
              <p:spPr>
                <a:xfrm>
                  <a:off x="7238880" y="2514600"/>
                  <a:ext cx="360" cy="24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Text Box 33"/>
              <p:cNvSpPr/>
              <p:nvPr/>
            </p:nvSpPr>
            <p:spPr>
              <a:xfrm>
                <a:off x="5486400" y="207180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34"/>
              <p:cNvSpPr/>
              <p:nvPr/>
            </p:nvSpPr>
            <p:spPr>
              <a:xfrm>
                <a:off x="7315200" y="205740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35"/>
              <p:cNvSpPr/>
              <p:nvPr/>
            </p:nvSpPr>
            <p:spPr>
              <a:xfrm>
                <a:off x="8001000" y="434340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Arc 36"/>
            <p:cNvSpPr/>
            <p:nvPr/>
          </p:nvSpPr>
          <p:spPr>
            <a:xfrm>
              <a:off x="6019920" y="4648320"/>
              <a:ext cx="304560" cy="304560"/>
            </a:xfrm>
            <a:custGeom>
              <a:avLst/>
              <a:gdLst/>
              <a:ahLst/>
              <a:rect l="l" t="t" r="r" b="b"/>
              <a:pathLst>
                <a:path fill="none" w="21600" h="21398">
                  <a:moveTo>
                    <a:pt x="2949" y="0"/>
                  </a:moveTo>
                  <a:cubicBezTo>
                    <a:pt x="13638" y="1473"/>
                    <a:pt x="21600" y="10608"/>
                    <a:pt x="21600" y="21398"/>
                  </a:cubicBezTo>
                </a:path>
                <a:path stroke="0" w="21600" h="21398">
                  <a:moveTo>
                    <a:pt x="2949" y="0"/>
                  </a:moveTo>
                  <a:cubicBezTo>
                    <a:pt x="13638" y="1473"/>
                    <a:pt x="21600" y="10608"/>
                    <a:pt x="21600" y="21398"/>
                  </a:cubicBezTo>
                  <a:lnTo>
                    <a:pt x="0" y="21398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rc 37"/>
            <p:cNvSpPr/>
            <p:nvPr/>
          </p:nvSpPr>
          <p:spPr>
            <a:xfrm>
              <a:off x="7238880" y="4648320"/>
              <a:ext cx="304920" cy="304560"/>
            </a:xfrm>
            <a:custGeom>
              <a:avLst/>
              <a:gdLst/>
              <a:ahLst/>
              <a:rect l="l" t="t" r="r" b="b"/>
              <a:pathLst>
                <a:path fill="none" w="21600" h="21398">
                  <a:moveTo>
                    <a:pt x="2949" y="0"/>
                  </a:moveTo>
                  <a:cubicBezTo>
                    <a:pt x="13638" y="1473"/>
                    <a:pt x="21600" y="10608"/>
                    <a:pt x="21600" y="21398"/>
                  </a:cubicBezTo>
                </a:path>
                <a:path stroke="0" w="21600" h="21398">
                  <a:moveTo>
                    <a:pt x="2949" y="0"/>
                  </a:moveTo>
                  <a:cubicBezTo>
                    <a:pt x="13638" y="1473"/>
                    <a:pt x="21600" y="10608"/>
                    <a:pt x="21600" y="21398"/>
                  </a:cubicBezTo>
                  <a:lnTo>
                    <a:pt x="0" y="21398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rc 38"/>
            <p:cNvSpPr/>
            <p:nvPr/>
          </p:nvSpPr>
          <p:spPr>
            <a:xfrm flipH="1">
              <a:off x="6934320" y="4648320"/>
              <a:ext cx="304560" cy="304560"/>
            </a:xfrm>
            <a:custGeom>
              <a:avLst/>
              <a:gdLst/>
              <a:ahLst/>
              <a:rect l="l" t="t" r="r" b="b"/>
              <a:pathLst>
                <a:path fill="none" w="21600" h="21398">
                  <a:moveTo>
                    <a:pt x="2949" y="0"/>
                  </a:moveTo>
                  <a:cubicBezTo>
                    <a:pt x="13638" y="1473"/>
                    <a:pt x="21600" y="10608"/>
                    <a:pt x="21600" y="21398"/>
                  </a:cubicBezTo>
                </a:path>
                <a:path stroke="0" w="21600" h="21398">
                  <a:moveTo>
                    <a:pt x="2949" y="0"/>
                  </a:moveTo>
                  <a:cubicBezTo>
                    <a:pt x="13638" y="1473"/>
                    <a:pt x="21600" y="10608"/>
                    <a:pt x="21600" y="21398"/>
                  </a:cubicBezTo>
                  <a:lnTo>
                    <a:pt x="0" y="21398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rc 39"/>
            <p:cNvSpPr/>
            <p:nvPr/>
          </p:nvSpPr>
          <p:spPr>
            <a:xfrm flipH="1">
              <a:off x="5714280" y="4648320"/>
              <a:ext cx="304920" cy="304560"/>
            </a:xfrm>
            <a:custGeom>
              <a:avLst/>
              <a:gdLst/>
              <a:ahLst/>
              <a:rect l="l" t="t" r="r" b="b"/>
              <a:pathLst>
                <a:path fill="none" w="21600" h="21398">
                  <a:moveTo>
                    <a:pt x="2949" y="0"/>
                  </a:moveTo>
                  <a:cubicBezTo>
                    <a:pt x="13638" y="1473"/>
                    <a:pt x="21600" y="10608"/>
                    <a:pt x="21600" y="21398"/>
                  </a:cubicBezTo>
                </a:path>
                <a:path stroke="0" w="21600" h="21398">
                  <a:moveTo>
                    <a:pt x="2949" y="0"/>
                  </a:moveTo>
                  <a:cubicBezTo>
                    <a:pt x="13638" y="1473"/>
                    <a:pt x="21600" y="10608"/>
                    <a:pt x="21600" y="21398"/>
                  </a:cubicBezTo>
                  <a:lnTo>
                    <a:pt x="0" y="21398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40"/>
            <p:cNvSpPr/>
            <p:nvPr/>
          </p:nvSpPr>
          <p:spPr>
            <a:xfrm>
              <a:off x="5410080" y="4267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41"/>
            <p:cNvSpPr/>
            <p:nvPr/>
          </p:nvSpPr>
          <p:spPr>
            <a:xfrm flipH="1">
              <a:off x="739152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2"/>
            <p:cNvSpPr/>
            <p:nvPr/>
          </p:nvSpPr>
          <p:spPr>
            <a:xfrm>
              <a:off x="6705720" y="4281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3"/>
            <p:cNvSpPr/>
            <p:nvPr/>
          </p:nvSpPr>
          <p:spPr>
            <a:xfrm>
              <a:off x="6095880" y="4267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BA39-57E5-4874-AB38-9E695234A9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852480" y="2852640"/>
            <a:ext cx="829152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-25000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179 </a:t>
            </a:r>
            <a:r>
              <a:rPr b="1" lang="zh-CN" sz="4800" spc="-1" strike="noStrike" baseline="-25000">
                <a:solidFill>
                  <a:srgbClr val="0000ff"/>
                </a:solidFill>
                <a:latin typeface="Arial"/>
              </a:rPr>
              <a:t>习题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5.2</a:t>
            </a:r>
            <a:r>
              <a:rPr b="1" lang="zh-CN" sz="4800" spc="-1" strike="noStrike" baseline="-25000">
                <a:solidFill>
                  <a:srgbClr val="0000ff"/>
                </a:solidFill>
                <a:latin typeface="Arial"/>
              </a:rPr>
              <a:t>第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 baseline="-25000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800" spc="-1" strike="noStrike" baseline="-25000">
                <a:solidFill>
                  <a:srgbClr val="0000ff"/>
                </a:solidFill>
                <a:latin typeface="Arial"/>
              </a:rPr>
              <a:t>题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4"/>
          <p:cNvSpPr txBox="1"/>
          <p:nvPr/>
        </p:nvSpPr>
        <p:spPr>
          <a:xfrm>
            <a:off x="1187280" y="476280"/>
            <a:ext cx="169560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2"/>
          <p:cNvSpPr/>
          <p:nvPr/>
        </p:nvSpPr>
        <p:spPr>
          <a:xfrm>
            <a:off x="684360" y="1700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同一水平面上，不相交的两条直线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330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条直线相交有几个交点？相交的两条直线有什么特殊的位置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看一看，它们有什么共同之处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电梯1"/>
          <p:cNvPicPr/>
          <p:nvPr/>
        </p:nvPicPr>
        <p:blipFill>
          <a:blip r:embed="rId1"/>
          <a:stretch/>
        </p:blipFill>
        <p:spPr>
          <a:xfrm>
            <a:off x="1219320" y="2438280"/>
            <a:ext cx="2309760" cy="4038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双杠"/>
          <p:cNvPicPr/>
          <p:nvPr/>
        </p:nvPicPr>
        <p:blipFill>
          <a:blip r:embed="rId2"/>
          <a:stretch/>
        </p:blipFill>
        <p:spPr>
          <a:xfrm>
            <a:off x="3733920" y="2209680"/>
            <a:ext cx="3733560" cy="1706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铁轨"/>
          <p:cNvPicPr/>
          <p:nvPr/>
        </p:nvPicPr>
        <p:blipFill>
          <a:blip r:embed="rId3"/>
          <a:stretch/>
        </p:blipFill>
        <p:spPr>
          <a:xfrm>
            <a:off x="4038480" y="4114800"/>
            <a:ext cx="3124440" cy="2343240"/>
          </a:xfrm>
          <a:prstGeom prst="rect">
            <a:avLst/>
          </a:prstGeom>
          <a:ln w="0">
            <a:noFill/>
          </a:ln>
        </p:spPr>
      </p:pic>
      <p:sp>
        <p:nvSpPr>
          <p:cNvPr id="194" name="Oval 6"/>
          <p:cNvSpPr/>
          <p:nvPr/>
        </p:nvSpPr>
        <p:spPr>
          <a:xfrm>
            <a:off x="1600200" y="3581280"/>
            <a:ext cx="1600200" cy="685800"/>
          </a:xfrm>
          <a:prstGeom prst="ellips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5029200" y="2133720"/>
            <a:ext cx="1600200" cy="685800"/>
          </a:xfrm>
          <a:prstGeom prst="ellips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5029200" y="5105520"/>
            <a:ext cx="1600200" cy="685800"/>
          </a:xfrm>
          <a:prstGeom prst="ellips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04920" y="3581280"/>
            <a:ext cx="1143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扶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705720" y="1676520"/>
            <a:ext cx="1143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双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6858000" y="5029200"/>
            <a:ext cx="1143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铁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8360" y="764640"/>
            <a:ext cx="8151840" cy="1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平行线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一平面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不相交的两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线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叫做平行线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6920" y="35733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１）如果没有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一平面内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”，不相交的两条直线平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826920" y="4724280"/>
            <a:ext cx="74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２）定义中的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”能改成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线段或射线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”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8"/>
          <p:cNvGrpSpPr/>
          <p:nvPr/>
        </p:nvGrpSpPr>
        <p:grpSpPr>
          <a:xfrm>
            <a:off x="214560" y="2234520"/>
            <a:ext cx="2700000" cy="1166040"/>
            <a:chOff x="214560" y="2234520"/>
            <a:chExt cx="2700000" cy="1166040"/>
          </a:xfrm>
        </p:grpSpPr>
        <p:sp>
          <p:nvSpPr>
            <p:cNvPr id="204" name="AutoShape 9"/>
            <p:cNvSpPr/>
            <p:nvPr/>
          </p:nvSpPr>
          <p:spPr>
            <a:xfrm rot="10494600">
              <a:off x="250560" y="2349000"/>
              <a:ext cx="2627280" cy="936720"/>
            </a:xfrm>
            <a:prstGeom prst="cloudCallout">
              <a:avLst>
                <a:gd name="adj1" fmla="val -56810"/>
                <a:gd name="adj2" fmla="val -109365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1650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"/>
            <p:cNvSpPr/>
            <p:nvPr/>
          </p:nvSpPr>
          <p:spPr>
            <a:xfrm>
              <a:off x="912600" y="2629800"/>
              <a:ext cx="87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Arial"/>
                  <a:ea typeface="华文新魏"/>
                </a:rPr>
                <a:t>    </a:t>
              </a:r>
              <a:r>
                <a:rPr b="1" lang="zh-CN" sz="2400" spc="-1" strike="noStrike">
                  <a:solidFill>
                    <a:srgbClr val="cc0066"/>
                  </a:solidFill>
                  <a:latin typeface="Arial"/>
                  <a:ea typeface="华文新魏"/>
                </a:rPr>
                <a:t>想一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11"/>
          <p:cNvSpPr/>
          <p:nvPr/>
        </p:nvSpPr>
        <p:spPr>
          <a:xfrm>
            <a:off x="1476360" y="5516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线段或射线的平行，是指它们所在的直线的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46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不相交的直线就是平行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2987640" y="1700280"/>
            <a:ext cx="2984400" cy="2523240"/>
            <a:chOff x="2987640" y="1700280"/>
            <a:chExt cx="2984400" cy="2523240"/>
          </a:xfrm>
        </p:grpSpPr>
        <p:sp>
          <p:nvSpPr>
            <p:cNvPr id="209" name="AutoShape 15"/>
            <p:cNvSpPr/>
            <p:nvPr/>
          </p:nvSpPr>
          <p:spPr>
            <a:xfrm>
              <a:off x="3341520" y="1863000"/>
              <a:ext cx="1972800" cy="542880"/>
            </a:xfrm>
            <a:prstGeom prst="parallelogram">
              <a:avLst>
                <a:gd name="adj" fmla="val 908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341520" y="2405880"/>
              <a:ext cx="360" cy="1411920"/>
              <a:chOff x="3341520" y="2405880"/>
              <a:chExt cx="360" cy="1411920"/>
            </a:xfrm>
          </p:grpSpPr>
          <p:sp>
            <p:nvSpPr>
              <p:cNvPr id="211" name="Line 16"/>
              <p:cNvSpPr/>
              <p:nvPr/>
            </p:nvSpPr>
            <p:spPr>
              <a:xfrm>
                <a:off x="3341520" y="2405880"/>
                <a:ext cx="0" cy="141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3341520" y="2405880"/>
                <a:ext cx="360" cy="141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4808520" y="2405880"/>
              <a:ext cx="360" cy="1411920"/>
              <a:chOff x="4808520" y="2405880"/>
              <a:chExt cx="360" cy="1411920"/>
            </a:xfrm>
          </p:grpSpPr>
          <p:sp>
            <p:nvSpPr>
              <p:cNvPr id="214" name="Line 17"/>
              <p:cNvSpPr/>
              <p:nvPr/>
            </p:nvSpPr>
            <p:spPr>
              <a:xfrm>
                <a:off x="4808520" y="2405880"/>
                <a:ext cx="0" cy="141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4808520" y="2405880"/>
                <a:ext cx="360" cy="141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341520" y="3818160"/>
              <a:ext cx="1467000" cy="360"/>
              <a:chOff x="3341520" y="3818160"/>
              <a:chExt cx="1467000" cy="360"/>
            </a:xfrm>
          </p:grpSpPr>
          <p:sp>
            <p:nvSpPr>
              <p:cNvPr id="217" name="Line 18"/>
              <p:cNvSpPr/>
              <p:nvPr/>
            </p:nvSpPr>
            <p:spPr>
              <a:xfrm>
                <a:off x="3341520" y="3818160"/>
                <a:ext cx="146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3341520" y="3818160"/>
                <a:ext cx="1467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314320" y="1863000"/>
              <a:ext cx="360" cy="1466280"/>
              <a:chOff x="5314320" y="1863000"/>
              <a:chExt cx="360" cy="1466280"/>
            </a:xfrm>
          </p:grpSpPr>
          <p:sp>
            <p:nvSpPr>
              <p:cNvPr id="220" name="Line 19"/>
              <p:cNvSpPr/>
              <p:nvPr/>
            </p:nvSpPr>
            <p:spPr>
              <a:xfrm>
                <a:off x="5314320" y="186300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5314320" y="1863000"/>
                <a:ext cx="360" cy="146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808520" y="3329280"/>
              <a:ext cx="505440" cy="488520"/>
              <a:chOff x="4808520" y="3329280"/>
              <a:chExt cx="505440" cy="488520"/>
            </a:xfrm>
          </p:grpSpPr>
          <p:sp>
            <p:nvSpPr>
              <p:cNvPr id="223" name="Line 20"/>
              <p:cNvSpPr/>
              <p:nvPr/>
            </p:nvSpPr>
            <p:spPr>
              <a:xfrm flipH="1">
                <a:off x="4808520" y="3329280"/>
                <a:ext cx="505440" cy="4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4808520" y="3329280"/>
                <a:ext cx="505440" cy="488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847320" y="1863000"/>
              <a:ext cx="360" cy="1466280"/>
              <a:chOff x="3847320" y="1863000"/>
              <a:chExt cx="360" cy="1466280"/>
            </a:xfrm>
          </p:grpSpPr>
          <p:sp>
            <p:nvSpPr>
              <p:cNvPr id="226" name="Line 21"/>
              <p:cNvSpPr/>
              <p:nvPr/>
            </p:nvSpPr>
            <p:spPr>
              <a:xfrm>
                <a:off x="3847320" y="1863000"/>
                <a:ext cx="0" cy="146628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3847320" y="1863000"/>
                <a:ext cx="360" cy="146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47320" y="3328920"/>
              <a:ext cx="1466640" cy="360"/>
              <a:chOff x="3847320" y="3328920"/>
              <a:chExt cx="1466640" cy="360"/>
            </a:xfrm>
          </p:grpSpPr>
          <p:sp>
            <p:nvSpPr>
              <p:cNvPr id="229" name="Line 22"/>
              <p:cNvSpPr/>
              <p:nvPr/>
            </p:nvSpPr>
            <p:spPr>
              <a:xfrm>
                <a:off x="3847320" y="3329280"/>
                <a:ext cx="14666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 rot="10800000">
                <a:off x="3847320" y="3328920"/>
                <a:ext cx="1466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342600" y="3329280"/>
              <a:ext cx="504720" cy="496440"/>
              <a:chOff x="3342600" y="3329280"/>
              <a:chExt cx="504720" cy="496440"/>
            </a:xfrm>
          </p:grpSpPr>
          <p:sp>
            <p:nvSpPr>
              <p:cNvPr id="232" name="Line 23"/>
              <p:cNvSpPr/>
              <p:nvPr/>
            </p:nvSpPr>
            <p:spPr>
              <a:xfrm flipH="1">
                <a:off x="3342600" y="3329280"/>
                <a:ext cx="504720" cy="4964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3342600" y="3329280"/>
                <a:ext cx="504720" cy="49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24"/>
            <p:cNvSpPr/>
            <p:nvPr/>
          </p:nvSpPr>
          <p:spPr>
            <a:xfrm>
              <a:off x="3139200" y="365616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4655520" y="376380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5263920" y="32749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3594600" y="31118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8"/>
            <p:cNvSpPr/>
            <p:nvPr/>
          </p:nvSpPr>
          <p:spPr>
            <a:xfrm>
              <a:off x="3139200" y="2026080"/>
              <a:ext cx="455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9"/>
            <p:cNvSpPr/>
            <p:nvPr/>
          </p:nvSpPr>
          <p:spPr>
            <a:xfrm>
              <a:off x="3240360" y="2134440"/>
              <a:ext cx="45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0"/>
            <p:cNvSpPr/>
            <p:nvPr/>
          </p:nvSpPr>
          <p:spPr>
            <a:xfrm>
              <a:off x="3341520" y="2243160"/>
              <a:ext cx="45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1"/>
            <p:cNvSpPr/>
            <p:nvPr/>
          </p:nvSpPr>
          <p:spPr>
            <a:xfrm>
              <a:off x="3189600" y="2026080"/>
              <a:ext cx="455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2"/>
            <p:cNvSpPr/>
            <p:nvPr/>
          </p:nvSpPr>
          <p:spPr>
            <a:xfrm>
              <a:off x="3291120" y="2134440"/>
              <a:ext cx="45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3"/>
            <p:cNvSpPr/>
            <p:nvPr/>
          </p:nvSpPr>
          <p:spPr>
            <a:xfrm>
              <a:off x="2987640" y="2298600"/>
              <a:ext cx="80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4555440" y="2352960"/>
              <a:ext cx="60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263920" y="1754280"/>
              <a:ext cx="5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6"/>
            <p:cNvSpPr/>
            <p:nvPr/>
          </p:nvSpPr>
          <p:spPr>
            <a:xfrm>
              <a:off x="3543840" y="1700280"/>
              <a:ext cx="40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990720" y="16002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我们通常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/”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表示平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755640" y="83664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平行线的表示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1066680" y="2286000"/>
            <a:ext cx="3200400" cy="2197800"/>
            <a:chOff x="1066680" y="2286000"/>
            <a:chExt cx="3200400" cy="2197800"/>
          </a:xfrm>
        </p:grpSpPr>
        <p:sp>
          <p:nvSpPr>
            <p:cNvPr id="250" name="Text Box 5"/>
            <p:cNvSpPr/>
            <p:nvPr/>
          </p:nvSpPr>
          <p:spPr>
            <a:xfrm>
              <a:off x="1676160" y="333864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C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2742840" y="34149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"/>
            <p:cNvSpPr/>
            <p:nvPr/>
          </p:nvSpPr>
          <p:spPr>
            <a:xfrm>
              <a:off x="2895480" y="22860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8"/>
            <p:cNvSpPr/>
            <p:nvPr/>
          </p:nvSpPr>
          <p:spPr>
            <a:xfrm>
              <a:off x="1599840" y="23479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066680" y="2845080"/>
              <a:ext cx="2895480" cy="360"/>
              <a:chOff x="1066680" y="2845080"/>
              <a:chExt cx="2895480" cy="360"/>
            </a:xfrm>
          </p:grpSpPr>
          <p:sp>
            <p:nvSpPr>
              <p:cNvPr id="255" name="Line 9"/>
              <p:cNvSpPr/>
              <p:nvPr/>
            </p:nvSpPr>
            <p:spPr>
              <a:xfrm>
                <a:off x="1066680" y="2845080"/>
                <a:ext cx="2895480" cy="0"/>
              </a:xfrm>
              <a:prstGeom prst="line">
                <a:avLst/>
              </a:prstGeom>
              <a:ln cap="sq"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1066680" y="2845080"/>
                <a:ext cx="2895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10"/>
            <p:cNvSpPr/>
            <p:nvPr/>
          </p:nvSpPr>
          <p:spPr>
            <a:xfrm>
              <a:off x="2865240" y="23479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33cc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"/>
            <p:cNvSpPr/>
            <p:nvPr/>
          </p:nvSpPr>
          <p:spPr>
            <a:xfrm>
              <a:off x="1645920" y="23479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066680" y="3911760"/>
              <a:ext cx="2971800" cy="360"/>
              <a:chOff x="1066680" y="3911760"/>
              <a:chExt cx="2971800" cy="360"/>
            </a:xfrm>
          </p:grpSpPr>
          <p:sp>
            <p:nvSpPr>
              <p:cNvPr id="260" name="Line 12"/>
              <p:cNvSpPr/>
              <p:nvPr/>
            </p:nvSpPr>
            <p:spPr>
              <a:xfrm>
                <a:off x="1066680" y="3911760"/>
                <a:ext cx="2971800" cy="0"/>
              </a:xfrm>
              <a:prstGeom prst="line">
                <a:avLst/>
              </a:prstGeom>
              <a:ln cap="sq"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1066680" y="3911760"/>
                <a:ext cx="297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Rectangle 13"/>
            <p:cNvSpPr/>
            <p:nvPr/>
          </p:nvSpPr>
          <p:spPr>
            <a:xfrm>
              <a:off x="1639800" y="3292560"/>
              <a:ext cx="48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Times New Roman"/>
                </a:rPr>
                <a:t>·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2895480" y="3292560"/>
              <a:ext cx="137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Times New Roman"/>
                </a:rPr>
                <a:t>·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5"/>
          <p:cNvGrpSpPr/>
          <p:nvPr/>
        </p:nvGrpSpPr>
        <p:grpSpPr>
          <a:xfrm>
            <a:off x="914400" y="4419720"/>
            <a:ext cx="3203640" cy="764280"/>
            <a:chOff x="914400" y="4419720"/>
            <a:chExt cx="3203640" cy="764280"/>
          </a:xfrm>
        </p:grpSpPr>
        <p:sp>
          <p:nvSpPr>
            <p:cNvPr id="265" name="Text Box 16"/>
            <p:cNvSpPr/>
            <p:nvPr/>
          </p:nvSpPr>
          <p:spPr>
            <a:xfrm>
              <a:off x="914400" y="4419720"/>
              <a:ext cx="32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m ∥ 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17"/>
            <p:cNvSpPr/>
            <p:nvPr/>
          </p:nvSpPr>
          <p:spPr>
            <a:xfrm>
              <a:off x="3110040" y="4676400"/>
              <a:ext cx="1008000" cy="431640"/>
            </a:xfrm>
            <a:prstGeom prst="rightArrow">
              <a:avLst>
                <a:gd name="adj1" fmla="val 50000"/>
                <a:gd name="adj2" fmla="val 58360"/>
              </a:avLst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18"/>
          <p:cNvGrpSpPr/>
          <p:nvPr/>
        </p:nvGrpSpPr>
        <p:grpSpPr>
          <a:xfrm>
            <a:off x="4495680" y="2590920"/>
            <a:ext cx="4319640" cy="642600"/>
            <a:chOff x="4495680" y="2590920"/>
            <a:chExt cx="4319640" cy="642600"/>
          </a:xfrm>
        </p:grpSpPr>
        <p:sp>
          <p:nvSpPr>
            <p:cNvPr id="268" name="Text Box 19"/>
            <p:cNvSpPr/>
            <p:nvPr/>
          </p:nvSpPr>
          <p:spPr>
            <a:xfrm>
              <a:off x="4495680" y="2590920"/>
              <a:ext cx="43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       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AB ∥ C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20"/>
            <p:cNvSpPr/>
            <p:nvPr/>
          </p:nvSpPr>
          <p:spPr>
            <a:xfrm>
              <a:off x="4640400" y="2655720"/>
              <a:ext cx="1295280" cy="504360"/>
            </a:xfrm>
            <a:prstGeom prst="leftArrow">
              <a:avLst>
                <a:gd name="adj1" fmla="val 50000"/>
                <a:gd name="adj2" fmla="val 64180"/>
              </a:avLst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1"/>
          <p:cNvGrpSpPr/>
          <p:nvPr/>
        </p:nvGrpSpPr>
        <p:grpSpPr>
          <a:xfrm>
            <a:off x="4648320" y="4267080"/>
            <a:ext cx="3423600" cy="1526400"/>
            <a:chOff x="4648320" y="4267080"/>
            <a:chExt cx="3423600" cy="1526400"/>
          </a:xfrm>
        </p:grpSpPr>
        <p:grpSp>
          <p:nvGrpSpPr>
            <p:cNvPr id="271" name=""/>
            <p:cNvGrpSpPr/>
            <p:nvPr/>
          </p:nvGrpSpPr>
          <p:grpSpPr>
            <a:xfrm>
              <a:off x="5329080" y="4800240"/>
              <a:ext cx="2666520" cy="360"/>
              <a:chOff x="5329080" y="4800240"/>
              <a:chExt cx="2666520" cy="360"/>
            </a:xfrm>
          </p:grpSpPr>
          <p:sp>
            <p:nvSpPr>
              <p:cNvPr id="272" name="Line 22"/>
              <p:cNvSpPr/>
              <p:nvPr/>
            </p:nvSpPr>
            <p:spPr>
              <a:xfrm>
                <a:off x="5329080" y="4800240"/>
                <a:ext cx="2666520" cy="0"/>
              </a:xfrm>
              <a:prstGeom prst="line">
                <a:avLst/>
              </a:prstGeom>
              <a:ln cap="sq"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5329080" y="4800240"/>
                <a:ext cx="266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405400" y="5412960"/>
              <a:ext cx="2666520" cy="360"/>
              <a:chOff x="5405400" y="5412960"/>
              <a:chExt cx="2666520" cy="360"/>
            </a:xfrm>
          </p:grpSpPr>
          <p:sp>
            <p:nvSpPr>
              <p:cNvPr id="275" name="Line 23"/>
              <p:cNvSpPr/>
              <p:nvPr/>
            </p:nvSpPr>
            <p:spPr>
              <a:xfrm>
                <a:off x="5405400" y="5412960"/>
                <a:ext cx="2666520" cy="0"/>
              </a:xfrm>
              <a:prstGeom prst="line">
                <a:avLst/>
              </a:prstGeom>
              <a:ln cap="sq"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5405400" y="5412960"/>
                <a:ext cx="266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24"/>
            <p:cNvSpPr/>
            <p:nvPr/>
          </p:nvSpPr>
          <p:spPr>
            <a:xfrm>
              <a:off x="4648320" y="4267080"/>
              <a:ext cx="717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5"/>
            <p:cNvSpPr/>
            <p:nvPr/>
          </p:nvSpPr>
          <p:spPr>
            <a:xfrm>
              <a:off x="4770000" y="4876560"/>
              <a:ext cx="52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6"/>
          <p:cNvSpPr/>
          <p:nvPr/>
        </p:nvSpPr>
        <p:spPr>
          <a:xfrm>
            <a:off x="4572000" y="35812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读作：　“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B </a:t>
            </a:r>
            <a:r>
              <a:rPr b="1" i="1" lang="zh-CN" sz="2400" spc="-1" strike="noStrike">
                <a:solidFill>
                  <a:srgbClr val="3333ff"/>
                </a:solidFill>
                <a:latin typeface="Arial"/>
              </a:rPr>
              <a:t>平行于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D”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7"/>
          <p:cNvSpPr/>
          <p:nvPr/>
        </p:nvSpPr>
        <p:spPr>
          <a:xfrm>
            <a:off x="4356000" y="573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读作：　“　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</a:t>
            </a:r>
            <a:r>
              <a:rPr b="1" i="1" lang="zh-CN" sz="2400" spc="-1" strike="noStrike">
                <a:solidFill>
                  <a:srgbClr val="3333ff"/>
                </a:solidFill>
                <a:latin typeface="Arial"/>
              </a:rPr>
              <a:t>平行于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”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8200"/>
          <p:cNvSpPr/>
          <p:nvPr/>
        </p:nvSpPr>
        <p:spPr>
          <a:xfrm>
            <a:off x="1738440" y="501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5:0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43Z</dcterms:modified>
  <cp:revision>15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