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A95-338B-495E-B16D-0437834C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374-5E90-4CA1-8698-DAC1BE72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F76-A75A-4107-9AD8-09CCD156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E5DD-D489-425C-ABA7-D56E8A08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4E8-6CF7-4611-8346-308002F5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0E1-CFB8-47BC-B314-2D22EFF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7D71-48B4-4AC3-9DF2-B5A84583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43BB-6E1C-4C91-B153-DA3CA80A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A912-B518-4FFC-A349-3024F568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2AC1-D69E-4B50-B172-CBA8787C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DC0-5E0B-436D-B963-AFE0CB10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C57-97A0-46EE-A551-220D220D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85B-F7EF-43D7-ADFB-612E7A77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0E56-FE12-422F-AA42-7A5D8902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EAE0-7DC5-4BB3-9F55-E03262A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E4EE-70E9-459A-9011-902FE922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6DD-30DE-4378-A805-03A25A60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63CC-046E-4C94-AA54-FFF817D5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A4185-2EB2-4FDE-A537-59B19218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1ECE-2AEB-41BE-AA73-C272B923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BA3C-86E9-449E-A8C8-A8D67A7C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086D-327C-4C4F-8EEC-D27A045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F9D0-7D1F-48F6-BB81-7A5BCE1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7F72-086A-4019-8404-60A7DFF0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4DC1-D4F1-4122-B3C1-A4DBA6ED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B67D1-D93F-4140-AA42-EC0B83ED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A50D-46C4-4391-8FDD-321D663D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E2451-2415-4576-9EAC-3853E277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6EAE-5ACF-4F8B-B734-5B0C1A05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4F45-FAEE-4D85-93CE-98971775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BBB50-6F2D-4F69-A23A-C744E738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C0D9-6A9F-45FE-8C53-75C6172B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CD8A-BDD7-492C-B679-4428260D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BDB-ABF8-4A3C-8B90-3750B33D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CE73-BD0D-420F-8162-2260C868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9E75-5FFC-44C3-9849-E57795A5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4AAC3-D744-488D-BD9D-491E11DF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E6B8-8B27-4CA0-B479-E2B6256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0E74-B32A-47C4-9153-9C477CDC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3E51-3BB0-4AEC-B055-2DE6572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6AEE-6877-4CE5-9B80-4335E121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A993-7EBA-492B-B825-6523FD1C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304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0" y="90792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5092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304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4800" y="2939760"/>
            <a:ext cx="27824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5313-6905-4AE3-85C0-6947818B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014-CD41-4CF4-868D-82D286ED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619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29F-AC40-4A68-8ED0-80024F4F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3713-1526-490B-8CAD-1F646BF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293976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DB5-E282-40E6-AB98-221A5916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907920"/>
            <a:ext cx="421704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2939760"/>
            <a:ext cx="8642160" cy="185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7089-B81A-48E4-ABA5-78B61E5B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EAD4-8633-411E-AC2A-103D8F6A6B26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2B08-203B-45B5-AFEA-BEF70B4D3D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68000" y="188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700000" y="188640"/>
            <a:ext cx="45356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08720" y="18864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E04D-8115-437C-B818-B7C28916F37E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50920" y="907920"/>
            <a:ext cx="86421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659640" y="26028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050920" y="6337440"/>
            <a:ext cx="504216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08360" y="6341760"/>
            <a:ext cx="15843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C6C4-3F95-4C17-83D5-40EF7EECC24A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人教新课标 六年级品德与社会上册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1763640" y="1989000"/>
            <a:ext cx="597708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朋友之间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9" descr="shui02"/>
          <p:cNvPicPr/>
          <p:nvPr/>
        </p:nvPicPr>
        <p:blipFill>
          <a:blip r:embed="rId1"/>
          <a:stretch/>
        </p:blipFill>
        <p:spPr>
          <a:xfrm>
            <a:off x="733320" y="765000"/>
            <a:ext cx="2435400" cy="606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0"/>
          <p:cNvSpPr/>
          <p:nvPr/>
        </p:nvSpPr>
        <p:spPr>
          <a:xfrm>
            <a:off x="1187280" y="1741320"/>
            <a:ext cx="66978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朋友之间的友谊如同一棵友谊树。有些行为像阳光、雨露一样，滋润着友谊树茁壮成长，使它枝繁叶茂，开出美丽的花朵，结出丰硕的果实；而有些行为则像毛毛虫一样，侵蚀我们的友谊树。你认为这些行为分别有哪些？把它们填写在树上的相应位置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shui02"/>
          <p:cNvPicPr/>
          <p:nvPr/>
        </p:nvPicPr>
        <p:blipFill>
          <a:blip r:embed="rId1"/>
          <a:stretch/>
        </p:blipFill>
        <p:spPr>
          <a:xfrm>
            <a:off x="755640" y="836640"/>
            <a:ext cx="2435400" cy="606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插图"/>
          <p:cNvPicPr/>
          <p:nvPr/>
        </p:nvPicPr>
        <p:blipFill>
          <a:blip r:embed="rId2"/>
          <a:stretch/>
        </p:blipFill>
        <p:spPr>
          <a:xfrm>
            <a:off x="2052720" y="836640"/>
            <a:ext cx="5761080" cy="5796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5311800" y="1844640"/>
            <a:ext cx="12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互相尊重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771640" y="220500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互相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870280" y="3546360"/>
            <a:ext cx="134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互相帮助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181320" y="505296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团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429080" y="4365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互相攀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4935600" y="541656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互相埋怨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文本框 8198"/>
          <p:cNvSpPr/>
          <p:nvPr/>
        </p:nvSpPr>
        <p:spPr>
          <a:xfrm>
            <a:off x="982800" y="38592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04"/>
          <p:cNvPicPr/>
          <p:nvPr/>
        </p:nvPicPr>
        <p:blipFill>
          <a:blip r:embed="rId1"/>
          <a:stretch/>
        </p:blipFill>
        <p:spPr>
          <a:xfrm>
            <a:off x="324000" y="260280"/>
            <a:ext cx="2447640" cy="647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"/>
          <p:cNvSpPr/>
          <p:nvPr/>
        </p:nvSpPr>
        <p:spPr>
          <a:xfrm>
            <a:off x="1692360" y="90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人名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1116000" y="1052640"/>
            <a:ext cx="6624360" cy="3600360"/>
            <a:chOff x="1116000" y="1052640"/>
            <a:chExt cx="6624360" cy="3600360"/>
          </a:xfrm>
        </p:grpSpPr>
        <p:sp>
          <p:nvSpPr>
            <p:cNvPr id="213" name="AutoShape 14"/>
            <p:cNvSpPr/>
            <p:nvPr/>
          </p:nvSpPr>
          <p:spPr>
            <a:xfrm>
              <a:off x="1116000" y="1052640"/>
              <a:ext cx="6476760" cy="360036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1562040" y="1620360"/>
              <a:ext cx="617832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　　最能施惠于朋友的，往往不是金钱或一切物质上的接济，而是那些亲切的态度，欢跃的谈话，同情的流露，纯真的赞美。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　　　　　　              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——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富兰克林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Text Box 7"/>
          <p:cNvSpPr/>
          <p:nvPr/>
        </p:nvSpPr>
        <p:spPr>
          <a:xfrm>
            <a:off x="1044720" y="4792680"/>
            <a:ext cx="741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钱和其他物质上的接济不过是人实现愿望的工具，其实人更注重的是灵魂上的安慰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04"/>
          <p:cNvPicPr/>
          <p:nvPr/>
        </p:nvPicPr>
        <p:blipFill>
          <a:blip r:embed="rId1"/>
          <a:stretch/>
        </p:blipFill>
        <p:spPr>
          <a:xfrm>
            <a:off x="685800" y="843120"/>
            <a:ext cx="2446200" cy="6062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1835280" y="1557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想知道保持友谊的秘诀吗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WordArt 4" descr=""/>
          <p:cNvPicPr/>
          <p:nvPr/>
        </p:nvPicPr>
        <p:blipFill>
          <a:blip r:embed="rId2"/>
          <a:stretch/>
        </p:blipFill>
        <p:spPr>
          <a:xfrm>
            <a:off x="2693880" y="2630520"/>
            <a:ext cx="3651480" cy="21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4989-5880-4DFE-A9EA-567291526C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故事与思考——真正的朋友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2600" y="1413000"/>
            <a:ext cx="777564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胖子和瘦子的友谊为什么经不起考验？他们是真正的朋友吗？你对“朋友”这个词有什么新的看法？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16000" y="3573360"/>
            <a:ext cx="727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正的朋友应该是同甘苦，共患难的知心朋友。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6983280" cy="105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"/>
              </a:rPr>
              <a:t>智力开发</a:t>
            </a:r>
            <a:endParaRPr b="1" lang="en-US" sz="6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2708280"/>
            <a:ext cx="5469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Arial"/>
              </a:rPr>
              <a:t>脑筋急转弯</a:t>
            </a:r>
            <a:endParaRPr b="0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9" name="Picture 4" descr="lda_pic"/>
          <p:cNvPicPr/>
          <p:nvPr/>
        </p:nvPicPr>
        <p:blipFill>
          <a:blip r:embed="rId1"/>
          <a:stretch/>
        </p:blipFill>
        <p:spPr>
          <a:xfrm>
            <a:off x="5029200" y="2006640"/>
            <a:ext cx="3048120" cy="406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192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智力开发：脑筋急转弯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1483920"/>
            <a:ext cx="50385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什么人骗人又骗自己？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55640" y="2492280"/>
            <a:ext cx="699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孩子和一个大人在夜晚行走，孩子是大人的儿子，大人却不是孩子的父亲，请问为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580000" y="15048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骗子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900000" y="4365720"/>
            <a:ext cx="39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因为他们是母子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01"/>
          <p:cNvPicPr/>
          <p:nvPr/>
        </p:nvPicPr>
        <p:blipFill>
          <a:blip r:embed="rId1"/>
          <a:stretch/>
        </p:blipFill>
        <p:spPr>
          <a:xfrm>
            <a:off x="684360" y="33336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4"/>
          <p:cNvSpPr/>
          <p:nvPr/>
        </p:nvSpPr>
        <p:spPr>
          <a:xfrm>
            <a:off x="3924360" y="60213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好朋友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5" descr="好朋友（1）"/>
          <p:cNvPicPr/>
          <p:nvPr/>
        </p:nvPicPr>
        <p:blipFill>
          <a:blip r:embed="rId2"/>
          <a:stretch/>
        </p:blipFill>
        <p:spPr>
          <a:xfrm>
            <a:off x="1187280" y="692280"/>
            <a:ext cx="7417080" cy="5359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01"/>
          <p:cNvPicPr/>
          <p:nvPr/>
        </p:nvPicPr>
        <p:blipFill>
          <a:blip r:embed="rId1"/>
          <a:stretch/>
        </p:blipFill>
        <p:spPr>
          <a:xfrm>
            <a:off x="828720" y="33336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3924360" y="602136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好朋友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12" descr="好朋友（2）"/>
          <p:cNvPicPr/>
          <p:nvPr/>
        </p:nvPicPr>
        <p:blipFill>
          <a:blip r:embed="rId2"/>
          <a:stretch/>
        </p:blipFill>
        <p:spPr>
          <a:xfrm>
            <a:off x="828720" y="1130400"/>
            <a:ext cx="7704000" cy="498132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8198"/>
          <p:cNvSpPr/>
          <p:nvPr/>
        </p:nvSpPr>
        <p:spPr>
          <a:xfrm>
            <a:off x="1198440" y="6890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ff5050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03"/>
          <p:cNvPicPr/>
          <p:nvPr/>
        </p:nvPicPr>
        <p:blipFill>
          <a:blip r:embed="rId1"/>
          <a:stretch/>
        </p:blipFill>
        <p:spPr>
          <a:xfrm>
            <a:off x="1116000" y="549360"/>
            <a:ext cx="2422440" cy="639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42"/>
          <p:cNvSpPr/>
          <p:nvPr/>
        </p:nvSpPr>
        <p:spPr>
          <a:xfrm>
            <a:off x="1219320" y="1830240"/>
            <a:ext cx="30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48"/>
          <p:cNvSpPr/>
          <p:nvPr/>
        </p:nvSpPr>
        <p:spPr>
          <a:xfrm>
            <a:off x="1332000" y="1557360"/>
            <a:ext cx="66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说说你有没有好朋友，你们是怎样成为好朋友的？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03"/>
          <p:cNvPicPr/>
          <p:nvPr/>
        </p:nvPicPr>
        <p:blipFill>
          <a:blip r:embed="rId1"/>
          <a:stretch/>
        </p:blipFill>
        <p:spPr>
          <a:xfrm>
            <a:off x="701640" y="49356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9"/>
          <p:cNvSpPr/>
          <p:nvPr/>
        </p:nvSpPr>
        <p:spPr>
          <a:xfrm>
            <a:off x="1042920" y="1298520"/>
            <a:ext cx="7602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朋友在我们的生活中是不可缺少的，真正的好朋友会在我们不开心的时候带来欢乐，在我们需要帮助的时候，伸出援助的双手。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219320" y="1830240"/>
            <a:ext cx="30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小男孩1"/>
          <p:cNvPicPr/>
          <p:nvPr/>
        </p:nvPicPr>
        <p:blipFill>
          <a:blip r:embed="rId2"/>
          <a:stretch/>
        </p:blipFill>
        <p:spPr>
          <a:xfrm>
            <a:off x="0" y="3841920"/>
            <a:ext cx="1352520" cy="30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03"/>
          <p:cNvPicPr/>
          <p:nvPr/>
        </p:nvPicPr>
        <p:blipFill>
          <a:blip r:embed="rId1"/>
          <a:stretch/>
        </p:blipFill>
        <p:spPr>
          <a:xfrm>
            <a:off x="684360" y="404640"/>
            <a:ext cx="2422440" cy="640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091240" y="1251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你的心中把朋友比作什么？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219320" y="1830240"/>
            <a:ext cx="30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900000" y="2100240"/>
            <a:ext cx="7488000" cy="3096720"/>
            <a:chOff x="900000" y="2100240"/>
            <a:chExt cx="7488000" cy="3096720"/>
          </a:xfrm>
        </p:grpSpPr>
        <p:sp>
          <p:nvSpPr>
            <p:cNvPr id="193" name="AutoShape 9"/>
            <p:cNvSpPr/>
            <p:nvPr/>
          </p:nvSpPr>
          <p:spPr>
            <a:xfrm>
              <a:off x="900000" y="2100240"/>
              <a:ext cx="6964200" cy="30967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1074240" y="2100240"/>
              <a:ext cx="7313760" cy="28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朋友是我们疲惫时依靠的一棵大树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朋友是我们搏击海浪时的一叶扁舟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朋友是我们登高远眺时的一架云梯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朋友是我们卧病在床时的一声问候；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1" descr="03"/>
          <p:cNvPicPr/>
          <p:nvPr/>
        </p:nvPicPr>
        <p:blipFill>
          <a:blip r:embed="rId1"/>
          <a:stretch/>
        </p:blipFill>
        <p:spPr>
          <a:xfrm>
            <a:off x="468360" y="549360"/>
            <a:ext cx="2422440" cy="637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529280" y="13413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我和朋友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900000" y="1989000"/>
            <a:ext cx="7562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在和朋友相处时，好的行为和做法不仅能给双方带来快乐，而且还有益于友谊的进一步发展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8" descr="好朋友（4）"/>
          <p:cNvPicPr/>
          <p:nvPr/>
        </p:nvPicPr>
        <p:blipFill>
          <a:blip r:embed="rId2"/>
          <a:stretch/>
        </p:blipFill>
        <p:spPr>
          <a:xfrm>
            <a:off x="2603520" y="3357720"/>
            <a:ext cx="384012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02:38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33Z</dcterms:modified>
  <cp:revision>1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f006000000000001024120</vt:lpwstr>
  </property>
</Properties>
</file>