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D83-93DC-4F95-B7C3-47294A62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C44-F68E-44CB-B934-0F05D056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B37-C4F3-4FC9-BC64-90A545F2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1EF-D482-4E8C-87F1-56DF74E6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EDBB-57B6-4CD7-B18A-15957FE5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A701-64BF-4A56-A4B0-54752AFE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5092-B8F6-4C8C-868A-BAB68DAB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6311-F5FD-4167-92F4-DE27CED7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AEBA-87D9-4F0A-A4A9-A234979A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464B-4955-4ED6-AED9-6C6E5CAA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C27B-C12E-4906-9888-60E383C7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37E-41E1-4E6A-9F9A-D6DD1CF7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3B0B-6489-4CA1-A737-E08B3517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78E2-22C3-4F4A-AC9E-5A54378D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188C-D2B8-42C0-AFE9-6831FB37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075F-BEA0-4C51-ABCD-57FD2007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08A8-6E99-4CA9-B007-03EFF6D4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4CDB3-9103-4D88-8A64-F80C9AE1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209E-D868-424B-BFBA-95A51636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1487-977F-4ABE-BCF2-660647EF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7E8E-EE17-41B8-B8D9-E0F039C8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8449-4DC4-4DC7-ABF0-C4B90DD4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BC8-8107-43FF-8F00-7AD55391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2A63-6265-4EBC-BA06-1703BC83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7CFD-EB17-43EB-8673-C96CBF79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9A09B-1785-4FF8-92F2-ACC5A947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E3C5-5141-4F7C-BD84-9F0900EA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B5999-A820-4A18-8611-539373BF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CA7D-E331-438E-B355-A2757D13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A9A3-F95D-44AB-A933-6C770B69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3C4-55CB-4BE4-A0DE-B245EF0B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A93-3077-41E4-90E9-E9A39E78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BD6-E289-4A1A-B0DB-D6A42BE8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263-9E4B-401C-9D5E-7B94AD30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EEB-912F-42BB-BB5B-ED2E598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6F8-B3B6-4C44-937E-2C3DC3A2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DF5A-1D7D-4528-B4FB-43428752C8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99B1-A2B4-46CF-BDC9-A965169893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B2ED-B54A-4015-8532-D77C3928FE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../../AppData/Local/Temp/Rar$DI11.474/&#26376;&#32463;&#26399;&#21355;&#29983;.avi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771480" y="2435400"/>
            <a:ext cx="718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青春期课件</a:t>
            </a:r>
            <a:r>
              <a:rPr b="1" lang="en-US" sz="4000" spc="-1" strike="noStrike">
                <a:solidFill>
                  <a:srgbClr val="0d0d0d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3547080" y="69228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章   人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2843280" y="333360"/>
            <a:ext cx="60465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月经期间注意卫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FR_033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1600200" y="2666880"/>
            <a:ext cx="5257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青春期的心理变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及其卫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青春期心理特点的一些表现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ic_33612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pic_33613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586728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8196"/>
          <p:cNvSpPr/>
          <p:nvPr/>
        </p:nvSpPr>
        <p:spPr>
          <a:xfrm>
            <a:off x="1257480" y="60627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共同探讨科学的秘密"/>
          <p:cNvPicPr/>
          <p:nvPr/>
        </p:nvPicPr>
        <p:blipFill>
          <a:blip r:embed="rId1"/>
          <a:stretch/>
        </p:blipFill>
        <p:spPr>
          <a:xfrm>
            <a:off x="152280" y="487440"/>
            <a:ext cx="8763120" cy="5838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28600" y="5791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共同探讨科学的秘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活动中建立真诚的友谊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58910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04920" y="5791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活动中建立真诚的友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2BA4-BC6E-4E37-97A4-A991B13538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3"/>
          <p:cNvSpPr/>
          <p:nvPr/>
        </p:nvSpPr>
        <p:spPr>
          <a:xfrm>
            <a:off x="228600" y="609480"/>
            <a:ext cx="1905120" cy="1828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8"/>
          <p:cNvGrpSpPr/>
          <p:nvPr/>
        </p:nvGrpSpPr>
        <p:grpSpPr>
          <a:xfrm>
            <a:off x="1221840" y="1143000"/>
            <a:ext cx="7160040" cy="4876920"/>
            <a:chOff x="1221840" y="1143000"/>
            <a:chExt cx="7160040" cy="4876920"/>
          </a:xfrm>
        </p:grpSpPr>
        <p:sp>
          <p:nvSpPr>
            <p:cNvPr id="180" name="Text Box 7"/>
            <p:cNvSpPr/>
            <p:nvPr/>
          </p:nvSpPr>
          <p:spPr>
            <a:xfrm>
              <a:off x="1221840" y="2819520"/>
              <a:ext cx="60696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30"/>
                  </a:solidFill>
                  <a:latin typeface="隶书"/>
                  <a:ea typeface="隶书"/>
                </a:rPr>
                <a:t>青春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2209680" y="3200400"/>
              <a:ext cx="381240" cy="28195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1536"/>
                  </a:lnTo>
                  <a:cubicBezTo>
                    <a:pt x="10800" y="12436"/>
                    <a:pt x="5400" y="13336"/>
                    <a:pt x="0" y="13336"/>
                  </a:cubicBezTo>
                  <a:cubicBezTo>
                    <a:pt x="5400" y="13336"/>
                    <a:pt x="10800" y="14236"/>
                    <a:pt x="10800" y="1513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4114800" y="205740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30"/>
                  </a:solidFill>
                  <a:latin typeface="Arial"/>
                </a:rPr>
                <a:t>神经系统、心脏和肺等器管的功能增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0"/>
            <p:cNvSpPr/>
            <p:nvPr/>
          </p:nvSpPr>
          <p:spPr>
            <a:xfrm>
              <a:off x="25146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30"/>
                  </a:solidFill>
                  <a:latin typeface="Arial"/>
                </a:rPr>
                <a:t>青春期的身体变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3809880" y="1371600"/>
              <a:ext cx="228600" cy="24382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4077"/>
                  </a:lnTo>
                  <a:cubicBezTo>
                    <a:pt x="10800" y="14977"/>
                    <a:pt x="5400" y="15877"/>
                    <a:pt x="0" y="15877"/>
                  </a:cubicBezTo>
                  <a:cubicBezTo>
                    <a:pt x="5400" y="15877"/>
                    <a:pt x="10800" y="16777"/>
                    <a:pt x="10800" y="1767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5"/>
            <p:cNvSpPr/>
            <p:nvPr/>
          </p:nvSpPr>
          <p:spPr>
            <a:xfrm>
              <a:off x="4114800" y="1143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30"/>
                  </a:solidFill>
                  <a:latin typeface="Arial"/>
                </a:rPr>
                <a:t>身高突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5"/>
            <p:cNvSpPr/>
            <p:nvPr/>
          </p:nvSpPr>
          <p:spPr>
            <a:xfrm>
              <a:off x="2590920" y="56386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30"/>
                  </a:solidFill>
                  <a:latin typeface="Arial"/>
                </a:rPr>
                <a:t>人类的发展</a:t>
              </a:r>
              <a:r>
                <a:rPr b="1" lang="en-US" sz="1800" spc="-1" strike="noStrike">
                  <a:solidFill>
                    <a:srgbClr val="00003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2"/>
            <p:cNvSpPr/>
            <p:nvPr/>
          </p:nvSpPr>
          <p:spPr>
            <a:xfrm>
              <a:off x="4495680" y="556272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30"/>
                  </a:solidFill>
                  <a:latin typeface="Arial"/>
                </a:rPr>
                <a:t>青春期的心理变化及其卫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7"/>
            <p:cNvGrpSpPr/>
            <p:nvPr/>
          </p:nvGrpSpPr>
          <p:grpSpPr>
            <a:xfrm>
              <a:off x="4191120" y="2819520"/>
              <a:ext cx="4190760" cy="2361960"/>
              <a:chOff x="4191120" y="2819520"/>
              <a:chExt cx="4190760" cy="2361960"/>
            </a:xfrm>
          </p:grpSpPr>
          <p:sp>
            <p:nvSpPr>
              <p:cNvPr id="189" name="Text Box 20"/>
              <p:cNvSpPr/>
              <p:nvPr/>
            </p:nvSpPr>
            <p:spPr>
              <a:xfrm>
                <a:off x="4191120" y="358128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30"/>
                    </a:solidFill>
                    <a:latin typeface="Arial"/>
                  </a:rPr>
                  <a:t>性发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22"/>
              <p:cNvSpPr/>
              <p:nvPr/>
            </p:nvSpPr>
            <p:spPr>
              <a:xfrm>
                <a:off x="5410080" y="434340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30"/>
                    </a:solidFill>
                    <a:latin typeface="Arial"/>
                  </a:rPr>
                  <a:t>生理现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24"/>
              <p:cNvSpPr/>
              <p:nvPr/>
            </p:nvSpPr>
            <p:spPr>
              <a:xfrm>
                <a:off x="6934320" y="464832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30"/>
                    </a:solidFill>
                    <a:latin typeface="Arial"/>
                  </a:rPr>
                  <a:t>女孩：月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33"/>
              <p:cNvSpPr/>
              <p:nvPr/>
            </p:nvSpPr>
            <p:spPr>
              <a:xfrm>
                <a:off x="5181480" y="3048120"/>
                <a:ext cx="152640" cy="160020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34"/>
              <p:cNvSpPr/>
              <p:nvPr/>
            </p:nvSpPr>
            <p:spPr>
              <a:xfrm>
                <a:off x="5410080" y="281952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30"/>
                    </a:solidFill>
                    <a:latin typeface="Arial"/>
                  </a:rPr>
                  <a:t>性器管的发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35"/>
              <p:cNvSpPr/>
              <p:nvPr/>
            </p:nvSpPr>
            <p:spPr>
              <a:xfrm>
                <a:off x="6629400" y="3581280"/>
                <a:ext cx="228600" cy="16002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36"/>
              <p:cNvSpPr/>
              <p:nvPr/>
            </p:nvSpPr>
            <p:spPr>
              <a:xfrm>
                <a:off x="6934320" y="342900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30"/>
                    </a:solidFill>
                    <a:latin typeface="Arial"/>
                  </a:rPr>
                  <a:t>男孩：遗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复习巩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、男女生殖系统中，产生和输送生殖细胞的器官分别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、男女生殖系统中最重要的器官是什么？各有什么作用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、我们的身体发育是从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———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开始的，它的形成是在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————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内，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———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与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————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结合而成的。</a:t>
            </a:r>
            <a:br>
              <a:rPr sz="3000"/>
            </a:b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、受精卵形成后发生的变化依次是：细胞分裂形成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————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；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————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植入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————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，这是怀孕；细胞继续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————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————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发育成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————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；怀孕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周后，发育成胎儿；怀孕到第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———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周，胎儿发育成熟。 </a:t>
            </a:r>
            <a:br>
              <a:rPr sz="3000"/>
            </a:b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、胚胎与母体通过什么结构进行物质交换，获得营养和排出废物？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222"/>
          <p:cNvPicPr/>
          <p:nvPr/>
        </p:nvPicPr>
        <p:blipFill>
          <a:blip r:embed="rId1"/>
          <a:stretch/>
        </p:blipFill>
        <p:spPr>
          <a:xfrm>
            <a:off x="0" y="836640"/>
            <a:ext cx="4643280" cy="3287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333"/>
          <p:cNvPicPr/>
          <p:nvPr/>
        </p:nvPicPr>
        <p:blipFill>
          <a:blip r:embed="rId2"/>
          <a:stretch/>
        </p:blipFill>
        <p:spPr>
          <a:xfrm>
            <a:off x="4643280" y="907920"/>
            <a:ext cx="4500720" cy="32245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4300560"/>
            <a:ext cx="464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男孩和女孩身高突增的年龄有没有差别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你和本组身高的变化与图中数据完全一样吗？如果有出入，请分析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681440" y="4371840"/>
            <a:ext cx="46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男孩和女孩体形的变化与睾丸和卵巢的发育有关吗？你是怎样得出结论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男孩和女孩在青春期的变化还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24000" y="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讨论与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问题与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青春期身体变化的显著特点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进入青春期后随着性器官的迅速发育，男、女生出现的生理现象分别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男女生为什么会出现遗精和月经现象？女生在月经期应注意那些卫生状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对照课本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图结合自身实际，与同学交流讨论，青春期出现过哪些心里矛盾？联系自己的实际，说一说你是否有过类似的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应当怎样正确处理这些问题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典例解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下图是男女一些生殖器官的发育趋势图，请据图回答问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）从图中可以看出，在童年期，性器官的发育特点是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___________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，几乎处于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__________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状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）性器官发育的主要时期大约从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__________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岁到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__________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岁，这一时期被称为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__________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期。性器官发育的主要原因是，这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时期内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______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分泌的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______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促进性器官的发育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(3)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从图中看，女子青春期发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大约开始于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____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岁；男子青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期发育大约开始于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_____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(4)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在性器官发育的同时，人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形态也迅速发育，主要表现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____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_____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的迅速增加。</a:t>
            </a:r>
            <a:r>
              <a:rPr b="0" lang="zh-CN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333"/>
          <p:cNvPicPr/>
          <p:nvPr/>
        </p:nvPicPr>
        <p:blipFill>
          <a:blip r:embed="rId1"/>
          <a:stretch/>
        </p:blipFill>
        <p:spPr>
          <a:xfrm>
            <a:off x="4643280" y="2637000"/>
            <a:ext cx="4500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认识自我：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小时候，我们常会踮起脚尖、伸长脖子、抬起脸蛋，问着爸妈：“什么时候，我才能长得和你一样大？”而今终于长大了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每个人都有不同的成长节拍：有的快，有的慢。不管你的节拍如何，你总会长大的！不要一味地羡慕别人，我们需要的是了解一些青春期常识，养成良好的生活习惯，健康快乐地度过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16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岁的花季！请你根据所学的知识回答： 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    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）每个同学生命的起点都是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____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，孕育生命的摇篮都是在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____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    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）同学们进入青春期的第一个信号是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_____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。在这个时期，男、女同学都出现了正常的生理现象，分别是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__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___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    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）青春期是同学们一生中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___________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___________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的重要时期，因此应该集中精力学习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    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）小明进入青春期，有了强烈的独立意识，你认为他下列做法可行的是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________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。 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      ①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我已经长大，我的事不用你管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      ②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内心世界复杂，不想跟家长交流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      ③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生活中的矛盾心理，主动与老师或家长交流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      ④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我行我素，不听老师的劝告  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8196"/>
          <p:cNvSpPr/>
          <p:nvPr/>
        </p:nvSpPr>
        <p:spPr>
          <a:xfrm>
            <a:off x="1314360" y="26575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0" y="0"/>
            <a:ext cx="9144000" cy="6310080"/>
            <a:chOff x="0" y="0"/>
            <a:chExt cx="9144000" cy="6310080"/>
          </a:xfrm>
        </p:grpSpPr>
        <p:pic>
          <p:nvPicPr>
            <p:cNvPr id="151" name="Picture 2" descr="男孩和女孩的体形变化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8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"/>
            <p:cNvSpPr/>
            <p:nvPr/>
          </p:nvSpPr>
          <p:spPr>
            <a:xfrm>
              <a:off x="0" y="5789520"/>
              <a:ext cx="9144000" cy="520560"/>
            </a:xfrm>
            <a:prstGeom prst="rect">
              <a:avLst/>
            </a:prstGeom>
            <a:solidFill>
              <a:srgbClr val="871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男孩和女孩的体形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5"/>
          <p:cNvGrpSpPr/>
          <p:nvPr/>
        </p:nvGrpSpPr>
        <p:grpSpPr>
          <a:xfrm>
            <a:off x="0" y="0"/>
            <a:ext cx="9144000" cy="6311880"/>
            <a:chOff x="0" y="0"/>
            <a:chExt cx="9144000" cy="6311880"/>
          </a:xfrm>
        </p:grpSpPr>
        <p:pic>
          <p:nvPicPr>
            <p:cNvPr id="154" name="Picture 2" descr="遗精及其原因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4"/>
            <p:cNvSpPr/>
            <p:nvPr/>
          </p:nvSpPr>
          <p:spPr>
            <a:xfrm>
              <a:off x="0" y="5791320"/>
              <a:ext cx="9144000" cy="520560"/>
            </a:xfrm>
            <a:prstGeom prst="rect">
              <a:avLst/>
            </a:prstGeom>
            <a:solidFill>
              <a:srgbClr val="aab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遗精及其原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8"/>
          <p:cNvSpPr/>
          <p:nvPr/>
        </p:nvSpPr>
        <p:spPr>
          <a:xfrm>
            <a:off x="6019920" y="54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月经来潮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3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58" name="Picture 7" descr="月经来潮的原因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9"/>
            <p:cNvSpPr/>
            <p:nvPr/>
          </p:nvSpPr>
          <p:spPr>
            <a:xfrm>
              <a:off x="1981080" y="247680"/>
              <a:ext cx="6858000" cy="2128680"/>
            </a:xfrm>
            <a:prstGeom prst="rect">
              <a:avLst/>
            </a:prstGeom>
            <a:solidFill>
              <a:srgbClr val="fbfce4"/>
            </a:solidFill>
            <a:ln w="38160">
              <a:solidFill>
                <a:srgbClr val="d9d8ec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8008b"/>
                  </a:solidFill>
                  <a:latin typeface="Times New Roman"/>
                </a:rPr>
                <a:t>谈少女初次月经来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很多人知道，女性到了发育时期就会月经来潮，由于现代资讯发达，许多青少女在来潮之前也已经对月经有所认识，但尽管如此，大多数人一般上仍不愿在口头上多谈、多讨论月经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　　来潮虽是生理现象，但由于少女初来潮时有可能发生经痛、经期不准等生理问题，因此也需要母亲的心理建设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　　竹脚妇幼医院妇产专科叶敏俐医生说，少女来潮的第一年有可能经期不太准确，或者是经血过多，同时，一些少女也会出现生理痛的现象，这些都无须过于紧张。但叶医生也说：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“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少女如果经期太长，来了太多天没有停止，就应该去看医生，因为经血过多，有可能会导致贫血，因此，寻求医生的意见是有必要的。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 flipH="1">
              <a:off x="304200" y="4048560"/>
              <a:ext cx="2514600" cy="908640"/>
            </a:xfrm>
            <a:prstGeom prst="wedgeEllipseCallout">
              <a:avLst>
                <a:gd name="adj1" fmla="val -20138"/>
                <a:gd name="adj2" fmla="val 8068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"/>
          <p:cNvSpPr/>
          <p:nvPr/>
        </p:nvSpPr>
        <p:spPr>
          <a:xfrm>
            <a:off x="380880" y="4181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我的月经怎么没规律呢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12Z</dcterms:modified>
  <cp:revision>7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