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9.png" ContentType="image/png"/>
  <Override PartName="/ppt/media/image11.jpeg" ContentType="image/jpeg"/>
  <Override PartName="/ppt/media/image20.png" ContentType="image/png"/>
  <Override PartName="/ppt/media/image36.jpeg" ContentType="image/jpeg"/>
  <Override PartName="/ppt/media/image13.png" ContentType="image/pn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12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5F42-DEA1-48AC-BB57-1AE881D9F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809C-AD1A-4DA6-8AE1-FBE3FCCC9FB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E79EF-1634-4763-B609-023CA132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D9578-7A76-42F7-AD5A-4539847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55747-142A-4E36-B179-52106081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1E7CB-541C-4957-932E-F0F3AD7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9001C-7C5D-4D7D-BE5B-5C22355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CAD9E-CE7E-4B97-915F-B2D23639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30D09-63C7-4E2A-B977-81DBD684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09F19-42F0-4C81-9EA8-C52C8231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D90C5-8A5C-4C96-9E34-DB675ACB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239EB-FC00-45E4-A220-FB103995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C442-492A-4D8D-A53B-FA29C335CBE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180AD-42D6-458D-94E7-340276E5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235A7-645D-4DF2-8046-E042C00A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43070-F45D-4A54-8988-1BAA94EB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27A92-ADC5-43DB-9E4D-38FFE51E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21596-B5CB-46FC-8D1E-9C4C5643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8873E-1BB1-4002-969D-D4D9D97E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6CAB8-5C51-4548-83AF-8AAEE202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BE8B8-170D-4968-A31D-E6ACFE92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4124A-863E-4D32-B3BB-7C8417F5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7A8D9-B465-4D8D-9E95-8985B39D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8B09-FD71-4E20-8F3B-2489000B0F7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C5627-A01B-4C52-948B-D277D2CE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87140A-0A4E-4588-AD16-099714BC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E91361-F950-4F28-B25C-224EE51C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815B00-BB38-40F4-92F0-1B94281B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D56E83-291C-476D-830A-20497F86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DC125D-5877-4E2C-A4AA-3BD8EDFA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42DDE6-1644-49EB-B117-C5A310DE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34FF85-B7AA-4DAB-A660-3039DB0A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0C4363-3DA3-4D3A-AFD5-4009877B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522ADE-EE8D-46F7-9B0A-500F5FD2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0F7A5-EEE2-451E-8DE6-914E93BB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11E364-B2B2-4585-B78F-7A1AFBC2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1F4056-5119-4F7B-A492-EBB427AE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547850-C693-463E-9F22-7796AEE5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5C80C-A2D7-489C-86CE-12C1975B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0784F-98C4-4C42-BD33-755E8A0E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747E2-0D69-4850-B8CF-D217F88E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D4A08-180E-4966-85E5-A41A31A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B972D-D9AC-450E-89C0-3F413DE3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7C8D3-B73B-4371-9B1C-A1B0980B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02C07-20C7-4C2E-9B64-7E77380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C8BDC-D463-4F06-AF43-F69F1D3D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118BD-E9FC-49CD-A961-DF04103F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74430-1419-4F8B-9766-41B4A4B9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E7C12A-27FD-4B35-95F9-7F20503B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F021F-9D09-49D9-9CA5-D72E8FB7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52AE7-BB8C-4AC8-85A8-42F29C83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7EE69F-53C7-4CCD-90B7-874622F8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E84495-5292-4918-BDB3-A6E2AC32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89A29D-7F16-4D27-B904-FF4546CA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26B10D-A82B-40EB-ABC2-A77E6EC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DE7C5D-8B40-4C41-ABC5-BB3FFB75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B4906-DFE9-483A-88A4-A997C599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8F4A93-8095-4731-96BD-9F252348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98124E-446D-440E-AC33-BD75E79E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48EB56-9B0C-4943-9E82-0D25E958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C8C092-7A20-4FB7-A07D-B954EEF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253A6D-7E53-4681-BDFC-84975E6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C1E38B-5411-43EE-AF70-559A313F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0E7ED1-C121-44D3-A4A8-89BF804D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C3A57C-6403-4BC6-9A54-DCD23D23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D43E1C-F111-4EEC-8434-952EF47E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667BBE-C1D9-4DA0-8DBB-6C544A6B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3D770-3F6E-4A91-B86B-C826BF5E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FED92A-372B-4DAB-B615-389FA64B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D6CF0F-3610-4DED-A487-2BD22085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1EEA99-28B9-4AFD-BE8C-2F0579FA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CE1D1D-1DFC-4703-AF5C-259FC5D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BA6350-D1C0-4754-92D9-654FC67E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7BCC9F-4B66-4610-8B23-30C297D1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EBBE19-2D1C-4F40-B341-D3E0B2E5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81A1E2-1E14-47DD-B4EC-3A9FA1BC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35DCC5-92B7-46D2-B6ED-C9E02BB5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E7D5A-6D5A-488A-9026-2C07D880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D411E-424B-43BA-A3FE-30E3F82C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D5481-E50A-4884-A490-B6C976E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1DD7-6358-4646-AE8A-D21EAF728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D4781-4672-466A-B7DB-30E82313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63932-475C-4780-8C87-20F1A93F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32E13-1EAE-4174-835A-D2B368E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1A6B7-BA6B-44D5-B3E9-83FCD97E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D49BC-0084-44A9-93B0-3929DD35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749F1-333E-45FD-B24B-4B13DC3D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AD039-F700-4433-B0C9-780C6874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DD76C1-DD52-4A42-BD1D-99C41572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894F3-8DEE-49DE-9541-B9824B44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6F504D-AC00-43E0-9C67-8FE8603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310B-A1C7-407D-873D-B76B638559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6BBEF-BA86-4BDC-A1BE-0C2D9980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D6711-4E18-4FC6-B93A-D60FD141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02911-D840-45EE-A483-E3E42ACF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68231-448D-4B1E-B1D1-4527DD2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759E4-CD3E-45A0-9D36-50A27B80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89600-7D4C-4E06-88A2-89CA95FA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78A13-DCC4-4422-8996-251CA04E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B31C1-418C-4694-8C64-D1B237F0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CB26DE-ECC2-482F-838A-0060429E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7DAAB-5417-4525-8085-5A3F3AD6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F9EB-AB3F-4876-A28F-AA69956171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E6DCD-4A63-4759-9232-E5A490E0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833D9-AA13-497C-AEC6-C68B9F5C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10683-7D3E-4DCE-8FD3-4BAC179E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8F701-7605-46CB-8976-D1CBC09D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8E807-CF15-4D1A-8686-E6353F35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AE124-F22B-4209-845F-5AC353C6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2FE738-749E-4B7C-8037-A80DCE01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73C7C-5466-43B3-97FA-880435DC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06745-4DC9-4A7B-9FE6-13B24375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9A2ED4-C5BE-42D9-808F-9B922324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47AA-830B-4095-B833-26357C5CAC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7759A1-F72D-4722-A4EB-969D45B7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7D405-19C1-46B5-8BFF-4E6D0611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E7A75D-4025-48DE-B47D-274870E5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0D9A4-11D6-4B5E-A2C3-04130AEE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10AFEC-E263-4128-BD6A-958C01C2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3B0B70-AB8F-4EA5-BF9F-F6898B09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173A7-9E1B-4549-A41A-F1D0F81E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F7497F-8C17-45BA-BEBC-6A2D1DA7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CF876-42A4-43B4-A38A-1BC13FAE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859DB-45EE-48AF-882A-3DBDDE92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EB24-05FF-47D8-ACBC-DF5823FFD9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9E2E7-6D2C-4202-97BF-59B74984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B51BF6-E2EF-4B88-973D-7A1496E3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DB67CF-C380-440C-BA75-3210252A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04E26C-C0BC-49AA-A1D9-BD048C43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792080-513D-4A3B-9B25-F7BBE8A6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DF30A7-9781-4BFB-A5DF-DE3327B3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30F6D5-324D-4515-A003-596BC4E9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CE23E-7392-4E78-AA77-AA8AD54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DCEA96-7E38-4725-AB5A-B2FB7DB9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174C9E-A972-4C74-9D51-309410AB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68C4-679E-4EA0-A929-B2530BB817F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1CB42D-418D-4991-8169-1D0F216D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7C9BC-FE16-42A6-BD50-411A3239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E53E6-D364-4D50-91FD-186F460C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507CA6-1F99-4986-B43B-4D7030CD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874929-69FA-4C40-8455-DB776EB8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29F389-740E-4236-9A8A-9E4D8CB6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CB5017-1A64-4C39-9EF5-D0E8E1D0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472743-C8F7-400F-854D-0362B47E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7521FA-1072-4D59-9C36-DA58A190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80B051-6727-4D98-8BB7-B9237A37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051A-4F62-445C-88B9-C263806C96A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ADBC7-CD2F-4D94-B5AE-040C691D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49C01-5C9A-422D-83E0-F86E4E3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90E25-2C88-44AB-AE56-528AD31A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FB3FA5-2F0E-4930-926C-8A949920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F5B179-277F-4EC4-8E3F-5D5216BC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7ADC69-C3C5-4D66-ABAA-C1925035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B02591-079D-4AD7-9B19-5408302D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F89886-0427-40B4-8E7F-2CA9D602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64C1ED-5CBE-4C14-9297-4A666AEF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C9B4AA-5709-4864-BEF9-0EC91F7D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C46E-D6E4-4B65-B6C9-43472FE846E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85480" y="571320"/>
            <a:ext cx="59576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C955C0-F437-4511-91F0-E5EEFB54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DA6CA2-EE31-4EC4-B7CE-C9B1FF3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CCADFC-8CFB-4046-80B8-2C4D7F1F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A72758-0B5F-4FEA-AC59-0EC2861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760" y="4131360"/>
            <a:ext cx="822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0C2A25-6217-4425-A6F9-DB5FBCAF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45800" y="192888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6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45800" y="4131360"/>
            <a:ext cx="40158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21E61D-686C-45CE-B8A2-4D34FFCA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1120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93640" y="192888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2876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1120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93640" y="4131360"/>
            <a:ext cx="2649600" cy="20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D6FD30-793B-4F0A-8A73-59047491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B304B-C235-4946-9C13-5BD21892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2E623-0410-41EC-ADEA-9E4C1F37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E3056-0C31-4302-A7C7-40433E1F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D:\ppt素材\b_124491298334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214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28760" y="192888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2E7C-A937-43D2-B72A-15A595C5E66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5480" y="571320"/>
            <a:ext cx="5957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9B75-7503-4CF4-AA54-08E0A4DD8E3E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FA9-6ABA-40A5-BED2-F341BE35B927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9887-B9E2-4DEA-9759-593B489A787E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3006-3332-4C3E-A2C4-D4B67752A049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1E3C-C986-4D3C-A3BE-AA01B4831B9E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D138-D676-4197-86F7-3E95CA76CAD6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A720-52D4-4435-B85C-64941C8FCB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B67-0953-4499-8487-5BB1A56D0DE5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64AB-AD76-46F3-A241-476A616126B0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DB2C-4FE3-48FA-9E4C-665FF743BADF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638-63E8-4D56-8D55-0D1065A24306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D4B3-BCEA-42A9-8DB5-2E95D662280F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9F6D-70FF-4D91-A48B-FED26ED69C4D}" type="slidenum">
              <a:rPr b="1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31288"/>
                </a:solidFill>
                <a:latin typeface="华文新魏"/>
                <a:ea typeface="华文新魏"/>
              </a:rPr>
              <a:t>人教新课标四年级品德与社会上册第三单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11280" y="2420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31288"/>
                </a:solidFill>
                <a:latin typeface="宋体"/>
                <a:ea typeface="宋体"/>
              </a:rPr>
              <a:t>钱该怎样花课件</a:t>
            </a:r>
            <a:r>
              <a:rPr b="1" lang="en-US" sz="4000" spc="-1" strike="noStrike">
                <a:solidFill>
                  <a:srgbClr val="231288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31288"/>
                </a:solidFill>
                <a:latin typeface="宋体"/>
                <a:ea typeface="宋体"/>
              </a:rPr>
              <a:t>打包下载</a:t>
            </a:r>
            <a:endParaRPr b="1" lang="en-US" sz="40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F:\品德\四年级上册（二）\！钱该怎样花（一）\51-3.jpg"/>
          <p:cNvPicPr/>
          <p:nvPr/>
        </p:nvPicPr>
        <p:blipFill>
          <a:blip r:embed="rId2"/>
          <a:stretch/>
        </p:blipFill>
        <p:spPr>
          <a:xfrm>
            <a:off x="2133720" y="2362320"/>
            <a:ext cx="2200320" cy="3733560"/>
          </a:xfrm>
          <a:prstGeom prst="rect">
            <a:avLst/>
          </a:prstGeom>
          <a:ln w="0">
            <a:noFill/>
          </a:ln>
        </p:spPr>
      </p:pic>
      <p:sp>
        <p:nvSpPr>
          <p:cNvPr id="612" name="AutoShape 4"/>
          <p:cNvSpPr/>
          <p:nvPr/>
        </p:nvSpPr>
        <p:spPr>
          <a:xfrm>
            <a:off x="4648320" y="1676520"/>
            <a:ext cx="3504960" cy="1904760"/>
          </a:xfrm>
          <a:prstGeom prst="cloudCallout">
            <a:avLst>
              <a:gd name="adj1" fmla="val -64537"/>
              <a:gd name="adj2" fmla="val 48666"/>
            </a:avLst>
          </a:prstGeom>
          <a:solidFill>
            <a:srgbClr val="ffffff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别的同学有，为什么我不能要？</a:t>
            </a:r>
            <a:endParaRPr b="1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F:\品德\PPT背景\02.gif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2"/>
          <p:cNvSpPr/>
          <p:nvPr/>
        </p:nvSpPr>
        <p:spPr>
          <a:xfrm>
            <a:off x="2482560" y="2276640"/>
            <a:ext cx="38930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看到有人显示自己比别人穿得好，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能花钱，谈谈你对他的看法。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2444760" y="3892680"/>
            <a:ext cx="36795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在同学面前显摆用爸爸妈妈的钱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买的东西，有意思吗？ 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1" descr="C:\Documents and Settings\yjf\桌面\1.png"/>
          <p:cNvPicPr/>
          <p:nvPr/>
        </p:nvPicPr>
        <p:blipFill>
          <a:blip r:embed="rId1"/>
          <a:stretch/>
        </p:blipFill>
        <p:spPr>
          <a:xfrm>
            <a:off x="1095480" y="1052640"/>
            <a:ext cx="6951600" cy="47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D:\work\大全集\下学期送审\psd\品德与社会\01.gif"/>
          <p:cNvPicPr/>
          <p:nvPr/>
        </p:nvPicPr>
        <p:blipFill>
          <a:blip r:embed="rId2"/>
          <a:stretch/>
        </p:blipFill>
        <p:spPr>
          <a:xfrm>
            <a:off x="285840" y="357120"/>
            <a:ext cx="2479680" cy="5493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2" descr="C:\Documents and Settings\yjf\桌面\2.png"/>
          <p:cNvPicPr/>
          <p:nvPr/>
        </p:nvPicPr>
        <p:blipFill>
          <a:blip r:embed="rId3"/>
          <a:stretch/>
        </p:blipFill>
        <p:spPr>
          <a:xfrm>
            <a:off x="1100160" y="1057320"/>
            <a:ext cx="6942240" cy="4743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3" descr="C:\Documents and Settings\yjf\桌面\3.png"/>
          <p:cNvPicPr/>
          <p:nvPr/>
        </p:nvPicPr>
        <p:blipFill>
          <a:blip r:embed="rId4"/>
          <a:stretch/>
        </p:blipFill>
        <p:spPr>
          <a:xfrm>
            <a:off x="1095480" y="1038240"/>
            <a:ext cx="6951600" cy="4781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4" descr="C:\Documents and Settings\yjf\桌面\4.png"/>
          <p:cNvPicPr/>
          <p:nvPr/>
        </p:nvPicPr>
        <p:blipFill>
          <a:blip r:embed="rId5"/>
          <a:stretch/>
        </p:blipFill>
        <p:spPr>
          <a:xfrm>
            <a:off x="1100160" y="1062000"/>
            <a:ext cx="6942240" cy="4734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C:\Documents and Settings\yjf\桌面\5.png"/>
          <p:cNvPicPr/>
          <p:nvPr/>
        </p:nvPicPr>
        <p:blipFill>
          <a:blip r:embed="rId6"/>
          <a:stretch/>
        </p:blipFill>
        <p:spPr>
          <a:xfrm>
            <a:off x="1090440" y="1062000"/>
            <a:ext cx="6961320" cy="4734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C:\Documents and Settings\yjf\桌面\6.png"/>
          <p:cNvPicPr/>
          <p:nvPr/>
        </p:nvPicPr>
        <p:blipFill>
          <a:blip r:embed="rId7"/>
          <a:stretch/>
        </p:blipFill>
        <p:spPr>
          <a:xfrm>
            <a:off x="1042920" y="1197000"/>
            <a:ext cx="700884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36"/>
          <p:cNvGrpSpPr/>
          <p:nvPr/>
        </p:nvGrpSpPr>
        <p:grpSpPr>
          <a:xfrm>
            <a:off x="533520" y="1752480"/>
            <a:ext cx="7619760" cy="4478400"/>
            <a:chOff x="533520" y="1752480"/>
            <a:chExt cx="7619760" cy="4478400"/>
          </a:xfrm>
        </p:grpSpPr>
        <p:pic>
          <p:nvPicPr>
            <p:cNvPr id="625" name="Picture 33" descr="F:\全集课件\课件\数学\小学一年级数学\19 10的认识\teacher00.png"/>
            <p:cNvPicPr/>
            <p:nvPr/>
          </p:nvPicPr>
          <p:blipFill>
            <a:blip r:embed="rId2"/>
            <a:stretch/>
          </p:blipFill>
          <p:spPr>
            <a:xfrm>
              <a:off x="5486400" y="3733920"/>
              <a:ext cx="266688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AutoShape 35"/>
            <p:cNvSpPr/>
            <p:nvPr/>
          </p:nvSpPr>
          <p:spPr>
            <a:xfrm>
              <a:off x="533520" y="1752480"/>
              <a:ext cx="4572000" cy="3048120"/>
            </a:xfrm>
            <a:prstGeom prst="cloudCallout">
              <a:avLst>
                <a:gd name="adj1" fmla="val 62884"/>
                <a:gd name="adj2" fmla="val 434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假设你有</a:t>
              </a:r>
              <a:r>
                <a:rPr b="1" lang="zh-CN" sz="28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20</a:t>
              </a:r>
              <a:r>
                <a:rPr b="1" lang="zh-CN" sz="28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元零花钱，你准备怎样使用呢？说说你的方案，并解释一下为什么这样使用。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38"/>
          <p:cNvGrpSpPr/>
          <p:nvPr/>
        </p:nvGrpSpPr>
        <p:grpSpPr>
          <a:xfrm>
            <a:off x="3200400" y="2057400"/>
            <a:ext cx="2819520" cy="3384360"/>
            <a:chOff x="3200400" y="2057400"/>
            <a:chExt cx="2819520" cy="3384360"/>
          </a:xfrm>
        </p:grpSpPr>
        <p:pic>
          <p:nvPicPr>
            <p:cNvPr id="629" name="Picture 35" descr="D:\品德与社会课件\四年级上册（二）\！钱该怎样花（二）\棒棒糖.jpg"/>
            <p:cNvPicPr/>
            <p:nvPr/>
          </p:nvPicPr>
          <p:blipFill>
            <a:blip r:embed="rId2"/>
            <a:stretch/>
          </p:blipFill>
          <p:spPr>
            <a:xfrm>
              <a:off x="3200400" y="2057400"/>
              <a:ext cx="281952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Text Box 37"/>
            <p:cNvSpPr/>
            <p:nvPr/>
          </p:nvSpPr>
          <p:spPr>
            <a:xfrm>
              <a:off x="4219560" y="4921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楷体_GB2312"/>
                </a:rPr>
                <a:t>棒棒糖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631" name="Group 42"/>
          <p:cNvGrpSpPr/>
          <p:nvPr/>
        </p:nvGrpSpPr>
        <p:grpSpPr>
          <a:xfrm>
            <a:off x="3143160" y="1981080"/>
            <a:ext cx="2857680" cy="4146480"/>
            <a:chOff x="3143160" y="1981080"/>
            <a:chExt cx="2857680" cy="4146480"/>
          </a:xfrm>
        </p:grpSpPr>
        <p:pic>
          <p:nvPicPr>
            <p:cNvPr id="632" name="Picture 39" descr="D:\品德与社会课件\四年级上册（二）\！钱该怎样花（二）\变形金刚.jpg"/>
            <p:cNvPicPr/>
            <p:nvPr/>
          </p:nvPicPr>
          <p:blipFill>
            <a:blip r:embed="rId3"/>
            <a:stretch/>
          </p:blipFill>
          <p:spPr>
            <a:xfrm>
              <a:off x="3143160" y="1981080"/>
              <a:ext cx="2857680" cy="36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 Box 41"/>
            <p:cNvSpPr/>
            <p:nvPr/>
          </p:nvSpPr>
          <p:spPr>
            <a:xfrm>
              <a:off x="4083480" y="560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楷体_GB2312"/>
                </a:rPr>
                <a:t>变形金刚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634" name="Group 46"/>
          <p:cNvGrpSpPr/>
          <p:nvPr/>
        </p:nvGrpSpPr>
        <p:grpSpPr>
          <a:xfrm>
            <a:off x="3581280" y="2438280"/>
            <a:ext cx="2022480" cy="2668680"/>
            <a:chOff x="3581280" y="2438280"/>
            <a:chExt cx="2022480" cy="2668680"/>
          </a:xfrm>
        </p:grpSpPr>
        <p:pic>
          <p:nvPicPr>
            <p:cNvPr id="635" name="Picture 43" descr="D:\品德与社会课件\四年级上册（二）\！钱该怎样花（二）\冰激凌.jpg"/>
            <p:cNvPicPr/>
            <p:nvPr/>
          </p:nvPicPr>
          <p:blipFill>
            <a:blip r:embed="rId4"/>
            <a:stretch/>
          </p:blipFill>
          <p:spPr>
            <a:xfrm>
              <a:off x="3581280" y="2438280"/>
              <a:ext cx="2022480" cy="21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 Box 45"/>
            <p:cNvSpPr/>
            <p:nvPr/>
          </p:nvSpPr>
          <p:spPr>
            <a:xfrm>
              <a:off x="4143240" y="4586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楷体_GB2312"/>
                </a:rPr>
                <a:t>冰激凌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637" name="Group 49"/>
          <p:cNvGrpSpPr/>
          <p:nvPr/>
        </p:nvGrpSpPr>
        <p:grpSpPr>
          <a:xfrm>
            <a:off x="3505320" y="2362320"/>
            <a:ext cx="2209680" cy="2744640"/>
            <a:chOff x="3505320" y="2362320"/>
            <a:chExt cx="2209680" cy="2744640"/>
          </a:xfrm>
        </p:grpSpPr>
        <p:pic>
          <p:nvPicPr>
            <p:cNvPr id="638" name="Picture 47" descr="D:\品德与社会课件\四年级上册（二）\！钱该怎样花（二）\蜡笔小新.jpg"/>
            <p:cNvPicPr/>
            <p:nvPr/>
          </p:nvPicPr>
          <p:blipFill>
            <a:blip r:embed="rId5"/>
            <a:stretch/>
          </p:blipFill>
          <p:spPr>
            <a:xfrm>
              <a:off x="3505320" y="2362320"/>
              <a:ext cx="22096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 Box 48"/>
            <p:cNvSpPr/>
            <p:nvPr/>
          </p:nvSpPr>
          <p:spPr>
            <a:xfrm>
              <a:off x="4159440" y="45864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楷体_GB2312"/>
                </a:rPr>
                <a:t>蜡笔小新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640" name="Group 53"/>
          <p:cNvGrpSpPr/>
          <p:nvPr/>
        </p:nvGrpSpPr>
        <p:grpSpPr>
          <a:xfrm>
            <a:off x="3086280" y="2182680"/>
            <a:ext cx="2971800" cy="3324240"/>
            <a:chOff x="3086280" y="2182680"/>
            <a:chExt cx="2971800" cy="3324240"/>
          </a:xfrm>
        </p:grpSpPr>
        <p:pic>
          <p:nvPicPr>
            <p:cNvPr id="641" name="Picture 50" descr="D:\品德与社会课件\四年级上册（二）\！钱该怎样花（二）\流氓兔.jpg"/>
            <p:cNvPicPr/>
            <p:nvPr/>
          </p:nvPicPr>
          <p:blipFill>
            <a:blip r:embed="rId6"/>
            <a:stretch/>
          </p:blipFill>
          <p:spPr>
            <a:xfrm>
              <a:off x="3086280" y="2182680"/>
              <a:ext cx="2971800" cy="28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Text Box 52"/>
            <p:cNvSpPr/>
            <p:nvPr/>
          </p:nvSpPr>
          <p:spPr>
            <a:xfrm>
              <a:off x="4295880" y="4986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楷体_GB2312"/>
                </a:rPr>
                <a:t>流氓兔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643" name="Group 56"/>
          <p:cNvGrpSpPr/>
          <p:nvPr/>
        </p:nvGrpSpPr>
        <p:grpSpPr>
          <a:xfrm>
            <a:off x="2700360" y="1828800"/>
            <a:ext cx="3471840" cy="4755960"/>
            <a:chOff x="2700360" y="1828800"/>
            <a:chExt cx="3471840" cy="4755960"/>
          </a:xfrm>
        </p:grpSpPr>
        <p:pic>
          <p:nvPicPr>
            <p:cNvPr id="644" name="Picture 54" descr="D:\品德与社会课件\四年级上册（二）\！钱该怎样花（二）\麦当劳.jpg"/>
            <p:cNvPicPr/>
            <p:nvPr/>
          </p:nvPicPr>
          <p:blipFill>
            <a:blip r:embed="rId7"/>
            <a:stretch/>
          </p:blipFill>
          <p:spPr>
            <a:xfrm>
              <a:off x="2700360" y="1828800"/>
              <a:ext cx="347184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Text Box 55"/>
            <p:cNvSpPr/>
            <p:nvPr/>
          </p:nvSpPr>
          <p:spPr>
            <a:xfrm>
              <a:off x="3990960" y="60642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楷体_GB2312"/>
                </a:rPr>
                <a:t>麦当劳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646" name="Group 59"/>
          <p:cNvGrpSpPr/>
          <p:nvPr/>
        </p:nvGrpSpPr>
        <p:grpSpPr>
          <a:xfrm>
            <a:off x="2971800" y="2133720"/>
            <a:ext cx="2876400" cy="3354120"/>
            <a:chOff x="2971800" y="2133720"/>
            <a:chExt cx="2876400" cy="3354120"/>
          </a:xfrm>
        </p:grpSpPr>
        <p:pic>
          <p:nvPicPr>
            <p:cNvPr id="647" name="Picture 57" descr="D:\品德与社会课件\四年级上册（二）\！钱该怎样花（二）\书包.gif"/>
            <p:cNvPicPr/>
            <p:nvPr/>
          </p:nvPicPr>
          <p:blipFill>
            <a:blip r:embed="rId8"/>
            <a:stretch/>
          </p:blipFill>
          <p:spPr>
            <a:xfrm>
              <a:off x="2971800" y="2133720"/>
              <a:ext cx="287640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 Box 58"/>
            <p:cNvSpPr/>
            <p:nvPr/>
          </p:nvSpPr>
          <p:spPr>
            <a:xfrm>
              <a:off x="3934440" y="4967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楷体_GB2312"/>
                </a:rPr>
                <a:t>书 包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649" name="Group 62"/>
          <p:cNvGrpSpPr/>
          <p:nvPr/>
        </p:nvGrpSpPr>
        <p:grpSpPr>
          <a:xfrm>
            <a:off x="3564000" y="2205000"/>
            <a:ext cx="1643040" cy="4192560"/>
            <a:chOff x="3564000" y="2205000"/>
            <a:chExt cx="1643040" cy="4192560"/>
          </a:xfrm>
        </p:grpSpPr>
        <p:pic>
          <p:nvPicPr>
            <p:cNvPr id="650" name="Picture 60" descr="D:\品德与社会课件\四年级上册（二）\！钱该怎样花（二）\涂改液.jpg"/>
            <p:cNvPicPr/>
            <p:nvPr/>
          </p:nvPicPr>
          <p:blipFill>
            <a:blip r:embed="rId9"/>
            <a:stretch/>
          </p:blipFill>
          <p:spPr>
            <a:xfrm>
              <a:off x="3564000" y="2205000"/>
              <a:ext cx="164304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 Box 61"/>
            <p:cNvSpPr/>
            <p:nvPr/>
          </p:nvSpPr>
          <p:spPr>
            <a:xfrm>
              <a:off x="3915720" y="5877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Times New Roman"/>
                  <a:ea typeface="楷体_GB2312"/>
                </a:rPr>
                <a:t>涂改液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9" dur="1" fill="hold"/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26"/>
          <p:cNvSpPr/>
          <p:nvPr/>
        </p:nvSpPr>
        <p:spPr>
          <a:xfrm>
            <a:off x="1447920" y="1905120"/>
            <a:ext cx="6248160" cy="4419360"/>
          </a:xfrm>
          <a:prstGeom prst="rect">
            <a:avLst/>
          </a:prstGeom>
          <a:solidFill>
            <a:srgbClr val="feded2"/>
          </a:solidFill>
          <a:ln w="57240">
            <a:solidFill>
              <a:srgbClr val="ff83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449878"/>
                </a:solidFill>
                <a:latin typeface="Times New Roman"/>
                <a:ea typeface="楷体_GB2312"/>
              </a:rPr>
              <a:t>花钱时应考虑的几个原则：</a:t>
            </a:r>
            <a:endParaRPr b="1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3811320" y="2565360"/>
            <a:ext cx="10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首先考虑必须要买和最想要的。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2441880" y="3222720"/>
            <a:ext cx="38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在有限的钱数中，想办法多满足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一些需求。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56" name="Rectangle 30"/>
          <p:cNvSpPr/>
          <p:nvPr/>
        </p:nvSpPr>
        <p:spPr>
          <a:xfrm>
            <a:off x="2540520" y="4114800"/>
            <a:ext cx="431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◆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现在不买以后不好买，而自己又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很想得到的，可以先买；不那么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急需，以后也能买到的，先放一放。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57" name="Rectangle 31"/>
          <p:cNvSpPr/>
          <p:nvPr/>
        </p:nvSpPr>
        <p:spPr>
          <a:xfrm>
            <a:off x="3087000" y="556272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留一点儿零钱以备急用。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F:\品德\PPT背景\02.gif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4" descr="F:\品德\四年级上册（二）\！钱该怎样花（二）\53-1.jpg"/>
          <p:cNvPicPr/>
          <p:nvPr/>
        </p:nvPicPr>
        <p:blipFill>
          <a:blip r:embed="rId2"/>
          <a:stretch/>
        </p:blipFill>
        <p:spPr>
          <a:xfrm>
            <a:off x="2306520" y="1752480"/>
            <a:ext cx="4627800" cy="47246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5" descr="F:\品德\四年级上册（二）\！钱该怎样花（二）\53-2.jpg"/>
          <p:cNvPicPr/>
          <p:nvPr/>
        </p:nvPicPr>
        <p:blipFill>
          <a:blip r:embed="rId3"/>
          <a:stretch/>
        </p:blipFill>
        <p:spPr>
          <a:xfrm>
            <a:off x="2286000" y="1752480"/>
            <a:ext cx="4800600" cy="47437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6" descr="F:\品德\四年级上册（二）\！钱该怎样花（二）\53-3.jpg"/>
          <p:cNvPicPr/>
          <p:nvPr/>
        </p:nvPicPr>
        <p:blipFill>
          <a:blip r:embed="rId4"/>
          <a:stretch/>
        </p:blipFill>
        <p:spPr>
          <a:xfrm>
            <a:off x="2295360" y="1752480"/>
            <a:ext cx="4638960" cy="47246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7" descr="F:\品德\四年级上册（二）\！钱该怎样花（二）\53-4.jpg"/>
          <p:cNvPicPr/>
          <p:nvPr/>
        </p:nvPicPr>
        <p:blipFill>
          <a:blip r:embed="rId5"/>
          <a:stretch/>
        </p:blipFill>
        <p:spPr>
          <a:xfrm>
            <a:off x="2316240" y="1752480"/>
            <a:ext cx="431316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10"/>
          <p:cNvPicPr/>
          <p:nvPr/>
        </p:nvPicPr>
        <p:blipFill>
          <a:blip r:embed="rId1"/>
          <a:stretch/>
        </p:blipFill>
        <p:spPr>
          <a:xfrm>
            <a:off x="450072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" descr="9"/>
          <p:cNvPicPr/>
          <p:nvPr/>
        </p:nvPicPr>
        <p:blipFill>
          <a:blip r:embed="rId2"/>
          <a:stretch/>
        </p:blipFill>
        <p:spPr>
          <a:xfrm>
            <a:off x="0" y="328464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8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284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5" descr="7"/>
          <p:cNvPicPr/>
          <p:nvPr/>
        </p:nvPicPr>
        <p:blipFill>
          <a:blip r:embed="rId4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6"/>
          <p:cNvSpPr/>
          <p:nvPr/>
        </p:nvSpPr>
        <p:spPr>
          <a:xfrm>
            <a:off x="3687840" y="2641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2364480" y="28717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仿宋_GB2312"/>
              </a:rPr>
              <a:t>同学们，你能说说他们会花钱吗？</a:t>
            </a:r>
            <a:endParaRPr b="1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669" name="已录下的1499.WAV" descr=""/>
          <p:cNvPicPr/>
          <p:nvPr/>
        </p:nvPicPr>
        <p:blipFill>
          <a:blip r:embed="rId5"/>
          <a:stretch/>
        </p:blipFill>
        <p:spPr>
          <a:xfrm>
            <a:off x="250920" y="5877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70" name="文本框 8194"/>
          <p:cNvSpPr/>
          <p:nvPr/>
        </p:nvSpPr>
        <p:spPr>
          <a:xfrm>
            <a:off x="1908000" y="636588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6"/>
              </a:rPr>
              <a:t>免费ppt模板</a:t>
            </a: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F:\品德\PPT背景\02.gif"/>
          <p:cNvPicPr/>
          <p:nvPr/>
        </p:nvPicPr>
        <p:blipFill>
          <a:blip r:embed="rId1"/>
          <a:stretch/>
        </p:blipFill>
        <p:spPr>
          <a:xfrm>
            <a:off x="685800" y="1146240"/>
            <a:ext cx="2435400" cy="606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1752480" y="1981080"/>
            <a:ext cx="5715000" cy="4191120"/>
          </a:xfrm>
          <a:prstGeom prst="rect">
            <a:avLst/>
          </a:prstGeom>
          <a:solidFill>
            <a:srgbClr val="fbf7ff"/>
          </a:solidFill>
          <a:ln w="57240">
            <a:solidFill>
              <a:srgbClr val="ff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49878"/>
                </a:solidFill>
                <a:latin typeface="Times New Roman"/>
                <a:ea typeface="楷体_GB2312"/>
              </a:rPr>
              <a:t>合理消费：</a:t>
            </a:r>
            <a:endParaRPr b="1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4d4d4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要考虑家里的经济情况。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d4d4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要根据家里实际需求和需求量，   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不要盲目图便宜。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d4d4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在家里经济允许的情况下，该花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的也需要花。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d4d4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……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6" descr="F:\品德\PPT背景\04.gif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32"/>
          <p:cNvSpPr/>
          <p:nvPr/>
        </p:nvSpPr>
        <p:spPr>
          <a:xfrm>
            <a:off x="2943360" y="3200400"/>
            <a:ext cx="303984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(1) </a:t>
            </a: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购物场所的数量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(2) </a:t>
            </a: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各购物场所的规模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(3) </a:t>
            </a: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所卖商品的种类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(4) </a:t>
            </a: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购物及付款方式  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5" name="Text Box 33"/>
          <p:cNvSpPr/>
          <p:nvPr/>
        </p:nvSpPr>
        <p:spPr>
          <a:xfrm>
            <a:off x="1143000" y="1981080"/>
            <a:ext cx="6400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从下面几个方面来观察自己家附近的购物场所：</a:t>
            </a:r>
            <a:endParaRPr b="1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D:\work\大全集\下学期送审\psd\品德与社会\01.gif"/>
          <p:cNvPicPr/>
          <p:nvPr/>
        </p:nvPicPr>
        <p:blipFill>
          <a:blip r:embed="rId1"/>
          <a:stretch/>
        </p:blipFill>
        <p:spPr>
          <a:xfrm>
            <a:off x="644400" y="1203480"/>
            <a:ext cx="2479680" cy="549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7" descr="F:\品德\四年级上册（二）\！钱该怎样花（一）\50-1.jpg"/>
          <p:cNvPicPr/>
          <p:nvPr/>
        </p:nvPicPr>
        <p:blipFill>
          <a:blip r:embed="rId2"/>
          <a:stretch/>
        </p:blipFill>
        <p:spPr>
          <a:xfrm>
            <a:off x="1523880" y="1828800"/>
            <a:ext cx="6096240" cy="44402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8" descr="F:\品德\四年级上册（二）\！钱该怎样花（一）\50-2.jpg"/>
          <p:cNvPicPr/>
          <p:nvPr/>
        </p:nvPicPr>
        <p:blipFill>
          <a:blip r:embed="rId3"/>
          <a:stretch/>
        </p:blipFill>
        <p:spPr>
          <a:xfrm>
            <a:off x="2057400" y="1828800"/>
            <a:ext cx="5105520" cy="45561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9" descr="F:\品德\四年级上册（二）\！钱该怎样花（一）\50-3.jpg"/>
          <p:cNvPicPr/>
          <p:nvPr/>
        </p:nvPicPr>
        <p:blipFill>
          <a:blip r:embed="rId4"/>
          <a:stretch/>
        </p:blipFill>
        <p:spPr>
          <a:xfrm>
            <a:off x="2133720" y="1824120"/>
            <a:ext cx="541008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3EE9-1A73-4AFB-97A8-4A2028598D06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24000" y="1125360"/>
            <a:ext cx="854064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仿宋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仿宋_GB2312"/>
              </a:rPr>
              <a:t>该花的钱，千万千万不能吝惜，不该花的钱，一分一厘也不能浪费。学会选择、学会取舍！</a:t>
            </a:r>
            <a:endParaRPr b="1" lang="en-US" sz="60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1" descr="F:\品德\四年级上册（二）\！钱该怎样花（一）\51-1.jpg"/>
          <p:cNvPicPr/>
          <p:nvPr/>
        </p:nvPicPr>
        <p:blipFill>
          <a:blip r:embed="rId2"/>
          <a:stretch/>
        </p:blipFill>
        <p:spPr>
          <a:xfrm>
            <a:off x="2209680" y="1884240"/>
            <a:ext cx="5715000" cy="428796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27"/>
          <p:cNvGrpSpPr/>
          <p:nvPr/>
        </p:nvGrpSpPr>
        <p:grpSpPr>
          <a:xfrm>
            <a:off x="755640" y="1413000"/>
            <a:ext cx="3384720" cy="4572000"/>
            <a:chOff x="755640" y="1413000"/>
            <a:chExt cx="3384720" cy="4572000"/>
          </a:xfrm>
        </p:grpSpPr>
        <p:pic>
          <p:nvPicPr>
            <p:cNvPr id="583" name="Picture 25" descr="F:\品德\四年级上册（二）\！钱该怎样花（一）\51-2.jpg"/>
            <p:cNvPicPr/>
            <p:nvPr/>
          </p:nvPicPr>
          <p:blipFill>
            <a:blip r:embed="rId3"/>
            <a:stretch/>
          </p:blipFill>
          <p:spPr>
            <a:xfrm>
              <a:off x="755640" y="3241800"/>
              <a:ext cx="15559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AutoShape 26"/>
            <p:cNvSpPr/>
            <p:nvPr/>
          </p:nvSpPr>
          <p:spPr>
            <a:xfrm>
              <a:off x="1625760" y="1413000"/>
              <a:ext cx="2514600" cy="1676160"/>
            </a:xfrm>
            <a:prstGeom prst="cloudCallout">
              <a:avLst>
                <a:gd name="adj1" fmla="val -47726"/>
                <a:gd name="adj2" fmla="val 57291"/>
              </a:avLst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d4d4d"/>
                  </a:solidFill>
                  <a:latin typeface="Times New Roman"/>
                </a:rPr>
                <a:t>要是我有双溜冰鞋……</a:t>
              </a:r>
              <a:endParaRPr b="1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矩形 8"/>
          <p:cNvSpPr/>
          <p:nvPr/>
        </p:nvSpPr>
        <p:spPr>
          <a:xfrm>
            <a:off x="5114880" y="38228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586" name="Picture 1026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049"/>
          <p:cNvSpPr/>
          <p:nvPr/>
        </p:nvSpPr>
        <p:spPr>
          <a:xfrm>
            <a:off x="6400800" y="1981080"/>
            <a:ext cx="2057400" cy="685800"/>
          </a:xfrm>
          <a:prstGeom prst="wedgeRoundRectCallout">
            <a:avLst>
              <a:gd name="adj1" fmla="val -35879"/>
              <a:gd name="adj2" fmla="val 107407"/>
              <a:gd name="adj3" fmla="val 166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不行。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588" name="Group 1052"/>
          <p:cNvGrpSpPr/>
          <p:nvPr/>
        </p:nvGrpSpPr>
        <p:grpSpPr>
          <a:xfrm>
            <a:off x="2711520" y="2209680"/>
            <a:ext cx="4871880" cy="3733920"/>
            <a:chOff x="2711520" y="2209680"/>
            <a:chExt cx="4871880" cy="3733920"/>
          </a:xfrm>
        </p:grpSpPr>
        <p:pic>
          <p:nvPicPr>
            <p:cNvPr id="589" name="Picture 1048" descr="F:\品德\四年级上册（二）\！钱该怎样花（一）\51-0-.jpg"/>
            <p:cNvPicPr/>
            <p:nvPr/>
          </p:nvPicPr>
          <p:blipFill>
            <a:blip r:embed="rId2"/>
            <a:stretch/>
          </p:blipFill>
          <p:spPr>
            <a:xfrm>
              <a:off x="4114800" y="2209680"/>
              <a:ext cx="346860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1050" descr="F:\品德\四年级上册（二）\！钱该怎样花（一）\51-2.jpg"/>
            <p:cNvPicPr/>
            <p:nvPr/>
          </p:nvPicPr>
          <p:blipFill>
            <a:blip r:embed="rId3"/>
            <a:stretch/>
          </p:blipFill>
          <p:spPr>
            <a:xfrm>
              <a:off x="2711520" y="3048120"/>
              <a:ext cx="155556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AutoShape 1051"/>
          <p:cNvSpPr/>
          <p:nvPr/>
        </p:nvSpPr>
        <p:spPr>
          <a:xfrm>
            <a:off x="228600" y="2057400"/>
            <a:ext cx="2514600" cy="1295280"/>
          </a:xfrm>
          <a:prstGeom prst="wedgeRoundRectCallout">
            <a:avLst>
              <a:gd name="adj1" fmla="val 48611"/>
              <a:gd name="adj2" fmla="val 83212"/>
              <a:gd name="adj3" fmla="val 166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爸爸，我想买一双滑冰鞋。</a:t>
            </a:r>
            <a:endParaRPr b="1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1984320" y="1752480"/>
            <a:ext cx="5940360" cy="4394160"/>
            <a:chOff x="1984320" y="1752480"/>
            <a:chExt cx="5940360" cy="4394160"/>
          </a:xfrm>
        </p:grpSpPr>
        <p:pic>
          <p:nvPicPr>
            <p:cNvPr id="594" name="Picture 7" descr="F:\品德\四年级上册（二）\！钱该怎样花（一）\51-2.jpg"/>
            <p:cNvPicPr/>
            <p:nvPr/>
          </p:nvPicPr>
          <p:blipFill>
            <a:blip r:embed="rId2"/>
            <a:stretch/>
          </p:blipFill>
          <p:spPr>
            <a:xfrm>
              <a:off x="1984320" y="2793960"/>
              <a:ext cx="19018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AutoShape 9"/>
            <p:cNvSpPr/>
            <p:nvPr/>
          </p:nvSpPr>
          <p:spPr>
            <a:xfrm>
              <a:off x="4343400" y="1752480"/>
              <a:ext cx="3581280" cy="2387880"/>
            </a:xfrm>
            <a:prstGeom prst="cloudCallout">
              <a:avLst>
                <a:gd name="adj1" fmla="val -80097"/>
                <a:gd name="adj2" fmla="val 568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买双滑冰鞋又不是什么坏事，爸爸为什么不给我买呢？ 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026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027" descr="F:\品德\四年级上册（二）\！钱该怎样花（一）\51-4.jpg"/>
          <p:cNvPicPr/>
          <p:nvPr/>
        </p:nvPicPr>
        <p:blipFill>
          <a:blip r:embed="rId2"/>
          <a:stretch/>
        </p:blipFill>
        <p:spPr>
          <a:xfrm>
            <a:off x="1828800" y="1752480"/>
            <a:ext cx="5486400" cy="4699080"/>
          </a:xfrm>
          <a:prstGeom prst="rect">
            <a:avLst/>
          </a:prstGeom>
          <a:ln w="0">
            <a:noFill/>
          </a:ln>
        </p:spPr>
      </p:pic>
      <p:sp>
        <p:nvSpPr>
          <p:cNvPr id="598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F:\品德\四年级上册（二）\！钱该怎样花（一）\51-5.jpg"/>
          <p:cNvPicPr/>
          <p:nvPr/>
        </p:nvPicPr>
        <p:blipFill>
          <a:blip r:embed="rId2"/>
          <a:stretch/>
        </p:blipFill>
        <p:spPr>
          <a:xfrm>
            <a:off x="1523880" y="2666880"/>
            <a:ext cx="3657600" cy="333864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4"/>
          <p:cNvSpPr/>
          <p:nvPr/>
        </p:nvSpPr>
        <p:spPr>
          <a:xfrm>
            <a:off x="4876920" y="2057400"/>
            <a:ext cx="3504960" cy="1905120"/>
          </a:xfrm>
          <a:prstGeom prst="cloudCallout">
            <a:avLst>
              <a:gd name="adj1" fmla="val -68162"/>
              <a:gd name="adj2" fmla="val 41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4d4d4d"/>
                </a:solidFill>
                <a:latin typeface="Times New Roman"/>
                <a:ea typeface="楷体_GB2312"/>
              </a:rPr>
              <a:t>又不是买不起，妈妈为什么不给我买？</a:t>
            </a:r>
            <a:endParaRPr b="1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9"/>
          <p:cNvGrpSpPr/>
          <p:nvPr/>
        </p:nvGrpSpPr>
        <p:grpSpPr>
          <a:xfrm>
            <a:off x="990720" y="1919160"/>
            <a:ext cx="6735240" cy="4253040"/>
            <a:chOff x="990720" y="1919160"/>
            <a:chExt cx="6735240" cy="4253040"/>
          </a:xfrm>
        </p:grpSpPr>
        <p:pic>
          <p:nvPicPr>
            <p:cNvPr id="604" name="Picture 5" descr="F:\全集课件\课件\数学\小学一年级数学\19 10的认识\teacher00.png"/>
            <p:cNvPicPr/>
            <p:nvPr/>
          </p:nvPicPr>
          <p:blipFill>
            <a:blip r:embed="rId2"/>
            <a:stretch/>
          </p:blipFill>
          <p:spPr>
            <a:xfrm>
              <a:off x="4647960" y="3290760"/>
              <a:ext cx="3078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AutoShape 6"/>
            <p:cNvSpPr/>
            <p:nvPr/>
          </p:nvSpPr>
          <p:spPr>
            <a:xfrm>
              <a:off x="990720" y="1919160"/>
              <a:ext cx="4800240" cy="2362320"/>
            </a:xfrm>
            <a:prstGeom prst="wedgeRoundRectCallout">
              <a:avLst>
                <a:gd name="adj1" fmla="val 42129"/>
                <a:gd name="adj2" fmla="val 6384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4d4d4d"/>
                  </a:solidFill>
                  <a:latin typeface="楷体_GB2312"/>
                  <a:ea typeface="楷体_GB2312"/>
                </a:rPr>
                <a:t>说说自己在向家长提要求时遇到的烦恼或不顺心的事。小组讨论：家长未能满足他的要求可能的什么原因。 </a:t>
              </a:r>
              <a:endParaRPr b="1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D:\work\大全集\下学期送审\psd\品德与社会\03.gif"/>
          <p:cNvPicPr/>
          <p:nvPr/>
        </p:nvPicPr>
        <p:blipFill>
          <a:blip r:embed="rId1"/>
          <a:stretch/>
        </p:blipFill>
        <p:spPr>
          <a:xfrm>
            <a:off x="701640" y="111276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20"/>
          <p:cNvGrpSpPr/>
          <p:nvPr/>
        </p:nvGrpSpPr>
        <p:grpSpPr>
          <a:xfrm>
            <a:off x="1523880" y="1371600"/>
            <a:ext cx="6629400" cy="4635360"/>
            <a:chOff x="1523880" y="1371600"/>
            <a:chExt cx="6629400" cy="4635360"/>
          </a:xfrm>
        </p:grpSpPr>
        <p:pic>
          <p:nvPicPr>
            <p:cNvPr id="608" name="Picture 18" descr="F:\品德\四年级上册（二）\！钱该怎样花（一）\51-6.jpg"/>
            <p:cNvPicPr/>
            <p:nvPr/>
          </p:nvPicPr>
          <p:blipFill>
            <a:blip r:embed="rId2"/>
            <a:stretch/>
          </p:blipFill>
          <p:spPr>
            <a:xfrm>
              <a:off x="1523880" y="1371600"/>
              <a:ext cx="3487680" cy="46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AutoShape 19"/>
            <p:cNvSpPr/>
            <p:nvPr/>
          </p:nvSpPr>
          <p:spPr>
            <a:xfrm>
              <a:off x="5562720" y="1752480"/>
              <a:ext cx="2590560" cy="1676520"/>
            </a:xfrm>
            <a:prstGeom prst="wedgeRoundRectCallout">
              <a:avLst>
                <a:gd name="adj1" fmla="val -76041"/>
                <a:gd name="adj2" fmla="val 3873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d4d4d"/>
                  </a:solidFill>
                  <a:latin typeface="Times New Roman"/>
                </a:rPr>
                <a:t>要是我也有一套这样的运动服该有多好，可妈妈肯定不会给我买。</a:t>
              </a:r>
              <a:endParaRPr b="1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03:39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45Z</dcterms:modified>
  <cp:revision>18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