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F91-3009-42ED-A455-6A5BB7DB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448-32C3-4E7F-BD03-AE9FCF3E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263-A34A-4344-BC78-111E47B3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13B-1930-4615-8FBB-9E447CCA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CE71-727F-4296-A54F-C7DDC70F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D0A8-4919-4F5E-AB0E-127C3A2C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BB1F-6A1B-4180-A36A-DE50DAE6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04BD-FA24-447B-9F0A-0BD4D277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0E44-B814-4FC1-91D4-87D4CA1E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2CC3-EFAC-4DB4-B7EB-1A15D75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A5F6-8425-4EDE-AE30-280FBBBA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EE6-ED32-4665-8AEF-BEDE631D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72AD-CC4B-4401-B567-A3E226F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EF3-C04D-4E88-BCFE-2CC0FF5D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68A2-9A10-4DC7-9140-4A82E1EE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62E9-A94C-439B-9FF5-50CAB53F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C72D-D360-4BFD-8887-9157687F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E52-B103-4C92-AAFE-0A1A60A7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775-5581-40EC-9E4D-7F902D9C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457-730D-43EC-A6AB-54939E95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916-2FEB-49AD-B1ED-464F65E0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F65-A253-47DF-9794-7AC909D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888-BB7E-4938-A1A1-F017975D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665-1118-4DB6-9B61-4983ACE3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D549-27C9-4D81-A7D1-FE563BCC9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48BC-BD04-4725-B670-41C62CD79E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Text Box 7" descr=""/>
          <p:cNvPicPr/>
          <p:nvPr/>
        </p:nvPicPr>
        <p:blipFill>
          <a:blip r:embed="rId2"/>
          <a:stretch/>
        </p:blipFill>
        <p:spPr>
          <a:xfrm>
            <a:off x="790560" y="2239920"/>
            <a:ext cx="7524720" cy="701640"/>
          </a:xfrm>
          <a:prstGeom prst="rect">
            <a:avLst/>
          </a:prstGeom>
          <a:ln w="0">
            <a:noFill/>
          </a:ln>
        </p:spPr>
      </p:pic>
      <p:sp>
        <p:nvSpPr>
          <p:cNvPr id="84" name="矩形 3"/>
          <p:cNvSpPr/>
          <p:nvPr/>
        </p:nvSpPr>
        <p:spPr>
          <a:xfrm>
            <a:off x="3274560" y="98100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三章　物态变化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2ec2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2ec2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33336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讨论：（注意语言表述）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为什么水蒸气烫伤比开水烫伤要严重？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95280" y="2565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ef95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dcef95"/>
                </a:solidFill>
                <a:latin typeface="Times New Roman"/>
              </a:rPr>
              <a:t>摄氏度的水蒸气液化为</a:t>
            </a:r>
            <a:r>
              <a:rPr b="1" lang="en-US" sz="2800" spc="-1" strike="noStrike">
                <a:solidFill>
                  <a:srgbClr val="dcef95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dcef95"/>
                </a:solidFill>
                <a:latin typeface="Times New Roman"/>
              </a:rPr>
              <a:t>摄氏度的水也要放出热量的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0920" y="225360"/>
            <a:ext cx="8642160" cy="64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课堂练习：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写出下列物态变化的名称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冬天早晨出来跑步，嘴里往外呼“白气”，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冰雪化成水，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洗过的衣服晾干了，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4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钢水变成钢锭，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现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夏天，自来水管常“出汗”，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6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掀开沸水锅的锅盖，可以看到有水从锅盖上滴下，这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___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象。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冬天戴眼镜的人从外面进到暖和的屋子里，镜片上往往会出现水珠，这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24" name="Group 11"/>
          <p:cNvGrpSpPr/>
          <p:nvPr/>
        </p:nvGrpSpPr>
        <p:grpSpPr>
          <a:xfrm>
            <a:off x="647640" y="1773360"/>
            <a:ext cx="6337440" cy="4481280"/>
            <a:chOff x="647640" y="1773360"/>
            <a:chExt cx="6337440" cy="4481280"/>
          </a:xfrm>
        </p:grpSpPr>
        <p:sp>
          <p:nvSpPr>
            <p:cNvPr id="125" name="Text Box 4"/>
            <p:cNvSpPr/>
            <p:nvPr/>
          </p:nvSpPr>
          <p:spPr>
            <a:xfrm>
              <a:off x="647640" y="177336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6ac2f"/>
                  </a:solidFill>
                  <a:latin typeface="Times New Roman"/>
                </a:rPr>
                <a:t>液化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6084720" y="3753000"/>
              <a:ext cx="9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ac2f"/>
                  </a:solidFill>
                  <a:latin typeface="Times New Roman"/>
                </a:rPr>
                <a:t>液化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2700360" y="4761000"/>
              <a:ext cx="10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ac2f"/>
                  </a:solidFill>
                  <a:latin typeface="Times New Roman"/>
                </a:rPr>
                <a:t>液化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5867280" y="573408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ac2f"/>
                  </a:solidFill>
                  <a:latin typeface="Times New Roman"/>
                </a:rPr>
                <a:t>液化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>
              <a:off x="4896000" y="2710080"/>
              <a:ext cx="20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ac2f"/>
                  </a:solidFill>
                  <a:latin typeface="Times New Roman"/>
                </a:rPr>
                <a:t>蒸发或汽化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3780000" y="220536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ac2f"/>
                  </a:solidFill>
                  <a:latin typeface="Times New Roman"/>
                </a:rPr>
                <a:t>熔化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1" name="Text Box 10"/>
            <p:cNvSpPr/>
            <p:nvPr/>
          </p:nvSpPr>
          <p:spPr>
            <a:xfrm>
              <a:off x="4140360" y="328644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ac2f"/>
                  </a:solidFill>
                  <a:latin typeface="Times New Roman"/>
                </a:rPr>
                <a:t>凝固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16000" y="188640"/>
            <a:ext cx="871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在未加盖的烧杯中装上水，加热到沸腾后，再用猛火给水加热，这时水的温度会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慢慢升高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变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迅速升高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法判定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对于蒸发和沸腾这两种汽化方式，下列说法错误的是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都是由液态变为气态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都需要在一定温度下进行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蒸发是在液体表面进行，沸腾在液体内部和表面同时进行   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蒸发和沸腾都需要吸热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下面说法中正确的是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    )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一切气体都可用降低温度方法液化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用液化石油气是为了减轻重量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烧开水时壶口冒出“白气”不是小水珠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夏天自来水管外表面常常湿漉漉的，这是水管漏水造成的</a:t>
            </a: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796000" y="51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ac2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619280" y="166536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ac2f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500720" y="3716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ac2f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16000" y="0"/>
            <a:ext cx="892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6℃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室内，将温度计的液泡从酒精中取出，温度计的示数将会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   )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立即上升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上升后下降  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先下降后上升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直不变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在卫生间里洗过热水澡后，室内的玻璃镜面变得模糊不清，过了一段时间，镜面又变得清晰起来。镜面上发生的这两种现象的物态变化情况是：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先汽化，后液化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先液化，后汽化 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只有液化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只有汽化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闷热的夏天，从电冰箱取出一块冻肉放在台式秤盘中，过一会秤的示数将：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增大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减小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保持不变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无法判断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956720" y="441360"/>
            <a:ext cx="6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ac2f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885080" y="3249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ac2f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920000" y="5265720"/>
            <a:ext cx="6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ac2f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3-3</a:t>
            </a:r>
            <a:r>
              <a:rPr b="0" lang="zh-CN" sz="3600" spc="-1" strike="noStrike">
                <a:solidFill>
                  <a:srgbClr val="ccccff"/>
                </a:solidFill>
                <a:latin typeface="Times New Roman"/>
              </a:rPr>
              <a:t>节汽化和液化知识点：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、物质从液态变为气态叫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；物质从气态变为液态叫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___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；汽化和液化是互为可逆的过程，汽化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热、液化要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___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热；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、汽化的方式有沸腾和蒸发；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）蒸发：在任何温度下都能发生，且只发生在液体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的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的汽化现象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蒸发的快慢与：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液体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有关：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越高蒸发越快（夏天洒在房间的水比冬天的干的快；在太阳下晒衣服干的快）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跟液体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的大小有关，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越大，蒸发越快（凉衣服时要把衣服打开凉；为了地面积水快点干要把积水扫开）；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跟液体表面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有关，空气流动越快，蒸发越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（凉衣服要凉在通风处；夏天开风扇降温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）沸腾：在一定温度下（沸点）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在液体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同时发生的剧烈   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的汽化现象；沸点：液体沸腾时的温度叫沸点；不同液体的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沸点一般是不同的；同种液体的沸点与大气压有关，大气压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越高沸点越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__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（高压锅煮饭）；液体沸腾的条件：温度达到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沸点且继续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热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）沸腾和蒸发的区别和联系：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它们都是汽化现象，都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热量；沸腾在一定温度下才能进 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行，蒸发在任何温度下都能进行；沸腾在液体内部、外部同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时发生，蒸发只在液体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进行；沸腾比蒸发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；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）蒸发吸热可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：夏天在房间洒水降温；人出汗降温；发烧时  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在皮肤上涂酒精降温；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）不同物体蒸发的快慢不同：如酒精比水蒸发的快；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、液化的方法：（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）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温度；（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）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（增大压强，提高沸</a:t>
            </a:r>
            <a:br>
              <a:rPr sz="2400"/>
            </a:b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点）如：氢的储存和运输；液化气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7240" y="441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比较蒸发和沸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92000" y="1449360"/>
          <a:ext cx="7620120" cy="4753080"/>
        </p:xfrm>
        <a:graphic>
          <a:graphicData uri="http://schemas.openxmlformats.org/drawingml/2006/table">
            <a:tbl>
              <a:tblPr/>
              <a:tblGrid>
                <a:gridCol w="609480"/>
                <a:gridCol w="1930680"/>
                <a:gridCol w="2565360"/>
                <a:gridCol w="2514600"/>
              </a:tblGrid>
              <a:tr h="81288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1368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蒸发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1368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沸腾 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1368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</a:tr>
              <a:tr h="812880"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相同点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600">
                <a:tc rowSpan="3">
                  <a:txBody>
                    <a:bodyPr anchor="t" anchorCtr="1" vert="eaVer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不同点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发生部位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</a:tr>
              <a:tr h="104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剧烈程度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noFill/>
                  </a:tcPr>
                </a:tc>
              </a:tr>
              <a:tr h="11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温度条件</a:t>
                      </a: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2ec2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31"/>
          <p:cNvSpPr/>
          <p:nvPr/>
        </p:nvSpPr>
        <p:spPr>
          <a:xfrm>
            <a:off x="5867280" y="836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5" name="Text Box 32"/>
          <p:cNvSpPr/>
          <p:nvPr/>
        </p:nvSpPr>
        <p:spPr>
          <a:xfrm>
            <a:off x="3851280" y="23493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都是汽化现象，都吸热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6048360" y="3105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表面和内部同时进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7" name="Text Box 34"/>
          <p:cNvSpPr/>
          <p:nvPr/>
        </p:nvSpPr>
        <p:spPr>
          <a:xfrm>
            <a:off x="6408720" y="42926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剧烈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8" name="Text Box 35"/>
          <p:cNvSpPr/>
          <p:nvPr/>
        </p:nvSpPr>
        <p:spPr>
          <a:xfrm>
            <a:off x="5904000" y="519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达到一定温度时才能发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3456000" y="3141720"/>
            <a:ext cx="23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在液体表面进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3961800" y="4292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缓慢，平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3457440" y="5121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任何温度下均可发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431640" y="36828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本节补充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4779-B4B6-4584-8240-B2DB128E49C3}" type="slidenum">
              <a:rPr b="0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7"/>
          <p:cNvSpPr/>
          <p:nvPr/>
        </p:nvSpPr>
        <p:spPr>
          <a:xfrm>
            <a:off x="647640" y="476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小结：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68360" y="1908000"/>
            <a:ext cx="835164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汽化是液态变为气态的过程，汽化吸热；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液化是气态变为液态的过程，液化放热；　　  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影响蒸发快慢的因素；蒸发有致冷作用；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液体沸腾时吸热温度保持不变；沸点；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液化有两种方法：降温和压缩体积。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560" y="512640"/>
            <a:ext cx="856908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学习目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能说出什么是液化，能举出几个生活中气体  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液化的 例子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能说出气体液化的俩种方法，知道液化时会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放热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本节汽化和液化基础知识能够顺利解答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重难点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知道一些气体液化现象，用气体液化分析解   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释相关的物理现象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5229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学习小提示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空气中的和我们呼出的水蒸气是看不见的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自学质疑：</a:t>
            </a:r>
            <a:endParaRPr b="0" lang="en-US" sz="36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、举出几个生活中气体液化的例子</a:t>
            </a:r>
            <a:endParaRPr b="0" lang="en-US" sz="36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、使气体液化的俩种方法是</a:t>
            </a:r>
            <a:r>
              <a:rPr b="1" lang="en-US" sz="3600" spc="-1" strike="noStrike">
                <a:solidFill>
                  <a:srgbClr val="002ec2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；</a:t>
            </a:r>
            <a:r>
              <a:rPr b="1" lang="en-US" sz="3600" spc="-1" strike="noStrike">
                <a:solidFill>
                  <a:srgbClr val="002ec2"/>
                </a:solidFill>
                <a:latin typeface="Times New Roman"/>
              </a:rPr>
              <a:t>_____</a:t>
            </a:r>
            <a:endParaRPr b="0" lang="en-US" sz="36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液化石油气是采用</a:t>
            </a:r>
            <a:r>
              <a:rPr b="1" lang="en-US" sz="3600" spc="-1" strike="noStrike">
                <a:solidFill>
                  <a:srgbClr val="002ec2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方法装进罐子的</a:t>
            </a:r>
            <a:endParaRPr b="0" lang="en-US" sz="36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、气体液化时会</a:t>
            </a:r>
            <a:r>
              <a:rPr b="1" lang="en-US" sz="3600" spc="-1" strike="noStrike">
                <a:solidFill>
                  <a:srgbClr val="002ec2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热</a:t>
            </a:r>
            <a:endParaRPr b="0" lang="en-US" sz="36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ec2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、为什么水蒸气烫伤往往比开水烫伤更严重 </a:t>
            </a:r>
            <a:endParaRPr b="0" lang="en-US" sz="3600" spc="-1" strike="noStrike">
              <a:solidFill>
                <a:srgbClr val="002ec2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2ec2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627280" y="60897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它们是怎么来的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0" name="Picture 9" descr="河面上的雾气"/>
          <p:cNvPicPr/>
          <p:nvPr/>
        </p:nvPicPr>
        <p:blipFill>
          <a:blip r:embed="rId2"/>
          <a:stretch/>
        </p:blipFill>
        <p:spPr>
          <a:xfrm>
            <a:off x="179280" y="2185920"/>
            <a:ext cx="4969080" cy="37274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"/>
          <p:cNvSpPr/>
          <p:nvPr/>
        </p:nvSpPr>
        <p:spPr>
          <a:xfrm>
            <a:off x="1225080" y="1555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河面上的白雾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6373440" y="1590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叶子上的露珠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3" name="Picture 8" descr="露水2"/>
          <p:cNvPicPr/>
          <p:nvPr/>
        </p:nvPicPr>
        <p:blipFill>
          <a:blip r:embed="rId3"/>
          <a:stretch/>
        </p:blipFill>
        <p:spPr>
          <a:xfrm>
            <a:off x="4392720" y="2222640"/>
            <a:ext cx="4572000" cy="367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3"/>
          <p:cNvSpPr/>
          <p:nvPr/>
        </p:nvSpPr>
        <p:spPr>
          <a:xfrm>
            <a:off x="611280" y="4762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液化：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2448000" y="549360"/>
            <a:ext cx="4392000" cy="520560"/>
            <a:chOff x="2448000" y="549360"/>
            <a:chExt cx="4392000" cy="520560"/>
          </a:xfrm>
        </p:grpSpPr>
        <p:sp>
          <p:nvSpPr>
            <p:cNvPr id="96" name="Text Box 14"/>
            <p:cNvSpPr/>
            <p:nvPr/>
          </p:nvSpPr>
          <p:spPr>
            <a:xfrm>
              <a:off x="2448000" y="549360"/>
              <a:ext cx="43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cc"/>
                  </a:solidFill>
                  <a:latin typeface="楷体_GB2312"/>
                  <a:ea typeface="楷体_GB2312"/>
                </a:rPr>
                <a:t>气态          液态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663360" y="841680"/>
              <a:ext cx="1447920" cy="360"/>
              <a:chOff x="3663360" y="841680"/>
              <a:chExt cx="1447920" cy="360"/>
            </a:xfrm>
          </p:grpSpPr>
          <p:sp>
            <p:nvSpPr>
              <p:cNvPr id="98" name="Line 15"/>
              <p:cNvSpPr/>
              <p:nvPr/>
            </p:nvSpPr>
            <p:spPr>
              <a:xfrm>
                <a:off x="3663360" y="841680"/>
                <a:ext cx="1447920" cy="0"/>
              </a:xfrm>
              <a:prstGeom prst="line">
                <a:avLst/>
              </a:prstGeom>
              <a:ln w="38160">
                <a:solidFill>
                  <a:srgbClr val="0066cc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3663360" y="84168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02" name="Picture 4" descr="烧开水"/>
          <p:cNvPicPr/>
          <p:nvPr/>
        </p:nvPicPr>
        <p:blipFill>
          <a:blip r:embed="rId1"/>
          <a:stretch/>
        </p:blipFill>
        <p:spPr>
          <a:xfrm>
            <a:off x="250920" y="225360"/>
            <a:ext cx="889308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05" name="Picture 4" descr="06104012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" descr="twl8s040228021"/>
          <p:cNvPicPr/>
          <p:nvPr/>
        </p:nvPicPr>
        <p:blipFill>
          <a:blip r:embed="rId2"/>
          <a:stretch/>
        </p:blipFill>
        <p:spPr>
          <a:xfrm>
            <a:off x="0" y="0"/>
            <a:ext cx="4140360" cy="335592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pic>
        <p:nvPicPr>
          <p:cNvPr id="107" name="Picture 11" descr="twl8s040228022"/>
          <p:cNvPicPr/>
          <p:nvPr/>
        </p:nvPicPr>
        <p:blipFill>
          <a:blip r:embed="rId3"/>
          <a:stretch/>
        </p:blipFill>
        <p:spPr>
          <a:xfrm>
            <a:off x="0" y="3433680"/>
            <a:ext cx="4103640" cy="342432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pic>
        <p:nvPicPr>
          <p:cNvPr id="108" name="Picture 12" descr="twl8s040228023"/>
          <p:cNvPicPr/>
          <p:nvPr/>
        </p:nvPicPr>
        <p:blipFill>
          <a:blip r:embed="rId4"/>
          <a:stretch/>
        </p:blipFill>
        <p:spPr>
          <a:xfrm>
            <a:off x="4716360" y="1881360"/>
            <a:ext cx="3853080" cy="308268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-360" y="0"/>
            <a:ext cx="84596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生活中有哪些液化现象：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089000"/>
            <a:ext cx="80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冬天，我们呼出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白气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42920" y="1700280"/>
            <a:ext cx="727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ef95"/>
                </a:solidFill>
                <a:latin typeface="Times New Roman"/>
              </a:rPr>
              <a:t>是由呼出的水蒸气遇到冷空气，放热液化时形成的大量的细小液滴组成的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03280" y="2708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冬天，我们戴着眼睛进入澡堂，镜片上的水珠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42920" y="321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ef95"/>
                </a:solidFill>
                <a:latin typeface="Times New Roman"/>
              </a:rPr>
              <a:t>是由于澡堂里面的水蒸气，遇到冷镜片放热液化形成的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9640" y="4400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秋天的露珠；天上的云，雨，雾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042920" y="5013360"/>
            <a:ext cx="75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ef95"/>
                </a:solidFill>
                <a:latin typeface="Times New Roman"/>
              </a:rPr>
              <a:t>是由于空气中的水蒸气遇到了气温下降，放热液化形成的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792000" y="7142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液化的两种方法是：</a:t>
            </a:r>
            <a:r>
              <a:rPr b="0" lang="zh-CN" sz="28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103640" y="728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降低温度；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92720" y="80028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压缩体积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9" name="Picture 9" descr="060817121454"/>
          <p:cNvPicPr/>
          <p:nvPr/>
        </p:nvPicPr>
        <p:blipFill>
          <a:blip r:embed="rId2"/>
          <a:stretch/>
        </p:blipFill>
        <p:spPr>
          <a:xfrm>
            <a:off x="1619280" y="1449360"/>
            <a:ext cx="4754520" cy="4967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6840360" y="3068640"/>
            <a:ext cx="19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这些可燃气是如何装进罐子的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45Z</dcterms:modified>
  <cp:revision>5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