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709-DA06-46B4-B273-62EF30A2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512-7B45-4B57-A53E-E619E292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0E7-D01D-4423-BA33-C944D1D5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9C9-C65C-4558-8893-26511AF7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4DE-DE6F-4EED-BE1E-F7FEFEEF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4BA8-1CA6-45EF-82A1-54D2EC4D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790D-7866-4FB6-81DA-7DA1F6B4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9B6D-45DE-4D13-93D9-84C4DD27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D4A4-7794-4512-AA0E-E606C7C0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B902-7A73-4C14-BD21-F21C2415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2E6F-4848-4F29-8ADF-92E54D10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2D3E-0783-4590-BA30-276EF459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7E05-BF52-4A02-B79E-68A63CA8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8A20-B76A-4D9B-BEEF-FCFADEC1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C632-1E73-4E6B-B617-D91EB30B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C20A-640B-4F97-919B-0C9EC63E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B3E7-CB70-42EB-8DDE-7CD9BB24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DB8C-6CAC-4941-BB30-7657668E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A5B-5F9D-474B-A00B-5B67C4D5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B202-B191-4541-BB31-9695A75D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F00-0228-48F0-9D6E-7AAA07BA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881-55D7-4B01-B7B6-F3DD4F67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60D-EAE8-47E8-AE64-E354B1DF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8F6-D974-4A31-922E-A1E3BB5B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E5CE-9482-42ED-AEFE-BC4EC90959FE}" type="datetime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5574-FA49-4AB3-BFBA-9EFAA364B1F1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4F93-FCD1-4CA1-A0D9-B8018532C9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283,22,&#24187;&#28783;&#29255; 22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76,11,&#24187;&#28783;&#29255; 11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267,15,&#24187;&#28783;&#29255; 15" TargetMode="External"/><Relationship Id="rId2" Type="http://schemas.openxmlformats.org/officeDocument/2006/relationships/hyperlink" Target="269,19,&#24187;&#28783;&#29255; 19" TargetMode="External"/><Relationship Id="rId3" Type="http://schemas.openxmlformats.org/officeDocument/2006/relationships/hyperlink" Target="268,17,&#24187;&#28783;&#29255; 17" TargetMode="External"/><Relationship Id="rId4" Type="http://schemas.openxmlformats.org/officeDocument/2006/relationships/hyperlink" Target="279,14,&#24187;&#28783;&#29255; 14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414360" y="1987560"/>
            <a:ext cx="8423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起来不愿做奴隶的人们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件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文本框 6155"/>
          <p:cNvSpPr/>
          <p:nvPr/>
        </p:nvSpPr>
        <p:spPr>
          <a:xfrm>
            <a:off x="303120" y="5929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6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897280" y="30492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血战台儿庄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0" name="Picture 3" descr="BD15273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33520" y="1676520"/>
            <a:ext cx="390240" cy="3808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2171160" y="1600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宋体"/>
              </a:rPr>
              <a:t>背景（原因）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143000" y="2362320"/>
            <a:ext cx="714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、台儿庄的重要战略位置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3" name="Picture 9" descr="BD15273_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9640" y="4797360"/>
            <a:ext cx="390600" cy="3812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1523880" y="4648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  <a:ea typeface="宋体"/>
              </a:rPr>
              <a:t>经过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143000" y="335268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、抗战形势：日本侵略者企图连接华北、华东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两大战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3276720" y="48006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026"/>
          <p:cNvSpPr/>
          <p:nvPr/>
        </p:nvSpPr>
        <p:spPr>
          <a:xfrm>
            <a:off x="1954800" y="1311120"/>
            <a:ext cx="127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时间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地点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指挥官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战果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Text Box 1027"/>
          <p:cNvSpPr/>
          <p:nvPr/>
        </p:nvSpPr>
        <p:spPr>
          <a:xfrm>
            <a:off x="3505320" y="1371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38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下旬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Text Box 1028"/>
          <p:cNvSpPr/>
          <p:nvPr/>
        </p:nvSpPr>
        <p:spPr>
          <a:xfrm>
            <a:off x="4374000" y="25146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山东台儿庄（徐州东北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Text Box 1029"/>
          <p:cNvSpPr/>
          <p:nvPr/>
        </p:nvSpPr>
        <p:spPr>
          <a:xfrm>
            <a:off x="3809880" y="34243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李宗仁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Text Box 1030"/>
          <p:cNvSpPr/>
          <p:nvPr/>
        </p:nvSpPr>
        <p:spPr>
          <a:xfrm>
            <a:off x="4340520" y="4616280"/>
            <a:ext cx="351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军大败溃逃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台儿庄战役消灭日军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人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AutoShape 1031"/>
          <p:cNvSpPr/>
          <p:nvPr/>
        </p:nvSpPr>
        <p:spPr>
          <a:xfrm>
            <a:off x="7010280" y="762120"/>
            <a:ext cx="838440" cy="990360"/>
          </a:xfrm>
          <a:custGeom>
            <a:avLst/>
            <a:gdLst/>
            <a:ahLst/>
            <a:rect l="l" t="t" r="r" b="b"/>
            <a:pathLst>
              <a:path w="838200" h="990600">
                <a:moveTo>
                  <a:pt x="1" y="378374"/>
                </a:moveTo>
                <a:lnTo>
                  <a:pt x="320166" y="378377"/>
                </a:lnTo>
                <a:lnTo>
                  <a:pt x="419100" y="0"/>
                </a:lnTo>
                <a:lnTo>
                  <a:pt x="518034" y="378377"/>
                </a:lnTo>
                <a:lnTo>
                  <a:pt x="838199" y="378374"/>
                </a:lnTo>
                <a:lnTo>
                  <a:pt x="579179" y="612221"/>
                </a:lnTo>
                <a:lnTo>
                  <a:pt x="678118" y="990597"/>
                </a:lnTo>
                <a:lnTo>
                  <a:pt x="419100" y="756746"/>
                </a:lnTo>
                <a:lnTo>
                  <a:pt x="160082" y="990597"/>
                </a:lnTo>
                <a:lnTo>
                  <a:pt x="259021" y="612221"/>
                </a:lnTo>
                <a:lnTo>
                  <a:pt x="1" y="37837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BD15273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90720" y="990720"/>
            <a:ext cx="390240" cy="3808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2414520" y="65088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黑体"/>
                <a:ea typeface="黑体"/>
              </a:rPr>
              <a:t>影  响：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95280" y="1905120"/>
            <a:ext cx="7010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台儿庄战役是抗战以来中国国民党军队取得的重大胜利，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它打击了日本侵略者的嚣张气焰，鼓舞了中国人民的抗战士气。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26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台儿庄战役六十五周年纪念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Picture 1027" descr="台儿庄战役纪念碑"/>
          <p:cNvPicPr/>
          <p:nvPr/>
        </p:nvPicPr>
        <p:blipFill>
          <a:blip r:embed="rId1"/>
          <a:stretch/>
        </p:blipFill>
        <p:spPr>
          <a:xfrm>
            <a:off x="457200" y="1600200"/>
            <a:ext cx="3048120" cy="46483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028"/>
          <p:cNvSpPr/>
          <p:nvPr/>
        </p:nvSpPr>
        <p:spPr>
          <a:xfrm>
            <a:off x="4024800" y="5985000"/>
            <a:ext cx="23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战台儿庄纪念碑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9" name="Picture 1029" descr="4"/>
          <p:cNvPicPr/>
          <p:nvPr/>
        </p:nvPicPr>
        <p:blipFill>
          <a:blip r:embed="rId2"/>
          <a:stretch/>
        </p:blipFill>
        <p:spPr>
          <a:xfrm>
            <a:off x="3886200" y="1981080"/>
            <a:ext cx="4952880" cy="31575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030"/>
          <p:cNvSpPr/>
          <p:nvPr/>
        </p:nvSpPr>
        <p:spPr>
          <a:xfrm>
            <a:off x="6098040" y="5181480"/>
            <a:ext cx="23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台儿庄大战纪念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981080" y="228600"/>
            <a:ext cx="569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百团大战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2" name="Picture 3" descr="BD15273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762120" y="1676520"/>
            <a:ext cx="390240" cy="3808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1676520" y="1523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背景（原因）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914400" y="2590920"/>
            <a:ext cx="792468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宋体"/>
              </a:rPr>
              <a:t>、中国出现了严重的抗战困难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（日本加紧侵略中国，实行“囚笼政策”，分割围困敌后抗日根据地；在国际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/>
              </a:rPr>
              <a:t>法西斯轴心国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取得暂时胜利。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990720" y="4876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宋体"/>
              </a:rPr>
              <a:t>、投降主义思想的抬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（日本对蒋介石进行威逼诱降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经过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Text Box 1027"/>
          <p:cNvSpPr/>
          <p:nvPr/>
        </p:nvSpPr>
        <p:spPr>
          <a:xfrm>
            <a:off x="1712880" y="192096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时间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Text Box 1028"/>
          <p:cNvSpPr/>
          <p:nvPr/>
        </p:nvSpPr>
        <p:spPr>
          <a:xfrm>
            <a:off x="990720" y="2895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指挥官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Text Box 1030"/>
          <p:cNvSpPr/>
          <p:nvPr/>
        </p:nvSpPr>
        <p:spPr>
          <a:xfrm>
            <a:off x="990720" y="3962520"/>
            <a:ext cx="28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主要目标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Text Box 1031"/>
          <p:cNvSpPr/>
          <p:nvPr/>
        </p:nvSpPr>
        <p:spPr>
          <a:xfrm>
            <a:off x="3657600" y="18795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4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Text Box 1032"/>
          <p:cNvSpPr/>
          <p:nvPr/>
        </p:nvSpPr>
        <p:spPr>
          <a:xfrm>
            <a:off x="3962520" y="2738520"/>
            <a:ext cx="2438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/>
              </a:rPr>
              <a:t>彭德怀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Text Box 1035"/>
          <p:cNvSpPr/>
          <p:nvPr/>
        </p:nvSpPr>
        <p:spPr>
          <a:xfrm>
            <a:off x="4869720" y="4800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破坏敌人的交通线，摧毁日伪军的据点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AutoShape 1036"/>
          <p:cNvSpPr/>
          <p:nvPr/>
        </p:nvSpPr>
        <p:spPr>
          <a:xfrm>
            <a:off x="6095880" y="9144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百团大战主要战绩表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38080" y="2514600"/>
          <a:ext cx="7467480" cy="2017800"/>
        </p:xfrm>
        <a:graphic>
          <a:graphicData uri="http://schemas.openxmlformats.org/drawingml/2006/table">
            <a:tbl>
              <a:tblPr/>
              <a:tblGrid>
                <a:gridCol w="1447920"/>
                <a:gridCol w="1600200"/>
                <a:gridCol w="1752480"/>
                <a:gridCol w="1295280"/>
                <a:gridCol w="1371600"/>
              </a:tblGrid>
              <a:tr h="114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个半月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1800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多次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万多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2000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多公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近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3000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楷体"/>
                        </a:rPr>
                        <a:t>个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 Box 43"/>
          <p:cNvSpPr/>
          <p:nvPr/>
        </p:nvSpPr>
        <p:spPr>
          <a:xfrm>
            <a:off x="108684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战役时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Text Box 44"/>
          <p:cNvSpPr/>
          <p:nvPr/>
        </p:nvSpPr>
        <p:spPr>
          <a:xfrm>
            <a:off x="2611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战斗次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4196520" y="2666880"/>
            <a:ext cx="1095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毙伤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日伪军人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Text Box 46"/>
          <p:cNvSpPr/>
          <p:nvPr/>
        </p:nvSpPr>
        <p:spPr>
          <a:xfrm>
            <a:off x="5978160" y="2666880"/>
            <a:ext cx="729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破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交通线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Text Box 47"/>
          <p:cNvSpPr/>
          <p:nvPr/>
        </p:nvSpPr>
        <p:spPr>
          <a:xfrm>
            <a:off x="7183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拔掉据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AutoShape 48"/>
          <p:cNvSpPr/>
          <p:nvPr/>
        </p:nvSpPr>
        <p:spPr>
          <a:xfrm>
            <a:off x="533520" y="9144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BD15273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1600" y="838080"/>
            <a:ext cx="390600" cy="3812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981080" y="654120"/>
            <a:ext cx="299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Times New Roman"/>
                <a:ea typeface="宋体"/>
              </a:rPr>
              <a:t>影  响：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宋体"/>
              </a:rPr>
              <a:t>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90720" y="1828800"/>
            <a:ext cx="71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百团大战是抗战期间中国军队主动出击日军的一次最大规模的战役。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5486400" y="33526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219320" y="4038480"/>
            <a:ext cx="664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它提高了中国共产党和八路军的威望，坚定了全国人民抗战胜利的信心。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-1065240" y="457200"/>
            <a:ext cx="777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彭德怀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873800" y="1172520"/>
            <a:ext cx="164268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谁敢横刀立马，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唯我彭大将军！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994320" y="4502880"/>
            <a:ext cx="66780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－毛泽东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1" name="Picture 5" descr="彭德怀"/>
          <p:cNvPicPr/>
          <p:nvPr/>
        </p:nvPicPr>
        <p:blipFill>
          <a:blip r:embed="rId1"/>
          <a:stretch/>
        </p:blipFill>
        <p:spPr>
          <a:xfrm>
            <a:off x="4876920" y="380880"/>
            <a:ext cx="3429000" cy="61502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6"/>
          <p:cNvSpPr/>
          <p:nvPr/>
        </p:nvSpPr>
        <p:spPr>
          <a:xfrm>
            <a:off x="762120" y="7621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828800" y="38088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三、众志成城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09480" y="1371600"/>
          <a:ext cx="8153280" cy="4191120"/>
        </p:xfrm>
        <a:graphic>
          <a:graphicData uri="http://schemas.openxmlformats.org/drawingml/2006/table">
            <a:tbl>
              <a:tblPr/>
              <a:tblGrid>
                <a:gridCol w="1747800"/>
                <a:gridCol w="6405480"/>
              </a:tblGrid>
              <a:tr h="1073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华文楷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Arial"/>
                          <a:ea typeface="华文楷体"/>
                        </a:rPr>
                        <a:t>代表人物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Arial"/>
                          <a:ea typeface="华文楷体"/>
                        </a:rPr>
                        <a:t>主要事迹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20"/>
          <p:cNvSpPr/>
          <p:nvPr/>
        </p:nvSpPr>
        <p:spPr>
          <a:xfrm flipH="1">
            <a:off x="913680" y="2743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1"/>
              </a:rPr>
              <a:t>冼星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990720" y="3809880"/>
            <a:ext cx="142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/>
              </a:rPr>
              <a:t>徐悲鸿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1175040" y="48769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/>
              </a:rPr>
              <a:t>侯德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3846960" y="2538360"/>
            <a:ext cx="32090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创作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/>
              </a:rPr>
              <a:t>《黄河大合唱》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，鼓舞了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中华民族的抗日战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2895480" y="35812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创作反映爱国抗战精神的画举     办画展，资助抗战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2971800" y="45720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发明联合制碱法，打破了抗战时期敌人对中国民族工业的封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90720" y="2057400"/>
            <a:ext cx="752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起来 不愿做奴隶的人们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把我们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血肉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筑成我们新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长城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中华民族到了最危险的时候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每个人被迫发出最后的吼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起来 起来 起来 我们万众一心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冒着敌人的炮火 前进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冒着敌人的炮火 前进 前进 前进 进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314960" y="83808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《义勇军进行曲》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Picture 5" descr="EN00354_"/>
          <p:cNvPicPr/>
          <p:nvPr/>
        </p:nvPicPr>
        <p:blipFill>
          <a:blip r:embed="rId1"/>
          <a:stretch/>
        </p:blipFill>
        <p:spPr>
          <a:xfrm>
            <a:off x="1219320" y="685800"/>
            <a:ext cx="11430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4086000" y="228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Times New Roman"/>
                <a:ea typeface="隶书"/>
              </a:rPr>
              <a:t>小结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027440" y="2239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国民党战场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581280" y="2209680"/>
            <a:ext cx="27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血战台儿庄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3574080" y="2819520"/>
            <a:ext cx="23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1938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年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月下旬）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027440" y="3429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共产党战场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4009680" y="342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百团大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680640" y="4114800"/>
            <a:ext cx="19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1940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年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月）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1191600" y="48006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社会各阶层民众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3949560" y="4846680"/>
            <a:ext cx="470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冼星海、徐悲鸿、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侯德榜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3360" y="115920"/>
            <a:ext cx="8540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材料阅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052640"/>
            <a:ext cx="8540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战争的伟力之最深厚的根源，存在于民众之中。日本敢于欺负我们，主要的原因在于中国民众的无组织状态。克服了这一缺点，就把日本侵略者置于我们数万万站起来了的人民面前，使它像一匹野牛冲入火阵，我们一声也要把它吓一大跳，这匹野牛就非烧死不可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毛泽东选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468360" y="479736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为什么说只要中国的民众组织起来，就一定能将日本侵略者这匹野牛烧死？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63680" y="5823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你认为中国民众在抗战中组织起来了么？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地雷战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284120" y="441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埋点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898800" y="4495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猜想敌人可能经过的地点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284120" y="3071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形式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4917240" y="3124080"/>
            <a:ext cx="8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子母雷、连环雷 、钉子雷、碎石雷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铁夹子雷、头发丝雷等各种各样的土造地雷。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284120" y="200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 Unicode MS"/>
                <a:ea typeface="宋体"/>
              </a:rPr>
              <a:t>原料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4750920" y="205740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 Unicode MS"/>
                <a:ea typeface="宋体"/>
              </a:rPr>
              <a:t>碎玻璃、生石灰、熟石灰粉和小钉子等 。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7010280" y="541008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7238880" y="5257800"/>
            <a:ext cx="457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Freeform 11"/>
          <p:cNvSpPr/>
          <p:nvPr/>
        </p:nvSpPr>
        <p:spPr>
          <a:xfrm>
            <a:off x="7391520" y="4724280"/>
            <a:ext cx="380880" cy="53352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cubicBezTo>
                  <a:pt x="8" y="304"/>
                  <a:pt x="16" y="272"/>
                  <a:pt x="48" y="240"/>
                </a:cubicBezTo>
                <a:cubicBezTo>
                  <a:pt x="80" y="208"/>
                  <a:pt x="160" y="184"/>
                  <a:pt x="192" y="144"/>
                </a:cubicBezTo>
                <a:cubicBezTo>
                  <a:pt x="224" y="104"/>
                  <a:pt x="232" y="24"/>
                  <a:pt x="240" y="0"/>
                </a:cubicBezTo>
              </a:path>
            </a:pathLst>
          </a:custGeom>
          <a:noFill/>
          <a:ln w="57240">
            <a:solidFill>
              <a:srgbClr val="808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7467480" y="4495680"/>
            <a:ext cx="533520" cy="685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地道战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地道战"/>
          <p:cNvPicPr/>
          <p:nvPr/>
        </p:nvPicPr>
        <p:blipFill>
          <a:blip r:embed="rId1"/>
          <a:stretch/>
        </p:blipFill>
        <p:spPr>
          <a:xfrm>
            <a:off x="228600" y="1676520"/>
            <a:ext cx="8610480" cy="40370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4370040" y="5867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特点：家家相连，村村相通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nzddzjlg3"/>
          <p:cNvPicPr/>
          <p:nvPr/>
        </p:nvPicPr>
        <p:blipFill>
          <a:blip r:embed="rId1"/>
          <a:stretch/>
        </p:blipFill>
        <p:spPr>
          <a:xfrm>
            <a:off x="3932280" y="479520"/>
            <a:ext cx="4830840" cy="3398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nzddzjlg2"/>
          <p:cNvPicPr/>
          <p:nvPr/>
        </p:nvPicPr>
        <p:blipFill>
          <a:blip r:embed="rId2"/>
          <a:stretch/>
        </p:blipFill>
        <p:spPr>
          <a:xfrm>
            <a:off x="304920" y="3352680"/>
            <a:ext cx="4267080" cy="305136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4"/>
          <p:cNvSpPr/>
          <p:nvPr/>
        </p:nvSpPr>
        <p:spPr>
          <a:xfrm>
            <a:off x="1143000" y="1600200"/>
            <a:ext cx="1905120" cy="1905120"/>
          </a:xfrm>
          <a:prstGeom prst="cloudCallout">
            <a:avLst>
              <a:gd name="adj1" fmla="val 9333"/>
              <a:gd name="adj2" fmla="val 9524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墙根下别有洞天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6553080" y="3429000"/>
            <a:ext cx="1676520" cy="1905120"/>
          </a:xfrm>
          <a:prstGeom prst="cloudCallout">
            <a:avLst>
              <a:gd name="adj1" fmla="val -30115"/>
              <a:gd name="adj2" fmla="val -9083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床板下有跷蹊？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冼星海"/>
          <p:cNvPicPr/>
          <p:nvPr/>
        </p:nvPicPr>
        <p:blipFill>
          <a:blip r:embed="rId1"/>
          <a:stretch/>
        </p:blipFill>
        <p:spPr>
          <a:xfrm>
            <a:off x="1805040" y="189000"/>
            <a:ext cx="4444920" cy="61722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752040" y="106164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人民音乐家冼星海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588000" y="11970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冼星海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90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94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年）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广东番禺人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他在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93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年创作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《黄河大合唱》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保卫黄河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6" name="Picture 3" descr="乐谱"/>
          <p:cNvPicPr/>
          <p:nvPr/>
        </p:nvPicPr>
        <p:blipFill>
          <a:blip r:embed="rId1"/>
          <a:stretch/>
        </p:blipFill>
        <p:spPr>
          <a:xfrm>
            <a:off x="6248520" y="990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音乐"/>
          <p:cNvPicPr/>
          <p:nvPr/>
        </p:nvPicPr>
        <p:blipFill>
          <a:blip r:embed="rId2"/>
          <a:stretch/>
        </p:blipFill>
        <p:spPr>
          <a:xfrm>
            <a:off x="6781680" y="12193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音乐"/>
          <p:cNvPicPr/>
          <p:nvPr/>
        </p:nvPicPr>
        <p:blipFill>
          <a:blip r:embed="rId3"/>
          <a:stretch/>
        </p:blipFill>
        <p:spPr>
          <a:xfrm>
            <a:off x="7162920" y="1219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音乐"/>
          <p:cNvPicPr/>
          <p:nvPr/>
        </p:nvPicPr>
        <p:blipFill>
          <a:blip r:embed="rId4"/>
          <a:stretch/>
        </p:blipFill>
        <p:spPr>
          <a:xfrm>
            <a:off x="7543800" y="1219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音乐"/>
          <p:cNvPicPr/>
          <p:nvPr/>
        </p:nvPicPr>
        <p:blipFill>
          <a:blip r:embed="rId5"/>
          <a:stretch/>
        </p:blipFill>
        <p:spPr>
          <a:xfrm>
            <a:off x="7924680" y="1219320"/>
            <a:ext cx="365400" cy="3650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3221640" y="1828800"/>
            <a:ext cx="295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风在吼，马在叫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黄河在咆哮，黄河在咆哮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河西山岗万丈高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河东河北高梁熟了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万山丛中，抗日英雄真不少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青纱帐里，游击健儿逞英豪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端起了土枪洋枪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挥动着大刀长矛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保卫家乡！保卫黄河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保卫华北！保卫全中国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609480" y="59436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侯德榜"/>
          <p:cNvPicPr/>
          <p:nvPr/>
        </p:nvPicPr>
        <p:blipFill>
          <a:blip r:embed="rId1"/>
          <a:stretch/>
        </p:blipFill>
        <p:spPr>
          <a:xfrm>
            <a:off x="1158840" y="324000"/>
            <a:ext cx="4546800" cy="6095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308160" y="737280"/>
            <a:ext cx="8506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  <a:ea typeface="隶书"/>
              </a:rPr>
              <a:t>科学家侯德榜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457200" y="49528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705640" y="990720"/>
            <a:ext cx="343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侯德榜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89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97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福建闽侯人。他创作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侯氏制碱法”，从此，中国的制碱化学工业跃居世界前列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徐悲鸿"/>
          <p:cNvPicPr/>
          <p:nvPr/>
        </p:nvPicPr>
        <p:blipFill>
          <a:blip r:embed="rId1"/>
          <a:stretch/>
        </p:blipFill>
        <p:spPr>
          <a:xfrm>
            <a:off x="762120" y="1371600"/>
            <a:ext cx="3581280" cy="49528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3080520" y="3808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爱国画家徐悲鸿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4495680" y="2819520"/>
            <a:ext cx="49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徐悲鸿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89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95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年）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江苏宜兴人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代表作《愚公移山》、《奔马图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他的画融合中西，有独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的成就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27C7-EAD2-4FBD-BBA6-8BCB633F7083}" type="slidenum">
              <a:rPr b="0" lang="zh-CN" sz="14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990720" y="990720"/>
            <a:ext cx="7162560" cy="1752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同盟国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英、法、美、中等）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343400" y="2819520"/>
            <a:ext cx="485640" cy="1214280"/>
          </a:xfrm>
          <a:prstGeom prst="upDownArrow">
            <a:avLst>
              <a:gd name="adj1" fmla="val 50000"/>
              <a:gd name="adj2" fmla="val 4998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990720" y="4191120"/>
            <a:ext cx="7238880" cy="16761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法西斯轴心国（德、意、日）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228600" y="61722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军马图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841320" y="1828800"/>
            <a:ext cx="100332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《奔马图》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990720" y="54100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"/>
          <p:cNvSpPr/>
          <p:nvPr/>
        </p:nvSpPr>
        <p:spPr>
          <a:xfrm>
            <a:off x="1476360" y="1268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宋体"/>
              </a:rPr>
              <a:t>面对外国列强的野蛮行径，中国人民进行了不屈不饶的斗争。为了不沦为亡国奴，为了祖国的强大，一百多年来中华儿女不怕牺牲，英勇反抗外来侵略者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3836160" y="90180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★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林则徐与虎门硝烟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矩形 2"/>
          <p:cNvSpPr/>
          <p:nvPr/>
        </p:nvSpPr>
        <p:spPr>
          <a:xfrm>
            <a:off x="1258920" y="163980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百多年前葡萄牙、荷兰、英国等列强开始向中国输入鸦片。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中，英国走私到中国的鸦片就有四十多箱。据估计，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3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时，中国已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万人吸食鸦片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0" name="Picture 4" descr="20090828154253449"/>
          <p:cNvPicPr/>
          <p:nvPr/>
        </p:nvPicPr>
        <p:blipFill>
          <a:blip r:embed="rId1"/>
          <a:stretch/>
        </p:blipFill>
        <p:spPr>
          <a:xfrm>
            <a:off x="2771640" y="3898800"/>
            <a:ext cx="33339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8"/>
          <p:cNvSpPr/>
          <p:nvPr/>
        </p:nvSpPr>
        <p:spPr>
          <a:xfrm>
            <a:off x="2556000" y="386064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矩形 1"/>
          <p:cNvSpPr/>
          <p:nvPr/>
        </p:nvSpPr>
        <p:spPr>
          <a:xfrm>
            <a:off x="1116000" y="2602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鸦片对中国的危害，引起了许多正直的中国官员的忧虑。他们强烈要求禁止鸦片进口。爱国政治家林则徐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85-185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就是其中的一个代表。他上书皇帝：如果不禁止鸦片输入中国，那么，数十年后，中国不仅“几无可以御敌之兵，且无可以充饷之银”。</a:t>
            </a:r>
            <a:br>
              <a:rPr sz="1800"/>
            </a:br>
            <a:r>
              <a:rPr b="0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39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月林则徐到达广州，他向外国鸦片贩子表明了禁鸦片的坚决意志：“若鸦片一日未绝，本大臣一日不回，誓与此事相始终，断无中止之理。”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外国鸦片贩子拒缴鸦片，林则徐便采取断然措施，将外国商船上的鸦片收缴，并派兵包围商馆，不让一个外国鸦片贩子溜走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39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虎门海滩上人山人海。林则徐亲自指挥监督销毁鸦片。销毁鸦片的行动进行了二十多天。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3" name="Picture 3" descr="01300000329092124400369765944_s"/>
          <p:cNvPicPr/>
          <p:nvPr/>
        </p:nvPicPr>
        <p:blipFill>
          <a:blip r:embed="rId1"/>
          <a:stretch/>
        </p:blipFill>
        <p:spPr>
          <a:xfrm>
            <a:off x="1739880" y="3595680"/>
            <a:ext cx="1895400" cy="2857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6d1340becf30a82855200973b3082191"/>
          <p:cNvPicPr/>
          <p:nvPr/>
        </p:nvPicPr>
        <p:blipFill>
          <a:blip r:embed="rId2"/>
          <a:stretch/>
        </p:blipFill>
        <p:spPr>
          <a:xfrm>
            <a:off x="4475160" y="3306600"/>
            <a:ext cx="2303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元里抗英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57200" y="1197000"/>
            <a:ext cx="8229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华文楷体"/>
              </a:rPr>
              <a:t>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1849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29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日，英兵到广州的三元里一带进行骚扰，霸占民房，调戏妇女。英军的暴行激怒了当地的居民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             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为了赶走侵略军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3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日，一场轰轰烈烈的抗英斗争展开了。一声锣响，大约二万五千人集合在“平英团”大旗下不仅三元里一带的乡民，就连广州的工人也都赶来参加，浩浩荡荡，阵容甚盛。他们用土枪、土炮、盾牌、锄头、镰锹等，与英军作战。可谓“刀斧犁头在手皆成兵器，儿童妇女喊声亦助兵威”。三元里之战，英军惨败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6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日英军退出广州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           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这是一次这个人民自发组织抗击外国侵略者的战斗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华文楷体"/>
              </a:rPr>
              <a:t>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Picture 4" descr="SYLRMKYDZ_0"/>
          <p:cNvPicPr/>
          <p:nvPr/>
        </p:nvPicPr>
        <p:blipFill>
          <a:blip r:embed="rId1"/>
          <a:stretch/>
        </p:blipFill>
        <p:spPr>
          <a:xfrm>
            <a:off x="2556000" y="432432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海海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华文楷体"/>
              </a:rPr>
              <a:t>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189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年日本对我国发动了侵略战争，史称“甲午战争”。黄海海战是甲午战争中悲壮的一幕。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华文楷体"/>
              </a:rPr>
              <a:t>9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月的一天，我国北洋舰队在鸭绿江口遭到日本舰队袭击，被迫应战。在致远舰多处中弹、严重倾斜的危机时刻，邓世昌下令开足马力向日军主力舰冲去，试图撞沉日舰。日军见势不妙，边逃边施放鱼雷。致远舰不幸被鱼雷击中，被炸为两截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华文楷体"/>
              </a:rPr>
              <a:t>            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华文楷体"/>
              </a:rPr>
              <a:t>邓世昌和舰上二百多名官员壮烈殉国。黄海海战历时五个多小时，重创五艘日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Picture 4" descr="150R35551-0"/>
          <p:cNvPicPr/>
          <p:nvPr/>
        </p:nvPicPr>
        <p:blipFill>
          <a:blip r:embed="rId1"/>
          <a:stretch/>
        </p:blipFill>
        <p:spPr>
          <a:xfrm>
            <a:off x="971640" y="3848040"/>
            <a:ext cx="338436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717041_n"/>
          <p:cNvPicPr/>
          <p:nvPr/>
        </p:nvPicPr>
        <p:blipFill>
          <a:blip r:embed="rId2"/>
          <a:stretch/>
        </p:blipFill>
        <p:spPr>
          <a:xfrm>
            <a:off x="4697280" y="3614760"/>
            <a:ext cx="3888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051"/>
          <p:cNvSpPr/>
          <p:nvPr/>
        </p:nvSpPr>
        <p:spPr>
          <a:xfrm>
            <a:off x="1696680" y="1600200"/>
            <a:ext cx="602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、</a:t>
            </a:r>
            <a:r>
              <a:rPr b="0" lang="zh-CN" sz="2800" spc="-1" strike="noStrike" u="sng">
                <a:solidFill>
                  <a:srgbClr val="003366"/>
                </a:solidFill>
                <a:uFillTx/>
                <a:latin typeface="Times New Roman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的和平解决，标志着国共两党第二次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合作的初步形成，预示了团结抗日新局面的到来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Text Box 2052"/>
          <p:cNvSpPr/>
          <p:nvPr/>
        </p:nvSpPr>
        <p:spPr>
          <a:xfrm>
            <a:off x="838080" y="4114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年</a:t>
            </a:r>
            <a:r>
              <a:rPr b="1" lang="zh-CN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月</a:t>
            </a:r>
            <a:r>
              <a:rPr b="1" lang="zh-CN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日， </a:t>
            </a:r>
            <a:r>
              <a:rPr b="1" lang="zh-CN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  事变的爆发，标志着全国性的抗日战争开始。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WordArt 2054"/>
          <p:cNvSpPr txBox="1"/>
          <p:nvPr/>
        </p:nvSpPr>
        <p:spPr>
          <a:xfrm>
            <a:off x="1066680" y="15238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西安事变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WordArt 2055"/>
          <p:cNvSpPr txBox="1"/>
          <p:nvPr/>
        </p:nvSpPr>
        <p:spPr>
          <a:xfrm>
            <a:off x="1295280" y="3962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937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" name="WordArt 2056"/>
          <p:cNvSpPr txBox="1"/>
          <p:nvPr/>
        </p:nvSpPr>
        <p:spPr>
          <a:xfrm>
            <a:off x="2700360" y="4005360"/>
            <a:ext cx="268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7" name="WordArt 2057"/>
          <p:cNvSpPr txBox="1"/>
          <p:nvPr/>
        </p:nvSpPr>
        <p:spPr>
          <a:xfrm>
            <a:off x="3564000" y="400536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WordArt 2058"/>
          <p:cNvSpPr txBox="1"/>
          <p:nvPr/>
        </p:nvSpPr>
        <p:spPr>
          <a:xfrm>
            <a:off x="4572000" y="4005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卢沟桥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7:31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47Z</dcterms:modified>
  <cp:revision>8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5819000000000001024120</vt:lpwstr>
  </property>
</Properties>
</file>