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521-9073-4F29-8B03-33F3B9A3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337-A1FD-4E72-9BD7-2DDE537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9B0-8754-4856-84B6-819FF7EE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8CD-F6E1-4AF2-9872-98CA4436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6E4-0106-4094-9EFA-87DEDFF2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50D-D324-4B08-BA8C-65B010E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B52A-B758-4E07-9C4B-7ED0816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9B1-9588-4AE8-A3DE-318F9CCF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F06-21CD-4066-B622-1B92350C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1335-EF9E-494D-804D-6A053EB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B5C-A081-46EC-A8A4-449B57B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945-3BDC-4570-BE47-65635F13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A7C6-34C0-4DC7-8BA0-1B8F5A3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F53-BC7C-4F84-83D7-EABEC6B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CB6-421E-476C-AAE1-4B8D182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8707-B821-4CF8-A717-2E5F9C0B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C66-C2B9-4203-9497-E3B7C740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8A5-5320-4F81-BE6A-84BCB3E0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22E-1039-409D-9D40-8A278294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07A-BD9B-4218-8097-E54D180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DDE-1784-4DE9-8E91-1620D82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1D3-980B-4FBF-9FD9-1BD754E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6BD-6189-47C9-9C74-3DD1F53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3CF-BA36-4A0C-AE07-982DAEC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7CA-0D83-40BD-9146-9E2EAE8D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D86D-418C-4AB5-8B41-DAC386C617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560" y="1341000"/>
            <a:ext cx="778356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清平乐村居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　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二选一）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128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１、把这首词改编成一篇优美的记叙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２、用心观察乡村生活，写一首小诗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村居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510-B17A-4754-BC69-E567690ABAE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47920" y="2057400"/>
            <a:ext cx="624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谢谢大家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2411280" y="771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背景"/>
          <p:cNvPicPr/>
          <p:nvPr/>
        </p:nvPicPr>
        <p:blipFill>
          <a:blip r:embed="rId1">
            <a:lum contrast="6000"/>
          </a:blip>
          <a:srcRect l="0" t="0" r="0" b="953"/>
          <a:stretch/>
        </p:blipFill>
        <p:spPr>
          <a:xfrm>
            <a:off x="154764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5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84360" y="549360"/>
            <a:ext cx="3456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吴音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54.mid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568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572000" y="3432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684360" y="609480"/>
            <a:ext cx="388764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76160" y="2286000"/>
            <a:ext cx="76320" cy="380880"/>
            <a:chOff x="1676160" y="2286000"/>
            <a:chExt cx="76320" cy="380880"/>
          </a:xfrm>
        </p:grpSpPr>
        <p:sp>
          <p:nvSpPr>
            <p:cNvPr id="96" name="Line 9"/>
            <p:cNvSpPr/>
            <p:nvPr/>
          </p:nvSpPr>
          <p:spPr>
            <a:xfrm flipH="1">
              <a:off x="1676160" y="2286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676520" y="2286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19280" y="1844640"/>
            <a:ext cx="76320" cy="380880"/>
            <a:chOff x="1619280" y="1844640"/>
            <a:chExt cx="76320" cy="380880"/>
          </a:xfrm>
        </p:grpSpPr>
        <p:sp>
          <p:nvSpPr>
            <p:cNvPr id="99" name="Line 17"/>
            <p:cNvSpPr/>
            <p:nvPr/>
          </p:nvSpPr>
          <p:spPr>
            <a:xfrm flipH="1">
              <a:off x="1619280" y="184464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619280" y="184464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76160" y="2743200"/>
            <a:ext cx="76320" cy="380880"/>
            <a:chOff x="1676160" y="2743200"/>
            <a:chExt cx="76320" cy="380880"/>
          </a:xfrm>
        </p:grpSpPr>
        <p:sp>
          <p:nvSpPr>
            <p:cNvPr id="102" name="Line 18"/>
            <p:cNvSpPr/>
            <p:nvPr/>
          </p:nvSpPr>
          <p:spPr>
            <a:xfrm flipH="1">
              <a:off x="1676160" y="27432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76520" y="27432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43200" y="2743200"/>
            <a:ext cx="76320" cy="380880"/>
            <a:chOff x="2743200" y="2743200"/>
            <a:chExt cx="76320" cy="380880"/>
          </a:xfrm>
        </p:grpSpPr>
        <p:sp>
          <p:nvSpPr>
            <p:cNvPr id="105" name="Line 20"/>
            <p:cNvSpPr/>
            <p:nvPr/>
          </p:nvSpPr>
          <p:spPr>
            <a:xfrm flipH="1">
              <a:off x="2743200" y="274320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743200" y="274320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6160" y="3276720"/>
            <a:ext cx="76320" cy="380880"/>
            <a:chOff x="1676160" y="3276720"/>
            <a:chExt cx="76320" cy="380880"/>
          </a:xfrm>
        </p:grpSpPr>
        <p:sp>
          <p:nvSpPr>
            <p:cNvPr id="108" name="Line 21"/>
            <p:cNvSpPr/>
            <p:nvPr/>
          </p:nvSpPr>
          <p:spPr>
            <a:xfrm flipH="1">
              <a:off x="1676160" y="32767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676520" y="32767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6160" y="4191120"/>
            <a:ext cx="76320" cy="380880"/>
            <a:chOff x="1676160" y="4191120"/>
            <a:chExt cx="76320" cy="380880"/>
          </a:xfrm>
        </p:grpSpPr>
        <p:sp>
          <p:nvSpPr>
            <p:cNvPr id="111" name="Line 22"/>
            <p:cNvSpPr/>
            <p:nvPr/>
          </p:nvSpPr>
          <p:spPr>
            <a:xfrm flipH="1">
              <a:off x="1676160" y="41911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76520" y="41911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676160" y="4724280"/>
            <a:ext cx="76320" cy="381240"/>
            <a:chOff x="1676160" y="4724280"/>
            <a:chExt cx="76320" cy="381240"/>
          </a:xfrm>
        </p:grpSpPr>
        <p:sp>
          <p:nvSpPr>
            <p:cNvPr id="114" name="Line 23"/>
            <p:cNvSpPr/>
            <p:nvPr/>
          </p:nvSpPr>
          <p:spPr>
            <a:xfrm flipH="1">
              <a:off x="1676160" y="47242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676520" y="47242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76160" y="5181480"/>
            <a:ext cx="76320" cy="381240"/>
            <a:chOff x="1676160" y="5181480"/>
            <a:chExt cx="76320" cy="381240"/>
          </a:xfrm>
        </p:grpSpPr>
        <p:sp>
          <p:nvSpPr>
            <p:cNvPr id="117" name="Line 24"/>
            <p:cNvSpPr/>
            <p:nvPr/>
          </p:nvSpPr>
          <p:spPr>
            <a:xfrm flipH="1">
              <a:off x="1676160" y="51814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676520" y="51814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76160" y="5715000"/>
            <a:ext cx="76320" cy="380880"/>
            <a:chOff x="1676160" y="5715000"/>
            <a:chExt cx="76320" cy="380880"/>
          </a:xfrm>
        </p:grpSpPr>
        <p:sp>
          <p:nvSpPr>
            <p:cNvPr id="120" name="Line 25"/>
            <p:cNvSpPr/>
            <p:nvPr/>
          </p:nvSpPr>
          <p:spPr>
            <a:xfrm flipH="1">
              <a:off x="1676160" y="5715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676520" y="5715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54.mid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568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醉里吴音相媚好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白发谁家翁媪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572000" y="3432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84360" y="609480"/>
            <a:ext cx="388764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76160" y="2286000"/>
            <a:ext cx="76320" cy="380880"/>
            <a:chOff x="1676160" y="2286000"/>
            <a:chExt cx="76320" cy="380880"/>
          </a:xfrm>
        </p:grpSpPr>
        <p:sp>
          <p:nvSpPr>
            <p:cNvPr id="131" name="Line 5"/>
            <p:cNvSpPr/>
            <p:nvPr/>
          </p:nvSpPr>
          <p:spPr>
            <a:xfrm flipH="1">
              <a:off x="1676160" y="2286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676520" y="2286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19280" y="1844640"/>
            <a:ext cx="76320" cy="380880"/>
            <a:chOff x="1619280" y="1844640"/>
            <a:chExt cx="76320" cy="380880"/>
          </a:xfrm>
        </p:grpSpPr>
        <p:sp>
          <p:nvSpPr>
            <p:cNvPr id="134" name="Line 6"/>
            <p:cNvSpPr/>
            <p:nvPr/>
          </p:nvSpPr>
          <p:spPr>
            <a:xfrm flipH="1">
              <a:off x="1619280" y="184464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619280" y="184464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160" y="2743200"/>
            <a:ext cx="76320" cy="380880"/>
            <a:chOff x="1676160" y="2743200"/>
            <a:chExt cx="76320" cy="380880"/>
          </a:xfrm>
        </p:grpSpPr>
        <p:sp>
          <p:nvSpPr>
            <p:cNvPr id="137" name="Line 7"/>
            <p:cNvSpPr/>
            <p:nvPr/>
          </p:nvSpPr>
          <p:spPr>
            <a:xfrm flipH="1">
              <a:off x="1676160" y="27432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676520" y="27432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3200" y="2743200"/>
            <a:ext cx="76320" cy="380880"/>
            <a:chOff x="2743200" y="2743200"/>
            <a:chExt cx="76320" cy="380880"/>
          </a:xfrm>
        </p:grpSpPr>
        <p:sp>
          <p:nvSpPr>
            <p:cNvPr id="140" name="Line 8"/>
            <p:cNvSpPr/>
            <p:nvPr/>
          </p:nvSpPr>
          <p:spPr>
            <a:xfrm flipH="1">
              <a:off x="2743200" y="274320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743200" y="274320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76160" y="3276720"/>
            <a:ext cx="76320" cy="380880"/>
            <a:chOff x="1676160" y="3276720"/>
            <a:chExt cx="76320" cy="380880"/>
          </a:xfrm>
        </p:grpSpPr>
        <p:sp>
          <p:nvSpPr>
            <p:cNvPr id="143" name="Line 9"/>
            <p:cNvSpPr/>
            <p:nvPr/>
          </p:nvSpPr>
          <p:spPr>
            <a:xfrm flipH="1">
              <a:off x="1676160" y="32767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76520" y="32767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76160" y="4191120"/>
            <a:ext cx="76320" cy="380880"/>
            <a:chOff x="1676160" y="4191120"/>
            <a:chExt cx="76320" cy="380880"/>
          </a:xfrm>
        </p:grpSpPr>
        <p:sp>
          <p:nvSpPr>
            <p:cNvPr id="146" name="Line 10"/>
            <p:cNvSpPr/>
            <p:nvPr/>
          </p:nvSpPr>
          <p:spPr>
            <a:xfrm flipH="1">
              <a:off x="1676160" y="41911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1676520" y="41911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160" y="4724280"/>
            <a:ext cx="76320" cy="381240"/>
            <a:chOff x="1676160" y="4724280"/>
            <a:chExt cx="76320" cy="381240"/>
          </a:xfrm>
        </p:grpSpPr>
        <p:sp>
          <p:nvSpPr>
            <p:cNvPr id="149" name="Line 11"/>
            <p:cNvSpPr/>
            <p:nvPr/>
          </p:nvSpPr>
          <p:spPr>
            <a:xfrm flipH="1">
              <a:off x="1676160" y="47242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676520" y="47242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76160" y="5181480"/>
            <a:ext cx="76320" cy="381240"/>
            <a:chOff x="1676160" y="5181480"/>
            <a:chExt cx="76320" cy="381240"/>
          </a:xfrm>
        </p:grpSpPr>
        <p:sp>
          <p:nvSpPr>
            <p:cNvPr id="152" name="Line 12"/>
            <p:cNvSpPr/>
            <p:nvPr/>
          </p:nvSpPr>
          <p:spPr>
            <a:xfrm flipH="1">
              <a:off x="1676160" y="51814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676520" y="51814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76160" y="5715000"/>
            <a:ext cx="76320" cy="380880"/>
            <a:chOff x="1676160" y="5715000"/>
            <a:chExt cx="76320" cy="380880"/>
          </a:xfrm>
        </p:grpSpPr>
        <p:sp>
          <p:nvSpPr>
            <p:cNvPr id="155" name="Line 13"/>
            <p:cNvSpPr/>
            <p:nvPr/>
          </p:nvSpPr>
          <p:spPr>
            <a:xfrm flipH="1">
              <a:off x="1676160" y="5715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676520" y="5715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54.mid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0568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背景"/>
          <p:cNvPicPr/>
          <p:nvPr/>
        </p:nvPicPr>
        <p:blipFill>
          <a:blip r:embed="rId1"/>
          <a:srcRect l="0" t="0" r="0" b="953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这真是一个＿＿＿＿的村居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文本框 8199"/>
          <p:cNvSpPr/>
          <p:nvPr/>
        </p:nvSpPr>
        <p:spPr>
          <a:xfrm>
            <a:off x="1187280" y="537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背景"/>
          <p:cNvPicPr/>
          <p:nvPr/>
        </p:nvPicPr>
        <p:blipFill>
          <a:blip r:embed="rId1"/>
          <a:srcRect l="0" t="0" r="0" b="954"/>
          <a:stretch/>
        </p:blipFill>
        <p:spPr>
          <a:xfrm>
            <a:off x="4859280" y="765000"/>
            <a:ext cx="3579840" cy="515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572000" y="3432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684360" y="609480"/>
            <a:ext cx="388764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清平乐 村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茅檐 低小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上 青青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醉里 吴音 相媚好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发 谁家翁媪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大儿 锄豆溪东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儿 正织鸡笼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喜 小儿无赖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溪头 卧剥莲蓬。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160" y="2286000"/>
            <a:ext cx="76320" cy="380880"/>
            <a:chOff x="1676160" y="2286000"/>
            <a:chExt cx="76320" cy="380880"/>
          </a:xfrm>
        </p:grpSpPr>
        <p:sp>
          <p:nvSpPr>
            <p:cNvPr id="168" name="Line 5"/>
            <p:cNvSpPr/>
            <p:nvPr/>
          </p:nvSpPr>
          <p:spPr>
            <a:xfrm flipH="1">
              <a:off x="1676160" y="2286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676520" y="2286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19280" y="1844640"/>
            <a:ext cx="76320" cy="380880"/>
            <a:chOff x="1619280" y="1844640"/>
            <a:chExt cx="76320" cy="380880"/>
          </a:xfrm>
        </p:grpSpPr>
        <p:sp>
          <p:nvSpPr>
            <p:cNvPr id="171" name="Line 6"/>
            <p:cNvSpPr/>
            <p:nvPr/>
          </p:nvSpPr>
          <p:spPr>
            <a:xfrm flipH="1">
              <a:off x="1619280" y="184464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619280" y="184464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76160" y="2743200"/>
            <a:ext cx="76320" cy="380880"/>
            <a:chOff x="1676160" y="2743200"/>
            <a:chExt cx="76320" cy="380880"/>
          </a:xfrm>
        </p:grpSpPr>
        <p:sp>
          <p:nvSpPr>
            <p:cNvPr id="174" name="Line 7"/>
            <p:cNvSpPr/>
            <p:nvPr/>
          </p:nvSpPr>
          <p:spPr>
            <a:xfrm flipH="1">
              <a:off x="1676160" y="27432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676520" y="27432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43200" y="2743200"/>
            <a:ext cx="76320" cy="380880"/>
            <a:chOff x="2743200" y="2743200"/>
            <a:chExt cx="76320" cy="380880"/>
          </a:xfrm>
        </p:grpSpPr>
        <p:sp>
          <p:nvSpPr>
            <p:cNvPr id="177" name="Line 8"/>
            <p:cNvSpPr/>
            <p:nvPr/>
          </p:nvSpPr>
          <p:spPr>
            <a:xfrm flipH="1">
              <a:off x="2743200" y="2743200"/>
              <a:ext cx="7632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743200" y="2743200"/>
              <a:ext cx="763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76160" y="3276720"/>
            <a:ext cx="76320" cy="380880"/>
            <a:chOff x="1676160" y="3276720"/>
            <a:chExt cx="76320" cy="380880"/>
          </a:xfrm>
        </p:grpSpPr>
        <p:sp>
          <p:nvSpPr>
            <p:cNvPr id="180" name="Line 9"/>
            <p:cNvSpPr/>
            <p:nvPr/>
          </p:nvSpPr>
          <p:spPr>
            <a:xfrm flipH="1">
              <a:off x="1676160" y="32767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676520" y="32767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76160" y="4191120"/>
            <a:ext cx="76320" cy="380880"/>
            <a:chOff x="1676160" y="4191120"/>
            <a:chExt cx="76320" cy="380880"/>
          </a:xfrm>
        </p:grpSpPr>
        <p:sp>
          <p:nvSpPr>
            <p:cNvPr id="183" name="Line 10"/>
            <p:cNvSpPr/>
            <p:nvPr/>
          </p:nvSpPr>
          <p:spPr>
            <a:xfrm flipH="1">
              <a:off x="1676160" y="41911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676520" y="419112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76160" y="4724280"/>
            <a:ext cx="76320" cy="381240"/>
            <a:chOff x="1676160" y="4724280"/>
            <a:chExt cx="76320" cy="381240"/>
          </a:xfrm>
        </p:grpSpPr>
        <p:sp>
          <p:nvSpPr>
            <p:cNvPr id="186" name="Line 11"/>
            <p:cNvSpPr/>
            <p:nvPr/>
          </p:nvSpPr>
          <p:spPr>
            <a:xfrm flipH="1">
              <a:off x="1676160" y="47242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676520" y="47242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76160" y="5181480"/>
            <a:ext cx="76320" cy="381240"/>
            <a:chOff x="1676160" y="5181480"/>
            <a:chExt cx="76320" cy="381240"/>
          </a:xfrm>
        </p:grpSpPr>
        <p:sp>
          <p:nvSpPr>
            <p:cNvPr id="189" name="Line 12"/>
            <p:cNvSpPr/>
            <p:nvPr/>
          </p:nvSpPr>
          <p:spPr>
            <a:xfrm flipH="1">
              <a:off x="1676160" y="5181480"/>
              <a:ext cx="7596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676520" y="5181480"/>
              <a:ext cx="759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76160" y="5715000"/>
            <a:ext cx="76320" cy="380880"/>
            <a:chOff x="1676160" y="5715000"/>
            <a:chExt cx="76320" cy="380880"/>
          </a:xfrm>
        </p:grpSpPr>
        <p:sp>
          <p:nvSpPr>
            <p:cNvPr id="192" name="Line 13"/>
            <p:cNvSpPr/>
            <p:nvPr/>
          </p:nvSpPr>
          <p:spPr>
            <a:xfrm flipH="1">
              <a:off x="1676160" y="57150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676520" y="5715000"/>
              <a:ext cx="759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4" name="54.mid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568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56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3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