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projctor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77D-CCD8-4B4A-B922-C40378E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7A-D8B2-499E-932F-50E7664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8184-4A2F-466F-A761-AB7D4529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FA222-B499-46B5-9283-EC2064A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1BA95-B048-4681-8408-5DA4CA00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07D5-E520-4086-961C-DFB2205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F4306-75DD-48A8-AAC6-7CDA626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17B4-E936-4F80-A61A-DF42E87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88DDC-E294-4E49-BF05-4935F775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CB137-52DA-4CEA-8298-73713A1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26F53-5BF6-48AE-8731-7D6FC277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0D4B6-EDC7-4300-9635-17B469F7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FB7-55D4-4932-9541-9C0694CE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49A2C-C538-4A3F-9714-9063C54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3D69F-42F1-4048-A9A6-7672EE0B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17DDA-EA24-4224-80F8-53BA52F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8ABDA-FA2B-40A7-8FCD-B339CEAA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38E66-DD19-4232-A332-01D31CC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03145-1F6B-4023-BE8E-D736E32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6A40D-1875-4D53-BF78-8FC35DD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B1756-9605-4A82-80FE-8E70DD3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1FDB9-0B15-43CB-A54D-7E48914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50F47-23EB-41E8-A471-CF5E3BFC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A8E-D008-4B5D-A428-1E3E2C25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A6ECE-E567-40D4-A61C-C71A13F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CDB8-FDCB-4F23-8567-962A8D91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5AB3B-1613-4FCB-B73E-AE3C4DDE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77C8-C916-4E1B-8301-313FF4A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5F5B0-C0A1-4C22-8702-B36DDE4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285AE-FA71-407D-9218-E61CC196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4830-06DD-423A-824C-E25C9564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56FDB-3E6E-4432-AA51-494C7F5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99D3-AFC5-4663-9864-8119FA0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9591-C034-4E5E-8B90-2BECE04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3E50-0507-4A7F-970B-57D0E983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69532-DD3D-43C9-BC12-463C2DB0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2BCFB-7E31-4F90-A770-26DAC050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8F69-4581-4780-B1A0-A6ECEA3B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28BE3-807F-492E-89E8-F30706A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A14FF-B1CC-4146-BBD2-A73CFC35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44C29-9F70-48AA-9AC5-1B53450A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E8378-64B0-463A-8808-654C32E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89B6-629F-4AC3-BCDB-0E1EBA59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51566-9366-4DA3-B2CE-71B1F79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A4B73-8C10-4016-BE7C-1CB899E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5769-F632-4EA1-95AE-AE615C3B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73D0F-E391-42DA-80F8-896DAD50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1A73E-0DAC-4F10-A714-500CB7D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2DB92-7B55-450C-B336-9AF85CCD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B64BC-8CB3-41A9-9F62-8E010643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7B6BF-813F-4FE6-9F45-0CC367BD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A80B3-FFAF-4D5B-8B50-04D83E78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AF496-92EC-4FE2-A97D-A6B10AE3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C52BA-91B3-4501-A5E4-3EDFB30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164AE-F805-4487-A9C4-62D61EE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A3AA4-ADFC-424E-83CB-D2C6FFC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C266-8756-4556-88D8-5B85E04D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A467A-EF3D-44C3-A2E4-D7CB9698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72CD8-ECAB-4CD7-8036-414BB65E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B83DE-D95D-4F53-A3CF-E08CA68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83652-E967-4A95-B2FE-0FE6F2F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A3FCD-A7B3-4D79-8F68-2E205417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7319B-9D30-4CCA-8B74-47B1D560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11F4C-2F9E-4297-B2BE-C6D9A829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4F385-5941-4BB4-B0D5-31D9AE6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9A72-3A24-4597-B536-918102D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2784E-559F-47AB-B90F-9A59C8F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67C-DF84-424B-9995-154C56D9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1B952-5807-4A34-A958-0F37C71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F218D-54BA-4496-A8F4-C40441C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BDF7D-5EDD-419C-B616-AC605092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5772A-6CA7-46ED-A675-F944B09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FB8D-9655-4004-88DF-E5EFDFB0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1ACBB-17BE-4AD4-9425-AB3F33A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38760-58FF-4445-9F03-BECA5459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ACC2E-768A-47E6-93AB-26FF91F0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27EE6-61C9-45D0-91CE-B23C3685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71ECB-E10A-4C7C-B424-3D003B2F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24A7-18B5-42A9-9224-9324A07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925A4-08AD-4DDE-BA9D-D8F92579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2482B-0B70-4F40-898D-AA47D05B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94A8F-5AE5-429C-9CFA-6A60D56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71AFC-5C0D-4BBD-980A-39EAF6F0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B6A55-E611-4D95-8553-351A458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25A42-5D4B-4D2C-AEB0-FF74144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F606F-E6D8-4A7F-A70F-57AA624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23B91-A9F1-48E8-AE59-94BB00E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570AF-58E3-404B-A550-471356A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7A9E9-672F-4AF1-83A8-52A6868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8CE1-FB21-4F4C-BDE8-199272B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5050F-89DD-4F9B-AAE2-83BCE8EC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1EBA-7863-4089-A0F6-1DA9819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E2E-762B-49A7-BEC4-211316E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BD5-DCAD-40BD-AEF2-01F8350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F873-C556-4701-9C2D-68DEB3E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A119-6B4F-401A-BD5F-D0D54C33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1BF3-5F11-4149-8796-A27A23A2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9ED-FE78-4106-AC68-50BAFBC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D290-9E30-4043-A1DE-2635D67C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FAD0-DFA9-4204-BBE2-397A29B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934B-7831-4168-B6D1-C1537567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5DD8-1EF9-442B-9E42-3C87B2F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75A3-0551-469A-A850-F3FCA9E7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FA3-198C-4360-A2DB-1990565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F235-9984-4576-925D-FAD08C9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29D7-2686-4CC3-ADA3-69962ED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5041-3427-42C2-98AB-B199C13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CC6F-A696-4A1D-BC97-886C5EA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835E-26D5-40D9-92AA-EA13297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9C0E-8931-45EE-8D41-60C22693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52DE-69C6-49C6-B9CC-86AAFFF1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C146-0D0D-49CF-B83C-0EE13C14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1926-E29F-40F6-BB5E-8B8B8C89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B531-7971-49F3-BB4A-2107395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07B-E913-4CD5-B758-457773B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BAFA-CEA5-4A2F-9DA0-FF1CBFC9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0DEC-E4AE-4465-9F4B-8F58EFB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48BF-F0BB-4672-AEB5-646AC3D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AE36-E019-4D86-8F9C-DB713C4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1ABA-65F6-4775-8511-9098D9A2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FFDD-020D-4791-A7A1-7DB6CC6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C30C-795C-40D5-907E-CBF4A44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B417-5E9F-4D00-8C47-030A6770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E59D-D143-4219-BBD5-808687D8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CEA9-0506-4558-91DC-15CE1411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6CB-A2EB-4128-954F-47CF8EB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796B-CBA8-4FC8-9E1B-37AFA7D8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85F9-BEAC-4753-97AF-CE7B88F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533D-EAF6-45D2-84C4-59879A0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E90C-9836-45D0-901E-BA4B708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2377-F459-4622-A10D-C909F32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865F-7599-4913-83E2-A2BCA65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504DE-40C5-44DC-9906-5AE423A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70FF2-9603-4B8E-BCAF-4E3BC95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7012-5E89-4D4E-A5B6-613013CD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D3EF-2F2E-4555-8F9E-D07338A1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388-7344-4F3D-8A8A-E3C44CB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E093-DB19-455C-A13E-08930CBD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A91C-EF9F-490C-AAEC-D059D78E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D074-F347-4A5A-B381-74794221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0FCB-1181-4675-944F-40CFEDF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6D9D-9496-425C-839F-0F72BE42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18DC-26AD-493E-8A12-3B7BCFE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A785-ADA4-4AB6-87B7-F875ED8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80E0-27B1-4E81-A538-1AFEBB58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BDD8-E53A-4453-AE00-3ADE26D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AE50-F541-4372-90E5-082E320A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483-9018-4044-8BF2-9F60268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0562-8081-4FC4-8B91-7C7104D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E686E-9F66-489B-82F5-9CD2B4B4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0E0BB-3154-4740-83CF-93B359E5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BA7C-3096-4C8D-B6A6-670EFFDA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73BD-7DB7-45B6-AABA-ADC1BC3B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CA693-5698-4C42-807B-3776A82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BB03-F404-4981-91CE-B644ABF7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F7ACE-390D-4FEB-8ED1-CF05ABE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8A83-F778-41F0-8FA0-AE1D0C3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19ED-C4DC-4491-B03B-50DB85C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843-BB1C-4485-A932-83C4BC3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11A0-13B2-41E8-850C-B5932F3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0B19-6227-451A-9FB1-902E58E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39A7-26EA-49B0-A115-9C6803A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3922-D245-41DE-B1CC-09DCCEE0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FEAF5-63A7-43F7-9735-B0B36F7D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81F7-D856-488A-BE72-61565DC5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D516-4B1D-44FD-A8FF-5E605097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3B50-108A-49F7-9043-9F396A6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530F-8743-4458-9D69-1C806187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BCCC3-9FDB-48AA-8E7F-7C324F9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F21-4F69-4941-9C74-D4ECC32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F310-3FB3-406A-90E4-5BE815D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ECFD-ADD9-49C0-AE8A-6E699F4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458ED-C589-4446-8996-3553799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15BE-D7F0-4595-BD21-630BDCE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DBD4-E849-40D8-A9DC-4C331F7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5440-66A3-48B7-960A-422854EF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CC650-ACA9-40B7-845F-2D803052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6071C-EB10-4180-B331-8DA5F3D9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645FB-5482-4BFD-8C7C-59215DA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AED45-10A6-40D8-8302-B96AEA2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8E8-7987-431D-88C7-65013EFC4AA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ED2A-7A00-47AC-A615-E75F8D1285E0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C96-BEAC-4286-A376-C8CFF3F69322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502-56D2-4AEA-9A03-5B61C41A12C8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93A-3333-4740-A250-9275BFAE2C9B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AD3-CDDA-4273-B1AB-0F1A01750E95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293-477E-4A26-A08E-849AB336ADB9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FF2D-F255-4FBB-91E5-667FDA73D3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9B14-7C2B-44F8-BB1B-4C6442F9E8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511-C940-4923-A031-A19572EAAC27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AA67-A355-409A-9F25-AF5E85DBEB9C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7ED8-A694-452F-B615-FA088EDA1251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47D-993B-4FFB-8213-B10BF566BB55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CF9-3048-41E5-95AD-7FE70E02533C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E67-F9A3-4083-9F74-DFEF59045EA4}" type="slidenum">
              <a:rPr b="0" lang="zh-CN" sz="1200" spc="-1" strike="noStrike">
                <a:solidFill>
                  <a:srgbClr val="898989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186920" y="26370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宋体"/>
                <a:ea typeface="宋体"/>
              </a:rPr>
              <a:t>情趣与兴趣课件</a:t>
            </a:r>
            <a:r>
              <a:rPr b="1" lang="en-US" sz="4000" spc="-1" strike="noStrike">
                <a:solidFill>
                  <a:srgbClr val="27277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72776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8" name="WordArt 3"/>
          <p:cNvSpPr txBox="1"/>
          <p:nvPr/>
        </p:nvSpPr>
        <p:spPr>
          <a:xfrm>
            <a:off x="1187280" y="1347840"/>
            <a:ext cx="648036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华文新魏"/>
              </a:rPr>
              <a:t>第七课  品味生活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华文新魏"/>
              <a:ea typeface="华文新魏"/>
            </a:endParaRPr>
          </a:p>
        </p:txBody>
      </p:sp>
      <p:sp>
        <p:nvSpPr>
          <p:cNvPr id="61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4080" y="31417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        </a:t>
            </a:r>
            <a:r>
              <a:rPr b="1" lang="zh-CN" sz="4800" spc="-1" strike="noStrike">
                <a:solidFill>
                  <a:srgbClr val="272776"/>
                </a:solidFill>
                <a:latin typeface="Century Gothic"/>
                <a:ea typeface="幼圆"/>
              </a:rPr>
              <a:t>所有的情趣都可以使我们的神经得以放松，促进我们健康成长吗？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659" name="Picture 3" descr="未命名"/>
          <p:cNvPicPr/>
          <p:nvPr/>
        </p:nvPicPr>
        <p:blipFill>
          <a:blip r:embed="rId1"/>
          <a:stretch/>
        </p:blipFill>
        <p:spPr>
          <a:xfrm>
            <a:off x="5796000" y="1128600"/>
            <a:ext cx="1400040" cy="1762200"/>
          </a:xfrm>
          <a:prstGeom prst="rect">
            <a:avLst/>
          </a:prstGeom>
          <a:ln w="0">
            <a:noFill/>
          </a:ln>
        </p:spPr>
      </p:pic>
      <p:sp>
        <p:nvSpPr>
          <p:cNvPr id="660" name="WordArt 4"/>
          <p:cNvSpPr txBox="1"/>
          <p:nvPr/>
        </p:nvSpPr>
        <p:spPr>
          <a:xfrm>
            <a:off x="611280" y="692280"/>
            <a:ext cx="4114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690560" y="227484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Arial"/>
              </a:rPr>
              <a:t>情趣</a:t>
            </a:r>
            <a:endParaRPr b="0" lang="en-US" sz="4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4067280" y="1916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高雅的生活情趣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4138560" y="2924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庸俗的生活情趣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3851280" y="205884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Century Gothic"/>
              </a:rPr>
              <a:t>高雅生活情趣</a:t>
            </a:r>
            <a:r>
              <a:rPr b="1" lang="zh-CN" sz="2800" spc="-1" strike="noStrike">
                <a:solidFill>
                  <a:srgbClr val="9900cc"/>
                </a:solidFill>
                <a:latin typeface="Century Gothic"/>
              </a:rPr>
              <a:t>（为什么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6" name="Oval 3"/>
          <p:cNvSpPr/>
          <p:nvPr/>
        </p:nvSpPr>
        <p:spPr>
          <a:xfrm>
            <a:off x="826920" y="1197000"/>
            <a:ext cx="342900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sq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67" name="Picture 4" descr="爸爸不在家的时候"/>
          <p:cNvPicPr/>
          <p:nvPr/>
        </p:nvPicPr>
        <p:blipFill>
          <a:blip r:embed="rId2"/>
          <a:srcRect l="0" t="1979" r="3202" b="15029"/>
          <a:stretch/>
        </p:blipFill>
        <p:spPr>
          <a:xfrm>
            <a:off x="5508720" y="3789360"/>
            <a:ext cx="3166920" cy="3068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5" descr="DSC04344"/>
          <p:cNvPicPr/>
          <p:nvPr/>
        </p:nvPicPr>
        <p:blipFill>
          <a:blip r:embed="rId3"/>
          <a:stretch/>
        </p:blipFill>
        <p:spPr>
          <a:xfrm>
            <a:off x="5219640" y="1143000"/>
            <a:ext cx="3281400" cy="24606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" descr="u=905336235,2204298400&amp;fm=23&amp;gp=0"/>
          <p:cNvPicPr/>
          <p:nvPr/>
        </p:nvPicPr>
        <p:blipFill>
          <a:blip r:embed="rId4"/>
          <a:stretch/>
        </p:blipFill>
        <p:spPr>
          <a:xfrm>
            <a:off x="755640" y="4005360"/>
            <a:ext cx="4032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“载誉”归来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89520" y="404640"/>
            <a:ext cx="4398840" cy="33116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比阔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3284640"/>
            <a:ext cx="3564000" cy="3139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闹腾一整夜 进了四道门"/>
          <p:cNvPicPr/>
          <p:nvPr/>
        </p:nvPicPr>
        <p:blipFill>
          <a:blip r:embed="rId3"/>
          <a:stretch/>
        </p:blipFill>
        <p:spPr>
          <a:xfrm>
            <a:off x="4716360" y="3645000"/>
            <a:ext cx="3457800" cy="287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1116000" y="2852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吸毒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04000" y="3141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酗酒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8101080" y="4365720"/>
            <a:ext cx="86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腐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败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2556000" y="3284640"/>
            <a:ext cx="410364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庸俗的情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为什么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64000" y="45813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比挥霍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78" name="Picture 10" descr="u=462240691,661154188&amp;fm=23&amp;gp=0"/>
          <p:cNvPicPr/>
          <p:nvPr/>
        </p:nvPicPr>
        <p:blipFill>
          <a:blip r:embed="rId4"/>
          <a:stretch/>
        </p:blipFill>
        <p:spPr>
          <a:xfrm>
            <a:off x="324000" y="260280"/>
            <a:ext cx="3456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1258920" y="476280"/>
            <a:ext cx="72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阅读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P7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的案例，回答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晶晶和丽丽对生活情趣的追求有什么不同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两种不同的生活情趣观，对她们个人的生活和学习会有什么不同的影响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116000" y="306864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答：晶晶追求的是高雅情趣；丽丽追求的是庸俗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023840" y="4653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答：晶晶：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P73 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①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②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高雅情趣的作用；                                       丽丽：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P74AB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庸俗情趣的危害。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468360" y="2565360"/>
            <a:ext cx="7942320" cy="3219480"/>
            <a:chOff x="468360" y="2565360"/>
            <a:chExt cx="7942320" cy="3219480"/>
          </a:xfrm>
        </p:grpSpPr>
        <p:sp>
          <p:nvSpPr>
            <p:cNvPr id="683" name="Text Box 3"/>
            <p:cNvSpPr/>
            <p:nvPr/>
          </p:nvSpPr>
          <p:spPr>
            <a:xfrm>
              <a:off x="7559280" y="2565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4" name="Text Box 4"/>
            <p:cNvSpPr/>
            <p:nvPr/>
          </p:nvSpPr>
          <p:spPr>
            <a:xfrm>
              <a:off x="2122560" y="2588400"/>
              <a:ext cx="263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法轮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468360" y="2588400"/>
              <a:ext cx="16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旅游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6" name="Text Box 6"/>
            <p:cNvSpPr/>
            <p:nvPr/>
          </p:nvSpPr>
          <p:spPr>
            <a:xfrm>
              <a:off x="5354640" y="258840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书法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7" name="Text Box 7"/>
            <p:cNvSpPr/>
            <p:nvPr/>
          </p:nvSpPr>
          <p:spPr>
            <a:xfrm>
              <a:off x="1437480" y="38642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3758400" y="502056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看文学名著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3423960" y="38642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弹琴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0" name="Text Box 10"/>
            <p:cNvSpPr/>
            <p:nvPr/>
          </p:nvSpPr>
          <p:spPr>
            <a:xfrm>
              <a:off x="5991840" y="386424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饲养小动物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1603080" y="49806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酗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2" name="Text Box 12"/>
            <p:cNvSpPr/>
            <p:nvPr/>
          </p:nvSpPr>
          <p:spPr>
            <a:xfrm>
              <a:off x="7393680" y="49975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赌博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693" name="WordArt 13"/>
          <p:cNvSpPr txBox="1"/>
          <p:nvPr/>
        </p:nvSpPr>
        <p:spPr>
          <a:xfrm>
            <a:off x="118728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火眼金睛辨雅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694" name="Picture 14" descr="孙悟空"/>
          <p:cNvPicPr/>
          <p:nvPr/>
        </p:nvPicPr>
        <p:blipFill>
          <a:blip r:embed="rId1"/>
          <a:stretch/>
        </p:blipFill>
        <p:spPr>
          <a:xfrm>
            <a:off x="7596360" y="476280"/>
            <a:ext cx="914400" cy="1303200"/>
          </a:xfrm>
          <a:prstGeom prst="rect">
            <a:avLst/>
          </a:prstGeom>
          <a:ln w="0">
            <a:noFill/>
          </a:ln>
        </p:spPr>
      </p:pic>
      <p:sp>
        <p:nvSpPr>
          <p:cNvPr id="695" name="WordArt 15"/>
          <p:cNvSpPr txBox="1"/>
          <p:nvPr/>
        </p:nvSpPr>
        <p:spPr>
          <a:xfrm>
            <a:off x="777240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96" name="文本框 8199"/>
          <p:cNvSpPr/>
          <p:nvPr/>
        </p:nvSpPr>
        <p:spPr>
          <a:xfrm>
            <a:off x="1581120" y="2122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468360" y="2637000"/>
            <a:ext cx="7992720" cy="3110760"/>
            <a:chOff x="468360" y="2637000"/>
            <a:chExt cx="7992720" cy="3110760"/>
          </a:xfrm>
        </p:grpSpPr>
        <p:sp>
          <p:nvSpPr>
            <p:cNvPr id="698" name="Text Box 3"/>
            <p:cNvSpPr/>
            <p:nvPr/>
          </p:nvSpPr>
          <p:spPr>
            <a:xfrm>
              <a:off x="7094160" y="2637000"/>
              <a:ext cx="13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99" name="Text Box 4"/>
            <p:cNvSpPr/>
            <p:nvPr/>
          </p:nvSpPr>
          <p:spPr>
            <a:xfrm>
              <a:off x="2513520" y="265932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练法轮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0" name="Text Box 5"/>
            <p:cNvSpPr/>
            <p:nvPr/>
          </p:nvSpPr>
          <p:spPr>
            <a:xfrm>
              <a:off x="468360" y="2659320"/>
              <a:ext cx="159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旅游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1" name="Text Box 6"/>
            <p:cNvSpPr/>
            <p:nvPr/>
          </p:nvSpPr>
          <p:spPr>
            <a:xfrm>
              <a:off x="5195880" y="265932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练书法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2" name="Text Box 7"/>
            <p:cNvSpPr/>
            <p:nvPr/>
          </p:nvSpPr>
          <p:spPr>
            <a:xfrm>
              <a:off x="1411920" y="3878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吸烟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3" name="Text Box 8"/>
            <p:cNvSpPr/>
            <p:nvPr/>
          </p:nvSpPr>
          <p:spPr>
            <a:xfrm>
              <a:off x="3662280" y="498348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看文学名著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4" name="Text Box 9"/>
            <p:cNvSpPr/>
            <p:nvPr/>
          </p:nvSpPr>
          <p:spPr>
            <a:xfrm>
              <a:off x="3326760" y="3878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弹琴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5" name="Text Box 10"/>
            <p:cNvSpPr/>
            <p:nvPr/>
          </p:nvSpPr>
          <p:spPr>
            <a:xfrm>
              <a:off x="5817960" y="387828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272776"/>
                  </a:solidFill>
                  <a:uFillTx/>
                  <a:latin typeface="Times New Roman"/>
                  <a:ea typeface="黑体"/>
                </a:rPr>
                <a:t>饲养小动物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6" name="Text Box 11"/>
            <p:cNvSpPr/>
            <p:nvPr/>
          </p:nvSpPr>
          <p:spPr>
            <a:xfrm>
              <a:off x="1571400" y="49453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酗酒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07" name="Text Box 12"/>
            <p:cNvSpPr/>
            <p:nvPr/>
          </p:nvSpPr>
          <p:spPr>
            <a:xfrm>
              <a:off x="7158960" y="49453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72776"/>
                  </a:solidFill>
                  <a:latin typeface="Times New Roman"/>
                  <a:ea typeface="黑体"/>
                </a:rPr>
                <a:t>赌博</a:t>
              </a:r>
              <a:endParaRPr b="0" lang="en-US" sz="44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708" name="WordArt 13"/>
          <p:cNvSpPr txBox="1"/>
          <p:nvPr/>
        </p:nvSpPr>
        <p:spPr>
          <a:xfrm>
            <a:off x="1547640" y="90792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火眼金睛辨雅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709" name="Picture 14" descr="孙悟空"/>
          <p:cNvPicPr/>
          <p:nvPr/>
        </p:nvPicPr>
        <p:blipFill>
          <a:blip r:embed="rId1"/>
          <a:stretch/>
        </p:blipFill>
        <p:spPr>
          <a:xfrm>
            <a:off x="826920" y="404640"/>
            <a:ext cx="9144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95280" y="549360"/>
            <a:ext cx="874872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兴趣和情趣之间的关系是（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没有兴趣就谈不上情趣，情趣通过兴趣表现出来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有了兴趣就有了情趣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兴趣和情趣没有多大区别 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．兴趣是以情趣为基础而产生的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著名的教育家皮亚杰说：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一切有成效的工作都是以某种兴趣为先决条件。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这句话告诉我们（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培养兴趣有利于我们把工作做好  　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所有的工作都是有趣的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有趣的才是工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对某种工作有兴趣就一定能成功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生活处处有情趣，我们要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择其善者而从之，其不善者而改之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。这句话是说（　　　）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别人做什么就做什么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要培养良好的品格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学会鉴别不同的情趣       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不能跟别人学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79280" y="1082880"/>
            <a:ext cx="8964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4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培根认为：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读史使人明智，读诗使人灵秀，数学使人周密，科学使人深刻，伦理学使人庄重，逻辑修辞学使人善辩，凡有所学皆成性格。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这段话说明    （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  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学好科学文化知识，高雅情趣自然而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高雅情趣的产生源于历史、诗词、数学、伦理、逻辑等学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文学家才会有高雅情趣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	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高雅的情趣使人眼界开阔，能培养出良好的性格与气质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5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庸俗的生活情趣会损害人的身心健康，丧失远大的志向。下列情趣中，你认为属于庸俗情趣的是（    ）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A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沉溺于电子游戏    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B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热爱阅读  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C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参加公益劳动       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D.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乐于助人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23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喜欢看小说，常常熬夜，导致第二天上学睡觉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双休日写完作业后，和同学们一起去踢球，锻炼身体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利用电脑上网学习，查资料？为什么？</a:t>
            </a:r>
            <a:br>
              <a:rPr sz="3200"/>
            </a:b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） 上网打游戏，浏览黄色网页？为什么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0" y="90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请看下面几个小例子，看是高雅的情趣还是庸俗的生活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4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情趣与兴趣的关系怎样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情趣有什么作用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情趣的特点是什么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4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生活情趣的含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5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高雅生活情趣有什么意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6.</a:t>
            </a:r>
            <a:r>
              <a:rPr b="1" lang="zh-CN" sz="3600" spc="-1" strike="noStrike">
                <a:solidFill>
                  <a:srgbClr val="272776"/>
                </a:solidFill>
                <a:latin typeface="Century Gothic"/>
              </a:rPr>
              <a:t>庸俗、低级的生活情趣对人有哪些危害和影响（消极作用）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621" name="Picture 9" descr="学习目标"/>
          <p:cNvPicPr/>
          <p:nvPr/>
        </p:nvPicPr>
        <p:blipFill>
          <a:blip r:embed="rId1"/>
          <a:stretch/>
        </p:blipFill>
        <p:spPr>
          <a:xfrm>
            <a:off x="1530360" y="0"/>
            <a:ext cx="5832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4BD-51ED-4DE3-A413-A26C5847F114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1042920" y="270828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  <a:ea typeface="黑体"/>
              </a:rPr>
              <a:t>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835280" y="2205000"/>
            <a:ext cx="685800" cy="2057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2556000" y="3357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庸俗的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2556000" y="2133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高雅的情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4427640" y="23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作用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4427640" y="35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危害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3635280" y="333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Times New Roman"/>
              </a:rPr>
              <a:t>本课小结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900000" y="134136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  <a:ea typeface="黑体"/>
              </a:rPr>
              <a:t>兴趣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7020000" y="206064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宋体"/>
              </a:rPr>
              <a:t>陶冶高雅情趣</a:t>
            </a:r>
            <a:r>
              <a:rPr b="0" lang="zh-CN" sz="28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7020000" y="335772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宋体"/>
              </a:rPr>
              <a:t>远离庸俗情趣</a:t>
            </a:r>
            <a:r>
              <a:rPr b="0" lang="zh-CN" sz="14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72776"/>
              </a:solidFill>
              <a:latin typeface="Arial Black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084720" y="2637000"/>
            <a:ext cx="884520" cy="360"/>
            <a:chOff x="6084720" y="2637000"/>
            <a:chExt cx="884520" cy="360"/>
          </a:xfrm>
        </p:grpSpPr>
        <p:sp>
          <p:nvSpPr>
            <p:cNvPr id="729" name="Line 12"/>
            <p:cNvSpPr/>
            <p:nvPr/>
          </p:nvSpPr>
          <p:spPr>
            <a:xfrm>
              <a:off x="6084720" y="2637000"/>
              <a:ext cx="88452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084720" y="2637000"/>
              <a:ext cx="884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084720" y="3860640"/>
            <a:ext cx="968400" cy="360"/>
            <a:chOff x="6084720" y="3860640"/>
            <a:chExt cx="968400" cy="360"/>
          </a:xfrm>
        </p:grpSpPr>
        <p:sp>
          <p:nvSpPr>
            <p:cNvPr id="732" name="Line 13"/>
            <p:cNvSpPr/>
            <p:nvPr/>
          </p:nvSpPr>
          <p:spPr>
            <a:xfrm>
              <a:off x="6084720" y="3860640"/>
              <a:ext cx="96840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6084720" y="3860640"/>
              <a:ext cx="96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635280" y="3933720"/>
            <a:ext cx="884160" cy="360"/>
            <a:chOff x="3635280" y="3933720"/>
            <a:chExt cx="884160" cy="360"/>
          </a:xfrm>
        </p:grpSpPr>
        <p:sp>
          <p:nvSpPr>
            <p:cNvPr id="735" name="Line 14"/>
            <p:cNvSpPr/>
            <p:nvPr/>
          </p:nvSpPr>
          <p:spPr>
            <a:xfrm>
              <a:off x="3635280" y="3933720"/>
              <a:ext cx="88416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635280" y="3933720"/>
              <a:ext cx="88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635280" y="2637000"/>
            <a:ext cx="884160" cy="360"/>
            <a:chOff x="3635280" y="2637000"/>
            <a:chExt cx="884160" cy="360"/>
          </a:xfrm>
        </p:grpSpPr>
        <p:sp>
          <p:nvSpPr>
            <p:cNvPr id="738" name="Line 15"/>
            <p:cNvSpPr/>
            <p:nvPr/>
          </p:nvSpPr>
          <p:spPr>
            <a:xfrm>
              <a:off x="3635280" y="2637000"/>
              <a:ext cx="884160" cy="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3635280" y="2637000"/>
              <a:ext cx="88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402920" y="1988640"/>
            <a:ext cx="360" cy="792360"/>
            <a:chOff x="1402920" y="1988640"/>
            <a:chExt cx="360" cy="792360"/>
          </a:xfrm>
        </p:grpSpPr>
        <p:sp>
          <p:nvSpPr>
            <p:cNvPr id="741" name="Line 16"/>
            <p:cNvSpPr/>
            <p:nvPr/>
          </p:nvSpPr>
          <p:spPr>
            <a:xfrm flipV="1">
              <a:off x="1403280" y="1988640"/>
              <a:ext cx="0" cy="792360"/>
            </a:xfrm>
            <a:prstGeom prst="line">
              <a:avLst/>
            </a:prstGeom>
            <a:ln w="9360">
              <a:solidFill>
                <a:srgbClr val="2727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 rot="10800000">
              <a:off x="1402920" y="1988640"/>
              <a:ext cx="36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743" name="Text Box 17"/>
          <p:cNvSpPr/>
          <p:nvPr/>
        </p:nvSpPr>
        <p:spPr>
          <a:xfrm>
            <a:off x="533520" y="493704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　　所以，我们要积极培养正当兴趣</a:t>
            </a: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272776"/>
                </a:solidFill>
                <a:latin typeface="Times New Roman"/>
                <a:ea typeface="黑体"/>
              </a:rPr>
              <a:t>发展高雅情趣 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900000" y="220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起 源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50920" y="1196640"/>
            <a:ext cx="8562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1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情趣是以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为基础而产生的，同时，情趣通过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表现出来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2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高雅情趣体现一个人对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的追求、乐观的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和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的心理。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Century Gothic"/>
              </a:rPr>
              <a:t>3.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高雅的生活情趣，有益于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，能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、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有助于我们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；能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有利于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       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。低级庸俗的生活情趣，不利于青少年的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　   　　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，甚至</a:t>
            </a:r>
            <a:r>
              <a:rPr b="1" lang="zh-CN" sz="3200" spc="-1" strike="noStrike" u="sng">
                <a:solidFill>
                  <a:srgbClr val="272776"/>
                </a:solidFill>
                <a:uFillTx/>
                <a:latin typeface="Century Gothic"/>
              </a:rPr>
              <a:t>　　　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。</a:t>
            </a: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3" name="WordArt 3"/>
          <p:cNvSpPr txBox="1"/>
          <p:nvPr/>
        </p:nvSpPr>
        <p:spPr>
          <a:xfrm>
            <a:off x="2843280" y="404640"/>
            <a:ext cx="2405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自学检测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34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说说当你进行自己感兴趣的事情时，你会有什么感受和体会？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9640" y="2781360"/>
            <a:ext cx="815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行楷"/>
              </a:rPr>
              <a:t>当自己对某件事情感兴趣时，就会很投入，很忘我，不怕苦，不怕难，而且做了之后，印象特别深刻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539640" y="5013360"/>
            <a:ext cx="8280360" cy="14770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知之者不如好之者，好之者不如乐之者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                                     </a:t>
            </a:r>
            <a:r>
              <a:rPr b="1" lang="en-US" sz="3600" spc="-1" strike="noStrike">
                <a:solidFill>
                  <a:srgbClr val="272776"/>
                </a:solidFill>
                <a:latin typeface="Arial"/>
                <a:ea typeface="黑体"/>
              </a:rPr>
              <a:t>—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孔子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27" name="WordArt 5"/>
          <p:cNvSpPr txBox="1"/>
          <p:nvPr/>
        </p:nvSpPr>
        <p:spPr>
          <a:xfrm>
            <a:off x="0" y="404640"/>
            <a:ext cx="4114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一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28640" y="15238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272776"/>
                </a:solidFill>
                <a:latin typeface="Century Gothic"/>
                <a:ea typeface="隶书"/>
              </a:rPr>
              <a:t> </a:t>
            </a:r>
            <a:endParaRPr b="0" lang="en-US" sz="37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2491920"/>
            <a:ext cx="87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学生甲：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兴趣是最好的老师。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培养兴趣爱好，如读一本好书，对中学生培养情趣、陶冶情操、追求高品质的生活很有意义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学生乙：中学生的主要任务是学习课堂知识，把时间花在培养兴趣爱好上，会分散学习精力的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你同意谁的看法？理由是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</a:rPr>
              <a:t>-----</a:t>
            </a:r>
            <a:r>
              <a:rPr b="1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708360" y="62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新魏"/>
              </a:rPr>
              <a:t>阅读课本</a:t>
            </a:r>
            <a:r>
              <a:rPr b="1" lang="en-US" sz="3600" spc="-1" strike="noStrike">
                <a:solidFill>
                  <a:srgbClr val="272776"/>
                </a:solidFill>
                <a:latin typeface="Arial"/>
                <a:ea typeface="华文新魏"/>
              </a:rPr>
              <a:t>71</a:t>
            </a:r>
            <a:r>
              <a:rPr b="1" lang="zh-CN" sz="3600" spc="-1" strike="noStrike">
                <a:solidFill>
                  <a:srgbClr val="272776"/>
                </a:solidFill>
                <a:latin typeface="Arial"/>
                <a:ea typeface="华文新魏"/>
              </a:rPr>
              <a:t>页的小故事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582080" y="162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Arial"/>
              </a:rPr>
              <a:t>关于杨叶与妈妈的对话，不同的人有不同的看法。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0" y="404640"/>
            <a:ext cx="4114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合作 展示交流二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682560" y="547560"/>
            <a:ext cx="785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826920" y="1197000"/>
            <a:ext cx="770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培养兴趣和情趣，对个人发展很重要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青少年要培养兴趣和情趣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要分清主次。主要任务是学习和品德培养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学习和培养兴趣、情趣是相辅相成的。但处理不当，会影响学习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5" name="文本框 8199"/>
          <p:cNvSpPr/>
          <p:nvPr/>
        </p:nvSpPr>
        <p:spPr>
          <a:xfrm>
            <a:off x="1268280" y="66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"/>
          <p:cNvSpPr/>
          <p:nvPr/>
        </p:nvSpPr>
        <p:spPr>
          <a:xfrm>
            <a:off x="1476360" y="392904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6807240" y="3637080"/>
            <a:ext cx="1481040" cy="8251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华文行楷"/>
                <a:ea typeface="华文行楷"/>
              </a:rPr>
              <a:t>兴趣</a:t>
            </a:r>
            <a:endParaRPr b="0" lang="en-US" sz="4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454560" y="3332160"/>
            <a:ext cx="761760" cy="17838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黑体"/>
                <a:ea typeface="黑体"/>
              </a:rPr>
              <a:t>情 </a:t>
            </a:r>
            <a:endParaRPr b="0" lang="en-US" sz="4400" spc="-1" strike="noStrike">
              <a:solidFill>
                <a:srgbClr val="27277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黑体"/>
                <a:ea typeface="黑体"/>
              </a:rPr>
              <a:t>趣</a:t>
            </a:r>
            <a:endParaRPr b="0" lang="en-US" sz="44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4673520" y="4475160"/>
            <a:ext cx="2514600" cy="9907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5075280" y="5607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表现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1" name="AutoShape 6"/>
          <p:cNvSpPr/>
          <p:nvPr/>
        </p:nvSpPr>
        <p:spPr>
          <a:xfrm rot="11747400">
            <a:off x="4215960" y="2646000"/>
            <a:ext cx="2514600" cy="9907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6426360" y="2494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基础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pic>
        <p:nvPicPr>
          <p:cNvPr id="643" name="Picture 8" descr="AD003706"/>
          <p:cNvPicPr/>
          <p:nvPr/>
        </p:nvPicPr>
        <p:blipFill>
          <a:blip r:embed="rId1"/>
          <a:stretch/>
        </p:blipFill>
        <p:spPr>
          <a:xfrm>
            <a:off x="863640" y="3484440"/>
            <a:ext cx="1714320" cy="25146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1979640" y="1285920"/>
            <a:ext cx="3483000" cy="11912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72776"/>
                </a:solidFill>
                <a:latin typeface="Arial"/>
              </a:rPr>
              <a:t>情趣是以兴趣为基础而产生的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2482920" y="53895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（较稳定）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6515280" y="481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（暂时的）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779640" y="3500280"/>
            <a:ext cx="1656000" cy="360"/>
            <a:chOff x="3779640" y="3500280"/>
            <a:chExt cx="1656000" cy="360"/>
          </a:xfrm>
        </p:grpSpPr>
        <p:sp>
          <p:nvSpPr>
            <p:cNvPr id="648" name="Line 12"/>
            <p:cNvSpPr/>
            <p:nvPr/>
          </p:nvSpPr>
          <p:spPr>
            <a:xfrm flipH="1">
              <a:off x="3779640" y="3500280"/>
              <a:ext cx="1655640" cy="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3780000" y="350028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 Black"/>
              </a:endParaRPr>
            </a:p>
          </p:txBody>
        </p:sp>
      </p:grpSp>
      <p:sp>
        <p:nvSpPr>
          <p:cNvPr id="650" name="Text Box 13"/>
          <p:cNvSpPr/>
          <p:nvPr/>
        </p:nvSpPr>
        <p:spPr>
          <a:xfrm>
            <a:off x="4859280" y="3446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Arial"/>
              </a:rPr>
              <a:t>升华</a:t>
            </a:r>
            <a:endParaRPr b="0" lang="en-US" sz="40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6227640" y="1285920"/>
            <a:ext cx="2519640" cy="10688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Arial"/>
                <a:ea typeface="黑体"/>
              </a:rPr>
              <a:t>情趣通过兴趣表现出来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50920" y="8668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阅读书本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P7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，思考                         （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岛上水兵们的生活情趣体现在哪些方面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250920" y="2133720"/>
            <a:ext cx="84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答：体现在：举办国际海洋法知识讲座，创办黑板报和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南沙卫士报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，举办书法、绘画大赛，帮助报考军校的战士复习文化知识。组织战士比赛拾凤尾螺；为战士弹吉他、唱歌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画材料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160" y="428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这些生活情趣对他们克服困难有什么意义？</a:t>
            </a:r>
            <a:endParaRPr b="0" lang="en-US" sz="32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486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答：这些生活情趣使他们疲劳得以解除，还能使他们充分感受到生活中的美，使他们即使在艰苦的环境中也能让生活充满欢乐。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课本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P72</a:t>
            </a:r>
            <a:r>
              <a:rPr b="0" lang="zh-CN" sz="2800" spc="-1" strike="noStrike">
                <a:solidFill>
                  <a:srgbClr val="272776"/>
                </a:solidFill>
                <a:latin typeface="Arial"/>
                <a:ea typeface="黑体"/>
              </a:rPr>
              <a:t>改我们为他们</a:t>
            </a: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272776"/>
              </a:solidFill>
              <a:latin typeface="Arial Black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398520" y="281160"/>
            <a:ext cx="4114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探究合作 展示交流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03280" y="1413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Arial"/>
                <a:ea typeface="黑体"/>
              </a:rPr>
              <a:t>情趣不但能使我们因学习紧绷的神经得以放松，疲劳得以解除，还能使我们充分感受到生活中的美，使我们即使在艰苦的环境中也能让生活充满欢乐。</a:t>
            </a:r>
            <a:endParaRPr b="0" lang="en-US" sz="3600" spc="-1" strike="noStrike">
              <a:solidFill>
                <a:srgbClr val="27277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2:1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24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