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chimes.wav" ContentType="audio/x-wav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9FC-B2A1-49AC-9650-0073C192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D89B-BFBA-49F0-8A3F-76093EF8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8CC6-E9A7-48A2-B999-F7AECD73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1323-8170-4602-A00F-CF7DA434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0C41-7277-4EAF-B150-64D47F37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358D-E6E8-4B5A-98AB-6A041629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B4D6-C1CA-4CD2-93FF-B6F94BDE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B56D-35C0-43FF-B917-B76F63AE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12DF-DA13-4B2B-8BB2-6B0BD0B1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5A41-15FB-4703-8D86-C6E58EEF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6DF1-D709-436A-8BE5-0B82D226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DDD9-E0F6-4342-B800-9C319B66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1626-9787-4E67-BC7C-C4CA0137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BAE8-E12F-4814-9A39-2E30E132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614E-C812-4880-BCA9-1A48D55E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01CF-0F38-436B-9022-EB478CCF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4B1B-8D4C-4DDA-86F4-9962DBF6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37AE5-4F4F-4291-A104-49B72FB8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10F27-163B-41D4-9670-D3A26A28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D0F18-4230-49AF-963C-9D6875C7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56C4E-A0F8-4278-9C5B-CC66574C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6FFCF-DEBC-4C15-AC4B-8328C021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5FF-0A60-4B27-A898-11C4036F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20C45-6FD6-4284-BAE8-237DA1BC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5B5C7-5B58-4C0C-9344-14C9521B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EAB9C-BDBA-4570-BCCB-22EC2FA1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2163C-3BB9-4999-AD8B-8D44BF4F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89000-E326-4959-AA7D-B480CD3F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DE373-DA51-4290-8FEA-F80C40B1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4EE70-22EC-4CA1-BF0A-C1226B49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85F-8C10-456D-82DE-F144B1D6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259F-A724-4127-AFE0-9FBC2552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D9F4-6E2B-49D8-A704-0820F003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5F9-B3A2-4CAA-BC75-534EE9FF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D9A5-4668-4939-AA9F-E1D1B3F1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7C4-A2C5-4622-9697-FDEED0E7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77701cc93d56fd32be09e69e"/>
          <p:cNvPicPr/>
          <p:nvPr/>
        </p:nvPicPr>
        <p:blipFill>
          <a:blip r:embed="rId2"/>
          <a:stretch/>
        </p:blipFill>
        <p:spPr>
          <a:xfrm>
            <a:off x="6443640" y="2492280"/>
            <a:ext cx="2700360" cy="41767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 rot="5400000">
            <a:off x="5517000" y="3239280"/>
            <a:ext cx="6858000" cy="3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 flipH="1" rot="16200000">
            <a:off x="-3230280" y="3238560"/>
            <a:ext cx="6856560" cy="3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676920"/>
            <a:ext cx="9144000" cy="18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未知"/>
          <p:cNvSpPr/>
          <p:nvPr/>
        </p:nvSpPr>
        <p:spPr>
          <a:xfrm>
            <a:off x="-239760" y="-14400"/>
            <a:ext cx="882720" cy="700092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未知"/>
          <p:cNvSpPr/>
          <p:nvPr/>
        </p:nvSpPr>
        <p:spPr>
          <a:xfrm>
            <a:off x="395280" y="3933720"/>
            <a:ext cx="216000" cy="2484720"/>
          </a:xfrm>
          <a:custGeom>
            <a:avLst/>
            <a:gdLst/>
            <a:ahLst/>
            <a:rect l="l" t="t" r="r" b="b"/>
            <a:pathLst>
              <a:path w="135" h="321">
                <a:moveTo>
                  <a:pt x="87" y="280"/>
                </a:moveTo>
                <a:cubicBezTo>
                  <a:pt x="0" y="222"/>
                  <a:pt x="37" y="66"/>
                  <a:pt x="103" y="0"/>
                </a:cubicBezTo>
                <a:cubicBezTo>
                  <a:pt x="135" y="97"/>
                  <a:pt x="119" y="40"/>
                  <a:pt x="119" y="264"/>
                </a:cubicBezTo>
                <a:cubicBezTo>
                  <a:pt x="119" y="271"/>
                  <a:pt x="98" y="321"/>
                  <a:pt x="95" y="320"/>
                </a:cubicBezTo>
                <a:cubicBezTo>
                  <a:pt x="82" y="316"/>
                  <a:pt x="90" y="293"/>
                  <a:pt x="87" y="28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未知"/>
          <p:cNvSpPr/>
          <p:nvPr/>
        </p:nvSpPr>
        <p:spPr>
          <a:xfrm>
            <a:off x="142920" y="3753000"/>
            <a:ext cx="179280" cy="2303280"/>
          </a:xfrm>
          <a:custGeom>
            <a:avLst/>
            <a:gdLst/>
            <a:ahLst/>
            <a:rect l="l" t="t" r="r" b="b"/>
            <a:pathLst>
              <a:path w="135" h="321">
                <a:moveTo>
                  <a:pt x="87" y="280"/>
                </a:moveTo>
                <a:cubicBezTo>
                  <a:pt x="0" y="222"/>
                  <a:pt x="37" y="66"/>
                  <a:pt x="103" y="0"/>
                </a:cubicBezTo>
                <a:cubicBezTo>
                  <a:pt x="135" y="97"/>
                  <a:pt x="119" y="40"/>
                  <a:pt x="119" y="264"/>
                </a:cubicBezTo>
                <a:cubicBezTo>
                  <a:pt x="119" y="271"/>
                  <a:pt x="98" y="321"/>
                  <a:pt x="95" y="320"/>
                </a:cubicBezTo>
                <a:cubicBezTo>
                  <a:pt x="82" y="316"/>
                  <a:pt x="90" y="293"/>
                  <a:pt x="87" y="28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>
            <a:off x="0" y="-50760"/>
            <a:ext cx="571680" cy="495288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未知"/>
          <p:cNvSpPr/>
          <p:nvPr/>
        </p:nvSpPr>
        <p:spPr>
          <a:xfrm>
            <a:off x="108000" y="-11160"/>
            <a:ext cx="576360" cy="297180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8209440" y="-50760"/>
            <a:ext cx="1186920" cy="7037280"/>
            <a:chOff x="8209440" y="-50760"/>
            <a:chExt cx="1186920" cy="7037280"/>
          </a:xfrm>
        </p:grpSpPr>
        <p:sp>
          <p:nvSpPr>
            <p:cNvPr id="10" name="未知"/>
            <p:cNvSpPr/>
            <p:nvPr/>
          </p:nvSpPr>
          <p:spPr>
            <a:xfrm flipH="1">
              <a:off x="8209080" y="-14400"/>
              <a:ext cx="1186920" cy="700092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 flipH="1">
              <a:off x="8542080" y="3937680"/>
              <a:ext cx="284760" cy="2478600"/>
            </a:xfrm>
            <a:custGeom>
              <a:avLst/>
              <a:gdLst/>
              <a:ahLst/>
              <a:rect l="l" t="t" r="r" b="b"/>
              <a:pathLst>
                <a:path w="135" h="321">
                  <a:moveTo>
                    <a:pt x="87" y="280"/>
                  </a:moveTo>
                  <a:cubicBezTo>
                    <a:pt x="0" y="222"/>
                    <a:pt x="37" y="66"/>
                    <a:pt x="103" y="0"/>
                  </a:cubicBezTo>
                  <a:cubicBezTo>
                    <a:pt x="135" y="97"/>
                    <a:pt x="119" y="40"/>
                    <a:pt x="119" y="264"/>
                  </a:cubicBezTo>
                  <a:cubicBezTo>
                    <a:pt x="119" y="271"/>
                    <a:pt x="98" y="321"/>
                    <a:pt x="95" y="320"/>
                  </a:cubicBezTo>
                  <a:cubicBezTo>
                    <a:pt x="82" y="316"/>
                    <a:pt x="90" y="293"/>
                    <a:pt x="87" y="2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 flipH="1">
              <a:off x="8923320" y="3756960"/>
              <a:ext cx="236880" cy="2297880"/>
            </a:xfrm>
            <a:custGeom>
              <a:avLst/>
              <a:gdLst/>
              <a:ahLst/>
              <a:rect l="l" t="t" r="r" b="b"/>
              <a:pathLst>
                <a:path w="135" h="321">
                  <a:moveTo>
                    <a:pt x="87" y="280"/>
                  </a:moveTo>
                  <a:cubicBezTo>
                    <a:pt x="0" y="222"/>
                    <a:pt x="37" y="66"/>
                    <a:pt x="103" y="0"/>
                  </a:cubicBezTo>
                  <a:cubicBezTo>
                    <a:pt x="135" y="97"/>
                    <a:pt x="119" y="40"/>
                    <a:pt x="119" y="264"/>
                  </a:cubicBezTo>
                  <a:cubicBezTo>
                    <a:pt x="119" y="271"/>
                    <a:pt x="98" y="321"/>
                    <a:pt x="95" y="320"/>
                  </a:cubicBezTo>
                  <a:cubicBezTo>
                    <a:pt x="82" y="316"/>
                    <a:pt x="90" y="293"/>
                    <a:pt x="87" y="2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 flipH="1">
              <a:off x="8636040" y="-50760"/>
              <a:ext cx="759960" cy="567504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 flipH="1">
              <a:off x="8445960" y="-14400"/>
              <a:ext cx="759960" cy="298116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未知"/>
          <p:cNvSpPr/>
          <p:nvPr/>
        </p:nvSpPr>
        <p:spPr>
          <a:xfrm>
            <a:off x="-168120" y="189000"/>
            <a:ext cx="558720" cy="568476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未知"/>
          <p:cNvSpPr/>
          <p:nvPr/>
        </p:nvSpPr>
        <p:spPr>
          <a:xfrm>
            <a:off x="8461440" y="-122400"/>
            <a:ext cx="576360" cy="513252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3533-A4CA-4096-8A1A-3B0AC59224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24"/>
          <p:cNvSpPr/>
          <p:nvPr/>
        </p:nvSpPr>
        <p:spPr>
          <a:xfrm>
            <a:off x="8028000" y="15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6AEC-FDE6-42BD-9F34-8D13AE07E53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未知"/>
          <p:cNvSpPr/>
          <p:nvPr/>
        </p:nvSpPr>
        <p:spPr>
          <a:xfrm>
            <a:off x="8785080" y="-47520"/>
            <a:ext cx="576360" cy="513396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8172360" y="15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未知"/>
          <p:cNvSpPr/>
          <p:nvPr/>
        </p:nvSpPr>
        <p:spPr>
          <a:xfrm>
            <a:off x="-165240" y="-11160"/>
            <a:ext cx="563760" cy="567216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1"/>
          <p:cNvGrpSpPr/>
          <p:nvPr/>
        </p:nvGrpSpPr>
        <p:grpSpPr>
          <a:xfrm>
            <a:off x="8280360" y="-50760"/>
            <a:ext cx="1079280" cy="7037280"/>
            <a:chOff x="8280360" y="-50760"/>
            <a:chExt cx="1079280" cy="7037280"/>
          </a:xfrm>
        </p:grpSpPr>
        <p:sp>
          <p:nvSpPr>
            <p:cNvPr id="104" name="未知"/>
            <p:cNvSpPr/>
            <p:nvPr/>
          </p:nvSpPr>
          <p:spPr>
            <a:xfrm flipH="1">
              <a:off x="8280360" y="-14400"/>
              <a:ext cx="1079280" cy="700092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flipH="1">
              <a:off x="8582760" y="3937680"/>
              <a:ext cx="258840" cy="2478600"/>
            </a:xfrm>
            <a:custGeom>
              <a:avLst/>
              <a:gdLst/>
              <a:ahLst/>
              <a:rect l="l" t="t" r="r" b="b"/>
              <a:pathLst>
                <a:path w="135" h="321">
                  <a:moveTo>
                    <a:pt x="87" y="280"/>
                  </a:moveTo>
                  <a:cubicBezTo>
                    <a:pt x="0" y="222"/>
                    <a:pt x="37" y="66"/>
                    <a:pt x="103" y="0"/>
                  </a:cubicBezTo>
                  <a:cubicBezTo>
                    <a:pt x="135" y="97"/>
                    <a:pt x="119" y="40"/>
                    <a:pt x="119" y="264"/>
                  </a:cubicBezTo>
                  <a:cubicBezTo>
                    <a:pt x="119" y="271"/>
                    <a:pt x="98" y="321"/>
                    <a:pt x="95" y="320"/>
                  </a:cubicBezTo>
                  <a:cubicBezTo>
                    <a:pt x="82" y="316"/>
                    <a:pt x="90" y="293"/>
                    <a:pt x="87" y="2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 flipH="1">
              <a:off x="8929440" y="3756960"/>
              <a:ext cx="215280" cy="2297880"/>
            </a:xfrm>
            <a:custGeom>
              <a:avLst/>
              <a:gdLst/>
              <a:ahLst/>
              <a:rect l="l" t="t" r="r" b="b"/>
              <a:pathLst>
                <a:path w="135" h="321">
                  <a:moveTo>
                    <a:pt x="87" y="280"/>
                  </a:moveTo>
                  <a:cubicBezTo>
                    <a:pt x="0" y="222"/>
                    <a:pt x="37" y="66"/>
                    <a:pt x="103" y="0"/>
                  </a:cubicBezTo>
                  <a:cubicBezTo>
                    <a:pt x="135" y="97"/>
                    <a:pt x="119" y="40"/>
                    <a:pt x="119" y="264"/>
                  </a:cubicBezTo>
                  <a:cubicBezTo>
                    <a:pt x="119" y="271"/>
                    <a:pt x="98" y="321"/>
                    <a:pt x="95" y="320"/>
                  </a:cubicBezTo>
                  <a:cubicBezTo>
                    <a:pt x="82" y="316"/>
                    <a:pt x="90" y="293"/>
                    <a:pt x="87" y="2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 flipH="1">
              <a:off x="8668440" y="-50760"/>
              <a:ext cx="691200" cy="567504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 flipH="1">
              <a:off x="8495280" y="-14400"/>
              <a:ext cx="691200" cy="298116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未知"/>
          <p:cNvSpPr/>
          <p:nvPr/>
        </p:nvSpPr>
        <p:spPr>
          <a:xfrm>
            <a:off x="0" y="-50760"/>
            <a:ext cx="576360" cy="567360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未知"/>
          <p:cNvSpPr/>
          <p:nvPr/>
        </p:nvSpPr>
        <p:spPr>
          <a:xfrm>
            <a:off x="111240" y="-11160"/>
            <a:ext cx="576000" cy="297360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-203040" y="0"/>
            <a:ext cx="884160" cy="701352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未知"/>
          <p:cNvSpPr/>
          <p:nvPr/>
        </p:nvSpPr>
        <p:spPr>
          <a:xfrm>
            <a:off x="398520" y="3935520"/>
            <a:ext cx="216000" cy="2482920"/>
          </a:xfrm>
          <a:custGeom>
            <a:avLst/>
            <a:gdLst/>
            <a:ahLst/>
            <a:rect l="l" t="t" r="r" b="b"/>
            <a:pathLst>
              <a:path w="135" h="321">
                <a:moveTo>
                  <a:pt x="87" y="280"/>
                </a:moveTo>
                <a:cubicBezTo>
                  <a:pt x="0" y="222"/>
                  <a:pt x="37" y="66"/>
                  <a:pt x="103" y="0"/>
                </a:cubicBezTo>
                <a:cubicBezTo>
                  <a:pt x="135" y="97"/>
                  <a:pt x="119" y="40"/>
                  <a:pt x="119" y="264"/>
                </a:cubicBezTo>
                <a:cubicBezTo>
                  <a:pt x="119" y="271"/>
                  <a:pt x="98" y="321"/>
                  <a:pt x="95" y="320"/>
                </a:cubicBezTo>
                <a:cubicBezTo>
                  <a:pt x="82" y="316"/>
                  <a:pt x="90" y="293"/>
                  <a:pt x="87" y="28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146160" y="3754440"/>
            <a:ext cx="179280" cy="2301840"/>
          </a:xfrm>
          <a:custGeom>
            <a:avLst/>
            <a:gdLst/>
            <a:ahLst/>
            <a:rect l="l" t="t" r="r" b="b"/>
            <a:pathLst>
              <a:path w="135" h="321">
                <a:moveTo>
                  <a:pt x="87" y="280"/>
                </a:moveTo>
                <a:cubicBezTo>
                  <a:pt x="0" y="222"/>
                  <a:pt x="37" y="66"/>
                  <a:pt x="103" y="0"/>
                </a:cubicBezTo>
                <a:cubicBezTo>
                  <a:pt x="135" y="97"/>
                  <a:pt x="119" y="40"/>
                  <a:pt x="119" y="264"/>
                </a:cubicBezTo>
                <a:cubicBezTo>
                  <a:pt x="119" y="271"/>
                  <a:pt x="98" y="321"/>
                  <a:pt x="95" y="320"/>
                </a:cubicBezTo>
                <a:cubicBezTo>
                  <a:pt x="82" y="316"/>
                  <a:pt x="90" y="293"/>
                  <a:pt x="87" y="28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77701cc93d56fd32be09e69e"/>
          <p:cNvPicPr/>
          <p:nvPr/>
        </p:nvPicPr>
        <p:blipFill>
          <a:blip r:embed="rId2"/>
          <a:stretch/>
        </p:blipFill>
        <p:spPr>
          <a:xfrm>
            <a:off x="0" y="0"/>
            <a:ext cx="4373640" cy="5940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 rot="5400000">
            <a:off x="5554440" y="3233520"/>
            <a:ext cx="6854760" cy="39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 flipH="1" rot="16200000">
            <a:off x="-3258360" y="3241440"/>
            <a:ext cx="6850080" cy="382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240" y="6676920"/>
            <a:ext cx="9140760" cy="18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62472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450A-B042-48C0-B040-BEE12990DB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矩形 3" descr=""/>
          <p:cNvPicPr/>
          <p:nvPr/>
        </p:nvPicPr>
        <p:blipFill>
          <a:blip r:embed="rId1"/>
          <a:stretch/>
        </p:blipFill>
        <p:spPr>
          <a:xfrm>
            <a:off x="760320" y="1123920"/>
            <a:ext cx="7853400" cy="7016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" descr=""/>
          <p:cNvPicPr/>
          <p:nvPr/>
        </p:nvPicPr>
        <p:blipFill>
          <a:blip r:embed="rId2"/>
          <a:stretch/>
        </p:blipFill>
        <p:spPr>
          <a:xfrm>
            <a:off x="430200" y="2500200"/>
            <a:ext cx="4157640" cy="25210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6" descr=""/>
          <p:cNvPicPr/>
          <p:nvPr/>
        </p:nvPicPr>
        <p:blipFill>
          <a:blip r:embed="rId3"/>
          <a:stretch/>
        </p:blipFill>
        <p:spPr>
          <a:xfrm>
            <a:off x="4587840" y="2550960"/>
            <a:ext cx="2683080" cy="2421000"/>
          </a:xfrm>
          <a:prstGeom prst="rect">
            <a:avLst/>
          </a:prstGeom>
          <a:ln w="0">
            <a:noFill/>
          </a:ln>
        </p:spPr>
      </p:pic>
      <p:sp>
        <p:nvSpPr>
          <p:cNvPr id="162" name="文本框 6155"/>
          <p:cNvSpPr/>
          <p:nvPr/>
        </p:nvSpPr>
        <p:spPr>
          <a:xfrm>
            <a:off x="431640" y="63831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4A15-5EF1-4F1B-9E06-C44F71DD765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蝗虫的发育过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D4EC-34CB-4054-8605-BE382CEF7BD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838080" y="8380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533520" y="75420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蝗虫的一生要经过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三个时期，它的发育也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育，这种发育类型称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————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013360" y="5335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受精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084080" y="449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若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08560" y="1428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成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6666480" y="1428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变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5362560" y="2357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不完全变态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蝗虫的发育过程"/>
          <p:cNvPicPr/>
          <p:nvPr/>
        </p:nvPicPr>
        <p:blipFill>
          <a:blip r:embed="rId1"/>
          <a:stretch/>
        </p:blipFill>
        <p:spPr>
          <a:xfrm>
            <a:off x="4495680" y="342900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蝗虫的成长"/>
          <p:cNvPicPr/>
          <p:nvPr/>
        </p:nvPicPr>
        <p:blipFill>
          <a:blip r:embed="rId2"/>
          <a:stretch/>
        </p:blipFill>
        <p:spPr>
          <a:xfrm>
            <a:off x="0" y="3429000"/>
            <a:ext cx="449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7C4A-618A-4064-A2A2-2D33A7C1F0B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2"/>
          <p:cNvGrpSpPr/>
          <p:nvPr/>
        </p:nvGrpSpPr>
        <p:grpSpPr>
          <a:xfrm>
            <a:off x="63360" y="1066680"/>
            <a:ext cx="1155960" cy="4543920"/>
            <a:chOff x="63360" y="1066680"/>
            <a:chExt cx="1155960" cy="4543920"/>
          </a:xfrm>
        </p:grpSpPr>
        <p:sp>
          <p:nvSpPr>
            <p:cNvPr id="235" name="Text Box 3"/>
            <p:cNvSpPr/>
            <p:nvPr/>
          </p:nvSpPr>
          <p:spPr>
            <a:xfrm>
              <a:off x="63360" y="50292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成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4"/>
            <p:cNvGrpSpPr/>
            <p:nvPr/>
          </p:nvGrpSpPr>
          <p:grpSpPr>
            <a:xfrm>
              <a:off x="152280" y="1066680"/>
              <a:ext cx="1067040" cy="4038840"/>
              <a:chOff x="152280" y="1066680"/>
              <a:chExt cx="1067040" cy="4038840"/>
            </a:xfrm>
          </p:grpSpPr>
          <p:grpSp>
            <p:nvGrpSpPr>
              <p:cNvPr id="237" name="Group 5"/>
              <p:cNvGrpSpPr/>
              <p:nvPr/>
            </p:nvGrpSpPr>
            <p:grpSpPr>
              <a:xfrm>
                <a:off x="304920" y="1066680"/>
                <a:ext cx="799920" cy="1371600"/>
                <a:chOff x="304920" y="1066680"/>
                <a:chExt cx="799920" cy="1371600"/>
              </a:xfrm>
            </p:grpSpPr>
            <p:sp>
              <p:nvSpPr>
                <p:cNvPr id="238" name="Text Box 6"/>
                <p:cNvSpPr/>
                <p:nvPr/>
              </p:nvSpPr>
              <p:spPr>
                <a:xfrm>
                  <a:off x="304920" y="1066680"/>
                  <a:ext cx="799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00"/>
                      </a:solidFill>
                      <a:latin typeface="Calibri"/>
                    </a:rPr>
                    <a:t>卵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AutoShape 7"/>
                <p:cNvSpPr/>
                <p:nvPr/>
              </p:nvSpPr>
              <p:spPr>
                <a:xfrm>
                  <a:off x="533520" y="1600200"/>
                  <a:ext cx="152280" cy="838080"/>
                </a:xfrm>
                <a:prstGeom prst="downArrow">
                  <a:avLst>
                    <a:gd name="adj1" fmla="val 50000"/>
                    <a:gd name="adj2" fmla="val 137589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Group 8"/>
              <p:cNvGrpSpPr/>
              <p:nvPr/>
            </p:nvGrpSpPr>
            <p:grpSpPr>
              <a:xfrm>
                <a:off x="152280" y="2316240"/>
                <a:ext cx="1067040" cy="1417680"/>
                <a:chOff x="152280" y="2316240"/>
                <a:chExt cx="1067040" cy="1417680"/>
              </a:xfrm>
            </p:grpSpPr>
            <p:sp>
              <p:nvSpPr>
                <p:cNvPr id="241" name="Text Box 9"/>
                <p:cNvSpPr/>
                <p:nvPr/>
              </p:nvSpPr>
              <p:spPr>
                <a:xfrm>
                  <a:off x="152280" y="2316240"/>
                  <a:ext cx="10670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Calibri"/>
                    </a:rPr>
                    <a:t>幼虫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AutoShape 10"/>
                <p:cNvSpPr/>
                <p:nvPr/>
              </p:nvSpPr>
              <p:spPr>
                <a:xfrm>
                  <a:off x="533520" y="2895480"/>
                  <a:ext cx="152280" cy="838440"/>
                </a:xfrm>
                <a:prstGeom prst="downArrow">
                  <a:avLst>
                    <a:gd name="adj1" fmla="val 50000"/>
                    <a:gd name="adj2" fmla="val 137648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Group 11"/>
              <p:cNvGrpSpPr/>
              <p:nvPr/>
            </p:nvGrpSpPr>
            <p:grpSpPr>
              <a:xfrm>
                <a:off x="304920" y="3657600"/>
                <a:ext cx="711000" cy="1447920"/>
                <a:chOff x="304920" y="3657600"/>
                <a:chExt cx="711000" cy="1447920"/>
              </a:xfrm>
            </p:grpSpPr>
            <p:sp>
              <p:nvSpPr>
                <p:cNvPr id="244" name="Text Box 12"/>
                <p:cNvSpPr/>
                <p:nvPr/>
              </p:nvSpPr>
              <p:spPr>
                <a:xfrm>
                  <a:off x="304920" y="3657600"/>
                  <a:ext cx="711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Calibri"/>
                    </a:rPr>
                    <a:t>蛹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AutoShape 13"/>
                <p:cNvSpPr/>
                <p:nvPr/>
              </p:nvSpPr>
              <p:spPr>
                <a:xfrm>
                  <a:off x="533520" y="4267080"/>
                  <a:ext cx="152280" cy="838440"/>
                </a:xfrm>
                <a:prstGeom prst="downArrow">
                  <a:avLst>
                    <a:gd name="adj1" fmla="val 50000"/>
                    <a:gd name="adj2" fmla="val 137648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6" name="Group 14"/>
          <p:cNvGrpSpPr/>
          <p:nvPr/>
        </p:nvGrpSpPr>
        <p:grpSpPr>
          <a:xfrm>
            <a:off x="1066680" y="0"/>
            <a:ext cx="8076960" cy="6822720"/>
            <a:chOff x="1066680" y="0"/>
            <a:chExt cx="8076960" cy="6822720"/>
          </a:xfrm>
        </p:grpSpPr>
        <p:pic>
          <p:nvPicPr>
            <p:cNvPr id="247" name="Picture 15" descr="G03_5_4"/>
            <p:cNvPicPr/>
            <p:nvPr/>
          </p:nvPicPr>
          <p:blipFill>
            <a:blip r:embed="rId1"/>
            <a:stretch/>
          </p:blipFill>
          <p:spPr>
            <a:xfrm>
              <a:off x="1066680" y="0"/>
              <a:ext cx="8076960" cy="68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AutoShape 16"/>
            <p:cNvSpPr/>
            <p:nvPr/>
          </p:nvSpPr>
          <p:spPr>
            <a:xfrm>
              <a:off x="2930400" y="3735360"/>
              <a:ext cx="1242360" cy="260280"/>
            </a:xfrm>
            <a:prstGeom prst="leftArrow">
              <a:avLst>
                <a:gd name="adj1" fmla="val 50000"/>
                <a:gd name="adj2" fmla="val 119263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17"/>
            <p:cNvSpPr/>
            <p:nvPr/>
          </p:nvSpPr>
          <p:spPr>
            <a:xfrm>
              <a:off x="1532520" y="4430160"/>
              <a:ext cx="232920" cy="1737360"/>
            </a:xfrm>
            <a:prstGeom prst="downArrow">
              <a:avLst>
                <a:gd name="adj1" fmla="val 50000"/>
                <a:gd name="adj2" fmla="val 186372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>
              <a:off x="2619720" y="6254280"/>
              <a:ext cx="1475640" cy="260280"/>
            </a:xfrm>
            <a:prstGeom prst="rightArrow">
              <a:avLst>
                <a:gd name="adj1" fmla="val 50000"/>
                <a:gd name="adj2" fmla="val 14165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9"/>
            <p:cNvSpPr/>
            <p:nvPr/>
          </p:nvSpPr>
          <p:spPr>
            <a:xfrm>
              <a:off x="5571000" y="6254280"/>
              <a:ext cx="854280" cy="260280"/>
            </a:xfrm>
            <a:prstGeom prst="rightArrow">
              <a:avLst>
                <a:gd name="adj1" fmla="val 50000"/>
                <a:gd name="adj2" fmla="val 82008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20"/>
            <p:cNvSpPr/>
            <p:nvPr/>
          </p:nvSpPr>
          <p:spPr>
            <a:xfrm>
              <a:off x="7202160" y="6254280"/>
              <a:ext cx="931680" cy="260280"/>
            </a:xfrm>
            <a:prstGeom prst="rightArrow">
              <a:avLst>
                <a:gd name="adj1" fmla="val 50000"/>
                <a:gd name="adj2" fmla="val 89488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C6EC-9495-4D84-A4B7-3FBD08D295C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工蜂的发育过程"/>
          <p:cNvPicPr/>
          <p:nvPr/>
        </p:nvPicPr>
        <p:blipFill>
          <a:blip r:embed="rId1"/>
          <a:stretch/>
        </p:blipFill>
        <p:spPr>
          <a:xfrm>
            <a:off x="357120" y="0"/>
            <a:ext cx="7920000" cy="44067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"/>
          <p:cNvSpPr/>
          <p:nvPr/>
        </p:nvSpPr>
        <p:spPr>
          <a:xfrm>
            <a:off x="142920" y="4429080"/>
            <a:ext cx="885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蜜蜂的一生发育中比蝗虫的发育多了一个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即一生经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时期，这种发育形式称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———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7787880" y="4214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</a:rPr>
              <a:t>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2428920" y="5143680"/>
            <a:ext cx="12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</a:rPr>
              <a:t>受精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4431600" y="5143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5929200" y="514368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</a:rPr>
              <a:t>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7432200" y="5143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5505120" y="61437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</a:rPr>
              <a:t>完全变态发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7AB8-F671-4B3E-9752-AAE30861E2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990720" y="12193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生命周期的时间就是这种动物的寿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066680" y="21337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气候、食物、敌害等生活环境因素的变化对动物的寿命会有较大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523880" y="35053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Calibri"/>
              </a:rPr>
              <a:t>剑竹枯死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Calibri"/>
              </a:rPr>
              <a:t>大熊猫死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1447920" y="42670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Calibri"/>
              </a:rPr>
              <a:t>水体污染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Calibri"/>
              </a:rPr>
              <a:t>鱼类死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8199"/>
          <p:cNvSpPr/>
          <p:nvPr/>
        </p:nvSpPr>
        <p:spPr>
          <a:xfrm>
            <a:off x="873000" y="1714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3" name="chimes.wav"/>
      </p:stSnd>
    </p:sndAc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7776-B482-47EA-97DE-6420E4807F0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676520" y="663480"/>
            <a:ext cx="144756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500040" y="1714680"/>
            <a:ext cx="77025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宋体"/>
                <a:ea typeface="宋体"/>
              </a:rPr>
              <a:t>     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  <a:ea typeface="宋体"/>
              </a:rPr>
              <a:t>1 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  <a:ea typeface="宋体"/>
              </a:rPr>
              <a:t>．动物的一生都要经历出生、生长发育、生殖、死亡等生长时期，构成了动物的生命周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857160" y="357192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  <a:ea typeface="宋体"/>
              </a:rPr>
              <a:t>2 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  <a:ea typeface="宋体"/>
              </a:rPr>
              <a:t>．周而复始的生命周期，其根本意义是使生命代代相传，保证了生命的延续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50A5-2BC9-4649-BB47-E0D089CFECB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14200" y="214200"/>
            <a:ext cx="37530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科学问题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3143160" y="1071720"/>
            <a:ext cx="2786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  <a:ea typeface="宋体"/>
              </a:rPr>
              <a:t>给动物分类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"/>
          <p:cNvGrpSpPr/>
          <p:nvPr/>
        </p:nvGrpSpPr>
        <p:grpSpPr>
          <a:xfrm>
            <a:off x="928800" y="1714680"/>
            <a:ext cx="6643440" cy="4142880"/>
            <a:chOff x="928800" y="1714680"/>
            <a:chExt cx="6643440" cy="4142880"/>
          </a:xfrm>
        </p:grpSpPr>
        <p:grpSp>
          <p:nvGrpSpPr>
            <p:cNvPr id="276" name="Group 3"/>
            <p:cNvGrpSpPr/>
            <p:nvPr/>
          </p:nvGrpSpPr>
          <p:grpSpPr>
            <a:xfrm>
              <a:off x="928800" y="1714680"/>
              <a:ext cx="6643440" cy="2327760"/>
              <a:chOff x="928800" y="1714680"/>
              <a:chExt cx="6643440" cy="2327760"/>
            </a:xfrm>
          </p:grpSpPr>
          <p:sp>
            <p:nvSpPr>
              <p:cNvPr id="277" name="Oval 4"/>
              <p:cNvSpPr/>
              <p:nvPr/>
            </p:nvSpPr>
            <p:spPr>
              <a:xfrm>
                <a:off x="928800" y="3214080"/>
                <a:ext cx="1495440" cy="82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动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5"/>
              <p:cNvSpPr/>
              <p:nvPr/>
            </p:nvSpPr>
            <p:spPr>
              <a:xfrm>
                <a:off x="3252240" y="2266920"/>
                <a:ext cx="1495080" cy="82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变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6"/>
              <p:cNvSpPr/>
              <p:nvPr/>
            </p:nvSpPr>
            <p:spPr>
              <a:xfrm>
                <a:off x="6076800" y="2405160"/>
                <a:ext cx="1495440" cy="55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7"/>
              <p:cNvSpPr/>
              <p:nvPr/>
            </p:nvSpPr>
            <p:spPr>
              <a:xfrm>
                <a:off x="6076800" y="1714680"/>
                <a:ext cx="1495440" cy="55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8"/>
              <p:cNvSpPr/>
              <p:nvPr/>
            </p:nvSpPr>
            <p:spPr>
              <a:xfrm>
                <a:off x="6076800" y="3233880"/>
                <a:ext cx="1495440" cy="55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421000" y="2957400"/>
                <a:ext cx="997200" cy="552240"/>
                <a:chOff x="2421000" y="2957400"/>
                <a:chExt cx="997200" cy="552240"/>
              </a:xfrm>
            </p:grpSpPr>
            <p:sp>
              <p:nvSpPr>
                <p:cNvPr id="283" name="Line 9"/>
                <p:cNvSpPr/>
                <p:nvPr/>
              </p:nvSpPr>
              <p:spPr>
                <a:xfrm flipV="1">
                  <a:off x="2421360" y="2957400"/>
                  <a:ext cx="996840" cy="55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 txBox="1"/>
                <p:nvPr/>
              </p:nvSpPr>
              <p:spPr>
                <a:xfrm rot="10800000">
                  <a:off x="2421000" y="2957400"/>
                  <a:ext cx="996840" cy="55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4747320" y="2680920"/>
                <a:ext cx="1329120" cy="360"/>
                <a:chOff x="4747320" y="2680920"/>
                <a:chExt cx="1329120" cy="360"/>
              </a:xfrm>
            </p:grpSpPr>
            <p:sp>
              <p:nvSpPr>
                <p:cNvPr id="286" name="Line 10"/>
                <p:cNvSpPr/>
                <p:nvPr/>
              </p:nvSpPr>
              <p:spPr>
                <a:xfrm>
                  <a:off x="4747320" y="2681280"/>
                  <a:ext cx="132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 txBox="1"/>
                <p:nvPr/>
              </p:nvSpPr>
              <p:spPr>
                <a:xfrm rot="10800000">
                  <a:off x="4747320" y="2680920"/>
                  <a:ext cx="1329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581360" y="2957400"/>
                <a:ext cx="1495080" cy="552240"/>
                <a:chOff x="4581360" y="2957400"/>
                <a:chExt cx="1495080" cy="552240"/>
              </a:xfrm>
            </p:grpSpPr>
            <p:sp>
              <p:nvSpPr>
                <p:cNvPr id="289" name="Line 11"/>
                <p:cNvSpPr/>
                <p:nvPr/>
              </p:nvSpPr>
              <p:spPr>
                <a:xfrm>
                  <a:off x="4581360" y="2957400"/>
                  <a:ext cx="1495080" cy="55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 txBox="1"/>
                <p:nvPr/>
              </p:nvSpPr>
              <p:spPr>
                <a:xfrm>
                  <a:off x="4581360" y="2957400"/>
                  <a:ext cx="1495080" cy="55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581000" y="1990800"/>
                <a:ext cx="1495440" cy="414000"/>
                <a:chOff x="4581000" y="1990800"/>
                <a:chExt cx="1495440" cy="414000"/>
              </a:xfrm>
            </p:grpSpPr>
            <p:sp>
              <p:nvSpPr>
                <p:cNvPr id="292" name="Line 12"/>
                <p:cNvSpPr/>
                <p:nvPr/>
              </p:nvSpPr>
              <p:spPr>
                <a:xfrm flipV="1">
                  <a:off x="4581360" y="1990800"/>
                  <a:ext cx="1495080" cy="41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 txBox="1"/>
                <p:nvPr/>
              </p:nvSpPr>
              <p:spPr>
                <a:xfrm rot="10800000">
                  <a:off x="4581000" y="1990800"/>
                  <a:ext cx="1495080" cy="41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3"/>
            <p:cNvGrpSpPr/>
            <p:nvPr/>
          </p:nvGrpSpPr>
          <p:grpSpPr>
            <a:xfrm>
              <a:off x="2255040" y="3924360"/>
              <a:ext cx="5316840" cy="1933200"/>
              <a:chOff x="2255040" y="3924360"/>
              <a:chExt cx="5316840" cy="1933200"/>
            </a:xfrm>
          </p:grpSpPr>
          <p:sp>
            <p:nvSpPr>
              <p:cNvPr id="295" name="Oval 14"/>
              <p:cNvSpPr/>
              <p:nvPr/>
            </p:nvSpPr>
            <p:spPr>
              <a:xfrm>
                <a:off x="3251880" y="4476600"/>
                <a:ext cx="1495080" cy="82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不变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15"/>
              <p:cNvSpPr/>
              <p:nvPr/>
            </p:nvSpPr>
            <p:spPr>
              <a:xfrm>
                <a:off x="6076440" y="3924360"/>
                <a:ext cx="1495440" cy="55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076440" y="4614840"/>
                <a:ext cx="1495440" cy="55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17"/>
              <p:cNvSpPr/>
              <p:nvPr/>
            </p:nvSpPr>
            <p:spPr>
              <a:xfrm>
                <a:off x="6076440" y="5305320"/>
                <a:ext cx="1495440" cy="55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2255040" y="3924360"/>
                <a:ext cx="996840" cy="828720"/>
                <a:chOff x="2255040" y="3924360"/>
                <a:chExt cx="996840" cy="828720"/>
              </a:xfrm>
            </p:grpSpPr>
            <p:sp>
              <p:nvSpPr>
                <p:cNvPr id="300" name="Line 18"/>
                <p:cNvSpPr/>
                <p:nvPr/>
              </p:nvSpPr>
              <p:spPr>
                <a:xfrm>
                  <a:off x="2255040" y="3924360"/>
                  <a:ext cx="996840" cy="82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 txBox="1"/>
                <p:nvPr/>
              </p:nvSpPr>
              <p:spPr>
                <a:xfrm>
                  <a:off x="2255040" y="3924360"/>
                  <a:ext cx="99684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4747320" y="4890960"/>
                <a:ext cx="1329120" cy="360"/>
                <a:chOff x="4747320" y="4890960"/>
                <a:chExt cx="1329120" cy="360"/>
              </a:xfrm>
            </p:grpSpPr>
            <p:sp>
              <p:nvSpPr>
                <p:cNvPr id="303" name="Line 19"/>
                <p:cNvSpPr/>
                <p:nvPr/>
              </p:nvSpPr>
              <p:spPr>
                <a:xfrm>
                  <a:off x="4747320" y="4891320"/>
                  <a:ext cx="132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 txBox="1"/>
                <p:nvPr/>
              </p:nvSpPr>
              <p:spPr>
                <a:xfrm rot="10800000">
                  <a:off x="4747320" y="4890960"/>
                  <a:ext cx="1329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4581000" y="5167080"/>
                <a:ext cx="1495080" cy="414360"/>
                <a:chOff x="4581000" y="5167080"/>
                <a:chExt cx="1495080" cy="414360"/>
              </a:xfrm>
            </p:grpSpPr>
            <p:sp>
              <p:nvSpPr>
                <p:cNvPr id="306" name="Line 20"/>
                <p:cNvSpPr/>
                <p:nvPr/>
              </p:nvSpPr>
              <p:spPr>
                <a:xfrm>
                  <a:off x="4581000" y="5167080"/>
                  <a:ext cx="1495080" cy="41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 txBox="1"/>
                <p:nvPr/>
              </p:nvSpPr>
              <p:spPr>
                <a:xfrm>
                  <a:off x="4581000" y="5167080"/>
                  <a:ext cx="149508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4580640" y="4200120"/>
                <a:ext cx="1495440" cy="414360"/>
                <a:chOff x="4580640" y="4200120"/>
                <a:chExt cx="1495440" cy="414360"/>
              </a:xfrm>
            </p:grpSpPr>
            <p:sp>
              <p:nvSpPr>
                <p:cNvPr id="309" name="Line 21"/>
                <p:cNvSpPr/>
                <p:nvPr/>
              </p:nvSpPr>
              <p:spPr>
                <a:xfrm flipV="1">
                  <a:off x="4581000" y="4200120"/>
                  <a:ext cx="1495080" cy="41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 txBox="1"/>
                <p:nvPr/>
              </p:nvSpPr>
              <p:spPr>
                <a:xfrm rot="10800000">
                  <a:off x="4580640" y="4200120"/>
                  <a:ext cx="149508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9852-5A42-4BE2-BA0B-8802BE705E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244E-A7F4-48EA-88B3-F07220F235D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214200" y="214200"/>
            <a:ext cx="37530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科学问题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3143160" y="1071720"/>
            <a:ext cx="2786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  <a:ea typeface="宋体"/>
              </a:rPr>
              <a:t>给动物分类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  <a:ea typeface="宋体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2"/>
          <p:cNvGrpSpPr/>
          <p:nvPr/>
        </p:nvGrpSpPr>
        <p:grpSpPr>
          <a:xfrm>
            <a:off x="928800" y="1714680"/>
            <a:ext cx="6643440" cy="4142880"/>
            <a:chOff x="928800" y="1714680"/>
            <a:chExt cx="6643440" cy="4142880"/>
          </a:xfrm>
        </p:grpSpPr>
        <p:grpSp>
          <p:nvGrpSpPr>
            <p:cNvPr id="319" name="Group 3"/>
            <p:cNvGrpSpPr/>
            <p:nvPr/>
          </p:nvGrpSpPr>
          <p:grpSpPr>
            <a:xfrm>
              <a:off x="928800" y="1714680"/>
              <a:ext cx="6643440" cy="2347560"/>
              <a:chOff x="928800" y="1714680"/>
              <a:chExt cx="6643440" cy="2347560"/>
            </a:xfrm>
          </p:grpSpPr>
          <p:sp>
            <p:nvSpPr>
              <p:cNvPr id="320" name="Oval 4"/>
              <p:cNvSpPr/>
              <p:nvPr/>
            </p:nvSpPr>
            <p:spPr>
              <a:xfrm>
                <a:off x="928800" y="3233880"/>
                <a:ext cx="1495440" cy="82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5"/>
              <p:cNvSpPr/>
              <p:nvPr/>
            </p:nvSpPr>
            <p:spPr>
              <a:xfrm>
                <a:off x="2786040" y="2266920"/>
                <a:ext cx="2071080" cy="828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从卵孵化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而来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6"/>
              <p:cNvSpPr/>
              <p:nvPr/>
            </p:nvSpPr>
            <p:spPr>
              <a:xfrm>
                <a:off x="6076800" y="2405160"/>
                <a:ext cx="1495440" cy="55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7"/>
              <p:cNvSpPr/>
              <p:nvPr/>
            </p:nvSpPr>
            <p:spPr>
              <a:xfrm>
                <a:off x="6076800" y="1714680"/>
                <a:ext cx="1495440" cy="55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8"/>
              <p:cNvSpPr/>
              <p:nvPr/>
            </p:nvSpPr>
            <p:spPr>
              <a:xfrm>
                <a:off x="6076800" y="3233880"/>
                <a:ext cx="1495440" cy="55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2285640" y="2928960"/>
                <a:ext cx="714240" cy="500040"/>
                <a:chOff x="2285640" y="2928960"/>
                <a:chExt cx="714240" cy="500040"/>
              </a:xfrm>
            </p:grpSpPr>
            <p:sp>
              <p:nvSpPr>
                <p:cNvPr id="326" name="Line 9"/>
                <p:cNvSpPr/>
                <p:nvPr/>
              </p:nvSpPr>
              <p:spPr>
                <a:xfrm flipV="1">
                  <a:off x="2285640" y="2928960"/>
                  <a:ext cx="714240" cy="50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 txBox="1"/>
                <p:nvPr/>
              </p:nvSpPr>
              <p:spPr>
                <a:xfrm rot="10800000">
                  <a:off x="2285640" y="2928960"/>
                  <a:ext cx="714240" cy="50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4747320" y="2680920"/>
                <a:ext cx="1329120" cy="360"/>
                <a:chOff x="4747320" y="2680920"/>
                <a:chExt cx="1329120" cy="360"/>
              </a:xfrm>
            </p:grpSpPr>
            <p:sp>
              <p:nvSpPr>
                <p:cNvPr id="329" name="Line 10"/>
                <p:cNvSpPr/>
                <p:nvPr/>
              </p:nvSpPr>
              <p:spPr>
                <a:xfrm>
                  <a:off x="4747320" y="2681280"/>
                  <a:ext cx="132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 txBox="1"/>
                <p:nvPr/>
              </p:nvSpPr>
              <p:spPr>
                <a:xfrm rot="10800000">
                  <a:off x="4747320" y="2680920"/>
                  <a:ext cx="1329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4581360" y="2957760"/>
                <a:ext cx="1495080" cy="552240"/>
                <a:chOff x="4581360" y="2957760"/>
                <a:chExt cx="1495080" cy="552240"/>
              </a:xfrm>
            </p:grpSpPr>
            <p:sp>
              <p:nvSpPr>
                <p:cNvPr id="332" name="Line 11"/>
                <p:cNvSpPr/>
                <p:nvPr/>
              </p:nvSpPr>
              <p:spPr>
                <a:xfrm>
                  <a:off x="4581360" y="2957760"/>
                  <a:ext cx="1495080" cy="55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 txBox="1"/>
                <p:nvPr/>
              </p:nvSpPr>
              <p:spPr>
                <a:xfrm>
                  <a:off x="4581360" y="2957760"/>
                  <a:ext cx="1495080" cy="55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581000" y="1990440"/>
                <a:ext cx="1495440" cy="414360"/>
                <a:chOff x="4581000" y="1990440"/>
                <a:chExt cx="1495440" cy="414360"/>
              </a:xfrm>
            </p:grpSpPr>
            <p:sp>
              <p:nvSpPr>
                <p:cNvPr id="335" name="Line 12"/>
                <p:cNvSpPr/>
                <p:nvPr/>
              </p:nvSpPr>
              <p:spPr>
                <a:xfrm flipV="1">
                  <a:off x="4581360" y="1990440"/>
                  <a:ext cx="1495080" cy="41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 txBox="1"/>
                <p:nvPr/>
              </p:nvSpPr>
              <p:spPr>
                <a:xfrm rot="10800000">
                  <a:off x="4581000" y="1990440"/>
                  <a:ext cx="149508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7" name="Group 13"/>
            <p:cNvGrpSpPr/>
            <p:nvPr/>
          </p:nvGrpSpPr>
          <p:grpSpPr>
            <a:xfrm>
              <a:off x="2255040" y="3924360"/>
              <a:ext cx="5316840" cy="1933200"/>
              <a:chOff x="2255040" y="3924360"/>
              <a:chExt cx="5316840" cy="1933200"/>
            </a:xfrm>
          </p:grpSpPr>
          <p:sp>
            <p:nvSpPr>
              <p:cNvPr id="338" name="Oval 14"/>
              <p:cNvSpPr/>
              <p:nvPr/>
            </p:nvSpPr>
            <p:spPr>
              <a:xfrm>
                <a:off x="2571480" y="4476600"/>
                <a:ext cx="2175480" cy="82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由母亲直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生下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15"/>
              <p:cNvSpPr/>
              <p:nvPr/>
            </p:nvSpPr>
            <p:spPr>
              <a:xfrm>
                <a:off x="6076440" y="3924360"/>
                <a:ext cx="1495440" cy="55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Oval 16"/>
              <p:cNvSpPr/>
              <p:nvPr/>
            </p:nvSpPr>
            <p:spPr>
              <a:xfrm>
                <a:off x="6076440" y="4614840"/>
                <a:ext cx="1495440" cy="55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17"/>
              <p:cNvSpPr/>
              <p:nvPr/>
            </p:nvSpPr>
            <p:spPr>
              <a:xfrm>
                <a:off x="6076440" y="5305320"/>
                <a:ext cx="1495440" cy="55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2255040" y="3924360"/>
                <a:ext cx="601560" cy="648000"/>
                <a:chOff x="2255040" y="3924360"/>
                <a:chExt cx="601560" cy="648000"/>
              </a:xfrm>
            </p:grpSpPr>
            <p:sp>
              <p:nvSpPr>
                <p:cNvPr id="343" name="Line 18"/>
                <p:cNvSpPr/>
                <p:nvPr/>
              </p:nvSpPr>
              <p:spPr>
                <a:xfrm>
                  <a:off x="2255040" y="3924360"/>
                  <a:ext cx="601560" cy="64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 txBox="1"/>
                <p:nvPr/>
              </p:nvSpPr>
              <p:spPr>
                <a:xfrm>
                  <a:off x="2255040" y="3924360"/>
                  <a:ext cx="6015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747320" y="4890960"/>
                <a:ext cx="1329120" cy="360"/>
                <a:chOff x="4747320" y="4890960"/>
                <a:chExt cx="1329120" cy="360"/>
              </a:xfrm>
            </p:grpSpPr>
            <p:sp>
              <p:nvSpPr>
                <p:cNvPr id="346" name="Line 19"/>
                <p:cNvSpPr/>
                <p:nvPr/>
              </p:nvSpPr>
              <p:spPr>
                <a:xfrm>
                  <a:off x="4747320" y="4891320"/>
                  <a:ext cx="132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 txBox="1"/>
                <p:nvPr/>
              </p:nvSpPr>
              <p:spPr>
                <a:xfrm rot="10800000">
                  <a:off x="4747320" y="4890960"/>
                  <a:ext cx="1329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4581000" y="5167080"/>
                <a:ext cx="1495080" cy="414360"/>
                <a:chOff x="4581000" y="5167080"/>
                <a:chExt cx="1495080" cy="414360"/>
              </a:xfrm>
            </p:grpSpPr>
            <p:sp>
              <p:nvSpPr>
                <p:cNvPr id="349" name="Line 20"/>
                <p:cNvSpPr/>
                <p:nvPr/>
              </p:nvSpPr>
              <p:spPr>
                <a:xfrm>
                  <a:off x="4581000" y="5167080"/>
                  <a:ext cx="1495080" cy="41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 txBox="1"/>
                <p:nvPr/>
              </p:nvSpPr>
              <p:spPr>
                <a:xfrm>
                  <a:off x="4581000" y="5167080"/>
                  <a:ext cx="149508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4580640" y="4200120"/>
                <a:ext cx="1495440" cy="414360"/>
                <a:chOff x="4580640" y="4200120"/>
                <a:chExt cx="1495440" cy="414360"/>
              </a:xfrm>
            </p:grpSpPr>
            <p:sp>
              <p:nvSpPr>
                <p:cNvPr id="352" name="Line 21"/>
                <p:cNvSpPr/>
                <p:nvPr/>
              </p:nvSpPr>
              <p:spPr>
                <a:xfrm flipV="1">
                  <a:off x="4581000" y="4200120"/>
                  <a:ext cx="1495080" cy="41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 txBox="1"/>
                <p:nvPr/>
              </p:nvSpPr>
              <p:spPr>
                <a:xfrm rot="10800000">
                  <a:off x="4580640" y="4200120"/>
                  <a:ext cx="149508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4" name="矩形 24"/>
          <p:cNvSpPr/>
          <p:nvPr/>
        </p:nvSpPr>
        <p:spPr>
          <a:xfrm>
            <a:off x="1362240" y="3357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2DA8-2CF5-4BDE-AAB9-FCDBC16CAFF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2481120" y="177336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观察了解其他动物的生命周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197C-41FB-4FD4-98D7-84E30677646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蝴蝶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ABA5-17D5-44C5-BF46-16957AACDF4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青蛙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1982-1153-42FF-8E2C-E9C407C1121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1066680" y="304920"/>
            <a:ext cx="7239240" cy="10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Calibri"/>
              </a:rPr>
              <a:t>据研究，一只狗能活十几年，一只海龟能活几百年，而一只蝴蝶只能活几个月时间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990720" y="35812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990720" y="3657600"/>
            <a:ext cx="73152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那么，你知道它们从出生到死亡之间还要经历哪些生长时期呢？为什么这类动物没有因为它们的死亡而在我们地球上消失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000080" y="221472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我们发现动物的寿命有长有短，但最终都会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9FF5-EDB4-4DC2-97DA-CEAD3DA9F58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11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4766760"/>
            <a:ext cx="807696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结合生活体验，对上图青蛙的生长和发育的顺序进行填图，并且排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714240" y="357120"/>
            <a:ext cx="43196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宋体"/>
                <a:ea typeface="宋体"/>
              </a:rPr>
              <a:t>青蛙的生长和发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60948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成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286000" y="3581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受精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3434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胚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019920" y="3505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蝌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7924680" y="35193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幼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96BB-BECB-4BC8-BA16-46DA1506C4B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青蛙发育"/>
          <p:cNvPicPr/>
          <p:nvPr/>
        </p:nvPicPr>
        <p:blipFill>
          <a:blip r:embed="rId1"/>
          <a:stretch/>
        </p:blipFill>
        <p:spPr>
          <a:xfrm>
            <a:off x="685800" y="184320"/>
            <a:ext cx="7696080" cy="542124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sp>
        <p:nvSpPr>
          <p:cNvPr id="185" name="Text Box 3"/>
          <p:cNvSpPr/>
          <p:nvPr/>
        </p:nvSpPr>
        <p:spPr>
          <a:xfrm>
            <a:off x="4786200" y="6278400"/>
            <a:ext cx="12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成 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4"/>
          <p:cNvGrpSpPr/>
          <p:nvPr/>
        </p:nvGrpSpPr>
        <p:grpSpPr>
          <a:xfrm>
            <a:off x="879480" y="5638680"/>
            <a:ext cx="1635120" cy="581400"/>
            <a:chOff x="879480" y="5638680"/>
            <a:chExt cx="1635120" cy="581400"/>
          </a:xfrm>
        </p:grpSpPr>
        <p:sp>
          <p:nvSpPr>
            <p:cNvPr id="187" name="Text Box 5"/>
            <p:cNvSpPr/>
            <p:nvPr/>
          </p:nvSpPr>
          <p:spPr>
            <a:xfrm>
              <a:off x="879480" y="56386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ahoma"/>
                </a:rPr>
                <a:t>受精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981080" y="5943600"/>
              <a:ext cx="533520" cy="360"/>
              <a:chOff x="1981080" y="5943600"/>
              <a:chExt cx="533520" cy="360"/>
            </a:xfrm>
          </p:grpSpPr>
          <p:sp>
            <p:nvSpPr>
              <p:cNvPr id="189" name="Line 6"/>
              <p:cNvSpPr/>
              <p:nvPr/>
            </p:nvSpPr>
            <p:spPr>
              <a:xfrm>
                <a:off x="1981080" y="59436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>
                <a:off x="1981080" y="59436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Group 7"/>
          <p:cNvGrpSpPr/>
          <p:nvPr/>
        </p:nvGrpSpPr>
        <p:grpSpPr>
          <a:xfrm>
            <a:off x="2514600" y="5638680"/>
            <a:ext cx="1600200" cy="581400"/>
            <a:chOff x="2514600" y="5638680"/>
            <a:chExt cx="1600200" cy="581400"/>
          </a:xfrm>
        </p:grpSpPr>
        <p:sp>
          <p:nvSpPr>
            <p:cNvPr id="192" name="Text Box 8"/>
            <p:cNvSpPr/>
            <p:nvPr/>
          </p:nvSpPr>
          <p:spPr>
            <a:xfrm>
              <a:off x="2514600" y="563868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Calibri"/>
                </a:rPr>
                <a:t>胚 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3581280" y="5943600"/>
              <a:ext cx="533520" cy="360"/>
              <a:chOff x="3581280" y="5943600"/>
              <a:chExt cx="533520" cy="360"/>
            </a:xfrm>
          </p:grpSpPr>
          <p:sp>
            <p:nvSpPr>
              <p:cNvPr id="194" name="Line 9"/>
              <p:cNvSpPr/>
              <p:nvPr/>
            </p:nvSpPr>
            <p:spPr>
              <a:xfrm>
                <a:off x="3581280" y="59436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>
                <a:off x="3581280" y="59436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Group 10"/>
          <p:cNvGrpSpPr/>
          <p:nvPr/>
        </p:nvGrpSpPr>
        <p:grpSpPr>
          <a:xfrm>
            <a:off x="4168440" y="5661000"/>
            <a:ext cx="1437120" cy="581400"/>
            <a:chOff x="4168440" y="5661000"/>
            <a:chExt cx="1437120" cy="581400"/>
          </a:xfrm>
        </p:grpSpPr>
        <p:sp>
          <p:nvSpPr>
            <p:cNvPr id="197" name="Text Box 11"/>
            <p:cNvSpPr/>
            <p:nvPr/>
          </p:nvSpPr>
          <p:spPr>
            <a:xfrm>
              <a:off x="4168440" y="5661000"/>
              <a:ext cx="77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ahoma"/>
                </a:rPr>
                <a:t>蝌 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072040" y="5965920"/>
              <a:ext cx="533520" cy="360"/>
              <a:chOff x="5072040" y="5965920"/>
              <a:chExt cx="533520" cy="360"/>
            </a:xfrm>
          </p:grpSpPr>
          <p:sp>
            <p:nvSpPr>
              <p:cNvPr id="199" name="Line 12"/>
              <p:cNvSpPr/>
              <p:nvPr/>
            </p:nvSpPr>
            <p:spPr>
              <a:xfrm>
                <a:off x="5072040" y="59659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5072040" y="596592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Text Box 14"/>
          <p:cNvSpPr/>
          <p:nvPr/>
        </p:nvSpPr>
        <p:spPr>
          <a:xfrm>
            <a:off x="5963760" y="5715000"/>
            <a:ext cx="77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幼 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直接箭头连接符 16"/>
          <p:cNvCxnSpPr/>
          <p:nvPr/>
        </p:nvCxnSpPr>
        <p:spPr>
          <a:xfrm flipH="1">
            <a:off x="6357600" y="6216120"/>
            <a:ext cx="2160" cy="429480"/>
          </a:xfrm>
          <a:prstGeom prst="straightConnector1">
            <a:avLst/>
          </a:prstGeom>
          <a:ln w="9360">
            <a:solidFill>
              <a:srgbClr val="b6dcdf"/>
            </a:solidFill>
            <a:round/>
            <a:tailEnd len="med" type="arrow" w="med"/>
          </a:ln>
        </p:spPr>
      </p:cxnSp>
    </p:spTree>
  </p:cSld>
  <p:transition spd="med"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B8B7-2463-4210-9D5C-1B0961078D3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2214720" y="642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</a:rPr>
              <a:t>蝌蚪和成蛙特征比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57120" y="2286000"/>
          <a:ext cx="8153280" cy="198108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1676520"/>
                <a:gridCol w="1828800"/>
                <a:gridCol w="1676160"/>
              </a:tblGrid>
              <a:tr h="685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活环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运动器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运动方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呼吸器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0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蝌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成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和皮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206" name="Text Box 245"/>
          <p:cNvSpPr/>
          <p:nvPr/>
        </p:nvSpPr>
        <p:spPr>
          <a:xfrm>
            <a:off x="2033640" y="3048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Calibri"/>
              </a:rPr>
              <a:t>水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6"/>
          <p:cNvSpPr/>
          <p:nvPr/>
        </p:nvSpPr>
        <p:spPr>
          <a:xfrm>
            <a:off x="1690560" y="3629160"/>
            <a:ext cx="18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Calibri"/>
              </a:rPr>
              <a:t>水陆两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7"/>
          <p:cNvSpPr/>
          <p:nvPr/>
        </p:nvSpPr>
        <p:spPr>
          <a:xfrm>
            <a:off x="3938760" y="3048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Calibri"/>
              </a:rPr>
              <a:t>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48"/>
          <p:cNvSpPr/>
          <p:nvPr/>
        </p:nvSpPr>
        <p:spPr>
          <a:xfrm>
            <a:off x="3786120" y="3657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Calibri"/>
              </a:rPr>
              <a:t>四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49"/>
          <p:cNvSpPr/>
          <p:nvPr/>
        </p:nvSpPr>
        <p:spPr>
          <a:xfrm>
            <a:off x="5538960" y="30481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Calibri"/>
              </a:rPr>
              <a:t>游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50"/>
          <p:cNvSpPr/>
          <p:nvPr/>
        </p:nvSpPr>
        <p:spPr>
          <a:xfrm>
            <a:off x="5119560" y="3629160"/>
            <a:ext cx="16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Calibri"/>
              </a:rPr>
              <a:t>跳跃游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B199-90CD-423C-94D3-51C8DE70A68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2"/>
          <p:cNvPicPr/>
          <p:nvPr/>
        </p:nvPicPr>
        <p:blipFill>
          <a:blip r:embed="rId1"/>
          <a:stretch/>
        </p:blipFill>
        <p:spPr>
          <a:xfrm>
            <a:off x="1143000" y="990720"/>
            <a:ext cx="7086600" cy="4168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"/>
          <p:cNvSpPr/>
          <p:nvPr/>
        </p:nvSpPr>
        <p:spPr>
          <a:xfrm>
            <a:off x="928800" y="285840"/>
            <a:ext cx="4319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宋体"/>
                <a:ea typeface="宋体"/>
              </a:rPr>
              <a:t>蝗虫的生长和发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1523880" y="5295960"/>
            <a:ext cx="619200" cy="7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卵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solidFill>
                <a:srgbClr val="c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7" name="WordArt 5"/>
          <p:cNvSpPr txBox="1"/>
          <p:nvPr/>
        </p:nvSpPr>
        <p:spPr>
          <a:xfrm rot="21577200">
            <a:off x="3504960" y="5295960"/>
            <a:ext cx="923760" cy="8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若虫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solidFill>
                <a:srgbClr val="c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8" name="WordArt 6"/>
          <p:cNvSpPr txBox="1"/>
          <p:nvPr/>
        </p:nvSpPr>
        <p:spPr>
          <a:xfrm>
            <a:off x="5867280" y="5219640"/>
            <a:ext cx="91944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成虫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solidFill>
                <a:srgbClr val="c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2286000" y="563868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4648320" y="563868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0:27:1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46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