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911-4888-4BB2-B7C5-286F7DCC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5BD-B2B7-4FAD-A980-DACADE06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251-D8D5-43CE-AC71-BE9756CA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BF0-EFB0-4E0A-818D-40655E4C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86D8-126E-45A9-97A5-871F2BDB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CF39-698D-40AD-A090-E3A0419A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18CA-5E49-4DC1-AD1D-69C27189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D59A-7954-43B3-8AC4-AEF89E71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B8F6-3FED-4EF4-8172-CDF5D2A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CB52-FCA7-46B1-B111-57D7C36C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BEC2-B6E6-45B8-BC1B-81D77FA7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D97-DB37-44FA-8FA9-BFC35684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2AF4-7E0B-421C-9C12-541A06CE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2ABD-4734-451E-A174-5EA40576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D054-975E-4E75-B4A7-83996710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5850-83FB-4A54-AB36-2EEB5D21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D738-961A-4D33-B17A-1F62CFAA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42E-0F5E-442F-8D17-DC4AB57C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38D-4334-4EF2-97A6-8C004277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EA8-650F-4522-AEB3-28ECC074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111-97D1-4E25-A948-0471D8F6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353-441B-45C4-828A-7DC216C0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726-7BBB-4A5E-B1B7-6C2FB985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728-DEEC-42C3-B232-235F800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A099-CE5A-4FE8-841A-83169343C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B63F-F387-4589-A2BC-24A23708E2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洪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838080" y="12952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桥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533520"/>
            <a:ext cx="914400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</a:rPr>
              <a:t>　　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老汉突然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冲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上前，从队伍里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揪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出一个小伙子，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</a:rPr>
              <a:t>吼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道：“你还算个党员吗？排到后面去！”老汉凶得像只豹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5"/>
          <p:cNvSpPr/>
          <p:nvPr/>
        </p:nvSpPr>
        <p:spPr>
          <a:xfrm>
            <a:off x="1219320" y="64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200705062335219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8199"/>
          <p:cNvSpPr/>
          <p:nvPr/>
        </p:nvSpPr>
        <p:spPr>
          <a:xfrm>
            <a:off x="2438280" y="3581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0" y="914400"/>
            <a:ext cx="9144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zh-CN" sz="8000" spc="-1" strike="noStrike">
                <a:solidFill>
                  <a:srgbClr val="cc0099"/>
                </a:solidFill>
                <a:latin typeface="Arial"/>
              </a:rPr>
              <a:t>黎明的时候，雨突然大了。像泼。像倒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0099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167652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山洪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咆哮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着，像一群受惊的野马，从山谷里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狂奔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而来，势不可当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304920"/>
            <a:ext cx="91440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近一米高的洪水已经在路面上</a:t>
            </a:r>
            <a:r>
              <a:rPr b="0" lang="zh-CN" sz="5400" spc="-1" strike="noStrike">
                <a:solidFill>
                  <a:srgbClr val="ff00ff"/>
                </a:solidFill>
                <a:latin typeface="Arial"/>
              </a:rPr>
              <a:t>跳舞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死亡在洪水的</a:t>
            </a:r>
            <a:r>
              <a:rPr b="0" lang="zh-CN" sz="5400" spc="-1" strike="noStrike">
                <a:solidFill>
                  <a:srgbClr val="ff00ff"/>
                </a:solidFill>
                <a:latin typeface="Arial"/>
              </a:rPr>
              <a:t>狞笑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声中逼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水渐渐窜上来，</a:t>
            </a:r>
            <a:r>
              <a:rPr b="0" lang="zh-CN" sz="5400" spc="-1" strike="noStrike">
                <a:solidFill>
                  <a:srgbClr val="ff00ff"/>
                </a:solidFill>
                <a:latin typeface="Arial"/>
              </a:rPr>
              <a:t>放肆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地舔着人们的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CN" sz="5400" spc="-1" strike="noStrike">
                <a:solidFill>
                  <a:srgbClr val="ff00ff"/>
                </a:solidFill>
                <a:latin typeface="Arial"/>
              </a:rPr>
              <a:t>爬上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了老汉的胸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371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老汉清瘦的脸上淌着雨水。他不说话，盯着乱哄哄的人们。他像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一座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199"/>
          <p:cNvSpPr/>
          <p:nvPr/>
        </p:nvSpPr>
        <p:spPr>
          <a:xfrm>
            <a:off x="1676520" y="4952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0" y="1295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竟没人再喊。一百多人很快排成队，依次从老汉身边奔上木桥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0" y="16002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老汉沙哑地喊话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:”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桥窄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排成一队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不要挤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党员排在后边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F495-4040-4030-A8DC-8D8059C912F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4T03:37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06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