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9.png" ContentType="image/png"/>
  <Override PartName="/ppt/media/image11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6F1-782D-48B6-9DDC-B7AC30A2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333-42C3-4D53-9CC8-1B409B9D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8765B-FFC1-4031-846B-D2EA0EB0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4C03F-2916-48E2-B02A-ADF9EE25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E1693-6707-4542-853A-486405CC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40AAF-2B36-4BDA-A4B8-3E0AA40E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9CCE3-65E6-4C0A-AEF2-08BE0D5E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3BD95-3368-488B-8433-ED878FD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E793B-2E9D-4BAC-B06C-082B34F5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D1904-30A8-44E2-899C-057A52ED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05C37-F656-47E8-8A0B-F970707F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DAA70-879D-4290-BE80-21193A33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F3B-7010-4F85-B38B-0AB94E1C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B55A8-3439-4AE3-A606-DCDB3440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1CC4E-BC99-44B7-B4D2-0D86D2FF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577CE-63B4-42AB-BBE7-A70B7A85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3D208-23EF-4A6B-A1DA-E72C28DB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36158-B5C1-49B0-B557-A56451F7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BC39E-564B-44BF-881B-B04115CE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8310B-DEB9-48F3-8646-E2526FC4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DB5F9-A84C-45A5-BCA2-8D7E63D9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73655-2E93-4DD7-B97C-D1332C26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3D341-B43C-402A-8A6F-13E4408D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EBB-5661-41AC-9377-2F6FD8AE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6AF55-7ACB-4B0A-AB72-E40D080A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3B218-1CBC-4EED-BAAF-BEE1C63E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4D567-E128-4D91-9467-18909203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62527-DCE8-48F2-8C1B-193239E6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187DB-B984-40E2-B6F4-3FCBBC00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C1BBF-435D-4982-9E83-07ECF51B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FEC21-77F1-4D0B-B0B6-DAF53DB3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078F5-C393-4E6D-9888-3AA6FD4D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1C99C-6A7A-4A7F-BFA7-09B7266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44BC4-6766-4991-A6AD-3EA5D331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27E7A-61ED-4171-871A-839BBCE1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3FD8E-93A2-417B-A36F-7F932A21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3902B-05FA-4CD7-9758-75F564A3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23523-5D98-47A2-8A24-CE03CA18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89C34-DD76-4818-876F-2078C421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EB3D5-BE7F-4401-9521-1BCC7ABF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3F13A-4D78-4831-87CD-FE8DF9B5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F4975-4F80-4B5D-9F7A-02F2BE36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1BB3C-4473-4485-AF1F-9CC541CE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DE659-7BD3-432E-B39A-0DF18222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A32E1-9381-4AC4-821F-2C5214F6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BE03B-8BE4-45E3-94A8-2D859D1F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1BB68-C080-481F-95F5-4629F842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B5885-66C7-4CC6-B9F9-81F7DEA2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60FD6-BEDB-4BD7-A1C5-E690B9B4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4EB27-735D-4C7C-ACB2-9DBCD765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CC3F2-0A80-4F96-9E27-23149384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E5BD6-E2B1-499D-BA50-BED2FB0B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930F1-C216-4B2A-A2C0-70E2EA0A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029AC-7C2F-4B80-8E39-E5B8C58D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5D46E-880C-4C63-8C4A-78C687BC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E2F6A-86EF-4A40-9BF0-092DAE64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08923-F44B-4539-83ED-E31C2882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DDF81-C023-4ACD-92A9-CCD1DF2D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F1B61-5680-4ED3-857D-88FED7BD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CC1CB-F132-4106-9D90-9A5364BD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3C077-D486-41EC-87FE-E2E32D1F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81199-F80B-48FA-BAE1-BF58CC8A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4CDB0-9D04-4395-B769-E0BE7262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54581-88DE-40BC-A2AE-B8AC0786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28E13-D3A1-4D93-9F2E-761EAA43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3E45A-3D19-4F14-A6D2-F0F509B0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2BFAF-CF7F-4E9F-B1B3-EDA5A8E5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7C5E3-B682-42F1-B496-A6650B40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9B2B7-BE08-46D8-AEA0-D5D4578A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D6F7E-3274-4A0B-96B3-B882D10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7312F-FCF1-4C6C-8367-A7A743D4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C9796-04C0-4EC6-9FD1-982802AC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30F7C-03A9-457E-93AB-FF4042E5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C8CB7-EEA8-4768-8532-A099A803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A9FB4-F107-4A1C-8E8E-9734BA10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64F9D-7BD6-4830-A8EA-57D3EC18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7A4CD-833C-4F1E-A6A4-C9E54F65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C0A5B-595E-4F6C-88BC-6D7A9D08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88BB7-9701-4922-AB63-74D75D2C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044CC-FEAF-45EC-BC4A-794DF6F8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FF2F3-FFDE-4197-87D0-175F1BC6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8C7A0-6DF5-4E33-B438-B4E00861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1E9E2-7EF8-488D-B10A-DDD43A19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AF5E4-DC1C-4D74-AC6B-EF744904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A8B75-845A-4A13-90F9-635BA426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F4D-3177-453F-93F6-572A5379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E689-889E-4A51-8D10-BF5F4B1E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B470-2B40-4C6D-B3B5-E4333710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1393-69BB-48CF-9FF2-D60C724F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25EC-6BB6-471A-B863-A8DBF46F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7765-1601-4E06-9258-3F5B14FD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F2F-EEB1-4F92-AA83-118D3C0C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54BA-BD61-4382-ABF6-03C38A4A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4FAC-23CB-432B-A6EA-6A123F6C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1C10-D986-4CF9-A02D-B411683E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AC9D-0EE2-45EA-AA37-250B8813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2DAB-5A18-4478-80C3-D3870EFC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32C4-3E99-4B66-85E1-3DD021BF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A824-1079-4759-B222-84301549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C89F3-1AE6-4B86-A18C-EA0C29AB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0704-728B-47A0-9AFF-6D82A8BE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9842A-2D78-409E-8586-9BC6D351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EE3-DE0C-4D22-A902-BD3AB200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38B2-D693-4487-8ACE-2758A4CB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D8D3-5733-400C-AD7A-8829A153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C24C-A4CF-440D-BBB8-14B7485E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16A8-C599-4126-98FB-30A91282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4664-44F3-4A14-96DD-A1ED91C0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16AC-C1CA-485B-AA46-67023EB2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B4E6-39C9-4C71-BDC4-A7402BD5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7AD2-327C-4EE5-9BD8-D9500F0B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CE37-8CAF-4D8F-A2B2-22C24602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915D-B05E-45C7-8EB8-F78DC709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9A7-0032-4E51-ABDB-B4BFDEBD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5653-5326-46E1-85D1-1FD7BE21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9DA77-063E-4457-BFF5-00BDE423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EC80-1C4E-42BA-883F-D2CDBE6C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883E7-67B2-4620-99CD-FD7845D6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61E65-776E-41B8-8B61-5179C9AF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68F50-7AE2-4EA0-9679-F3D6FA29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DCF6-FECC-45FF-AA28-20A244A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62F9A-9EBB-4C97-96FD-C0AEB568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A6D2-3CA0-425E-8310-7BD92E6E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79903-3993-47A7-B84A-74DAE5F0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C51-DA3A-4FBE-8AE1-9AA70EC3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47F71-4DAA-4700-B6C9-6DABAB72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A9476-8195-4D42-882F-523E5891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E422D-40FE-4119-A35B-AF9A0D6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06FDC-3C71-42B8-B951-064AFF25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4E616-7E28-4F95-84C7-02FD6AA5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390C1-91C3-4685-AB98-33D1398B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CFE07-05AB-40F5-874E-631E6C7B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8BEF4-D5F3-4392-91B6-A3213CF2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12501-25F2-437C-A5D6-63240D81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EA8C-CD6A-49DD-A78E-CFED84C0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F07-7774-4C30-A517-5BF5531F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86A52-F267-49FC-931A-D8C26003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60DA-6668-4907-BCA2-E78F5FDD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D025C-B7E8-4F3C-94A6-BB6A28EE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3B22-325F-481E-BEAD-20D0F582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92D75-C4D0-4885-AA07-740FCE0B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EB02A-7D47-4798-8B99-EDC784CE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E4651-FB90-477E-8F7C-4DDFF417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A1382-678A-4B4B-BF51-3304560F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C1F3D-41F1-479E-A005-CD499CE4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81F9B-C03F-4ED7-B989-A0FF2BDF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939-14A4-4BD9-B9FD-315CEA86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809AA-FE17-402C-81B2-7C956E44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944D2-1A73-463F-AEBD-138CF7CF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91847-66EF-43B2-983B-0AC8DC9B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0A467-3967-41DB-8724-F92998F3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425AF-2739-4BCA-A9AE-D5DB3C87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D3C9C-7829-4C40-818A-1D0BAD10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45550-BF67-48DE-AB25-A58A6414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E1CEA-3742-4723-856B-0F1774A9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688CF-F3BD-4668-A026-BCB8E273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21107-47DB-42E7-ACBB-BCA90A45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681-A898-4489-B648-A901595A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B47BB-C2D5-4F8E-8D70-F0733685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E7542-64FE-426B-A5F7-7176166C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24B45-2298-42C1-88DB-CB157775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E74D3-F3B7-4480-9808-69B2073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444D6-38CF-4632-AD57-D12921E1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9CAE2-FACE-44EA-ABB7-176DE81F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B5808-7487-465F-A362-3E2445A0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DACA2-23C1-4FE6-A0F5-52CADE03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55170-B104-48FC-979F-03EDE579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B831D-139C-491F-A4B1-6C8CE8C6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2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ED9-B79E-4F63-A7BA-BD65B4372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F9F4-6AE4-4EFA-8D77-164935777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8CE5-0225-41AA-9AA4-0C718A8A8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7E95-1D7D-4886-B2E4-BA8020FFB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C2F6-4B81-43EB-968C-3F40A22F4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7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8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9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2D52-2ED5-42A0-B608-BE09D4E1B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pic>
          <p:nvPicPr>
            <p:cNvPr id="576" name="Picture 3" descr="R02"/>
            <p:cNvPicPr/>
            <p:nvPr/>
          </p:nvPicPr>
          <p:blipFill>
            <a:blip r:embed="rId3"/>
            <a:stretch/>
          </p:blipFill>
          <p:spPr>
            <a:xfrm>
              <a:off x="1816200" y="4772160"/>
              <a:ext cx="808956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" descr="R04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26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5" descr="R01"/>
            <p:cNvPicPr/>
            <p:nvPr/>
          </p:nvPicPr>
          <p:blipFill>
            <a:blip r:embed="rId5"/>
            <a:stretch/>
          </p:blipFill>
          <p:spPr>
            <a:xfrm>
              <a:off x="330120" y="1371600"/>
              <a:ext cx="9245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2C54-DEE6-4BF9-81C8-8F7EE4FCDD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R02"/>
          <p:cNvPicPr/>
          <p:nvPr/>
        </p:nvPicPr>
        <p:blipFill>
          <a:blip r:embed="rId3"/>
          <a:stretch/>
        </p:blipFill>
        <p:spPr>
          <a:xfrm>
            <a:off x="0" y="4303800"/>
            <a:ext cx="9906120" cy="255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R04"/>
          <p:cNvPicPr/>
          <p:nvPr/>
        </p:nvPicPr>
        <p:blipFill>
          <a:blip r:embed="rId4"/>
          <a:stretch/>
        </p:blipFill>
        <p:spPr>
          <a:xfrm>
            <a:off x="660240" y="0"/>
            <a:ext cx="1827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1034-F116-46ED-9F9E-C99137B2CD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d1"/>
          <p:cNvPicPr/>
          <p:nvPr/>
        </p:nvPicPr>
        <p:blipFill>
          <a:blip r:embed="rId3"/>
          <a:stretch/>
        </p:blipFill>
        <p:spPr>
          <a:xfrm>
            <a:off x="0" y="-243000"/>
            <a:ext cx="9906120" cy="710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066B-7ED9-413C-9ABD-6990E78AB6D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FDDC-DC10-482F-92C8-7B5306F08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4C59-CD6C-4164-93E9-98FEEEC65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05AF-99AA-472B-A993-DBAD3FFDE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F832-593F-468F-9CB3-734DE8E89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6525-78C0-4E46-86A7-EEA8A7D3D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04520" y="1699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宋体"/>
                <a:ea typeface="宋体"/>
              </a:rPr>
              <a:t>热爱生命语文</a:t>
            </a:r>
            <a:r>
              <a:rPr b="0" lang="en-US" sz="4000" spc="-1" strike="noStrike">
                <a:solidFill>
                  <a:srgbClr val="ff66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66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1496880" y="407628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杰克 伦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4"/>
          <p:cNvSpPr/>
          <p:nvPr/>
        </p:nvSpPr>
        <p:spPr>
          <a:xfrm>
            <a:off x="1065240" y="7650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艰难爬行的主人公和一直尾随其后的饥饿不堪、奄奄一息的狼所面临的选择是简单而清晰的：要么战胜对方生存下去，要么被对方战胜，沦为牺牲品。主人公以他坚毅勇敢的性格和顽强不屈的生命意志，在同狼的最后搏斗中取胜，成为真正的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强者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。小说启示人们，生命是神奇而宝贵的，只有敬畏生命，热爱生命，才能让生命光芒四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 Box 4"/>
          <p:cNvSpPr/>
          <p:nvPr/>
        </p:nvSpPr>
        <p:spPr>
          <a:xfrm>
            <a:off x="992160" y="1844640"/>
            <a:ext cx="8209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  <a:ea typeface="黑体"/>
              </a:rPr>
              <a:t>文中的“狼”可以看作险恶的自然环境与自然力量的一种隐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207800" y="404280"/>
            <a:ext cx="2779560" cy="15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2b2b2"/>
                </a:solidFill>
                <a:latin typeface="Times New Roman"/>
                <a:ea typeface="华文彩云"/>
              </a:rPr>
              <a:t>思考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423800" y="1844640"/>
            <a:ext cx="76244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黑体"/>
                <a:ea typeface="黑体"/>
              </a:rPr>
              <a:t> </a:t>
            </a:r>
            <a:r>
              <a:rPr b="0" lang="zh-CN" sz="6000" spc="-1" strike="noStrike">
                <a:solidFill>
                  <a:srgbClr val="cc6600"/>
                </a:solidFill>
                <a:latin typeface="黑体"/>
                <a:ea typeface="黑体"/>
              </a:rPr>
              <a:t>这篇小说在艺术上有什么特点</a:t>
            </a:r>
            <a:r>
              <a:rPr b="0" lang="en-US" sz="6000" spc="-1" strike="noStrike">
                <a:solidFill>
                  <a:srgbClr val="cc6600"/>
                </a:solidFill>
                <a:latin typeface="黑体"/>
                <a:ea typeface="黑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874D-DFA3-4A22-B738-5A999C2C72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4"/>
          <p:cNvSpPr/>
          <p:nvPr/>
        </p:nvSpPr>
        <p:spPr>
          <a:xfrm>
            <a:off x="1136520" y="665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  <a:ea typeface="黑体"/>
              </a:rPr>
              <a:t>一。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黑体"/>
              </a:rPr>
              <a:t>故事情节的传奇性与具体细节的逼真性的高度统一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1136520" y="1935000"/>
            <a:ext cx="82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黑体"/>
              </a:rPr>
              <a:t>二。准确地摹拟了主人公在特定境遇中的心理感受与意识活．非常逼真地展示了一个疲惫、衰弱的人在荒原上的艰难求生过程，其“真实性”可谓达到了无以复加的程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矩形 4"/>
          <p:cNvSpPr/>
          <p:nvPr/>
        </p:nvSpPr>
        <p:spPr>
          <a:xfrm>
            <a:off x="2073240" y="220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Picture 3" descr=""/>
          <p:cNvPicPr/>
          <p:nvPr/>
        </p:nvPicPr>
        <p:blipFill>
          <a:blip r:embed="rId1"/>
          <a:stretch/>
        </p:blipFill>
        <p:spPr>
          <a:xfrm>
            <a:off x="920880" y="836640"/>
            <a:ext cx="2806560" cy="403236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4"/>
          <p:cNvSpPr/>
          <p:nvPr/>
        </p:nvSpPr>
        <p:spPr>
          <a:xfrm>
            <a:off x="3800520" y="765000"/>
            <a:ext cx="509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Arial"/>
                <a:ea typeface="宋体"/>
              </a:rPr>
              <a:t>伦敦，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宋体"/>
              </a:rPr>
              <a:t>J</a:t>
            </a:r>
            <a:r>
              <a:rPr b="1" lang="zh-CN" sz="2000" spc="-1" strike="noStrike">
                <a:solidFill>
                  <a:srgbClr val="cc6600"/>
                </a:solidFill>
                <a:latin typeface="Arial"/>
                <a:ea typeface="宋体"/>
              </a:rPr>
              <a:t>．（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宋体"/>
              </a:rPr>
              <a:t>1876</a:t>
            </a:r>
            <a:r>
              <a:rPr b="1" lang="zh-CN" sz="2000" spc="-1" strike="noStrike">
                <a:solidFill>
                  <a:srgbClr val="cc66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宋体"/>
              </a:rPr>
              <a:t>1916</a:t>
            </a:r>
            <a:r>
              <a:rPr b="1" lang="zh-CN" sz="2000" spc="-1" strike="noStrike">
                <a:solidFill>
                  <a:srgbClr val="cc6600"/>
                </a:solidFill>
                <a:latin typeface="Arial"/>
                <a:ea typeface="宋体"/>
              </a:rPr>
              <a:t>）美国小说家，生于加利福尼亚旧金山一个破产农民家庭。他从幼年起就不得不出卖体力养活自己。他当过牧童、报童、童工、工 人、水手。他还参加过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宋体"/>
              </a:rPr>
              <a:t>1893</a:t>
            </a:r>
            <a:r>
              <a:rPr b="1" lang="zh-CN" sz="2000" spc="-1" strike="noStrike">
                <a:solidFill>
                  <a:srgbClr val="cc6600"/>
                </a:solidFill>
                <a:latin typeface="Arial"/>
                <a:ea typeface="宋体"/>
              </a:rPr>
              <a:t>年大恐慌中失业大军组成的抗议队伍，以流浪罪被捕入狱，罚做苦工几个月。出狱后，他一边拼命干活，一边刻苦学习，广泛涉猎达 尔文、斯宾塞、尼采和马克思等人的著作。他曾考进加利福尼亚大学，一年后辍学。后来受了阿拉斯加淘金热的影响，加入了淘金者的行列，却因病空手而归，但带 回了北方故事的丰富素材。从此，他埋头写作，成为“出卖脑力劳动”的职业作家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4"/>
          <p:cNvSpPr/>
          <p:nvPr/>
        </p:nvSpPr>
        <p:spPr>
          <a:xfrm>
            <a:off x="920880" y="549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杰克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伦敦从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0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起连续发表了许多短篇小说，通称为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北方故事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，是他的成名之作。描写英国伦敦贫民窟和工人的悲惨生活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深渊中的人们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3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自传体小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马丁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伊登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9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政治幻想小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铁蹄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8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等许多中长篇小说和散文集，深刻地揭露资本主义社会的弊端和罪 恶，有力地控诉资产阶级对劳动人民的剥削，公开号召用阶级斗争和武装革命推翻资本主义制度。 杰克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伦敦在不长的十几年创作生涯中共写了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部长篇小说，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50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多篇中短篇小说和大量文学报告集、散文集和论文。其中比较优秀的还有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荒野的呼唤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i903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白牙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6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天大亮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10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谷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13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黑西哥人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13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，和受到列宁赞赏的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热爱生命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6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4"/>
          <p:cNvSpPr/>
          <p:nvPr/>
        </p:nvSpPr>
        <p:spPr>
          <a:xfrm>
            <a:off x="849240" y="76500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黑体"/>
              </a:rPr>
              <a:t>热爱生命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黑体"/>
              </a:rPr>
              <a:t>讲述的是这样一个故事：一个美国西部的淘金者在返回的途中被朋友抛弃了，他独自跋涉在广袤的荒原上。冬天逼近了，寒风夹着雪花向他袭来，他已经没有一点食物了，而且他的腿受了伤，鞋子破了，脚在流血。他只能歪歪斜斜地蹒跚在布满沼泽、丘陵、小溪的荒原上，非常艰难地前行着。就在他的身体非常虚弱的时候，他遇到了一匹病狼。他发现这匹病狼跟在他的身后。舔着他的血迹尾随着他。就这样，两个濒临死亡的生灵拖着垂死的躯壳在荒原上互相猎取对方。为了活着回去、为了战胜这匹令他作呕的病狼．最终在人与狼的战斗中人获得了胜利，他咬死了狼，喝了狼的血。最终他获救了，使生命放射出耀眼的光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 Box 4"/>
          <p:cNvSpPr/>
          <p:nvPr/>
        </p:nvSpPr>
        <p:spPr>
          <a:xfrm>
            <a:off x="1208160" y="907920"/>
            <a:ext cx="7113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巉岩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ch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á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n)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：高而险的山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踉跄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li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à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ng qi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à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ng)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：走路不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辗转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zhǎn  zhuǎn)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：①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身体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翻来覆去。②经过许多人的手或经过许多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奄奄一息：形容气息微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吹毛求疵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cī)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：故意挑毛病，找差错。疵，缺点、毛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骸骨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h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á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i)    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鲦鱼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ti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á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o)    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窒息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zh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ì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4"/>
          <p:cNvSpPr/>
          <p:nvPr/>
        </p:nvSpPr>
        <p:spPr>
          <a:xfrm>
            <a:off x="992160" y="11970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自由诵读全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小说的主人公在茫茫荒原上面临着哪些生死考验</a:t>
            </a:r>
            <a:r>
              <a:rPr b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?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他为什么能超越极限、战胜病狼而顽强地生存下来</a:t>
            </a:r>
            <a:r>
              <a:rPr b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8198"/>
          <p:cNvSpPr/>
          <p:nvPr/>
        </p:nvSpPr>
        <p:spPr>
          <a:xfrm>
            <a:off x="1209600" y="1917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352160" y="475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Times New Roman"/>
              </a:rPr>
              <a:t>生死考验有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704880" y="1700280"/>
            <a:ext cx="89280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饥饿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恶劣的天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接下来是几天可怕的雨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人体力的极度虚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伤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野兽的威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地方的狼很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4"/>
          <p:cNvSpPr/>
          <p:nvPr/>
        </p:nvSpPr>
        <p:spPr>
          <a:xfrm>
            <a:off x="1568520" y="144144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黑体"/>
                <a:ea typeface="黑体"/>
              </a:rPr>
              <a:t>坚韧顽强，不畏艰难险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WordArt 5"/>
          <p:cNvSpPr txBox="1"/>
          <p:nvPr/>
        </p:nvSpPr>
        <p:spPr>
          <a:xfrm>
            <a:off x="2144880" y="3141720"/>
            <a:ext cx="5516280" cy="20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3366ff"/>
                </a:solidFill>
                <a:latin typeface="宋体"/>
              </a:rPr>
              <a:t>硬汉精神</a:t>
            </a:r>
            <a:endParaRPr b="0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792520" y="404280"/>
            <a:ext cx="386064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华文彩云"/>
              </a:rPr>
              <a:t>探究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775800" y="1699920"/>
            <a:ext cx="8334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黑体"/>
                <a:ea typeface="黑体"/>
              </a:rPr>
              <a:t>小说的象征意味非常浓厚，这是西方许多文学作品的艺术特点。请揣摩文中显著的象征物</a:t>
            </a: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cc6600"/>
                </a:solidFill>
                <a:latin typeface="黑体"/>
                <a:ea typeface="黑体"/>
              </a:rPr>
              <a:t>狼</a:t>
            </a: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cc6600"/>
                </a:solidFill>
                <a:latin typeface="黑体"/>
                <a:ea typeface="黑体"/>
              </a:rPr>
              <a:t>的隐喻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5:50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0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_TemplateID">
    <vt:lpwstr>TC011962432052</vt:lpwstr>
  </property>
</Properties>
</file>