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20.png" ContentType="image/png"/>
  <Override PartName="/ppt/media/image7.jpeg" ContentType="image/jpeg"/>
  <Override PartName="/ppt/media/camera.wav" ContentType="audio/x-wav"/>
  <Override PartName="/ppt/media/image2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27.gif" ContentType="image/gif"/>
  <Override PartName="/ppt/media/image1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2.jpeg" ContentType="image/jpeg"/>
  <Override PartName="/ppt/media/cashreg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92B-C4DF-4B4B-A54A-7C31B26A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FF3-9D45-4164-B734-CA7C66B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4A7BC-2198-4F4D-BDE1-9D18A9AB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6AC4-53D1-4602-B1F4-7E16224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F5E5C-1E9A-4940-9757-6150CA3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3860-B075-4726-9987-6A9B052D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0B72C-0F14-41ED-9911-B217579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FE9C3-5DE6-479F-A7CF-4198974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7926-4833-4ADD-9A77-1AFEB72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B295-E065-4535-BD27-4515A569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946E9-80F3-4F4C-9DBE-2E6D7939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C458-5926-42B5-86A4-2594BBCE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14B-9F04-4EF1-AFB1-A6FC7850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D7FAA-2715-42F7-8E6D-DE59C3C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516CF-F19E-4FC2-A03E-D8F16345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D62A0-C166-453B-BD7D-F00C460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03DB-A218-45E3-95D1-C4E3400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1D50C-2BCF-4CB2-AB74-712794F2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7E19E-78D0-4F1A-8210-70B41AD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563F4-82F9-4C57-A3FD-E2AD587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6D88E-F760-4E30-9683-69F8B3E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5993A-8E54-4324-AD18-23D1E503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1A072-9735-46AC-B1C1-06BCFFE3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452-1048-47B1-882F-0EE1ABB1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36025-FE15-4951-84F9-4834A1DA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38B0-12EF-4B60-A1EB-C5BA8CE9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6F62A-A1B1-4910-87DD-1DA931B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3A9A9-F164-4516-A585-FDA9113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E0A63-175F-4D6A-B3A2-F60DC64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25333-0666-4F7E-8A49-61C402E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E6DD-CF24-4D95-9BD6-DB36664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672EF-BBEE-40BF-A0D1-FE9BE17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632CB-E0C6-4395-91DD-B2863F5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4256D-43CC-4BC0-8E52-9CDA17D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F1A4-5851-432C-84F0-F21230E8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C493-36A2-4E71-8D98-554F470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145E-E410-4C0F-9619-D091EC26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0A0A7-EE8A-4AD2-B082-EAB12FE3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F885D-4ECA-4497-87D3-4DA3623F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4DAD3-A9CB-448A-84D7-06AD12E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97CC4-6D39-4C35-91D6-0E274A8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5953-9179-4184-8BE8-94DFE903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1B02E-C511-40D9-9738-C651699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479DC-3F5A-4914-B785-7A494DE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07EC-EB73-41E2-8070-08B69B7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8978-BA59-4C9A-8747-AEA04C1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67B55-CB64-4D54-B771-E4FDD79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3DBCB-63AF-4789-BB7E-44756D2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94E6B-E455-4EF6-B3B1-36E949B5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C1C94-15B4-4633-BD21-4A28DCFA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230EC-89E7-4598-BF73-9A4D9B5D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CBD83-8D20-4A86-8BCE-2CD4C096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A1EC2-8D1B-4021-B4FE-4E4F0181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1F518-0451-4E00-AB7E-8371807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6171E-E3A0-4B3D-A1E0-194FF75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41208-6A4F-46EB-A950-F5FD8E0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B32-5DFA-4CB9-A831-353328D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8E11E-28B7-44CD-8F96-DC61A013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08F4C-8E9C-49E5-8328-5E2F341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0C706-C9B8-4A90-BFDC-4199571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48282-8713-4FE9-820E-0785E255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08E9E-78D1-49DB-8B8B-A6390704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207B8-D8D7-4D0B-B411-48382DB9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1B066-7B3E-4819-8F60-6350AE18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F62-8C05-48F3-9970-80CF4FF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74B3-87C0-4E1F-B425-CA878FB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A4D7-4FA9-4A5D-AFE8-FC21DF4E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1FC-E950-4223-B0EA-B757AB9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63D-3E18-4834-B110-5140BA6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56B3-9C9F-460F-B509-E3A7FEF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F39-4DC8-47E5-AE3E-00BDD42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57B9-E0B9-429A-9D72-8F304F4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F1BD-1207-4C60-85C1-784B87C5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072-7C2B-4399-9C05-D0E9905E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1A76-AE36-4C9A-AA0D-FC77966C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5382-1328-46A0-A90F-B51FB8C1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52F1-F925-423B-B947-BBF2C196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DBBA-B0B8-4026-909B-12ED32C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8883-6B17-481D-8890-A203070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5D7-4EE4-43C8-9AD1-DA36F64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705B-80CB-494E-A578-28F74E56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B157-B246-4D72-AD4D-68A0AD6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722D-0D61-482F-A46E-B91C86A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4435-5D7D-4B3D-B65F-C6F5041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C25D-0630-46D8-A78F-2204A069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60CC-CD7C-422D-8D49-C96DD10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CBAE-9729-498E-8B6E-31D11247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D84A-E22A-44E5-A63D-2AD4903C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2326-2928-442C-87A1-B0787E6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1F2F-1B6A-4F53-9DEB-19E2D77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7EA-6D74-415C-B1C8-412065C3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3E0F-7C5A-4DF1-BD4F-DB22E723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9962-62F7-4905-A11E-00F1E8DF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7126-91F2-471A-A36B-157E0300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1FDF-D9FB-4943-BE4B-5AEBE27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FA02-7947-43CE-87E4-0A7C211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C8E0-59BC-4B14-8A39-12CC142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661D-4665-475B-9414-DE3F772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DE46-80A0-434D-85D4-33CEC6D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49ED-DBF3-484C-978E-A32B572F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41AF-97A9-48BE-A11F-AD93D7DB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593-2F60-4755-8ADA-4077F8D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7195-BEF3-410A-8EBC-E777B02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9627-B796-4D23-B555-43CF5CB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1034-8FEA-4A05-ADC4-1717D00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DD6C-8FAE-497D-B035-66A1277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B878-7675-4A35-9FF1-8489567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FA79-31D1-4AD7-BD6C-C8BCE11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7333-9AD2-4DAF-B2A3-31BAB3CB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C69B5-6A4E-415F-A5A1-06CA8E2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6F95-4D95-403F-9D86-0953A0D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C2D3-A1DD-4589-8D13-B6A032CD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50B-9455-453B-A89A-F6CD9DDD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625E-35C6-4754-852F-539CB916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7E05-D9E4-4A22-921B-2AB34A74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9A49A-C988-4D97-8826-8002FB3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83C9-704F-4CE8-A78E-660E79BA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BE15-2D15-4F8F-896E-518DBA95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6F6E-9230-4C75-87DD-53110AC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B07F-FD08-4756-AD03-F02AAD8E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7F069-904D-433F-B131-8E01D69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0321-0509-4E6A-85AA-320BE5E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989F-E08C-4818-A427-782C021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5BC-BD8A-40D6-BCA0-C1BADE8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8430-510D-4616-B111-C802D14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0B18-1C1E-4924-834E-2D44E653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29B7-A4B2-4BD5-9DCC-8AA05328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4180F-4833-4D33-BC83-8C61CC77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3495F-8C46-4328-A61A-DE9F7B2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140BE-E410-496F-A03E-C481C659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0694-B06A-44AF-A044-5D15412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8A52A-48CA-4384-9D11-7F9E8F77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D9C5-78BD-498D-8769-5874A579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0AA3-008A-4173-985F-2147ABB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74D-ACB1-4FD4-A1AB-6D522B2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2B718-6753-4401-AF55-06498FCC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3FD9-A655-4C79-93E3-1A182F2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C9A0-A020-4694-AEDA-802D8F4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96F1-DDDB-4CED-8FD6-EEA6391C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586C-884C-4B33-A455-02C6CE2C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C424-F07C-4676-9388-151943B4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80B1-A78F-449E-A5E9-CE3AB333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5579F-3669-4F47-89FD-1A48E1F0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A805-B95F-4D79-8DBB-440C8590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6428-841A-4613-BD0B-29F18E0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729-DB40-44DD-89DF-452DB82A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01E9-44F1-4EA9-A482-AA2DBE5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FA8B9-C578-4CD8-BB67-C3CDD30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FBD3-74F5-4B55-A62C-18B7DFC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E57DB-31F3-4E17-B837-525671B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A3CC8-1571-4F4D-A563-23CC2A4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B0A5-C026-4BD2-9FDB-57EA0215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E016-931C-4E99-8BDC-912081E9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1416A-4345-474E-8741-51560996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00655-8532-4C75-A9FD-65E1ACFC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4E1F-6FF4-4156-A69F-AA89FAB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C92-2E6E-4CB8-8A94-5FBCD9CD41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139F-A48B-495C-A359-424C4D916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84C8-7E02-4516-B14E-2C12C88EE4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6B5-439A-41A2-B9D5-C17C89A63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6421-7327-4353-855B-A056AB13F0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A903-F6FF-4343-B6CB-A7A4D4DCDD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5F7-DE33-43D9-BD4E-28B225038D42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CFDD-0F40-496B-8C47-554B2D3B6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6DEE-6F59-48A7-A41F-BF9323532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83F-E562-40CC-BF25-D967AF33B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F891-3B56-4D38-8CE1-D0DC93830A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3AF-F678-4B74-A3FE-A355A2252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1ED-8B31-44EA-B3A9-8C738A17BE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1827360" y="3097080"/>
            <a:ext cx="5205240" cy="29527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360" y="1268280"/>
            <a:ext cx="79916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第四节 人的性别遗传课件</a:t>
            </a:r>
            <a:r>
              <a:rPr b="1" lang="en-US" sz="4000" spc="-1" strike="noStrike">
                <a:solidFill>
                  <a:srgbClr val="26267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打包下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2803320" y="47484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二章   生物的遗传和变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901800" y="4428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男女染色体有差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2" name="Picture 6" descr="女性染色体组型"/>
          <p:cNvPicPr/>
          <p:nvPr/>
        </p:nvPicPr>
        <p:blipFill>
          <a:blip r:embed="rId1"/>
          <a:stretch/>
        </p:blipFill>
        <p:spPr>
          <a:xfrm>
            <a:off x="1268280" y="2017800"/>
            <a:ext cx="3638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3" name="Picture 7" descr="男性染色体组型"/>
          <p:cNvPicPr/>
          <p:nvPr/>
        </p:nvPicPr>
        <p:blipFill>
          <a:blip r:embed="rId2"/>
          <a:stretch/>
        </p:blipFill>
        <p:spPr>
          <a:xfrm>
            <a:off x="5230800" y="2017800"/>
            <a:ext cx="3638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4" name="Oval 8"/>
          <p:cNvSpPr/>
          <p:nvPr/>
        </p:nvSpPr>
        <p:spPr>
          <a:xfrm>
            <a:off x="3780000" y="4510080"/>
            <a:ext cx="647640" cy="86364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7740720" y="4510080"/>
            <a:ext cx="647640" cy="863640"/>
          </a:xfrm>
          <a:prstGeom prst="ellipse">
            <a:avLst/>
          </a:pr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6300720" y="602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0c30"/>
                </a:solidFill>
                <a:latin typeface="Times New Roman"/>
              </a:rPr>
              <a:t>男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2340000" y="602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0c30"/>
                </a:solidFill>
                <a:latin typeface="Times New Roman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Group 12"/>
          <p:cNvGrpSpPr/>
          <p:nvPr/>
        </p:nvGrpSpPr>
        <p:grpSpPr>
          <a:xfrm>
            <a:off x="214200" y="907920"/>
            <a:ext cx="4088880" cy="3671280"/>
            <a:chOff x="214200" y="907920"/>
            <a:chExt cx="4088880" cy="3671280"/>
          </a:xfrm>
        </p:grpSpPr>
        <p:grpSp>
          <p:nvGrpSpPr>
            <p:cNvPr id="599" name="Group 13"/>
            <p:cNvGrpSpPr/>
            <p:nvPr/>
          </p:nvGrpSpPr>
          <p:grpSpPr>
            <a:xfrm>
              <a:off x="214200" y="907920"/>
              <a:ext cx="3314880" cy="3671280"/>
              <a:chOff x="214200" y="907920"/>
              <a:chExt cx="3314880" cy="3671280"/>
            </a:xfrm>
          </p:grpSpPr>
          <p:pic>
            <p:nvPicPr>
              <p:cNvPr id="600" name="Picture 14" descr="X"/>
              <p:cNvPicPr/>
              <p:nvPr/>
            </p:nvPicPr>
            <p:blipFill>
              <a:blip r:embed="rId3"/>
              <a:stretch/>
            </p:blipFill>
            <p:spPr>
              <a:xfrm>
                <a:off x="214200" y="912960"/>
                <a:ext cx="1713960" cy="36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15" descr="X"/>
              <p:cNvPicPr/>
              <p:nvPr/>
            </p:nvPicPr>
            <p:blipFill>
              <a:blip r:embed="rId4"/>
              <a:stretch/>
            </p:blipFill>
            <p:spPr>
              <a:xfrm>
                <a:off x="1814760" y="907920"/>
                <a:ext cx="1714320" cy="366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2" name="AutoShape 16"/>
            <p:cNvSpPr/>
            <p:nvPr/>
          </p:nvSpPr>
          <p:spPr>
            <a:xfrm rot="14836200">
              <a:off x="3238920" y="3387960"/>
              <a:ext cx="1295280" cy="360360"/>
            </a:xfrm>
            <a:custGeom>
              <a:avLst/>
              <a:gdLst>
                <a:gd name="textAreaLeft" fmla="*/ 271080 w 1295280"/>
                <a:gd name="textAreaRight" fmla="*/ 894600 w 129528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-1242823"/>
                  <a:lnTo>
                    <a:pt x="18615" y="16033"/>
                  </a:lnTo>
                  <a:lnTo>
                    <a:pt x="18768" y="0"/>
                  </a:lnTo>
                  <a:lnTo>
                    <a:pt x="12950" y="16033"/>
                  </a:lnTo>
                  <a:lnTo>
                    <a:pt x="15110" y="16033"/>
                  </a:lnTo>
                  <a:arcTo wR="9048" hR="21600" stAng="4157177" swAng="1135529"/>
                  <a:lnTo>
                    <a:pt x="9720" y="21540"/>
                  </a:lnTo>
                  <a:arcTo wR="9048" hR="21600" stAng="5507294" swAng="5292706"/>
                  <a:close/>
                </a:path>
                <a:path fill="darkenLess"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107294"/>
                  <a:lnTo>
                    <a:pt x="9720" y="21540"/>
                  </a:lnTo>
                  <a:arcTo wR="9048" hR="21600" stAng="5507294" swAng="5292706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Group 17"/>
          <p:cNvGrpSpPr/>
          <p:nvPr/>
        </p:nvGrpSpPr>
        <p:grpSpPr>
          <a:xfrm>
            <a:off x="7291440" y="2041560"/>
            <a:ext cx="1721160" cy="1846080"/>
            <a:chOff x="7291440" y="2041560"/>
            <a:chExt cx="1721160" cy="1846080"/>
          </a:xfrm>
        </p:grpSpPr>
        <p:grpSp>
          <p:nvGrpSpPr>
            <p:cNvPr id="604" name="Group 18"/>
            <p:cNvGrpSpPr/>
            <p:nvPr/>
          </p:nvGrpSpPr>
          <p:grpSpPr>
            <a:xfrm>
              <a:off x="7291440" y="2041560"/>
              <a:ext cx="1649160" cy="1846080"/>
              <a:chOff x="7291440" y="2041560"/>
              <a:chExt cx="1649160" cy="1846080"/>
            </a:xfrm>
          </p:grpSpPr>
          <p:pic>
            <p:nvPicPr>
              <p:cNvPr id="605" name="Picture 19" descr="Y染色体"/>
              <p:cNvPicPr/>
              <p:nvPr/>
            </p:nvPicPr>
            <p:blipFill>
              <a:blip r:embed="rId5"/>
              <a:stretch/>
            </p:blipFill>
            <p:spPr>
              <a:xfrm>
                <a:off x="8178840" y="2445840"/>
                <a:ext cx="761760" cy="10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Picture 20" descr="X"/>
              <p:cNvPicPr/>
              <p:nvPr/>
            </p:nvPicPr>
            <p:blipFill>
              <a:blip r:embed="rId6"/>
              <a:stretch/>
            </p:blipFill>
            <p:spPr>
              <a:xfrm>
                <a:off x="7291440" y="2041560"/>
                <a:ext cx="907200" cy="184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7" name="AutoShape 21"/>
            <p:cNvSpPr/>
            <p:nvPr/>
          </p:nvSpPr>
          <p:spPr>
            <a:xfrm rot="17748000">
              <a:off x="8464680" y="3474000"/>
              <a:ext cx="664200" cy="158400"/>
            </a:xfrm>
            <a:custGeom>
              <a:avLst/>
              <a:gdLst>
                <a:gd name="textAreaLeft" fmla="*/ 138960 w 664200"/>
                <a:gd name="textAreaRight" fmla="*/ 458640 w 664200"/>
                <a:gd name="textAreaTop" fmla="*/ 21240 h 158400"/>
                <a:gd name="textAreaBottom" fmla="*/ 1371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-1242823"/>
                  <a:lnTo>
                    <a:pt x="18615" y="16033"/>
                  </a:lnTo>
                  <a:lnTo>
                    <a:pt x="18768" y="0"/>
                  </a:lnTo>
                  <a:lnTo>
                    <a:pt x="12950" y="16033"/>
                  </a:lnTo>
                  <a:lnTo>
                    <a:pt x="15110" y="16033"/>
                  </a:lnTo>
                  <a:arcTo wR="9048" hR="21600" stAng="4157177" swAng="1135529"/>
                  <a:lnTo>
                    <a:pt x="9720" y="21540"/>
                  </a:lnTo>
                  <a:arcTo wR="9048" hR="21600" stAng="5507294" swAng="5292706"/>
                  <a:close/>
                </a:path>
                <a:path fill="darkenLess" w="21600" h="21600">
                  <a:moveTo>
                    <a:pt x="0" y="0"/>
                  </a:moveTo>
                  <a:arcTo wR="9048" hR="21600" stAng="10800000" swAng="-5400000"/>
                  <a:lnTo>
                    <a:pt x="10393" y="21600"/>
                  </a:lnTo>
                  <a:arcTo wR="9048" hR="21600" stAng="5400000" swAng="107294"/>
                  <a:lnTo>
                    <a:pt x="9720" y="21540"/>
                  </a:lnTo>
                  <a:arcTo wR="9048" hR="21600" stAng="5507294" swAng="5292706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5"/>
          <p:cNvSpPr/>
          <p:nvPr/>
        </p:nvSpPr>
        <p:spPr>
          <a:xfrm>
            <a:off x="2413080" y="593640"/>
            <a:ext cx="60465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3399"/>
                </a:solidFill>
                <a:latin typeface="Tahoma"/>
              </a:rPr>
              <a:t>男性的精子和女性卵细胞中</a:t>
            </a:r>
            <a:br>
              <a:rPr sz="3700"/>
            </a:br>
            <a:r>
              <a:rPr b="0" lang="zh-CN" sz="3700" spc="-1" strike="noStrike">
                <a:solidFill>
                  <a:srgbClr val="333399"/>
                </a:solidFill>
                <a:latin typeface="Tahoma"/>
              </a:rPr>
              <a:t>各有几条性染色体？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36" descr="卵细胞和精子中性染色体数"/>
          <p:cNvPicPr/>
          <p:nvPr/>
        </p:nvPicPr>
        <p:blipFill>
          <a:blip r:embed="rId1"/>
          <a:stretch/>
        </p:blipFill>
        <p:spPr>
          <a:xfrm>
            <a:off x="1474920" y="1700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7"/>
          <p:cNvSpPr/>
          <p:nvPr/>
        </p:nvSpPr>
        <p:spPr>
          <a:xfrm>
            <a:off x="2987640" y="3213000"/>
            <a:ext cx="1008000" cy="36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38"/>
          <p:cNvSpPr/>
          <p:nvPr/>
        </p:nvSpPr>
        <p:spPr>
          <a:xfrm>
            <a:off x="5364000" y="3213000"/>
            <a:ext cx="1079640" cy="36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4"/>
          <p:cNvSpPr/>
          <p:nvPr/>
        </p:nvSpPr>
        <p:spPr>
          <a:xfrm>
            <a:off x="2556000" y="925560"/>
            <a:ext cx="532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女性卵细胞</a:t>
            </a:r>
            <a:br>
              <a:rPr sz="3600"/>
            </a:b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和男性精子各有几种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Picture 15" descr="卵细胞和精子的种类"/>
          <p:cNvPicPr/>
          <p:nvPr/>
        </p:nvPicPr>
        <p:blipFill>
          <a:blip r:embed="rId1"/>
          <a:stretch/>
        </p:blipFill>
        <p:spPr>
          <a:xfrm>
            <a:off x="1330200" y="1484280"/>
            <a:ext cx="7129440" cy="49784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6"/>
          <p:cNvSpPr/>
          <p:nvPr/>
        </p:nvSpPr>
        <p:spPr>
          <a:xfrm>
            <a:off x="3710160" y="3141720"/>
            <a:ext cx="57456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7"/>
          <p:cNvSpPr/>
          <p:nvPr/>
        </p:nvSpPr>
        <p:spPr>
          <a:xfrm>
            <a:off x="6227640" y="3139920"/>
            <a:ext cx="93672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18"/>
          <p:cNvSpPr/>
          <p:nvPr/>
        </p:nvSpPr>
        <p:spPr>
          <a:xfrm>
            <a:off x="2700360" y="5948280"/>
            <a:ext cx="71928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19"/>
          <p:cNvSpPr/>
          <p:nvPr/>
        </p:nvSpPr>
        <p:spPr>
          <a:xfrm>
            <a:off x="5508720" y="5878440"/>
            <a:ext cx="431640" cy="287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6443640" y="5877000"/>
            <a:ext cx="576360" cy="36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10"/>
          <p:cNvSpPr/>
          <p:nvPr/>
        </p:nvSpPr>
        <p:spPr>
          <a:xfrm>
            <a:off x="3780000" y="5619600"/>
            <a:ext cx="338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22"/>
          <p:cNvSpPr/>
          <p:nvPr/>
        </p:nvSpPr>
        <p:spPr>
          <a:xfrm>
            <a:off x="183672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性染色体组成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23"/>
          <p:cNvSpPr/>
          <p:nvPr/>
        </p:nvSpPr>
        <p:spPr>
          <a:xfrm>
            <a:off x="1908000" y="157320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生殖细胞</a:t>
            </a:r>
            <a:br>
              <a:rPr sz="3200"/>
            </a:b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性染色体组成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1692360" y="30002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生殖细胞染色体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1828800" y="4221000"/>
            <a:ext cx="303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体细胞中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染色体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 Box 26"/>
          <p:cNvSpPr/>
          <p:nvPr/>
        </p:nvSpPr>
        <p:spPr>
          <a:xfrm>
            <a:off x="4645080" y="474840"/>
            <a:ext cx="1871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4645080" y="977760"/>
            <a:ext cx="1871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4716360" y="1631880"/>
            <a:ext cx="230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4716360" y="2128680"/>
            <a:ext cx="2303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4788000" y="2784600"/>
            <a:ext cx="31687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4788000" y="3286080"/>
            <a:ext cx="31687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:   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4859280" y="4008600"/>
            <a:ext cx="280836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 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4859280" y="5087880"/>
            <a:ext cx="280836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：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条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+ 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3"/>
          <p:cNvSpPr/>
          <p:nvPr/>
        </p:nvSpPr>
        <p:spPr>
          <a:xfrm>
            <a:off x="2963880" y="1371600"/>
            <a:ext cx="1989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精子：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2556000" y="3657600"/>
            <a:ext cx="2092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卵细胞：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003640" y="2133720"/>
            <a:ext cx="936720" cy="1295280"/>
            <a:chOff x="5003640" y="2133720"/>
            <a:chExt cx="936720" cy="1295280"/>
          </a:xfrm>
        </p:grpSpPr>
        <p:sp>
          <p:nvSpPr>
            <p:cNvPr id="635" name="Line 45"/>
            <p:cNvSpPr/>
            <p:nvPr/>
          </p:nvSpPr>
          <p:spPr>
            <a:xfrm>
              <a:off x="5003640" y="2133720"/>
              <a:ext cx="936720" cy="1295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5003640" y="2133720"/>
              <a:ext cx="936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7" name="Text Box 46"/>
          <p:cNvSpPr/>
          <p:nvPr/>
        </p:nvSpPr>
        <p:spPr>
          <a:xfrm>
            <a:off x="5651640" y="19573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受精卵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858920" y="3429000"/>
            <a:ext cx="1081440" cy="858960"/>
            <a:chOff x="4858920" y="3429000"/>
            <a:chExt cx="1081440" cy="858960"/>
          </a:xfrm>
        </p:grpSpPr>
        <p:sp>
          <p:nvSpPr>
            <p:cNvPr id="639" name="Line 47"/>
            <p:cNvSpPr/>
            <p:nvPr/>
          </p:nvSpPr>
          <p:spPr>
            <a:xfrm flipV="1">
              <a:off x="4859280" y="3429000"/>
              <a:ext cx="1081080" cy="858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 rot="10800000">
              <a:off x="4858920" y="3429000"/>
              <a:ext cx="1081080" cy="85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1" name="Text Box 48"/>
          <p:cNvSpPr/>
          <p:nvPr/>
        </p:nvSpPr>
        <p:spPr>
          <a:xfrm>
            <a:off x="5940360" y="2852640"/>
            <a:ext cx="203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cc"/>
                </a:solidFill>
                <a:latin typeface="Times New Roman"/>
              </a:rPr>
              <a:t>XX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49" descr="pic_69997"/>
          <p:cNvPicPr/>
          <p:nvPr/>
        </p:nvPicPr>
        <p:blipFill>
          <a:blip r:embed="rId1"/>
          <a:srcRect l="0" t="-6726" r="0" b="0"/>
          <a:stretch/>
        </p:blipFill>
        <p:spPr>
          <a:xfrm>
            <a:off x="6300720" y="3933720"/>
            <a:ext cx="1079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10"/>
          <p:cNvSpPr/>
          <p:nvPr/>
        </p:nvSpPr>
        <p:spPr>
          <a:xfrm>
            <a:off x="2417760" y="1898640"/>
            <a:ext cx="330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精    子：</a:t>
            </a:r>
            <a:r>
              <a:rPr b="0" lang="en-US" sz="6600" spc="-1" strike="noStrike">
                <a:solidFill>
                  <a:srgbClr val="00e4a8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6249960" y="2173320"/>
            <a:ext cx="20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受精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6464160" y="2906640"/>
            <a:ext cx="149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cc"/>
                </a:solidFill>
                <a:latin typeface="Times New Roman"/>
              </a:rPr>
              <a:t>XY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508720" y="2637000"/>
            <a:ext cx="934920" cy="647640"/>
            <a:chOff x="5508720" y="2637000"/>
            <a:chExt cx="934920" cy="647640"/>
          </a:xfrm>
        </p:grpSpPr>
        <p:sp>
          <p:nvSpPr>
            <p:cNvPr id="647" name="Line 13"/>
            <p:cNvSpPr/>
            <p:nvPr/>
          </p:nvSpPr>
          <p:spPr>
            <a:xfrm>
              <a:off x="5508720" y="2637000"/>
              <a:ext cx="934920" cy="64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5508720" y="2637000"/>
              <a:ext cx="93492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508360" y="3357360"/>
            <a:ext cx="935280" cy="431640"/>
            <a:chOff x="5508360" y="3357360"/>
            <a:chExt cx="935280" cy="431640"/>
          </a:xfrm>
        </p:grpSpPr>
        <p:sp>
          <p:nvSpPr>
            <p:cNvPr id="650" name="Line 14"/>
            <p:cNvSpPr/>
            <p:nvPr/>
          </p:nvSpPr>
          <p:spPr>
            <a:xfrm flipV="1">
              <a:off x="5508720" y="3357360"/>
              <a:ext cx="934920" cy="43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 rot="10800000">
              <a:off x="5508360" y="335736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Text Box 15"/>
          <p:cNvSpPr/>
          <p:nvPr/>
        </p:nvSpPr>
        <p:spPr>
          <a:xfrm>
            <a:off x="2349360" y="3429000"/>
            <a:ext cx="330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卵细胞：</a:t>
            </a:r>
            <a:r>
              <a:rPr b="0" lang="en-US" sz="6600" spc="-1" strike="noStrike">
                <a:solidFill>
                  <a:srgbClr val="00e4a8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Picture 16" descr="pic_69997"/>
          <p:cNvPicPr/>
          <p:nvPr/>
        </p:nvPicPr>
        <p:blipFill>
          <a:blip r:embed="rId1"/>
          <a:srcRect l="0" t="0" r="-9839" b="0"/>
          <a:stretch/>
        </p:blipFill>
        <p:spPr>
          <a:xfrm>
            <a:off x="6805440" y="4125960"/>
            <a:ext cx="12956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0"/>
          <p:cNvSpPr/>
          <p:nvPr/>
        </p:nvSpPr>
        <p:spPr>
          <a:xfrm>
            <a:off x="468360" y="703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女人在两次月经之间，会派出一个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卵细胞。男人在一次生殖活动中派出上亿的精子，这些精子从含有的性染色体来说只有两种，一种是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，一种是含有</a:t>
            </a:r>
            <a:r>
              <a:rPr b="0" lang="en-US" sz="3200" spc="-1" strike="noStrike">
                <a:solidFill>
                  <a:srgbClr val="e60c30"/>
                </a:solidFill>
                <a:latin typeface="华文新魏"/>
                <a:ea typeface="华文新魏"/>
              </a:rPr>
              <a:t>Y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染色体的。它们与卵细胞结合的机会均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  <a:ea typeface="方正舒体"/>
              </a:rPr>
              <a:t>既然如此，那么生男生女的机会是否均等呢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3" descr="01"/>
          <p:cNvPicPr/>
          <p:nvPr/>
        </p:nvPicPr>
        <p:blipFill>
          <a:blip r:embed="rId1"/>
          <a:stretch/>
        </p:blipFill>
        <p:spPr>
          <a:xfrm>
            <a:off x="325440" y="620640"/>
            <a:ext cx="1870200" cy="2521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02"/>
          <p:cNvPicPr/>
          <p:nvPr/>
        </p:nvPicPr>
        <p:blipFill>
          <a:blip r:embed="rId2"/>
          <a:stretch/>
        </p:blipFill>
        <p:spPr>
          <a:xfrm>
            <a:off x="324000" y="4005360"/>
            <a:ext cx="2016000" cy="237636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5"/>
          <p:cNvGrpSpPr/>
          <p:nvPr/>
        </p:nvGrpSpPr>
        <p:grpSpPr>
          <a:xfrm>
            <a:off x="2197080" y="1052280"/>
            <a:ext cx="1150920" cy="1189440"/>
            <a:chOff x="2197080" y="1052280"/>
            <a:chExt cx="1150920" cy="1189440"/>
          </a:xfrm>
        </p:grpSpPr>
        <p:grpSp>
          <p:nvGrpSpPr>
            <p:cNvPr id="658" name=""/>
            <p:cNvGrpSpPr/>
            <p:nvPr/>
          </p:nvGrpSpPr>
          <p:grpSpPr>
            <a:xfrm>
              <a:off x="2197080" y="1702080"/>
              <a:ext cx="503280" cy="360"/>
              <a:chOff x="2197080" y="1702080"/>
              <a:chExt cx="503280" cy="360"/>
            </a:xfrm>
          </p:grpSpPr>
          <p:sp>
            <p:nvSpPr>
              <p:cNvPr id="659" name="Line 6"/>
              <p:cNvSpPr/>
              <p:nvPr/>
            </p:nvSpPr>
            <p:spPr>
              <a:xfrm>
                <a:off x="2197080" y="1702080"/>
                <a:ext cx="503280" cy="0"/>
              </a:xfrm>
              <a:prstGeom prst="line">
                <a:avLst/>
              </a:prstGeom>
              <a:ln cap="sq" w="1908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2197080" y="170208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700000" y="1052280"/>
              <a:ext cx="648000" cy="647640"/>
              <a:chOff x="2700000" y="1052280"/>
              <a:chExt cx="648000" cy="647640"/>
            </a:xfrm>
          </p:grpSpPr>
          <p:sp>
            <p:nvSpPr>
              <p:cNvPr id="662" name="Line 7"/>
              <p:cNvSpPr/>
              <p:nvPr/>
            </p:nvSpPr>
            <p:spPr>
              <a:xfrm flipV="1">
                <a:off x="2700360" y="1052280"/>
                <a:ext cx="647640" cy="647640"/>
              </a:xfrm>
              <a:prstGeom prst="line">
                <a:avLst/>
              </a:prstGeom>
              <a:ln cap="sq" w="12600">
                <a:solidFill>
                  <a:srgbClr val="ff99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 rot="10800000">
                <a:off x="2700000" y="1052280"/>
                <a:ext cx="647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700360" y="1702080"/>
              <a:ext cx="647640" cy="539640"/>
              <a:chOff x="2700360" y="1702080"/>
              <a:chExt cx="647640" cy="539640"/>
            </a:xfrm>
          </p:grpSpPr>
          <p:sp>
            <p:nvSpPr>
              <p:cNvPr id="665" name="Line 8"/>
              <p:cNvSpPr/>
              <p:nvPr/>
            </p:nvSpPr>
            <p:spPr>
              <a:xfrm>
                <a:off x="2700360" y="1702080"/>
                <a:ext cx="647640" cy="539640"/>
              </a:xfrm>
              <a:prstGeom prst="line">
                <a:avLst/>
              </a:prstGeom>
              <a:ln cap="sq" w="12600">
                <a:solidFill>
                  <a:srgbClr val="ff99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2700360" y="1702080"/>
                <a:ext cx="64764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7" name="Oval 9"/>
          <p:cNvSpPr/>
          <p:nvPr/>
        </p:nvSpPr>
        <p:spPr>
          <a:xfrm>
            <a:off x="3419640" y="69228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Oval 10"/>
          <p:cNvSpPr/>
          <p:nvPr/>
        </p:nvSpPr>
        <p:spPr>
          <a:xfrm>
            <a:off x="3419640" y="206064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9" name="Group 11"/>
          <p:cNvGrpSpPr/>
          <p:nvPr/>
        </p:nvGrpSpPr>
        <p:grpSpPr>
          <a:xfrm>
            <a:off x="6588000" y="1620720"/>
            <a:ext cx="2305080" cy="1520640"/>
            <a:chOff x="6588000" y="1620720"/>
            <a:chExt cx="2305080" cy="1520640"/>
          </a:xfrm>
        </p:grpSpPr>
        <p:pic>
          <p:nvPicPr>
            <p:cNvPr id="670" name="Picture 12" descr="04"/>
            <p:cNvPicPr/>
            <p:nvPr/>
          </p:nvPicPr>
          <p:blipFill>
            <a:blip r:embed="rId3"/>
            <a:stretch/>
          </p:blipFill>
          <p:spPr>
            <a:xfrm>
              <a:off x="7381800" y="1620720"/>
              <a:ext cx="1511280" cy="15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1" name=""/>
            <p:cNvGrpSpPr/>
            <p:nvPr/>
          </p:nvGrpSpPr>
          <p:grpSpPr>
            <a:xfrm>
              <a:off x="6588000" y="2412720"/>
              <a:ext cx="504720" cy="360"/>
              <a:chOff x="6588000" y="2412720"/>
              <a:chExt cx="504720" cy="360"/>
            </a:xfrm>
          </p:grpSpPr>
          <p:sp>
            <p:nvSpPr>
              <p:cNvPr id="672" name="Line 13"/>
              <p:cNvSpPr/>
              <p:nvPr/>
            </p:nvSpPr>
            <p:spPr>
              <a:xfrm>
                <a:off x="6588000" y="241272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6588000" y="241272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74" name="Group 14"/>
          <p:cNvGrpSpPr/>
          <p:nvPr/>
        </p:nvGrpSpPr>
        <p:grpSpPr>
          <a:xfrm>
            <a:off x="6516720" y="252360"/>
            <a:ext cx="2305080" cy="1521000"/>
            <a:chOff x="6516720" y="252360"/>
            <a:chExt cx="2305080" cy="1521000"/>
          </a:xfrm>
        </p:grpSpPr>
        <p:pic>
          <p:nvPicPr>
            <p:cNvPr id="675" name="Picture 15" descr="03"/>
            <p:cNvPicPr/>
            <p:nvPr/>
          </p:nvPicPr>
          <p:blipFill>
            <a:blip r:embed="rId4"/>
            <a:stretch/>
          </p:blipFill>
          <p:spPr>
            <a:xfrm>
              <a:off x="7310520" y="252360"/>
              <a:ext cx="1511280" cy="152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6516720" y="1044720"/>
              <a:ext cx="504720" cy="360"/>
              <a:chOff x="6516720" y="1044720"/>
              <a:chExt cx="504720" cy="360"/>
            </a:xfrm>
          </p:grpSpPr>
          <p:sp>
            <p:nvSpPr>
              <p:cNvPr id="677" name="Line 16"/>
              <p:cNvSpPr/>
              <p:nvPr/>
            </p:nvSpPr>
            <p:spPr>
              <a:xfrm>
                <a:off x="6516720" y="104472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6516720" y="104472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679" name="Picture 17" descr="05"/>
          <p:cNvPicPr/>
          <p:nvPr/>
        </p:nvPicPr>
        <p:blipFill>
          <a:blip r:embed="rId5"/>
          <a:stretch/>
        </p:blipFill>
        <p:spPr>
          <a:xfrm>
            <a:off x="7308720" y="3060720"/>
            <a:ext cx="1511280" cy="152064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6659640" y="3645000"/>
            <a:ext cx="865080" cy="360"/>
            <a:chOff x="6659640" y="3645000"/>
            <a:chExt cx="865080" cy="360"/>
          </a:xfrm>
        </p:grpSpPr>
        <p:sp>
          <p:nvSpPr>
            <p:cNvPr id="681" name="Line 18"/>
            <p:cNvSpPr/>
            <p:nvPr/>
          </p:nvSpPr>
          <p:spPr>
            <a:xfrm>
              <a:off x="6659640" y="3645000"/>
              <a:ext cx="8650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6659640" y="364500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3" name="Group 19"/>
          <p:cNvGrpSpPr/>
          <p:nvPr/>
        </p:nvGrpSpPr>
        <p:grpSpPr>
          <a:xfrm>
            <a:off x="6516720" y="4500720"/>
            <a:ext cx="2305080" cy="1520640"/>
            <a:chOff x="6516720" y="4500720"/>
            <a:chExt cx="2305080" cy="1520640"/>
          </a:xfrm>
        </p:grpSpPr>
        <p:pic>
          <p:nvPicPr>
            <p:cNvPr id="684" name="Picture 20" descr="06"/>
            <p:cNvPicPr/>
            <p:nvPr/>
          </p:nvPicPr>
          <p:blipFill>
            <a:blip r:embed="rId6"/>
            <a:stretch/>
          </p:blipFill>
          <p:spPr>
            <a:xfrm>
              <a:off x="7310520" y="4500720"/>
              <a:ext cx="1511280" cy="15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"/>
            <p:cNvGrpSpPr/>
            <p:nvPr/>
          </p:nvGrpSpPr>
          <p:grpSpPr>
            <a:xfrm>
              <a:off x="6516720" y="5286240"/>
              <a:ext cx="504720" cy="360"/>
              <a:chOff x="6516720" y="5286240"/>
              <a:chExt cx="504720" cy="360"/>
            </a:xfrm>
          </p:grpSpPr>
          <p:sp>
            <p:nvSpPr>
              <p:cNvPr id="686" name="Line 21"/>
              <p:cNvSpPr/>
              <p:nvPr/>
            </p:nvSpPr>
            <p:spPr>
              <a:xfrm>
                <a:off x="6516720" y="5286240"/>
                <a:ext cx="504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516720" y="528624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8" name="Rectangle 22"/>
          <p:cNvSpPr/>
          <p:nvPr/>
        </p:nvSpPr>
        <p:spPr>
          <a:xfrm>
            <a:off x="5724360" y="62064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23"/>
          <p:cNvSpPr/>
          <p:nvPr/>
        </p:nvSpPr>
        <p:spPr>
          <a:xfrm>
            <a:off x="5724360" y="198900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24"/>
          <p:cNvSpPr/>
          <p:nvPr/>
        </p:nvSpPr>
        <p:spPr>
          <a:xfrm>
            <a:off x="5724360" y="335592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25"/>
          <p:cNvSpPr/>
          <p:nvPr/>
        </p:nvSpPr>
        <p:spPr>
          <a:xfrm>
            <a:off x="5724360" y="4940280"/>
            <a:ext cx="863640" cy="576360"/>
          </a:xfrm>
          <a:prstGeom prst="rect">
            <a:avLst/>
          </a:prstGeom>
          <a:noFill/>
          <a:ln cap="sq"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995640" y="2276640"/>
            <a:ext cx="1584360" cy="360"/>
            <a:chOff x="3995640" y="2276640"/>
            <a:chExt cx="1584360" cy="360"/>
          </a:xfrm>
        </p:grpSpPr>
        <p:sp>
          <p:nvSpPr>
            <p:cNvPr id="693" name="Line 26"/>
            <p:cNvSpPr/>
            <p:nvPr/>
          </p:nvSpPr>
          <p:spPr>
            <a:xfrm>
              <a:off x="3995640" y="2276640"/>
              <a:ext cx="1584360" cy="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995640" y="227664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995640" y="907920"/>
            <a:ext cx="1584360" cy="360"/>
            <a:chOff x="3995640" y="907920"/>
            <a:chExt cx="1584360" cy="360"/>
          </a:xfrm>
        </p:grpSpPr>
        <p:sp>
          <p:nvSpPr>
            <p:cNvPr id="696" name="Line 27"/>
            <p:cNvSpPr/>
            <p:nvPr/>
          </p:nvSpPr>
          <p:spPr>
            <a:xfrm>
              <a:off x="3995640" y="907920"/>
              <a:ext cx="1584360" cy="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3995640" y="90792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995640" y="3645000"/>
            <a:ext cx="1584360" cy="1440"/>
            <a:chOff x="3995640" y="3645000"/>
            <a:chExt cx="1584360" cy="1440"/>
          </a:xfrm>
        </p:grpSpPr>
        <p:sp>
          <p:nvSpPr>
            <p:cNvPr id="699" name="Line 28"/>
            <p:cNvSpPr/>
            <p:nvPr/>
          </p:nvSpPr>
          <p:spPr>
            <a:xfrm>
              <a:off x="3995640" y="3645000"/>
              <a:ext cx="1584360" cy="144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3995640" y="3645000"/>
              <a:ext cx="158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924360" y="5229360"/>
            <a:ext cx="1655640" cy="1440"/>
            <a:chOff x="3924360" y="5229360"/>
            <a:chExt cx="1655640" cy="1440"/>
          </a:xfrm>
        </p:grpSpPr>
        <p:sp>
          <p:nvSpPr>
            <p:cNvPr id="702" name="Line 29"/>
            <p:cNvSpPr/>
            <p:nvPr/>
          </p:nvSpPr>
          <p:spPr>
            <a:xfrm>
              <a:off x="3924360" y="5229360"/>
              <a:ext cx="1655640" cy="144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924360" y="5229360"/>
              <a:ext cx="165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4" name="Group 30"/>
          <p:cNvGrpSpPr/>
          <p:nvPr/>
        </p:nvGrpSpPr>
        <p:grpSpPr>
          <a:xfrm>
            <a:off x="2195640" y="4041360"/>
            <a:ext cx="1152360" cy="1187640"/>
            <a:chOff x="2195640" y="4041360"/>
            <a:chExt cx="1152360" cy="1187640"/>
          </a:xfrm>
        </p:grpSpPr>
        <p:grpSp>
          <p:nvGrpSpPr>
            <p:cNvPr id="705" name=""/>
            <p:cNvGrpSpPr/>
            <p:nvPr/>
          </p:nvGrpSpPr>
          <p:grpSpPr>
            <a:xfrm>
              <a:off x="2195640" y="4689360"/>
              <a:ext cx="503280" cy="360"/>
              <a:chOff x="2195640" y="4689360"/>
              <a:chExt cx="503280" cy="360"/>
            </a:xfrm>
          </p:grpSpPr>
          <p:sp>
            <p:nvSpPr>
              <p:cNvPr id="706" name="Line 31"/>
              <p:cNvSpPr/>
              <p:nvPr/>
            </p:nvSpPr>
            <p:spPr>
              <a:xfrm>
                <a:off x="2195640" y="4689360"/>
                <a:ext cx="503280" cy="0"/>
              </a:xfrm>
              <a:prstGeom prst="line">
                <a:avLst/>
              </a:prstGeom>
              <a:ln cap="sq"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2195640" y="4689360"/>
                <a:ext cx="5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700000" y="4041360"/>
              <a:ext cx="648000" cy="647640"/>
              <a:chOff x="2700000" y="4041360"/>
              <a:chExt cx="648000" cy="647640"/>
            </a:xfrm>
          </p:grpSpPr>
          <p:sp>
            <p:nvSpPr>
              <p:cNvPr id="709" name="Line 32"/>
              <p:cNvSpPr/>
              <p:nvPr/>
            </p:nvSpPr>
            <p:spPr>
              <a:xfrm flipV="1">
                <a:off x="2700360" y="4041360"/>
                <a:ext cx="647640" cy="647640"/>
              </a:xfrm>
              <a:prstGeom prst="line">
                <a:avLst/>
              </a:prstGeom>
              <a:ln cap="sq" w="12600">
                <a:solidFill>
                  <a:srgbClr val="66cc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 rot="10800000">
                <a:off x="2700000" y="4041360"/>
                <a:ext cx="64764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2700360" y="4689360"/>
              <a:ext cx="647640" cy="539640"/>
              <a:chOff x="2700360" y="4689360"/>
              <a:chExt cx="647640" cy="539640"/>
            </a:xfrm>
          </p:grpSpPr>
          <p:sp>
            <p:nvSpPr>
              <p:cNvPr id="712" name="Line 33"/>
              <p:cNvSpPr/>
              <p:nvPr/>
            </p:nvSpPr>
            <p:spPr>
              <a:xfrm>
                <a:off x="2700360" y="4689360"/>
                <a:ext cx="647640" cy="539640"/>
              </a:xfrm>
              <a:prstGeom prst="line">
                <a:avLst/>
              </a:prstGeom>
              <a:ln cap="sq" w="12600">
                <a:solidFill>
                  <a:srgbClr val="66cc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"/>
              <p:cNvSpPr txBox="1"/>
              <p:nvPr/>
            </p:nvSpPr>
            <p:spPr>
              <a:xfrm>
                <a:off x="2700360" y="4689360"/>
                <a:ext cx="64764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14" name="Oval 34"/>
          <p:cNvSpPr/>
          <p:nvPr/>
        </p:nvSpPr>
        <p:spPr>
          <a:xfrm>
            <a:off x="3490920" y="342900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Oval 35"/>
          <p:cNvSpPr/>
          <p:nvPr/>
        </p:nvSpPr>
        <p:spPr>
          <a:xfrm>
            <a:off x="3419640" y="5013360"/>
            <a:ext cx="431640" cy="431640"/>
          </a:xfrm>
          <a:prstGeom prst="ellipse">
            <a:avLst/>
          </a:prstGeom>
          <a:noFill/>
          <a:ln cap="sq" w="1908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2268360" y="907920"/>
            <a:ext cx="5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产生精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2268360" y="3887640"/>
            <a:ext cx="5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产生卵细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849480" y="1052280"/>
            <a:ext cx="1802160" cy="2305080"/>
            <a:chOff x="3849480" y="1052280"/>
            <a:chExt cx="1802160" cy="2305080"/>
          </a:xfrm>
        </p:grpSpPr>
        <p:sp>
          <p:nvSpPr>
            <p:cNvPr id="719" name="Line 38"/>
            <p:cNvSpPr/>
            <p:nvPr/>
          </p:nvSpPr>
          <p:spPr>
            <a:xfrm flipV="1">
              <a:off x="3849840" y="1052280"/>
              <a:ext cx="1801800" cy="230508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 rot="10800000">
              <a:off x="3849480" y="1052280"/>
              <a:ext cx="180180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924360" y="2421000"/>
            <a:ext cx="1728720" cy="1160280"/>
            <a:chOff x="3924360" y="2421000"/>
            <a:chExt cx="1728720" cy="1160280"/>
          </a:xfrm>
        </p:grpSpPr>
        <p:sp>
          <p:nvSpPr>
            <p:cNvPr id="722" name="Line 39"/>
            <p:cNvSpPr/>
            <p:nvPr/>
          </p:nvSpPr>
          <p:spPr>
            <a:xfrm>
              <a:off x="3924360" y="2421000"/>
              <a:ext cx="1728720" cy="116028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924360" y="2421000"/>
              <a:ext cx="1728720" cy="11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50920" y="2492280"/>
            <a:ext cx="1800720" cy="2448000"/>
            <a:chOff x="3850920" y="2492280"/>
            <a:chExt cx="1800720" cy="2448000"/>
          </a:xfrm>
        </p:grpSpPr>
        <p:sp>
          <p:nvSpPr>
            <p:cNvPr id="725" name="Line 40"/>
            <p:cNvSpPr/>
            <p:nvPr/>
          </p:nvSpPr>
          <p:spPr>
            <a:xfrm flipV="1">
              <a:off x="3851280" y="2492280"/>
              <a:ext cx="1800360" cy="2448000"/>
            </a:xfrm>
            <a:prstGeom prst="line">
              <a:avLst/>
            </a:prstGeom>
            <a:ln cap="sq" w="28440">
              <a:solidFill>
                <a:srgbClr val="66cc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3850920" y="2492280"/>
              <a:ext cx="1800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659640" y="907920"/>
            <a:ext cx="936720" cy="360"/>
            <a:chOff x="6659640" y="907920"/>
            <a:chExt cx="936720" cy="360"/>
          </a:xfrm>
        </p:grpSpPr>
        <p:sp>
          <p:nvSpPr>
            <p:cNvPr id="728" name="Line 41"/>
            <p:cNvSpPr/>
            <p:nvPr/>
          </p:nvSpPr>
          <p:spPr>
            <a:xfrm>
              <a:off x="6659640" y="907920"/>
              <a:ext cx="93672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6659640" y="907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732720" y="2276280"/>
            <a:ext cx="792000" cy="360"/>
            <a:chOff x="6732720" y="2276280"/>
            <a:chExt cx="792000" cy="360"/>
          </a:xfrm>
        </p:grpSpPr>
        <p:sp>
          <p:nvSpPr>
            <p:cNvPr id="731" name="Line 42"/>
            <p:cNvSpPr/>
            <p:nvPr/>
          </p:nvSpPr>
          <p:spPr>
            <a:xfrm>
              <a:off x="6732720" y="2276640"/>
              <a:ext cx="79200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6732720" y="227628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659640" y="5229360"/>
            <a:ext cx="865080" cy="360"/>
            <a:chOff x="6659640" y="5229360"/>
            <a:chExt cx="865080" cy="360"/>
          </a:xfrm>
        </p:grpSpPr>
        <p:sp>
          <p:nvSpPr>
            <p:cNvPr id="734" name="Line 43"/>
            <p:cNvSpPr/>
            <p:nvPr/>
          </p:nvSpPr>
          <p:spPr>
            <a:xfrm>
              <a:off x="6659640" y="5229360"/>
              <a:ext cx="865080" cy="0"/>
            </a:xfrm>
            <a:prstGeom prst="line">
              <a:avLst/>
            </a:prstGeom>
            <a:ln cap="sq" w="19080">
              <a:solidFill>
                <a:srgbClr val="1c1c1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6659640" y="522936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851280" y="1125360"/>
            <a:ext cx="1728720" cy="4102200"/>
            <a:chOff x="3851280" y="1125360"/>
            <a:chExt cx="1728720" cy="4102200"/>
          </a:xfrm>
        </p:grpSpPr>
        <p:sp>
          <p:nvSpPr>
            <p:cNvPr id="737" name="Line 44"/>
            <p:cNvSpPr/>
            <p:nvPr/>
          </p:nvSpPr>
          <p:spPr>
            <a:xfrm>
              <a:off x="3851280" y="1125360"/>
              <a:ext cx="1728720" cy="4102200"/>
            </a:xfrm>
            <a:prstGeom prst="line">
              <a:avLst/>
            </a:prstGeom>
            <a:ln cap="sq" w="28440">
              <a:solidFill>
                <a:srgbClr val="ff9900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3851280" y="1125360"/>
              <a:ext cx="1728720" cy="410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9" name="Rectangle 45"/>
          <p:cNvSpPr/>
          <p:nvPr/>
        </p:nvSpPr>
        <p:spPr>
          <a:xfrm>
            <a:off x="3419640" y="5661000"/>
            <a:ext cx="3670200" cy="57636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ahoma"/>
              </a:rPr>
              <a:t>生男生女机会均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539640" y="1855440"/>
            <a:ext cx="8353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使学生明确生男生女的道理，能解释生男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生女机会均等的原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提高学生实验探究的意识和能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培养学生学习生物的兴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611280" y="461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Rectangle 8"/>
          <p:cNvSpPr/>
          <p:nvPr/>
        </p:nvSpPr>
        <p:spPr>
          <a:xfrm>
            <a:off x="1501920" y="139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实验目的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2556000" y="620640"/>
            <a:ext cx="3670200" cy="57636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ahoma"/>
              </a:rPr>
              <a:t>生男生女机会均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文本框 8194"/>
          <p:cNvSpPr/>
          <p:nvPr/>
        </p:nvSpPr>
        <p:spPr>
          <a:xfrm>
            <a:off x="1268280" y="5584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9"/>
          <p:cNvSpPr/>
          <p:nvPr/>
        </p:nvSpPr>
        <p:spPr>
          <a:xfrm>
            <a:off x="468360" y="423720"/>
            <a:ext cx="820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实验准备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6699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课前各小组准备围棋子，用白子表示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染色体的精子，用黑子表示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染色体的精子，用白子代表卵细胞。将棋子分成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组，每组两个不透光容器，分别装“精子”（黑白子均为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个）和“卵细胞”（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个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将学生分成八组，每组六人，任命一名责任心强、能力强的同学为组长，组长和组员共同安排实验操作员、纪律监督员和实验记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录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100372388"/>
          <p:cNvPicPr/>
          <p:nvPr/>
        </p:nvPicPr>
        <p:blipFill>
          <a:blip r:embed="rId1"/>
          <a:stretch/>
        </p:blipFill>
        <p:spPr>
          <a:xfrm>
            <a:off x="179280" y="128520"/>
            <a:ext cx="878544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6"/>
          <p:cNvSpPr/>
          <p:nvPr/>
        </p:nvSpPr>
        <p:spPr>
          <a:xfrm>
            <a:off x="324000" y="26352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实验过程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组间交流，教师指导改进计划，学生按计划进行实验：</a:t>
            </a:r>
            <a:br>
              <a:rPr sz="3200"/>
            </a:b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一个同学从装有“精子”的纸袋中随机取出一粒“精子”，另一个同学从装有“卵”的纸袋内取出一粒“卵细胞”，放在一起代表受精卵，并说出受精卵含有的性染色体的种类，从而获知新个体的性别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重复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次。注意：应将取出的棋子放回纸袋，再进行下一次实验。教师巡视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导，督促学生作好记录，在表格内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填写数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900000" y="260280"/>
          <a:ext cx="7775640" cy="5945040"/>
        </p:xfrm>
        <a:graphic>
          <a:graphicData uri="http://schemas.openxmlformats.org/drawingml/2006/table">
            <a:tbl>
              <a:tblPr/>
              <a:tblGrid>
                <a:gridCol w="1509840"/>
                <a:gridCol w="1965240"/>
                <a:gridCol w="1719360"/>
                <a:gridCol w="2581200"/>
              </a:tblGrid>
              <a:tr h="100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数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据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别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合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XY</a:t>
                      </a: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宋体"/>
                        </a:rPr>
                        <a:t>组合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ahoma"/>
                        </a:rPr>
                        <a:t>生男生女比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一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二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三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四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五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六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七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八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平均值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Text Box 65"/>
          <p:cNvSpPr/>
          <p:nvPr/>
        </p:nvSpPr>
        <p:spPr>
          <a:xfrm>
            <a:off x="-111600" y="1557360"/>
            <a:ext cx="911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8719d9"/>
                </a:solidFill>
                <a:latin typeface="Tahoma"/>
              </a:rPr>
              <a:t>模拟实验汇总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41"/>
          <p:cNvSpPr/>
          <p:nvPr/>
        </p:nvSpPr>
        <p:spPr>
          <a:xfrm>
            <a:off x="900000" y="1281960"/>
            <a:ext cx="7607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师生讨论结果得出结论，表达交流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Rectangle 242"/>
          <p:cNvSpPr/>
          <p:nvPr/>
        </p:nvSpPr>
        <p:spPr>
          <a:xfrm>
            <a:off x="755640" y="1989000"/>
            <a:ext cx="748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预期结果：生男生女比例约为</a:t>
            </a:r>
            <a:r>
              <a:rPr b="1" lang="en-US" sz="3600" spc="-1" strike="noStrike" u="sng">
                <a:solidFill>
                  <a:srgbClr val="ff6699"/>
                </a:solidFill>
                <a:uFillTx/>
                <a:latin typeface="Times New Roman"/>
              </a:rPr>
              <a:t>1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Times New Roman"/>
              </a:rPr>
              <a:t>：</a:t>
            </a:r>
            <a:r>
              <a:rPr b="1" lang="en-US" sz="3600" spc="-1" strike="noStrike" u="sng">
                <a:solidFill>
                  <a:srgbClr val="ff6699"/>
                </a:solidFill>
                <a:uFillTx/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243"/>
          <p:cNvSpPr/>
          <p:nvPr/>
        </p:nvSpPr>
        <p:spPr>
          <a:xfrm>
            <a:off x="755640" y="2519280"/>
            <a:ext cx="684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预期结论：生男生女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Times New Roman"/>
              </a:rPr>
              <a:t>机会均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44"/>
          <p:cNvSpPr/>
          <p:nvPr/>
        </p:nvSpPr>
        <p:spPr>
          <a:xfrm>
            <a:off x="1042920" y="3346560"/>
            <a:ext cx="936720" cy="459720"/>
          </a:xfrm>
          <a:prstGeom prst="rect">
            <a:avLst/>
          </a:pr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质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45"/>
          <p:cNvSpPr/>
          <p:nvPr/>
        </p:nvSpPr>
        <p:spPr>
          <a:xfrm>
            <a:off x="1332000" y="406224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什么每组的实验结果并不都是</a:t>
            </a:r>
            <a:r>
              <a:rPr b="1" lang="en-US" sz="2800" spc="-1" strike="noStrike">
                <a:solidFill>
                  <a:srgbClr val="ff6699"/>
                </a:solidFill>
                <a:latin typeface="Tahoma"/>
              </a:rPr>
              <a:t>1: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254"/>
          <p:cNvSpPr/>
          <p:nvPr/>
        </p:nvSpPr>
        <p:spPr>
          <a:xfrm>
            <a:off x="755640" y="1484280"/>
            <a:ext cx="144360" cy="216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255"/>
          <p:cNvSpPr/>
          <p:nvPr/>
        </p:nvSpPr>
        <p:spPr>
          <a:xfrm>
            <a:off x="755640" y="2133720"/>
            <a:ext cx="144360" cy="21564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256"/>
          <p:cNvSpPr/>
          <p:nvPr/>
        </p:nvSpPr>
        <p:spPr>
          <a:xfrm>
            <a:off x="755640" y="2708280"/>
            <a:ext cx="144360" cy="2160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4"/>
          <p:cNvSpPr/>
          <p:nvPr/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调查范围越大，次数越多，正反两面比例越接近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: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，同样道理，在男女比例的调查中可以看出，所调查范围越大，人数越多，男女比例就越接近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：</a:t>
            </a:r>
            <a:r>
              <a:rPr b="1" lang="en-US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6600cc"/>
                </a:solidFill>
                <a:latin typeface="华文隶书"/>
                <a:ea typeface="华文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65"/>
          <p:cNvSpPr/>
          <p:nvPr/>
        </p:nvSpPr>
        <p:spPr>
          <a:xfrm>
            <a:off x="304920" y="609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隶书"/>
              </a:rPr>
              <a:t>通过调查，发现了什么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gen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7"/>
          <p:cNvSpPr/>
          <p:nvPr/>
        </p:nvSpPr>
        <p:spPr>
          <a:xfrm>
            <a:off x="971640" y="154296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华文隶书"/>
              </a:rPr>
              <a:t>可是现实生活中男女的比例情况是怎么样的呢？你能对这个现象做出合理的解释吗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457200" y="125280"/>
            <a:ext cx="692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我国大陆五次人口普查资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1476360" y="1165320"/>
          <a:ext cx="6553080" cy="4495680"/>
        </p:xfrm>
        <a:graphic>
          <a:graphicData uri="http://schemas.openxmlformats.org/drawingml/2006/table">
            <a:tbl>
              <a:tblPr/>
              <a:tblGrid>
                <a:gridCol w="2095560"/>
                <a:gridCol w="2084400"/>
                <a:gridCol w="23731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总人口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男女性别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.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7.6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.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5.5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3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.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6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6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6.7: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37"/>
          <p:cNvSpPr/>
          <p:nvPr/>
        </p:nvSpPr>
        <p:spPr>
          <a:xfrm>
            <a:off x="3177360" y="5905080"/>
            <a:ext cx="416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第六次人口普查结果将于</a:t>
            </a:r>
            <a:r>
              <a:rPr b="1" lang="en-US" sz="2400" spc="-1" strike="noStrike">
                <a:solidFill>
                  <a:srgbClr val="8719d9"/>
                </a:solidFill>
                <a:latin typeface="Tahoma"/>
              </a:rPr>
              <a:t>2011</a:t>
            </a: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8719d9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月底公布</a:t>
            </a:r>
            <a:r>
              <a:rPr b="0" lang="zh-CN" sz="2400" spc="-1" strike="noStrike">
                <a:solidFill>
                  <a:srgbClr val="8719d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324000" y="1550880"/>
            <a:ext cx="842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隶书"/>
                <a:ea typeface="华文隶书"/>
              </a:rPr>
              <a:t>  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性别比例失调，会产生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华文彩云"/>
              </a:rPr>
              <a:t>“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婚姻   性别挤压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华文彩云"/>
              </a:rPr>
              <a:t>”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现象，并将大大引发买卖婚姻、拐卖妇女等违法犯罪行为以及各种复杂的社会问题，</a:t>
            </a:r>
            <a:br>
              <a:rPr sz="4000"/>
            </a:b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严重阻碍着我国人口的和谐、持续和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          </a:t>
            </a:r>
            <a:r>
              <a:rPr b="0" lang="zh-CN" sz="4000" spc="-1" strike="noStrike">
                <a:solidFill>
                  <a:srgbClr val="1c1c1c"/>
                </a:solidFill>
                <a:latin typeface="华文彩云"/>
                <a:ea typeface="华文彩云"/>
              </a:rPr>
              <a:t>健康的发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40"/>
          <p:cNvSpPr/>
          <p:nvPr/>
        </p:nvSpPr>
        <p:spPr>
          <a:xfrm>
            <a:off x="1328760" y="484200"/>
            <a:ext cx="2649600" cy="642600"/>
          </a:xfrm>
          <a:prstGeom prst="rect">
            <a:avLst/>
          </a:prstGeom>
          <a:noFill/>
          <a:ln cap="sq"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ahoma"/>
              </a:rPr>
              <a:t>性别比例失调的危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971640" y="1557360"/>
          <a:ext cx="6481800" cy="155412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物体性状的遗传是由基因控制的。那么，人的性别决定是否与性染色体有关，而与基因无关呢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Rectangle 15"/>
          <p:cNvSpPr/>
          <p:nvPr/>
        </p:nvSpPr>
        <p:spPr>
          <a:xfrm>
            <a:off x="1865160" y="5619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对人的性别遗传，你还有哪些疑问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18"/>
          <p:cNvSpPr/>
          <p:nvPr/>
        </p:nvSpPr>
        <p:spPr>
          <a:xfrm>
            <a:off x="684360" y="1701720"/>
            <a:ext cx="215640" cy="287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1258920" y="34974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学习课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页内容，了解相关内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AutoShape 20"/>
          <p:cNvSpPr/>
          <p:nvPr/>
        </p:nvSpPr>
        <p:spPr>
          <a:xfrm>
            <a:off x="684360" y="3573360"/>
            <a:ext cx="431640" cy="409680"/>
          </a:xfrm>
          <a:prstGeom prst="smileyFace">
            <a:avLst>
              <a:gd name="adj" fmla="val 4653"/>
            </a:avLst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971640" y="907920"/>
          <a:ext cx="7272360" cy="155412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通过我们这节课的学习，现在你能用这节课的所学，解释一下生男生女到底是不是女人的责任吗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Rectangle 15"/>
          <p:cNvSpPr/>
          <p:nvPr/>
        </p:nvSpPr>
        <p:spPr>
          <a:xfrm>
            <a:off x="1042920" y="31690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在一些人的观念里还存在着重男轻女的思想，从而导致性别的比例发生偏差，你是如何来看待这个问题呢？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怎样做是正确的呢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Oval 18"/>
          <p:cNvSpPr/>
          <p:nvPr/>
        </p:nvSpPr>
        <p:spPr>
          <a:xfrm>
            <a:off x="611280" y="1052640"/>
            <a:ext cx="288720" cy="28728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Oval 19"/>
          <p:cNvSpPr/>
          <p:nvPr/>
        </p:nvSpPr>
        <p:spPr>
          <a:xfrm>
            <a:off x="611280" y="2854440"/>
            <a:ext cx="288720" cy="28728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报纸-2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" descr="报头4"/>
          <p:cNvPicPr/>
          <p:nvPr/>
        </p:nvPicPr>
        <p:blipFill>
          <a:blip r:embed="rId2"/>
          <a:stretch/>
        </p:blipFill>
        <p:spPr>
          <a:xfrm>
            <a:off x="0" y="0"/>
            <a:ext cx="9144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835280" y="1844640"/>
          <a:ext cx="5329080" cy="210348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、人的性别是性状吗？</a:t>
                      </a:r>
                      <a:br>
                        <a:rPr sz="3300"/>
                      </a:b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、性状是由什么控制着？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835280" y="4365720"/>
          <a:ext cx="5688000" cy="593640"/>
        </p:xfrm>
        <a:graphic>
          <a:graphicData uri="http://schemas.openxmlformats.org/drawingml/2006/table">
            <a:tbl>
              <a:tblPr/>
              <a:tblGrid>
                <a:gridCol w="5688000"/>
              </a:tblGrid>
              <a:tr h="5943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33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基因在细胞的什么位置？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Rectangle 52"/>
          <p:cNvSpPr/>
          <p:nvPr/>
        </p:nvSpPr>
        <p:spPr>
          <a:xfrm>
            <a:off x="1695240" y="80820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  <a:ea typeface="华文楷体"/>
              </a:rPr>
              <a:t> </a:t>
            </a:r>
            <a:r>
              <a:rPr b="1" lang="zh-CN" sz="3200" spc="-1" strike="noStrike">
                <a:solidFill>
                  <a:srgbClr val="5f5f5f"/>
                </a:solidFill>
                <a:latin typeface="Tahoma"/>
                <a:ea typeface="华文楷体"/>
              </a:rPr>
              <a:t>复习提问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2207160" y="1233360"/>
            <a:ext cx="4867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一、男女染色体的差别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体细胞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男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女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X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生殖细胞中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精    子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Y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卵细胞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X 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二、生男生女机会均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机会均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是由和卵细胞结合成受精卵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精子的类型决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1835280" y="578520"/>
            <a:ext cx="504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19d9"/>
                </a:solidFill>
                <a:latin typeface="华文楷体"/>
                <a:ea typeface="华文楷体"/>
              </a:rPr>
              <a:t>第四节 </a:t>
            </a:r>
            <a:r>
              <a:rPr b="1" lang="zh-CN" sz="3200" spc="-1" strike="noStrike">
                <a:solidFill>
                  <a:srgbClr val="8719d9"/>
                </a:solidFill>
                <a:latin typeface="Arial"/>
                <a:ea typeface="华文楷体"/>
              </a:rPr>
              <a:t>   </a:t>
            </a:r>
            <a:r>
              <a:rPr b="1" lang="zh-CN" sz="3200" spc="-1" strike="noStrike">
                <a:solidFill>
                  <a:srgbClr val="8719d9"/>
                </a:solidFill>
                <a:latin typeface="华文楷体"/>
                <a:ea typeface="华文楷体"/>
              </a:rPr>
              <a:t> 人的性别遗传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7" descr="鼓掌"/>
          <p:cNvPicPr/>
          <p:nvPr/>
        </p:nvPicPr>
        <p:blipFill>
          <a:blip r:embed="rId1"/>
          <a:stretch/>
        </p:blipFill>
        <p:spPr>
          <a:xfrm>
            <a:off x="468360" y="33336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5"/>
          <p:cNvSpPr/>
          <p:nvPr/>
        </p:nvSpPr>
        <p:spPr>
          <a:xfrm>
            <a:off x="539640" y="668160"/>
            <a:ext cx="863640" cy="4597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719d9"/>
                </a:solidFill>
                <a:latin typeface="Tahoma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755640" y="14716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生活中为什么我们见到的双胞胎有的性别相同，有的性别不同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68436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同卵双胞胎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684360" y="429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异卵双胞胎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700360" y="300528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即单卵双胞胎是一个精子与一个卵子结合产生的一个受精卵。这个受精卵一分为二，形成两个胚胎。由于他们出自同一个受精卵，接受完全一样的染色体和基因物质，因此他们性别相同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2771640" y="471492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女性因某种原因同时排出两个卵子并同时受精，形成两个不同的受精卵 。然后分别发育成两个独立的个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长大后差异比较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并且可以为同性也可以为异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两个不同的受精卵发育成的双胞胎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文本框 8194"/>
          <p:cNvSpPr/>
          <p:nvPr/>
        </p:nvSpPr>
        <p:spPr>
          <a:xfrm>
            <a:off x="1765440" y="6296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258920" y="541440"/>
            <a:ext cx="10810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719d9"/>
                </a:solidFill>
                <a:latin typeface="Tahoma"/>
                <a:ea typeface="黑体"/>
              </a:rPr>
              <a:t>练兵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8" name="Picture 7" descr="u=2730363021,199200321&amp;fm=0&amp;gp=0"/>
          <p:cNvPicPr/>
          <p:nvPr/>
        </p:nvPicPr>
        <p:blipFill>
          <a:blip r:embed="rId1"/>
          <a:stretch/>
        </p:blipFill>
        <p:spPr>
          <a:xfrm>
            <a:off x="395280" y="404640"/>
            <a:ext cx="792000" cy="115272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8"/>
          <p:cNvSpPr/>
          <p:nvPr/>
        </p:nvSpPr>
        <p:spPr>
          <a:xfrm>
            <a:off x="1539720" y="1405080"/>
            <a:ext cx="58104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个精子中含有的性染色体有几种？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1602000" y="2435760"/>
            <a:ext cx="4591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新生儿的性别主要取决于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母亲的体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父亲的体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卵细胞的类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精子的类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2483280" y="3789720"/>
            <a:ext cx="44060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对夫妇第一胎生了一个女孩，他们很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再要一个男孩，那么，第二胎生男孩的几率是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11"/>
          <p:cNvSpPr/>
          <p:nvPr/>
        </p:nvSpPr>
        <p:spPr>
          <a:xfrm>
            <a:off x="2674800" y="486900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10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5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574560" y="1432440"/>
            <a:ext cx="79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正常男性体细胞的染色体组成是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2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8"/>
          <p:cNvSpPr/>
          <p:nvPr/>
        </p:nvSpPr>
        <p:spPr>
          <a:xfrm>
            <a:off x="468360" y="3355560"/>
            <a:ext cx="8207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假如一个性状总是从父亲直接传给儿子，由儿子直接传给孙子，那么控制这个性状的基因最可能的位置是（ 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755640" y="4677840"/>
            <a:ext cx="748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常染色体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染色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染色体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于性染色体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F12-B94A-4658-9F10-23CCA8D80D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0"/>
          <p:cNvSpPr/>
          <p:nvPr/>
        </p:nvSpPr>
        <p:spPr>
          <a:xfrm>
            <a:off x="1042920" y="1773360"/>
            <a:ext cx="69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为什么生男生女机会均等？（尝试以图解的方式解释，写出性染色体即可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5291280" y="260280"/>
            <a:ext cx="2520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男</a:t>
            </a:r>
            <a:r>
              <a:rPr b="1" lang="en-US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女</a:t>
            </a:r>
            <a:r>
              <a:rPr b="1" lang="en-US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6" descr="pic_8095"/>
          <p:cNvPicPr/>
          <p:nvPr/>
        </p:nvPicPr>
        <p:blipFill>
          <a:blip r:embed="rId1"/>
          <a:stretch/>
        </p:blipFill>
        <p:spPr>
          <a:xfrm>
            <a:off x="755640" y="1125360"/>
            <a:ext cx="8137440" cy="49676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2843280" y="6165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华文新魏"/>
              </a:rPr>
              <a:t>男、女成对染色体排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1640160" y="449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女染色体的差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2124000" y="501336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10"/>
          <p:cNvSpPr/>
          <p:nvPr/>
        </p:nvSpPr>
        <p:spPr>
          <a:xfrm>
            <a:off x="6372360" y="5084640"/>
            <a:ext cx="7920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3132000" y="189000"/>
          <a:ext cx="1584360" cy="487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问题提纲：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11280" y="765000"/>
          <a:ext cx="7848360" cy="1006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在男性和女性的染色体中哪一对有差别？这对染色体的差别可能与什么有关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611280" y="1700280"/>
          <a:ext cx="7632720" cy="1006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两幅图中，哪幅是男性的染色体，哪幅是女性的染色体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11280" y="2624040"/>
          <a:ext cx="7375320" cy="549360"/>
        </p:xfrm>
        <a:graphic>
          <a:graphicData uri="http://schemas.openxmlformats.org/drawingml/2006/table">
            <a:tbl>
              <a:tblPr/>
              <a:tblGrid>
                <a:gridCol w="73753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哪些是常染色体，哪是性染色体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9640" y="3068640"/>
          <a:ext cx="7632720" cy="1006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图中哪条是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染色体，哪条是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染色体，二者在形态上有何区别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539640" y="4005360"/>
          <a:ext cx="7848720" cy="14634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4634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就性染色体来说，在男性产生的精子和女性产生的卵细胞中，应该有几条性染色体？精子和卵细胞各有几种类型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9640" y="5445000"/>
          <a:ext cx="7777080" cy="10065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男女体细胞染色体，精子和卵细胞中染色体的数量和表示方法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867280" y="53352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年美国的细胞学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麦克郎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.E.McClung)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在观察中发现男性体细胞中的性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914400" y="479736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美国细胞学家威尔逊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B.Wilso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斯特蒂文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.H.Sturtevan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一步把男性体细胞的性染色体命名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；女性体细胞中的一对性染色体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11" descr="图1"/>
          <p:cNvPicPr/>
          <p:nvPr/>
        </p:nvPicPr>
        <p:blipFill>
          <a:blip r:embed="rId1"/>
          <a:srcRect l="0" t="0" r="7598" b="3793"/>
          <a:stretch/>
        </p:blipFill>
        <p:spPr>
          <a:xfrm>
            <a:off x="228600" y="189000"/>
            <a:ext cx="5562720" cy="4343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790560" y="1844640"/>
            <a:ext cx="6858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2700360" y="3429000"/>
            <a:ext cx="685800" cy="7034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2128680" y="309600"/>
            <a:ext cx="65455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X</a:t>
            </a:r>
            <a:r>
              <a:rPr b="0" lang="zh-CN" sz="4400" spc="-1" strike="noStrike">
                <a:solidFill>
                  <a:srgbClr val="1c1c1c"/>
                </a:solidFill>
                <a:latin typeface="Tahoma"/>
              </a:rPr>
              <a:t>染色体和</a:t>
            </a:r>
            <a:r>
              <a:rPr b="0" lang="en-US" sz="4400" spc="-1" strike="noStrike">
                <a:solidFill>
                  <a:srgbClr val="1c1c1c"/>
                </a:solidFill>
                <a:latin typeface="Tahoma"/>
              </a:rPr>
              <a:t>Y</a:t>
            </a:r>
            <a:r>
              <a:rPr b="0" lang="zh-CN" sz="4400" spc="-1" strike="noStrike">
                <a:solidFill>
                  <a:srgbClr val="1c1c1c"/>
                </a:solidFill>
                <a:latin typeface="Tahoma"/>
              </a:rPr>
              <a:t>染色体的区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6" descr="X"/>
          <p:cNvPicPr/>
          <p:nvPr/>
        </p:nvPicPr>
        <p:blipFill>
          <a:blip r:embed="rId1"/>
          <a:stretch/>
        </p:blipFill>
        <p:spPr>
          <a:xfrm>
            <a:off x="1692360" y="2116080"/>
            <a:ext cx="273672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Text Box 7"/>
          <p:cNvSpPr/>
          <p:nvPr/>
        </p:nvSpPr>
        <p:spPr>
          <a:xfrm>
            <a:off x="2411280" y="59342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c3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e60c3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79600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c3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e60c30"/>
                </a:solidFill>
                <a:latin typeface="Times New Roman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9" descr="Y染色体"/>
          <p:cNvPicPr/>
          <p:nvPr/>
        </p:nvPicPr>
        <p:blipFill>
          <a:blip r:embed="rId2"/>
          <a:stretch/>
        </p:blipFill>
        <p:spPr>
          <a:xfrm>
            <a:off x="5364000" y="2400480"/>
            <a:ext cx="2552760" cy="31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571680" y="1500120"/>
            <a:ext cx="73897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根据性染色体来区分生殖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1066680" y="30481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精子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091040" y="2743200"/>
            <a:ext cx="3505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，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39640" y="3933720"/>
            <a:ext cx="34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卵细胞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3060720" y="4005360"/>
            <a:ext cx="2930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含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染色体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2484360" y="155880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en-US" sz="6000" spc="-1" strike="noStrike">
                <a:solidFill>
                  <a:srgbClr val="ffcf01"/>
                </a:solidFill>
                <a:latin typeface="黑体"/>
                <a:ea typeface="黑体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2627280" y="3860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564000" y="1414440"/>
            <a:ext cx="1295280" cy="719280"/>
            <a:chOff x="3564000" y="1414440"/>
            <a:chExt cx="1295280" cy="719280"/>
          </a:xfrm>
        </p:grpSpPr>
        <p:sp>
          <p:nvSpPr>
            <p:cNvPr id="574" name="Line 7"/>
            <p:cNvSpPr/>
            <p:nvPr/>
          </p:nvSpPr>
          <p:spPr>
            <a:xfrm flipV="1">
              <a:off x="3564000" y="1414440"/>
              <a:ext cx="1295280" cy="7192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 rot="10800000">
              <a:off x="3564000" y="1414440"/>
              <a:ext cx="129528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564000" y="2278080"/>
            <a:ext cx="1295280" cy="647640"/>
            <a:chOff x="3564000" y="2278080"/>
            <a:chExt cx="1295280" cy="647640"/>
          </a:xfrm>
        </p:grpSpPr>
        <p:sp>
          <p:nvSpPr>
            <p:cNvPr id="577" name="Line 8"/>
            <p:cNvSpPr/>
            <p:nvPr/>
          </p:nvSpPr>
          <p:spPr>
            <a:xfrm>
              <a:off x="3564000" y="2278080"/>
              <a:ext cx="1295280" cy="64764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564000" y="2278080"/>
              <a:ext cx="12952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708360" y="3573000"/>
            <a:ext cx="1295280" cy="762120"/>
            <a:chOff x="3708360" y="3573000"/>
            <a:chExt cx="1295280" cy="762120"/>
          </a:xfrm>
        </p:grpSpPr>
        <p:sp>
          <p:nvSpPr>
            <p:cNvPr id="580" name="Line 9"/>
            <p:cNvSpPr/>
            <p:nvPr/>
          </p:nvSpPr>
          <p:spPr>
            <a:xfrm flipV="1">
              <a:off x="3708360" y="3573000"/>
              <a:ext cx="1295280" cy="7621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 rot="10800000">
              <a:off x="3708360" y="357300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708360" y="4411800"/>
            <a:ext cx="1371600" cy="685800"/>
            <a:chOff x="3708360" y="4411800"/>
            <a:chExt cx="1371600" cy="685800"/>
          </a:xfrm>
        </p:grpSpPr>
        <p:sp>
          <p:nvSpPr>
            <p:cNvPr id="583" name="Line 10"/>
            <p:cNvSpPr/>
            <p:nvPr/>
          </p:nvSpPr>
          <p:spPr>
            <a:xfrm>
              <a:off x="3708360" y="4411800"/>
              <a:ext cx="1371600" cy="68580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3708360" y="44118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" name="Text Box 11"/>
          <p:cNvSpPr/>
          <p:nvPr/>
        </p:nvSpPr>
        <p:spPr>
          <a:xfrm>
            <a:off x="5003640" y="838080"/>
            <a:ext cx="25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精子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5076720" y="3068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卵细胞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5219640" y="4581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卵细胞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5003640" y="227808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f01"/>
                </a:solidFill>
                <a:latin typeface="黑体"/>
                <a:ea typeface="黑体"/>
              </a:rPr>
              <a:t>Y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精子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1116000" y="18432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男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1187280" y="4149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2:5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6Z</dcterms:modified>
  <cp:revision>1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