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34E-9D82-45E2-AC5D-2F1C0EC3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D2D-8F92-418B-84EE-6A5413C8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CB7-506B-444F-AB99-C5D820D2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9C5-6A36-4F29-9B6C-B181A668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151-A255-4C1C-862C-0811BFD0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41D-747F-459A-BA1F-E0A9DD77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D4E-55AA-4B84-B6B4-3D56B4AB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218-7920-429F-90BF-AD5BCF31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57C-9601-4CC3-B7C9-19C40971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5D3-30B1-4FAB-8A8F-ADB15A27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48C-02E1-40D2-98DC-F06C9492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855-FD55-46EF-A857-08E428CB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208080" y="6603840"/>
            <a:ext cx="21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宋体"/>
              </a:rPr>
              <a:t>Copyright 2004-2009 </a:t>
            </a:r>
            <a:r>
              <a:rPr b="0" lang="zh-CN" sz="1000" spc="-1" strike="noStrike">
                <a:solidFill>
                  <a:srgbClr val="ffffff"/>
                </a:solidFill>
                <a:latin typeface="宋体"/>
              </a:rPr>
              <a:t>版权所有 盗版必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A9CB-2E4B-467C-9BB7-DDC4BF065A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溶解的快与慢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87280" y="907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教科版）四年级科学上册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颗粒大小与溶解快慢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684360" y="1341360"/>
            <a:ext cx="7704000" cy="34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塑料袋中共有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包冰糖，请仔细阅读每包上的字，根据设计选择合适的两包糖进行实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竹棒搅拌时不要碰到烧杯壁，搅拌要均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其中一包糖完全溶解，或者听到口令时，实验即结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199"/>
          <p:cNvSpPr/>
          <p:nvPr/>
        </p:nvSpPr>
        <p:spPr>
          <a:xfrm>
            <a:off x="801720" y="1417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02008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小结论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1116000" y="242100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实验发现，将冰糖</a:t>
            </a:r>
            <a:r>
              <a:rPr b="0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碾碎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加快它在水中的溶解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响物体溶解快慢的因素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2556000" y="1989000"/>
            <a:ext cx="4321080" cy="129708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100000">
                <a:srgbClr val="2f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Gulim"/>
              </a:rPr>
              <a:t>水的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5"/>
          <p:cNvSpPr/>
          <p:nvPr/>
        </p:nvSpPr>
        <p:spPr>
          <a:xfrm>
            <a:off x="2556000" y="3429000"/>
            <a:ext cx="4321080" cy="129708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100000">
                <a:srgbClr val="2f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Gulim"/>
              </a:rPr>
              <a:t>水是否被搅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6"/>
          <p:cNvSpPr/>
          <p:nvPr/>
        </p:nvSpPr>
        <p:spPr>
          <a:xfrm>
            <a:off x="2556000" y="4941720"/>
            <a:ext cx="4321080" cy="129708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100000">
                <a:srgbClr val="2f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Gulim"/>
              </a:rPr>
              <a:t>物体的颗粒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9640" y="69228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be0e3"/>
                </a:solidFill>
                <a:latin typeface="Gulim"/>
                <a:ea typeface="Gulim"/>
              </a:rPr>
              <a:t>总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E969-669E-4D0D-8177-1BD508805A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2"/>
          <p:cNvSpPr txBox="1"/>
          <p:nvPr/>
        </p:nvSpPr>
        <p:spPr>
          <a:xfrm>
            <a:off x="1835280" y="1700280"/>
            <a:ext cx="5400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大家，再见！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1116000" y="2637000"/>
            <a:ext cx="7129440" cy="2736720"/>
          </a:xfrm>
          <a:prstGeom prst="flowChartTerminator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组实验中，除了一个需要研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条件不同外，其余条件都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987640" y="1628640"/>
            <a:ext cx="3384720" cy="1008360"/>
          </a:xfrm>
          <a:prstGeom prst="flowChartTerminator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温度与溶解快慢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4360" y="1628640"/>
            <a:ext cx="7920000" cy="360"/>
            <a:chOff x="684360" y="1628640"/>
            <a:chExt cx="7920000" cy="360"/>
          </a:xfrm>
        </p:grpSpPr>
        <p:sp>
          <p:nvSpPr>
            <p:cNvPr id="86" name="Line 3"/>
            <p:cNvSpPr/>
            <p:nvPr/>
          </p:nvSpPr>
          <p:spPr>
            <a:xfrm>
              <a:off x="684360" y="1628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684360" y="16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84360" y="2349360"/>
            <a:ext cx="7920000" cy="360"/>
            <a:chOff x="684360" y="2349360"/>
            <a:chExt cx="7920000" cy="360"/>
          </a:xfrm>
        </p:grpSpPr>
        <p:sp>
          <p:nvSpPr>
            <p:cNvPr id="89" name="Line 4"/>
            <p:cNvSpPr/>
            <p:nvPr/>
          </p:nvSpPr>
          <p:spPr>
            <a:xfrm>
              <a:off x="684360" y="234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684360" y="234936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55640" y="5229000"/>
            <a:ext cx="7920000" cy="360"/>
            <a:chOff x="755640" y="5229000"/>
            <a:chExt cx="7920000" cy="360"/>
          </a:xfrm>
        </p:grpSpPr>
        <p:sp>
          <p:nvSpPr>
            <p:cNvPr id="92" name="Line 5"/>
            <p:cNvSpPr/>
            <p:nvPr/>
          </p:nvSpPr>
          <p:spPr>
            <a:xfrm>
              <a:off x="755640" y="522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 rot="10800000">
              <a:off x="755640" y="52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6"/>
          <p:cNvSpPr/>
          <p:nvPr/>
        </p:nvSpPr>
        <p:spPr>
          <a:xfrm>
            <a:off x="3203640" y="170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热 水 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516720" y="177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凉 水 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92360" y="2349360"/>
            <a:ext cx="360" cy="2880000"/>
            <a:chOff x="1692360" y="2349360"/>
            <a:chExt cx="360" cy="2880000"/>
          </a:xfrm>
        </p:grpSpPr>
        <p:sp>
          <p:nvSpPr>
            <p:cNvPr id="97" name="Line 8"/>
            <p:cNvSpPr/>
            <p:nvPr/>
          </p:nvSpPr>
          <p:spPr>
            <a:xfrm>
              <a:off x="1692360" y="234936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1692360" y="2349360"/>
              <a:ext cx="360" cy="28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9"/>
          <p:cNvSpPr/>
          <p:nvPr/>
        </p:nvSpPr>
        <p:spPr>
          <a:xfrm>
            <a:off x="879840" y="2565360"/>
            <a:ext cx="66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相     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92360" y="5229360"/>
            <a:ext cx="360" cy="1295280"/>
            <a:chOff x="1692360" y="5229360"/>
            <a:chExt cx="360" cy="1295280"/>
          </a:xfrm>
        </p:grpSpPr>
        <p:sp>
          <p:nvSpPr>
            <p:cNvPr id="101" name="Line 10"/>
            <p:cNvSpPr/>
            <p:nvPr/>
          </p:nvSpPr>
          <p:spPr>
            <a:xfrm>
              <a:off x="1692360" y="5229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1692360" y="522936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998640" y="5229360"/>
            <a:ext cx="54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951480" y="537372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92000" y="1628640"/>
            <a:ext cx="360" cy="720720"/>
            <a:chOff x="1692000" y="1628640"/>
            <a:chExt cx="360" cy="720720"/>
          </a:xfrm>
        </p:grpSpPr>
        <p:sp>
          <p:nvSpPr>
            <p:cNvPr id="106" name="Line 13"/>
            <p:cNvSpPr/>
            <p:nvPr/>
          </p:nvSpPr>
          <p:spPr>
            <a:xfrm flipV="1">
              <a:off x="1692360" y="162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800000">
              <a:off x="1692000" y="1628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4"/>
          <p:cNvSpPr/>
          <p:nvPr/>
        </p:nvSpPr>
        <p:spPr>
          <a:xfrm>
            <a:off x="611280" y="17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条 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4360" y="6524640"/>
            <a:ext cx="8064360" cy="360"/>
            <a:chOff x="684360" y="6524640"/>
            <a:chExt cx="8064360" cy="360"/>
          </a:xfrm>
        </p:grpSpPr>
        <p:sp>
          <p:nvSpPr>
            <p:cNvPr id="110" name="Line 15"/>
            <p:cNvSpPr/>
            <p:nvPr/>
          </p:nvSpPr>
          <p:spPr>
            <a:xfrm>
              <a:off x="684360" y="652464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684360" y="652464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651640" y="1628640"/>
            <a:ext cx="360" cy="4896000"/>
            <a:chOff x="5651640" y="1628640"/>
            <a:chExt cx="360" cy="4896000"/>
          </a:xfrm>
        </p:grpSpPr>
        <p:sp>
          <p:nvSpPr>
            <p:cNvPr id="113" name="Line 16"/>
            <p:cNvSpPr/>
            <p:nvPr/>
          </p:nvSpPr>
          <p:spPr>
            <a:xfrm>
              <a:off x="5651640" y="1628640"/>
              <a:ext cx="0" cy="489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5651640" y="1628640"/>
              <a:ext cx="360" cy="489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340000" y="2349360"/>
            <a:ext cx="360" cy="4175280"/>
            <a:chOff x="2340000" y="2349360"/>
            <a:chExt cx="360" cy="4175280"/>
          </a:xfrm>
        </p:grpSpPr>
        <p:sp>
          <p:nvSpPr>
            <p:cNvPr id="116" name="Line 17"/>
            <p:cNvSpPr/>
            <p:nvPr/>
          </p:nvSpPr>
          <p:spPr>
            <a:xfrm>
              <a:off x="2340000" y="234936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2340000" y="2349360"/>
              <a:ext cx="360" cy="417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92360" y="2924280"/>
            <a:ext cx="6983280" cy="360"/>
            <a:chOff x="1692360" y="2924280"/>
            <a:chExt cx="6983280" cy="360"/>
          </a:xfrm>
        </p:grpSpPr>
        <p:sp>
          <p:nvSpPr>
            <p:cNvPr id="119" name="Line 18"/>
            <p:cNvSpPr/>
            <p:nvPr/>
          </p:nvSpPr>
          <p:spPr>
            <a:xfrm>
              <a:off x="1692360" y="2924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692360" y="2924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92360" y="3500280"/>
            <a:ext cx="6983280" cy="360"/>
            <a:chOff x="1692360" y="3500280"/>
            <a:chExt cx="6983280" cy="360"/>
          </a:xfrm>
        </p:grpSpPr>
        <p:sp>
          <p:nvSpPr>
            <p:cNvPr id="122" name="Line 19"/>
            <p:cNvSpPr/>
            <p:nvPr/>
          </p:nvSpPr>
          <p:spPr>
            <a:xfrm>
              <a:off x="1692360" y="3500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692360" y="3500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692360" y="4076640"/>
            <a:ext cx="6983280" cy="360"/>
            <a:chOff x="1692360" y="4076640"/>
            <a:chExt cx="6983280" cy="360"/>
          </a:xfrm>
        </p:grpSpPr>
        <p:sp>
          <p:nvSpPr>
            <p:cNvPr id="125" name="Line 20"/>
            <p:cNvSpPr/>
            <p:nvPr/>
          </p:nvSpPr>
          <p:spPr>
            <a:xfrm>
              <a:off x="1692360" y="407664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1692360" y="407664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21"/>
          <p:cNvSpPr/>
          <p:nvPr/>
        </p:nvSpPr>
        <p:spPr>
          <a:xfrm>
            <a:off x="1835280" y="249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83528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1835280" y="357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1835280" y="472428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3132000" y="2492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6300720" y="2492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2411280" y="3213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2484360" y="3213000"/>
            <a:ext cx="31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327672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637236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2916360" y="357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6084720" y="357336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2771640" y="465300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2556000" y="47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不能晃动烧杯里的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5867280" y="472428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不能晃动烧杯里的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692360" y="4653000"/>
            <a:ext cx="6912000" cy="360"/>
            <a:chOff x="1692360" y="4653000"/>
            <a:chExt cx="6912000" cy="360"/>
          </a:xfrm>
        </p:grpSpPr>
        <p:sp>
          <p:nvSpPr>
            <p:cNvPr id="143" name="Line 36"/>
            <p:cNvSpPr/>
            <p:nvPr/>
          </p:nvSpPr>
          <p:spPr>
            <a:xfrm>
              <a:off x="1692360" y="4653000"/>
              <a:ext cx="691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692360" y="4653000"/>
              <a:ext cx="691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37"/>
          <p:cNvSpPr/>
          <p:nvPr/>
        </p:nvSpPr>
        <p:spPr>
          <a:xfrm>
            <a:off x="183528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327672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9"/>
          <p:cNvSpPr/>
          <p:nvPr/>
        </p:nvSpPr>
        <p:spPr>
          <a:xfrm>
            <a:off x="637236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0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温度与溶解快慢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84360" y="1628640"/>
            <a:ext cx="7920000" cy="360"/>
            <a:chOff x="684360" y="1628640"/>
            <a:chExt cx="7920000" cy="360"/>
          </a:xfrm>
        </p:grpSpPr>
        <p:sp>
          <p:nvSpPr>
            <p:cNvPr id="152" name="Line 3"/>
            <p:cNvSpPr/>
            <p:nvPr/>
          </p:nvSpPr>
          <p:spPr>
            <a:xfrm>
              <a:off x="684360" y="1628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684360" y="16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4360" y="2349360"/>
            <a:ext cx="7920000" cy="360"/>
            <a:chOff x="684360" y="2349360"/>
            <a:chExt cx="7920000" cy="360"/>
          </a:xfrm>
        </p:grpSpPr>
        <p:sp>
          <p:nvSpPr>
            <p:cNvPr id="155" name="Line 4"/>
            <p:cNvSpPr/>
            <p:nvPr/>
          </p:nvSpPr>
          <p:spPr>
            <a:xfrm>
              <a:off x="684360" y="234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684360" y="234936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55640" y="5229000"/>
            <a:ext cx="7920000" cy="360"/>
            <a:chOff x="755640" y="5229000"/>
            <a:chExt cx="7920000" cy="360"/>
          </a:xfrm>
        </p:grpSpPr>
        <p:sp>
          <p:nvSpPr>
            <p:cNvPr id="158" name="Line 5"/>
            <p:cNvSpPr/>
            <p:nvPr/>
          </p:nvSpPr>
          <p:spPr>
            <a:xfrm>
              <a:off x="755640" y="522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 rot="10800000">
              <a:off x="755640" y="52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6"/>
          <p:cNvSpPr/>
          <p:nvPr/>
        </p:nvSpPr>
        <p:spPr>
          <a:xfrm>
            <a:off x="3203640" y="170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热 水 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516720" y="177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凉 水 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692360" y="2349360"/>
            <a:ext cx="360" cy="2880000"/>
            <a:chOff x="1692360" y="2349360"/>
            <a:chExt cx="360" cy="2880000"/>
          </a:xfrm>
        </p:grpSpPr>
        <p:sp>
          <p:nvSpPr>
            <p:cNvPr id="163" name="Line 8"/>
            <p:cNvSpPr/>
            <p:nvPr/>
          </p:nvSpPr>
          <p:spPr>
            <a:xfrm>
              <a:off x="1692360" y="234936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692360" y="2349360"/>
              <a:ext cx="360" cy="28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9"/>
          <p:cNvSpPr/>
          <p:nvPr/>
        </p:nvSpPr>
        <p:spPr>
          <a:xfrm>
            <a:off x="879840" y="2565360"/>
            <a:ext cx="66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相     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692360" y="5229360"/>
            <a:ext cx="360" cy="1295280"/>
            <a:chOff x="1692360" y="5229360"/>
            <a:chExt cx="360" cy="1295280"/>
          </a:xfrm>
        </p:grpSpPr>
        <p:sp>
          <p:nvSpPr>
            <p:cNvPr id="167" name="Line 10"/>
            <p:cNvSpPr/>
            <p:nvPr/>
          </p:nvSpPr>
          <p:spPr>
            <a:xfrm>
              <a:off x="1692360" y="5229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1692360" y="522936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11"/>
          <p:cNvSpPr/>
          <p:nvPr/>
        </p:nvSpPr>
        <p:spPr>
          <a:xfrm>
            <a:off x="998640" y="5229360"/>
            <a:ext cx="54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951480" y="537372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92000" y="1628640"/>
            <a:ext cx="360" cy="720720"/>
            <a:chOff x="1692000" y="1628640"/>
            <a:chExt cx="360" cy="720720"/>
          </a:xfrm>
        </p:grpSpPr>
        <p:sp>
          <p:nvSpPr>
            <p:cNvPr id="172" name="Line 13"/>
            <p:cNvSpPr/>
            <p:nvPr/>
          </p:nvSpPr>
          <p:spPr>
            <a:xfrm flipV="1">
              <a:off x="1692360" y="162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 rot="10800000">
              <a:off x="1692000" y="1628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14"/>
          <p:cNvSpPr/>
          <p:nvPr/>
        </p:nvSpPr>
        <p:spPr>
          <a:xfrm>
            <a:off x="611280" y="17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条 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4360" y="6524640"/>
            <a:ext cx="8064360" cy="360"/>
            <a:chOff x="684360" y="6524640"/>
            <a:chExt cx="8064360" cy="360"/>
          </a:xfrm>
        </p:grpSpPr>
        <p:sp>
          <p:nvSpPr>
            <p:cNvPr id="176" name="Line 15"/>
            <p:cNvSpPr/>
            <p:nvPr/>
          </p:nvSpPr>
          <p:spPr>
            <a:xfrm>
              <a:off x="684360" y="652464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684360" y="652464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51640" y="1628640"/>
            <a:ext cx="360" cy="4896000"/>
            <a:chOff x="5651640" y="1628640"/>
            <a:chExt cx="360" cy="4896000"/>
          </a:xfrm>
        </p:grpSpPr>
        <p:sp>
          <p:nvSpPr>
            <p:cNvPr id="179" name="Line 16"/>
            <p:cNvSpPr/>
            <p:nvPr/>
          </p:nvSpPr>
          <p:spPr>
            <a:xfrm>
              <a:off x="5651640" y="1628640"/>
              <a:ext cx="0" cy="489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651640" y="1628640"/>
              <a:ext cx="360" cy="489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340000" y="2349360"/>
            <a:ext cx="360" cy="4175280"/>
            <a:chOff x="2340000" y="2349360"/>
            <a:chExt cx="360" cy="4175280"/>
          </a:xfrm>
        </p:grpSpPr>
        <p:sp>
          <p:nvSpPr>
            <p:cNvPr id="182" name="Line 17"/>
            <p:cNvSpPr/>
            <p:nvPr/>
          </p:nvSpPr>
          <p:spPr>
            <a:xfrm>
              <a:off x="2340000" y="234936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2340000" y="2349360"/>
              <a:ext cx="360" cy="417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692360" y="2924280"/>
            <a:ext cx="6983280" cy="360"/>
            <a:chOff x="1692360" y="2924280"/>
            <a:chExt cx="6983280" cy="360"/>
          </a:xfrm>
        </p:grpSpPr>
        <p:sp>
          <p:nvSpPr>
            <p:cNvPr id="185" name="Line 18"/>
            <p:cNvSpPr/>
            <p:nvPr/>
          </p:nvSpPr>
          <p:spPr>
            <a:xfrm>
              <a:off x="1692360" y="2924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692360" y="2924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692360" y="3500280"/>
            <a:ext cx="6983280" cy="360"/>
            <a:chOff x="1692360" y="3500280"/>
            <a:chExt cx="6983280" cy="360"/>
          </a:xfrm>
        </p:grpSpPr>
        <p:sp>
          <p:nvSpPr>
            <p:cNvPr id="188" name="Line 19"/>
            <p:cNvSpPr/>
            <p:nvPr/>
          </p:nvSpPr>
          <p:spPr>
            <a:xfrm>
              <a:off x="1692360" y="3500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692360" y="3500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92360" y="4076640"/>
            <a:ext cx="6983280" cy="360"/>
            <a:chOff x="1692360" y="4076640"/>
            <a:chExt cx="6983280" cy="360"/>
          </a:xfrm>
        </p:grpSpPr>
        <p:sp>
          <p:nvSpPr>
            <p:cNvPr id="191" name="Line 20"/>
            <p:cNvSpPr/>
            <p:nvPr/>
          </p:nvSpPr>
          <p:spPr>
            <a:xfrm>
              <a:off x="1692360" y="407664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1692360" y="407664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21"/>
          <p:cNvSpPr/>
          <p:nvPr/>
        </p:nvSpPr>
        <p:spPr>
          <a:xfrm>
            <a:off x="1835280" y="249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183528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1835280" y="357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1835280" y="472428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132000" y="2492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6300720" y="2492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2411280" y="3213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2484360" y="3213000"/>
            <a:ext cx="31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327672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37236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2916360" y="357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6084720" y="357336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2771640" y="465300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2556000" y="47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不能晃动烧杯里的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5867280" y="472428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不能晃动烧杯里的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692360" y="4653000"/>
            <a:ext cx="6912000" cy="360"/>
            <a:chOff x="1692360" y="4653000"/>
            <a:chExt cx="6912000" cy="360"/>
          </a:xfrm>
        </p:grpSpPr>
        <p:sp>
          <p:nvSpPr>
            <p:cNvPr id="209" name="Line 36"/>
            <p:cNvSpPr/>
            <p:nvPr/>
          </p:nvSpPr>
          <p:spPr>
            <a:xfrm>
              <a:off x="1692360" y="4653000"/>
              <a:ext cx="691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1692360" y="4653000"/>
              <a:ext cx="691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37"/>
          <p:cNvSpPr/>
          <p:nvPr/>
        </p:nvSpPr>
        <p:spPr>
          <a:xfrm>
            <a:off x="183528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8"/>
          <p:cNvSpPr/>
          <p:nvPr/>
        </p:nvSpPr>
        <p:spPr>
          <a:xfrm>
            <a:off x="327672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9"/>
          <p:cNvSpPr/>
          <p:nvPr/>
        </p:nvSpPr>
        <p:spPr>
          <a:xfrm>
            <a:off x="637236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0"/>
          <p:cNvSpPr/>
          <p:nvPr/>
        </p:nvSpPr>
        <p:spPr>
          <a:xfrm>
            <a:off x="2556000" y="551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ulim"/>
                <a:ea typeface="Gulim"/>
              </a:rPr>
              <a:t>热水，水温约</a:t>
            </a:r>
            <a:r>
              <a:rPr b="0" lang="en-US" sz="2400" spc="-1" strike="noStrike">
                <a:solidFill>
                  <a:srgbClr val="ff0000"/>
                </a:solidFill>
                <a:latin typeface="Gulim"/>
                <a:ea typeface="Gulim"/>
              </a:rPr>
              <a:t>60</a:t>
            </a:r>
            <a:r>
              <a:rPr b="0" lang="zh-CN" sz="2400" spc="-1" strike="noStrike">
                <a:solidFill>
                  <a:srgbClr val="ff0000"/>
                </a:solidFill>
                <a:latin typeface="Gulim"/>
                <a:ea typeface="Gulim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1"/>
          <p:cNvSpPr/>
          <p:nvPr/>
        </p:nvSpPr>
        <p:spPr>
          <a:xfrm>
            <a:off x="5940360" y="5516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Gulim"/>
                <a:ea typeface="Gulim"/>
              </a:rPr>
              <a:t>凉水，水温约</a:t>
            </a:r>
            <a:r>
              <a:rPr b="0" lang="en-US" sz="2400" spc="-1" strike="noStrike">
                <a:solidFill>
                  <a:srgbClr val="339933"/>
                </a:solidFill>
                <a:latin typeface="Gulim"/>
                <a:ea typeface="Gulim"/>
              </a:rPr>
              <a:t>18</a:t>
            </a:r>
            <a:r>
              <a:rPr b="0" lang="zh-CN" sz="2400" spc="-1" strike="noStrike">
                <a:solidFill>
                  <a:srgbClr val="339933"/>
                </a:solidFill>
                <a:latin typeface="Gulim"/>
                <a:ea typeface="Gulim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2"/>
          <p:cNvSpPr/>
          <p:nvPr/>
        </p:nvSpPr>
        <p:spPr>
          <a:xfrm>
            <a:off x="1835280" y="5516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3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02008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小结论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11280" y="2178000"/>
            <a:ext cx="7889760" cy="277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69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实验发现，白糖在</a:t>
            </a:r>
            <a:r>
              <a:rPr b="0" lang="zh-CN" sz="69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热水</a:t>
            </a:r>
            <a:r>
              <a:rPr b="0" lang="zh-CN" sz="69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溶解比在</a:t>
            </a:r>
            <a:r>
              <a:rPr b="0" lang="zh-CN" sz="6900" spc="-1" strike="noStrike">
                <a:solidFill>
                  <a:srgbClr val="66ff99"/>
                </a:solidFill>
                <a:latin typeface="华文新魏"/>
                <a:ea typeface="华文新魏"/>
              </a:rPr>
              <a:t>凉水</a:t>
            </a:r>
            <a:r>
              <a:rPr b="0" lang="zh-CN" sz="69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溶解得快。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搅拌与溶解快慢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84360" y="1628640"/>
            <a:ext cx="7920000" cy="360"/>
            <a:chOff x="684360" y="1628640"/>
            <a:chExt cx="7920000" cy="360"/>
          </a:xfrm>
        </p:grpSpPr>
        <p:sp>
          <p:nvSpPr>
            <p:cNvPr id="223" name="Line 3"/>
            <p:cNvSpPr/>
            <p:nvPr/>
          </p:nvSpPr>
          <p:spPr>
            <a:xfrm>
              <a:off x="684360" y="1628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684360" y="16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4360" y="2349360"/>
            <a:ext cx="7920000" cy="360"/>
            <a:chOff x="684360" y="2349360"/>
            <a:chExt cx="7920000" cy="360"/>
          </a:xfrm>
        </p:grpSpPr>
        <p:sp>
          <p:nvSpPr>
            <p:cNvPr id="226" name="Line 4"/>
            <p:cNvSpPr/>
            <p:nvPr/>
          </p:nvSpPr>
          <p:spPr>
            <a:xfrm>
              <a:off x="684360" y="234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684360" y="234936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55640" y="5300280"/>
            <a:ext cx="7920000" cy="360"/>
            <a:chOff x="755640" y="5300280"/>
            <a:chExt cx="7920000" cy="360"/>
          </a:xfrm>
        </p:grpSpPr>
        <p:sp>
          <p:nvSpPr>
            <p:cNvPr id="229" name="Line 5"/>
            <p:cNvSpPr/>
            <p:nvPr/>
          </p:nvSpPr>
          <p:spPr>
            <a:xfrm>
              <a:off x="755640" y="5300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 rot="10800000">
              <a:off x="755640" y="529992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6"/>
          <p:cNvSpPr/>
          <p:nvPr/>
        </p:nvSpPr>
        <p:spPr>
          <a:xfrm>
            <a:off x="3203640" y="170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搅拌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6516720" y="177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静置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92360" y="2349360"/>
            <a:ext cx="360" cy="2880000"/>
            <a:chOff x="1692360" y="2349360"/>
            <a:chExt cx="360" cy="2880000"/>
          </a:xfrm>
        </p:grpSpPr>
        <p:sp>
          <p:nvSpPr>
            <p:cNvPr id="234" name="Line 8"/>
            <p:cNvSpPr/>
            <p:nvPr/>
          </p:nvSpPr>
          <p:spPr>
            <a:xfrm>
              <a:off x="1692360" y="234936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692360" y="2349360"/>
              <a:ext cx="360" cy="28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9"/>
          <p:cNvSpPr/>
          <p:nvPr/>
        </p:nvSpPr>
        <p:spPr>
          <a:xfrm>
            <a:off x="879840" y="2565360"/>
            <a:ext cx="66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相     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692360" y="5229360"/>
            <a:ext cx="360" cy="1295280"/>
            <a:chOff x="1692360" y="5229360"/>
            <a:chExt cx="360" cy="1295280"/>
          </a:xfrm>
        </p:grpSpPr>
        <p:sp>
          <p:nvSpPr>
            <p:cNvPr id="238" name="Line 10"/>
            <p:cNvSpPr/>
            <p:nvPr/>
          </p:nvSpPr>
          <p:spPr>
            <a:xfrm>
              <a:off x="1692360" y="5229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1692360" y="522936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1"/>
          <p:cNvSpPr/>
          <p:nvPr/>
        </p:nvSpPr>
        <p:spPr>
          <a:xfrm>
            <a:off x="998640" y="5229360"/>
            <a:ext cx="54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951480" y="537372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92000" y="1628640"/>
            <a:ext cx="360" cy="720720"/>
            <a:chOff x="1692000" y="1628640"/>
            <a:chExt cx="360" cy="720720"/>
          </a:xfrm>
        </p:grpSpPr>
        <p:sp>
          <p:nvSpPr>
            <p:cNvPr id="243" name="Line 13"/>
            <p:cNvSpPr/>
            <p:nvPr/>
          </p:nvSpPr>
          <p:spPr>
            <a:xfrm flipV="1">
              <a:off x="1692360" y="162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 rot="10800000">
              <a:off x="1692000" y="1628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14"/>
          <p:cNvSpPr/>
          <p:nvPr/>
        </p:nvSpPr>
        <p:spPr>
          <a:xfrm>
            <a:off x="611280" y="17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条 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84360" y="6524640"/>
            <a:ext cx="8064360" cy="360"/>
            <a:chOff x="684360" y="6524640"/>
            <a:chExt cx="8064360" cy="360"/>
          </a:xfrm>
        </p:grpSpPr>
        <p:sp>
          <p:nvSpPr>
            <p:cNvPr id="247" name="Line 15"/>
            <p:cNvSpPr/>
            <p:nvPr/>
          </p:nvSpPr>
          <p:spPr>
            <a:xfrm>
              <a:off x="684360" y="652464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84360" y="652464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651640" y="1628640"/>
            <a:ext cx="360" cy="4896000"/>
            <a:chOff x="5651640" y="1628640"/>
            <a:chExt cx="360" cy="4896000"/>
          </a:xfrm>
        </p:grpSpPr>
        <p:sp>
          <p:nvSpPr>
            <p:cNvPr id="250" name="Line 16"/>
            <p:cNvSpPr/>
            <p:nvPr/>
          </p:nvSpPr>
          <p:spPr>
            <a:xfrm>
              <a:off x="5651640" y="1628640"/>
              <a:ext cx="0" cy="489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5651640" y="1628640"/>
              <a:ext cx="360" cy="489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340000" y="2349360"/>
            <a:ext cx="360" cy="4175280"/>
            <a:chOff x="2340000" y="2349360"/>
            <a:chExt cx="360" cy="4175280"/>
          </a:xfrm>
        </p:grpSpPr>
        <p:sp>
          <p:nvSpPr>
            <p:cNvPr id="253" name="Line 17"/>
            <p:cNvSpPr/>
            <p:nvPr/>
          </p:nvSpPr>
          <p:spPr>
            <a:xfrm>
              <a:off x="2340000" y="234936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2340000" y="2349360"/>
              <a:ext cx="360" cy="417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692360" y="2924280"/>
            <a:ext cx="6983280" cy="360"/>
            <a:chOff x="1692360" y="2924280"/>
            <a:chExt cx="6983280" cy="360"/>
          </a:xfrm>
        </p:grpSpPr>
        <p:sp>
          <p:nvSpPr>
            <p:cNvPr id="256" name="Line 18"/>
            <p:cNvSpPr/>
            <p:nvPr/>
          </p:nvSpPr>
          <p:spPr>
            <a:xfrm>
              <a:off x="1692360" y="2924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692360" y="2924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692360" y="3500280"/>
            <a:ext cx="6983280" cy="360"/>
            <a:chOff x="1692360" y="3500280"/>
            <a:chExt cx="6983280" cy="360"/>
          </a:xfrm>
        </p:grpSpPr>
        <p:sp>
          <p:nvSpPr>
            <p:cNvPr id="259" name="Line 19"/>
            <p:cNvSpPr/>
            <p:nvPr/>
          </p:nvSpPr>
          <p:spPr>
            <a:xfrm>
              <a:off x="1692360" y="3500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1692360" y="3500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692360" y="4724280"/>
            <a:ext cx="6983280" cy="360"/>
            <a:chOff x="1692360" y="4724280"/>
            <a:chExt cx="6983280" cy="360"/>
          </a:xfrm>
        </p:grpSpPr>
        <p:sp>
          <p:nvSpPr>
            <p:cNvPr id="262" name="Line 20"/>
            <p:cNvSpPr/>
            <p:nvPr/>
          </p:nvSpPr>
          <p:spPr>
            <a:xfrm>
              <a:off x="1692360" y="4724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1692360" y="4724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21"/>
          <p:cNvSpPr/>
          <p:nvPr/>
        </p:nvSpPr>
        <p:spPr>
          <a:xfrm>
            <a:off x="183528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183528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183528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835280" y="4797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313200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6300720" y="2349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2411280" y="3213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2484360" y="3213000"/>
            <a:ext cx="31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27672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637236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2843280" y="393372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2843280" y="386064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2987640" y="37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6156360" y="37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2843280" y="414972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2987640" y="4221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凉水，约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8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156360" y="4221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凉水，约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8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92360" y="4149720"/>
            <a:ext cx="6983280" cy="360"/>
            <a:chOff x="1692360" y="4149720"/>
            <a:chExt cx="6983280" cy="360"/>
          </a:xfrm>
        </p:grpSpPr>
        <p:sp>
          <p:nvSpPr>
            <p:cNvPr id="282" name="Line 38"/>
            <p:cNvSpPr/>
            <p:nvPr/>
          </p:nvSpPr>
          <p:spPr>
            <a:xfrm>
              <a:off x="1692360" y="414972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1692360" y="414972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39"/>
          <p:cNvSpPr/>
          <p:nvPr/>
        </p:nvSpPr>
        <p:spPr>
          <a:xfrm>
            <a:off x="1835280" y="4221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3348000" y="4797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1"/>
          <p:cNvSpPr/>
          <p:nvPr/>
        </p:nvSpPr>
        <p:spPr>
          <a:xfrm>
            <a:off x="6659640" y="47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2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搅拌与溶解快慢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84360" y="1628640"/>
            <a:ext cx="7920000" cy="360"/>
            <a:chOff x="684360" y="1628640"/>
            <a:chExt cx="7920000" cy="360"/>
          </a:xfrm>
        </p:grpSpPr>
        <p:sp>
          <p:nvSpPr>
            <p:cNvPr id="290" name="Line 3"/>
            <p:cNvSpPr/>
            <p:nvPr/>
          </p:nvSpPr>
          <p:spPr>
            <a:xfrm>
              <a:off x="684360" y="1628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684360" y="16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84360" y="2349360"/>
            <a:ext cx="7920000" cy="360"/>
            <a:chOff x="684360" y="2349360"/>
            <a:chExt cx="7920000" cy="360"/>
          </a:xfrm>
        </p:grpSpPr>
        <p:sp>
          <p:nvSpPr>
            <p:cNvPr id="293" name="Line 4"/>
            <p:cNvSpPr/>
            <p:nvPr/>
          </p:nvSpPr>
          <p:spPr>
            <a:xfrm>
              <a:off x="684360" y="234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684360" y="234936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55640" y="5300280"/>
            <a:ext cx="7920000" cy="360"/>
            <a:chOff x="755640" y="5300280"/>
            <a:chExt cx="7920000" cy="360"/>
          </a:xfrm>
        </p:grpSpPr>
        <p:sp>
          <p:nvSpPr>
            <p:cNvPr id="296" name="Line 5"/>
            <p:cNvSpPr/>
            <p:nvPr/>
          </p:nvSpPr>
          <p:spPr>
            <a:xfrm>
              <a:off x="755640" y="5300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 rot="10800000">
              <a:off x="755640" y="529992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6"/>
          <p:cNvSpPr/>
          <p:nvPr/>
        </p:nvSpPr>
        <p:spPr>
          <a:xfrm>
            <a:off x="3203640" y="170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搅拌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6516720" y="177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静置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692360" y="2349360"/>
            <a:ext cx="360" cy="2880000"/>
            <a:chOff x="1692360" y="2349360"/>
            <a:chExt cx="360" cy="2880000"/>
          </a:xfrm>
        </p:grpSpPr>
        <p:sp>
          <p:nvSpPr>
            <p:cNvPr id="301" name="Line 8"/>
            <p:cNvSpPr/>
            <p:nvPr/>
          </p:nvSpPr>
          <p:spPr>
            <a:xfrm>
              <a:off x="1692360" y="234936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1692360" y="2349360"/>
              <a:ext cx="360" cy="28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9"/>
          <p:cNvSpPr/>
          <p:nvPr/>
        </p:nvSpPr>
        <p:spPr>
          <a:xfrm>
            <a:off x="879840" y="2565360"/>
            <a:ext cx="66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相     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692360" y="5229360"/>
            <a:ext cx="360" cy="1295280"/>
            <a:chOff x="1692360" y="5229360"/>
            <a:chExt cx="360" cy="1295280"/>
          </a:xfrm>
        </p:grpSpPr>
        <p:sp>
          <p:nvSpPr>
            <p:cNvPr id="305" name="Line 10"/>
            <p:cNvSpPr/>
            <p:nvPr/>
          </p:nvSpPr>
          <p:spPr>
            <a:xfrm>
              <a:off x="1692360" y="5229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1692360" y="522936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11"/>
          <p:cNvSpPr/>
          <p:nvPr/>
        </p:nvSpPr>
        <p:spPr>
          <a:xfrm>
            <a:off x="998640" y="5229360"/>
            <a:ext cx="54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951480" y="537372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92000" y="1628640"/>
            <a:ext cx="360" cy="720720"/>
            <a:chOff x="1692000" y="1628640"/>
            <a:chExt cx="360" cy="720720"/>
          </a:xfrm>
        </p:grpSpPr>
        <p:sp>
          <p:nvSpPr>
            <p:cNvPr id="310" name="Line 13"/>
            <p:cNvSpPr/>
            <p:nvPr/>
          </p:nvSpPr>
          <p:spPr>
            <a:xfrm flipV="1">
              <a:off x="1692360" y="162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1692000" y="1628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4"/>
          <p:cNvSpPr/>
          <p:nvPr/>
        </p:nvSpPr>
        <p:spPr>
          <a:xfrm>
            <a:off x="611280" y="17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条 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84360" y="6524640"/>
            <a:ext cx="8064360" cy="360"/>
            <a:chOff x="684360" y="6524640"/>
            <a:chExt cx="8064360" cy="360"/>
          </a:xfrm>
        </p:grpSpPr>
        <p:sp>
          <p:nvSpPr>
            <p:cNvPr id="314" name="Line 15"/>
            <p:cNvSpPr/>
            <p:nvPr/>
          </p:nvSpPr>
          <p:spPr>
            <a:xfrm>
              <a:off x="684360" y="652464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684360" y="652464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651640" y="1628640"/>
            <a:ext cx="360" cy="4896000"/>
            <a:chOff x="5651640" y="1628640"/>
            <a:chExt cx="360" cy="4896000"/>
          </a:xfrm>
        </p:grpSpPr>
        <p:sp>
          <p:nvSpPr>
            <p:cNvPr id="317" name="Line 16"/>
            <p:cNvSpPr/>
            <p:nvPr/>
          </p:nvSpPr>
          <p:spPr>
            <a:xfrm>
              <a:off x="5651640" y="1628640"/>
              <a:ext cx="0" cy="489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5651640" y="1628640"/>
              <a:ext cx="360" cy="489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40000" y="2349360"/>
            <a:ext cx="360" cy="4175280"/>
            <a:chOff x="2340000" y="2349360"/>
            <a:chExt cx="360" cy="4175280"/>
          </a:xfrm>
        </p:grpSpPr>
        <p:sp>
          <p:nvSpPr>
            <p:cNvPr id="320" name="Line 17"/>
            <p:cNvSpPr/>
            <p:nvPr/>
          </p:nvSpPr>
          <p:spPr>
            <a:xfrm>
              <a:off x="2340000" y="234936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2340000" y="2349360"/>
              <a:ext cx="360" cy="417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692360" y="2924280"/>
            <a:ext cx="6983280" cy="360"/>
            <a:chOff x="1692360" y="2924280"/>
            <a:chExt cx="6983280" cy="360"/>
          </a:xfrm>
        </p:grpSpPr>
        <p:sp>
          <p:nvSpPr>
            <p:cNvPr id="323" name="Line 18"/>
            <p:cNvSpPr/>
            <p:nvPr/>
          </p:nvSpPr>
          <p:spPr>
            <a:xfrm>
              <a:off x="1692360" y="2924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1692360" y="2924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692360" y="3500280"/>
            <a:ext cx="6983280" cy="360"/>
            <a:chOff x="1692360" y="3500280"/>
            <a:chExt cx="6983280" cy="360"/>
          </a:xfrm>
        </p:grpSpPr>
        <p:sp>
          <p:nvSpPr>
            <p:cNvPr id="326" name="Line 19"/>
            <p:cNvSpPr/>
            <p:nvPr/>
          </p:nvSpPr>
          <p:spPr>
            <a:xfrm>
              <a:off x="1692360" y="3500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1692360" y="3500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692360" y="4724280"/>
            <a:ext cx="6983280" cy="360"/>
            <a:chOff x="1692360" y="4724280"/>
            <a:chExt cx="6983280" cy="360"/>
          </a:xfrm>
        </p:grpSpPr>
        <p:sp>
          <p:nvSpPr>
            <p:cNvPr id="329" name="Line 20"/>
            <p:cNvSpPr/>
            <p:nvPr/>
          </p:nvSpPr>
          <p:spPr>
            <a:xfrm>
              <a:off x="1692360" y="472428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692360" y="472428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21"/>
          <p:cNvSpPr/>
          <p:nvPr/>
        </p:nvSpPr>
        <p:spPr>
          <a:xfrm>
            <a:off x="183528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183528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183528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1835280" y="4797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313200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6300720" y="2349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2411280" y="3213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2484360" y="3213000"/>
            <a:ext cx="31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27672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7236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克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2843280" y="393372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2843280" y="386064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3"/>
          <p:cNvSpPr/>
          <p:nvPr/>
        </p:nvSpPr>
        <p:spPr>
          <a:xfrm>
            <a:off x="2987640" y="37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4"/>
          <p:cNvSpPr/>
          <p:nvPr/>
        </p:nvSpPr>
        <p:spPr>
          <a:xfrm>
            <a:off x="6156360" y="37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毫升的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5"/>
          <p:cNvSpPr/>
          <p:nvPr/>
        </p:nvSpPr>
        <p:spPr>
          <a:xfrm>
            <a:off x="2843280" y="414972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6"/>
          <p:cNvSpPr/>
          <p:nvPr/>
        </p:nvSpPr>
        <p:spPr>
          <a:xfrm>
            <a:off x="2987640" y="4221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凉水，约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8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7"/>
          <p:cNvSpPr/>
          <p:nvPr/>
        </p:nvSpPr>
        <p:spPr>
          <a:xfrm>
            <a:off x="6156360" y="4221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凉水，约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8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92360" y="4149720"/>
            <a:ext cx="6983280" cy="360"/>
            <a:chOff x="1692360" y="4149720"/>
            <a:chExt cx="6983280" cy="360"/>
          </a:xfrm>
        </p:grpSpPr>
        <p:sp>
          <p:nvSpPr>
            <p:cNvPr id="349" name="Line 38"/>
            <p:cNvSpPr/>
            <p:nvPr/>
          </p:nvSpPr>
          <p:spPr>
            <a:xfrm>
              <a:off x="1692360" y="414972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1692360" y="414972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9"/>
          <p:cNvSpPr/>
          <p:nvPr/>
        </p:nvSpPr>
        <p:spPr>
          <a:xfrm>
            <a:off x="1835280" y="4221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0"/>
          <p:cNvSpPr/>
          <p:nvPr/>
        </p:nvSpPr>
        <p:spPr>
          <a:xfrm>
            <a:off x="3348000" y="4797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1"/>
          <p:cNvSpPr/>
          <p:nvPr/>
        </p:nvSpPr>
        <p:spPr>
          <a:xfrm>
            <a:off x="6659640" y="47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2"/>
          <p:cNvSpPr/>
          <p:nvPr/>
        </p:nvSpPr>
        <p:spPr>
          <a:xfrm>
            <a:off x="1835280" y="5516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3"/>
          <p:cNvSpPr/>
          <p:nvPr/>
        </p:nvSpPr>
        <p:spPr>
          <a:xfrm>
            <a:off x="3419640" y="55897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ulim"/>
                <a:ea typeface="Gulim"/>
              </a:rPr>
              <a:t>搅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4"/>
          <p:cNvSpPr/>
          <p:nvPr/>
        </p:nvSpPr>
        <p:spPr>
          <a:xfrm>
            <a:off x="6659640" y="5589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Gulim"/>
                <a:ea typeface="Gulim"/>
              </a:rPr>
              <a:t>不搅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5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020080" cy="88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小结论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187280" y="2349360"/>
            <a:ext cx="66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实验发现，</a:t>
            </a:r>
            <a:r>
              <a:rPr b="0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搅拌</a:t>
            </a: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以加快白糖在水中的溶解</a:t>
            </a:r>
            <a:r>
              <a:rPr b="0" lang="zh-CN" sz="6000" spc="-1" strike="noStrike">
                <a:solidFill>
                  <a:srgbClr val="000000"/>
                </a:solidFill>
                <a:latin typeface="Gulim"/>
                <a:ea typeface="Gulim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颗粒大小与溶解快慢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4360" y="1628640"/>
            <a:ext cx="7920000" cy="360"/>
            <a:chOff x="684360" y="1628640"/>
            <a:chExt cx="7920000" cy="360"/>
          </a:xfrm>
        </p:grpSpPr>
        <p:sp>
          <p:nvSpPr>
            <p:cNvPr id="363" name="Line 3"/>
            <p:cNvSpPr/>
            <p:nvPr/>
          </p:nvSpPr>
          <p:spPr>
            <a:xfrm>
              <a:off x="684360" y="162864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684360" y="162864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84360" y="2349360"/>
            <a:ext cx="7920000" cy="360"/>
            <a:chOff x="684360" y="2349360"/>
            <a:chExt cx="7920000" cy="360"/>
          </a:xfrm>
        </p:grpSpPr>
        <p:sp>
          <p:nvSpPr>
            <p:cNvPr id="366" name="Line 4"/>
            <p:cNvSpPr/>
            <p:nvPr/>
          </p:nvSpPr>
          <p:spPr>
            <a:xfrm>
              <a:off x="684360" y="234936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684360" y="234936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55640" y="5157360"/>
            <a:ext cx="7920000" cy="360"/>
            <a:chOff x="755640" y="5157360"/>
            <a:chExt cx="7920000" cy="360"/>
          </a:xfrm>
        </p:grpSpPr>
        <p:sp>
          <p:nvSpPr>
            <p:cNvPr id="369" name="Line 5"/>
            <p:cNvSpPr/>
            <p:nvPr/>
          </p:nvSpPr>
          <p:spPr>
            <a:xfrm>
              <a:off x="755640" y="5157720"/>
              <a:ext cx="792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 rot="10800000">
              <a:off x="755640" y="5157000"/>
              <a:ext cx="792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6"/>
          <p:cNvSpPr/>
          <p:nvPr/>
        </p:nvSpPr>
        <p:spPr>
          <a:xfrm>
            <a:off x="3203640" y="170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整块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6516720" y="1773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碎块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692360" y="2349360"/>
            <a:ext cx="360" cy="2880000"/>
            <a:chOff x="1692360" y="2349360"/>
            <a:chExt cx="360" cy="2880000"/>
          </a:xfrm>
        </p:grpSpPr>
        <p:sp>
          <p:nvSpPr>
            <p:cNvPr id="374" name="Line 8"/>
            <p:cNvSpPr/>
            <p:nvPr/>
          </p:nvSpPr>
          <p:spPr>
            <a:xfrm>
              <a:off x="1692360" y="234936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1692360" y="2349360"/>
              <a:ext cx="360" cy="28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9"/>
          <p:cNvSpPr/>
          <p:nvPr/>
        </p:nvSpPr>
        <p:spPr>
          <a:xfrm>
            <a:off x="879840" y="2565360"/>
            <a:ext cx="66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相     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692360" y="5229360"/>
            <a:ext cx="360" cy="1295280"/>
            <a:chOff x="1692360" y="5229360"/>
            <a:chExt cx="360" cy="1295280"/>
          </a:xfrm>
        </p:grpSpPr>
        <p:sp>
          <p:nvSpPr>
            <p:cNvPr id="378" name="Line 10"/>
            <p:cNvSpPr/>
            <p:nvPr/>
          </p:nvSpPr>
          <p:spPr>
            <a:xfrm>
              <a:off x="1692360" y="5229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1692360" y="522936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11"/>
          <p:cNvSpPr/>
          <p:nvPr/>
        </p:nvSpPr>
        <p:spPr>
          <a:xfrm>
            <a:off x="998640" y="5229360"/>
            <a:ext cx="54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951480" y="537372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692000" y="1628640"/>
            <a:ext cx="360" cy="720720"/>
            <a:chOff x="1692000" y="1628640"/>
            <a:chExt cx="360" cy="720720"/>
          </a:xfrm>
        </p:grpSpPr>
        <p:sp>
          <p:nvSpPr>
            <p:cNvPr id="383" name="Line 13"/>
            <p:cNvSpPr/>
            <p:nvPr/>
          </p:nvSpPr>
          <p:spPr>
            <a:xfrm flipV="1">
              <a:off x="1692360" y="162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 rot="10800000">
              <a:off x="1692000" y="1628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 Box 14"/>
          <p:cNvSpPr/>
          <p:nvPr/>
        </p:nvSpPr>
        <p:spPr>
          <a:xfrm>
            <a:off x="611280" y="17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条 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84360" y="6524640"/>
            <a:ext cx="8064360" cy="360"/>
            <a:chOff x="684360" y="6524640"/>
            <a:chExt cx="8064360" cy="360"/>
          </a:xfrm>
        </p:grpSpPr>
        <p:sp>
          <p:nvSpPr>
            <p:cNvPr id="387" name="Line 15"/>
            <p:cNvSpPr/>
            <p:nvPr/>
          </p:nvSpPr>
          <p:spPr>
            <a:xfrm>
              <a:off x="684360" y="652464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684360" y="652464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340000" y="2349360"/>
            <a:ext cx="360" cy="4175280"/>
            <a:chOff x="2340000" y="2349360"/>
            <a:chExt cx="360" cy="4175280"/>
          </a:xfrm>
        </p:grpSpPr>
        <p:sp>
          <p:nvSpPr>
            <p:cNvPr id="390" name="Line 16"/>
            <p:cNvSpPr/>
            <p:nvPr/>
          </p:nvSpPr>
          <p:spPr>
            <a:xfrm>
              <a:off x="2340000" y="234936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2340000" y="2349360"/>
              <a:ext cx="360" cy="417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692360" y="2781360"/>
            <a:ext cx="6983280" cy="360"/>
            <a:chOff x="1692360" y="2781360"/>
            <a:chExt cx="6983280" cy="360"/>
          </a:xfrm>
        </p:grpSpPr>
        <p:sp>
          <p:nvSpPr>
            <p:cNvPr id="393" name="Line 17"/>
            <p:cNvSpPr/>
            <p:nvPr/>
          </p:nvSpPr>
          <p:spPr>
            <a:xfrm>
              <a:off x="1692360" y="278136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1692360" y="278136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1692360" y="3213000"/>
            <a:ext cx="6983280" cy="360"/>
            <a:chOff x="1692360" y="3213000"/>
            <a:chExt cx="6983280" cy="360"/>
          </a:xfrm>
        </p:grpSpPr>
        <p:sp>
          <p:nvSpPr>
            <p:cNvPr id="396" name="Line 18"/>
            <p:cNvSpPr/>
            <p:nvPr/>
          </p:nvSpPr>
          <p:spPr>
            <a:xfrm>
              <a:off x="1692360" y="321300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1692360" y="321300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692360" y="3645000"/>
            <a:ext cx="6983280" cy="360"/>
            <a:chOff x="1692360" y="3645000"/>
            <a:chExt cx="6983280" cy="360"/>
          </a:xfrm>
        </p:grpSpPr>
        <p:sp>
          <p:nvSpPr>
            <p:cNvPr id="399" name="Line 19"/>
            <p:cNvSpPr/>
            <p:nvPr/>
          </p:nvSpPr>
          <p:spPr>
            <a:xfrm>
              <a:off x="1692360" y="364500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1692360" y="364500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20"/>
          <p:cNvSpPr/>
          <p:nvPr/>
        </p:nvSpPr>
        <p:spPr>
          <a:xfrm>
            <a:off x="183528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1"/>
          <p:cNvSpPr/>
          <p:nvPr/>
        </p:nvSpPr>
        <p:spPr>
          <a:xfrm>
            <a:off x="1835280" y="278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2"/>
          <p:cNvSpPr/>
          <p:nvPr/>
        </p:nvSpPr>
        <p:spPr>
          <a:xfrm>
            <a:off x="1835280" y="321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3"/>
          <p:cNvSpPr/>
          <p:nvPr/>
        </p:nvSpPr>
        <p:spPr>
          <a:xfrm>
            <a:off x="1835280" y="3645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4"/>
          <p:cNvSpPr/>
          <p:nvPr/>
        </p:nvSpPr>
        <p:spPr>
          <a:xfrm>
            <a:off x="2411280" y="3213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5"/>
          <p:cNvSpPr/>
          <p:nvPr/>
        </p:nvSpPr>
        <p:spPr>
          <a:xfrm>
            <a:off x="2484360" y="3213000"/>
            <a:ext cx="31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6300720" y="27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7"/>
          <p:cNvSpPr/>
          <p:nvPr/>
        </p:nvSpPr>
        <p:spPr>
          <a:xfrm>
            <a:off x="4211640" y="465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同时加入水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8"/>
          <p:cNvSpPr/>
          <p:nvPr/>
        </p:nvSpPr>
        <p:spPr>
          <a:xfrm>
            <a:off x="2843280" y="364500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9"/>
          <p:cNvSpPr/>
          <p:nvPr/>
        </p:nvSpPr>
        <p:spPr>
          <a:xfrm>
            <a:off x="1835280" y="5516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ulim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0"/>
          <p:cNvSpPr/>
          <p:nvPr/>
        </p:nvSpPr>
        <p:spPr>
          <a:xfrm>
            <a:off x="3203640" y="530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ulim"/>
                <a:ea typeface="Gulim"/>
              </a:rPr>
              <a:t>大大的一整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1"/>
          <p:cNvSpPr/>
          <p:nvPr/>
        </p:nvSpPr>
        <p:spPr>
          <a:xfrm>
            <a:off x="6659640" y="530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Gulim"/>
                <a:ea typeface="Gulim"/>
              </a:rPr>
              <a:t>小小的许多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692360" y="4076640"/>
            <a:ext cx="6983280" cy="360"/>
            <a:chOff x="1692360" y="4076640"/>
            <a:chExt cx="6983280" cy="360"/>
          </a:xfrm>
        </p:grpSpPr>
        <p:sp>
          <p:nvSpPr>
            <p:cNvPr id="414" name="Line 32"/>
            <p:cNvSpPr/>
            <p:nvPr/>
          </p:nvSpPr>
          <p:spPr>
            <a:xfrm>
              <a:off x="1692360" y="407664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1692360" y="407664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692360" y="4581360"/>
            <a:ext cx="6983280" cy="360"/>
            <a:chOff x="1692360" y="4581360"/>
            <a:chExt cx="6983280" cy="360"/>
          </a:xfrm>
        </p:grpSpPr>
        <p:sp>
          <p:nvSpPr>
            <p:cNvPr id="417" name="Line 33"/>
            <p:cNvSpPr/>
            <p:nvPr/>
          </p:nvSpPr>
          <p:spPr>
            <a:xfrm>
              <a:off x="1692360" y="4581360"/>
              <a:ext cx="698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1692360" y="4581360"/>
              <a:ext cx="698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 Box 34"/>
          <p:cNvSpPr/>
          <p:nvPr/>
        </p:nvSpPr>
        <p:spPr>
          <a:xfrm>
            <a:off x="183528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5"/>
          <p:cNvSpPr/>
          <p:nvPr/>
        </p:nvSpPr>
        <p:spPr>
          <a:xfrm>
            <a:off x="3203640" y="2349360"/>
            <a:ext cx="42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3635280" y="234936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一样的用水量，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1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7"/>
          <p:cNvSpPr/>
          <p:nvPr/>
        </p:nvSpPr>
        <p:spPr>
          <a:xfrm>
            <a:off x="3419640" y="2781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一样的容器，</a:t>
            </a: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250mL</a:t>
            </a: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烧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8"/>
          <p:cNvSpPr/>
          <p:nvPr/>
        </p:nvSpPr>
        <p:spPr>
          <a:xfrm>
            <a:off x="4284720" y="3213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一样的水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>
            <a:off x="3708360" y="364500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都搅拌，或者都不搅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1835280" y="4581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ulim"/>
                <a:ea typeface="Gulim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1"/>
          <p:cNvSpPr/>
          <p:nvPr/>
        </p:nvSpPr>
        <p:spPr>
          <a:xfrm>
            <a:off x="4356000" y="4149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Gulim"/>
                <a:ea typeface="Gulim"/>
              </a:rPr>
              <a:t>相同的质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148360" y="5157720"/>
            <a:ext cx="360" cy="1366920"/>
            <a:chOff x="5148360" y="5157720"/>
            <a:chExt cx="360" cy="1366920"/>
          </a:xfrm>
        </p:grpSpPr>
        <p:sp>
          <p:nvSpPr>
            <p:cNvPr id="428" name="Line 42"/>
            <p:cNvSpPr/>
            <p:nvPr/>
          </p:nvSpPr>
          <p:spPr>
            <a:xfrm>
              <a:off x="5148360" y="5157720"/>
              <a:ext cx="0" cy="136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5148360" y="5157720"/>
              <a:ext cx="360" cy="136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43"/>
          <p:cNvSpPr/>
          <p:nvPr/>
        </p:nvSpPr>
        <p:spPr>
          <a:xfrm>
            <a:off x="7128000" y="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的快与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2:20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39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