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chimes.wav" ContentType="audio/x-wav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4.jpeg" ContentType="image/jpeg"/>
  <Override PartName="/ppt/media/explode.wav" ContentType="audio/x-wav"/>
  <Override PartName="/ppt/media/image6.png" ContentType="image/png"/>
  <Override PartName="/ppt/media/image14.jpeg" ContentType="image/jpeg"/>
  <Override PartName="/ppt/media/image8.png" ContentType="image/png"/>
  <Override PartName="/ppt/media/image4.png" ContentType="image/png"/>
  <Override PartName="/ppt/media/image9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whoosh.wav" ContentType="audio/x-wav"/>
  <Override PartName="/ppt/media/image31.jpeg" ContentType="image/jpeg"/>
  <Override PartName="/ppt/media/image32.png" ContentType="image/png"/>
  <Override PartName="/ppt/media/image2.png" ContentType="image/png"/>
  <Override PartName="/ppt/media/image13.png" ContentType="image/png"/>
  <Override PartName="/ppt/media/image15.jpeg" ContentType="image/jpeg"/>
  <Override PartName="/ppt/media/laser.wav" ContentType="audio/x-wav"/>
  <Override PartName="/ppt/media/image16.jpeg" ContentType="image/jpeg"/>
  <Override PartName="/ppt/media/image12.gif" ContentType="image/gif"/>
  <Override PartName="/ppt/media/image17.jpeg" ContentType="image/jpeg"/>
  <Override PartName="/ppt/media/image3.gif" ContentType="image/gif"/>
  <Override PartName="/ppt/media/image26.png" ContentType="image/png"/>
  <Override PartName="/ppt/media/image18.png" ContentType="image/png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1F4-804C-4A42-B4D3-878BD526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376-6678-4A6E-B04B-81DBDBA9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5A1-81C4-429D-AFDA-8C6EAA77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557-F26D-4E02-8912-4A3F304B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BB2B-6E20-4DC2-84B6-E7636037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AF6D-02C2-433F-93E3-0C4A6E45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EE0E-38EF-4F35-8EF5-35A237C3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BE75-C9E8-401F-827C-0898A471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4866-DDBC-428B-971C-6DD74561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2FA5-024B-43EE-B954-88972BB0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8A80-6661-44C6-886B-711A58CC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B3B-A371-4769-8D85-8B0982F0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0A6F-240E-413F-825F-E23FA52E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ECE4-8C43-411F-B5CE-CF6AE4C9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481E-2646-408D-A3C8-A6E25D32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8FF4-7782-42F8-AB50-C3057056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7D27-7AAF-4C30-B3F1-422C07C5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0737A-0065-4104-BE48-3390EA96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A013-0B05-4209-ABF0-0A36D859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39193-23DA-44D4-A9A5-7FCA8FE6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5F5B7-F7C6-4635-92BC-532E080B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CF962-5372-4657-A598-2B04A8CD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582-90F0-4DF1-A386-3823C593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4910F-B669-4C48-8AE8-330FFB68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09787-C287-4A0B-AED6-14B43E0E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63F05-D31C-4B82-AD21-0191A558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A8F77-F9CF-4D2B-8EC1-A5CC7F0C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D2D3C-58D4-458E-B6ED-6BA3695A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52F62-BED5-4639-8C21-3621BB16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46C93-4E26-4CC3-9883-B06242F8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E59-6120-40F2-9365-D020A93E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852-1896-406B-9DB7-891A3872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913-6162-46CC-B51B-D4C0E016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197-120A-4301-A2E2-461467A3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93E-36D0-4DA2-9C1F-988F1811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2C3-23A0-440D-8C3B-105572FE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3D15-6AC8-4DAB-9B48-A67617D56DD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AE92-6BD6-4EFB-96F2-70EF5880D5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3B65-890D-428A-B371-6777010F85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2.png"/><Relationship Id="rId12" Type="http://schemas.openxmlformats.org/officeDocument/2006/relationships/image" Target="../media/image3.gif"/><Relationship Id="rId13" Type="http://schemas.openxmlformats.org/officeDocument/2006/relationships/image" Target="../media/image4.png"/><Relationship Id="rId14" Type="http://schemas.openxmlformats.org/officeDocument/2006/relationships/audio" Target="../media/explode.wav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22.png"/><Relationship Id="rId4" Type="http://schemas.openxmlformats.org/officeDocument/2006/relationships/hyperlink" Target="F:\&#21021;&#19977;&#29289;&#29702;&#35838;&#20214;\&#31532;14&#31456; &#20869;&#33021;&#30340;&#21033;&#29992;\&#31532;&#19968;&#33410; &#28909;&#26426;\&#27773;&#27833;&#26426;.flv" TargetMode="External"/><Relationship Id="rId5" Type="http://schemas.openxmlformats.org/officeDocument/2006/relationships/hyperlink" Target="F:\&#21021;&#19977;&#29289;&#29702;&#35838;&#20214;\&#31532;14&#31456; &#20869;&#33021;&#30340;&#21033;&#29992;\&#31532;&#19968;&#33410; &#28909;&#26426;\&#27773;&#27833;&#26426;&#30340;&#24037;&#20316;&#21407;&#29702;_&#26631;&#28165;.flv" TargetMode="External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:\gongkaike\&#35838;&#20214;\&#20869;&#29123;&#26426;.DAT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278,10,&#21560;&#27668;&#20914;&#31243;" TargetMode="External"/><Relationship Id="rId3" Type="http://schemas.openxmlformats.org/officeDocument/2006/relationships/hyperlink" Target="279,11,&#21387;&#32553;&#20914;&#31243;" TargetMode="External"/><Relationship Id="rId4" Type="http://schemas.openxmlformats.org/officeDocument/2006/relationships/hyperlink" Target="280,12,&#20570;&#21151;&#20914;&#31243;" TargetMode="External"/><Relationship Id="rId5" Type="http://schemas.openxmlformats.org/officeDocument/2006/relationships/hyperlink" Target="281,13,&#25490;&#27668;&#20914;&#31243;" TargetMode="External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explod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:\&#21021;&#19977;&#29289;&#29702;&#35838;&#20214;\&#31532;14&#31456; &#20869;&#33021;&#30340;&#21033;&#29992;\&#31532;&#19968;&#33410; &#28909;&#26426;\&#21033;&#29992;&#20869;&#33021;&#20570;&#21151;_&#26631;&#28165;.flv" TargetMode="External"/><Relationship Id="rId3" Type="http://schemas.openxmlformats.org/officeDocument/2006/relationships/hyperlink" Target="F:\&#21021;&#19977;&#29289;&#29702;&#35838;&#20214;\&#31532;14&#31456; &#20869;&#33021;&#30340;&#21033;&#29992;\&#31532;&#19968;&#33410; &#28909;&#26426;\&#24341;&#39064;.fl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1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hyperlink" Target="F:\&#21021;&#19977;&#29289;&#29702;&#35838;&#20214;\&#31532;14&#31456; &#20869;&#33021;&#30340;&#21033;&#29992;\&#31532;&#19968;&#33410; &#28909;&#26426;\&#25945;&#23398;&#29992;&#33976;&#27773;&#26426;&#27169;&#22411;_&#26631;&#28165;.flv" TargetMode="External"/><Relationship Id="rId4" Type="http://schemas.openxmlformats.org/officeDocument/2006/relationships/hyperlink" Target="F:\&#21021;&#19977;&#29289;&#29702;&#35838;&#20214;\&#31532;14&#31456; &#20869;&#33021;&#30340;&#21033;&#29992;\&#31532;&#19968;&#33410; &#28909;&#26426;\&#21069;&#36827;&#26426;&#36710;_&#26631;&#28165;.flv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8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187280" y="3279600"/>
            <a:ext cx="49392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101080" y="3495600"/>
            <a:ext cx="49356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101080" y="2273400"/>
            <a:ext cx="49356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187280" y="2060640"/>
            <a:ext cx="49392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415880" y="2289240"/>
            <a:ext cx="6756480" cy="1295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263600" y="2136600"/>
            <a:ext cx="328680" cy="304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263600" y="3355920"/>
            <a:ext cx="328680" cy="30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8177040" y="2133720"/>
            <a:ext cx="328680" cy="304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8177040" y="3355920"/>
            <a:ext cx="328680" cy="304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1492200" y="2365200"/>
            <a:ext cx="6608880" cy="1143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60"/>
          <p:cNvSpPr txBox="1"/>
          <p:nvPr/>
        </p:nvSpPr>
        <p:spPr>
          <a:xfrm>
            <a:off x="2841480" y="2289240"/>
            <a:ext cx="3816360" cy="12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热机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模板打包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Picture 65" descr="六缸汽油机"/>
          <p:cNvPicPr/>
          <p:nvPr/>
        </p:nvPicPr>
        <p:blipFill>
          <a:blip r:embed="rId11"/>
          <a:stretch/>
        </p:blipFill>
        <p:spPr>
          <a:xfrm>
            <a:off x="5211720" y="3979800"/>
            <a:ext cx="2638440" cy="1935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7" descr="k023"/>
          <p:cNvPicPr/>
          <p:nvPr/>
        </p:nvPicPr>
        <p:blipFill>
          <a:blip r:embed="rId12"/>
          <a:stretch/>
        </p:blipFill>
        <p:spPr>
          <a:xfrm>
            <a:off x="4281480" y="549360"/>
            <a:ext cx="930240" cy="1295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9" descr="四缸内燃机"/>
          <p:cNvPicPr/>
          <p:nvPr/>
        </p:nvPicPr>
        <p:blipFill>
          <a:blip r:embed="rId13"/>
          <a:stretch/>
        </p:blipFill>
        <p:spPr>
          <a:xfrm>
            <a:off x="1979640" y="3860640"/>
            <a:ext cx="2060640" cy="205452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260360" y="693720"/>
            <a:ext cx="6769080" cy="657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</a:rPr>
              <a:t>四、</a:t>
            </a:r>
            <a:r>
              <a:rPr b="1" lang="zh-CN" sz="3700" spc="-1" strike="noStrike">
                <a:solidFill>
                  <a:srgbClr val="660066"/>
                </a:solidFill>
                <a:latin typeface="宋体"/>
              </a:rPr>
              <a:t>汽油机的工作原理：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39640" y="13478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9933"/>
                </a:solidFill>
                <a:latin typeface="Times New Roman"/>
              </a:rPr>
              <a:t>构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3" descr="问号"/>
          <p:cNvPicPr/>
          <p:nvPr/>
        </p:nvPicPr>
        <p:blipFill>
          <a:blip r:embed="rId2"/>
          <a:stretch/>
        </p:blipFill>
        <p:spPr>
          <a:xfrm>
            <a:off x="917640" y="247680"/>
            <a:ext cx="990360" cy="58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构造(汽)"/>
          <p:cNvPicPr/>
          <p:nvPr/>
        </p:nvPicPr>
        <p:blipFill>
          <a:blip r:embed="rId3"/>
          <a:stretch/>
        </p:blipFill>
        <p:spPr>
          <a:xfrm>
            <a:off x="2689200" y="1268280"/>
            <a:ext cx="4238640" cy="492444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574800" y="4287600"/>
            <a:ext cx="1447920" cy="533160"/>
            <a:chOff x="3574800" y="4287600"/>
            <a:chExt cx="1447920" cy="533160"/>
          </a:xfrm>
        </p:grpSpPr>
        <p:sp>
          <p:nvSpPr>
            <p:cNvPr id="200" name="Line 6"/>
            <p:cNvSpPr/>
            <p:nvPr/>
          </p:nvSpPr>
          <p:spPr>
            <a:xfrm flipV="1">
              <a:off x="3575160" y="4287600"/>
              <a:ext cx="1447560" cy="53316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 rot="10800000">
              <a:off x="3574800" y="4287600"/>
              <a:ext cx="14475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50760" y="3220560"/>
            <a:ext cx="1143360" cy="381240"/>
            <a:chOff x="3650760" y="3220560"/>
            <a:chExt cx="1143360" cy="381240"/>
          </a:xfrm>
        </p:grpSpPr>
        <p:sp>
          <p:nvSpPr>
            <p:cNvPr id="203" name="Line 7"/>
            <p:cNvSpPr/>
            <p:nvPr/>
          </p:nvSpPr>
          <p:spPr>
            <a:xfrm flipV="1">
              <a:off x="3651120" y="3220560"/>
              <a:ext cx="1143000" cy="38124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 rot="10800000">
              <a:off x="3650760" y="3220560"/>
              <a:ext cx="114300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346560" y="2992320"/>
            <a:ext cx="304560" cy="76320"/>
            <a:chOff x="3346560" y="2992320"/>
            <a:chExt cx="304560" cy="76320"/>
          </a:xfrm>
        </p:grpSpPr>
        <p:sp>
          <p:nvSpPr>
            <p:cNvPr id="206" name="Line 8"/>
            <p:cNvSpPr/>
            <p:nvPr/>
          </p:nvSpPr>
          <p:spPr>
            <a:xfrm flipV="1">
              <a:off x="3346560" y="2992320"/>
              <a:ext cx="304560" cy="7632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 rot="10800000">
              <a:off x="3346560" y="2992320"/>
              <a:ext cx="30456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393960" y="2992320"/>
            <a:ext cx="381240" cy="76320"/>
            <a:chOff x="6393960" y="2992320"/>
            <a:chExt cx="381240" cy="76320"/>
          </a:xfrm>
        </p:grpSpPr>
        <p:sp>
          <p:nvSpPr>
            <p:cNvPr id="209" name="Line 9"/>
            <p:cNvSpPr/>
            <p:nvPr/>
          </p:nvSpPr>
          <p:spPr>
            <a:xfrm flipH="1" flipV="1">
              <a:off x="6393960" y="2992320"/>
              <a:ext cx="381240" cy="7632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 rot="10800000">
              <a:off x="6393960" y="2992320"/>
              <a:ext cx="38124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327280" y="5430960"/>
            <a:ext cx="1143000" cy="304560"/>
            <a:chOff x="5327280" y="5430960"/>
            <a:chExt cx="1143000" cy="304560"/>
          </a:xfrm>
        </p:grpSpPr>
        <p:sp>
          <p:nvSpPr>
            <p:cNvPr id="212" name="Line 10"/>
            <p:cNvSpPr/>
            <p:nvPr/>
          </p:nvSpPr>
          <p:spPr>
            <a:xfrm flipH="1" flipV="1">
              <a:off x="5327280" y="5430960"/>
              <a:ext cx="1143000" cy="30456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 rot="10800000">
              <a:off x="5327280" y="5430960"/>
              <a:ext cx="114300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175000" y="1849320"/>
            <a:ext cx="1600560" cy="533520"/>
            <a:chOff x="5175000" y="1849320"/>
            <a:chExt cx="1600560" cy="533520"/>
          </a:xfrm>
        </p:grpSpPr>
        <p:sp>
          <p:nvSpPr>
            <p:cNvPr id="215" name="Line 11"/>
            <p:cNvSpPr/>
            <p:nvPr/>
          </p:nvSpPr>
          <p:spPr>
            <a:xfrm flipH="1">
              <a:off x="5175000" y="1849320"/>
              <a:ext cx="1600200" cy="53352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5175360" y="1849320"/>
              <a:ext cx="1600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346200" y="1468080"/>
            <a:ext cx="1524240" cy="228600"/>
            <a:chOff x="3346200" y="1468080"/>
            <a:chExt cx="1524240" cy="228600"/>
          </a:xfrm>
        </p:grpSpPr>
        <p:sp>
          <p:nvSpPr>
            <p:cNvPr id="218" name="Line 12"/>
            <p:cNvSpPr/>
            <p:nvPr/>
          </p:nvSpPr>
          <p:spPr>
            <a:xfrm flipV="1">
              <a:off x="3346560" y="1468080"/>
              <a:ext cx="1523880" cy="22860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 rot="10800000">
              <a:off x="3346200" y="1468080"/>
              <a:ext cx="15238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13"/>
          <p:cNvSpPr/>
          <p:nvPr/>
        </p:nvSpPr>
        <p:spPr>
          <a:xfrm>
            <a:off x="2050920" y="146844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火花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6851520" y="15447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汽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2050920" y="28400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进气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660760" y="33735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活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2584440" y="4592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连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6851520" y="28400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排气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6470640" y="550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788000" y="260280"/>
            <a:ext cx="113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链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7165800" y="189000"/>
            <a:ext cx="122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6d80"/>
                </a:solidFill>
                <a:uFillTx/>
                <a:latin typeface="Arial"/>
                <a:hlinkClick r:id="rId5"/>
              </a:rPr>
              <a:t>链接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468360" y="320760"/>
            <a:ext cx="7991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汽油机的构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观察图回答汽油机的主要构造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体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内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它通过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连。上部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顶部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411280" y="1628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汽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651640" y="163512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活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908000" y="227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连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4284720" y="22827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曲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258920" y="29322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进气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851280" y="29322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排气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1332000" y="3645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火花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539640" y="43527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工作原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999933"/>
                </a:solidFill>
                <a:latin typeface="Times New Roman"/>
              </a:rPr>
              <a:t>燃料的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化学能</a:t>
            </a:r>
            <a:r>
              <a:rPr b="1" lang="zh-CN" sz="3600" spc="-1" strike="noStrike">
                <a:solidFill>
                  <a:srgbClr val="999933"/>
                </a:solidFill>
                <a:latin typeface="Times New Roman"/>
              </a:rPr>
              <a:t>通过燃烧转化为内能，又通过做功，把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内能</a:t>
            </a:r>
            <a:r>
              <a:rPr b="1" lang="zh-CN" sz="3600" spc="-1" strike="noStrike">
                <a:solidFill>
                  <a:srgbClr val="999933"/>
                </a:solidFill>
                <a:latin typeface="Times New Roman"/>
              </a:rPr>
              <a:t>转变成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机械能</a:t>
            </a:r>
            <a:r>
              <a:rPr b="1" lang="zh-CN" sz="3600" spc="-1" strike="noStrike">
                <a:solidFill>
                  <a:srgbClr val="999933"/>
                </a:solidFill>
                <a:latin typeface="Times New Roman"/>
              </a:rPr>
              <a:t>。从而使机械获得动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0" descr="汽油机工作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16000"/>
            <a:ext cx="7272360" cy="59497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1332000" y="412920"/>
            <a:ext cx="5761080" cy="657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</a:rPr>
              <a:t>四、</a:t>
            </a:r>
            <a:r>
              <a:rPr b="1" lang="zh-CN" sz="3700" spc="-1" strike="noStrike">
                <a:solidFill>
                  <a:srgbClr val="660066"/>
                </a:solidFill>
                <a:latin typeface="宋体"/>
              </a:rPr>
              <a:t>汽油机的工作原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32000" y="1268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个名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332000" y="2060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一个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冲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32000" y="41497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一个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工作循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32000" y="278136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活塞在汽缸内往复运动时，从汽缸的一端运动到另一端的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332000" y="4797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这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四个冲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称为发动机的一个工作循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问号"/>
          <p:cNvPicPr/>
          <p:nvPr/>
        </p:nvPicPr>
        <p:blipFill>
          <a:blip r:embed="rId4"/>
          <a:stretch/>
        </p:blipFill>
        <p:spPr>
          <a:xfrm>
            <a:off x="917640" y="115920"/>
            <a:ext cx="990360" cy="5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334120" y="990720"/>
            <a:ext cx="160020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334120" y="2362320"/>
            <a:ext cx="160020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5334120" y="3657600"/>
            <a:ext cx="160020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5334120" y="5029200"/>
            <a:ext cx="160020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172200" y="1752480"/>
            <a:ext cx="360" cy="609840"/>
            <a:chOff x="6172200" y="1752480"/>
            <a:chExt cx="360" cy="609840"/>
          </a:xfrm>
        </p:grpSpPr>
        <p:sp>
          <p:nvSpPr>
            <p:cNvPr id="251" name="Line 6"/>
            <p:cNvSpPr/>
            <p:nvPr/>
          </p:nvSpPr>
          <p:spPr>
            <a:xfrm>
              <a:off x="6172200" y="175248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6172200" y="17524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172200" y="4419720"/>
            <a:ext cx="360" cy="609480"/>
            <a:chOff x="6172200" y="4419720"/>
            <a:chExt cx="360" cy="609480"/>
          </a:xfrm>
        </p:grpSpPr>
        <p:sp>
          <p:nvSpPr>
            <p:cNvPr id="254" name="Line 7"/>
            <p:cNvSpPr/>
            <p:nvPr/>
          </p:nvSpPr>
          <p:spPr>
            <a:xfrm>
              <a:off x="6172200" y="441972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6172200" y="441972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172200" y="3124080"/>
            <a:ext cx="360" cy="609840"/>
            <a:chOff x="6172200" y="3124080"/>
            <a:chExt cx="360" cy="609840"/>
          </a:xfrm>
        </p:grpSpPr>
        <p:sp>
          <p:nvSpPr>
            <p:cNvPr id="257" name="Line 8"/>
            <p:cNvSpPr/>
            <p:nvPr/>
          </p:nvSpPr>
          <p:spPr>
            <a:xfrm>
              <a:off x="6172200" y="312408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6172200" y="31240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172200" y="5943600"/>
            <a:ext cx="360" cy="228600"/>
            <a:chOff x="6172200" y="5943600"/>
            <a:chExt cx="360" cy="228600"/>
          </a:xfrm>
        </p:grpSpPr>
        <p:sp>
          <p:nvSpPr>
            <p:cNvPr id="260" name="Line 9"/>
            <p:cNvSpPr/>
            <p:nvPr/>
          </p:nvSpPr>
          <p:spPr>
            <a:xfrm>
              <a:off x="6172200" y="594360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6172200" y="594360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72200" y="5791320"/>
            <a:ext cx="360" cy="609480"/>
            <a:chOff x="6172200" y="5791320"/>
            <a:chExt cx="360" cy="609480"/>
          </a:xfrm>
        </p:grpSpPr>
        <p:sp>
          <p:nvSpPr>
            <p:cNvPr id="263" name="Line 10"/>
            <p:cNvSpPr/>
            <p:nvPr/>
          </p:nvSpPr>
          <p:spPr>
            <a:xfrm>
              <a:off x="6172200" y="579132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172200" y="579132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172200" y="6400800"/>
            <a:ext cx="1905120" cy="360"/>
            <a:chOff x="6172200" y="6400800"/>
            <a:chExt cx="1905120" cy="360"/>
          </a:xfrm>
        </p:grpSpPr>
        <p:sp>
          <p:nvSpPr>
            <p:cNvPr id="266" name="Line 11"/>
            <p:cNvSpPr/>
            <p:nvPr/>
          </p:nvSpPr>
          <p:spPr>
            <a:xfrm>
              <a:off x="6172200" y="6400800"/>
              <a:ext cx="19051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6172200" y="640080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8076960" y="228240"/>
            <a:ext cx="360" cy="6172200"/>
            <a:chOff x="8076960" y="228240"/>
            <a:chExt cx="360" cy="6172200"/>
          </a:xfrm>
        </p:grpSpPr>
        <p:sp>
          <p:nvSpPr>
            <p:cNvPr id="269" name="Line 12"/>
            <p:cNvSpPr/>
            <p:nvPr/>
          </p:nvSpPr>
          <p:spPr>
            <a:xfrm flipV="1">
              <a:off x="8077320" y="228240"/>
              <a:ext cx="0" cy="61722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 rot="10800000">
              <a:off x="8076960" y="228240"/>
              <a:ext cx="360" cy="617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172200" y="228600"/>
            <a:ext cx="1905120" cy="360"/>
            <a:chOff x="6172200" y="228600"/>
            <a:chExt cx="1905120" cy="360"/>
          </a:xfrm>
        </p:grpSpPr>
        <p:sp>
          <p:nvSpPr>
            <p:cNvPr id="272" name="Line 13"/>
            <p:cNvSpPr/>
            <p:nvPr/>
          </p:nvSpPr>
          <p:spPr>
            <a:xfrm flipH="1">
              <a:off x="6172200" y="228600"/>
              <a:ext cx="19051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6172200" y="22860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172200" y="228600"/>
            <a:ext cx="360" cy="762120"/>
            <a:chOff x="6172200" y="228600"/>
            <a:chExt cx="360" cy="762120"/>
          </a:xfrm>
        </p:grpSpPr>
        <p:sp>
          <p:nvSpPr>
            <p:cNvPr id="275" name="Line 14"/>
            <p:cNvSpPr/>
            <p:nvPr/>
          </p:nvSpPr>
          <p:spPr>
            <a:xfrm>
              <a:off x="6172200" y="22860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6172200" y="22860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172200" y="228600"/>
            <a:ext cx="360" cy="457200"/>
            <a:chOff x="6172200" y="228600"/>
            <a:chExt cx="360" cy="457200"/>
          </a:xfrm>
        </p:grpSpPr>
        <p:sp>
          <p:nvSpPr>
            <p:cNvPr id="278" name="Line 15"/>
            <p:cNvSpPr/>
            <p:nvPr/>
          </p:nvSpPr>
          <p:spPr>
            <a:xfrm>
              <a:off x="6172200" y="22860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6172200" y="2286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16"/>
          <p:cNvSpPr/>
          <p:nvPr/>
        </p:nvSpPr>
        <p:spPr>
          <a:xfrm>
            <a:off x="5486400" y="990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吸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5486400" y="23623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压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5486400" y="36576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做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5486400" y="50292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排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43210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Garamond"/>
                <a:ea typeface="隶书"/>
              </a:rPr>
              <a:t>内燃机的</a:t>
            </a:r>
            <a:br>
              <a:rPr sz="4200"/>
            </a:br>
            <a:r>
              <a:rPr b="1" lang="zh-CN" sz="4200" spc="-1" strike="noStrike">
                <a:solidFill>
                  <a:srgbClr val="ff0000"/>
                </a:solidFill>
                <a:latin typeface="Garamond"/>
                <a:ea typeface="隶书"/>
              </a:rPr>
              <a:t>冲程</a:t>
            </a:r>
            <a:r>
              <a:rPr b="1" lang="zh-CN" sz="4200" spc="-1" strike="noStrike">
                <a:solidFill>
                  <a:srgbClr val="000000"/>
                </a:solidFill>
                <a:latin typeface="Garamond"/>
                <a:ea typeface="隶书"/>
              </a:rPr>
              <a:t>和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  <a:ea typeface="隶书"/>
              </a:rPr>
              <a:t>工作循环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285" name="Picture 21" descr="汽油机"/>
          <p:cNvPicPr/>
          <p:nvPr/>
        </p:nvPicPr>
        <p:blipFill>
          <a:blip r:embed="rId1"/>
          <a:stretch/>
        </p:blipFill>
        <p:spPr>
          <a:xfrm>
            <a:off x="1547640" y="3213000"/>
            <a:ext cx="1638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5" dur="3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0" dur="3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5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4604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00"/>
                </a:solidFill>
                <a:latin typeface="隶书"/>
                <a:ea typeface="隶书"/>
              </a:rPr>
              <a:t>汽油机工作原理</a:t>
            </a:r>
            <a:endParaRPr b="0" lang="en-US" sz="57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287" name="Picture 3" descr="四冲程"/>
          <p:cNvPicPr/>
          <p:nvPr/>
        </p:nvPicPr>
        <p:blipFill>
          <a:blip r:embed="rId1"/>
          <a:stretch/>
        </p:blipFill>
        <p:spPr>
          <a:xfrm>
            <a:off x="1020600" y="2147760"/>
            <a:ext cx="7723440" cy="33242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1282680" y="5638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6d80"/>
                </a:solidFill>
                <a:uFillTx/>
                <a:latin typeface="Times New Roman"/>
                <a:hlinkClick r:id="rId2"/>
              </a:rPr>
              <a:t>吸气冲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3222720" y="56386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6d80"/>
                </a:solidFill>
                <a:uFillTx/>
                <a:latin typeface="Times New Roman"/>
                <a:hlinkClick r:id="rId3"/>
              </a:rPr>
              <a:t>压缩冲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5127480" y="5638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6d80"/>
                </a:solidFill>
                <a:uFillTx/>
                <a:latin typeface="Times New Roman"/>
                <a:hlinkClick r:id="rId4"/>
              </a:rPr>
              <a:t>做功冲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7032600" y="5638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6d80"/>
                </a:solidFill>
                <a:uFillTx/>
                <a:latin typeface="Times New Roman"/>
                <a:hlinkClick r:id="rId5"/>
              </a:rPr>
              <a:t>排气冲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89200" y="5888160"/>
            <a:ext cx="533520" cy="360"/>
            <a:chOff x="2689200" y="5888160"/>
            <a:chExt cx="533520" cy="360"/>
          </a:xfrm>
        </p:grpSpPr>
        <p:sp>
          <p:nvSpPr>
            <p:cNvPr id="293" name="Line 8"/>
            <p:cNvSpPr/>
            <p:nvPr/>
          </p:nvSpPr>
          <p:spPr>
            <a:xfrm>
              <a:off x="2689200" y="588816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2689200" y="588816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629240" y="5908680"/>
            <a:ext cx="533160" cy="360"/>
            <a:chOff x="4629240" y="5908680"/>
            <a:chExt cx="533160" cy="360"/>
          </a:xfrm>
        </p:grpSpPr>
        <p:sp>
          <p:nvSpPr>
            <p:cNvPr id="296" name="Line 9"/>
            <p:cNvSpPr/>
            <p:nvPr/>
          </p:nvSpPr>
          <p:spPr>
            <a:xfrm>
              <a:off x="4629240" y="5908680"/>
              <a:ext cx="533160" cy="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4629240" y="590868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554880" y="5888160"/>
            <a:ext cx="533160" cy="360"/>
            <a:chOff x="6554880" y="5888160"/>
            <a:chExt cx="533160" cy="360"/>
          </a:xfrm>
        </p:grpSpPr>
        <p:sp>
          <p:nvSpPr>
            <p:cNvPr id="299" name="Line 10"/>
            <p:cNvSpPr/>
            <p:nvPr/>
          </p:nvSpPr>
          <p:spPr>
            <a:xfrm>
              <a:off x="6554880" y="5888160"/>
              <a:ext cx="533160" cy="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554880" y="588816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99"/>
                </a:solidFill>
                <a:latin typeface="Garamond"/>
              </a:rPr>
              <a:t>吸气冲程</a:t>
            </a:r>
            <a:endParaRPr b="0" lang="en-US" sz="46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302" name="Picture 3" descr="吸气(汽)"/>
          <p:cNvPicPr/>
          <p:nvPr/>
        </p:nvPicPr>
        <p:blipFill>
          <a:blip r:embed="rId1"/>
          <a:stretch/>
        </p:blipFill>
        <p:spPr>
          <a:xfrm>
            <a:off x="4800600" y="1557360"/>
            <a:ext cx="3676680" cy="495288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5299200" y="3137040"/>
            <a:ext cx="457200" cy="304560"/>
            <a:chOff x="5299200" y="3137040"/>
            <a:chExt cx="457200" cy="304560"/>
          </a:xfrm>
        </p:grpSpPr>
        <p:sp>
          <p:nvSpPr>
            <p:cNvPr id="304" name="Line 4"/>
            <p:cNvSpPr/>
            <p:nvPr/>
          </p:nvSpPr>
          <p:spPr>
            <a:xfrm flipV="1">
              <a:off x="5299200" y="3137040"/>
              <a:ext cx="457200" cy="30456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 rot="10800000">
              <a:off x="5299200" y="313704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5"/>
          <p:cNvSpPr/>
          <p:nvPr/>
        </p:nvSpPr>
        <p:spPr>
          <a:xfrm>
            <a:off x="4438080" y="2679840"/>
            <a:ext cx="91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汽油和空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68360" y="1905120"/>
            <a:ext cx="4535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工作前，活塞位于汽缸上端，进、排气门均关闭。工作时，活塞由上向下运动，进气门打开，排气门仍关闭。由于缸内体积增大，压强减小，空气和汽油的混合气体被吸入汽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75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99"/>
                </a:solidFill>
                <a:latin typeface="Garamond"/>
              </a:rPr>
              <a:t>压缩冲程</a:t>
            </a:r>
            <a:endParaRPr b="0" lang="en-US" sz="46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309" name="Picture 3" descr="压缩(汽)"/>
          <p:cNvPicPr/>
          <p:nvPr/>
        </p:nvPicPr>
        <p:blipFill>
          <a:blip r:embed="rId1"/>
          <a:stretch/>
        </p:blipFill>
        <p:spPr>
          <a:xfrm>
            <a:off x="5334120" y="1557360"/>
            <a:ext cx="3181320" cy="49719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826920" y="2187720"/>
            <a:ext cx="443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塞运动到最下端，就开始转为向上运动。这时进气门、排气门都关闭，混合气体被强行压缩，使气体的温度升高，压强增大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机械能转化为内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75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99"/>
                </a:solidFill>
                <a:latin typeface="Garamond"/>
              </a:rPr>
              <a:t>做功冲程</a:t>
            </a:r>
            <a:endParaRPr b="0" lang="en-US" sz="46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312" name="Picture 3" descr="做功(汽)"/>
          <p:cNvPicPr/>
          <p:nvPr/>
        </p:nvPicPr>
        <p:blipFill>
          <a:blip r:embed="rId1"/>
          <a:stretch/>
        </p:blipFill>
        <p:spPr>
          <a:xfrm>
            <a:off x="5334120" y="1557360"/>
            <a:ext cx="3190680" cy="4952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250920" y="1687680"/>
            <a:ext cx="508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压缩结束时虽然温度较高，但未能达到燃料的燃点。在压缩冲程结束的瞬间，火花塞产生电火花，使燃料猛烈燃烧，产生高温高压气体，高温高压燃气推动活塞由上向下运动，通过连杆带动曲轴转动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高温燃烧气体的内能转化为活塞的机械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75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99"/>
                </a:solidFill>
                <a:latin typeface="Garamond"/>
              </a:rPr>
              <a:t>排气冲程</a:t>
            </a:r>
            <a:endParaRPr b="0" lang="en-US" sz="46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315" name="Picture 3" descr="排气(汽)"/>
          <p:cNvPicPr/>
          <p:nvPr/>
        </p:nvPicPr>
        <p:blipFill>
          <a:blip r:embed="rId1"/>
          <a:stretch/>
        </p:blipFill>
        <p:spPr>
          <a:xfrm>
            <a:off x="5315040" y="1557360"/>
            <a:ext cx="3828960" cy="49626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8153280" y="3178080"/>
            <a:ext cx="381240" cy="228600"/>
            <a:chOff x="8153280" y="3178080"/>
            <a:chExt cx="381240" cy="228600"/>
          </a:xfrm>
        </p:grpSpPr>
        <p:sp>
          <p:nvSpPr>
            <p:cNvPr id="317" name="Line 4"/>
            <p:cNvSpPr/>
            <p:nvPr/>
          </p:nvSpPr>
          <p:spPr>
            <a:xfrm>
              <a:off x="8153280" y="3178080"/>
              <a:ext cx="381240" cy="22860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8153280" y="3178080"/>
              <a:ext cx="3812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5"/>
          <p:cNvSpPr/>
          <p:nvPr/>
        </p:nvSpPr>
        <p:spPr>
          <a:xfrm>
            <a:off x="8136720" y="2492280"/>
            <a:ext cx="91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99"/>
                </a:solidFill>
                <a:latin typeface="Times New Roman"/>
              </a:rPr>
              <a:t>燃烧后的废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1042920" y="2438280"/>
            <a:ext cx="406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功冲程结束，活塞继续由下向上运动，进气门关闭，排气门打开，燃烧后的废气被活塞推出缸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75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250920" y="37476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冲程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进气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排气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活塞由汽缸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混合物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吸入汽缸。当活塞运动到汽缸的最下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闭， 曲轴转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250920" y="33274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冲程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进气门和排气门都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，活塞由汽缸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，燃料的混合物被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汽缸内温度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气压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曲轴转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圈。在此过程中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转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2700360" y="33984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吸气冲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6659640" y="333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打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260360" y="843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关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5508720" y="843120"/>
            <a:ext cx="11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上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7164360" y="8431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1260360" y="141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汽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2916360" y="141912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6300720" y="14191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进气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250920" y="25002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进气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5148360" y="2500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828720" y="38307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关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5219640" y="37958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下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6877080" y="38307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7"/>
          <p:cNvSpPr/>
          <p:nvPr/>
        </p:nvSpPr>
        <p:spPr>
          <a:xfrm>
            <a:off x="4643280" y="43718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压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757080" y="4875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升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3203640" y="491004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增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802560" y="48690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3132000" y="54864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机械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6013440" y="54864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内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2700360" y="32544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压缩冲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468360" y="2570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知识回顾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在一个试管中装一些水，用软木塞塞紧。对试管加热使水沸腾，会看到什么现象，说明了什么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w4"/>
          <p:cNvPicPr/>
          <p:nvPr/>
        </p:nvPicPr>
        <p:blipFill>
          <a:blip r:embed="rId1"/>
          <a:stretch/>
        </p:blipFill>
        <p:spPr>
          <a:xfrm>
            <a:off x="5580000" y="260280"/>
            <a:ext cx="3313080" cy="3168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468360" y="363708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象：软木塞冲出；管口有</a:t>
            </a:r>
            <a:r>
              <a:rPr b="1" lang="zh-CN" sz="3200" spc="-1" strike="noStrike">
                <a:solidFill>
                  <a:srgbClr val="999933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白气</a:t>
            </a:r>
            <a:r>
              <a:rPr b="1" lang="zh-CN" sz="3200" spc="-1" strike="noStrike">
                <a:solidFill>
                  <a:srgbClr val="999933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水蒸汽对木塞做功，内能减少，它的温度下降，水蒸汽液化成小水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工作时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内能转化为机械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33"/>
                </a:solidFill>
                <a:latin typeface="Times New Roman"/>
              </a:rPr>
              <a:t>应用：热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7524720" y="189000"/>
            <a:ext cx="121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链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510160" y="25236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链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360360" y="32868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冲程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在压缩冲程末，火花塞产生电火花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点燃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燃料混合物剧烈燃烧，产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燃气，推动活塞由汽缸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，并通过连杆驱使曲轴转动， 曲轴转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圈。在此冲程中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转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860640"/>
            <a:ext cx="84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四冲程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进气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排气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活塞由汽缸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，把废气排出汽缸。当活塞运动到汽缸的最上端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闭，曲轴转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2843280" y="268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做功冲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4284720" y="13478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高温高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835280" y="170028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3778200" y="19242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5219640" y="24271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1619280" y="30034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内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924360" y="3003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机械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2770200" y="37958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排气冲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6588000" y="37958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关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1332000" y="4365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打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651640" y="4365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下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380360" y="43718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2627280" y="54514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排气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7451640" y="54514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1187280" y="685800"/>
            <a:ext cx="288000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想想议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问号"/>
          <p:cNvPicPr/>
          <p:nvPr/>
        </p:nvPicPr>
        <p:blipFill>
          <a:blip r:embed="rId2"/>
          <a:stretch/>
        </p:blipFill>
        <p:spPr>
          <a:xfrm>
            <a:off x="900000" y="333360"/>
            <a:ext cx="990720" cy="5889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4"/>
          <p:cNvSpPr/>
          <p:nvPr/>
        </p:nvSpPr>
        <p:spPr>
          <a:xfrm>
            <a:off x="3924360" y="1628640"/>
            <a:ext cx="468000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、在四个冲程中，哪些冲程发生了能量的转化？如何转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3924360" y="3645000"/>
            <a:ext cx="468000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、哪个冲程使汽车获得动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042920" y="5126040"/>
            <a:ext cx="756144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、哪个冲程排出了汽车的尾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8" descr="k023"/>
          <p:cNvPicPr/>
          <p:nvPr/>
        </p:nvPicPr>
        <p:blipFill>
          <a:blip r:embed="rId6"/>
          <a:stretch/>
        </p:blipFill>
        <p:spPr>
          <a:xfrm>
            <a:off x="1403280" y="2276640"/>
            <a:ext cx="144792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3399"/>
                </a:solidFill>
                <a:latin typeface="宋体"/>
              </a:rPr>
              <a:t>2.</a:t>
            </a:r>
            <a:r>
              <a:rPr b="1" lang="zh-CN" sz="6300" spc="-1" strike="noStrike">
                <a:solidFill>
                  <a:srgbClr val="ff3399"/>
                </a:solidFill>
                <a:latin typeface="宋体"/>
              </a:rPr>
              <a:t>内燃机的启动</a:t>
            </a:r>
            <a:endParaRPr b="0" lang="en-US" sz="63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12720" y="1773360"/>
            <a:ext cx="7920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内燃机不能自行启动。开始运转时，要靠外力使飞轮和曲轴转动起来，由曲轴通过连杆带动活塞运动，以后内燃机才能自己工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431640" y="3546360"/>
            <a:ext cx="817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小结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汽油机一个工作循环包括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冲程，活塞往复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，曲轴转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圈，做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。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能量转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504720" y="341280"/>
            <a:ext cx="80280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汽油机工作的四个冲程中，只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燃气对外做功，其他三个冲程都是辅助冲程，要靠安装在曲轴上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完成。必须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外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611280" y="987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做功冲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468360" y="22827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飞轮的惯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7018200" y="3573360"/>
            <a:ext cx="5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3348000" y="4240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6730920" y="42400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1547640" y="48880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562200" y="48880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3399"/>
                </a:solidFill>
                <a:latin typeface="宋体"/>
              </a:rPr>
              <a:t>3.</a:t>
            </a:r>
            <a:r>
              <a:rPr b="1" lang="zh-CN" sz="6300" spc="-1" strike="noStrike">
                <a:solidFill>
                  <a:srgbClr val="ff3399"/>
                </a:solidFill>
                <a:latin typeface="宋体"/>
              </a:rPr>
              <a:t>内燃机的应用</a:t>
            </a:r>
            <a:endParaRPr b="0" lang="en-US" sz="63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539640" y="135900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汽油机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539640" y="3500280"/>
            <a:ext cx="4577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柴油机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1004760" y="4365720"/>
            <a:ext cx="72392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柴油比较便宜，但柴油机比较笨重，主要用在载重汽车、拖拉机、坦克上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042920" y="2133720"/>
            <a:ext cx="68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汽油机比较轻巧，常用在汽车、飞机和小型农业机械上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360360" y="781200"/>
            <a:ext cx="8532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冲程汽油机的工作过程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).(    ).(    ).(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个冲程组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冲程汽油机，由机械能转化为内能的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冲程，做功冲程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转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汽油机吸入汽缸的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点火方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冲程汽油机的三个辅助冲程靠飞轮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来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四冲程汽油机飞轮的转速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600R/mi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它每秒钟对外做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419640" y="115920"/>
            <a:ext cx="24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方正舒体"/>
                <a:ea typeface="方正舒体"/>
              </a:rPr>
              <a:t>知识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6"/>
          <p:cNvSpPr/>
          <p:nvPr/>
        </p:nvSpPr>
        <p:spPr>
          <a:xfrm>
            <a:off x="433440" y="37162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某四冲程汽油机，曲轴转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，则该汽油机每秒做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468360" y="25704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缸四冲程内燃机完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冲程，下列说法正确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，飞轮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，飞轮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，飞轮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，飞轮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4211640" y="765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4643280" y="42274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395280" y="5013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某四冲程汽油机，曲轴转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秒，则该汽油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秒做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284720" y="55245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179280" y="3573360"/>
            <a:ext cx="878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四冲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汽油机的工作过程有以下几种说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做功冲程中，是机械能转化为内能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做功冲程中，是内能转化为机械能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有做功冲程是燃气对外做功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汽油机在吸气冲程中吸入汽缸的是汽油。        以上说法正确的是（    ）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③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③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④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179280" y="213372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热机是将内能转化成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的机器；热机一个工作循环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冲程组成，其中图中所示是热机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7524720" y="1557360"/>
            <a:ext cx="1443240" cy="20876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3564000" y="5589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3995640" y="2133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机械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564000" y="2565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3419640" y="2997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做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9280" y="83664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某四冲程汽油机，曲轴转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1200r/min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则该汽油机每秒做功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次，有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个冲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飞轮转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WordArt 10"/>
          <p:cNvSpPr txBox="1"/>
          <p:nvPr/>
        </p:nvSpPr>
        <p:spPr>
          <a:xfrm>
            <a:off x="179280" y="0"/>
            <a:ext cx="21052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课堂检测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: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1673640" y="1268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3276720" y="1268280"/>
            <a:ext cx="53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6353640" y="1268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0" y="404640"/>
            <a:ext cx="8964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、在试管内装些水，用软木塞塞住，加热使水沸腾，水蒸气会把木塞冲开，有的同学由这个装置联想到内燃机，请你用连线反映出他的联想创新的思维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高温高压的水蒸气   坚固气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酒精燃烧           活塞运动做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玻璃试管           高温高压的燃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木塞冲出           油料燃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211640" y="2708280"/>
            <a:ext cx="792000" cy="1152360"/>
            <a:chOff x="4211640" y="2708280"/>
            <a:chExt cx="792000" cy="1152360"/>
          </a:xfrm>
        </p:grpSpPr>
        <p:sp>
          <p:nvSpPr>
            <p:cNvPr id="403" name="Line 3"/>
            <p:cNvSpPr/>
            <p:nvPr/>
          </p:nvSpPr>
          <p:spPr>
            <a:xfrm>
              <a:off x="4211640" y="2708280"/>
              <a:ext cx="792000" cy="1152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4211640" y="2708280"/>
              <a:ext cx="79200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123640" y="3428640"/>
            <a:ext cx="2880000" cy="1152360"/>
            <a:chOff x="2123640" y="3428640"/>
            <a:chExt cx="2880000" cy="1152360"/>
          </a:xfrm>
        </p:grpSpPr>
        <p:sp>
          <p:nvSpPr>
            <p:cNvPr id="406" name="Line 4"/>
            <p:cNvSpPr/>
            <p:nvPr/>
          </p:nvSpPr>
          <p:spPr>
            <a:xfrm flipV="1">
              <a:off x="2124000" y="3428640"/>
              <a:ext cx="2879640" cy="1152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 rot="10800000">
              <a:off x="2123640" y="3428640"/>
              <a:ext cx="287964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123640" y="2781000"/>
            <a:ext cx="2808720" cy="1152360"/>
            <a:chOff x="2123640" y="2781000"/>
            <a:chExt cx="2808720" cy="1152360"/>
          </a:xfrm>
        </p:grpSpPr>
        <p:sp>
          <p:nvSpPr>
            <p:cNvPr id="409" name="Line 5"/>
            <p:cNvSpPr/>
            <p:nvPr/>
          </p:nvSpPr>
          <p:spPr>
            <a:xfrm flipV="1">
              <a:off x="2124000" y="2781000"/>
              <a:ext cx="2808360" cy="1152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 rot="10800000">
              <a:off x="2123640" y="2781000"/>
              <a:ext cx="280836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195640" y="3357720"/>
            <a:ext cx="2663640" cy="1152360"/>
            <a:chOff x="2195640" y="3357720"/>
            <a:chExt cx="2663640" cy="1152360"/>
          </a:xfrm>
        </p:grpSpPr>
        <p:sp>
          <p:nvSpPr>
            <p:cNvPr id="412" name="Line 6"/>
            <p:cNvSpPr/>
            <p:nvPr/>
          </p:nvSpPr>
          <p:spPr>
            <a:xfrm>
              <a:off x="2195640" y="3357720"/>
              <a:ext cx="2663640" cy="1152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2195640" y="3357720"/>
              <a:ext cx="266364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Picture 7" descr="10"/>
          <p:cNvPicPr/>
          <p:nvPr/>
        </p:nvPicPr>
        <p:blipFill>
          <a:blip r:embed="rId1"/>
          <a:stretch/>
        </p:blipFill>
        <p:spPr>
          <a:xfrm>
            <a:off x="2050920" y="4773600"/>
            <a:ext cx="33116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汽油机在压缩冲程中工作物质被压缩，汽缸中的    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Ａ、压强增大，温度降低；Ｂ、压强减小，温度升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Ｃ、压强增大，温度升高；Ｄ、压强减小，温度降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619280" y="333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0" y="2060640"/>
            <a:ext cx="914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当瓶中的煤油倒去一半后，则煤油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、比热容不变，热值和密度都变为原来的一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、比热容、热值和密度都变为原来的一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、比热容、热值都变为原来的一半，密度不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、比热容、热值和密度都不变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7453080" y="20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0" y="508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在汽油机工作的四个冲程中，将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机械能转化为内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冲程，将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内能转化为机械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冲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2073960" y="558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344880" y="602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做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35304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1981080" cy="3209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2057400" y="3733920"/>
            <a:ext cx="5335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2209320" y="4114800"/>
            <a:ext cx="228960" cy="228600"/>
            <a:chOff x="2209320" y="4114800"/>
            <a:chExt cx="228960" cy="228600"/>
          </a:xfrm>
        </p:grpSpPr>
        <p:sp>
          <p:nvSpPr>
            <p:cNvPr id="151" name="Line 5"/>
            <p:cNvSpPr/>
            <p:nvPr/>
          </p:nvSpPr>
          <p:spPr>
            <a:xfrm flipH="1">
              <a:off x="2209320" y="4114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2209680" y="411480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981080" y="3962520"/>
            <a:ext cx="152640" cy="152280"/>
            <a:chOff x="1981080" y="3962520"/>
            <a:chExt cx="152640" cy="152280"/>
          </a:xfrm>
        </p:grpSpPr>
        <p:sp>
          <p:nvSpPr>
            <p:cNvPr id="154" name="Line 6"/>
            <p:cNvSpPr/>
            <p:nvPr/>
          </p:nvSpPr>
          <p:spPr>
            <a:xfrm flipH="1">
              <a:off x="1981080" y="3962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1981080" y="39625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7" descr=""/>
          <p:cNvPicPr/>
          <p:nvPr/>
        </p:nvPicPr>
        <p:blipFill>
          <a:blip r:embed="rId4"/>
          <a:stretch/>
        </p:blipFill>
        <p:spPr>
          <a:xfrm>
            <a:off x="2209680" y="3429000"/>
            <a:ext cx="685800" cy="665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5"/>
          <a:stretch/>
        </p:blipFill>
        <p:spPr>
          <a:xfrm>
            <a:off x="2438280" y="3200400"/>
            <a:ext cx="685800" cy="66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6"/>
          <a:stretch/>
        </p:blipFill>
        <p:spPr>
          <a:xfrm>
            <a:off x="2666880" y="2971800"/>
            <a:ext cx="685800" cy="665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0" y="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观察讨论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图所示，在试管内装一些水，用橡皮塞塞住。对试管加热使水沸腾，会看到什么现象？讨论这个过程中能量转化的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w4"/>
          <p:cNvPicPr/>
          <p:nvPr/>
        </p:nvPicPr>
        <p:blipFill>
          <a:blip r:embed="rId7"/>
          <a:stretch/>
        </p:blipFill>
        <p:spPr>
          <a:xfrm>
            <a:off x="6480000" y="189000"/>
            <a:ext cx="2664000" cy="2547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2"/>
          <p:cNvSpPr/>
          <p:nvPr/>
        </p:nvSpPr>
        <p:spPr>
          <a:xfrm>
            <a:off x="0" y="2205000"/>
            <a:ext cx="68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这个实验，展示了人类利用内能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2916360" y="3716280"/>
            <a:ext cx="608472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燃料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化学能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通过燃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转化为内能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，传给水和水蒸气，水蒸气膨胀做功把塞子冲出去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内能转化为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塞子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机械能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4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99"/>
                </a:solidFill>
                <a:latin typeface="Garamond"/>
              </a:rPr>
              <a:t>想想议议：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423" name="Picture 3" descr="汽油机"/>
          <p:cNvPicPr/>
          <p:nvPr/>
        </p:nvPicPr>
        <p:blipFill>
          <a:blip r:embed="rId1"/>
          <a:stretch/>
        </p:blipFill>
        <p:spPr>
          <a:xfrm>
            <a:off x="1476360" y="3309840"/>
            <a:ext cx="1638360" cy="2667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柴油机"/>
          <p:cNvPicPr/>
          <p:nvPr/>
        </p:nvPicPr>
        <p:blipFill>
          <a:blip r:embed="rId2"/>
          <a:stretch/>
        </p:blipFill>
        <p:spPr>
          <a:xfrm>
            <a:off x="6734160" y="2852640"/>
            <a:ext cx="1057320" cy="32767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1042920" y="1052640"/>
            <a:ext cx="701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汽油机和柴油机的工作过程有什么相同点，有什么不同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219320" y="2362320"/>
            <a:ext cx="7086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基本构造和主要部件的作用相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每个工件循环都经历四个冲程：吸气冲程、压缩冲程、做功冲程、排气冲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四个冲程中，只有做功冲程对外做功，其余三个冲程靠飞轮惯性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一个工作冲程中，活塞往复两次，飞轮转动两周，做功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1295280" y="609480"/>
            <a:ext cx="2743200" cy="1067040"/>
          </a:xfrm>
          <a:prstGeom prst="cloudCallout">
            <a:avLst>
              <a:gd name="adj1" fmla="val -46180"/>
              <a:gd name="adj2" fmla="val 90027"/>
            </a:avLst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相同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75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75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275"/>
                            </p:stCondLst>
                            <p:childTnLst>
                              <p:par>
                                <p:cTn id="80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75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75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4050"/>
                            </p:stCondLst>
                            <p:childTnLst>
                              <p:par>
                                <p:cTn id="81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75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75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6600"/>
                            </p:stCondLst>
                            <p:childTnLst>
                              <p:par>
                                <p:cTn id="81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75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75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4724280" y="219240"/>
            <a:ext cx="3276720" cy="1752480"/>
          </a:xfrm>
          <a:prstGeom prst="irregularSeal2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不同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1219320" y="1941480"/>
            <a:ext cx="71625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构造不同：汽油机气缸顶有火花塞，而柴油机气缸顶部有喷油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燃料不同：汽油机的燃料是汽油，而柴油机的燃料是柴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吸气不同：汽油机吸进汽油和空气的混合气体，柴油机只吸进空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点火不同：汽油机属点燃式点火，柴油机属压燃式点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75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75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325"/>
                            </p:stCondLst>
                            <p:childTnLst>
                              <p:par>
                                <p:cTn id="83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75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75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4500"/>
                            </p:stCondLst>
                            <p:childTnLst>
                              <p:par>
                                <p:cTn id="84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75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75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6975"/>
                            </p:stCondLst>
                            <p:childTnLst>
                              <p:par>
                                <p:cTn id="84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75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75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770F-D8CE-4377-9488-20862FC232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3" descr="33圣诞卡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"/>
          <p:cNvSpPr/>
          <p:nvPr/>
        </p:nvSpPr>
        <p:spPr>
          <a:xfrm>
            <a:off x="1116000" y="1098720"/>
            <a:ext cx="2592360" cy="91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5400" spc="-1" strike="noStrike">
                <a:solidFill>
                  <a:srgbClr val="800000"/>
                </a:solidFill>
                <a:latin typeface="宋体"/>
              </a:rPr>
              <a:t>小结</a:t>
            </a:r>
            <a:r>
              <a:rPr b="1" lang="zh-CN" sz="5400" spc="-1" strike="noStrike">
                <a:solidFill>
                  <a:srgbClr val="660066"/>
                </a:solidFill>
                <a:latin typeface="宋体"/>
              </a:rPr>
              <a:t>：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1116000" y="2112840"/>
            <a:ext cx="4176720" cy="70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、热机的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1116000" y="2832120"/>
            <a:ext cx="4176720" cy="703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、热机的种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1116000" y="3552840"/>
            <a:ext cx="3095640" cy="703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、内燃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116000" y="4273560"/>
            <a:ext cx="3095640" cy="703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、汽油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676520" y="1295280"/>
            <a:ext cx="2819160" cy="2062440"/>
          </a:xfrm>
          <a:prstGeom prst="rect">
            <a:avLst/>
          </a:prstGeom>
          <a:noFill/>
          <a:ln w="284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187280" y="685800"/>
            <a:ext cx="4608720" cy="657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</a:rPr>
              <a:t>一、</a:t>
            </a:r>
            <a:r>
              <a:rPr b="1" lang="zh-CN" sz="3700" spc="-1" strike="noStrike">
                <a:solidFill>
                  <a:srgbClr val="660066"/>
                </a:solidFill>
                <a:latin typeface="宋体"/>
              </a:rPr>
              <a:t>热机的定义：</a:t>
            </a:r>
            <a:r>
              <a:rPr b="1" lang="zh-CN" sz="37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问号"/>
          <p:cNvPicPr/>
          <p:nvPr/>
        </p:nvPicPr>
        <p:blipFill>
          <a:blip r:embed="rId2"/>
          <a:stretch/>
        </p:blipFill>
        <p:spPr>
          <a:xfrm>
            <a:off x="900000" y="333360"/>
            <a:ext cx="990720" cy="5889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5"/>
          <p:cNvSpPr/>
          <p:nvPr/>
        </p:nvSpPr>
        <p:spPr>
          <a:xfrm>
            <a:off x="2124000" y="3141720"/>
            <a:ext cx="609840" cy="457200"/>
          </a:xfrm>
          <a:prstGeom prst="rightArrow">
            <a:avLst>
              <a:gd name="adj1" fmla="val 54167"/>
              <a:gd name="adj2" fmla="val 60425"/>
            </a:avLst>
          </a:prstGeom>
          <a:solidFill>
            <a:srgbClr val="4c6d80"/>
          </a:solidFill>
          <a:ln w="1908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203640" y="1773360"/>
            <a:ext cx="5105160" cy="1739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9933"/>
                </a:solidFill>
                <a:latin typeface="Times New Roman"/>
              </a:rPr>
              <a:t>将燃料燃烧时放出的</a:t>
            </a:r>
            <a:r>
              <a:rPr b="1" lang="zh-CN" sz="5400" spc="-1" strike="noStrike">
                <a:solidFill>
                  <a:srgbClr val="cc3399"/>
                </a:solidFill>
                <a:latin typeface="Times New Roman"/>
              </a:rPr>
              <a:t>内能</a:t>
            </a:r>
            <a:r>
              <a:rPr b="1" lang="zh-CN" sz="5400" spc="-1" strike="noStrike">
                <a:solidFill>
                  <a:srgbClr val="999933"/>
                </a:solidFill>
                <a:latin typeface="Times New Roman"/>
              </a:rPr>
              <a:t>转化为</a:t>
            </a:r>
            <a:r>
              <a:rPr b="1" lang="zh-CN" sz="5400" spc="-1" strike="noStrike">
                <a:solidFill>
                  <a:srgbClr val="cc3399"/>
                </a:solidFill>
                <a:latin typeface="Times New Roman"/>
              </a:rPr>
              <a:t>机械能</a:t>
            </a:r>
            <a:r>
              <a:rPr b="1" lang="zh-CN" sz="5400" spc="-1" strike="noStrike">
                <a:solidFill>
                  <a:srgbClr val="999933"/>
                </a:solidFill>
                <a:latin typeface="Times New Roman"/>
              </a:rPr>
              <a:t>的机器统称为热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k023"/>
          <p:cNvPicPr/>
          <p:nvPr/>
        </p:nvPicPr>
        <p:blipFill>
          <a:blip r:embed="rId4"/>
          <a:stretch/>
        </p:blipFill>
        <p:spPr>
          <a:xfrm>
            <a:off x="1403280" y="4221000"/>
            <a:ext cx="930240" cy="129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k023"/>
          <p:cNvPicPr/>
          <p:nvPr/>
        </p:nvPicPr>
        <p:blipFill>
          <a:blip r:embed="rId5"/>
          <a:stretch/>
        </p:blipFill>
        <p:spPr>
          <a:xfrm>
            <a:off x="1979640" y="1916280"/>
            <a:ext cx="72396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971640" y="484200"/>
            <a:ext cx="460836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热机的种类：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3203640" y="53308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蒸汽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瓦特的蒸汽机"/>
          <p:cNvPicPr/>
          <p:nvPr/>
        </p:nvPicPr>
        <p:blipFill>
          <a:blip r:embed="rId2"/>
          <a:stretch/>
        </p:blipFill>
        <p:spPr>
          <a:xfrm>
            <a:off x="2050920" y="1413000"/>
            <a:ext cx="5715000" cy="38671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6054840" y="358920"/>
            <a:ext cx="965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链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704000" y="393840"/>
            <a:ext cx="111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链接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71640" y="484200"/>
            <a:ext cx="460836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热机的种类：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060720" y="53308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蒸汽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蒸汽机"/>
          <p:cNvPicPr/>
          <p:nvPr/>
        </p:nvPicPr>
        <p:blipFill>
          <a:blip r:embed="rId2"/>
          <a:stretch/>
        </p:blipFill>
        <p:spPr>
          <a:xfrm>
            <a:off x="2195640" y="1484280"/>
            <a:ext cx="4967280" cy="37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71640" y="484200"/>
            <a:ext cx="460836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热机的种类：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843280" y="525924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内燃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四缸内燃机"/>
          <p:cNvPicPr/>
          <p:nvPr/>
        </p:nvPicPr>
        <p:blipFill>
          <a:blip r:embed="rId2"/>
          <a:stretch/>
        </p:blipFill>
        <p:spPr>
          <a:xfrm>
            <a:off x="684360" y="1628640"/>
            <a:ext cx="3384360" cy="3375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六缸汽油机"/>
          <p:cNvPicPr/>
          <p:nvPr/>
        </p:nvPicPr>
        <p:blipFill>
          <a:blip r:embed="rId3"/>
          <a:stretch/>
        </p:blipFill>
        <p:spPr>
          <a:xfrm>
            <a:off x="4140360" y="1628640"/>
            <a:ext cx="4681440" cy="34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6"/>
          <p:cNvSpPr/>
          <p:nvPr/>
        </p:nvSpPr>
        <p:spPr>
          <a:xfrm>
            <a:off x="1042920" y="1700280"/>
            <a:ext cx="309564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蒸汽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42920" y="2419200"/>
            <a:ext cx="309564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Times New Roman"/>
              </a:rPr>
              <a:t>内燃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42920" y="3139920"/>
            <a:ext cx="3095640" cy="70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汽轮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42920" y="3860640"/>
            <a:ext cx="3095640" cy="703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喷气发动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喷气发动机"/>
          <p:cNvPicPr/>
          <p:nvPr/>
        </p:nvPicPr>
        <p:blipFill>
          <a:blip r:embed="rId5"/>
          <a:stretch/>
        </p:blipFill>
        <p:spPr>
          <a:xfrm>
            <a:off x="4211640" y="3068640"/>
            <a:ext cx="5000760" cy="3619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1042920" y="4581360"/>
            <a:ext cx="3095640" cy="703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火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971640" y="484200"/>
            <a:ext cx="4608360" cy="70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热机的种类：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2" descr="汽轮机2"/>
          <p:cNvPicPr/>
          <p:nvPr/>
        </p:nvPicPr>
        <p:blipFill>
          <a:blip r:embed="rId8"/>
          <a:stretch/>
        </p:blipFill>
        <p:spPr>
          <a:xfrm>
            <a:off x="5219640" y="260280"/>
            <a:ext cx="3048120" cy="29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042920" y="476280"/>
            <a:ext cx="3816360" cy="657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700" spc="-1" strike="noStrike">
                <a:solidFill>
                  <a:srgbClr val="660066"/>
                </a:solidFill>
                <a:latin typeface="宋体"/>
              </a:rPr>
              <a:t>内燃机：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187280" y="4776840"/>
            <a:ext cx="345600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Times New Roman"/>
              </a:rPr>
              <a:t>汽油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003640" y="4767120"/>
            <a:ext cx="3672000" cy="70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柴油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柴油机"/>
          <p:cNvPicPr/>
          <p:nvPr/>
        </p:nvPicPr>
        <p:blipFill>
          <a:blip r:embed="rId4"/>
          <a:stretch/>
        </p:blipFill>
        <p:spPr>
          <a:xfrm>
            <a:off x="5003640" y="1413000"/>
            <a:ext cx="3672000" cy="3376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汽油机"/>
          <p:cNvPicPr/>
          <p:nvPr/>
        </p:nvPicPr>
        <p:blipFill>
          <a:blip r:embed="rId5"/>
          <a:stretch/>
        </p:blipFill>
        <p:spPr>
          <a:xfrm>
            <a:off x="1187280" y="1413000"/>
            <a:ext cx="3456000" cy="33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2T02:20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04Z</dcterms:modified>
  <cp:revision>7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