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54.png" ContentType="image/png"/>
  <Override PartName="/ppt/media/image53.jpeg" ContentType="image/jpeg"/>
  <Override PartName="/ppt/media/image49.jpeg" ContentType="image/jpeg"/>
  <Override PartName="/ppt/media/image47.jpeg" ContentType="image/jpeg"/>
  <Override PartName="/ppt/media/image2.jpeg" ContentType="image/jpeg"/>
  <Override PartName="/ppt/media/image12.png" ContentType="image/png"/>
  <Override PartName="/ppt/media/image35.jpeg" ContentType="image/jpeg"/>
  <Override PartName="/ppt/media/image36.jpeg" ContentType="image/jpeg"/>
  <Override PartName="/ppt/media/image10.png" ContentType="image/png"/>
  <Override PartName="/ppt/media/image4.gif" ContentType="image/gif"/>
  <Override PartName="/ppt/media/image22.jpeg" ContentType="image/jpeg"/>
  <Override PartName="/ppt/media/carbrake.wav" ContentType="audio/x-wav"/>
  <Override PartName="/ppt/media/image17.jpeg" ContentType="image/jpeg"/>
  <Override PartName="/ppt/media/image26.jpeg" ContentType="image/jpeg"/>
  <Override PartName="/ppt/media/image1.jpeg" ContentType="image/jpeg"/>
  <Override PartName="/ppt/media/image21.png" ContentType="image/png"/>
  <Override PartName="/ppt/media/image64.jpeg" ContentType="image/jpeg"/>
  <Override PartName="/ppt/media/image23.jpeg" ContentType="image/jpeg"/>
  <Override PartName="/ppt/media/image5.gif" ContentType="image/gif"/>
  <Override PartName="/ppt/media/image7.jpeg" ContentType="image/jpeg"/>
  <Override PartName="/ppt/media/image38.jpeg" ContentType="image/jpeg"/>
  <Override PartName="/ppt/media/image62.png" ContentType="image/png"/>
  <Override PartName="/ppt/media/image28.jpeg" ContentType="image/jpeg"/>
  <Override PartName="/ppt/media/image56.jpeg" ContentType="image/jpeg"/>
  <Override PartName="/ppt/media/image61.jpeg" ContentType="image/jpeg"/>
  <Override PartName="/ppt/media/image59.png" ContentType="image/png"/>
  <Override PartName="/ppt/media/image24.jpeg" ContentType="image/jpeg"/>
  <Override PartName="/ppt/media/image13.png" ContentType="image/png"/>
  <Override PartName="/ppt/media/image50.jpeg" ContentType="image/jpeg"/>
  <Override PartName="/ppt/media/image52.png" ContentType="image/png"/>
  <Override PartName="/ppt/media/image27.jpeg" ContentType="image/jpeg"/>
  <Override PartName="/ppt/media/image60.png" ContentType="image/png"/>
  <Override PartName="/ppt/media/image18.jpeg" ContentType="image/jpeg"/>
  <Override PartName="/ppt/media/image3.png" ContentType="image/png"/>
  <Override PartName="/ppt/media/image15.png" ContentType="image/png"/>
  <Override PartName="/ppt/media/image16.jpeg" ContentType="image/jpeg"/>
  <Override PartName="/ppt/media/image14.png" ContentType="image/png"/>
  <Override PartName="/ppt/media/image6.gif" ContentType="image/gif"/>
  <Override PartName="/ppt/media/image19.jpeg" ContentType="image/jpeg"/>
  <Override PartName="/ppt/media/image11.png" ContentType="image/png"/>
  <Override PartName="/ppt/media/image9.jpeg" ContentType="image/jpeg"/>
  <Override PartName="/ppt/media/image48.png" ContentType="image/png"/>
  <Override PartName="/ppt/media/image63.jpeg" ContentType="image/jpeg"/>
  <Override PartName="/ppt/media/image51.wmf" ContentType="image/x-wmf"/>
  <Override PartName="/ppt/media/image29.jpeg" ContentType="image/jpeg"/>
  <Override PartName="/ppt/media/image37.gif" ContentType="image/gif"/>
  <Override PartName="/ppt/media/image25.jpeg" ContentType="image/jpeg"/>
  <Override PartName="/ppt/media/image8.jpeg" ContentType="image/jpeg"/>
  <Override PartName="/ppt/media/image39.jpeg" ContentType="image/jpeg"/>
  <Override PartName="/ppt/media/image20.jpeg" ContentType="image/jpeg"/>
  <Override PartName="/ppt/media/image33.png" ContentType="image/png"/>
  <Override PartName="/ppt/media/image30.gif" ContentType="image/gif"/>
  <Override PartName="/ppt/media/image40.gif" ContentType="image/gif"/>
  <Override PartName="/ppt/media/image55.jpeg" ContentType="image/jpeg"/>
  <Override PartName="/ppt/media/image31.jpeg" ContentType="image/jpeg"/>
  <Override PartName="/ppt/media/image32.jpeg" ContentType="image/jpeg"/>
  <Override PartName="/ppt/media/image34.jpeg" ContentType="image/jpeg"/>
  <Override PartName="/ppt/media/image41.png" ContentType="image/png"/>
  <Override PartName="/ppt/media/image43.gif" ContentType="image/gif"/>
  <Override PartName="/ppt/media/image44.jpeg" ContentType="image/jpeg"/>
  <Override PartName="/ppt/media/image45.png" ContentType="image/png"/>
  <Override PartName="/ppt/media/image42.gif" ContentType="image/gif"/>
  <Override PartName="/ppt/media/image4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2BC-4B84-4BE7-A227-D4BAA84D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E42-5E70-4F01-98A4-73AD89EF5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E63D-0BE0-4C24-B09A-44401140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BFC7-A0F7-4A0F-8B37-7004B839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C5F5A-42A5-4798-A4DF-FDB092D5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8925-5950-4B84-9E5E-105D212E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8E6B-9686-480C-8245-8A294812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7FE7-7B91-405C-B425-1A3E71FA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3B86-459E-47A2-9468-9F538CB3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9F78-114B-4DF7-B21A-C828BBD7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7603-B33C-4FCA-BB68-5D0E53FD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7E6-2AA9-4B4B-8D8E-2CB5AAAEB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C352-5209-47C3-AD3A-C38AF49A5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B1CF-D0F0-41DA-B72D-59F9690F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FA31-F3B3-4739-8A53-6ECE31FF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BCB5-AB43-449B-9A1D-28602B2B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6B4A-6FE5-4274-9B49-ABECDDCC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33F02-46AB-4203-B6F5-34E3EAB5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C6D02-12D7-48A3-9D56-1E4796C0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402D-D0CC-4AF9-B2B9-9B012782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34829-3CBF-47DD-B20C-A73489D6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6FC4-1BAD-4D5F-8A6D-9B93093CE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41AF-28AC-4C67-8A04-FA73319B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E8F22-11E4-47FB-AFE3-8D74A97A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DAC1F-2F05-43B5-9556-EDEA83F8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A3799-28DB-4705-8CDD-7EA3CF2A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B0A0B-DBA2-49CC-B7F6-98976FDC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FCD93-235D-4E5A-981E-4435A1CD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BB0B4-3F5C-483F-B0E9-B9E83C05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14054-F512-40EA-B8FE-86E5262C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5650-DEDA-42DD-8025-21056279A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1ABC-405D-4D05-B3FA-F5EE8C39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19E-D8DD-475B-BBC3-7E65ECE7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6E89-C39A-4144-BCA7-55FDD7D3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49E7-B8CE-4FE3-8FCE-E4229346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D38E-8267-49BF-BB76-091D9BF8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F109A-AC8D-4C8F-8D55-B68CBDA68F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BED5-24F0-478E-A279-03850BF147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5A4C-5A34-44FF-82A8-062D04D9D6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图片1 拷贝"/>
          <p:cNvPicPr/>
          <p:nvPr/>
        </p:nvPicPr>
        <p:blipFill>
          <a:blip r:embed="rId1"/>
          <a:stretch/>
        </p:blipFill>
        <p:spPr>
          <a:xfrm>
            <a:off x="539640" y="476280"/>
            <a:ext cx="7929720" cy="5759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原始人"/>
          <p:cNvPicPr/>
          <p:nvPr/>
        </p:nvPicPr>
        <p:blipFill>
          <a:blip r:embed="rId2"/>
          <a:stretch/>
        </p:blipFill>
        <p:spPr>
          <a:xfrm flipH="1">
            <a:off x="1186920" y="4076640"/>
            <a:ext cx="1567080" cy="216072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693080" y="50760"/>
            <a:ext cx="56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人类的起源和发展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四种类人猿"/>
          <p:cNvPicPr/>
          <p:nvPr/>
        </p:nvPicPr>
        <p:blipFill>
          <a:blip r:embed="rId1"/>
          <a:stretch/>
        </p:blipFill>
        <p:spPr>
          <a:xfrm>
            <a:off x="0" y="0"/>
            <a:ext cx="2714760" cy="3857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www.pep.com.cn/oldimages/pic_33603.jpg"/>
          <p:cNvPicPr/>
          <p:nvPr/>
        </p:nvPicPr>
        <p:blipFill>
          <a:blip r:embed="rId2"/>
          <a:stretch/>
        </p:blipFill>
        <p:spPr>
          <a:xfrm>
            <a:off x="6696000" y="0"/>
            <a:ext cx="2448000" cy="38577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http://www.pep.com.cn/oldimages/pic_33606.jpg"/>
          <p:cNvPicPr/>
          <p:nvPr/>
        </p:nvPicPr>
        <p:blipFill>
          <a:blip r:embed="rId3"/>
          <a:stretch/>
        </p:blipFill>
        <p:spPr>
          <a:xfrm>
            <a:off x="4572000" y="0"/>
            <a:ext cx="2448000" cy="38577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http://www.pep.com.cn/oldimages/pic_33604.jpg"/>
          <p:cNvPicPr/>
          <p:nvPr/>
        </p:nvPicPr>
        <p:blipFill>
          <a:blip r:embed="rId4"/>
          <a:stretch/>
        </p:blipFill>
        <p:spPr>
          <a:xfrm>
            <a:off x="2428920" y="0"/>
            <a:ext cx="214308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矩形 6"/>
          <p:cNvSpPr/>
          <p:nvPr/>
        </p:nvSpPr>
        <p:spPr>
          <a:xfrm>
            <a:off x="7072200" y="392904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大猩猩生活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非洲西部和东部赤道地区一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矩形 7"/>
          <p:cNvSpPr/>
          <p:nvPr/>
        </p:nvSpPr>
        <p:spPr>
          <a:xfrm>
            <a:off x="2484360" y="4005360"/>
            <a:ext cx="192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黑猩猩生活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非洲中部和西部的热带森林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矩形 8"/>
          <p:cNvSpPr/>
          <p:nvPr/>
        </p:nvSpPr>
        <p:spPr>
          <a:xfrm>
            <a:off x="179280" y="364500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长臂猿生活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南亚、东南亚地区以及我国的云南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矩形 10"/>
          <p:cNvSpPr/>
          <p:nvPr/>
        </p:nvSpPr>
        <p:spPr>
          <a:xfrm>
            <a:off x="4716360" y="3645000"/>
            <a:ext cx="221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猩猩生活在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亚洲的加里曼丹和苏门答腊的热带森林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96960" y="890640"/>
            <a:ext cx="7750080" cy="5019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0" y="260280"/>
            <a:ext cx="9143640" cy="817200"/>
            <a:chOff x="0" y="260280"/>
            <a:chExt cx="9143640" cy="817200"/>
          </a:xfrm>
        </p:grpSpPr>
        <p:sp>
          <p:nvSpPr>
            <p:cNvPr id="174" name="AutoShape 4"/>
            <p:cNvSpPr/>
            <p:nvPr/>
          </p:nvSpPr>
          <p:spPr>
            <a:xfrm>
              <a:off x="0" y="260280"/>
              <a:ext cx="9143640" cy="81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5"/>
            <p:cNvSpPr/>
            <p:nvPr/>
          </p:nvSpPr>
          <p:spPr>
            <a:xfrm>
              <a:off x="745920" y="358560"/>
              <a:ext cx="7237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这些现代类人猿的体形有什么共同点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6"/>
          <p:cNvGrpSpPr/>
          <p:nvPr/>
        </p:nvGrpSpPr>
        <p:grpSpPr>
          <a:xfrm>
            <a:off x="468360" y="1125360"/>
            <a:ext cx="2025720" cy="550800"/>
            <a:chOff x="468360" y="1125360"/>
            <a:chExt cx="2025720" cy="550800"/>
          </a:xfrm>
        </p:grpSpPr>
        <p:sp>
          <p:nvSpPr>
            <p:cNvPr id="177" name="AutoShape 7"/>
            <p:cNvSpPr/>
            <p:nvPr/>
          </p:nvSpPr>
          <p:spPr>
            <a:xfrm>
              <a:off x="592560" y="1125360"/>
              <a:ext cx="1739160" cy="550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2cc4e"/>
                </a:gs>
                <a:gs pos="100000">
                  <a:srgbClr val="508e36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659160" y="1190520"/>
              <a:ext cx="1045080" cy="44928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e6a9"/>
                </a:gs>
                <a:gs pos="50000">
                  <a:srgbClr val="72cc4e">
                    <a:alpha val="0"/>
                  </a:srgbClr>
                </a:gs>
                <a:gs pos="100000">
                  <a:srgbClr val="bae6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9"/>
            <p:cNvSpPr/>
            <p:nvPr/>
          </p:nvSpPr>
          <p:spPr>
            <a:xfrm>
              <a:off x="468360" y="1160280"/>
              <a:ext cx="2025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观 察 思 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Text Box 10"/>
          <p:cNvSpPr/>
          <p:nvPr/>
        </p:nvSpPr>
        <p:spPr>
          <a:xfrm>
            <a:off x="1763640" y="16606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前肢粗长，后肢细短，髋骨较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774720" y="2513160"/>
            <a:ext cx="7542000" cy="3579480"/>
            <a:chOff x="774720" y="2513160"/>
            <a:chExt cx="7542000" cy="3579480"/>
          </a:xfrm>
        </p:grpSpPr>
        <p:pic>
          <p:nvPicPr>
            <p:cNvPr id="182" name="Picture 12" descr="pic_33603"/>
            <p:cNvPicPr/>
            <p:nvPr/>
          </p:nvPicPr>
          <p:blipFill>
            <a:blip r:embed="rId1"/>
            <a:stretch/>
          </p:blipFill>
          <p:spPr>
            <a:xfrm>
              <a:off x="774720" y="2543400"/>
              <a:ext cx="1735920" cy="354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Picture 13" descr="pic_33604"/>
            <p:cNvPicPr/>
            <p:nvPr/>
          </p:nvPicPr>
          <p:blipFill>
            <a:blip r:embed="rId2"/>
            <a:stretch/>
          </p:blipFill>
          <p:spPr>
            <a:xfrm>
              <a:off x="2487600" y="2513160"/>
              <a:ext cx="1644840" cy="357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4" descr="pic_33605"/>
            <p:cNvPicPr/>
            <p:nvPr/>
          </p:nvPicPr>
          <p:blipFill>
            <a:blip r:embed="rId3"/>
            <a:stretch/>
          </p:blipFill>
          <p:spPr>
            <a:xfrm>
              <a:off x="4102200" y="2514960"/>
              <a:ext cx="2443320" cy="357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5" descr="pic_33606"/>
            <p:cNvPicPr/>
            <p:nvPr/>
          </p:nvPicPr>
          <p:blipFill>
            <a:blip r:embed="rId4"/>
            <a:stretch/>
          </p:blipFill>
          <p:spPr>
            <a:xfrm>
              <a:off x="6563880" y="2543400"/>
              <a:ext cx="1752840" cy="3548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0" y="-241200"/>
            <a:ext cx="9144000" cy="7099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260280"/>
            <a:ext cx="252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森林古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其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想像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2700360" y="981000"/>
            <a:ext cx="72072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5" descr="pic_33602"/>
          <p:cNvPicPr/>
          <p:nvPr/>
        </p:nvPicPr>
        <p:blipFill>
          <a:blip r:embed="rId1"/>
          <a:stretch/>
        </p:blipFill>
        <p:spPr>
          <a:xfrm>
            <a:off x="3564000" y="0"/>
            <a:ext cx="4540320" cy="25099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250920" y="2637000"/>
            <a:ext cx="7584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现代类人猿的生活方式有哪些共同点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依靠从森林中获取果实、嫩芽、昆虫等食物生存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制造工具和改善生存环境的能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能进行人类那样的语言和文字交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50920" y="189000"/>
            <a:ext cx="8893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类的数量在急剧增加的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类具有发明和创造各种科学技术的本领，使得人类适应自然环境、改造自然环境、改善生存条件以及利用医药卫生加强自身保健的能力不断加强，这些都促使人类的数量急剧增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类人猿的数量日益减少的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类人猿不具备发明和创造科技的能力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类开发森林，破坏、污染环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476360" y="2060640"/>
            <a:ext cx="689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类人猿在形态结构上确实与人有许多相似，但究竟在哪些方面和人有根本的区别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4920" y="692280"/>
          <a:ext cx="9037800" cy="5616360"/>
        </p:xfrm>
        <a:graphic>
          <a:graphicData uri="http://schemas.openxmlformats.org/drawingml/2006/table">
            <a:tbl>
              <a:tblPr/>
              <a:tblGrid>
                <a:gridCol w="1620720"/>
                <a:gridCol w="3527640"/>
                <a:gridCol w="3889440"/>
              </a:tblGrid>
              <a:tr h="791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类人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现代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0" y="1413000"/>
          <a:ext cx="9037800" cy="1439640"/>
        </p:xfrm>
        <a:graphic>
          <a:graphicData uri="http://schemas.openxmlformats.org/drawingml/2006/table">
            <a:tbl>
              <a:tblPr/>
              <a:tblGrid>
                <a:gridCol w="1620720"/>
                <a:gridCol w="3527640"/>
                <a:gridCol w="3889440"/>
              </a:tblGrid>
              <a:tr h="1439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运动</a:t>
                      </a:r>
                      <a:br>
                        <a:rPr sz="3600"/>
                      </a:b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方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微软雅黑"/>
                        </a:rPr>
                        <a:t>臂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微软雅黑"/>
                        </a:rPr>
                        <a:t>直立行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0" y="2924280"/>
          <a:ext cx="9037800" cy="1439640"/>
        </p:xfrm>
        <a:graphic>
          <a:graphicData uri="http://schemas.openxmlformats.org/drawingml/2006/table">
            <a:tbl>
              <a:tblPr/>
              <a:tblGrid>
                <a:gridCol w="1620720"/>
                <a:gridCol w="3527640"/>
                <a:gridCol w="3889440"/>
              </a:tblGrid>
              <a:tr h="1439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制造工具能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微软雅黑"/>
                        </a:rPr>
                        <a:t>使用自然工具</a:t>
                      </a:r>
                      <a:br>
                        <a:rPr sz="3600"/>
                      </a:b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微软雅黑"/>
                        </a:rPr>
                        <a:t>不会制造工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微软雅黑"/>
                        </a:rPr>
                        <a:t>制造、使用各种简单和复杂的工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0" y="4365720"/>
          <a:ext cx="9037800" cy="2016000"/>
        </p:xfrm>
        <a:graphic>
          <a:graphicData uri="http://schemas.openxmlformats.org/drawingml/2006/table">
            <a:tbl>
              <a:tblPr/>
              <a:tblGrid>
                <a:gridCol w="1620720"/>
                <a:gridCol w="3527640"/>
                <a:gridCol w="3889440"/>
              </a:tblGrid>
              <a:tr h="2016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脑发育的程度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微软雅黑"/>
                        </a:rPr>
                        <a:t>脑容量小</a:t>
                      </a:r>
                      <a:br>
                        <a:rPr sz="3600"/>
                      </a:b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微软雅黑"/>
                        </a:rPr>
                        <a:t>没有语言能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微软雅黑"/>
                        </a:rPr>
                        <a:t>脑容量大</a:t>
                      </a:r>
                      <a:br>
                        <a:rPr sz="3600"/>
                      </a:b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微软雅黑"/>
                        </a:rPr>
                        <a:t>很强的思维</a:t>
                      </a:r>
                      <a:br>
                        <a:rPr sz="3600"/>
                      </a:br>
                      <a:r>
                        <a:rPr b="1" lang="zh-CN" sz="3600" spc="-1" strike="noStrike">
                          <a:solidFill>
                            <a:srgbClr val="0000ff"/>
                          </a:solidFill>
                          <a:latin typeface="Arial"/>
                          <a:ea typeface="微软雅黑"/>
                        </a:rPr>
                        <a:t>语言文字能力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image10"/>
          <p:cNvPicPr/>
          <p:nvPr/>
        </p:nvPicPr>
        <p:blipFill>
          <a:blip r:embed="rId1"/>
          <a:stretch/>
        </p:blipFill>
        <p:spPr>
          <a:xfrm>
            <a:off x="539640" y="189000"/>
            <a:ext cx="7236000" cy="47941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7156800" y="692280"/>
            <a:ext cx="1277640" cy="61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森林古猿及其生活的想象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116000" y="5157720"/>
            <a:ext cx="6553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华文新魏"/>
              </a:rPr>
              <a:t>为什么森林古猿的一支会演化成为人类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7301"/>
                </a:moveTo>
                <a:lnTo>
                  <a:pt x="10160" y="7301"/>
                </a:lnTo>
                <a:lnTo>
                  <a:pt x="10543" y="7667"/>
                </a:lnTo>
                <a:lnTo>
                  <a:pt x="19752" y="7667"/>
                </a:lnTo>
                <a:lnTo>
                  <a:pt x="20309" y="8224"/>
                </a:lnTo>
                <a:lnTo>
                  <a:pt x="20309" y="8772"/>
                </a:lnTo>
                <a:lnTo>
                  <a:pt x="22154" y="8772"/>
                </a:lnTo>
                <a:lnTo>
                  <a:pt x="22520" y="8224"/>
                </a:lnTo>
                <a:lnTo>
                  <a:pt x="23260" y="8224"/>
                </a:lnTo>
                <a:lnTo>
                  <a:pt x="23260" y="13376"/>
                </a:lnTo>
                <a:lnTo>
                  <a:pt x="22520" y="13376"/>
                </a:lnTo>
                <a:lnTo>
                  <a:pt x="22154" y="12828"/>
                </a:lnTo>
                <a:lnTo>
                  <a:pt x="20309" y="12828"/>
                </a:lnTo>
                <a:lnTo>
                  <a:pt x="20309" y="14107"/>
                </a:lnTo>
                <a:lnTo>
                  <a:pt x="10726" y="14107"/>
                </a:lnTo>
                <a:lnTo>
                  <a:pt x="10726" y="9877"/>
                </a:lnTo>
                <a:lnTo>
                  <a:pt x="10543" y="9877"/>
                </a:lnTo>
                <a:lnTo>
                  <a:pt x="10160" y="10243"/>
                </a:lnTo>
                <a:lnTo>
                  <a:pt x="924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1125360"/>
            <a:ext cx="867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地质学家告诉我们，</a:t>
            </a:r>
            <a:r>
              <a:rPr b="1" lang="en-US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 </a:t>
            </a:r>
            <a:r>
              <a:rPr b="1" lang="en-US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 000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万～</a:t>
            </a:r>
            <a:r>
              <a:rPr b="1" lang="en-US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2 000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万年前，地壳运动剧烈，相继出现了喜马拉雅山、阿尔卑斯山等山脉，在东非则形成了世界上最大的裂谷，南起莫桑比克，北达西亚的约旦河谷，全长</a:t>
            </a:r>
            <a:r>
              <a:rPr b="1" lang="en-US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6 000</a:t>
            </a:r>
            <a:r>
              <a:rPr b="1" lang="zh-CN" sz="32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多千米。当时地球上气候也发生剧烈变化。在地形和气候巨大变化的影响下，东非大裂谷地区原先的热带丛林，有一部分变成了稀树草原。想一想，大量的森林变成了稀树草原，对那里的森林古猿会产生什么影响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250920" y="55897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答：使得一部分森林古猿被迫到地面上生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268360" y="26028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5" descr="wbook"/>
          <p:cNvPicPr/>
          <p:nvPr/>
        </p:nvPicPr>
        <p:blipFill>
          <a:blip r:embed="rId1"/>
          <a:stretch/>
        </p:blipFill>
        <p:spPr>
          <a:xfrm>
            <a:off x="539640" y="117360"/>
            <a:ext cx="1728720" cy="1079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179280" y="260280"/>
            <a:ext cx="8713800" cy="6534720"/>
            <a:chOff x="179280" y="260280"/>
            <a:chExt cx="8713800" cy="6534720"/>
          </a:xfrm>
        </p:grpSpPr>
        <p:pic>
          <p:nvPicPr>
            <p:cNvPr id="206" name="Picture 3" descr="稀树草原"/>
            <p:cNvPicPr/>
            <p:nvPr/>
          </p:nvPicPr>
          <p:blipFill>
            <a:blip r:embed="rId1"/>
            <a:stretch/>
          </p:blipFill>
          <p:spPr>
            <a:xfrm>
              <a:off x="179280" y="260280"/>
              <a:ext cx="8713800" cy="647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Text Box 4"/>
            <p:cNvSpPr/>
            <p:nvPr/>
          </p:nvSpPr>
          <p:spPr>
            <a:xfrm>
              <a:off x="5189400" y="5969880"/>
              <a:ext cx="3267360" cy="82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   </a:t>
              </a:r>
              <a:r>
                <a:rPr b="1" lang="zh-CN" sz="4000" spc="-1" strike="noStrike">
                  <a:solidFill>
                    <a:srgbClr val="ffffff"/>
                  </a:solidFill>
                  <a:latin typeface="Arial"/>
                  <a:ea typeface="华文行楷"/>
                </a:rPr>
                <a:t>稀树草原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Group 5"/>
          <p:cNvGrpSpPr/>
          <p:nvPr/>
        </p:nvGrpSpPr>
        <p:grpSpPr>
          <a:xfrm>
            <a:off x="826920" y="1125360"/>
            <a:ext cx="7620120" cy="3948120"/>
            <a:chOff x="826920" y="1125360"/>
            <a:chExt cx="7620120" cy="3948120"/>
          </a:xfrm>
        </p:grpSpPr>
        <p:sp>
          <p:nvSpPr>
            <p:cNvPr id="209" name="Rectangle 6"/>
            <p:cNvSpPr/>
            <p:nvPr/>
          </p:nvSpPr>
          <p:spPr>
            <a:xfrm>
              <a:off x="826920" y="1125360"/>
              <a:ext cx="7620120" cy="3186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AutoShape 7"/>
            <p:cNvSpPr/>
            <p:nvPr/>
          </p:nvSpPr>
          <p:spPr>
            <a:xfrm>
              <a:off x="5398920" y="4311360"/>
              <a:ext cx="228600" cy="762120"/>
            </a:xfrm>
            <a:prstGeom prst="downArrow">
              <a:avLst>
                <a:gd name="adj1" fmla="val 50000"/>
                <a:gd name="adj2" fmla="val 83315"/>
              </a:avLst>
            </a:prstGeom>
            <a:solidFill>
              <a:srgbClr val="ffffff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图片4 拷贝"/>
          <p:cNvPicPr/>
          <p:nvPr/>
        </p:nvPicPr>
        <p:blipFill>
          <a:blip r:embed="rId1"/>
          <a:stretch/>
        </p:blipFill>
        <p:spPr>
          <a:xfrm>
            <a:off x="1584360" y="4962600"/>
            <a:ext cx="6429240" cy="16048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647640" y="2963880"/>
            <a:ext cx="256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地形变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1517760" y="3684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气候变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18400" y="249696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152360" y="3500280"/>
            <a:ext cx="1727280" cy="360"/>
            <a:chOff x="1152360" y="3500280"/>
            <a:chExt cx="1727280" cy="360"/>
          </a:xfrm>
        </p:grpSpPr>
        <p:sp>
          <p:nvSpPr>
            <p:cNvPr id="216" name="Line 7"/>
            <p:cNvSpPr/>
            <p:nvPr/>
          </p:nvSpPr>
          <p:spPr>
            <a:xfrm flipH="1">
              <a:off x="1152360" y="3500280"/>
              <a:ext cx="17272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1152360" y="3500280"/>
              <a:ext cx="172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879640" y="3220920"/>
            <a:ext cx="1800" cy="639720"/>
            <a:chOff x="2879640" y="3220920"/>
            <a:chExt cx="1800" cy="639720"/>
          </a:xfrm>
        </p:grpSpPr>
        <p:sp>
          <p:nvSpPr>
            <p:cNvPr id="219" name="Line 8"/>
            <p:cNvSpPr/>
            <p:nvPr/>
          </p:nvSpPr>
          <p:spPr>
            <a:xfrm>
              <a:off x="2879640" y="3220920"/>
              <a:ext cx="1800" cy="6397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2879640" y="3220920"/>
              <a:ext cx="18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879640" y="3860640"/>
            <a:ext cx="4392720" cy="360"/>
            <a:chOff x="2879640" y="3860640"/>
            <a:chExt cx="4392720" cy="360"/>
          </a:xfrm>
        </p:grpSpPr>
        <p:sp>
          <p:nvSpPr>
            <p:cNvPr id="222" name="Line 9"/>
            <p:cNvSpPr/>
            <p:nvPr/>
          </p:nvSpPr>
          <p:spPr>
            <a:xfrm>
              <a:off x="2879640" y="3860640"/>
              <a:ext cx="43927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 txBox="1"/>
            <p:nvPr/>
          </p:nvSpPr>
          <p:spPr>
            <a:xfrm>
              <a:off x="2879640" y="3860640"/>
              <a:ext cx="439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Text Box 10"/>
          <p:cNvSpPr/>
          <p:nvPr/>
        </p:nvSpPr>
        <p:spPr>
          <a:xfrm>
            <a:off x="2952720" y="2603520"/>
            <a:ext cx="43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树栖生活转到地面生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879640" y="3068640"/>
            <a:ext cx="4753080" cy="360"/>
            <a:chOff x="2879640" y="3068640"/>
            <a:chExt cx="4753080" cy="360"/>
          </a:xfrm>
        </p:grpSpPr>
        <p:sp>
          <p:nvSpPr>
            <p:cNvPr id="226" name="Line 11"/>
            <p:cNvSpPr/>
            <p:nvPr/>
          </p:nvSpPr>
          <p:spPr>
            <a:xfrm>
              <a:off x="2879640" y="3068640"/>
              <a:ext cx="475308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2879640" y="3068640"/>
              <a:ext cx="475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12"/>
          <p:cNvSpPr/>
          <p:nvPr/>
        </p:nvSpPr>
        <p:spPr>
          <a:xfrm>
            <a:off x="2736720" y="3971880"/>
            <a:ext cx="47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继续留在森林，树栖生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7201080" y="3575160"/>
            <a:ext cx="19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类人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7416720" y="278280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人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2" descr="稀树草原景观"/>
          <p:cNvPicPr/>
          <p:nvPr/>
        </p:nvPicPr>
        <p:blipFill>
          <a:blip r:embed="rId2"/>
          <a:stretch/>
        </p:blipFill>
        <p:spPr>
          <a:xfrm>
            <a:off x="1512720" y="692280"/>
            <a:ext cx="6357960" cy="1814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5"/>
          <p:cNvSpPr/>
          <p:nvPr/>
        </p:nvSpPr>
        <p:spPr>
          <a:xfrm>
            <a:off x="3024360" y="310824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环境变化  森林大量消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文本框 8200"/>
          <p:cNvSpPr/>
          <p:nvPr/>
        </p:nvSpPr>
        <p:spPr>
          <a:xfrm>
            <a:off x="2355840" y="692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76360" y="1484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猜一猜：什么动物小时候用四条腿走路，后来用两条腿走路，老了三条腿走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问号3"/>
          <p:cNvPicPr/>
          <p:nvPr/>
        </p:nvPicPr>
        <p:blipFill>
          <a:blip r:embed="rId1"/>
          <a:stretch/>
        </p:blipFill>
        <p:spPr>
          <a:xfrm>
            <a:off x="468360" y="1557360"/>
            <a:ext cx="779400" cy="1655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4"/>
          <p:cNvSpPr/>
          <p:nvPr/>
        </p:nvSpPr>
        <p:spPr>
          <a:xfrm>
            <a:off x="1547640" y="400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说一说：最早的人是从哪里来的？同学们知道哪些神话传说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24000" y="11253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611280" y="1484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东非大裂谷地带，古人类学家发现了世界上最多的早期古人类化石，也就是石化了的遗体、遗物等。想一想， 这里为什么会有这么多的早期古人类化石呢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   </a:t>
            </a:r>
            <a:r>
              <a:rPr b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 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611280" y="486900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：可以说明人类的始祖在非洲，化石是最好的证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268360" y="260280"/>
            <a:ext cx="22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Arial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6" descr="wbook"/>
          <p:cNvPicPr/>
          <p:nvPr/>
        </p:nvPicPr>
        <p:blipFill>
          <a:blip r:embed="rId1"/>
          <a:stretch/>
        </p:blipFill>
        <p:spPr>
          <a:xfrm>
            <a:off x="539640" y="117360"/>
            <a:ext cx="1728720" cy="1079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3780000" y="260280"/>
            <a:ext cx="50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“露西”少女的骨骼来看，她的上肢和下肢是否有区别？根据四肢和骨盆的形态，想像一下她的运动方式是怎样的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12露西少女化石"/>
          <p:cNvPicPr/>
          <p:nvPr/>
        </p:nvPicPr>
        <p:blipFill>
          <a:blip r:embed="rId1"/>
          <a:stretch/>
        </p:blipFill>
        <p:spPr>
          <a:xfrm>
            <a:off x="324000" y="333360"/>
            <a:ext cx="3024000" cy="5472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755640" y="5877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露西”少女化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3492360" y="3645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答：她的骨盆较宽阔，上肢细短，下肢粗壮，可能采取直立行走的运动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276720" y="477720"/>
            <a:ext cx="604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　　　讨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东非人”用图中所示石块做什么？从石块的形状来推测，“东非人”已经具有什么能力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石器"/>
          <p:cNvPicPr/>
          <p:nvPr/>
        </p:nvPicPr>
        <p:blipFill>
          <a:blip r:embed="rId1"/>
          <a:stretch/>
        </p:blipFill>
        <p:spPr>
          <a:xfrm>
            <a:off x="181080" y="404640"/>
            <a:ext cx="3022560" cy="597708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4"/>
          <p:cNvSpPr/>
          <p:nvPr/>
        </p:nvSpPr>
        <p:spPr>
          <a:xfrm>
            <a:off x="3348000" y="3284640"/>
            <a:ext cx="53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答：石块明显加工过，呈斧状和凿状。可作工具，因此可推断“东非人”在逐渐适应直立行走的过程中，手的解放使他们已初步具有制造和使用工具的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120_96head_2002"/>
          <p:cNvPicPr/>
          <p:nvPr/>
        </p:nvPicPr>
        <p:blipFill>
          <a:blip r:embed="rId2"/>
          <a:stretch/>
        </p:blipFill>
        <p:spPr>
          <a:xfrm>
            <a:off x="5076720" y="476280"/>
            <a:ext cx="1143000" cy="914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复原像"/>
          <p:cNvPicPr/>
          <p:nvPr/>
        </p:nvPicPr>
        <p:blipFill>
          <a:blip r:embed="rId1"/>
          <a:stretch/>
        </p:blipFill>
        <p:spPr>
          <a:xfrm>
            <a:off x="1547640" y="333360"/>
            <a:ext cx="5688360" cy="338292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3"/>
          <p:cNvSpPr/>
          <p:nvPr/>
        </p:nvSpPr>
        <p:spPr>
          <a:xfrm>
            <a:off x="395280" y="33577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观察“东非人”的头骨化石和复原像，你们能想到些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50920" y="4724280"/>
            <a:ext cx="643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答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东非人”既有现代人的特征，又有人类的特征。说明“东非人”正在进化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5" descr="u=4207660595,630344616&amp;gp=0"/>
          <p:cNvPicPr/>
          <p:nvPr/>
        </p:nvPicPr>
        <p:blipFill>
          <a:blip r:embed="rId2"/>
          <a:stretch/>
        </p:blipFill>
        <p:spPr>
          <a:xfrm>
            <a:off x="7093080" y="4940280"/>
            <a:ext cx="2006640" cy="1851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682560" y="907920"/>
            <a:ext cx="765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根据上述化石及他们的遗物，请你们推测一下古人类当时的生活状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3" descr="120_96head_2046"/>
          <p:cNvPicPr/>
          <p:nvPr/>
        </p:nvPicPr>
        <p:blipFill>
          <a:blip r:embed="rId1"/>
          <a:stretch/>
        </p:blipFill>
        <p:spPr>
          <a:xfrm>
            <a:off x="1042920" y="2565360"/>
            <a:ext cx="3021120" cy="3121200"/>
          </a:xfrm>
          <a:prstGeom prst="rect">
            <a:avLst/>
          </a:prstGeom>
          <a:ln w="0">
            <a:noFill/>
          </a:ln>
        </p:spPr>
      </p:pic>
      <p:sp>
        <p:nvSpPr>
          <p:cNvPr id="253" name="WordArt 4"/>
          <p:cNvSpPr txBox="1"/>
          <p:nvPr/>
        </p:nvSpPr>
        <p:spPr>
          <a:xfrm>
            <a:off x="5508720" y="2565360"/>
            <a:ext cx="22320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？</a:t>
            </a:r>
            <a:endParaRPr b="1" i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971640" y="2708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说一说：森林古猿是如何向人的方向发展的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从环境的变化、运动方式的改变、工具的使用、脑容量的变化、语言的产生等方面思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02"/>
          <p:cNvPicPr/>
          <p:nvPr/>
        </p:nvPicPr>
        <p:blipFill>
          <a:blip r:embed="rId2"/>
          <a:stretch/>
        </p:blipFill>
        <p:spPr>
          <a:xfrm>
            <a:off x="395280" y="476280"/>
            <a:ext cx="1954080" cy="4348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3112560" y="404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类的进化历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834920" y="5157720"/>
            <a:ext cx="5508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类是在同自然环境的斗争中逐步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化来的。即劳动创造了人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765720" y="105264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消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268360" y="1484280"/>
            <a:ext cx="457200" cy="360"/>
            <a:chOff x="2268360" y="1484280"/>
            <a:chExt cx="457200" cy="360"/>
          </a:xfrm>
        </p:grpSpPr>
        <p:sp>
          <p:nvSpPr>
            <p:cNvPr id="260" name="Line 6"/>
            <p:cNvSpPr/>
            <p:nvPr/>
          </p:nvSpPr>
          <p:spPr>
            <a:xfrm>
              <a:off x="2268360" y="1484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2268360" y="14842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6372360" y="1484280"/>
            <a:ext cx="457200" cy="360"/>
            <a:chOff x="6372360" y="1484280"/>
            <a:chExt cx="457200" cy="360"/>
          </a:xfrm>
        </p:grpSpPr>
        <p:sp>
          <p:nvSpPr>
            <p:cNvPr id="263" name="Line 7"/>
            <p:cNvSpPr/>
            <p:nvPr/>
          </p:nvSpPr>
          <p:spPr>
            <a:xfrm>
              <a:off x="6372360" y="1484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372360" y="14842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68360" y="2708280"/>
            <a:ext cx="457200" cy="360"/>
            <a:chOff x="468360" y="2708280"/>
            <a:chExt cx="457200" cy="360"/>
          </a:xfrm>
        </p:grpSpPr>
        <p:sp>
          <p:nvSpPr>
            <p:cNvPr id="266" name="Line 8"/>
            <p:cNvSpPr/>
            <p:nvPr/>
          </p:nvSpPr>
          <p:spPr>
            <a:xfrm>
              <a:off x="468360" y="270828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68360" y="270828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788000" y="2997360"/>
            <a:ext cx="457200" cy="360"/>
            <a:chOff x="4788000" y="2997360"/>
            <a:chExt cx="457200" cy="360"/>
          </a:xfrm>
        </p:grpSpPr>
        <p:sp>
          <p:nvSpPr>
            <p:cNvPr id="269" name="Line 9"/>
            <p:cNvSpPr/>
            <p:nvPr/>
          </p:nvSpPr>
          <p:spPr>
            <a:xfrm>
              <a:off x="4788000" y="299736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788000" y="299736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755640" y="4941720"/>
            <a:ext cx="457200" cy="360"/>
            <a:chOff x="755640" y="4941720"/>
            <a:chExt cx="457200" cy="360"/>
          </a:xfrm>
        </p:grpSpPr>
        <p:sp>
          <p:nvSpPr>
            <p:cNvPr id="272" name="Line 10"/>
            <p:cNvSpPr/>
            <p:nvPr/>
          </p:nvSpPr>
          <p:spPr>
            <a:xfrm>
              <a:off x="755640" y="4941720"/>
              <a:ext cx="4572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755640" y="4941720"/>
              <a:ext cx="457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Rectangle 11"/>
          <p:cNvSpPr/>
          <p:nvPr/>
        </p:nvSpPr>
        <p:spPr>
          <a:xfrm>
            <a:off x="2700360" y="1052640"/>
            <a:ext cx="4032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森林古猿下地生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2"/>
          <p:cNvSpPr/>
          <p:nvPr/>
        </p:nvSpPr>
        <p:spPr>
          <a:xfrm>
            <a:off x="6858000" y="1052640"/>
            <a:ext cx="2286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立行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3"/>
          <p:cNvSpPr/>
          <p:nvPr/>
        </p:nvSpPr>
        <p:spPr>
          <a:xfrm>
            <a:off x="1042920" y="1844640"/>
            <a:ext cx="3962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够使用树枝、石块等来获取食物、防御敌害，臂和手逐渐灵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5292720" y="1916280"/>
            <a:ext cx="3166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工具，并能制造简单的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5"/>
          <p:cNvSpPr/>
          <p:nvPr/>
        </p:nvSpPr>
        <p:spPr>
          <a:xfrm>
            <a:off x="1258920" y="4508640"/>
            <a:ext cx="7561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够用火，大脑发达，产生语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838080" y="914400"/>
            <a:ext cx="5749920" cy="41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人类的重要特征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3" descr="undou"/>
          <p:cNvPicPr/>
          <p:nvPr/>
        </p:nvPicPr>
        <p:blipFill>
          <a:blip r:embed="rId2"/>
          <a:stretch/>
        </p:blipFill>
        <p:spPr>
          <a:xfrm>
            <a:off x="2987640" y="3716280"/>
            <a:ext cx="3463920" cy="20001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4"/>
          <p:cNvSpPr/>
          <p:nvPr/>
        </p:nvSpPr>
        <p:spPr>
          <a:xfrm>
            <a:off x="2224800" y="1882800"/>
            <a:ext cx="3861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99cc00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直立、手脚分工、大脑发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有语言、思维等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2"/>
          <p:cNvSpPr/>
          <p:nvPr/>
        </p:nvSpPr>
        <p:spPr>
          <a:xfrm>
            <a:off x="1692360" y="1844640"/>
            <a:ext cx="5113080" cy="24494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2851920" y="2492280"/>
            <a:ext cx="223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类的起源 和发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image16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307188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3"/>
          <p:cNvSpPr/>
          <p:nvPr/>
        </p:nvSpPr>
        <p:spPr>
          <a:xfrm>
            <a:off x="539640" y="314172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395280" y="3402000"/>
            <a:ext cx="84247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运动方式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半直立行走     直立行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劳动方面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不会使用工具     使用天然工具     制造和使用简单工具    制造和使用复杂工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（在劳动中产生语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楷体_GB2312"/>
              </a:rPr>
              <a:t>穿衣方面：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赤身裸体     懂得御寒、遮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24000" y="285264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Arial"/>
                <a:ea typeface="楷体_GB2312"/>
              </a:rPr>
              <a:t>人类起源和发展过程中，在哪些方面逐渐发生了变化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067280" y="3862440"/>
            <a:ext cx="504720" cy="360"/>
            <a:chOff x="4067280" y="3862440"/>
            <a:chExt cx="504720" cy="360"/>
          </a:xfrm>
        </p:grpSpPr>
        <p:sp>
          <p:nvSpPr>
            <p:cNvPr id="289" name="Line 6"/>
            <p:cNvSpPr/>
            <p:nvPr/>
          </p:nvSpPr>
          <p:spPr>
            <a:xfrm>
              <a:off x="4067280" y="38624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067280" y="386244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427640" y="4437000"/>
            <a:ext cx="431640" cy="360"/>
            <a:chOff x="4427640" y="4437000"/>
            <a:chExt cx="431640" cy="360"/>
          </a:xfrm>
        </p:grpSpPr>
        <p:sp>
          <p:nvSpPr>
            <p:cNvPr id="292" name="Line 7"/>
            <p:cNvSpPr/>
            <p:nvPr/>
          </p:nvSpPr>
          <p:spPr>
            <a:xfrm>
              <a:off x="4427640" y="443700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4427640" y="4437000"/>
              <a:ext cx="43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093080" y="4510080"/>
            <a:ext cx="431640" cy="360"/>
            <a:chOff x="7093080" y="4510080"/>
            <a:chExt cx="431640" cy="360"/>
          </a:xfrm>
        </p:grpSpPr>
        <p:sp>
          <p:nvSpPr>
            <p:cNvPr id="295" name="Line 8"/>
            <p:cNvSpPr/>
            <p:nvPr/>
          </p:nvSpPr>
          <p:spPr>
            <a:xfrm>
              <a:off x="7093080" y="451008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7093080" y="4510080"/>
              <a:ext cx="431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2556000" y="4870440"/>
            <a:ext cx="504720" cy="360"/>
            <a:chOff x="2556000" y="4870440"/>
            <a:chExt cx="504720" cy="360"/>
          </a:xfrm>
        </p:grpSpPr>
        <p:sp>
          <p:nvSpPr>
            <p:cNvPr id="298" name="Line 9"/>
            <p:cNvSpPr/>
            <p:nvPr/>
          </p:nvSpPr>
          <p:spPr>
            <a:xfrm>
              <a:off x="2556000" y="487044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2556000" y="4870440"/>
              <a:ext cx="504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708360" y="6165720"/>
            <a:ext cx="432000" cy="360"/>
            <a:chOff x="3708360" y="6165720"/>
            <a:chExt cx="432000" cy="360"/>
          </a:xfrm>
        </p:grpSpPr>
        <p:sp>
          <p:nvSpPr>
            <p:cNvPr id="301" name="Line 10"/>
            <p:cNvSpPr/>
            <p:nvPr/>
          </p:nvSpPr>
          <p:spPr>
            <a:xfrm>
              <a:off x="3708360" y="616572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3708360" y="6165720"/>
              <a:ext cx="4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AutoShape 11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7301"/>
                </a:moveTo>
                <a:lnTo>
                  <a:pt x="10160" y="7301"/>
                </a:lnTo>
                <a:lnTo>
                  <a:pt x="10543" y="7667"/>
                </a:lnTo>
                <a:lnTo>
                  <a:pt x="19752" y="7667"/>
                </a:lnTo>
                <a:lnTo>
                  <a:pt x="20309" y="8224"/>
                </a:lnTo>
                <a:lnTo>
                  <a:pt x="20309" y="8772"/>
                </a:lnTo>
                <a:lnTo>
                  <a:pt x="22154" y="8772"/>
                </a:lnTo>
                <a:lnTo>
                  <a:pt x="22520" y="8224"/>
                </a:lnTo>
                <a:lnTo>
                  <a:pt x="23260" y="8224"/>
                </a:lnTo>
                <a:lnTo>
                  <a:pt x="23260" y="13376"/>
                </a:lnTo>
                <a:lnTo>
                  <a:pt x="22520" y="13376"/>
                </a:lnTo>
                <a:lnTo>
                  <a:pt x="22154" y="12828"/>
                </a:lnTo>
                <a:lnTo>
                  <a:pt x="20309" y="12828"/>
                </a:lnTo>
                <a:lnTo>
                  <a:pt x="20309" y="14107"/>
                </a:lnTo>
                <a:lnTo>
                  <a:pt x="10726" y="14107"/>
                </a:lnTo>
                <a:lnTo>
                  <a:pt x="10726" y="9877"/>
                </a:lnTo>
                <a:lnTo>
                  <a:pt x="10543" y="9877"/>
                </a:lnTo>
                <a:lnTo>
                  <a:pt x="10160" y="10243"/>
                </a:lnTo>
                <a:lnTo>
                  <a:pt x="924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0" y="0"/>
            <a:ext cx="33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二、人类的发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052977"/>
          <p:cNvPicPr/>
          <p:nvPr/>
        </p:nvPicPr>
        <p:blipFill>
          <a:blip r:embed="rId1"/>
          <a:stretch/>
        </p:blipFill>
        <p:spPr>
          <a:xfrm>
            <a:off x="0" y="3438360"/>
            <a:ext cx="3419640" cy="34196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/>
          <p:cNvSpPr/>
          <p:nvPr/>
        </p:nvSpPr>
        <p:spPr>
          <a:xfrm>
            <a:off x="3780000" y="3573360"/>
            <a:ext cx="4032000" cy="2448000"/>
          </a:xfrm>
          <a:prstGeom prst="cloudCallout">
            <a:avLst>
              <a:gd name="adj1" fmla="val -81652"/>
              <a:gd name="adj2" fmla="val -3694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  <a:ea typeface="华文新魏"/>
              </a:rPr>
              <a:t>我是从哪里来的呢？人类从哪里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258920" y="1125360"/>
            <a:ext cx="6624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华文新魏"/>
              </a:rPr>
              <a:t>你了解到人类的起源有几种说法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7301"/>
                </a:moveTo>
                <a:lnTo>
                  <a:pt x="10160" y="7301"/>
                </a:lnTo>
                <a:lnTo>
                  <a:pt x="10543" y="7667"/>
                </a:lnTo>
                <a:lnTo>
                  <a:pt x="19752" y="7667"/>
                </a:lnTo>
                <a:lnTo>
                  <a:pt x="20309" y="8224"/>
                </a:lnTo>
                <a:lnTo>
                  <a:pt x="20309" y="8772"/>
                </a:lnTo>
                <a:lnTo>
                  <a:pt x="22154" y="8772"/>
                </a:lnTo>
                <a:lnTo>
                  <a:pt x="22520" y="8224"/>
                </a:lnTo>
                <a:lnTo>
                  <a:pt x="23260" y="8224"/>
                </a:lnTo>
                <a:lnTo>
                  <a:pt x="23260" y="13376"/>
                </a:lnTo>
                <a:lnTo>
                  <a:pt x="22520" y="13376"/>
                </a:lnTo>
                <a:lnTo>
                  <a:pt x="22154" y="12828"/>
                </a:lnTo>
                <a:lnTo>
                  <a:pt x="20309" y="12828"/>
                </a:lnTo>
                <a:lnTo>
                  <a:pt x="20309" y="14107"/>
                </a:lnTo>
                <a:lnTo>
                  <a:pt x="10726" y="14107"/>
                </a:lnTo>
                <a:lnTo>
                  <a:pt x="10726" y="9877"/>
                </a:lnTo>
                <a:lnTo>
                  <a:pt x="10543" y="9877"/>
                </a:lnTo>
                <a:lnTo>
                  <a:pt x="10160" y="10243"/>
                </a:lnTo>
                <a:lnTo>
                  <a:pt x="924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图片2 拷贝"/>
          <p:cNvPicPr/>
          <p:nvPr/>
        </p:nvPicPr>
        <p:blipFill>
          <a:blip r:embed="rId1"/>
          <a:stretch/>
        </p:blipFill>
        <p:spPr>
          <a:xfrm>
            <a:off x="4211640" y="511200"/>
            <a:ext cx="4572000" cy="52228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" descr="image16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324000" y="3500280"/>
            <a:ext cx="5857560" cy="271152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2"/>
          <p:cNvSpPr/>
          <p:nvPr/>
        </p:nvSpPr>
        <p:spPr>
          <a:xfrm>
            <a:off x="324000" y="509760"/>
            <a:ext cx="3643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人类起源的标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直立行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使用工具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制造工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能够产生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语言的产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脑的发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2700360" y="1125360"/>
            <a:ext cx="417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黑体"/>
              </a:rPr>
              <a:t>人类的起源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1028880" y="2438280"/>
            <a:ext cx="72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进化论的建立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971640" y="3357720"/>
            <a:ext cx="721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人类起源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4716360" y="342900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森林古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900000" y="4221000"/>
            <a:ext cx="722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原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3203640" y="4221000"/>
            <a:ext cx="23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环境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900000" y="5084640"/>
            <a:ext cx="722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证据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3132000" y="501336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化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10" descr="达尔文"/>
          <p:cNvPicPr/>
          <p:nvPr/>
        </p:nvPicPr>
        <p:blipFill>
          <a:blip r:embed="rId2"/>
          <a:stretch/>
        </p:blipFill>
        <p:spPr>
          <a:xfrm>
            <a:off x="6084720" y="2349360"/>
            <a:ext cx="1917720" cy="652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324000" y="333360"/>
            <a:ext cx="8820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人类的起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人类起源于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森林古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类与类人猿的共同祖先是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森林古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出人猿共祖的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</a:rPr>
              <a:t>19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</a:rPr>
              <a:t>世纪英国著名的进化论者达尔文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原因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环境的改变和自身形态结构的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证据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化石证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﹙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﹚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露西”时代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﹙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300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万年前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﹚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东非人”时代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﹙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75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万年前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起源地     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非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934920" y="177336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不是人类直立行走的特征是（　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后肢增长　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骨盆变短变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产生语言　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脊柱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下列不属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东非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特征是（　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人工取火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直立姿态接近现代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上下肢明显分工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能制造各种石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7714440" y="184464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7414920" y="378936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WordArt 5"/>
          <p:cNvSpPr txBox="1"/>
          <p:nvPr/>
        </p:nvSpPr>
        <p:spPr>
          <a:xfrm>
            <a:off x="179280" y="260280"/>
            <a:ext cx="208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思考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horz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68000" y="333000"/>
            <a:ext cx="867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一章   第一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类的祖先是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广布于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区，尤其是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丛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现代类人猿与人类在形态结构方面的根本区别是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__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森林古猿从树上到地下生活的原因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换环境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流星撞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于地壳运动和气候变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了扩张领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著名的进化论的建立者是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8200"/>
          <p:cNvSpPr/>
          <p:nvPr/>
        </p:nvSpPr>
        <p:spPr>
          <a:xfrm>
            <a:off x="2355840" y="690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914400" y="33300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一比，谁厉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对待人类的近亲——现代类人猿的方法和态度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建立现代类人猿自然保护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护现代类人猿赖以生存的森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意捕捉现代类人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A.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项都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与类人猿亲缘关系最密切的哺乳动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猕猴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臂猿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恒河猴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叶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852720" y="12621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1836720" y="47196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1295280" y="1197000"/>
            <a:ext cx="784872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在同大自然严酷的斗争中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森林古猿进化成了人类。同样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森林古猿也进化成了类人猿。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问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现代类人猿还能进化成人吗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能。现代类人猿已经适应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现在的环境，不能再进化成人类了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WordArt 3"/>
          <p:cNvSpPr txBox="1"/>
          <p:nvPr/>
        </p:nvSpPr>
        <p:spPr>
          <a:xfrm>
            <a:off x="611280" y="620640"/>
            <a:ext cx="201600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000000">
                    <a:alpha val="91000"/>
                  </a:srgbClr>
                </a:solidFill>
                <a:latin typeface="宋体"/>
              </a:rPr>
              <a:t>思考</a:t>
            </a:r>
            <a:r>
              <a:rPr b="0" lang="en-US" sz="18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000000">
                    <a:alpha val="91000"/>
                  </a:srgbClr>
                </a:soli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ff6600"/>
                </a:solidFill>
                <a:round/>
              </a:ln>
              <a:solidFill>
                <a:srgbClr val="000000">
                  <a:alpha val="91000"/>
                </a:srgbClr>
              </a:solidFill>
              <a:latin typeface="宋体"/>
              <a:ea typeface="宋体"/>
            </a:endParaRPr>
          </a:p>
        </p:txBody>
      </p:sp>
    </p:spTree>
  </p:cSld>
  <p:transition>
    <p:blinds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2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8" dur="20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755640" y="2205000"/>
            <a:ext cx="770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曹植有首诗，批评哥哥曹丕对自己的迫害：萁在釜下燃，豆在釜中泣。本是同根生，相煎何太急？结合本节课，应如何理解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1042920" y="765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类被称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生物圈的主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那么，是否应与自然界和谐发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258920" y="4653000"/>
            <a:ext cx="62643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大猩猩等类人猿正面临灭绝的危害，我们具体应该怎么做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矩形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2232000" cy="1130400"/>
          </a:xfrm>
          <a:prstGeom prst="rect">
            <a:avLst/>
          </a:prstGeom>
          <a:ln w="0">
            <a:noFill/>
          </a:ln>
        </p:spPr>
      </p:pic>
      <p:sp>
        <p:nvSpPr>
          <p:cNvPr id="333" name="TextBox 2"/>
          <p:cNvSpPr/>
          <p:nvPr/>
        </p:nvSpPr>
        <p:spPr>
          <a:xfrm>
            <a:off x="826920" y="1341360"/>
            <a:ext cx="807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曹植有首诗，批评哥哥曹丕对他的迫害：“萁在釜下然， 豆在釜中泣。 本是同根生， 相煎何太急？”人猿同祖，人类应当怎样对待珍稀、濒危的现存猿类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3"/>
          <p:cNvSpPr/>
          <p:nvPr/>
        </p:nvSpPr>
        <p:spPr>
          <a:xfrm>
            <a:off x="826920" y="3357720"/>
            <a:ext cx="78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人类应当视现代类人猿等各种野生生物同自身一样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都是生物圈中不可缺少的成员，同样享有在地球上生存、繁衍的权利。对于人类的近亲——珍稀、濒危的现代类人猿，人类更应当加强保护，如大力保护现代类人猿赖以生存的森林，建立现代类人猿自然保护区，等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77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2" dur="770" fill="hold"/>
                                        <p:tgtEl>
                                          <p:spTgt spid="3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4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6" dur="77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 Box 2"/>
          <p:cNvSpPr/>
          <p:nvPr/>
        </p:nvSpPr>
        <p:spPr>
          <a:xfrm flipV="1"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99">
                  <a:alpha val="56078"/>
                </a:srgbClr>
              </a:gs>
              <a:gs pos="50000">
                <a:srgbClr val="ffffff"/>
              </a:gs>
              <a:gs pos="100000">
                <a:srgbClr val="ccff99">
                  <a:alpha val="5607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Picture 3" descr="]G4LG}HW86JR4FNN{`RR_%A"/>
          <p:cNvPicPr/>
          <p:nvPr/>
        </p:nvPicPr>
        <p:blipFill>
          <a:blip r:embed="rId1"/>
          <a:stretch/>
        </p:blipFill>
        <p:spPr>
          <a:xfrm>
            <a:off x="843120" y="260280"/>
            <a:ext cx="8300880" cy="5256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324000" y="1234800"/>
            <a:ext cx="849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要是有人问你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现在世界上的人，是从哪里来的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一定觉得他问得好笑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谁不知道人都是父母生的！这是常识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那么你的父母又是从哪里来的呢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我的父母的父母生的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的父母的父母又是从哪里来的呢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也是很明白的，又是他们的父母生的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且慢。照你这样一代一代推上去，世界上最早的一代人又是从哪里来的呢？是谁生的呢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啊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回答吗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不能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的，这个问题就不是那么好回答了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是，世界上最早的人离开现在已经很久很久，谁能知道他们是从哪里来的呢？谁能回答这个问题呢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科学能够回答这个问题。我们接下来几节课里就要来回答这个问题。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WordArt 3"/>
          <p:cNvSpPr txBox="1"/>
          <p:nvPr/>
        </p:nvSpPr>
        <p:spPr>
          <a:xfrm>
            <a:off x="320760" y="2232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新课导入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矩形 1" descr=""/>
          <p:cNvPicPr/>
          <p:nvPr/>
        </p:nvPicPr>
        <p:blipFill>
          <a:blip r:embed="rId2"/>
          <a:stretch/>
        </p:blipFill>
        <p:spPr>
          <a:xfrm>
            <a:off x="0" y="201600"/>
            <a:ext cx="8242200" cy="118260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428760" y="1643040"/>
            <a:ext cx="8215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阅读第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页的短文，你能判断下列陈述中，哪些是事实，哪些是观点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、古人类化石“露西”是在非洲发现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、“露西”生活在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00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万年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、其他地区没有发现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万—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00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万年前的古人类化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、其他地区没有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00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万—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00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万年前的古人类化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、亚洲的直立人是从非洲迁徙过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矩形 3"/>
          <p:cNvSpPr/>
          <p:nvPr/>
        </p:nvSpPr>
        <p:spPr>
          <a:xfrm>
            <a:off x="7929720" y="264312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事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矩形 5"/>
          <p:cNvSpPr/>
          <p:nvPr/>
        </p:nvSpPr>
        <p:spPr>
          <a:xfrm>
            <a:off x="6072120" y="31431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事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矩形 6"/>
          <p:cNvSpPr/>
          <p:nvPr/>
        </p:nvSpPr>
        <p:spPr>
          <a:xfrm>
            <a:off x="2500200" y="414324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事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矩形 7"/>
          <p:cNvSpPr/>
          <p:nvPr/>
        </p:nvSpPr>
        <p:spPr>
          <a:xfrm>
            <a:off x="1571760" y="507204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矩形 8"/>
          <p:cNvSpPr/>
          <p:nvPr/>
        </p:nvSpPr>
        <p:spPr>
          <a:xfrm>
            <a:off x="7643880" y="55720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观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BA42-1BAA-4CC0-BA3C-EB215016595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Oval 2"/>
          <p:cNvSpPr/>
          <p:nvPr/>
        </p:nvSpPr>
        <p:spPr>
          <a:xfrm>
            <a:off x="152280" y="339840"/>
            <a:ext cx="1524240" cy="1495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3"/>
          <p:cNvGrpSpPr/>
          <p:nvPr/>
        </p:nvGrpSpPr>
        <p:grpSpPr>
          <a:xfrm>
            <a:off x="262080" y="692280"/>
            <a:ext cx="8196120" cy="5257800"/>
            <a:chOff x="262080" y="692280"/>
            <a:chExt cx="8196120" cy="5257800"/>
          </a:xfrm>
        </p:grpSpPr>
        <p:sp>
          <p:nvSpPr>
            <p:cNvPr id="350" name="Text Box 4"/>
            <p:cNvSpPr/>
            <p:nvPr/>
          </p:nvSpPr>
          <p:spPr>
            <a:xfrm>
              <a:off x="262080" y="2521080"/>
              <a:ext cx="1033560" cy="31240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人类的起源 和发展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utoShape 5"/>
            <p:cNvSpPr/>
            <p:nvPr/>
          </p:nvSpPr>
          <p:spPr>
            <a:xfrm>
              <a:off x="1676520" y="920880"/>
              <a:ext cx="380880" cy="4800600"/>
            </a:xfrm>
            <a:custGeom>
              <a:avLst/>
              <a:gdLst>
                <a:gd name="textAreaLeft" fmla="*/ 243360 w 380880"/>
                <a:gd name="textAreaRight" fmla="*/ 381240 w 3808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11536"/>
                  </a:lnTo>
                  <a:cubicBezTo>
                    <a:pt x="10800" y="12436"/>
                    <a:pt x="5400" y="13336"/>
                    <a:pt x="0" y="13336"/>
                  </a:cubicBezTo>
                  <a:cubicBezTo>
                    <a:pt x="5400" y="13336"/>
                    <a:pt x="10800" y="14236"/>
                    <a:pt x="10800" y="1513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6"/>
            <p:cNvSpPr/>
            <p:nvPr/>
          </p:nvSpPr>
          <p:spPr>
            <a:xfrm>
              <a:off x="2133720" y="692280"/>
              <a:ext cx="3809880" cy="581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现代类人猿和人的相似与不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7"/>
            <p:cNvSpPr/>
            <p:nvPr/>
          </p:nvSpPr>
          <p:spPr>
            <a:xfrm>
              <a:off x="1981440" y="2597400"/>
              <a:ext cx="121896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森林古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2971800" y="2826000"/>
              <a:ext cx="1295640" cy="360"/>
              <a:chOff x="2971800" y="2826000"/>
              <a:chExt cx="1295640" cy="360"/>
            </a:xfrm>
          </p:grpSpPr>
          <p:sp>
            <p:nvSpPr>
              <p:cNvPr id="355" name="Line 8"/>
              <p:cNvSpPr/>
              <p:nvPr/>
            </p:nvSpPr>
            <p:spPr>
              <a:xfrm>
                <a:off x="2971800" y="282600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2971800" y="2826000"/>
                <a:ext cx="1295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7" name="Text Box 9"/>
            <p:cNvSpPr/>
            <p:nvPr/>
          </p:nvSpPr>
          <p:spPr>
            <a:xfrm>
              <a:off x="2971800" y="2521080"/>
              <a:ext cx="11430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地球环境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Text Box 10"/>
            <p:cNvSpPr/>
            <p:nvPr/>
          </p:nvSpPr>
          <p:spPr>
            <a:xfrm>
              <a:off x="2971800" y="2826000"/>
              <a:ext cx="11430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Arial"/>
                </a:rPr>
                <a:t>发生变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AutoShape 11"/>
            <p:cNvSpPr/>
            <p:nvPr/>
          </p:nvSpPr>
          <p:spPr>
            <a:xfrm>
              <a:off x="4343400" y="1987560"/>
              <a:ext cx="228600" cy="1905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49320 h 1905120"/>
                <a:gd name="textAreaBottom" fmla="*/ 1855800 h 19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Text Box 12"/>
            <p:cNvSpPr/>
            <p:nvPr/>
          </p:nvSpPr>
          <p:spPr>
            <a:xfrm>
              <a:off x="4648320" y="1606680"/>
              <a:ext cx="9144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生活在森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4572000" y="2292480"/>
              <a:ext cx="914400" cy="360"/>
              <a:chOff x="4572000" y="2292480"/>
              <a:chExt cx="914400" cy="360"/>
            </a:xfrm>
          </p:grpSpPr>
          <p:sp>
            <p:nvSpPr>
              <p:cNvPr id="362" name="Line 13"/>
              <p:cNvSpPr/>
              <p:nvPr/>
            </p:nvSpPr>
            <p:spPr>
              <a:xfrm>
                <a:off x="4572000" y="22924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 txBox="1"/>
              <p:nvPr/>
            </p:nvSpPr>
            <p:spPr>
              <a:xfrm>
                <a:off x="4572000" y="22924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" name="Text Box 14"/>
            <p:cNvSpPr/>
            <p:nvPr/>
          </p:nvSpPr>
          <p:spPr>
            <a:xfrm>
              <a:off x="5791320" y="1835280"/>
              <a:ext cx="83808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进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5715000" y="2216160"/>
              <a:ext cx="762120" cy="360"/>
              <a:chOff x="5715000" y="2216160"/>
              <a:chExt cx="762120" cy="360"/>
            </a:xfrm>
          </p:grpSpPr>
          <p:sp>
            <p:nvSpPr>
              <p:cNvPr id="366" name="Line 15"/>
              <p:cNvSpPr/>
              <p:nvPr/>
            </p:nvSpPr>
            <p:spPr>
              <a:xfrm>
                <a:off x="5715000" y="221616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 txBox="1"/>
              <p:nvPr/>
            </p:nvSpPr>
            <p:spPr>
              <a:xfrm>
                <a:off x="5715000" y="221616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Text Box 16"/>
            <p:cNvSpPr/>
            <p:nvPr/>
          </p:nvSpPr>
          <p:spPr>
            <a:xfrm>
              <a:off x="6629400" y="1987560"/>
              <a:ext cx="152424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现代类人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17"/>
            <p:cNvSpPr/>
            <p:nvPr/>
          </p:nvSpPr>
          <p:spPr>
            <a:xfrm>
              <a:off x="4648320" y="3283200"/>
              <a:ext cx="121932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生活在稀树草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4648320" y="3892680"/>
              <a:ext cx="914400" cy="360"/>
              <a:chOff x="4648320" y="3892680"/>
              <a:chExt cx="914400" cy="360"/>
            </a:xfrm>
          </p:grpSpPr>
          <p:sp>
            <p:nvSpPr>
              <p:cNvPr id="371" name="Line 18"/>
              <p:cNvSpPr/>
              <p:nvPr/>
            </p:nvSpPr>
            <p:spPr>
              <a:xfrm>
                <a:off x="4648320" y="38926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4648320" y="3892680"/>
                <a:ext cx="914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Text Box 19"/>
            <p:cNvSpPr/>
            <p:nvPr/>
          </p:nvSpPr>
          <p:spPr>
            <a:xfrm>
              <a:off x="5791320" y="3511800"/>
              <a:ext cx="83808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进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5715000" y="3892680"/>
              <a:ext cx="762120" cy="360"/>
              <a:chOff x="5715000" y="3892680"/>
              <a:chExt cx="762120" cy="360"/>
            </a:xfrm>
          </p:grpSpPr>
          <p:sp>
            <p:nvSpPr>
              <p:cNvPr id="375" name="Line 20"/>
              <p:cNvSpPr/>
              <p:nvPr/>
            </p:nvSpPr>
            <p:spPr>
              <a:xfrm>
                <a:off x="5715000" y="389268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5715000" y="3892680"/>
                <a:ext cx="76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7" name="Text Box 21"/>
            <p:cNvSpPr/>
            <p:nvPr/>
          </p:nvSpPr>
          <p:spPr>
            <a:xfrm>
              <a:off x="6629400" y="3587760"/>
              <a:ext cx="6858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人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Text Box 22"/>
            <p:cNvSpPr/>
            <p:nvPr/>
          </p:nvSpPr>
          <p:spPr>
            <a:xfrm>
              <a:off x="2057400" y="5340600"/>
              <a:ext cx="137160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人类的发展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23"/>
            <p:cNvSpPr/>
            <p:nvPr/>
          </p:nvSpPr>
          <p:spPr>
            <a:xfrm>
              <a:off x="3083040" y="4349880"/>
              <a:ext cx="1003320" cy="16002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露西时代的古人类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使用工具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3962520" y="5416560"/>
              <a:ext cx="533520" cy="360"/>
              <a:chOff x="3962520" y="5416560"/>
              <a:chExt cx="533520" cy="360"/>
            </a:xfrm>
          </p:grpSpPr>
          <p:sp>
            <p:nvSpPr>
              <p:cNvPr id="381" name="Line 24"/>
              <p:cNvSpPr/>
              <p:nvPr/>
            </p:nvSpPr>
            <p:spPr>
              <a:xfrm>
                <a:off x="3962520" y="541656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>
                <a:off x="3962520" y="541656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Text Box 25"/>
            <p:cNvSpPr/>
            <p:nvPr/>
          </p:nvSpPr>
          <p:spPr>
            <a:xfrm>
              <a:off x="4226400" y="4273560"/>
              <a:ext cx="1277640" cy="16765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东非人时代的古人类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使用创造工具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5486400" y="5264280"/>
              <a:ext cx="609840" cy="360"/>
              <a:chOff x="5486400" y="5264280"/>
              <a:chExt cx="609840" cy="360"/>
            </a:xfrm>
          </p:grpSpPr>
          <p:sp>
            <p:nvSpPr>
              <p:cNvPr id="385" name="Line 26"/>
              <p:cNvSpPr/>
              <p:nvPr/>
            </p:nvSpPr>
            <p:spPr>
              <a:xfrm>
                <a:off x="5486400" y="526428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5486400" y="5264280"/>
                <a:ext cx="609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Text Box 27"/>
            <p:cNvSpPr/>
            <p:nvPr/>
          </p:nvSpPr>
          <p:spPr>
            <a:xfrm>
              <a:off x="6251040" y="4197600"/>
              <a:ext cx="454680" cy="17524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用火、大脑发达产生语言，工具复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6629400" y="5264280"/>
              <a:ext cx="533520" cy="360"/>
              <a:chOff x="6629400" y="5264280"/>
              <a:chExt cx="533520" cy="360"/>
            </a:xfrm>
          </p:grpSpPr>
          <p:sp>
            <p:nvSpPr>
              <p:cNvPr id="389" name="Line 28"/>
              <p:cNvSpPr/>
              <p:nvPr/>
            </p:nvSpPr>
            <p:spPr>
              <a:xfrm>
                <a:off x="6629400" y="52642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 txBox="1"/>
              <p:nvPr/>
            </p:nvSpPr>
            <p:spPr>
              <a:xfrm>
                <a:off x="6629400" y="5264280"/>
                <a:ext cx="5335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Text Box 29"/>
            <p:cNvSpPr/>
            <p:nvPr/>
          </p:nvSpPr>
          <p:spPr>
            <a:xfrm>
              <a:off x="7162920" y="5112000"/>
              <a:ext cx="1295280" cy="3682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现代人类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image8"/>
          <p:cNvPicPr/>
          <p:nvPr/>
        </p:nvPicPr>
        <p:blipFill>
          <a:blip r:embed="rId1"/>
          <a:stretch/>
        </p:blipFill>
        <p:spPr>
          <a:xfrm>
            <a:off x="5940360" y="476280"/>
            <a:ext cx="2813040" cy="4076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547640" y="1197000"/>
            <a:ext cx="378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神学的创造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星人的复制论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生物学的进化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WordArt 4"/>
          <p:cNvSpPr txBox="1"/>
          <p:nvPr/>
        </p:nvSpPr>
        <p:spPr>
          <a:xfrm>
            <a:off x="7093080" y="2852640"/>
            <a:ext cx="140004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宋体"/>
              </a:rPr>
              <a:t>达尔文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211640" y="2924280"/>
            <a:ext cx="1655640" cy="360"/>
            <a:chOff x="4211640" y="2924280"/>
            <a:chExt cx="1655640" cy="360"/>
          </a:xfrm>
        </p:grpSpPr>
        <p:sp>
          <p:nvSpPr>
            <p:cNvPr id="140" name="Line 5"/>
            <p:cNvSpPr/>
            <p:nvPr/>
          </p:nvSpPr>
          <p:spPr>
            <a:xfrm>
              <a:off x="4211640" y="2924280"/>
              <a:ext cx="1655640" cy="0"/>
            </a:xfrm>
            <a:prstGeom prst="line">
              <a:avLst/>
            </a:prstGeom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4211640" y="2924280"/>
              <a:ext cx="165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3"/>
          <p:cNvSpPr/>
          <p:nvPr/>
        </p:nvSpPr>
        <p:spPr>
          <a:xfrm>
            <a:off x="395280" y="4292640"/>
            <a:ext cx="8353440" cy="1630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达尔文的进化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cc0099"/>
                </a:solidFill>
                <a:latin typeface="黑体"/>
                <a:ea typeface="黑体"/>
              </a:rPr>
              <a:t>现代类人猿和人类的共同祖先是森林古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43280" y="260280"/>
            <a:ext cx="18619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99"/>
                </a:solidFill>
                <a:latin typeface="Arial"/>
                <a:ea typeface="黑体"/>
              </a:rPr>
              <a:t>达尔文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26560" y="2204640"/>
            <a:ext cx="7705800" cy="381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-方正超大字符集"/>
              </a:rPr>
              <a:t>    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达尔文（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1809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－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1882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）英国博物学家，进化论的奠基人。以博物学家的身份乘海军勘探船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贝格尔号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作历时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年的环球旅行，观察和搜集了动物、植物和地质等方面的大量材料，经过归纳整理和综合分析，形成了生物进行的概念。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1859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年出版《物种起源》一书，全面提出以自然选择为基础的进化学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gderw"/>
          <p:cNvPicPr/>
          <p:nvPr/>
        </p:nvPicPr>
        <p:blipFill>
          <a:blip r:embed="rId1"/>
          <a:stretch/>
        </p:blipFill>
        <p:spPr>
          <a:xfrm>
            <a:off x="5292720" y="0"/>
            <a:ext cx="2808360" cy="153036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5"/>
          <p:cNvSpPr/>
          <p:nvPr/>
        </p:nvSpPr>
        <p:spPr>
          <a:xfrm>
            <a:off x="8305920" y="647712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684360" y="476280"/>
            <a:ext cx="180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小资料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矩形 1" descr=""/>
          <p:cNvPicPr/>
          <p:nvPr/>
        </p:nvPicPr>
        <p:blipFill>
          <a:blip r:embed="rId1"/>
          <a:stretch/>
        </p:blipFill>
        <p:spPr>
          <a:xfrm>
            <a:off x="-355680" y="-203040"/>
            <a:ext cx="5738760" cy="113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428760" y="857160"/>
            <a:ext cx="3133440" cy="2886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3"/>
          <a:stretch/>
        </p:blipFill>
        <p:spPr>
          <a:xfrm>
            <a:off x="4857840" y="857160"/>
            <a:ext cx="3200400" cy="2876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4"/>
          <a:stretch/>
        </p:blipFill>
        <p:spPr>
          <a:xfrm>
            <a:off x="428760" y="4000680"/>
            <a:ext cx="3190680" cy="2695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5"/>
          <a:stretch/>
        </p:blipFill>
        <p:spPr>
          <a:xfrm>
            <a:off x="4857840" y="3929040"/>
            <a:ext cx="3286080" cy="2781360"/>
          </a:xfrm>
          <a:prstGeom prst="rect">
            <a:avLst/>
          </a:prstGeom>
          <a:ln w="0">
            <a:noFill/>
          </a:ln>
        </p:spPr>
      </p:pic>
      <p:pic>
        <p:nvPicPr>
          <p:cNvPr id="153" name="矩形 6" descr=""/>
          <p:cNvPicPr/>
          <p:nvPr/>
        </p:nvPicPr>
        <p:blipFill>
          <a:blip r:embed="rId6"/>
          <a:stretch/>
        </p:blipFill>
        <p:spPr>
          <a:xfrm>
            <a:off x="3444840" y="1609560"/>
            <a:ext cx="1535040" cy="4430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四种类人猿"/>
          <p:cNvPicPr/>
          <p:nvPr/>
        </p:nvPicPr>
        <p:blipFill>
          <a:blip r:embed="rId1"/>
          <a:stretch/>
        </p:blipFill>
        <p:spPr>
          <a:xfrm>
            <a:off x="0" y="0"/>
            <a:ext cx="3214800" cy="4221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http://www.pep.com.cn/oldimages/pic_33603.jpg"/>
          <p:cNvPicPr/>
          <p:nvPr/>
        </p:nvPicPr>
        <p:blipFill>
          <a:blip r:embed="rId2"/>
          <a:stretch/>
        </p:blipFill>
        <p:spPr>
          <a:xfrm>
            <a:off x="2916360" y="692280"/>
            <a:ext cx="2447640" cy="439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http://www.pep.com.cn/oldimages/pic_33604.jpg"/>
          <p:cNvPicPr/>
          <p:nvPr/>
        </p:nvPicPr>
        <p:blipFill>
          <a:blip r:embed="rId3"/>
          <a:stretch/>
        </p:blipFill>
        <p:spPr>
          <a:xfrm>
            <a:off x="7000920" y="0"/>
            <a:ext cx="2143080" cy="388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http://www.pep.com.cn/oldimages/pic_33606.jpg"/>
          <p:cNvPicPr/>
          <p:nvPr/>
        </p:nvPicPr>
        <p:blipFill>
          <a:blip r:embed="rId4"/>
          <a:stretch/>
        </p:blipFill>
        <p:spPr>
          <a:xfrm>
            <a:off x="4859280" y="2133720"/>
            <a:ext cx="2448000" cy="3762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02"/>
          <p:cNvPicPr/>
          <p:nvPr/>
        </p:nvPicPr>
        <p:blipFill>
          <a:blip r:embed="rId2"/>
          <a:stretch/>
        </p:blipFill>
        <p:spPr>
          <a:xfrm>
            <a:off x="0" y="549360"/>
            <a:ext cx="1954080" cy="4348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3256560" y="3920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察类人猿图，回答问题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202480" y="1052640"/>
            <a:ext cx="5227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这些类人猿今天分布在地球的哪些地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的生活方式有什么共同点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973160" y="2421000"/>
            <a:ext cx="52279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人类的数量在急剧增加，而类人猿的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量日益减少，为什么会这样呢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324000" y="3645000"/>
            <a:ext cx="8640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类人猿在形态结构上确实与人有许多相似，但究竟在哪些方面和人有根本的区别呢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C2F67CAAECE085C44B6443AD8BD478BB"/>
          <p:cNvPicPr/>
          <p:nvPr/>
        </p:nvPicPr>
        <p:blipFill>
          <a:blip r:embed="rId3"/>
          <a:stretch/>
        </p:blipFill>
        <p:spPr>
          <a:xfrm>
            <a:off x="6084720" y="5149800"/>
            <a:ext cx="2233800" cy="1708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3T11:25:3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3:43Z</dcterms:modified>
  <cp:revision>3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