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0.gif" ContentType="image/gif"/>
  <Override PartName="/ppt/media/image54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35.jpeg" ContentType="image/jpeg"/>
  <Override PartName="/ppt/media/image22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41.jpeg" ContentType="image/jpeg"/>
  <Override PartName="/ppt/media/image63.gif" ContentType="image/gif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38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20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55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23.png" ContentType="image/png"/>
  <Override PartName="/ppt/media/image5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DB0-8ABE-483C-B3D8-546BC68E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96E-2195-44DC-8B11-79F038BB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52F-9FD6-4731-ADF2-8469DC3A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45A-952E-4F13-BC69-F6793846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1828-FFBE-4038-8B6C-75FBEB13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128C-B008-4538-AB7B-EF9D8517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AACF-180D-458D-8BC4-E758D3F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3350-E2E7-42F5-8ECA-84D4B938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A135-8F4C-4B27-9E29-6A3B5F09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F710-7AE6-4334-A5AA-3E9626F3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BADB-D46A-43C9-BA8E-5308E92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EAE-031D-4963-9BC2-9012FD69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D623-E5D9-49E1-A06A-C05C0316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EC8A-6BEA-416F-9F23-4417A86F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F005-AB9F-48B1-911C-139D508B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B27E-8EE3-414E-805E-9F249AB1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38A5-12A7-459A-A498-246638A0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29E7-46DE-4177-91AA-7E0AD325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EAD2-E6E3-4831-AA96-421D1706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750E-0274-451A-A425-FCCD607C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9E83-2711-49CA-BF0A-DEDE6698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7B8B-7EE4-4917-ACA1-FF502248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F5E-2922-48C9-839E-29188691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DA1B5-98C9-4C02-BD43-6154F95C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69DE-C43A-4788-B4F9-4BCE10AC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0DBC-2050-42A5-B42D-897F4C41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1F26-3D13-484A-BAAD-3FD05DAE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B538-8B2C-4397-83B9-700CE7B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D831-AEEF-4A6A-AC27-1CE3E43C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21AD-E435-4A40-B230-3E93B822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E2B-62FC-4E00-BF6B-398861C3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7B1-844D-413F-957A-242A0730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458-BBEC-48EB-91E8-EFF683FA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BE1-4E8F-4B6D-A62D-CFBDABFB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C2D-2293-4EBD-9865-42F10F5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B94-85CD-4556-897A-9A410CE6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F89D-D0A1-4151-9415-DC807ED0B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7894-0744-484F-93B8-972E06DB9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EACB-1926-4210-A43E-34FE8F7FD7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268,21,&#24187;&#28783;&#29255; 21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293760" y="2708280"/>
            <a:ext cx="4349520" cy="3079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43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人们生活方式的变化</a:t>
            </a:r>
            <a:r>
              <a:rPr b="1" lang="en-US" sz="4000" spc="-1" strike="noStrike">
                <a:solidFill>
                  <a:srgbClr val="0d0d0d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900000" y="620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26" name="图片 4" descr=""/>
          <p:cNvPicPr/>
          <p:nvPr/>
        </p:nvPicPr>
        <p:blipFill>
          <a:blip r:embed="rId2"/>
          <a:stretch/>
        </p:blipFill>
        <p:spPr>
          <a:xfrm>
            <a:off x="4543560" y="2784600"/>
            <a:ext cx="4343400" cy="300348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cc33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1742040" y="8571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衣食住行的变迁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76360" y="148428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方面的变化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1258920" y="2060640"/>
            <a:ext cx="3352680" cy="3833640"/>
            <a:chOff x="1258920" y="2060640"/>
            <a:chExt cx="3352680" cy="3833640"/>
          </a:xfrm>
        </p:grpSpPr>
        <p:sp>
          <p:nvSpPr>
            <p:cNvPr id="185" name="Text Box 5"/>
            <p:cNvSpPr/>
            <p:nvPr/>
          </p:nvSpPr>
          <p:spPr>
            <a:xfrm>
              <a:off x="2269440" y="5373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现代的饮食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pic>
          <p:nvPicPr>
            <p:cNvPr id="186" name="Picture 6" descr="现代的饮食1"/>
            <p:cNvPicPr/>
            <p:nvPr/>
          </p:nvPicPr>
          <p:blipFill>
            <a:blip r:embed="rId1"/>
            <a:stretch/>
          </p:blipFill>
          <p:spPr>
            <a:xfrm>
              <a:off x="1258920" y="2060640"/>
              <a:ext cx="3352680" cy="328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7" name="Group 10"/>
          <p:cNvGrpSpPr/>
          <p:nvPr/>
        </p:nvGrpSpPr>
        <p:grpSpPr>
          <a:xfrm>
            <a:off x="5003640" y="2060640"/>
            <a:ext cx="3275280" cy="3657600"/>
            <a:chOff x="5003640" y="2060640"/>
            <a:chExt cx="3275280" cy="3657600"/>
          </a:xfrm>
        </p:grpSpPr>
        <p:pic>
          <p:nvPicPr>
            <p:cNvPr id="188" name="Picture 7" descr="绿色蔬菜"/>
            <p:cNvPicPr/>
            <p:nvPr/>
          </p:nvPicPr>
          <p:blipFill>
            <a:blip r:embed="rId2"/>
            <a:stretch/>
          </p:blipFill>
          <p:spPr>
            <a:xfrm>
              <a:off x="5003640" y="2060640"/>
              <a:ext cx="2568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8"/>
            <p:cNvSpPr/>
            <p:nvPr/>
          </p:nvSpPr>
          <p:spPr>
            <a:xfrm>
              <a:off x="7671960" y="2472120"/>
              <a:ext cx="60696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绿 色 蔬 菜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190" name="文本框 8194"/>
          <p:cNvSpPr/>
          <p:nvPr/>
        </p:nvSpPr>
        <p:spPr>
          <a:xfrm>
            <a:off x="1258920" y="60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1" lang="zh-CN" sz="16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cc33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2"/>
          <p:cNvSpPr/>
          <p:nvPr/>
        </p:nvSpPr>
        <p:spPr>
          <a:xfrm>
            <a:off x="2484360" y="21337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改革开放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后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987640" y="2852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食物琳琅满目，讲究营养均衡、粗细搭配、绿色食品，健康饮食。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193" name="Group 3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4" name="Picture 7" descr="u=3386362749,2708913293&amp;gp=2"/>
            <p:cNvPicPr/>
            <p:nvPr/>
          </p:nvPicPr>
          <p:blipFill>
            <a:blip r:embed="rId1"/>
            <a:stretch/>
          </p:blipFill>
          <p:spPr>
            <a:xfrm>
              <a:off x="2268360" y="5334120"/>
              <a:ext cx="22100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8" descr="da7b81c23b87d4012804b0bf9fccb904"/>
            <p:cNvPicPr/>
            <p:nvPr/>
          </p:nvPicPr>
          <p:blipFill>
            <a:blip r:embed="rId2"/>
            <a:stretch/>
          </p:blipFill>
          <p:spPr>
            <a:xfrm>
              <a:off x="0" y="3068640"/>
              <a:ext cx="248436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070921113329141"/>
            <p:cNvPicPr/>
            <p:nvPr/>
          </p:nvPicPr>
          <p:blipFill>
            <a:blip r:embed="rId3"/>
            <a:stretch/>
          </p:blipFill>
          <p:spPr>
            <a:xfrm>
              <a:off x="0" y="4683240"/>
              <a:ext cx="2411280" cy="217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0" descr="u=2576908106,1425497095&amp;gp=2"/>
            <p:cNvPicPr/>
            <p:nvPr/>
          </p:nvPicPr>
          <p:blipFill>
            <a:blip r:embed="rId4"/>
            <a:stretch/>
          </p:blipFill>
          <p:spPr>
            <a:xfrm>
              <a:off x="0" y="1628640"/>
              <a:ext cx="2484360" cy="16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1" descr="荤素搭配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48436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9" descr="2006516151941"/>
            <p:cNvPicPr/>
            <p:nvPr/>
          </p:nvPicPr>
          <p:blipFill>
            <a:blip r:embed="rId6"/>
            <a:stretch/>
          </p:blipFill>
          <p:spPr>
            <a:xfrm>
              <a:off x="6443640" y="4179960"/>
              <a:ext cx="2700360" cy="26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30" descr="时尚窝窝头"/>
            <p:cNvPicPr/>
            <p:nvPr/>
          </p:nvPicPr>
          <p:blipFill>
            <a:blip r:embed="rId7"/>
            <a:stretch/>
          </p:blipFill>
          <p:spPr>
            <a:xfrm>
              <a:off x="6443640" y="1989000"/>
              <a:ext cx="2700360" cy="21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31" descr="200810101224123_2"/>
            <p:cNvPicPr/>
            <p:nvPr/>
          </p:nvPicPr>
          <p:blipFill>
            <a:blip r:embed="rId8"/>
            <a:stretch/>
          </p:blipFill>
          <p:spPr>
            <a:xfrm>
              <a:off x="2484360" y="0"/>
              <a:ext cx="3959280" cy="22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32" descr="172309889"/>
            <p:cNvPicPr/>
            <p:nvPr/>
          </p:nvPicPr>
          <p:blipFill>
            <a:blip r:embed="rId9"/>
            <a:stretch/>
          </p:blipFill>
          <p:spPr>
            <a:xfrm>
              <a:off x="6443640" y="0"/>
              <a:ext cx="2700360" cy="20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33" descr="u=486288982,415244440&amp;gp=0"/>
            <p:cNvPicPr/>
            <p:nvPr/>
          </p:nvPicPr>
          <p:blipFill>
            <a:blip r:embed="rId10"/>
            <a:stretch/>
          </p:blipFill>
          <p:spPr>
            <a:xfrm>
              <a:off x="4427640" y="5334120"/>
              <a:ext cx="19810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883160" y="8571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衣食住行的变迁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403280" y="1484280"/>
            <a:ext cx="33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方面的变化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768840" y="5805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改革开放前的农村住房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07" name="Picture 10" descr="图片3"/>
          <p:cNvPicPr/>
          <p:nvPr/>
        </p:nvPicPr>
        <p:blipFill>
          <a:blip r:embed="rId1"/>
          <a:stretch/>
        </p:blipFill>
        <p:spPr>
          <a:xfrm>
            <a:off x="1908000" y="1989000"/>
            <a:ext cx="5545440" cy="381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砖瓦房"/>
          <p:cNvPicPr/>
          <p:nvPr/>
        </p:nvPicPr>
        <p:blipFill>
          <a:blip r:embed="rId2"/>
          <a:stretch/>
        </p:blipFill>
        <p:spPr>
          <a:xfrm>
            <a:off x="1692360" y="1989000"/>
            <a:ext cx="59767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1883160" y="785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衣食住行的变迁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619280" y="148428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方面的变化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11" name="Picture 7" descr="a122"/>
          <p:cNvPicPr/>
          <p:nvPr/>
        </p:nvPicPr>
        <p:blipFill>
          <a:blip r:embed="rId1"/>
          <a:stretch/>
        </p:blipFill>
        <p:spPr>
          <a:xfrm>
            <a:off x="1835280" y="1989000"/>
            <a:ext cx="4968720" cy="3998880"/>
          </a:xfrm>
          <a:prstGeom prst="rect">
            <a:avLst/>
          </a:prstGeom>
          <a:ln w="0">
            <a:noFill/>
          </a:ln>
        </p:spPr>
      </p:pic>
      <p:pic>
        <p:nvPicPr>
          <p:cNvPr id="212" name="WordArt 8" descr=""/>
          <p:cNvPicPr/>
          <p:nvPr/>
        </p:nvPicPr>
        <p:blipFill>
          <a:blip r:embed="rId2"/>
          <a:stretch/>
        </p:blipFill>
        <p:spPr>
          <a:xfrm>
            <a:off x="7088040" y="2128680"/>
            <a:ext cx="839880" cy="357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299176_531865"/>
          <p:cNvPicPr/>
          <p:nvPr/>
        </p:nvPicPr>
        <p:blipFill>
          <a:blip r:embed="rId3"/>
          <a:stretch/>
        </p:blipFill>
        <p:spPr>
          <a:xfrm>
            <a:off x="1258920" y="1989000"/>
            <a:ext cx="6769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u=2881172548,2798023281&amp;gp=2"/>
          <p:cNvPicPr/>
          <p:nvPr/>
        </p:nvPicPr>
        <p:blipFill>
          <a:blip r:embed="rId1"/>
          <a:stretch/>
        </p:blipFill>
        <p:spPr>
          <a:xfrm>
            <a:off x="3048120" y="0"/>
            <a:ext cx="3276360" cy="2743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u=3149818577,2601436206&amp;gp=0"/>
          <p:cNvPicPr/>
          <p:nvPr/>
        </p:nvPicPr>
        <p:blipFill>
          <a:blip r:embed="rId2"/>
          <a:stretch/>
        </p:blipFill>
        <p:spPr>
          <a:xfrm>
            <a:off x="0" y="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u=828553618,2035327409&amp;gp=0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u=3141804214,429171325&amp;gp=0"/>
          <p:cNvPicPr/>
          <p:nvPr/>
        </p:nvPicPr>
        <p:blipFill>
          <a:blip r:embed="rId4"/>
          <a:stretch/>
        </p:blipFill>
        <p:spPr>
          <a:xfrm>
            <a:off x="3635280" y="43275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619280" y="306864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中国第一村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华西村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6629400" y="4221000"/>
            <a:ext cx="25146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率先进入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康社会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20" name="Picture 11" descr="新农村住房"/>
          <p:cNvPicPr/>
          <p:nvPr/>
        </p:nvPicPr>
        <p:blipFill>
          <a:blip r:embed="rId5"/>
          <a:stretch/>
        </p:blipFill>
        <p:spPr>
          <a:xfrm>
            <a:off x="0" y="4292640"/>
            <a:ext cx="3635280" cy="2565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20050817165609933"/>
          <p:cNvPicPr/>
          <p:nvPr/>
        </p:nvPicPr>
        <p:blipFill>
          <a:blip r:embed="rId6"/>
          <a:stretch/>
        </p:blipFill>
        <p:spPr>
          <a:xfrm>
            <a:off x="468360" y="2824200"/>
            <a:ext cx="1511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2027880" y="785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衣食住行的变迁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835280" y="155736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行的方面的变化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24" name="Group 11"/>
          <p:cNvGrpSpPr/>
          <p:nvPr/>
        </p:nvGrpSpPr>
        <p:grpSpPr>
          <a:xfrm>
            <a:off x="1332000" y="2133720"/>
            <a:ext cx="3025800" cy="4124160"/>
            <a:chOff x="1332000" y="2133720"/>
            <a:chExt cx="3025800" cy="4124160"/>
          </a:xfrm>
        </p:grpSpPr>
        <p:pic>
          <p:nvPicPr>
            <p:cNvPr id="225" name="Picture 7" descr="凤凰自行车"/>
            <p:cNvPicPr/>
            <p:nvPr/>
          </p:nvPicPr>
          <p:blipFill>
            <a:blip r:embed="rId1"/>
            <a:stretch/>
          </p:blipFill>
          <p:spPr>
            <a:xfrm>
              <a:off x="1403280" y="2133720"/>
              <a:ext cx="2952720" cy="19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8" descr="广州的交通"/>
            <p:cNvPicPr/>
            <p:nvPr/>
          </p:nvPicPr>
          <p:blipFill>
            <a:blip r:embed="rId2"/>
            <a:stretch/>
          </p:blipFill>
          <p:spPr>
            <a:xfrm>
              <a:off x="1332000" y="4221000"/>
              <a:ext cx="302580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Group 12"/>
          <p:cNvGrpSpPr/>
          <p:nvPr/>
        </p:nvGrpSpPr>
        <p:grpSpPr>
          <a:xfrm>
            <a:off x="4643280" y="2133720"/>
            <a:ext cx="3116520" cy="4103640"/>
            <a:chOff x="4643280" y="2133720"/>
            <a:chExt cx="3116520" cy="4103640"/>
          </a:xfrm>
        </p:grpSpPr>
        <p:pic>
          <p:nvPicPr>
            <p:cNvPr id="228" name="Picture 9" descr="200801261223308925"/>
            <p:cNvPicPr/>
            <p:nvPr/>
          </p:nvPicPr>
          <p:blipFill>
            <a:blip r:embed="rId3"/>
            <a:stretch/>
          </p:blipFill>
          <p:spPr>
            <a:xfrm>
              <a:off x="4643280" y="4149720"/>
              <a:ext cx="311652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0" descr="213831477"/>
            <p:cNvPicPr/>
            <p:nvPr/>
          </p:nvPicPr>
          <p:blipFill>
            <a:blip r:embed="rId4"/>
            <a:stretch/>
          </p:blipFill>
          <p:spPr>
            <a:xfrm>
              <a:off x="4643280" y="2133720"/>
              <a:ext cx="3097440" cy="195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2026080" y="981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衣食住行的变迁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835280" y="155736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方面的变化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239000" y="5729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高速公路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33" name="Picture 6" descr="高速公路"/>
          <p:cNvPicPr/>
          <p:nvPr/>
        </p:nvPicPr>
        <p:blipFill>
          <a:blip r:embed="rId1"/>
          <a:stretch/>
        </p:blipFill>
        <p:spPr>
          <a:xfrm>
            <a:off x="1403280" y="2060640"/>
            <a:ext cx="648180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1" descr="20071129005"/>
          <p:cNvPicPr/>
          <p:nvPr/>
        </p:nvPicPr>
        <p:blipFill>
          <a:blip r:embed="rId1"/>
          <a:stretch/>
        </p:blipFill>
        <p:spPr>
          <a:xfrm>
            <a:off x="826920" y="3860640"/>
            <a:ext cx="3888000" cy="2584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F5FA4KI262E9A487D5"/>
          <p:cNvPicPr/>
          <p:nvPr/>
        </p:nvPicPr>
        <p:blipFill>
          <a:blip r:embed="rId2"/>
          <a:stretch/>
        </p:blipFill>
        <p:spPr>
          <a:xfrm>
            <a:off x="826920" y="907920"/>
            <a:ext cx="3888000" cy="2909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私家车"/>
          <p:cNvPicPr/>
          <p:nvPr/>
        </p:nvPicPr>
        <p:blipFill>
          <a:blip r:embed="rId3"/>
          <a:stretch/>
        </p:blipFill>
        <p:spPr>
          <a:xfrm>
            <a:off x="4932360" y="907920"/>
            <a:ext cx="3065400" cy="55454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6"/>
          <p:cNvSpPr/>
          <p:nvPr/>
        </p:nvSpPr>
        <p:spPr>
          <a:xfrm>
            <a:off x="1547640" y="4724280"/>
            <a:ext cx="5400720" cy="64260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你从中发现了什么问题？该如何解决？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2673360" y="857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二、就业和社会保障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116000" y="1557360"/>
            <a:ext cx="72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改革开放以来，我国的就业制度发生了变化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40" name="Group 9"/>
          <p:cNvGrpSpPr/>
          <p:nvPr/>
        </p:nvGrpSpPr>
        <p:grpSpPr>
          <a:xfrm>
            <a:off x="1908000" y="2133720"/>
            <a:ext cx="5616720" cy="4336920"/>
            <a:chOff x="1908000" y="2133720"/>
            <a:chExt cx="5616720" cy="4336920"/>
          </a:xfrm>
        </p:grpSpPr>
        <p:sp>
          <p:nvSpPr>
            <p:cNvPr id="241" name="Text Box 5"/>
            <p:cNvSpPr/>
            <p:nvPr/>
          </p:nvSpPr>
          <p:spPr>
            <a:xfrm>
              <a:off x="3810960" y="5950080"/>
              <a:ext cx="1674360" cy="52056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人 才 市 场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pic>
          <p:nvPicPr>
            <p:cNvPr id="242" name="Picture 6" descr="人才市场"/>
            <p:cNvPicPr/>
            <p:nvPr/>
          </p:nvPicPr>
          <p:blipFill>
            <a:blip r:embed="rId1"/>
            <a:stretch/>
          </p:blipFill>
          <p:spPr>
            <a:xfrm>
              <a:off x="1908000" y="2133720"/>
              <a:ext cx="5616720" cy="375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10"/>
          <p:cNvGrpSpPr/>
          <p:nvPr/>
        </p:nvGrpSpPr>
        <p:grpSpPr>
          <a:xfrm>
            <a:off x="1835280" y="2060640"/>
            <a:ext cx="5689440" cy="4836600"/>
            <a:chOff x="1835280" y="2060640"/>
            <a:chExt cx="5689440" cy="4836600"/>
          </a:xfrm>
        </p:grpSpPr>
        <p:pic>
          <p:nvPicPr>
            <p:cNvPr id="244" name="Picture 7" descr="招聘会1"/>
            <p:cNvPicPr/>
            <p:nvPr/>
          </p:nvPicPr>
          <p:blipFill>
            <a:blip r:embed="rId2"/>
            <a:stretch/>
          </p:blipFill>
          <p:spPr>
            <a:xfrm>
              <a:off x="1835280" y="2060640"/>
              <a:ext cx="5689440" cy="38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8"/>
            <p:cNvSpPr/>
            <p:nvPr/>
          </p:nvSpPr>
          <p:spPr>
            <a:xfrm>
              <a:off x="3492360" y="5950080"/>
              <a:ext cx="2448000" cy="947160"/>
            </a:xfrm>
            <a:prstGeom prst="rect">
              <a:avLst/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招   聘  会          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pic>
        <p:nvPicPr>
          <p:cNvPr id="246" name="Picture 11" descr="招聘会2"/>
          <p:cNvPicPr/>
          <p:nvPr/>
        </p:nvPicPr>
        <p:blipFill>
          <a:blip r:embed="rId3"/>
          <a:stretch/>
        </p:blipFill>
        <p:spPr>
          <a:xfrm>
            <a:off x="1763640" y="206064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50920" y="2708280"/>
            <a:ext cx="8151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城市改革为什么要打破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铁饭碗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？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48" name="Picture 5" descr="GIF153"/>
          <p:cNvPicPr/>
          <p:nvPr/>
        </p:nvPicPr>
        <p:blipFill>
          <a:blip r:embed="rId1"/>
          <a:stretch/>
        </p:blipFill>
        <p:spPr>
          <a:xfrm>
            <a:off x="6659640" y="4292640"/>
            <a:ext cx="2057400" cy="2016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7772400" y="6253200"/>
            <a:ext cx="1295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下一页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791320" y="6248520"/>
            <a:ext cx="1295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上一页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1" name="WordArt 8"/>
          <p:cNvSpPr txBox="1"/>
          <p:nvPr/>
        </p:nvSpPr>
        <p:spPr>
          <a:xfrm>
            <a:off x="611280" y="907920"/>
            <a:ext cx="3529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思考并回答：</a:t>
            </a:r>
            <a:endParaRPr b="1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826920" y="256536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旧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四大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分别指什么？为什么会有如此大的变化？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29" name="Picture 7" descr="图片2；；"/>
          <p:cNvPicPr/>
          <p:nvPr/>
        </p:nvPicPr>
        <p:blipFill>
          <a:blip r:embed="rId1"/>
          <a:stretch/>
        </p:blipFill>
        <p:spPr>
          <a:xfrm>
            <a:off x="5796000" y="3571920"/>
            <a:ext cx="2841480" cy="28414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2484360" y="83664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快乐猜猜猜</a:t>
            </a:r>
            <a:endParaRPr b="1" lang="en-US" sz="28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2816280" y="981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二、就业和社会保障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971640" y="206064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随着改革的深入，我国的社会保障制度也逐步建立和完善。</a:t>
            </a:r>
            <a:endParaRPr b="1" lang="en-US" sz="40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254" name="Picture 6" descr="图片21"/>
          <p:cNvPicPr/>
          <p:nvPr/>
        </p:nvPicPr>
        <p:blipFill>
          <a:blip r:embed="rId1"/>
          <a:stretch/>
        </p:blipFill>
        <p:spPr>
          <a:xfrm>
            <a:off x="6012000" y="3860640"/>
            <a:ext cx="22269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1547640" y="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改革开放以来</a:t>
            </a:r>
            <a:endParaRPr b="1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941760" y="1125360"/>
            <a:ext cx="7233840" cy="5181840"/>
            <a:chOff x="941760" y="1125360"/>
            <a:chExt cx="7233840" cy="5181840"/>
          </a:xfrm>
        </p:grpSpPr>
        <p:sp>
          <p:nvSpPr>
            <p:cNvPr id="257" name="Text Box 4"/>
            <p:cNvSpPr/>
            <p:nvPr/>
          </p:nvSpPr>
          <p:spPr>
            <a:xfrm>
              <a:off x="941760" y="1125360"/>
              <a:ext cx="1277640" cy="518184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我国社会保障体系的完善</a:t>
              </a:r>
              <a:endParaRPr b="1" lang="en-US" sz="36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58" name="AutoShape 5"/>
            <p:cNvSpPr/>
            <p:nvPr/>
          </p:nvSpPr>
          <p:spPr>
            <a:xfrm>
              <a:off x="2765520" y="1887480"/>
              <a:ext cx="228600" cy="3809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000 h 3809880"/>
                <a:gd name="textAreaBottom" fmla="*/ 3710880 h 380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59" name="Text Box 6"/>
            <p:cNvSpPr/>
            <p:nvPr/>
          </p:nvSpPr>
          <p:spPr>
            <a:xfrm>
              <a:off x="3298680" y="1658880"/>
              <a:ext cx="1524240" cy="6426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养老</a:t>
              </a:r>
              <a:endParaRPr b="1" lang="en-US" sz="36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60" name="Text Box 7"/>
            <p:cNvSpPr/>
            <p:nvPr/>
          </p:nvSpPr>
          <p:spPr>
            <a:xfrm>
              <a:off x="3298680" y="2649600"/>
              <a:ext cx="1524240" cy="6426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医疗</a:t>
              </a:r>
              <a:endParaRPr b="1" lang="en-US" sz="36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61" name="Text Box 8"/>
            <p:cNvSpPr/>
            <p:nvPr/>
          </p:nvSpPr>
          <p:spPr>
            <a:xfrm>
              <a:off x="3298680" y="3564000"/>
              <a:ext cx="1524240" cy="6426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失业</a:t>
              </a:r>
              <a:endParaRPr b="1" lang="en-US" sz="36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62" name="Text Box 9"/>
            <p:cNvSpPr/>
            <p:nvPr/>
          </p:nvSpPr>
          <p:spPr>
            <a:xfrm>
              <a:off x="3298680" y="4446360"/>
              <a:ext cx="1524240" cy="6426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生育</a:t>
              </a:r>
              <a:endParaRPr b="1" lang="en-US" sz="36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3298680" y="5316480"/>
              <a:ext cx="1524240" cy="6426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工伤</a:t>
              </a:r>
              <a:endParaRPr b="1" lang="en-US" sz="36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5813280" y="1735200"/>
              <a:ext cx="2362320" cy="5814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亿多人</a:t>
              </a:r>
              <a:endParaRPr b="1" lang="en-US" sz="32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5813280" y="2679480"/>
              <a:ext cx="2362320" cy="5814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7920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万人</a:t>
              </a:r>
              <a:endParaRPr b="1" lang="en-US" sz="32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5813280" y="4432320"/>
              <a:ext cx="2362320" cy="5814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400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万人</a:t>
              </a:r>
              <a:endParaRPr b="1" lang="en-US" sz="32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5813280" y="5346720"/>
              <a:ext cx="2362320" cy="5814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4200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万人</a:t>
              </a:r>
              <a:endParaRPr b="1" lang="en-US" sz="32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5813280" y="3593880"/>
              <a:ext cx="2362320" cy="58140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亿多人</a:t>
              </a:r>
              <a:endParaRPr b="1" lang="en-US" sz="32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269" name="Text Box 16"/>
          <p:cNvSpPr/>
          <p:nvPr/>
        </p:nvSpPr>
        <p:spPr>
          <a:xfrm>
            <a:off x="5334120" y="109692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0" name="文本框 8194"/>
          <p:cNvSpPr/>
          <p:nvPr/>
        </p:nvSpPr>
        <p:spPr>
          <a:xfrm>
            <a:off x="2459160" y="112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990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cc33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xinsrc_142100313121371803165"/>
          <p:cNvPicPr/>
          <p:nvPr/>
        </p:nvPicPr>
        <p:blipFill>
          <a:blip r:embed="rId1"/>
          <a:stretch/>
        </p:blipFill>
        <p:spPr>
          <a:xfrm>
            <a:off x="1547640" y="620640"/>
            <a:ext cx="56167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0BAF-7C3F-45B1-A57B-7A6BE190FE88}" type="slidenum">
              <a:rPr b="0" lang="zh-CN" sz="1400" spc="-1" strike="noStrike">
                <a:solidFill>
                  <a:srgbClr val="cc33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  人们生活方式的变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7705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一、衣食住行的变迁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---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、衣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---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、食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---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、住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---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4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、行</a:t>
            </a:r>
            <a:r>
              <a:rPr b="0" lang="en-US" sz="3200" spc="-1" strike="noStrike" u="sng">
                <a:solidFill>
                  <a:srgbClr val="009900"/>
                </a:solidFill>
                <a:uFillTx/>
                <a:latin typeface="Times New Roman"/>
                <a:ea typeface="黑体"/>
                <a:hlinkClick r:id="rId1"/>
              </a:rPr>
              <a:t>---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二、就业和社会保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---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、就业：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、社会保障制度逐步完善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--- 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2677320" y="1892160"/>
            <a:ext cx="3544200" cy="520560"/>
            <a:chOff x="2677320" y="1892160"/>
            <a:chExt cx="3544200" cy="520560"/>
          </a:xfrm>
        </p:grpSpPr>
        <p:grpSp>
          <p:nvGrpSpPr>
            <p:cNvPr id="279" name=""/>
            <p:cNvGrpSpPr/>
            <p:nvPr/>
          </p:nvGrpSpPr>
          <p:grpSpPr>
            <a:xfrm>
              <a:off x="4500360" y="2131920"/>
              <a:ext cx="576360" cy="360"/>
              <a:chOff x="4500360" y="2131920"/>
              <a:chExt cx="576360" cy="360"/>
            </a:xfrm>
          </p:grpSpPr>
          <p:sp>
            <p:nvSpPr>
              <p:cNvPr id="280" name="Line 5"/>
              <p:cNvSpPr/>
              <p:nvPr/>
            </p:nvSpPr>
            <p:spPr>
              <a:xfrm>
                <a:off x="4500360" y="2131920"/>
                <a:ext cx="5763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4500360" y="213192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Rectangle 6"/>
            <p:cNvSpPr/>
            <p:nvPr/>
          </p:nvSpPr>
          <p:spPr>
            <a:xfrm>
              <a:off x="2677320" y="1892160"/>
              <a:ext cx="35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Garamond"/>
                  <a:ea typeface="黑体"/>
                </a:rPr>
                <a:t>匮乏、单调           绚丽多彩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2739600" y="2492280"/>
            <a:ext cx="3330720" cy="520560"/>
            <a:chOff x="2739600" y="2492280"/>
            <a:chExt cx="3330720" cy="520560"/>
          </a:xfrm>
        </p:grpSpPr>
        <p:grpSp>
          <p:nvGrpSpPr>
            <p:cNvPr id="284" name=""/>
            <p:cNvGrpSpPr/>
            <p:nvPr/>
          </p:nvGrpSpPr>
          <p:grpSpPr>
            <a:xfrm>
              <a:off x="4500360" y="2732040"/>
              <a:ext cx="576360" cy="360"/>
              <a:chOff x="4500360" y="2732040"/>
              <a:chExt cx="576360" cy="360"/>
            </a:xfrm>
          </p:grpSpPr>
          <p:sp>
            <p:nvSpPr>
              <p:cNvPr id="285" name="Line 8"/>
              <p:cNvSpPr/>
              <p:nvPr/>
            </p:nvSpPr>
            <p:spPr>
              <a:xfrm>
                <a:off x="4500360" y="2732040"/>
                <a:ext cx="5763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4500360" y="273204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Rectangle 9"/>
            <p:cNvSpPr/>
            <p:nvPr/>
          </p:nvSpPr>
          <p:spPr>
            <a:xfrm>
              <a:off x="2739600" y="2492280"/>
              <a:ext cx="333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Garamond"/>
                  <a:ea typeface="黑体"/>
                </a:rPr>
                <a:t>匮乏、单调          日益丰富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grpSp>
        <p:nvGrpSpPr>
          <p:cNvPr id="288" name="Group 10"/>
          <p:cNvGrpSpPr/>
          <p:nvPr/>
        </p:nvGrpSpPr>
        <p:grpSpPr>
          <a:xfrm>
            <a:off x="1975320" y="3068640"/>
            <a:ext cx="4803120" cy="520560"/>
            <a:chOff x="1975320" y="3068640"/>
            <a:chExt cx="4803120" cy="520560"/>
          </a:xfrm>
        </p:grpSpPr>
        <p:grpSp>
          <p:nvGrpSpPr>
            <p:cNvPr id="289" name=""/>
            <p:cNvGrpSpPr/>
            <p:nvPr/>
          </p:nvGrpSpPr>
          <p:grpSpPr>
            <a:xfrm>
              <a:off x="4427640" y="3308400"/>
              <a:ext cx="576360" cy="360"/>
              <a:chOff x="4427640" y="3308400"/>
              <a:chExt cx="576360" cy="360"/>
            </a:xfrm>
          </p:grpSpPr>
          <p:sp>
            <p:nvSpPr>
              <p:cNvPr id="290" name="Line 11"/>
              <p:cNvSpPr/>
              <p:nvPr/>
            </p:nvSpPr>
            <p:spPr>
              <a:xfrm>
                <a:off x="4427640" y="3308400"/>
                <a:ext cx="57636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4427640" y="3308400"/>
                <a:ext cx="57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Rectangle 12"/>
            <p:cNvSpPr/>
            <p:nvPr/>
          </p:nvSpPr>
          <p:spPr>
            <a:xfrm>
              <a:off x="1975320" y="3068640"/>
              <a:ext cx="480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条</a:t>
              </a:r>
              <a:r>
                <a:rPr b="0" lang="zh-CN" sz="2800" spc="-1" strike="noStrike">
                  <a:solidFill>
                    <a:srgbClr val="0000cc"/>
                  </a:solidFill>
                  <a:latin typeface="Garamond"/>
                  <a:ea typeface="黑体"/>
                </a:rPr>
                <a:t>件较差               面貌一新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grpSp>
        <p:nvGrpSpPr>
          <p:cNvPr id="293" name="Group 13"/>
          <p:cNvGrpSpPr/>
          <p:nvPr/>
        </p:nvGrpSpPr>
        <p:grpSpPr>
          <a:xfrm>
            <a:off x="2195640" y="3645000"/>
            <a:ext cx="5832360" cy="520560"/>
            <a:chOff x="2195640" y="3645000"/>
            <a:chExt cx="5832360" cy="520560"/>
          </a:xfrm>
        </p:grpSpPr>
        <p:grpSp>
          <p:nvGrpSpPr>
            <p:cNvPr id="294" name=""/>
            <p:cNvGrpSpPr/>
            <p:nvPr/>
          </p:nvGrpSpPr>
          <p:grpSpPr>
            <a:xfrm>
              <a:off x="4103640" y="3932640"/>
              <a:ext cx="706320" cy="360"/>
              <a:chOff x="4103640" y="3932640"/>
              <a:chExt cx="706320" cy="360"/>
            </a:xfrm>
          </p:grpSpPr>
          <p:sp>
            <p:nvSpPr>
              <p:cNvPr id="295" name="Line 14"/>
              <p:cNvSpPr/>
              <p:nvPr/>
            </p:nvSpPr>
            <p:spPr>
              <a:xfrm>
                <a:off x="4103640" y="3932640"/>
                <a:ext cx="706320" cy="0"/>
              </a:xfrm>
              <a:prstGeom prst="line">
                <a:avLst/>
              </a:prstGeom>
              <a:ln w="38160">
                <a:solidFill>
                  <a:srgbClr val="cc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4103640" y="3932640"/>
                <a:ext cx="706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Rectangle 15"/>
            <p:cNvSpPr/>
            <p:nvPr/>
          </p:nvSpPr>
          <p:spPr>
            <a:xfrm>
              <a:off x="2195640" y="3645000"/>
              <a:ext cx="583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Garamond"/>
                  <a:ea typeface="黑体"/>
                </a:rPr>
                <a:t>比较落后             通达便捷</a:t>
              </a:r>
              <a:r>
                <a:rPr b="0" lang="en-US" sz="2800" spc="-1" strike="noStrike">
                  <a:solidFill>
                    <a:srgbClr val="0000cc"/>
                  </a:solidFill>
                  <a:latin typeface="Garamond"/>
                  <a:ea typeface="黑体"/>
                </a:rPr>
                <a:t>---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grpSp>
        <p:nvGrpSpPr>
          <p:cNvPr id="298" name="Group 16"/>
          <p:cNvGrpSpPr/>
          <p:nvPr/>
        </p:nvGrpSpPr>
        <p:grpSpPr>
          <a:xfrm>
            <a:off x="2700360" y="4724280"/>
            <a:ext cx="5111640" cy="520560"/>
            <a:chOff x="2700360" y="4724280"/>
            <a:chExt cx="5111640" cy="520560"/>
          </a:xfrm>
        </p:grpSpPr>
        <p:grpSp>
          <p:nvGrpSpPr>
            <p:cNvPr id="299" name=""/>
            <p:cNvGrpSpPr/>
            <p:nvPr/>
          </p:nvGrpSpPr>
          <p:grpSpPr>
            <a:xfrm>
              <a:off x="4160520" y="4940280"/>
              <a:ext cx="545760" cy="1440"/>
              <a:chOff x="4160520" y="4940280"/>
              <a:chExt cx="545760" cy="1440"/>
            </a:xfrm>
          </p:grpSpPr>
          <p:sp>
            <p:nvSpPr>
              <p:cNvPr id="300" name="Line 17"/>
              <p:cNvSpPr/>
              <p:nvPr/>
            </p:nvSpPr>
            <p:spPr>
              <a:xfrm>
                <a:off x="4160520" y="4940280"/>
                <a:ext cx="545760" cy="1440"/>
              </a:xfrm>
              <a:prstGeom prst="line">
                <a:avLst/>
              </a:prstGeom>
              <a:ln w="38160">
                <a:solidFill>
                  <a:srgbClr val="cc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4160520" y="4940280"/>
                <a:ext cx="545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33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Rectangle 18"/>
            <p:cNvSpPr/>
            <p:nvPr/>
          </p:nvSpPr>
          <p:spPr>
            <a:xfrm>
              <a:off x="2700360" y="4724280"/>
              <a:ext cx="51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cc"/>
                  </a:solidFill>
                  <a:latin typeface="Garamond"/>
                  <a:ea typeface="黑体"/>
                </a:rPr>
                <a:t>铁饭碗</a:t>
              </a:r>
              <a:r>
                <a:rPr b="0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cc"/>
                  </a:solidFill>
                  <a:latin typeface="Garamond"/>
                  <a:ea typeface="黑体"/>
                </a:rPr>
                <a:t>          公开招聘</a:t>
              </a:r>
              <a:r>
                <a:rPr b="0" lang="en-US" sz="2800" spc="-1" strike="noStrike">
                  <a:solidFill>
                    <a:srgbClr val="0000cc"/>
                  </a:solidFill>
                  <a:latin typeface="Garamond"/>
                  <a:ea typeface="黑体"/>
                </a:rPr>
                <a:t>---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sp>
        <p:nvSpPr>
          <p:cNvPr id="303" name="AutoShape 19"/>
          <p:cNvSpPr/>
          <p:nvPr/>
        </p:nvSpPr>
        <p:spPr>
          <a:xfrm>
            <a:off x="6659640" y="1484280"/>
            <a:ext cx="360360" cy="4321080"/>
          </a:xfrm>
          <a:custGeom>
            <a:avLst/>
            <a:gdLst>
              <a:gd name="textAreaLeft" fmla="*/ 0 w 360360"/>
              <a:gd name="textAreaRight" fmla="*/ 129960 w 360360"/>
              <a:gd name="textAreaTop" fmla="*/ 112320 h 4321080"/>
              <a:gd name="textAreaBottom" fmla="*/ 420876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7236000" y="29242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Garamond"/>
                <a:ea typeface="华文琥珀"/>
              </a:rPr>
              <a:t>变</a:t>
            </a:r>
            <a:endParaRPr b="1" lang="en-US" sz="9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732720" y="981000"/>
            <a:ext cx="29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Garamond"/>
                <a:ea typeface="华文琥珀"/>
              </a:rPr>
              <a:t>改革开放</a:t>
            </a:r>
            <a:endParaRPr b="1" lang="en-US" sz="44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7667640" y="2060640"/>
            <a:ext cx="576360" cy="1008000"/>
          </a:xfrm>
          <a:prstGeom prst="downArrow">
            <a:avLst>
              <a:gd name="adj1" fmla="val 50000"/>
              <a:gd name="adj2" fmla="val 43698"/>
            </a:avLst>
          </a:prstGeom>
          <a:solidFill>
            <a:srgbClr val="00cc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1"/>
          <p:cNvGrpSpPr/>
          <p:nvPr/>
        </p:nvGrpSpPr>
        <p:grpSpPr>
          <a:xfrm>
            <a:off x="755640" y="1197000"/>
            <a:ext cx="3887640" cy="2617920"/>
            <a:chOff x="755640" y="1197000"/>
            <a:chExt cx="3887640" cy="2617920"/>
          </a:xfrm>
        </p:grpSpPr>
        <p:pic>
          <p:nvPicPr>
            <p:cNvPr id="132" name="Picture 5" descr="u=671379755,3627297609&amp;gp=2"/>
            <p:cNvPicPr/>
            <p:nvPr/>
          </p:nvPicPr>
          <p:blipFill>
            <a:blip r:embed="rId1"/>
            <a:stretch/>
          </p:blipFill>
          <p:spPr>
            <a:xfrm>
              <a:off x="755640" y="1197000"/>
              <a:ext cx="3887640" cy="26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7"/>
            <p:cNvSpPr txBox="1"/>
            <p:nvPr/>
          </p:nvSpPr>
          <p:spPr>
            <a:xfrm>
              <a:off x="971640" y="1341360"/>
              <a:ext cx="1368360" cy="45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楷体_GB2312"/>
                </a:rPr>
                <a:t>缝纫机</a:t>
              </a:r>
              <a:endParaRPr b="1" lang="en-US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grpSp>
        <p:nvGrpSpPr>
          <p:cNvPr id="134" name="Group 14"/>
          <p:cNvGrpSpPr/>
          <p:nvPr/>
        </p:nvGrpSpPr>
        <p:grpSpPr>
          <a:xfrm>
            <a:off x="1042920" y="3933720"/>
            <a:ext cx="3097440" cy="1967040"/>
            <a:chOff x="1042920" y="3933720"/>
            <a:chExt cx="3097440" cy="1967040"/>
          </a:xfrm>
        </p:grpSpPr>
        <p:pic>
          <p:nvPicPr>
            <p:cNvPr id="135" name="Picture 4" descr="u=2843765619,3736267008&amp;gp=0"/>
            <p:cNvPicPr/>
            <p:nvPr/>
          </p:nvPicPr>
          <p:blipFill>
            <a:blip r:embed="rId2"/>
            <a:stretch/>
          </p:blipFill>
          <p:spPr>
            <a:xfrm>
              <a:off x="1042920" y="3933720"/>
              <a:ext cx="30974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8"/>
            <p:cNvSpPr txBox="1"/>
            <p:nvPr/>
          </p:nvSpPr>
          <p:spPr>
            <a:xfrm>
              <a:off x="2916360" y="5445000"/>
              <a:ext cx="1079280" cy="45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楷体_GB2312"/>
                </a:rPr>
                <a:t>手表</a:t>
              </a:r>
              <a:endParaRPr b="1" lang="en-US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grpSp>
        <p:nvGrpSpPr>
          <p:cNvPr id="137" name="Group 13"/>
          <p:cNvGrpSpPr/>
          <p:nvPr/>
        </p:nvGrpSpPr>
        <p:grpSpPr>
          <a:xfrm>
            <a:off x="5148360" y="3933720"/>
            <a:ext cx="3200400" cy="1967040"/>
            <a:chOff x="5148360" y="3933720"/>
            <a:chExt cx="3200400" cy="1967040"/>
          </a:xfrm>
        </p:grpSpPr>
        <p:pic>
          <p:nvPicPr>
            <p:cNvPr id="138" name="Picture 2" descr="made-in-china"/>
            <p:cNvPicPr/>
            <p:nvPr/>
          </p:nvPicPr>
          <p:blipFill>
            <a:blip r:embed="rId3"/>
            <a:stretch/>
          </p:blipFill>
          <p:spPr>
            <a:xfrm>
              <a:off x="5148360" y="3933720"/>
              <a:ext cx="32004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9"/>
            <p:cNvSpPr txBox="1"/>
            <p:nvPr/>
          </p:nvSpPr>
          <p:spPr>
            <a:xfrm>
              <a:off x="7093080" y="5445000"/>
              <a:ext cx="1224000" cy="45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楷体_GB2312"/>
                </a:rPr>
                <a:t>收音机</a:t>
              </a:r>
              <a:endParaRPr b="1" lang="en-US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grpSp>
        <p:nvGrpSpPr>
          <p:cNvPr id="140" name="Group 12"/>
          <p:cNvGrpSpPr/>
          <p:nvPr/>
        </p:nvGrpSpPr>
        <p:grpSpPr>
          <a:xfrm>
            <a:off x="4788000" y="1197000"/>
            <a:ext cx="3529080" cy="2583000"/>
            <a:chOff x="4788000" y="1197000"/>
            <a:chExt cx="3529080" cy="2583000"/>
          </a:xfrm>
        </p:grpSpPr>
        <p:pic>
          <p:nvPicPr>
            <p:cNvPr id="141" name="Picture 3" descr="u=181681596,1912017877&amp;gp=1"/>
            <p:cNvPicPr/>
            <p:nvPr/>
          </p:nvPicPr>
          <p:blipFill>
            <a:blip r:embed="rId4"/>
            <a:stretch/>
          </p:blipFill>
          <p:spPr>
            <a:xfrm>
              <a:off x="4788000" y="1197000"/>
              <a:ext cx="3529080" cy="25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WordArt 10"/>
            <p:cNvSpPr txBox="1"/>
            <p:nvPr/>
          </p:nvSpPr>
          <p:spPr>
            <a:xfrm>
              <a:off x="6877080" y="3213000"/>
              <a:ext cx="1222200" cy="45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楷体_GB2312"/>
                </a:rPr>
                <a:t>自行车</a:t>
              </a:r>
              <a:endParaRPr b="1" lang="en-US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1"/>
          <p:cNvGrpSpPr/>
          <p:nvPr/>
        </p:nvGrpSpPr>
        <p:grpSpPr>
          <a:xfrm>
            <a:off x="900000" y="907920"/>
            <a:ext cx="3724560" cy="2463840"/>
            <a:chOff x="900000" y="907920"/>
            <a:chExt cx="3724560" cy="2463840"/>
          </a:xfrm>
        </p:grpSpPr>
        <p:pic>
          <p:nvPicPr>
            <p:cNvPr id="144" name="Picture 5" descr="u=4086523241,3312504136&amp;gp=1"/>
            <p:cNvPicPr/>
            <p:nvPr/>
          </p:nvPicPr>
          <p:blipFill>
            <a:blip r:embed="rId1"/>
            <a:stretch/>
          </p:blipFill>
          <p:spPr>
            <a:xfrm>
              <a:off x="900000" y="907920"/>
              <a:ext cx="372456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6"/>
            <p:cNvSpPr/>
            <p:nvPr/>
          </p:nvSpPr>
          <p:spPr>
            <a:xfrm>
              <a:off x="3132000" y="28512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电视机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grpSp>
        <p:nvGrpSpPr>
          <p:cNvPr id="146" name="Group 13"/>
          <p:cNvGrpSpPr/>
          <p:nvPr/>
        </p:nvGrpSpPr>
        <p:grpSpPr>
          <a:xfrm>
            <a:off x="1258920" y="3357720"/>
            <a:ext cx="3205080" cy="3205080"/>
            <a:chOff x="1258920" y="3357720"/>
            <a:chExt cx="3205080" cy="3205080"/>
          </a:xfrm>
        </p:grpSpPr>
        <p:pic>
          <p:nvPicPr>
            <p:cNvPr id="147" name="Picture 3" descr="u=1322698730,468427986&amp;gp=1"/>
            <p:cNvPicPr/>
            <p:nvPr/>
          </p:nvPicPr>
          <p:blipFill>
            <a:blip r:embed="rId2"/>
            <a:stretch/>
          </p:blipFill>
          <p:spPr>
            <a:xfrm>
              <a:off x="1258920" y="3357720"/>
              <a:ext cx="3205080" cy="32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7"/>
            <p:cNvSpPr/>
            <p:nvPr/>
          </p:nvSpPr>
          <p:spPr>
            <a:xfrm>
              <a:off x="2950920" y="595476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洗衣机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grpSp>
        <p:nvGrpSpPr>
          <p:cNvPr id="149" name="Group 12"/>
          <p:cNvGrpSpPr/>
          <p:nvPr/>
        </p:nvGrpSpPr>
        <p:grpSpPr>
          <a:xfrm>
            <a:off x="5003640" y="981000"/>
            <a:ext cx="3048120" cy="3048120"/>
            <a:chOff x="5003640" y="981000"/>
            <a:chExt cx="3048120" cy="3048120"/>
          </a:xfrm>
        </p:grpSpPr>
        <p:pic>
          <p:nvPicPr>
            <p:cNvPr id="150" name="Picture 4" descr="u=3541077213,2502412819&amp;gp=2"/>
            <p:cNvPicPr/>
            <p:nvPr/>
          </p:nvPicPr>
          <p:blipFill>
            <a:blip r:embed="rId3"/>
            <a:stretch/>
          </p:blipFill>
          <p:spPr>
            <a:xfrm>
              <a:off x="5003640" y="981000"/>
              <a:ext cx="30481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8"/>
            <p:cNvSpPr/>
            <p:nvPr/>
          </p:nvSpPr>
          <p:spPr>
            <a:xfrm>
              <a:off x="7308720" y="1341360"/>
              <a:ext cx="7192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冰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箱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5292720" y="4149720"/>
            <a:ext cx="2951280" cy="2170080"/>
            <a:chOff x="5292720" y="4149720"/>
            <a:chExt cx="2951280" cy="2170080"/>
          </a:xfrm>
        </p:grpSpPr>
        <p:pic>
          <p:nvPicPr>
            <p:cNvPr id="153" name="Picture 2" descr="u=1011057567,127318506&amp;gp=0"/>
            <p:cNvPicPr/>
            <p:nvPr/>
          </p:nvPicPr>
          <p:blipFill>
            <a:blip r:embed="rId4"/>
            <a:stretch/>
          </p:blipFill>
          <p:spPr>
            <a:xfrm>
              <a:off x="5292720" y="4149720"/>
              <a:ext cx="295128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9"/>
            <p:cNvSpPr/>
            <p:nvPr/>
          </p:nvSpPr>
          <p:spPr>
            <a:xfrm>
              <a:off x="7164360" y="429264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空调</a:t>
              </a:r>
              <a:endParaRPr b="1" lang="en-US" sz="2800" spc="-1" strike="noStrike">
                <a:solidFill>
                  <a:srgbClr val="cc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597680" y="8571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衣食住行的变迁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116000" y="1484280"/>
            <a:ext cx="66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世纪末，我国在整体上进入小康社会。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57" name="Picture 5" descr="提出全面建设小康社会"/>
          <p:cNvPicPr/>
          <p:nvPr/>
        </p:nvPicPr>
        <p:blipFill>
          <a:blip r:embed="rId1"/>
          <a:stretch/>
        </p:blipFill>
        <p:spPr>
          <a:xfrm>
            <a:off x="1763640" y="1989000"/>
            <a:ext cx="5761080" cy="3861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3780000" y="5877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提出全面建设小康社会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857160" y="981000"/>
            <a:ext cx="51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衣食住行的变迁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476360" y="155736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方面的变化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61" name="Picture 5" descr="改革开放前的服装1"/>
          <p:cNvPicPr/>
          <p:nvPr/>
        </p:nvPicPr>
        <p:blipFill>
          <a:blip r:embed="rId1"/>
          <a:stretch/>
        </p:blipFill>
        <p:spPr>
          <a:xfrm>
            <a:off x="1332000" y="2060640"/>
            <a:ext cx="6553080" cy="38433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3925080" y="587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改革开放前的服装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63" name="Picture 8" descr="改革开放前服装"/>
          <p:cNvPicPr/>
          <p:nvPr/>
        </p:nvPicPr>
        <p:blipFill>
          <a:blip r:embed="rId2"/>
          <a:stretch/>
        </p:blipFill>
        <p:spPr>
          <a:xfrm>
            <a:off x="1332000" y="2060640"/>
            <a:ext cx="6553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811880" y="785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衣食住行的变迁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692360" y="148428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方面的变化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709080" y="587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改革开放后的服装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67" name="Picture 6" descr="改革开放后的服装1"/>
          <p:cNvPicPr/>
          <p:nvPr/>
        </p:nvPicPr>
        <p:blipFill>
          <a:blip r:embed="rId1"/>
          <a:stretch/>
        </p:blipFill>
        <p:spPr>
          <a:xfrm>
            <a:off x="1547640" y="1989000"/>
            <a:ext cx="6048720" cy="389916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8"/>
          <p:cNvGrpSpPr/>
          <p:nvPr/>
        </p:nvGrpSpPr>
        <p:grpSpPr>
          <a:xfrm>
            <a:off x="250920" y="1989000"/>
            <a:ext cx="8568720" cy="3887640"/>
            <a:chOff x="250920" y="1989000"/>
            <a:chExt cx="8568720" cy="3887640"/>
          </a:xfrm>
        </p:grpSpPr>
        <p:pic>
          <p:nvPicPr>
            <p:cNvPr id="169" name="Picture 19" descr="u=1822127002,1408705010&amp;gp=2"/>
            <p:cNvPicPr/>
            <p:nvPr/>
          </p:nvPicPr>
          <p:blipFill>
            <a:blip r:embed="rId2"/>
            <a:stretch/>
          </p:blipFill>
          <p:spPr>
            <a:xfrm>
              <a:off x="1651320" y="1989000"/>
              <a:ext cx="1486440" cy="38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u=2368635296,2273817202&amp;gp=0"/>
            <p:cNvPicPr/>
            <p:nvPr/>
          </p:nvPicPr>
          <p:blipFill>
            <a:blip r:embed="rId3"/>
            <a:stretch/>
          </p:blipFill>
          <p:spPr>
            <a:xfrm>
              <a:off x="7419240" y="1989000"/>
              <a:ext cx="1400400" cy="38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u=2075643455,464950243&amp;gp=1"/>
            <p:cNvPicPr/>
            <p:nvPr/>
          </p:nvPicPr>
          <p:blipFill>
            <a:blip r:embed="rId4"/>
            <a:stretch/>
          </p:blipFill>
          <p:spPr>
            <a:xfrm>
              <a:off x="6100560" y="1989000"/>
              <a:ext cx="1371600" cy="38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u=3149742396,4199171618&amp;gp=0"/>
            <p:cNvPicPr/>
            <p:nvPr/>
          </p:nvPicPr>
          <p:blipFill>
            <a:blip r:embed="rId5"/>
            <a:stretch/>
          </p:blipFill>
          <p:spPr>
            <a:xfrm>
              <a:off x="4535280" y="1989000"/>
              <a:ext cx="1564920" cy="38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u=3637335933,3035640417&amp;gp=0"/>
            <p:cNvPicPr/>
            <p:nvPr/>
          </p:nvPicPr>
          <p:blipFill>
            <a:blip r:embed="rId6"/>
            <a:stretch/>
          </p:blipFill>
          <p:spPr>
            <a:xfrm>
              <a:off x="3134520" y="1989000"/>
              <a:ext cx="1453680" cy="38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u=1350883833,1884624775&amp;gp=1"/>
            <p:cNvPicPr/>
            <p:nvPr/>
          </p:nvPicPr>
          <p:blipFill>
            <a:blip r:embed="rId7"/>
            <a:stretch/>
          </p:blipFill>
          <p:spPr>
            <a:xfrm>
              <a:off x="250920" y="1989000"/>
              <a:ext cx="1400400" cy="388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813320" y="8571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、衣食住行的变迁</a:t>
            </a:r>
            <a:endParaRPr b="1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692360" y="155736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方面的变化</a:t>
            </a:r>
            <a:endParaRPr b="1" lang="en-US" sz="28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177" name="Picture 6" descr="过去的野菜1"/>
          <p:cNvPicPr/>
          <p:nvPr/>
        </p:nvPicPr>
        <p:blipFill>
          <a:blip r:embed="rId1"/>
          <a:stretch/>
        </p:blipFill>
        <p:spPr>
          <a:xfrm>
            <a:off x="1619280" y="206064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178" name="WordArt 7" descr=""/>
          <p:cNvPicPr/>
          <p:nvPr/>
        </p:nvPicPr>
        <p:blipFill>
          <a:blip r:embed="rId2"/>
          <a:stretch/>
        </p:blipFill>
        <p:spPr>
          <a:xfrm>
            <a:off x="7083360" y="2411280"/>
            <a:ext cx="51120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粮票"/>
          <p:cNvPicPr/>
          <p:nvPr/>
        </p:nvPicPr>
        <p:blipFill>
          <a:blip r:embed="rId1"/>
          <a:stretch/>
        </p:blipFill>
        <p:spPr>
          <a:xfrm>
            <a:off x="684360" y="189000"/>
            <a:ext cx="3657600" cy="3521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70年代的吃"/>
          <p:cNvPicPr/>
          <p:nvPr/>
        </p:nvPicPr>
        <p:blipFill>
          <a:blip r:embed="rId2"/>
          <a:stretch/>
        </p:blipFill>
        <p:spPr>
          <a:xfrm>
            <a:off x="4643280" y="260280"/>
            <a:ext cx="4229280" cy="6350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窝窝头"/>
          <p:cNvPicPr/>
          <p:nvPr/>
        </p:nvPicPr>
        <p:blipFill>
          <a:blip r:embed="rId3"/>
          <a:stretch/>
        </p:blipFill>
        <p:spPr>
          <a:xfrm>
            <a:off x="611280" y="3860640"/>
            <a:ext cx="374472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1:18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23Z</dcterms:modified>
  <cp:revision>8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