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TYPE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CB1-F8DF-4215-889A-1CF6B9EE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BE6-3987-47BF-9394-95A45270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E4733-C2D2-4C52-8310-FEDEFFAC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7A1FB-F3EF-4CD0-B7F2-392D4BB4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7B419-B3A8-4748-B8A8-659BA245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B3002-70FA-4F7C-A98F-B8C2CDA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09E71-B2B2-4A4A-A2A7-C479E4A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C6450-45BB-4599-BA6F-8FA8559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BFCD0-C597-417F-BAF8-72437A4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7EE47-730A-4714-9E7D-F70E9601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2ACC8-874E-4FF3-B543-6ED8BFF9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F0996-8D4F-4351-99AB-3BC9365F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D87-8330-4DE0-A5BC-B606825A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909B-0C15-4062-911A-A1FE11CE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AC6F5-F057-4912-9A9E-4CD76519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A41B7-225C-40A8-9132-8F754E64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7C624-BA33-4FFA-8842-5939A28D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02069-BEB3-4AFD-A894-953B33A5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B727-7663-43D8-BF16-669E8702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636C8-5950-491C-9B51-4947D774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04E7D-B795-4699-A8C9-0132D1E7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B2135-9460-46A0-A478-53813F84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23479-739A-4C44-8527-1F52A284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C39-7E36-4250-992D-F8E9B51F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6876D-770F-4AC7-B68B-56F3FB36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0EC64-A70A-4F74-B3D6-28E9CC36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C801D-B67E-4FF9-96D6-A49B14C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EEC53-5F99-4BFF-B2AA-9F91DB23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AE8AB-0925-4BE6-9C0A-80C428D2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995D5-E3C5-47F1-ADE5-D14EC312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E7AC3-9926-490D-9DAF-74A0E983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7D34F-448A-482E-B919-6BF4B898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DCE23-B5CF-4992-B2AB-35B11E5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E7DA5-0E9A-47EF-A549-FB2418E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4E33-1565-4129-8D95-4C08F5ED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87515-3944-483F-897E-79BF0F0A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FC7EE-079F-4AF3-A569-467047CD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91182-E8BB-4DD0-958D-0CE28133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6C688-8A60-4F21-8555-828CA8C3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0D12F-6C29-429C-A5DB-1841566B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C8B20-91BD-43A7-8323-EB4A795A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9370E-E557-4263-9A88-03631ADF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26B43-1ED3-460E-8A59-9862E068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66CCD-16C5-4D65-868B-C05B4FA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28EC5-4870-4447-91F7-FBB9AF33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877D-B36A-4AF0-BC07-1CC1C0E1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D939C-E557-4DDF-AD32-E052DE82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84ED2-D994-4A0F-A831-5C8D5307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E57F1-12FD-43F3-95C7-57B604FE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08E65-BEBB-48D3-832E-7AFDEB69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A0411-06E4-46F9-A8BE-B73E517B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2E983-7CD0-4700-943E-D12CC064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40BD9-953A-4342-9E8F-C9BB6B5D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4854F-9ADF-42B3-A413-787D2528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2408B-FCE7-4763-92AC-40252837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CF1CF-DD98-4D51-B2AB-4846070B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D81C-0C95-40EE-B2B0-B9015F83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FABFB-2313-4A90-9516-353975EA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1BD70-3C3A-4E88-BAAF-4EAB33F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9C70D-A422-44A1-A0A8-5175689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B843F-0ECA-4549-96A6-6E54603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A1FBE-F075-4040-88B5-BAD3D201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2A3BC-FBAC-4BC6-8027-93ED82A4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0008E-AC68-44F0-8103-8CD27D4D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068D-E467-4BDE-98E5-34D2106F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DA6A-DA66-42FD-92C5-2AE9FFEC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8D39-0772-46F7-9922-ED613124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2B2F-5D31-4C98-9A48-7F19B3A8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0CF-CA0F-4065-8B66-AA296B18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F050-15ED-401C-80C4-BF27F48A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7EB2-C393-46A6-9F8C-BFB38AA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E9D5-D4EF-4D63-B927-BA7C89F6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536B-59DD-4C0A-A5D6-4DFD6B39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3C6C-1F22-47EC-8348-4619BCA8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D3B1-AD32-4596-A89A-3723EDB8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1EC9-641C-4E0C-91D3-78887BB6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54A0-7136-4A33-AA7A-24EC5C14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6D45-0C6C-48FC-8054-0A05D393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6CCD-1E84-4414-A9DF-2FF2DFEA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B4F-103E-4900-898C-BB9D27FD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5168-E8B7-4CDD-95F0-CBD48F6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E586-1123-4315-B4AC-5994921A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946E5-1C13-4B46-945F-3837641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401D-9AE3-4768-BC6D-14F4415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457B-0785-4866-B505-4608B4F6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062A-29BE-48B8-8A8E-6B502DED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CB53-36E5-4357-86D8-9CC3FFFF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4A4FE-D7B2-4B09-A09B-548FCD8D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AD2A0-2577-4269-8AA7-20ACDAF2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3BD7-E557-4F35-950D-5DA73E2E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0C2-11EC-4D46-A984-07D4F7C3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2F8D-74DB-4E86-850A-B5995B39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78D19-5F9A-4B4B-821D-0978CC4B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A3328-4928-4D6D-B0EF-15CCAFE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7D7A-86FB-4AEF-AB93-FAF6A76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97AF-C748-4A6A-99B3-316D9509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DDB0-BF88-40E3-8043-399288A2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9C751-67E8-4E89-A402-C895EA9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37B6-A9C9-4145-9CCE-AAF19D2F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E1D8-EFF4-473C-92D5-B6B43837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A3135-4B15-4BD3-A2AF-0A155548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00D-3054-4800-B7AA-E709B45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937B1-7D32-416C-9F65-46FC2D77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D044-AEDF-4C9E-8DD9-1D5AC53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EAF5C-CBF1-4253-B5A9-BB68AB5F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20D1-BF33-46FA-BDED-F5880AA5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73548-7122-4DE3-88E2-829DC9AE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17EB5-CC00-49FA-BB7C-C856FB0D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3FEE-6ABC-404C-AE7B-9B550690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C1359-4DBE-492D-A463-ED2DAC6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6775A-7495-4575-889B-3A5D25C6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0FBD-98B8-41BA-B766-28194EC2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C8E-E0E8-4AA4-ABFE-B9E22475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E560A-0738-4F08-A87D-34142527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752AE-94B9-4854-BCB5-358A36F2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ECC8F-F339-4F0F-89B5-3E0A1F03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0D2E-A8C0-4CE6-BC50-C8183C29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5C5A-8442-4B3D-AD76-8D0AA7AF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2540-7D4B-454D-A9A5-36A2C0A9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F69DE-3EB3-49A3-892A-0639E05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C018C-AD68-4707-ACA8-7AFBB987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0B080-0362-40D0-94E1-9A62512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31D7F-22FD-4EA6-93E8-73E44E1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71F-BE92-490B-97CD-728386D4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915C6-7AD9-45E6-9A08-62197FFE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13682-BE8A-4066-8060-D5C69A00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87244-6244-41CB-909A-5C4DEB8D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2F749-0437-4219-9B20-CA88D16E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3E585-8C3C-4A08-966C-09B458B8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C5CC-FCC1-4062-8A39-BA74720B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73B9-22F7-4430-8943-F3E89B2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F01A9-9B80-4D6A-885E-8547CAB4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7A556-08A0-40C0-998D-135150B9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FA0D-7F6E-485C-9872-65A9A7B0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4B5-BD34-4217-A305-5BCAD9C1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EC38-6B25-4895-A572-E7D609D2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0C2AA-E913-4F74-BC5F-77E50E03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A2236-14BE-4AC5-B1BC-147F7A33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47D4-C151-4526-8F81-6DBE9590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3B64E-0328-43D4-B490-85BF0F4F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C42F6-8497-4093-80E8-83C7489B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44FBB-72EF-49CB-9525-2F1DAFD7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E780B-74B6-4D2B-B90E-74F037E3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03A33-7FE8-44E1-A6D4-2C74EAC5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56500-901B-4A43-BD16-EF8E31CD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250-F4EA-4EAF-A1FC-1D4C85C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A3B77-255C-48F7-8934-A10ADCAB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6F12A-DF40-4D2B-AE1E-68C86C21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8ED4A-956B-4EF3-A111-4BD4E52C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3CF60-9851-4428-AA30-55E6334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D6CC-1EA3-4C69-A96F-03FD8F95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2993B-65A3-4566-8AAD-EF36A040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4D050-C086-4A65-8592-237EC318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919FE-8352-4B97-ACAF-DC77E591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6C6CA-3F1C-406F-8825-A0C95B43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15633-3B99-469E-B975-502DD97E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44E6-4CC8-47E9-B3E8-6F6E3B4DB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CBF9-9348-46F3-BD56-130CE66CB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224F-B719-4172-B4DA-B7345C1FB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B833-E1A1-4955-B566-99F12F4BC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E942-D1CC-4776-820D-913DE0A0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FCEC-FA01-4E73-81AC-BCFB653A97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535D-7A52-415D-8EE5-80250200A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FB6E-B9CD-4E49-85CC-F5654E5DB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6C1E-6321-4C74-BB3C-E988B462C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01C7-20B7-49B7-A905-116362F85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8D82-5AA9-4DB4-9BF3-960D868AA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63E2-4D1B-48E2-94BB-3A27DE984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C86B-89CD-4F93-A387-BF309BE1D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ucai123.com/gif/2004/8-18/16717-5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3"/>
          <p:cNvSpPr/>
          <p:nvPr/>
        </p:nvSpPr>
        <p:spPr>
          <a:xfrm>
            <a:off x="608040" y="218124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人生难免有挫折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"/>
          <p:cNvSpPr/>
          <p:nvPr/>
        </p:nvSpPr>
        <p:spPr>
          <a:xfrm>
            <a:off x="2633760" y="106668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课　让挫折丰富我们的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5"/>
          <p:cNvSpPr/>
          <p:nvPr/>
        </p:nvSpPr>
        <p:spPr>
          <a:xfrm>
            <a:off x="1037160" y="189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造成挫折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179280" y="119700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观原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内部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95280" y="2708280"/>
            <a:ext cx="81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个人生理因素：体力、外貌、生理上的缺陷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心理因素：性格、气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客观原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外部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自然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恶劣的气候、严重的自然灾害所造成的损失或失败、生老病死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社会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治、经济、法律、宗教、道德、风俗习惯、人际关系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5"/>
          <p:cNvSpPr txBox="1"/>
          <p:nvPr/>
        </p:nvSpPr>
        <p:spPr>
          <a:xfrm>
            <a:off x="468360" y="1844640"/>
            <a:ext cx="208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生鸡蛋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5" name="WordArt 6"/>
          <p:cNvSpPr txBox="1"/>
          <p:nvPr/>
        </p:nvSpPr>
        <p:spPr>
          <a:xfrm>
            <a:off x="3635280" y="206064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香蕉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6" name="WordArt 7"/>
          <p:cNvSpPr txBox="1"/>
          <p:nvPr/>
        </p:nvSpPr>
        <p:spPr>
          <a:xfrm>
            <a:off x="6516720" y="2133720"/>
            <a:ext cx="1655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咖啡豆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7" name="AutoShape 17"/>
          <p:cNvSpPr/>
          <p:nvPr/>
        </p:nvSpPr>
        <p:spPr>
          <a:xfrm>
            <a:off x="3348000" y="3789360"/>
            <a:ext cx="2952720" cy="2303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428472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沸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WordArt 19"/>
          <p:cNvSpPr txBox="1"/>
          <p:nvPr/>
        </p:nvSpPr>
        <p:spPr>
          <a:xfrm rot="5400000">
            <a:off x="-36720" y="443700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猜结果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挫折的影响（作用）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挫折是灾难，阻碍人的成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挫折能磨练人的意志，催人奋进，助人成长，是宝贵的财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4067280" y="98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双重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确认识挫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挫折不可怕，要迎难而上，不逃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智的分析与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努力寻找克服挫折的时机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979640" y="4581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挫折也是财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2057400" y="2514600"/>
            <a:ext cx="533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1676520" y="7621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1" descr="20031022030a_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24"/>
          <p:cNvSpPr/>
          <p:nvPr/>
        </p:nvSpPr>
        <p:spPr>
          <a:xfrm>
            <a:off x="1009800" y="268272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你今天最大的收获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26"/>
          <p:cNvSpPr txBox="1"/>
          <p:nvPr/>
        </p:nvSpPr>
        <p:spPr>
          <a:xfrm>
            <a:off x="977760" y="1073160"/>
            <a:ext cx="358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自我点评 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EFC-CE04-4309-87FD-5D4A371C17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幸福征程多坎坷，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悬崖峭壁怪兽吼。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百折不挠迎难上，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绝顶风光勇者有。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37160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755640" y="278136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曲好的歌曲往往能打动许多人的心，使大家产生心灵的共鸣。让我们随着音乐的节拍一起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611280" y="549360"/>
            <a:ext cx="388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隶书"/>
              </a:rPr>
              <a:t>一曲难忘</a:t>
            </a:r>
            <a:endParaRPr b="1" lang="en-US" sz="1800" spc="1" strike="noStrike">
              <a:ln cap="sq"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84040" y="62064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把握生命里的每一分钟，全力以赴我们心中的梦，不经历风雨，怎么见彩虹，没有人能随随便便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歌曲中的“风雨”指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彩虹”指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告诉我们生活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不可避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取得成功，必需经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7"/>
          <p:cNvSpPr txBox="1"/>
          <p:nvPr/>
        </p:nvSpPr>
        <p:spPr>
          <a:xfrm>
            <a:off x="3814920" y="3122640"/>
            <a:ext cx="93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挫折</a:t>
            </a:r>
            <a:endParaRPr b="0" lang="en-US" sz="1800" spc="1" strike="noStrike">
              <a:ln cap="sq"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2878200" y="441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挫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1027"/>
          <p:cNvSpPr txBox="1"/>
          <p:nvPr/>
        </p:nvSpPr>
        <p:spPr>
          <a:xfrm>
            <a:off x="3670200" y="3843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4751280" y="513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挫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xinsrc_150601021028819929410"/>
          <p:cNvPicPr/>
          <p:nvPr/>
        </p:nvPicPr>
        <p:blipFill>
          <a:blip r:embed="rId1"/>
          <a:stretch/>
        </p:blipFill>
        <p:spPr>
          <a:xfrm>
            <a:off x="1905120" y="838080"/>
            <a:ext cx="5029200" cy="344016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0" y="4876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她是谁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981080" y="49528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桑兰，曾多次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国体操锦标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获跳马第一、二名，可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纽约友好运动会上练习跳马时，意外失手摔伤，导致高位残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801ITP9L_0"/>
          <p:cNvPicPr/>
          <p:nvPr/>
        </p:nvPicPr>
        <p:blipFill>
          <a:blip r:embed="rId1"/>
          <a:stretch/>
        </p:blipFill>
        <p:spPr>
          <a:xfrm>
            <a:off x="611280" y="338040"/>
            <a:ext cx="3047760" cy="45975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801ITP9L_1"/>
          <p:cNvPicPr/>
          <p:nvPr/>
        </p:nvPicPr>
        <p:blipFill>
          <a:blip r:embed="rId2"/>
          <a:stretch/>
        </p:blipFill>
        <p:spPr>
          <a:xfrm>
            <a:off x="5724360" y="260280"/>
            <a:ext cx="3048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今年十四岁的林奕华，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“亚洲杯青少年花式滑冰”冠军，林奕华在四岁时接触滑冰、七岁穿上了冰刀，就此展开滑冰的运动生涯；三年前，正在花式滑冰运动展露光芒之际，林奕华右脚常感不适、疼痛，后被台北荣民总医院诊断为恶性骨肉瘤，因肿瘤位置在股骨部位，必须切除整条右腿，等于是四分之一的身体部位；奕华的妈妈回想，不晓得该怎么面对漂漂亮亮的女儿，要接受截肢、治疗的残酷事实；当场崩溃、大哭起来。奕华在思考了两个小时后，主动跟医师讨论安排手术时间及后续化疗；奕华的妈妈说，从没想到，原来一个十四岁的孩子可以这么勇敢。她安慰自己的妈妈说“我不是少了四分之一，而是还有四分之三”！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虽不能她依旧自信、发光，要在生命的舞台上继续飞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1160" y="76500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肯是美国的一位总统，他的一生经历了无数的挫折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生意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州议员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再次生意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当选州议员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州仪长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国会议员失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当选国会议员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连任国会议员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参议员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副总统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参议员再次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当上美国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-19080" y="2766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1066680" y="99072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1676520" y="2514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1905120" y="23623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生活中你曾遇到过哪些不如意的事（自己或者是别人）描述当时的情绪反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遭遇挫折的表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理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愤怒、焦虑、沮丧、悲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为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所适从、自暴自弃、埋怨他人、推卸责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1:09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35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