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0BB-4333-42F6-98ED-77671299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7D9-C9BF-422D-8283-2F6A1179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8ED-A001-40CF-BF58-7D23ED1D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4B8-F306-466A-B37A-858C3509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2D54-482D-45A9-BAAD-73594BD1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D69D-B145-46DC-83E2-473F1D0C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3044-A2CB-451E-86D5-AB82287E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FBFB-C2E8-4D4E-AFAD-948D944E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694E-EE42-41D3-97AC-C0A15CC0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FCB3-A514-43FE-B70B-835E5AC0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6D87-1956-4B7E-89B9-CA0F3CE2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B9D-53B7-46DC-B6EF-F6BD8C9D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A255-616D-4588-92A4-B9644D24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A8DD-132E-43D4-9937-D86030B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EF2A-E7F2-485F-815F-CB08F40A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E1BA-EF25-4F59-B213-150F4169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EC09-9CD0-4829-BDCD-86C4F406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444-BA7A-4C3B-B3B2-35A47B4C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0B8-3515-4158-9A8B-3D990AEA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736-BB20-4A71-913B-455FC722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D8E-0B1F-452C-9203-26E3F3F2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D9B-216D-4236-996B-FDC2585F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BA0-1D34-485D-8578-A25A1604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F50-C728-430D-AD56-DB4D08FB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8A1F-B44E-4C90-9942-EFA5C7B8F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BE3A-7835-4BCA-A57D-50E7B198C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619280" y="1917720"/>
            <a:ext cx="6113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人生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勃兰兑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684360" y="189000"/>
            <a:ext cx="7920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阅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，说说下列句子表现出的人物性格（或品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们熟悉那地下的世界，在迷宫般的坑道中探索道路，指导或是了解或是参与地下深处的工作，并乐此不疲，甚至忘记了岁月是怎样逝去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热爱事业、全心投入、以苦为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当死神临近时，他们会像阿基米德在临死前那样提出请求：“不要弄乱我画 的圆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爱事业甚于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11280" y="260280"/>
            <a:ext cx="78483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好像鲑鱼迎着激流，他们天赋的本性就是迎着岁月的激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热情奔放、敢于冒险、敢于挑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们利用岁月，因而岁月并不使他们厌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热爱生活、永葆活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8198"/>
          <p:cNvSpPr/>
          <p:nvPr/>
        </p:nvSpPr>
        <p:spPr>
          <a:xfrm>
            <a:off x="1403280" y="5013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95280" y="189000"/>
            <a:ext cx="8424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本文运用比喻的手法，以此代表人生各个方面的种种人：首先，作者把人生比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揭示人类追求生命的表现形式千变万化，又有相似性、一致性的特点。其次，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比喻从事研究工作，进行较为抽象脑力劳动的人们。再次，用征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人比喻军事家、政治家。最后，作者用在工场劳动的人比 喻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运用比喻含蓄、贴切地表达自己对人生的看法，新颖、奇特、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155412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攀登高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411280" y="26337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挖掘坑道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771640" y="3713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广阔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900000" y="48657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技术工人、工艺师、设计师、发明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5643-0C62-4F04-947E-6877B4A9D3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20040205114703(9)"/>
          <p:cNvPicPr/>
          <p:nvPr/>
        </p:nvPicPr>
        <p:blipFill>
          <a:blip r:embed="rId1"/>
          <a:stretch/>
        </p:blipFill>
        <p:spPr>
          <a:xfrm>
            <a:off x="0" y="0"/>
            <a:ext cx="9144000" cy="6672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395280" y="24336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习这篇文章，你把人生比作什么？对照自己，想想你将怎样选择自己的人生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卡通4"/>
          <p:cNvPicPr/>
          <p:nvPr/>
        </p:nvPicPr>
        <p:blipFill>
          <a:blip r:embed="rId2"/>
          <a:stretch/>
        </p:blipFill>
        <p:spPr>
          <a:xfrm>
            <a:off x="7667640" y="136440"/>
            <a:ext cx="14763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115920"/>
            <a:ext cx="9144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一、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勃兰兑斯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1842—192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），丹麦文学批评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文学史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出生于犹太血统的商人家庭。在哥本哈根大学攻读法律、哲学、美学，受黑格尔影响较深。大学毕业后，到欧洲各地旅行，在法国结识了泰纳（丹纳）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87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回国在哥本哈根大学任教，讲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十九世纪文学主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。这部巨著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卷，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流亡文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德国的浪漫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法国的反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英国的自然主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法国浪漫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青年德意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，评论了拿破仑称帝前后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8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法、德、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个主要文学流派的作家，如史雷格尔兄弟、霍夫曼、夏多布里昂、拉马丁、雨果、拜伦、乔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桑、巴尔扎克、斯丹达尔（司汤达）、梅里美、海涅、维尔特等。巨著基本上运用泰纳的种族、环境、时代三因素决定论来研究文学发展史，同时也注重作家的生平和心理状态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18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出版，轰动了丹麦思想界，也受到教会的猛烈攻击。作者被迫到柏林寄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年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重要著作还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188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年发表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波兰印象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俄国印象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3"/>
          <p:cNvSpPr/>
          <p:nvPr/>
        </p:nvSpPr>
        <p:spPr>
          <a:xfrm>
            <a:off x="2843280" y="5589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26920" y="1614600"/>
            <a:ext cx="7777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瞻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望 （       ）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攫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取（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鱼 （      ）   停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（      ）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测 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赠 （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84360" y="1628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372360" y="1647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698920" y="2655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370560" y="258300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516720" y="364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843280" y="3645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75564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给下面的红体字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79280" y="189000"/>
            <a:ext cx="882036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解释下面的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停滞不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乐此不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粉身碎骨：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赏心悦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微不足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瞻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56000" y="836640"/>
            <a:ext cx="7129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受到阻碍，不能顺利的进行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56000" y="2349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喜欢做某事而不知疲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556000" y="3068640"/>
            <a:ext cx="6119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身体粉碎，指死。形容为了达到目的而不惜牺牲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556000" y="45813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指美好的情景使人心情愉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627280" y="5300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物细小而轻微，不足挂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763640" y="6021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往远处或高处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8198"/>
          <p:cNvSpPr/>
          <p:nvPr/>
        </p:nvSpPr>
        <p:spPr>
          <a:xfrm>
            <a:off x="1476360" y="1917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20040203165944(1)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611280" y="476280"/>
            <a:ext cx="82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整体把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课文以“高塔”“地洞”“广阔领域”和“工场”为喻，从不同的角度、视野，描述人的生命旅程的不同境况，表达了作者对人的生命本质、对人类社会生活的深刻理解，表达了他对生命的珍爱的情感，以及让一生过得更有意义的信念和志向。“高塔”等四种情景纯属虚拟，是为说理而设置的，也就是说课文寓深刻的道理于一系列形象之中，夹叙夹议，而不是空发议论，写得含蓄蕴藉，耐人寻味，给人以启迪鼓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68360" y="18900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文按所描写的场面自然地分为四个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一部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段），描述人类攀登高塔的情景，说明人类生命表现形式尽管千万别，但其中又有共同性和必然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部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段），描述一些人深入地挖掘、探寻地下坑道的情景，表现他们不屈不挠、顽强奋斗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三部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段），描述一些人在广阔的领域开拓进取，他们攫取更多的土地，征服更多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四部分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段），描述一些在一种工场中劳动的人们，表现他们的刻苦勤奋、吃苦耐劳的精神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20040203165758(1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95280" y="69228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7080" y="260280"/>
            <a:ext cx="82076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、问题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．“越往上走，攀登越困难了，而且目光已不大能区别事物，它们看起来似乎都是相同的。”为什么说都是相同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往上走”意味着年龄的增长，越老经历的事越多，所以见到各种事物都“似曾相识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．“从精神上来说，他们是停留在同一个地方。”这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们随年事的增高，自身在许多方面会有很多改变，但是性格、志趣、品质总是很难或很少改变的。这里的“精神”应指性格之类的东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20040203165944(1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541440" y="544680"/>
            <a:ext cx="835164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．在广阔的领域开拓进取的人具有怎样的性格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 试从两大方面来概括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 是贪欲：占有欲极强，渴望征服，喜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掌握权力，控制人和事物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是坚强：精力充沛，头脑活跃，爱冒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热爱生活，勇敢地面对生活的挑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．作者描述这些人群，肯定或赞扬了什么  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者似乎想借此来肯定或赞扬对时光的珍 惜，对生命的热爱，赞扬勤于劳作的精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辛苦探索的精神，勇敢倔强的精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50920" y="18900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．“那像是一只可爱的手在转动沙漏计，从而延缓了它的转动。”“一只可爱的手”指什么？沙漏计为什么会延缓转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只可爱的手”是指“一切亲切的思想”；至于沙漏计延缓转动，也可以从两方面理解，一是说他“没有时间去察看放在角落里的计时沙漏计”，全神贯注以致忘记了时间，所以时间仿佛被拉长了；一是说他在有生之年做了很多很多事，别人需要很长时间做的事，他在很短的时间里就做完了，收获甚丰，过得充实，所以时间仿佛被拉长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5:07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34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