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A2D-AB15-4D43-B0C8-3E36357D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4C-94C0-4F01-A4F6-CC36D37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2C1D0-C92C-44A7-8EE8-0CFE1F2A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906CF-DFDC-4EB8-A22D-D5CF9B2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2DCA6-10EB-48B0-9C61-3E2F2920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D7DC7-76C8-41FC-A836-422F441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C3C11-39BD-4BB1-8164-F16E1D26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0701-B796-4516-A9D1-F69DB54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278C-8505-4428-8A97-B9F32069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D411A-7EA5-45ED-8C5B-3CBF99EE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7F569-794F-4F9B-BC29-EDC5653E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6755D-1263-4978-9214-5B609B87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204-08A9-4897-BC32-675F25FF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01B69-AE14-458A-AD87-5C5804F4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EA19F-EDB0-4B65-9FC9-2DF6EDC4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D709E-F4BB-4F63-8172-01E258A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D046-8757-4A1A-A21D-275195F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3059-307C-48B8-AAFD-0593074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A1804-0A69-4E00-8D55-0A16B5F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1A6A0-9561-41A5-B0AF-18156ED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EA50E-D3F0-40B8-9F7B-0608B12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D81B9-E6EB-4210-968A-EF120985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9BAF-4188-487A-9F58-09F0CD40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305-1850-41EA-B4BB-A78E2DC9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AC350-B6B3-4C80-A1D8-6685D7DC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F05ED-C212-429E-B57B-8434A3E1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D013-652C-4515-AB1E-00FD1E47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84545-A739-4913-B831-0420E8C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CE92-9E9E-49B9-8B20-A0BB96CA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F579-167C-4670-BF57-B93DE251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CA27D-39CC-4E0F-A387-2171C7E9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91FD-D0B6-4C1E-B4F9-E66879D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BCC5-CF05-4498-9AA1-2927636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A7590-79AA-4302-A7CF-CF777FF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78C3-8D5D-4097-AC8C-3CB2E129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567B2-DF7B-439E-B39A-0FE6E980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E5AE0-BF22-457A-9D5D-2DF9F4C8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4CFED-1AD4-4478-A1B8-AA086028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50AC4-F0C3-4EA2-A99C-3ACC5F2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FCAC0-0450-402B-8C2C-2D118BF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D1FBF-CDAD-44A4-AE5D-E6EFA05C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96EE2-0932-4218-8FB2-3FA07A2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FC90C-A870-4921-8A91-BE9EE3D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E8BFC-9044-4514-BC09-5491D46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64B1A-661F-4345-9494-67745AB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8D2-A406-4D19-B5AA-F377245F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955CD-5A03-4E58-9978-664BDC8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A633E-3E5D-4760-8AFE-4806FD6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91A83-385E-4551-99A9-5847939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4E7DB-BBC3-49C2-B4CE-C7B3F034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D6873-80B5-445C-B0BC-64A663F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F491B-87CA-4738-995C-3A65A4FA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30504-8BAD-417F-A0CA-5E0E01CD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47A05-FB60-4285-A969-3F83CE6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7A9E7-3029-429B-BFEC-B890E65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D3729-5775-480B-8C8E-D5E8316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9B5B-615E-4846-A0D5-E2F3DCF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7AFDF-56B2-4A8A-9943-637DACC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A1C30-E988-4C9E-A463-4723BC3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0F72F-4C20-479A-80D0-382EEFC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48415-56E6-4173-B814-1A871DE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00830-D517-4608-B8C5-324D225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66867-A0CF-413C-9931-8B720AB4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3C240-8A88-4849-A592-FDE4A9A7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204D-2BA1-4B3F-9318-02612B58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AF6E-32FD-4DC4-B2C7-09D06C8D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B74-3E7B-4A63-BA7F-79157DC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2BF-EF9C-4E2C-9924-6E004CA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A42-32A6-4AED-A134-1DB93E9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055-4A51-4210-8AF5-2139CAF4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D49-49BD-44C4-8EA1-4A7BEAD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E2B-8519-4F0F-85AA-ED8BD821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93E9-3201-4C31-8F0A-6578A7CB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7264-F6DD-4EF4-8A99-B87BB3DF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341E-816E-4D24-901B-51A853DC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AFAB-5905-4512-A642-A765A0A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25ED-411D-4E16-BC30-3923B17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2220-6C0E-4254-B6BC-9D29C000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932C-9464-4D50-9468-C1CB03C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972-5648-4B4F-BB07-0FA7DB1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5892-F2ED-454F-92F0-6117690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15BF-E0C7-4C02-BAB2-637CA94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84AB-18FA-4277-831A-78757E0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4899-E4C2-44E6-A271-498965B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A3F3-C7E5-4AE1-98E3-47D1A76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6F0E-20A7-42CA-82C0-1CBFD01A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4C91-1677-4B54-BE2B-DFE5876C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AAC0-D950-49CE-8D6B-5172A332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F03E-2EF0-40E5-8C4F-09377D85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C6D5-386D-415E-ABB2-1E221B79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2B3-2E51-405A-9639-0FB56372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997B-52C7-4B0B-B49E-76AC67F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2CB7-B6BF-46A9-88ED-410A6BD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B8AD-965F-435F-9D72-B6B0EF94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806D-807F-45AB-AF86-0F747C3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4972-133C-4654-B09C-FB20D7D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E1FB-0ABE-4862-BD42-E11730E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4308-7761-441B-B790-56FC237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5EFD-E54D-42F9-A8F0-9C3ABB9D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6970-159D-4CC1-AE3A-95CDB112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1F72-43A0-4074-B054-6014FBB3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5A2-666A-4657-97D6-BC31B21D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B9FF-53F0-4DB6-A340-29E207C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0F18-0DAF-4E99-95C0-D186520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3D4D-50C7-4B7E-BD6E-371BA3F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AD6BE-EEFA-4AC9-905E-8F9C921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E05E-32BB-4772-A08D-C3F17E3C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C48D-FB88-48A6-933F-0021B34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F10F-FE37-43DF-A6D3-BB22226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D046-D0F5-4795-9F1C-12029C1A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AA53-7511-4A5E-9C35-C313D42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529D-A3FF-47C5-AB97-C5827B81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044-A09C-48BE-8594-6A6B2B99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A19E-553A-4F38-BD86-1D1454EF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19D18-3E36-4413-BC8E-398FB649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36F7-088B-4EEC-A12D-5064866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9CE5-4499-4D0D-BE8C-4154BB94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A257-89C0-4258-A5B7-9BF5D99B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C3D8-44AA-4281-BE02-F1159AC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A4A3-8C9A-4271-B592-EB4E787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73E2-8D7D-41F9-ABB8-CEDDC55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69F5-A7D0-40CA-B029-08EF87A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4F70D-B3E6-4DF2-A0CE-B4F135E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CCF-8327-46E5-B289-772F09A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6CDB-F2DA-41CA-9257-EFEEEE8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A5B1-8894-48BA-AE14-F14AAF11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A458-F22A-44FB-9221-7CBA605D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ED1B6-C1BD-49FA-9865-73AA7D0A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E4B3-9D50-4FBB-93B3-9AAEAA6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1389-35F0-49FA-9FF8-9C983B5B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23E3-0E30-4055-8EA5-A9ECFC8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F2E6-E908-4D99-8088-966984D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599F7-1183-49BB-A37B-BC8F64B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601B-F7D9-43AA-AC9C-6D7B268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1A8-B34B-4FA5-BF1F-B8B6A0D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17F4D-5B90-448A-AF5A-13867A7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DB6F-5D2B-4BF1-BB0B-DF1BE5E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27117-9F20-4D05-BC68-39446804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F4A1-0CD9-40F6-9FDF-024A3897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56F90-1405-4630-B66A-7CE388B4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80B9-566F-4675-A145-2967596E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68736-A5FA-478C-A2CF-9452508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4856-37C3-4F9C-A79C-E5C250A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FD9A-E60B-4752-9E45-99BE3F13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D316-707E-434B-B88E-B52ED4E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E99-BC43-48A5-9817-777A96F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A16E-5A51-4BFF-A00B-F9C7DFF0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920D-130F-4809-A489-059EE33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B4FF-6EB5-447A-BCE0-FEB4F19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FBE8-DFB9-438A-A7D4-F674F8C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985C-03A6-4219-8228-5C946B5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33927-6DF4-437C-8C95-37619235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EC300-6FFD-4843-BC44-32159D9B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0ADCE-4D4D-4B58-B811-1A27A216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61CAD-57A1-4E17-AC41-586C704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16BA-583A-428E-BC6E-3284C1C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AD9-9F82-477A-83C1-4CF94F3C433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2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ED9-DC03-4E6C-B8B4-1A84C9F4267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74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E6C9-8DAA-426C-91D9-BDAA1C6F77F7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EF1-53C9-4051-A210-A2FA479D26F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7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4989-E029-4D3A-AF8D-369AB43F864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19C-A724-429F-932C-D6C9351878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36FC-D048-4A39-8C2C-C489A5539440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0E4-2C4A-44FC-A591-8EA4D2AFE406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BB87-C667-46ED-83B5-B0BF825E9CE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791-8374-440D-9F70-CC93B19DA09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DBD-DB6B-4E7C-84E0-DD64F69C11B7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E67-876A-4F43-AA2E-C8926226DAC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7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8F2-6957-49D2-8578-537AAF9C9C35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1" descr="p073a"/>
          <p:cNvPicPr/>
          <p:nvPr/>
        </p:nvPicPr>
        <p:blipFill>
          <a:blip r:embed="rId1"/>
          <a:stretch/>
        </p:blipFill>
        <p:spPr>
          <a:xfrm>
            <a:off x="1047600" y="1940040"/>
            <a:ext cx="7056720" cy="424332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人体内废物的排出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298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一部分水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无机盐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葡萄糖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尿素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62" name="Picture 5" descr="过滤"/>
          <p:cNvPicPr/>
          <p:nvPr/>
        </p:nvPicPr>
        <p:blipFill>
          <a:blip r:embed="rId1"/>
          <a:stretch/>
        </p:blipFill>
        <p:spPr>
          <a:xfrm>
            <a:off x="539640" y="620640"/>
            <a:ext cx="7872480" cy="5904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324000" y="0"/>
            <a:ext cx="84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84d3"/>
                </a:solidFill>
                <a:latin typeface="Times New Roman"/>
              </a:rPr>
              <a:t>当血液流经肾小球时</a:t>
            </a:r>
            <a:r>
              <a:rPr b="1" lang="zh-CN" sz="4800" spc="-1" strike="noStrike">
                <a:solidFill>
                  <a:srgbClr val="4584d3"/>
                </a:solidFill>
                <a:latin typeface="Arial"/>
                <a:ea typeface="隶书"/>
              </a:rPr>
              <a:t>形成</a:t>
            </a:r>
            <a:r>
              <a:rPr b="1" lang="zh-CN" sz="4800" spc="-1" strike="noStrike">
                <a:solidFill>
                  <a:srgbClr val="b12f15"/>
                </a:solidFill>
                <a:latin typeface="Arial"/>
                <a:ea typeface="隶书"/>
              </a:rPr>
              <a:t>原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82296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1742760" y="5877000"/>
            <a:ext cx="536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部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血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中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小分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物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过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形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原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250920" y="260280"/>
            <a:ext cx="86421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尿的形成和排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idney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是形成尿液的器官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4-44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每个肾脏包括大约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100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万个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结构和功能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单位，叫做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每个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由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球、肾小囊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管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等部分组成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球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是血管球，由人球小动脉分出的许多毛细血管相互缠绕而成，这些毛细血管汇集成出球小动脉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囊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套在肾小球的外面，下接肾小管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管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细长而曲折，周围缠绕着大量的毛细血管。肾小囊和肾小管组成的结构，就像一个“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小漏斗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”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280" y="5157360"/>
            <a:ext cx="40388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形成尿液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终尿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68" name="Picture 6" descr="pic_7807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343400" y="1125360"/>
            <a:ext cx="4800600" cy="4732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505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对人体有用的物质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大部分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全部葡萄糖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部分无机盐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0" y="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Tahoma"/>
              </a:rPr>
              <a:t>当原尿流经肾小管时</a:t>
            </a:r>
            <a:r>
              <a:rPr b="1" lang="zh-CN" sz="4400" spc="-1" strike="noStrike">
                <a:solidFill>
                  <a:srgbClr val="3ba323"/>
                </a:solidFill>
                <a:latin typeface="Arial"/>
              </a:rPr>
              <a:t>对原尿的</a:t>
            </a:r>
            <a:r>
              <a:rPr b="1" lang="zh-CN" sz="4400" spc="-1" strike="noStrike">
                <a:solidFill>
                  <a:srgbClr val="be0c08"/>
                </a:solidFill>
                <a:latin typeface="Arial"/>
              </a:rPr>
              <a:t>重吸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539640" y="3933720"/>
            <a:ext cx="410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剩下的物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水和无机盐、尿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0000"/>
                </a:solidFill>
                <a:latin typeface="Candara"/>
                <a:ea typeface="隶书"/>
              </a:rPr>
              <a:t>血液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4584d3"/>
                </a:solidFill>
                <a:latin typeface="Candara"/>
                <a:ea typeface="隶书"/>
              </a:rPr>
              <a:t>原尿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b12f15"/>
                </a:solidFill>
                <a:latin typeface="Candara"/>
                <a:ea typeface="隶书"/>
              </a:rPr>
              <a:t>尿液</a:t>
            </a:r>
            <a:r>
              <a:rPr b="0" lang="zh-CN" sz="5300" spc="-1" strike="noStrike">
                <a:solidFill>
                  <a:srgbClr val="ffffff"/>
                </a:solidFill>
                <a:latin typeface="Candara"/>
                <a:ea typeface="隶书"/>
              </a:rPr>
              <a:t>的成分比较：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79280" y="1125360"/>
          <a:ext cx="8856720" cy="5492880"/>
        </p:xfrm>
        <a:graphic>
          <a:graphicData uri="http://schemas.openxmlformats.org/drawingml/2006/table">
            <a:tbl>
              <a:tblPr/>
              <a:tblGrid>
                <a:gridCol w="2214720"/>
                <a:gridCol w="2144520"/>
                <a:gridCol w="2511360"/>
                <a:gridCol w="1986120"/>
              </a:tblGrid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成分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浆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肾小囊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蛋白质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8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糖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机盐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素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8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-181440" y="620640"/>
            <a:ext cx="9325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通过以上分析可以知道，尿的形成主要与肾单位有关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4-45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肾单位中的肾小球和紧贴着它的肾小囊内壁起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过滤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作用。当血液流经肾小球时，除血细胞和大分子的蛋白质以外，血浆中的一部分水、无机盐、葡萄糖和尿素等物质，都可以经过肾小球过滤到肾小囊中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小囊中的液体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称为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原尿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人体每天形成的原尿大约有</a:t>
            </a:r>
            <a:r>
              <a:rPr b="1" lang="en-US" sz="3600" spc="-1" strike="noStrike">
                <a:solidFill>
                  <a:srgbClr val="ff3300"/>
                </a:solidFill>
                <a:latin typeface="Candara"/>
              </a:rPr>
              <a:t>180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升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-360" y="54900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当原尿流经肾小管时，全部葡萄糖、大部分的水和部分无机盐等被肾小管重新吸收。这些被重新吸收的物质进入包绕在肾小管外面的毛细血管中，送回到血液里，而剩下的水和无机盐、尿素等就形成了尿液。人体每天排出的尿液约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1.5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升，比原尿少了许多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肾脏中形成的尿液，经输尿管流人膀胱暂时储存。当膀胱内的尿液储存到一定量时，人就产生尿意。排尿时，尿液经尿道排出体外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人体排尿，不仅起到排出废物的作用，而且对调节体内水和无机盐的平衡，维持组织细胞的正常生理功能，也有重要的作用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p075d"/>
          <p:cNvPicPr/>
          <p:nvPr/>
        </p:nvPicPr>
        <p:blipFill>
          <a:blip r:embed="rId1"/>
          <a:stretch/>
        </p:blipFill>
        <p:spPr>
          <a:xfrm>
            <a:off x="1476360" y="0"/>
            <a:ext cx="64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-11160" y="476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由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小体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和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小管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组成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肾小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体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的功能：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滤过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形成原尿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肾小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管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的功能：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重吸收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有用物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76360" y="4673520"/>
            <a:ext cx="233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单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3132000" y="38815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小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3132000" y="53211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小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5559480" y="338292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肾小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5580000" y="41688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肾小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2916360" y="445788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5415120" y="358776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4067280" y="0"/>
            <a:ext cx="464184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肾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0000"/>
                </a:solidFill>
                <a:latin typeface="Candara"/>
                <a:ea typeface="隶书"/>
              </a:rPr>
              <a:t>血液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4584d3"/>
                </a:solidFill>
                <a:latin typeface="Candara"/>
                <a:ea typeface="隶书"/>
              </a:rPr>
              <a:t>原尿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b12f15"/>
                </a:solidFill>
                <a:latin typeface="Candara"/>
                <a:ea typeface="隶书"/>
              </a:rPr>
              <a:t>尿液</a:t>
            </a:r>
            <a:r>
              <a:rPr b="0" lang="zh-CN" sz="5300" spc="-1" strike="noStrike">
                <a:solidFill>
                  <a:srgbClr val="ffffff"/>
                </a:solidFill>
                <a:latin typeface="Candara"/>
                <a:ea typeface="隶书"/>
              </a:rPr>
              <a:t>的成分比较：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0" y="1125360"/>
          <a:ext cx="8964720" cy="5492880"/>
        </p:xfrm>
        <a:graphic>
          <a:graphicData uri="http://schemas.openxmlformats.org/drawingml/2006/table">
            <a:tbl>
              <a:tblPr/>
              <a:tblGrid>
                <a:gridCol w="2241720"/>
                <a:gridCol w="2170080"/>
                <a:gridCol w="2541600"/>
                <a:gridCol w="2011320"/>
              </a:tblGrid>
              <a:tr h="9208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成分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浆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肾小囊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蛋白质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8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糖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机盐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素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8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文本框 8199"/>
          <p:cNvSpPr/>
          <p:nvPr/>
        </p:nvSpPr>
        <p:spPr>
          <a:xfrm>
            <a:off x="1338120" y="1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50920" y="83628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人体生命活动中会产生许多废物，如二氧化碳、尿素等。这些废物必须及时通过各种途径排出体外。人体将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二氧化碳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，以及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多余的水和无机盐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等排出体外的过程叫做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排泄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excretion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人体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  <a:ea typeface="隶书"/>
              </a:rPr>
              <a:t>细胞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产生的废物中，尿素、多余的水和无机盐主要是通过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泌尿系统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urinary system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排出的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250920" y="907920"/>
            <a:ext cx="8713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尿液和血浆的成分有什么不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你认为尿液主要排出哪些物质：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血浆和肾小囊中液体成分相比，肾小囊中的液体减少了：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说明肾小球和肾小囊壁有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肾小囊中出现葡萄糖而在尿液中并没有，这说明肾小管有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0" y="1484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尿液和血浆的成分有什么不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认为尿液主要排出哪些物质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答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4584d3"/>
                </a:solidFill>
                <a:latin typeface="Arial"/>
                <a:ea typeface="黑体"/>
              </a:rPr>
              <a:t>血浆中没有蛋白质和葡萄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4584d3"/>
                </a:solidFill>
                <a:latin typeface="黑体"/>
                <a:ea typeface="黑体"/>
              </a:rPr>
              <a:t>无机盐、尿素及多余的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-360" y="836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．血浆和肾小囊中液体成分的变化，说明肾小球和肾小囊壁的作用有什么特点．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答：同血浆相比，肾小囊中的液体含有很少的蛋白质，含有水、葡萄糖、无机盐和尿素。这说明肾小球和肾小囊壁可以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透过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水、葡萄糖、无机盐和尿素等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小分子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物质，而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很少透过蛋白质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这样的物质。   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-252720" y="1484280"/>
            <a:ext cx="939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3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肾小囊中出现葡萄糖而在尿液中并没有，这说明肾小管有什么作用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答：这说明肾小管可以</a:t>
            </a:r>
            <a:r>
              <a:rPr b="1" lang="zh-CN" sz="4400" spc="-1" strike="noStrike">
                <a:solidFill>
                  <a:srgbClr val="ff3300"/>
                </a:solidFill>
                <a:latin typeface="Candara"/>
              </a:rPr>
              <a:t>重新吸收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肾小囊液体中的</a:t>
            </a:r>
            <a:r>
              <a:rPr b="1" lang="zh-CN" sz="4400" spc="-1" strike="noStrike">
                <a:solidFill>
                  <a:srgbClr val="ff3300"/>
                </a:solidFill>
                <a:latin typeface="Candara"/>
              </a:rPr>
              <a:t>全部葡萄糖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。  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76364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6480" y="40428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1.A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的血液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C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的血液成分相比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C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血液主要减少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无机盐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Candara"/>
              </a:rPr>
              <a:t>.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酸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Candara"/>
              </a:rPr>
              <a:t>.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成分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2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成分比较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E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多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葡萄糖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成分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3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E</a:t>
            </a:r>
            <a:r>
              <a:rPr b="1" lang="en-US" sz="4000" spc="-1" strike="noStrike">
                <a:solidFill>
                  <a:srgbClr val="073e87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过程中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酸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浓度逐渐升高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葡萄糖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浓度降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4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是尿液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它最终汇集到肾脏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肾盂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后经输尿管排至膀胱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膀胱中暂时储存起来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98" name="Picture 4" descr="p076b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01" name="Picture 4" descr="p076a"/>
          <p:cNvPicPr/>
          <p:nvPr/>
        </p:nvPicPr>
        <p:blipFill>
          <a:blip r:embed="rId1"/>
          <a:stretch/>
        </p:blipFill>
        <p:spPr>
          <a:xfrm>
            <a:off x="125892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0" y="475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其他排泄途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尿素、多余的水分和无机盐，除了通过肾脏形成的尿液排出外，也能通过皮肤中的汗腺分泌汗液排出。汗液的主要成分是水，还有少量的尿素和无机盐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如氯化钠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等物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汗腺分布于人的全身皮肤，在腋窝、掌心、足底等处分布较多。汗腺分为分泌部和导管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4-46),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分泌部位于真皮或皮下组织内，产生的汗液经导管排到皮肤的表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人体细胞在生命活动中不断产生各种废物，其中二氧化碳由呼吸系绔搀出体外；产生的尿素等废物主要由泌尿系统形成尿液排出体外，还有一部分尿素由皮肤通过汗腺排出体外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835280" y="573120"/>
            <a:ext cx="93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584d3"/>
                </a:solidFill>
                <a:latin typeface="Times New Roman"/>
              </a:rPr>
              <a:t>代谢废物排出途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205080" y="83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呼 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133800" y="2494080"/>
            <a:ext cx="31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汗 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3133800" y="422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尿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5149800" y="477720"/>
            <a:ext cx="33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氧化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5149800" y="1052640"/>
            <a:ext cx="26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量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5076720" y="1771560"/>
            <a:ext cx="35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分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5076720" y="2421000"/>
            <a:ext cx="30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量无机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3"/>
          <p:cNvSpPr/>
          <p:nvPr/>
        </p:nvSpPr>
        <p:spPr>
          <a:xfrm>
            <a:off x="5076720" y="3141720"/>
            <a:ext cx="25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尿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5076720" y="378936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部分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5076720" y="451008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部分尿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5149800" y="515772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机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2917800" y="1125360"/>
            <a:ext cx="287280" cy="360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3600720"/>
              <a:gd name="textAreaBottom" fmla="*/ 356724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4789440" y="407664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320 h 1440000"/>
              <a:gd name="textAreaBottom" fmla="*/ 1426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20"/>
          <p:cNvSpPr/>
          <p:nvPr/>
        </p:nvSpPr>
        <p:spPr>
          <a:xfrm>
            <a:off x="47894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040 h 1512720"/>
              <a:gd name="textAreaBottom" fmla="*/ 14986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1"/>
          <p:cNvSpPr/>
          <p:nvPr/>
        </p:nvSpPr>
        <p:spPr>
          <a:xfrm>
            <a:off x="4718160" y="836640"/>
            <a:ext cx="287280" cy="79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22" name="Picture 4" descr="p073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5219640" y="260280"/>
            <a:ext cx="3708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be0c08"/>
                </a:solidFill>
                <a:latin typeface="Arial"/>
              </a:rPr>
              <a:t>泌尿系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．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判断下列说法是否正确。正确的画“√”，错误的画“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X”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膀胱是形成尿的主要器官。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进入肾小球的血管为小动脉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出肾小球的血管为小静脉。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肾小球和肾小囊具有过滤作用，肾小管具有重吸收作用。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．某人在环境和进食相同的条件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·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下，测定完全休息和运动情况下，通过不同途径所散失的水分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毫升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，结果如下表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这两天的失水量有什么不同？这告诉我们运动时应该怎样做？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运动时汗液显著增多有什么意义？尿液为什么减少了呢？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运动时通过呼气散失的水量为什么增加了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0" y="2924280"/>
          <a:ext cx="9144000" cy="1554120"/>
        </p:xfrm>
        <a:graphic>
          <a:graphicData uri="http://schemas.openxmlformats.org/drawingml/2006/table">
            <a:tbl>
              <a:tblPr/>
              <a:tblGrid>
                <a:gridCol w="1979640"/>
                <a:gridCol w="2592360"/>
                <a:gridCol w="2286000"/>
                <a:gridCol w="2286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汗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出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天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另一天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 Box 34"/>
          <p:cNvSpPr/>
          <p:nvPr/>
        </p:nvSpPr>
        <p:spPr>
          <a:xfrm>
            <a:off x="6849720" y="1197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6622920" y="8762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4860720" y="333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-181440" y="1557360"/>
            <a:ext cx="93250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44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这两天的失水量有什么不同？这告诉我们运动时应该怎样做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4000" spc="-1" strike="noStrike">
                <a:solidFill>
                  <a:srgbClr val="4584d3"/>
                </a:solidFill>
                <a:latin typeface="Candara"/>
              </a:rPr>
              <a:t>运动这一天同完全休息这一天相比，散失的水量要大许多。因此，人们运动时应当多喝一些水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50920" y="2060640"/>
            <a:ext cx="8642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3800" spc="-1" strike="noStrike">
                <a:solidFill>
                  <a:srgbClr val="073e87"/>
                </a:solidFill>
                <a:latin typeface="Candara"/>
              </a:rPr>
              <a:t>运动时汗液显著增多有什么意义？尿液为什么减少了呢？</a:t>
            </a:r>
            <a:endParaRPr b="0" lang="en-US" sz="3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3400" spc="-1" strike="noStrike">
                <a:solidFill>
                  <a:srgbClr val="4584d3"/>
                </a:solidFill>
                <a:latin typeface="Candara"/>
              </a:rPr>
              <a:t>运动时汗液显著增多，汗液蒸发时能吸收人体较多的热量。汗液分泌多，蒸发多，体内散失的热量就多些。由于运动时水主要以汗液的形式排出体外，尿液就相应减少了</a:t>
            </a: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250920" y="1844280"/>
            <a:ext cx="864216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运动时通过呼气散失的水量为什么增加了？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3600" spc="-1" strike="noStrike">
                <a:solidFill>
                  <a:srgbClr val="4584d3"/>
                </a:solidFill>
                <a:latin typeface="Candara"/>
              </a:rPr>
              <a:t>运动时呼吸频率加快、呼吸加深，通过呼吸散失的水量相应地就会增加，与此同时，由于运动时人的体温略有升高，此时呼出气体中的水量也会相应地增加。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F91-4D54-476D-9D68-3960C9496F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4" name="Picture 4" descr="p077a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900000" y="184464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肾脏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输尿管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膀胱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尿道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ndara"/>
                <a:ea typeface="隶书"/>
              </a:rPr>
              <a:t>泌尿系统的组成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p073y"/>
          <p:cNvPicPr/>
          <p:nvPr/>
        </p:nvPicPr>
        <p:blipFill>
          <a:blip r:embed="rId1"/>
          <a:stretch/>
        </p:blipFill>
        <p:spPr>
          <a:xfrm>
            <a:off x="1476360" y="0"/>
            <a:ext cx="567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1116000" y="1270080"/>
            <a:ext cx="1440000" cy="1582560"/>
            <a:chOff x="1116000" y="1270080"/>
            <a:chExt cx="1440000" cy="1582560"/>
          </a:xfrm>
        </p:grpSpPr>
        <p:sp>
          <p:nvSpPr>
            <p:cNvPr id="628" name="Line 5"/>
            <p:cNvSpPr/>
            <p:nvPr/>
          </p:nvSpPr>
          <p:spPr>
            <a:xfrm flipH="1" flipV="1">
              <a:off x="1116000" y="1270080"/>
              <a:ext cx="1440000" cy="1582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 rot="10800000">
              <a:off x="1116000" y="1270080"/>
              <a:ext cx="1440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 Box 6"/>
          <p:cNvSpPr/>
          <p:nvPr/>
        </p:nvSpPr>
        <p:spPr>
          <a:xfrm>
            <a:off x="0" y="549360"/>
            <a:ext cx="201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肾动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042560" y="3284640"/>
            <a:ext cx="1368720" cy="361800"/>
            <a:chOff x="1042560" y="3284640"/>
            <a:chExt cx="1368720" cy="361800"/>
          </a:xfrm>
        </p:grpSpPr>
        <p:sp>
          <p:nvSpPr>
            <p:cNvPr id="632" name="Line 7"/>
            <p:cNvSpPr/>
            <p:nvPr/>
          </p:nvSpPr>
          <p:spPr>
            <a:xfrm flipH="1">
              <a:off x="1042560" y="3284640"/>
              <a:ext cx="1368360" cy="36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1042920" y="3284640"/>
              <a:ext cx="13683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"/>
          <p:cNvSpPr/>
          <p:nvPr/>
        </p:nvSpPr>
        <p:spPr>
          <a:xfrm>
            <a:off x="0" y="3573360"/>
            <a:ext cx="19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肾静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26560" y="4724280"/>
            <a:ext cx="1297440" cy="484200"/>
            <a:chOff x="826560" y="4724280"/>
            <a:chExt cx="1297440" cy="484200"/>
          </a:xfrm>
        </p:grpSpPr>
        <p:sp>
          <p:nvSpPr>
            <p:cNvPr id="636" name="Line 9"/>
            <p:cNvSpPr/>
            <p:nvPr/>
          </p:nvSpPr>
          <p:spPr>
            <a:xfrm flipH="1">
              <a:off x="826560" y="4724280"/>
              <a:ext cx="1297080" cy="484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826920" y="4724280"/>
              <a:ext cx="129708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10"/>
          <p:cNvSpPr/>
          <p:nvPr/>
        </p:nvSpPr>
        <p:spPr>
          <a:xfrm>
            <a:off x="0" y="5157720"/>
            <a:ext cx="19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输尿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227640" y="1052640"/>
            <a:ext cx="1368720" cy="360"/>
            <a:chOff x="6227640" y="1052640"/>
            <a:chExt cx="1368720" cy="360"/>
          </a:xfrm>
        </p:grpSpPr>
        <p:sp>
          <p:nvSpPr>
            <p:cNvPr id="640" name="Line 11"/>
            <p:cNvSpPr/>
            <p:nvPr/>
          </p:nvSpPr>
          <p:spPr>
            <a:xfrm>
              <a:off x="6227640" y="1052640"/>
              <a:ext cx="136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6227640" y="10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7477200" y="620640"/>
            <a:ext cx="144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皮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219640" y="1989000"/>
            <a:ext cx="2448000" cy="360"/>
            <a:chOff x="5219640" y="1989000"/>
            <a:chExt cx="2448000" cy="360"/>
          </a:xfrm>
        </p:grpSpPr>
        <p:sp>
          <p:nvSpPr>
            <p:cNvPr id="644" name="Line 13"/>
            <p:cNvSpPr/>
            <p:nvPr/>
          </p:nvSpPr>
          <p:spPr>
            <a:xfrm>
              <a:off x="5219640" y="1989000"/>
              <a:ext cx="2448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5219640" y="198900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 Box 14"/>
          <p:cNvSpPr/>
          <p:nvPr/>
        </p:nvSpPr>
        <p:spPr>
          <a:xfrm>
            <a:off x="7621560" y="1555920"/>
            <a:ext cx="13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髓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716360" y="2852640"/>
            <a:ext cx="2951280" cy="1800"/>
            <a:chOff x="4716360" y="2852640"/>
            <a:chExt cx="2951280" cy="1800"/>
          </a:xfrm>
        </p:grpSpPr>
        <p:sp>
          <p:nvSpPr>
            <p:cNvPr id="648" name="Line 15"/>
            <p:cNvSpPr/>
            <p:nvPr/>
          </p:nvSpPr>
          <p:spPr>
            <a:xfrm>
              <a:off x="4716360" y="2852640"/>
              <a:ext cx="295128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4716360" y="2852640"/>
              <a:ext cx="2951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16"/>
          <p:cNvSpPr/>
          <p:nvPr/>
        </p:nvSpPr>
        <p:spPr>
          <a:xfrm>
            <a:off x="7621560" y="2347920"/>
            <a:ext cx="15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肾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50560" y="836280"/>
            <a:ext cx="88009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动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脉的颜色为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红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静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脉的颜色为</a:t>
            </a:r>
            <a:r>
              <a:rPr b="1" lang="zh-CN" sz="6000" spc="-1" strike="noStrike">
                <a:solidFill>
                  <a:srgbClr val="4584d3"/>
                </a:solidFill>
                <a:latin typeface="Candara"/>
              </a:rPr>
              <a:t>蓝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总体的颜色为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红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血液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经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  <a:ea typeface="隶书"/>
              </a:rPr>
              <a:t>肾动脉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流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入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6000" spc="-1" strike="noStrike">
                <a:solidFill>
                  <a:srgbClr val="073e87"/>
                </a:solidFill>
                <a:latin typeface="Candara"/>
              </a:rPr>
              <a:t>,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血液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经</a:t>
            </a: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隶书"/>
              </a:rPr>
              <a:t>肾静脉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流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出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6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78920" y="292428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答：有密切关系。肾动脉中的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血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将人体生命活动产生的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尿素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、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无机盐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和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多余的水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带到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肾脏</a:t>
            </a:r>
            <a:r>
              <a:rPr b="0" lang="en-US" sz="37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形成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尿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并排出体外。肾静脉则将</a:t>
            </a:r>
            <a:r>
              <a:rPr b="1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排除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了尿素、无机盐和多余的水的</a:t>
            </a:r>
            <a:r>
              <a:rPr b="1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血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送往人体其他部位。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ndara"/>
              </a:rPr>
              <a:t>你认为尿液的形成与血液循环的关系</a:t>
            </a:r>
            <a:r>
              <a:rPr b="1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56" name="Picture 4" descr="p073d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pic_8674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1052640"/>
            <a:ext cx="8244000" cy="5600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0" y="2602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800" spc="-1" strike="noStrike">
                <a:solidFill>
                  <a:srgbClr val="be0c08"/>
                </a:solidFill>
                <a:latin typeface="Times New Roman"/>
              </a:rPr>
              <a:t>肾小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血液的</a:t>
            </a:r>
            <a:r>
              <a:rPr b="1" lang="zh-CN" sz="4800" spc="-1" strike="noStrike">
                <a:solidFill>
                  <a:srgbClr val="be0c08"/>
                </a:solidFill>
                <a:latin typeface="Times New Roman"/>
              </a:rPr>
              <a:t>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380880" y="2276640"/>
            <a:ext cx="275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Tahoma"/>
                <a:ea typeface="楷体_GB2312"/>
              </a:rPr>
              <a:t>肾小球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和紧贴着它的</a:t>
            </a:r>
            <a:r>
              <a:rPr b="1" lang="zh-CN" sz="4400" spc="-1" strike="noStrike">
                <a:solidFill>
                  <a:srgbClr val="4584d3"/>
                </a:solidFill>
                <a:latin typeface="Tahoma"/>
                <a:ea typeface="楷体_GB2312"/>
              </a:rPr>
              <a:t>肾小囊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壁起过滤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3:27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24Z</dcterms:modified>
  <cp:revision>1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