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FD9-AA73-403B-96BC-B6E12797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B25-7FBC-415C-8AC5-12E3ED9E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88C-44ED-4D03-BE0D-7D23EFEB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765-1564-4A43-98C4-E6C4B23A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F7DD-A80D-4EFB-9961-39A6728F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2D59-0FAC-4379-A3B8-C5050066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09C9-2939-48E3-BAF1-6C0A75CE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BF3E-4727-44D5-8CDB-D4B04023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5B88-5E91-4A73-9F3F-4BB7E4A0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9B2C-1518-4D1D-B213-8B9D78DE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0FF1-A927-4DA2-B2EC-5B06F976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884-EF7F-4B88-B8B9-E1CBD872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DC4F-6501-4B99-9F75-7FF7977F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52DB-D24C-4E31-A2B8-31EA4E8D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A034-431E-4CE3-B6B3-80050CED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4D17-2491-4577-8685-1C46ED64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9180-E2FD-421C-842F-02274BE7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F51-EAB6-4BB2-B6DF-FFAEF62F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97D-08C1-46EA-A9E8-56C79C5A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399-3E6F-42BD-AF99-AA72242D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217-A209-49B9-A473-00186F9E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36E-2A8F-495F-844C-6512CF5D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721-B38C-4E17-A3BC-81C6987C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E04-1668-483D-B777-59FA8D61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B87B-9D40-46A6-9A0E-7E96BDD8A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741C-F6DE-4A25-B670-201E257E70B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2ed3cnb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8"/>
          <p:cNvSpPr txBox="1"/>
          <p:nvPr/>
        </p:nvSpPr>
        <p:spPr>
          <a:xfrm>
            <a:off x="1690560" y="1916280"/>
            <a:ext cx="6046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人物描写一组</a:t>
            </a:r>
            <a:r>
              <a:rPr b="0" lang="en-US" sz="4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4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模板下载</a:t>
            </a:r>
            <a:endParaRPr b="0" lang="en-US" sz="4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2411280" y="155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bca4cnb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332000" y="2276640"/>
            <a:ext cx="64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武松见了，叫声：“啊呀！“从青石上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翻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来，把哨棒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手里，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青石旁边。那只大虫又饥又渴，把两只前爪在地上按了一按，望上一扑，从半空里蹿下来。武松吃那一惊，酒都变做冷汗了。说时迟，那时快，武松见大虫扑来，一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大虫背后。大虫背后看人最难，就把前爪搭在地下，那腰胯一掀。武松一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又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一边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bca4cnb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2124000" y="2349360"/>
            <a:ext cx="48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那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搪瓷碗，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几根草根我们吃剩的鱼骨头，嚼了一会儿，就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紧眉头硬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8240_20070408100158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187280" y="692280"/>
            <a:ext cx="691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忽然，远远的水面上露出个小脑袋来。雨来像小鸭子抖着头上的水，用手抹一下眼睛和鼻子，最里吹着气，望着妈妈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丽抿着嘴，弓着腰，蹑手蹑脚地，一步一步慢慢地靠近它。靠近了，靠近了，又见她悄悄地将右手伸向蝴蝶，张开的两个手指一合，夹住了粉蝶的翅膀。小丽高兴得又蹦又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弯着腰，篮球在他的手下前后左右不停地拍着，两眼溜溜地转动，寻找“突围”的机会。突然他加快步伐，一会左拐，一会右拐，冲过了两层防线，来到篮下，一个虎跳，转身投篮，篮球在空中划了一条漂亮的弧线，不偏不倚地落在筐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CA91-2DCC-4E98-A493-62692DBD87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41bdcnb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4:27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31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