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5F2-174B-4430-848E-D4B3EA70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3D5-04EA-41D4-A22C-BA702587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9A7-75F8-4AF0-AAE4-4511843D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6CA-48F2-48AD-8FD7-F93704B9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35E2-0CA1-4E3C-B9F7-D814DBFC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F758-084C-46D3-A6B6-892DB320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3F69-42D0-47B0-A97B-9EB30A1C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77DA-AEB0-4879-BC10-2CD93BBA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B396-07DF-4363-9606-BCF10C01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C455-0AA7-4591-A0DA-35B519D4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6EBC-B6D0-4D87-8161-826CCEA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F39-8C15-4857-A2EE-F9A05FCE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280C-74F6-4A36-BDB4-2E40D430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AADE-D6E2-48E8-BCD6-7152F378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12E3-3B3E-41BF-AECF-73076499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7594-B137-4321-B1A6-52D4CE14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3CB2-C4EE-41C4-B6CE-50A6FE34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B8B-CB2C-487A-AEEF-111A71A6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5E1-75E6-4EE5-92B1-36FC9B3C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C43-3996-4975-AD14-ED18D12E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F13-D4BB-41B7-8D73-A2BAA0F4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DF1-6FAA-4097-8FC5-B174CA75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AD6-6497-4449-A0AA-86C22132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E12-7AED-498B-8BF5-8C3380B9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077A-237B-4A6D-A57D-146F691DD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4EA3-DF63-4D9A-B07B-56B7FDD105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7440" y="14839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溶液的浓度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图片2"/>
          <p:cNvPicPr/>
          <p:nvPr/>
        </p:nvPicPr>
        <p:blipFill>
          <a:blip r:embed="rId1"/>
          <a:stretch/>
        </p:blipFill>
        <p:spPr>
          <a:xfrm>
            <a:off x="826920" y="3286080"/>
            <a:ext cx="3048120" cy="210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ic_99623"/>
          <p:cNvPicPr/>
          <p:nvPr/>
        </p:nvPicPr>
        <p:blipFill>
          <a:blip r:embed="rId2"/>
          <a:stretch/>
        </p:blipFill>
        <p:spPr>
          <a:xfrm>
            <a:off x="4319640" y="3357720"/>
            <a:ext cx="4038480" cy="201600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85" name="矩形 1"/>
          <p:cNvSpPr/>
          <p:nvPr/>
        </p:nvSpPr>
        <p:spPr>
          <a:xfrm>
            <a:off x="3349080" y="684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九单元　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04920" y="16304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[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题型一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]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关溶质、溶剂和溶液之间的换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549360"/>
            <a:ext cx="103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知识点二：溶质质量分数计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40064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质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767840" y="3809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液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095720" y="3841920"/>
            <a:ext cx="2590920" cy="360"/>
            <a:chOff x="4095720" y="3841920"/>
            <a:chExt cx="2590920" cy="360"/>
          </a:xfrm>
        </p:grpSpPr>
        <p:sp>
          <p:nvSpPr>
            <p:cNvPr id="159" name="Line 7"/>
            <p:cNvSpPr/>
            <p:nvPr/>
          </p:nvSpPr>
          <p:spPr>
            <a:xfrm>
              <a:off x="4095720" y="38419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4095720" y="384192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8"/>
          <p:cNvSpPr/>
          <p:nvPr/>
        </p:nvSpPr>
        <p:spPr>
          <a:xfrm>
            <a:off x="6553080" y="35798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×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826920" y="3500280"/>
            <a:ext cx="47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溶质质量分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2031480" y="5105520"/>
            <a:ext cx="49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液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质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剂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380880" y="2514600"/>
            <a:ext cx="43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的依据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4" descr="LINE049"/>
          <p:cNvPicPr/>
          <p:nvPr/>
        </p:nvPicPr>
        <p:blipFill>
          <a:blip r:embed="rId1"/>
          <a:stretch/>
        </p:blipFill>
        <p:spPr>
          <a:xfrm>
            <a:off x="152280" y="6381720"/>
            <a:ext cx="8839440" cy="38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"/>
                            </p:stCondLst>
                            <p:childTnLst>
                              <p:par>
                                <p:cTn id="259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755640" y="1052640"/>
            <a:ext cx="76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农业生产中，常需要用质量分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氯化钠溶液来选种。现在配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种溶液，需要氯化钠和水的质量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60360" y="304920"/>
            <a:ext cx="7740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．根据一定量溶液求溶质和溶剂的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547640" y="26226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00000" y="54450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配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质量分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氯化钠溶液需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4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氯化钠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6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114880" y="2924280"/>
            <a:ext cx="1473120" cy="360"/>
            <a:chOff x="5114880" y="2924280"/>
            <a:chExt cx="1473120" cy="360"/>
          </a:xfrm>
        </p:grpSpPr>
        <p:sp>
          <p:nvSpPr>
            <p:cNvPr id="171" name="Line 6"/>
            <p:cNvSpPr/>
            <p:nvPr/>
          </p:nvSpPr>
          <p:spPr>
            <a:xfrm>
              <a:off x="5114880" y="29242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5114880" y="2924280"/>
              <a:ext cx="147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7"/>
          <p:cNvSpPr/>
          <p:nvPr/>
        </p:nvSpPr>
        <p:spPr>
          <a:xfrm>
            <a:off x="2887560" y="4441680"/>
            <a:ext cx="322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剂质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质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质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167640" y="3362400"/>
            <a:ext cx="394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质质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质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质的质量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5435280" y="2930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液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5446440" y="24210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质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2656080" y="2700360"/>
            <a:ext cx="1782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质的质量分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665040" y="2714760"/>
            <a:ext cx="1270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3635280" y="4941720"/>
            <a:ext cx="43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15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 24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126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3635280" y="3933720"/>
            <a:ext cx="439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15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16% = 2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96"/>
          <p:cNvSpPr/>
          <p:nvPr/>
        </p:nvSpPr>
        <p:spPr>
          <a:xfrm>
            <a:off x="1174680" y="63914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23880" y="380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g 1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盐水中放入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盐，求：所得溶液的溶质质量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3880" y="4495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g 1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盐水中倒出一半，求：剩余溶液的溶质的质量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03280" y="573408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剩余溶液的溶质质量分数不变，仍是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332000" y="141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556000" y="17701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268360" y="2421000"/>
            <a:ext cx="2519640" cy="360"/>
            <a:chOff x="2268360" y="2421000"/>
            <a:chExt cx="2519640" cy="360"/>
          </a:xfrm>
        </p:grpSpPr>
        <p:sp>
          <p:nvSpPr>
            <p:cNvPr id="188" name="Line 8"/>
            <p:cNvSpPr/>
            <p:nvPr/>
          </p:nvSpPr>
          <p:spPr>
            <a:xfrm>
              <a:off x="2268360" y="242100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2268360" y="2421000"/>
              <a:ext cx="251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9"/>
          <p:cNvSpPr/>
          <p:nvPr/>
        </p:nvSpPr>
        <p:spPr>
          <a:xfrm>
            <a:off x="1258920" y="198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加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55600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0g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1" descr=""/>
          <p:cNvPicPr/>
          <p:nvPr/>
        </p:nvPicPr>
        <p:blipFill>
          <a:blip r:embed="rId1"/>
          <a:stretch/>
        </p:blipFill>
        <p:spPr>
          <a:xfrm>
            <a:off x="4932360" y="2198520"/>
            <a:ext cx="1542960" cy="438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6443640" y="213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9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1258920" y="3284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加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2411280" y="3068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g X10%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340000" y="3645000"/>
            <a:ext cx="3311640" cy="360"/>
            <a:chOff x="2340000" y="3645000"/>
            <a:chExt cx="3311640" cy="360"/>
          </a:xfrm>
        </p:grpSpPr>
        <p:sp>
          <p:nvSpPr>
            <p:cNvPr id="197" name="Line 15"/>
            <p:cNvSpPr/>
            <p:nvPr/>
          </p:nvSpPr>
          <p:spPr>
            <a:xfrm>
              <a:off x="2340000" y="3645000"/>
              <a:ext cx="331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2340000" y="3645000"/>
              <a:ext cx="331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6"/>
          <p:cNvSpPr/>
          <p:nvPr/>
        </p:nvSpPr>
        <p:spPr>
          <a:xfrm>
            <a:off x="2627280" y="3645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0g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1542960" cy="438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8"/>
          <p:cNvSpPr/>
          <p:nvPr/>
        </p:nvSpPr>
        <p:spPr>
          <a:xfrm>
            <a:off x="7020000" y="3284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8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0" y="40622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质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体积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密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627280" y="4508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0mL ×1.1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50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044720" y="499752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质质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50g ×10% = 5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042920" y="54309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剂质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50g — 55g = 49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042920" y="587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需要氢氧化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5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5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0" y="322776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练习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课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配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质量分数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氢氧化钠溶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密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需要氢氧化钠和水的质量各是多少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378000"/>
            <a:ext cx="838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练习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课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某温度时，蒸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氯化钾溶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氯化钾，求该溶液中溶质的质量分数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71280" y="132552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2"/>
          <p:cNvGrpSpPr/>
          <p:nvPr/>
        </p:nvGrpSpPr>
        <p:grpSpPr>
          <a:xfrm>
            <a:off x="1619280" y="1125360"/>
            <a:ext cx="6300720" cy="968400"/>
            <a:chOff x="1619280" y="1125360"/>
            <a:chExt cx="6300720" cy="968400"/>
          </a:xfrm>
        </p:grpSpPr>
        <p:sp>
          <p:nvSpPr>
            <p:cNvPr id="211" name="Rectangle 13"/>
            <p:cNvSpPr/>
            <p:nvPr/>
          </p:nvSpPr>
          <p:spPr>
            <a:xfrm>
              <a:off x="1619280" y="1342800"/>
              <a:ext cx="63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溶质的质量分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                  ×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4"/>
            <p:cNvGrpSpPr/>
            <p:nvPr/>
          </p:nvGrpSpPr>
          <p:grpSpPr>
            <a:xfrm>
              <a:off x="4462560" y="1125360"/>
              <a:ext cx="1728720" cy="968400"/>
              <a:chOff x="4462560" y="1125360"/>
              <a:chExt cx="1728720" cy="968400"/>
            </a:xfrm>
          </p:grpSpPr>
          <p:sp>
            <p:nvSpPr>
              <p:cNvPr id="213" name="Text Box 15"/>
              <p:cNvSpPr/>
              <p:nvPr/>
            </p:nvSpPr>
            <p:spPr>
              <a:xfrm>
                <a:off x="4462560" y="1125360"/>
                <a:ext cx="172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溶质质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16"/>
              <p:cNvSpPr/>
              <p:nvPr/>
            </p:nvSpPr>
            <p:spPr>
              <a:xfrm>
                <a:off x="4462560" y="1573200"/>
                <a:ext cx="172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溶液质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462560" y="1644480"/>
                <a:ext cx="1584360" cy="360"/>
                <a:chOff x="4462560" y="1644480"/>
                <a:chExt cx="1584360" cy="360"/>
              </a:xfrm>
            </p:grpSpPr>
            <p:sp>
              <p:nvSpPr>
                <p:cNvPr id="216" name="Line 17"/>
                <p:cNvSpPr/>
                <p:nvPr/>
              </p:nvSpPr>
              <p:spPr>
                <a:xfrm>
                  <a:off x="4462560" y="1644480"/>
                  <a:ext cx="1584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 txBox="1"/>
                <p:nvPr/>
              </p:nvSpPr>
              <p:spPr>
                <a:xfrm>
                  <a:off x="4462560" y="1644480"/>
                  <a:ext cx="158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8" name="Group 18"/>
          <p:cNvGrpSpPr/>
          <p:nvPr/>
        </p:nvGrpSpPr>
        <p:grpSpPr>
          <a:xfrm>
            <a:off x="826920" y="1917720"/>
            <a:ext cx="7561440" cy="936360"/>
            <a:chOff x="826920" y="1917720"/>
            <a:chExt cx="7561440" cy="936360"/>
          </a:xfrm>
        </p:grpSpPr>
        <p:sp>
          <p:nvSpPr>
            <p:cNvPr id="219" name="Text Box 19"/>
            <p:cNvSpPr/>
            <p:nvPr/>
          </p:nvSpPr>
          <p:spPr>
            <a:xfrm>
              <a:off x="826920" y="2147760"/>
              <a:ext cx="756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溶质的质量分数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              × 100% = 20%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20"/>
            <p:cNvGrpSpPr/>
            <p:nvPr/>
          </p:nvGrpSpPr>
          <p:grpSpPr>
            <a:xfrm>
              <a:off x="3924000" y="1917720"/>
              <a:ext cx="1008000" cy="936360"/>
              <a:chOff x="3924000" y="1917720"/>
              <a:chExt cx="1008000" cy="936360"/>
            </a:xfrm>
          </p:grpSpPr>
          <p:grpSp>
            <p:nvGrpSpPr>
              <p:cNvPr id="221" name="Group 21"/>
              <p:cNvGrpSpPr/>
              <p:nvPr/>
            </p:nvGrpSpPr>
            <p:grpSpPr>
              <a:xfrm>
                <a:off x="3924000" y="1917720"/>
                <a:ext cx="1008000" cy="520560"/>
                <a:chOff x="3924000" y="1917720"/>
                <a:chExt cx="1008000" cy="520560"/>
              </a:xfrm>
            </p:grpSpPr>
            <p:sp>
              <p:nvSpPr>
                <p:cNvPr id="222" name="Text Box 22"/>
                <p:cNvSpPr/>
                <p:nvPr/>
              </p:nvSpPr>
              <p:spPr>
                <a:xfrm>
                  <a:off x="3995280" y="1917720"/>
                  <a:ext cx="93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7g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924000" y="2421000"/>
                  <a:ext cx="1008000" cy="360"/>
                  <a:chOff x="3924000" y="2421000"/>
                  <a:chExt cx="1008000" cy="360"/>
                </a:xfrm>
              </p:grpSpPr>
              <p:sp>
                <p:nvSpPr>
                  <p:cNvPr id="224" name="Line 23"/>
                  <p:cNvSpPr/>
                  <p:nvPr/>
                </p:nvSpPr>
                <p:spPr>
                  <a:xfrm>
                    <a:off x="3924000" y="2421000"/>
                    <a:ext cx="1008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 txBox="1"/>
                  <p:nvPr/>
                </p:nvSpPr>
                <p:spPr>
                  <a:xfrm>
                    <a:off x="3924000" y="2421000"/>
                    <a:ext cx="1008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6" name="Text Box 24"/>
              <p:cNvSpPr/>
              <p:nvPr/>
            </p:nvSpPr>
            <p:spPr>
              <a:xfrm>
                <a:off x="3995280" y="2333520"/>
                <a:ext cx="86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5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Rectangle 25"/>
          <p:cNvSpPr/>
          <p:nvPr/>
        </p:nvSpPr>
        <p:spPr>
          <a:xfrm>
            <a:off x="971640" y="27655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该溶液中溶质的质量分数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AADD-584D-4D6C-A2A8-C83817ABDB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叶根友毛笔行书2.0版"/>
                <a:ea typeface="叶根友毛笔行书2.0版"/>
              </a:rPr>
              <a:t>当堂训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课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练习题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认真审题   仔细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写工整    步骤规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叶根友毛笔行书2.0版"/>
                <a:ea typeface="叶根友毛笔行书2.0版"/>
              </a:rPr>
              <a:t>候课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640" y="2276640"/>
            <a:ext cx="792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坐姿端正     精神抖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准备好化学、练习册、练习本打开、双色笔，按固定顺序摆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准备好后，预习新课的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4105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7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握溶质质量分数的概念及计算公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会进行溶质质量分数的有关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计算溶质的质量分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质、溶剂的质量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自学指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认真看课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—4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的内容，注意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理解溶质质量分数的概念及计算公式；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掌握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解题思路和步骤，并会做类似的问题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后，比比谁的自学效果较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三支试管中各加入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0mL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水，然后分别加入约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0.5g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g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g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固体硫酸铜。比较三种溶液的颜色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11280" y="2422440"/>
          <a:ext cx="8132760" cy="3527280"/>
        </p:xfrm>
        <a:graphic>
          <a:graphicData uri="http://schemas.openxmlformats.org/drawingml/2006/table">
            <a:tbl>
              <a:tblPr/>
              <a:tblGrid>
                <a:gridCol w="936720"/>
                <a:gridCol w="1366920"/>
                <a:gridCol w="1366560"/>
                <a:gridCol w="1366920"/>
                <a:gridCol w="1366920"/>
                <a:gridCol w="172872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试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编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液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色比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　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质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　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质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溶　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质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0"/>
          <p:cNvSpPr/>
          <p:nvPr/>
        </p:nvSpPr>
        <p:spPr>
          <a:xfrm>
            <a:off x="1835280" y="3716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1"/>
          <p:cNvSpPr/>
          <p:nvPr/>
        </p:nvSpPr>
        <p:spPr>
          <a:xfrm>
            <a:off x="1690560" y="4581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较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2"/>
          <p:cNvSpPr/>
          <p:nvPr/>
        </p:nvSpPr>
        <p:spPr>
          <a:xfrm>
            <a:off x="1908000" y="5300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3"/>
          <p:cNvSpPr/>
          <p:nvPr/>
        </p:nvSpPr>
        <p:spPr>
          <a:xfrm>
            <a:off x="3172680" y="37162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0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4"/>
          <p:cNvSpPr/>
          <p:nvPr/>
        </p:nvSpPr>
        <p:spPr>
          <a:xfrm>
            <a:off x="2987640" y="4508640"/>
            <a:ext cx="122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10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5"/>
          <p:cNvSpPr/>
          <p:nvPr/>
        </p:nvSpPr>
        <p:spPr>
          <a:xfrm>
            <a:off x="3564000" y="443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6"/>
          <p:cNvSpPr/>
          <p:nvPr/>
        </p:nvSpPr>
        <p:spPr>
          <a:xfrm>
            <a:off x="4500720" y="37162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.5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4500720" y="443700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8"/>
          <p:cNvSpPr/>
          <p:nvPr/>
        </p:nvSpPr>
        <p:spPr>
          <a:xfrm>
            <a:off x="4635360" y="52293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9"/>
          <p:cNvSpPr/>
          <p:nvPr/>
        </p:nvSpPr>
        <p:spPr>
          <a:xfrm>
            <a:off x="5796000" y="364500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0.5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5580000" y="4437000"/>
            <a:ext cx="13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1"/>
          <p:cNvSpPr/>
          <p:nvPr/>
        </p:nvSpPr>
        <p:spPr>
          <a:xfrm>
            <a:off x="5651640" y="530064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533520"/>
            <a:ext cx="167616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实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9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2133720" y="623880"/>
            <a:ext cx="3657600" cy="977760"/>
            <a:chOff x="2133720" y="623880"/>
            <a:chExt cx="3657600" cy="977760"/>
          </a:xfrm>
        </p:grpSpPr>
        <p:sp>
          <p:nvSpPr>
            <p:cNvPr id="107" name="Text Box 4"/>
            <p:cNvSpPr/>
            <p:nvPr/>
          </p:nvSpPr>
          <p:spPr>
            <a:xfrm>
              <a:off x="2133720" y="6238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药品</a:t>
              </a: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:</a:t>
              </a: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水</a:t>
              </a: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10</a:t>
              </a:r>
              <a:r>
                <a:rPr b="1" lang="en-US" sz="2800" spc="-1" strike="noStrike">
                  <a:solidFill>
                    <a:srgbClr val="3399ff"/>
                  </a:solidFill>
                  <a:latin typeface="Arial"/>
                </a:rPr>
                <a:t>mL 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硫酸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5"/>
            <p:cNvSpPr/>
            <p:nvPr/>
          </p:nvSpPr>
          <p:spPr>
            <a:xfrm>
              <a:off x="2133720" y="108108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仪器</a:t>
              </a: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:</a:t>
              </a:r>
              <a:r>
                <a:rPr b="1" lang="zh-CN" sz="2800" spc="-1" strike="noStrike">
                  <a:solidFill>
                    <a:srgbClr val="3399ff"/>
                  </a:solidFill>
                  <a:latin typeface="Arial"/>
                </a:rPr>
                <a:t>试管 滴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Object 6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5486400" cy="3800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304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颜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676520" y="54100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淡蓝        蓝色        深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8196"/>
          <p:cNvSpPr/>
          <p:nvPr/>
        </p:nvSpPr>
        <p:spPr>
          <a:xfrm>
            <a:off x="1117440" y="631980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358920"/>
            <a:ext cx="7561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溶液组成的表示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70136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正确理解“浓”溶液和“稀”溶液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11280" y="25606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有色溶液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通过观察它们的颜色，颜色深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颜色浅的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68360" y="4365720"/>
            <a:ext cx="835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颜色判断只是粗略的判断溶液的“浓”和“稀”，需要了解溶液的具体“浓”和“稀”我们可以利用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溶液的浓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95280" y="404640"/>
            <a:ext cx="860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知识点一：溶质质量分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1625760"/>
            <a:ext cx="27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843280" y="1631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是溶质质量和溶液质量之比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2417760"/>
            <a:ext cx="27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公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267080" y="31370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质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634640" y="3746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液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62520" y="3778200"/>
            <a:ext cx="2590560" cy="360"/>
            <a:chOff x="3962520" y="3778200"/>
            <a:chExt cx="2590560" cy="360"/>
          </a:xfrm>
        </p:grpSpPr>
        <p:sp>
          <p:nvSpPr>
            <p:cNvPr id="124" name="Line 8"/>
            <p:cNvSpPr/>
            <p:nvPr/>
          </p:nvSpPr>
          <p:spPr>
            <a:xfrm>
              <a:off x="3962520" y="377820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3962520" y="3778200"/>
              <a:ext cx="2590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9"/>
          <p:cNvSpPr/>
          <p:nvPr/>
        </p:nvSpPr>
        <p:spPr>
          <a:xfrm>
            <a:off x="6419880" y="3516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85800" y="3468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溶质质量分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95280" y="464976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溶质的质量 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液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 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溶质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质量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"/>
                            </p:stCondLst>
                            <p:childTnLst>
                              <p:par>
                                <p:cTn id="11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"/>
                            </p:stCondLst>
                            <p:childTnLst>
                              <p:par>
                                <p:cTn id="128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某氯化钠溶液中溶质的质量分数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其含义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989520" y="148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52360" y="2997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表示</a:t>
            </a: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100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份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质量的氯化钠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溶液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中含有</a:t>
            </a: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份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质量的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氯化钠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，</a:t>
            </a:r>
            <a:r>
              <a:rPr b="1" lang="en-US" sz="4400" spc="-1" strike="noStrike">
                <a:solidFill>
                  <a:srgbClr val="ff00ff"/>
                </a:solidFill>
                <a:latin typeface="黑体"/>
                <a:ea typeface="黑体"/>
              </a:rPr>
              <a:t>90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份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质量的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水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76920" y="5518080"/>
            <a:ext cx="397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溶质质量：溶剂质量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231960" y="551808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: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溶质的质量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26920" y="692280"/>
            <a:ext cx="72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义：溶质的质量与溶液的质量之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以百分数表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826920" y="1557360"/>
            <a:ext cx="7238880" cy="918360"/>
            <a:chOff x="826920" y="1557360"/>
            <a:chExt cx="7238880" cy="918360"/>
          </a:xfrm>
        </p:grpSpPr>
        <p:sp>
          <p:nvSpPr>
            <p:cNvPr id="137" name="Text Box 5"/>
            <p:cNvSpPr/>
            <p:nvPr/>
          </p:nvSpPr>
          <p:spPr>
            <a:xfrm>
              <a:off x="3982320" y="1557360"/>
              <a:ext cx="20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质质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3982320" y="2016000"/>
              <a:ext cx="194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液质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982320" y="2019240"/>
              <a:ext cx="1762920" cy="360"/>
              <a:chOff x="3982320" y="2019240"/>
              <a:chExt cx="1762920" cy="360"/>
            </a:xfrm>
          </p:grpSpPr>
          <p:sp>
            <p:nvSpPr>
              <p:cNvPr id="140" name="Line 7"/>
              <p:cNvSpPr/>
              <p:nvPr/>
            </p:nvSpPr>
            <p:spPr>
              <a:xfrm>
                <a:off x="3982320" y="2019240"/>
                <a:ext cx="1762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3982320" y="2019240"/>
                <a:ext cx="176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 Box 8"/>
            <p:cNvSpPr/>
            <p:nvPr/>
          </p:nvSpPr>
          <p:spPr>
            <a:xfrm>
              <a:off x="5838480" y="1751040"/>
              <a:ext cx="222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×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>
              <a:off x="826920" y="1751040"/>
              <a:ext cx="32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质的质量分数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3059280" y="2637000"/>
            <a:ext cx="4529160" cy="940680"/>
            <a:chOff x="3059280" y="2637000"/>
            <a:chExt cx="4529160" cy="940680"/>
          </a:xfrm>
        </p:grpSpPr>
        <p:sp>
          <p:nvSpPr>
            <p:cNvPr id="145" name="Text Box 11"/>
            <p:cNvSpPr/>
            <p:nvPr/>
          </p:nvSpPr>
          <p:spPr>
            <a:xfrm>
              <a:off x="3059280" y="2847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或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4348080" y="2637000"/>
              <a:ext cx="152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质质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21040" y="3076560"/>
              <a:ext cx="2514240" cy="360"/>
              <a:chOff x="3821040" y="3076560"/>
              <a:chExt cx="2514240" cy="360"/>
            </a:xfrm>
          </p:grpSpPr>
          <p:sp>
            <p:nvSpPr>
              <p:cNvPr id="148" name="Line 13"/>
              <p:cNvSpPr/>
              <p:nvPr/>
            </p:nvSpPr>
            <p:spPr>
              <a:xfrm>
                <a:off x="3821040" y="3076560"/>
                <a:ext cx="2514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3821040" y="3076560"/>
                <a:ext cx="251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14"/>
            <p:cNvSpPr/>
            <p:nvPr/>
          </p:nvSpPr>
          <p:spPr>
            <a:xfrm>
              <a:off x="3663720" y="3117960"/>
              <a:ext cx="32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质质量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溶剂质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5"/>
            <p:cNvSpPr/>
            <p:nvPr/>
          </p:nvSpPr>
          <p:spPr>
            <a:xfrm>
              <a:off x="6493320" y="2827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×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6"/>
          <p:cNvSpPr/>
          <p:nvPr/>
        </p:nvSpPr>
        <p:spPr>
          <a:xfrm>
            <a:off x="108000" y="3716280"/>
            <a:ext cx="878508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质的质量：形成溶液的那部分溶质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溶入溶液的不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液的质量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质的质量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剂的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分清溶质、溶剂与溶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时上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单位要统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忘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100%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最后得到百分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的质量分数要在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超过其最大溶解量的范围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有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00:15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33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