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340-69ED-45F1-94A8-0B35D5A3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9B2-E548-4225-B029-1C72C3F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556A-3474-492B-9C56-9DC545A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57F2C-58AF-44FC-B961-79DD5A5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287F-3DB2-49BA-A96A-C1B09A2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D2F15-9FA2-4BEE-B300-0BCE5120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882D7-64D0-4A9F-A0C5-27350C3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E1615-EC54-45DE-A766-AD80D40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3FBE3-779A-4736-BD21-9FE7258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3CD89-42C9-4C8B-A3E7-2408D409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EEB42-E6A0-46F6-B962-79AE313C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50AB3-D8C7-40DC-9A75-B6CE99D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AF-5053-4F2B-AD7B-437B6111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2BCF-B081-46C7-9565-77239FB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E2E08-5981-41D1-98AD-EF1E3F9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0B8A-5BFE-4AE7-B6A4-CEB2F108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5DB53-188B-4E96-9237-637B665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85055-8BE0-4AC1-B583-A357729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2DD13-DA1C-4A33-BC08-A23C8E4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8BCF2-629D-411D-BCD6-E33C39F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B5901-956B-4F9A-950C-2AC24F6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E5E8-5D83-4D57-B2DE-96F1B497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17E26-2BBE-4AE9-A0D3-CBC17BBE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67A-B0B2-4FCB-BD88-F1525AF4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4B407-3C22-4942-8CA2-B6183E41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4F36-479B-468C-B67C-203F773B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52FD0-686F-4D77-A914-8E6923D4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F09CD-6DB5-437F-B0E9-DD37E73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B2DF-8AA7-4B93-9DD4-01D1D89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59831-4964-4CB3-A302-C7CE3EE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556C-5941-4FD8-89F8-B1D18CD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A0AF6-955A-4EA4-B4E6-E94E339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AA062-1E0B-4371-A365-AD2F1F6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4DD4-208B-4E36-A94D-3D0677C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B336-4010-4720-B3C1-87A14327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26070-E11D-432B-91FA-2A6E5D4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A9C6-FA08-4131-B5A5-1F1DA375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AB3E5-EFAD-4586-9B52-3C270E0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9E556-B487-495E-A00C-EE0D5487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329E4-CC24-44E4-90ED-67C8E69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CB55F-CB09-4B93-BA90-45F3472A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0AD1B-9D14-463B-95E5-A9B6575D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4E160-3DB8-4AF6-80C9-E0ECE2F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8347C-1A72-46AF-95E3-0FAF363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8BE9B-5E24-454C-99DA-A88FD59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DED8-D7FE-4BBD-8B42-D3B765B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CA336-F4F3-4621-AB58-A9CA11A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FB1BC-E19A-43A7-9BDF-B84C616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74AF0-A88D-4BA2-9376-2D3550F4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59B4A-579E-4C48-8D44-D07F3FB1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3A461-693E-4760-B4BD-E67F9F1E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92CCB-5E9F-4EA6-9DBF-A15D0FD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213E7-9EEF-4B22-A82E-F7A25FEB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D5CDF-8BEB-486F-92B1-EF85763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488AC-8B3D-4CA2-94DB-A0F0C6B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0436B-ACB1-4023-A67B-001A7A5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93B-3137-430D-B9CA-1E3EA42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E38BE-300A-4B5D-93DB-BC32311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EABE4-1851-4B19-B9C6-2B928BB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ED168-60E7-48B6-841D-4659D00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F6EE4-9FD0-4E7A-B568-E488DBD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2D5C8-EBE2-4EA3-963B-C67991E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5AFB3-C0A3-4BDC-9951-2D4B2B0A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77D46-D1E3-4D22-B22F-75A75DA1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A9AC-D4E9-48B4-B1EE-3EF15A7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BB0F-9662-404C-B2F0-D55371B6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DEE-05E5-4073-8EDA-B383C66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66F-740F-4342-8E63-D541E2D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8A4-5553-48CA-A697-C19831E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D34-F493-439C-B32F-B8CF2CB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D7A9-66E3-4DAB-AEC8-0ED06ED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51D2-9E34-4EBA-9419-6D0F278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6E53-A542-428A-857D-7730C4C5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436-B996-4CBA-BB1B-B5792A03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A9D6-E724-4838-A1B5-3DE12390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9A39-62B2-43ED-BE37-A0351622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014E-D1E3-4FEE-900F-62562367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C7A9-CF5E-48F3-819D-57133E1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4419-C598-4E56-AF6D-DEF1513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A84-3998-4F93-9E21-B382F6F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CC0A-29E9-4D7B-9BFE-2FC56D7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5CC6-452D-491E-8DF6-14960E6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A566-A0D6-4025-B8BD-8362023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B860-3ED3-49DE-8826-CAE3BFC1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F527-B85C-4DFB-A8E2-0C00041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1182-75BD-447B-8667-1E0E54E7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67E9-C435-4353-9BBE-AD65A778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BE59-0C70-4F06-9AD9-113D30B5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064B-7296-44B5-A73B-263BDE3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E622-0E17-48DF-934C-02ED7C68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276-CBA1-49DB-A78F-89F16C18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BB73-4109-4930-9934-139BB3F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96B2-CFED-48CB-B541-39179F9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5F12-8F81-495E-A86E-E63D5C3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ADE6-6857-4136-B878-9953A67C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4684-D8F7-4DB6-8356-BC33CAD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F835-3917-4C14-8DD5-14698B6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8F84-FF4F-4DDE-A0E0-75E43B10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FD61-1583-4DC7-A3D3-D6E8A557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6195-322C-449E-830A-F6DC99F3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E22D-F2D8-4322-8D92-4B5969B7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910-B066-4991-BE67-3A816CD1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131B-8B6E-4056-8E55-9803D244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B339-4A19-45D5-AF9F-3B4BB6DB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356D-816D-461B-BC0E-CFDE0E0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FD099-6AC9-48D9-9B30-C1C8E933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1DDF-19B2-4A34-BB25-6664A171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2EFA-B5DE-4781-BE68-C0EC0BDF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9748-B23D-4FA9-BEDA-CCEA887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2E43-0B0F-491E-BA3C-63238450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2F0C-9146-4E07-B301-5BD98D7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D458-872E-41F2-B71F-8C40FC8A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33B-D6B4-47D7-A73D-C3804D3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FFC9-25BF-451D-A227-C2BEFAE8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52C48-FABC-49B2-A6B6-06E0CD13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E22D-0AF9-4076-9760-888B5A3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3AE3-603D-48A7-95D6-E224357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90A3B-63FA-4299-9C20-D974F234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8799-473A-4BF0-A80A-BDC040B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3A637-6642-48A0-963D-2EC5812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9436-01E2-4755-8AD0-4E9A4D4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D4F4-7E32-420F-9157-13E220F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BA52-4A2B-489D-A3E9-06D052C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201-75A5-481B-8109-05685F5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1787-A3A6-4C9D-B472-6D9BC3B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5653-CFEA-40BF-8988-19FAC95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EA8C-7949-45C7-B1A1-144E3872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D739-85DB-4282-B319-7B584B75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36DE-827F-4197-8CE6-012F0080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C0E8-DB73-4B3C-B929-F6D567A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8BE9-B10F-4E30-B3AC-2782EAA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93CA-EB76-4102-A7B7-A09E331D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DF5A-E7D4-47E6-A3D1-4287A191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B9AF-1C19-42EE-A8D0-FD41A5F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961-8231-488F-B36D-E9F679D1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54A4-E9ED-4153-8200-C8993E7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E7BF-DDD3-4C78-90A1-CBC2553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CE08-8A2C-4E64-96C1-6154D49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FFB04-4032-441B-9012-ABC891EF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2C44E-C185-4EBA-A16D-8C488E89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E25E-A251-4750-B79C-997789C7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420D-45D7-4003-A52D-B5A9F1F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D9C6-43D2-4096-BC6E-6645EA0A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D0D01-220F-4468-9113-9674E89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005E-5620-497E-81F9-5753EA81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5A9-B627-48AD-8B35-EF98F7C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5FDE-FE32-4F6C-806D-EB3DB56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128FB-3C64-4804-8702-FDD3585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2F25-C9CC-45B0-9212-83D9573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40B1-B8A4-4C0B-B8A0-C6A5CFF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08A5-219C-4194-85AB-519305A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42E30-5535-4D1B-A15E-009959B8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7025-7D8B-42E2-9AB9-BBEA5F0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0D37-F1E0-42F3-852E-D07E6F08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954A-AD86-4D0E-BF0D-7749523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7AF93-D169-412F-94F3-DC5B7BC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A2A-58EE-4841-ACA5-C70A36A2DC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B16-AB53-4B13-B949-77831C30B1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842-BE57-4E04-8CFD-3E773E3907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99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6785-6D04-45CD-AEC2-4BC5955A3D09}" type="slidenum">
              <a:rPr b="0" lang="zh-CN" sz="1200" spc="-1" strike="noStrike">
                <a:solidFill>
                  <a:srgbClr val="6699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E88-A96D-4337-B36D-D9C332623F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B55-1F2B-40B9-A053-A6415D1BBC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F30-868D-4B95-B597-B3BF580FA3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99C-D8D0-42D0-A269-B1D5F31F25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76D-29D2-4E52-B562-11D8BBA110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699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C50-ED23-44BC-B022-9D95D672655D}" type="slidenum">
              <a:rPr b="0" lang="zh-CN" sz="1200" spc="-1" strike="noStrike">
                <a:solidFill>
                  <a:srgbClr val="6699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153-3805-44A3-8A13-016996BAE1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A69A-D33B-4DB1-A993-5E1886B4FF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173-DDCF-46CC-99A6-37B546914D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40723;&#25484;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187280" y="2060640"/>
            <a:ext cx="6913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日益富强的祖国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899640" y="2855880"/>
            <a:ext cx="7417080" cy="106056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现在，人们的生活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......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971640" y="6858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1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餐桌上的变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6"/>
          <p:cNvSpPr/>
          <p:nvPr/>
        </p:nvSpPr>
        <p:spPr>
          <a:xfrm>
            <a:off x="4140360" y="57340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7" descr="美食（1）"/>
          <p:cNvPicPr/>
          <p:nvPr/>
        </p:nvPicPr>
        <p:blipFill>
          <a:blip r:embed="rId1"/>
          <a:stretch/>
        </p:blipFill>
        <p:spPr>
          <a:xfrm>
            <a:off x="684360" y="2637000"/>
            <a:ext cx="3849480" cy="2887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8" descr="美食（2）"/>
          <p:cNvPicPr/>
          <p:nvPr/>
        </p:nvPicPr>
        <p:blipFill>
          <a:blip r:embed="rId2"/>
          <a:stretch/>
        </p:blipFill>
        <p:spPr>
          <a:xfrm>
            <a:off x="4643280" y="2637000"/>
            <a:ext cx="385128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4140360" y="57340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美食（3）"/>
          <p:cNvPicPr/>
          <p:nvPr/>
        </p:nvPicPr>
        <p:blipFill>
          <a:blip r:embed="rId1"/>
          <a:stretch/>
        </p:blipFill>
        <p:spPr>
          <a:xfrm>
            <a:off x="652320" y="2492280"/>
            <a:ext cx="3848400" cy="2886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8" descr="美食（4）"/>
          <p:cNvPicPr/>
          <p:nvPr/>
        </p:nvPicPr>
        <p:blipFill>
          <a:blip r:embed="rId2"/>
          <a:stretch/>
        </p:blipFill>
        <p:spPr>
          <a:xfrm>
            <a:off x="4645080" y="249228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1979640" y="558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7" descr="糕点"/>
          <p:cNvPicPr/>
          <p:nvPr/>
        </p:nvPicPr>
        <p:blipFill>
          <a:blip r:embed="rId1"/>
          <a:stretch/>
        </p:blipFill>
        <p:spPr>
          <a:xfrm>
            <a:off x="4643280" y="2449440"/>
            <a:ext cx="3994200" cy="2995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美食"/>
          <p:cNvPicPr/>
          <p:nvPr/>
        </p:nvPicPr>
        <p:blipFill>
          <a:blip r:embed="rId2"/>
          <a:stretch/>
        </p:blipFill>
        <p:spPr>
          <a:xfrm>
            <a:off x="684360" y="2421000"/>
            <a:ext cx="3865320" cy="30290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9"/>
          <p:cNvSpPr/>
          <p:nvPr/>
        </p:nvSpPr>
        <p:spPr>
          <a:xfrm>
            <a:off x="6012000" y="551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糕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1231745173"/>
          <p:cNvPicPr/>
          <p:nvPr/>
        </p:nvPicPr>
        <p:blipFill>
          <a:blip r:embed="rId1"/>
          <a:stretch/>
        </p:blipFill>
        <p:spPr>
          <a:xfrm>
            <a:off x="-345960" y="15840"/>
            <a:ext cx="94899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1"/>
          <p:cNvSpPr/>
          <p:nvPr/>
        </p:nvSpPr>
        <p:spPr>
          <a:xfrm>
            <a:off x="2340000" y="2635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1476360" y="838080"/>
            <a:ext cx="6696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中华人民共和国成立到现在，我们的祖国发生了翻天覆地的变化，从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贫穷落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一步步走向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繁荣富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1476360" y="1846440"/>
            <a:ext cx="669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中国用占全世界不到（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10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的耕地解决了占全世界约（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21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人口的吃饭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1"/>
          <p:cNvSpPr/>
          <p:nvPr/>
        </p:nvSpPr>
        <p:spPr>
          <a:xfrm>
            <a:off x="2052720" y="698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4"/>
          <p:cNvSpPr/>
          <p:nvPr/>
        </p:nvSpPr>
        <p:spPr>
          <a:xfrm>
            <a:off x="108000" y="765000"/>
            <a:ext cx="820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改革开放的总设计师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邓小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在（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年提出了改革开放的伟大构想。三十多年过去了，改革开放使中国发生了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巨大变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79280" y="3645000"/>
            <a:ext cx="820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改革开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使我国的生产力得到巨大的解放和发展，改革开放给农村带来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勃勃生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；改革开放给城市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注入活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，城市面貌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焕然一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1"/>
          <p:cNvSpPr/>
          <p:nvPr/>
        </p:nvSpPr>
        <p:spPr>
          <a:xfrm>
            <a:off x="2052720" y="698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4"/>
          <p:cNvSpPr/>
          <p:nvPr/>
        </p:nvSpPr>
        <p:spPr>
          <a:xfrm>
            <a:off x="684360" y="4149720"/>
            <a:ext cx="6408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988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年，国家有关部门提出了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“菜篮子工程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，建立了很多肉、蛋、奶、水产和蔬菜生产基地，保证居民一年四季都有新鲜菜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　　现在，我们的餐桌上不仅食物的品种多，还讲究营养和环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2052720" y="698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79280" y="1052640"/>
            <a:ext cx="640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吃上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安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营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卫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健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蔬菜，是现在许多老百姓的生活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5">
            <a:hlinkClick r:id="rId1"/>
          </p:cNvPr>
          <p:cNvSpPr/>
          <p:nvPr/>
        </p:nvSpPr>
        <p:spPr>
          <a:xfrm>
            <a:off x="7886880" y="69228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8434"/>
                </a:moveTo>
                <a:lnTo>
                  <a:pt x="8224" y="8434"/>
                </a:lnTo>
                <a:lnTo>
                  <a:pt x="12645" y="3821"/>
                </a:lnTo>
                <a:lnTo>
                  <a:pt x="12645" y="17834"/>
                </a:lnTo>
                <a:lnTo>
                  <a:pt x="8224" y="13221"/>
                </a:lnTo>
                <a:lnTo>
                  <a:pt x="3794" y="13221"/>
                </a:lnTo>
                <a:close/>
              </a:path>
              <a:path fill="darken" w="21600" h="21654">
                <a:moveTo>
                  <a:pt x="14299" y="10827"/>
                </a:moveTo>
                <a:lnTo>
                  <a:pt x="17806" y="10827"/>
                </a:lnTo>
              </a:path>
              <a:path fill="darken" w="21600" h="21654">
                <a:moveTo>
                  <a:pt x="14299" y="8434"/>
                </a:moveTo>
                <a:lnTo>
                  <a:pt x="17806" y="5666"/>
                </a:lnTo>
              </a:path>
              <a:path fill="darken" w="21600" h="21654">
                <a:moveTo>
                  <a:pt x="14299" y="13221"/>
                </a:moveTo>
                <a:lnTo>
                  <a:pt x="17806" y="15988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95280" y="2855880"/>
            <a:ext cx="8066160" cy="106200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过去，人们的生活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......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2052720" y="698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绿色蔬菜"/>
          <p:cNvPicPr/>
          <p:nvPr/>
        </p:nvPicPr>
        <p:blipFill>
          <a:blip r:embed="rId1"/>
          <a:stretch/>
        </p:blipFill>
        <p:spPr>
          <a:xfrm>
            <a:off x="611280" y="44280"/>
            <a:ext cx="2857320" cy="40579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3494880" y="2781360"/>
            <a:ext cx="4546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色蔬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超市（1）"/>
          <p:cNvPicPr/>
          <p:nvPr/>
        </p:nvPicPr>
        <p:blipFill>
          <a:blip r:embed="rId2"/>
          <a:stretch/>
        </p:blipFill>
        <p:spPr>
          <a:xfrm>
            <a:off x="3995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508720" y="2708280"/>
            <a:ext cx="863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超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6" descr="超市（2）"/>
          <p:cNvPicPr/>
          <p:nvPr/>
        </p:nvPicPr>
        <p:blipFill>
          <a:blip r:embed="rId3"/>
          <a:stretch/>
        </p:blipFill>
        <p:spPr>
          <a:xfrm>
            <a:off x="4356000" y="3141720"/>
            <a:ext cx="4033800" cy="26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3564000" y="5589720"/>
            <a:ext cx="22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农村集贸市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农村集贸市场"/>
          <p:cNvPicPr/>
          <p:nvPr/>
        </p:nvPicPr>
        <p:blipFill>
          <a:blip r:embed="rId1"/>
          <a:stretch/>
        </p:blipFill>
        <p:spPr>
          <a:xfrm>
            <a:off x="684360" y="2349360"/>
            <a:ext cx="3931920" cy="26020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农村集贸市场（1）"/>
          <p:cNvPicPr/>
          <p:nvPr/>
        </p:nvPicPr>
        <p:blipFill>
          <a:blip r:embed="rId2"/>
          <a:srcRect l="0" t="0" r="-29" b="0"/>
          <a:stretch/>
        </p:blipFill>
        <p:spPr>
          <a:xfrm>
            <a:off x="4788000" y="2349360"/>
            <a:ext cx="3816360" cy="26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466560" y="836640"/>
          <a:ext cx="8229600" cy="2071800"/>
        </p:xfrm>
        <a:graphic>
          <a:graphicData uri="http://schemas.openxmlformats.org/drawingml/2006/table">
            <a:tbl>
              <a:tblPr/>
              <a:tblGrid>
                <a:gridCol w="1438200"/>
                <a:gridCol w="2044800"/>
                <a:gridCol w="2325600"/>
                <a:gridCol w="2421000"/>
              </a:tblGrid>
              <a:tr h="40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爷爷奶奶小时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爸爸妈妈小时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现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宋体"/>
                          <a:ea typeface="宋体"/>
                        </a:rPr>
                        <a:t>平日的饭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窝头、咸菜、不够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粮、简单的菜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米、肉类、蔬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节日的饭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点简单的肉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些肉食、较少的大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丰盛的食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1" name="Text Box 46"/>
          <p:cNvSpPr/>
          <p:nvPr/>
        </p:nvSpPr>
        <p:spPr>
          <a:xfrm>
            <a:off x="3381480" y="260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餐桌上的小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7"/>
          <p:cNvSpPr/>
          <p:nvPr/>
        </p:nvSpPr>
        <p:spPr>
          <a:xfrm>
            <a:off x="1908000" y="4005360"/>
            <a:ext cx="6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8"/>
          <p:cNvSpPr/>
          <p:nvPr/>
        </p:nvSpPr>
        <p:spPr>
          <a:xfrm>
            <a:off x="4344480" y="3108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9"/>
          <p:cNvSpPr/>
          <p:nvPr/>
        </p:nvSpPr>
        <p:spPr>
          <a:xfrm>
            <a:off x="4344480" y="3246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0"/>
          <p:cNvSpPr/>
          <p:nvPr/>
        </p:nvSpPr>
        <p:spPr>
          <a:xfrm>
            <a:off x="36360" y="3286080"/>
            <a:ext cx="87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从餐桌上的变化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：从前，吃不饱，吃不好；现在，餐桌上不仅食物品种多，还讲究营养和环保，我们的生活水平越来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1"/>
          <p:cNvSpPr/>
          <p:nvPr/>
        </p:nvSpPr>
        <p:spPr>
          <a:xfrm>
            <a:off x="34920" y="4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2069280" y="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市场小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187280" y="765000"/>
          <a:ext cx="6595920" cy="2630520"/>
        </p:xfrm>
        <a:graphic>
          <a:graphicData uri="http://schemas.openxmlformats.org/drawingml/2006/table">
            <a:tbl>
              <a:tblPr/>
              <a:tblGrid>
                <a:gridCol w="2130480"/>
                <a:gridCol w="895320"/>
                <a:gridCol w="695160"/>
                <a:gridCol w="1111320"/>
                <a:gridCol w="747720"/>
                <a:gridCol w="1015920"/>
              </a:tblGrid>
              <a:tr h="83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蔬菜、水果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西红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黄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四季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香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草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原产月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在能买到的月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四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年四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四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年四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四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9" name="Text Box 67"/>
          <p:cNvSpPr/>
          <p:nvPr/>
        </p:nvSpPr>
        <p:spPr>
          <a:xfrm>
            <a:off x="108000" y="375588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为什么一年四季都能买到新鲜蔬菜、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答：随着科学技术的不断发展，蔬菜种植基地、水果种植基地广泛地兴办，这样就能一年四季都可以买到新鲜的蔬菜、水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0" y="4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</a:rPr>
              <a:t>虽然我们现在的生活水平越来越好，但是，我们更应该珍惜劳动者的劳动成果。我们要——</a:t>
            </a:r>
            <a:endParaRPr b="0" lang="en-US" sz="4000" spc="-1" strike="noStrike">
              <a:solidFill>
                <a:srgbClr val="6699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ff00ff"/>
                </a:solidFill>
                <a:latin typeface="Calibri"/>
              </a:rPr>
              <a:t>厉行节约      反对浪费</a:t>
            </a:r>
            <a:endParaRPr b="0" lang="en-US" sz="4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179280" y="4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kz"/>
          <p:cNvPicPr/>
          <p:nvPr/>
        </p:nvPicPr>
        <p:blipFill>
          <a:blip r:embed="rId1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500x315_11e67023f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200981415342789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15"/>
          <p:cNvPicPr/>
          <p:nvPr/>
        </p:nvPicPr>
        <p:blipFill>
          <a:blip r:embed="rId2"/>
          <a:stretch/>
        </p:blipFill>
        <p:spPr>
          <a:xfrm>
            <a:off x="4599000" y="0"/>
            <a:ext cx="454500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1170411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8196"/>
          <p:cNvSpPr/>
          <p:nvPr/>
        </p:nvSpPr>
        <p:spPr>
          <a:xfrm>
            <a:off x="1770120" y="6202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013000002802091226751321899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吃啥没啥"/>
          <p:cNvPicPr/>
          <p:nvPr/>
        </p:nvPicPr>
        <p:blipFill>
          <a:blip r:embed="rId1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2026042_125835039_2"/>
          <p:cNvPicPr/>
          <p:nvPr/>
        </p:nvPicPr>
        <p:blipFill>
          <a:blip r:embed="rId1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587268previe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W0200811285278006325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201102170946561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1721-1103040T05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2007071511073114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600200"/>
            <a:ext cx="8229600" cy="22622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（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衣、食、住、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是我们最基本的生存需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539640" y="4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57200" y="1600200"/>
            <a:ext cx="8229600" cy="20462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中国工程院院士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袁隆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被称为（“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杂交水稻之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900000" y="18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餐桌上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08000" y="5493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找出教材中《一位老人的日记》里带“洋”字头的物品名称，讨论：它们现在叫什么名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66560" y="1844640"/>
          <a:ext cx="5823000" cy="4527720"/>
        </p:xfrm>
        <a:graphic>
          <a:graphicData uri="http://schemas.openxmlformats.org/drawingml/2006/table">
            <a:tbl>
              <a:tblPr/>
              <a:tblGrid>
                <a:gridCol w="790560"/>
                <a:gridCol w="2976480"/>
                <a:gridCol w="205596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带“洋”字头的物品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现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匣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音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火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煤油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机器织的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胰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香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洋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轮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羊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煤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4" name="Text Box 97"/>
          <p:cNvSpPr/>
          <p:nvPr/>
        </p:nvSpPr>
        <p:spPr>
          <a:xfrm>
            <a:off x="602640" y="8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从无到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57200" y="126972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“国富则民强，国破则家亡。”没有祖国的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兴旺发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哪有我们的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幸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和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前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今天，我们为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振兴中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而努力学习，打好全面基础，每天，我们将为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中华腾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尽责效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824760" y="20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中国的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百姓餐桌变迁史 - 晓慧 - 晓慧的博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6656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补充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007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日，中国首个月球探测器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“嫦娥一号”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在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西昌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发射成功。中国成为世界上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第五个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发射月球探测器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0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日，中国探月二期工程先导星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“嫦娥二号”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在西昌点火升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565920" y="117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中国的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F3BD-2AA0-4E84-82EC-1ACBE622BE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57200" y="620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神舟系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日，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“神舟六号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载人飞船成功发射，将我国航天员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费俊龙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聂海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送入太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008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日，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“神舟七号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载人飞船成功发射，将我国航天员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翟志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刘伯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景海鹏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送入太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01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日，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“神舟八号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改造型载人飞船成功发射，圆满完成与“天宫一号”交会对接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日，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“神舟九号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载人飞船成功发射，将我国航天员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景海鹏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刘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刘洋（女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送入太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565920" y="4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中国的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有啥吃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百姓餐桌变迁史 - 晓慧 - 晓慧的博客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041"/>
          <p:cNvSpPr/>
          <p:nvPr/>
        </p:nvSpPr>
        <p:spPr>
          <a:xfrm>
            <a:off x="6034680" y="5661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咸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42"/>
          <p:cNvSpPr/>
          <p:nvPr/>
        </p:nvSpPr>
        <p:spPr>
          <a:xfrm>
            <a:off x="2505600" y="5661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窝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49" descr="窝头"/>
          <p:cNvPicPr/>
          <p:nvPr/>
        </p:nvPicPr>
        <p:blipFill>
          <a:blip r:embed="rId1"/>
          <a:stretch/>
        </p:blipFill>
        <p:spPr>
          <a:xfrm>
            <a:off x="900000" y="2598840"/>
            <a:ext cx="3959280" cy="29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50" descr="咸菜"/>
          <p:cNvPicPr/>
          <p:nvPr/>
        </p:nvPicPr>
        <p:blipFill>
          <a:blip r:embed="rId2"/>
          <a:srcRect l="0" t="0" r="-1385" b="-23"/>
          <a:stretch/>
        </p:blipFill>
        <p:spPr>
          <a:xfrm>
            <a:off x="4923000" y="1844640"/>
            <a:ext cx="3394080" cy="37512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8"/>
          <p:cNvSpPr/>
          <p:nvPr/>
        </p:nvSpPr>
        <p:spPr>
          <a:xfrm>
            <a:off x="612720" y="3571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餐桌上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9"/>
          <p:cNvSpPr/>
          <p:nvPr/>
        </p:nvSpPr>
        <p:spPr>
          <a:xfrm>
            <a:off x="4428360" y="61088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蕨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3" descr="野菜  撅"/>
          <p:cNvPicPr/>
          <p:nvPr/>
        </p:nvPicPr>
        <p:blipFill>
          <a:blip r:embed="rId1"/>
          <a:stretch/>
        </p:blipFill>
        <p:spPr>
          <a:xfrm>
            <a:off x="2268360" y="2492280"/>
            <a:ext cx="4746960" cy="35593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8"/>
          <p:cNvSpPr/>
          <p:nvPr/>
        </p:nvSpPr>
        <p:spPr>
          <a:xfrm>
            <a:off x="612720" y="3571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餐桌上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8196"/>
          <p:cNvSpPr/>
          <p:nvPr/>
        </p:nvSpPr>
        <p:spPr>
          <a:xfrm>
            <a:off x="1160640" y="14796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6"/>
          <p:cNvSpPr/>
          <p:nvPr/>
        </p:nvSpPr>
        <p:spPr>
          <a:xfrm>
            <a:off x="2223000" y="5877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12720" y="3571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餐桌上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6036840" y="5805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南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0" descr="红薯"/>
          <p:cNvPicPr/>
          <p:nvPr/>
        </p:nvPicPr>
        <p:blipFill>
          <a:blip r:embed="rId1"/>
          <a:stretch/>
        </p:blipFill>
        <p:spPr>
          <a:xfrm>
            <a:off x="971640" y="227664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南瓜"/>
          <p:cNvPicPr/>
          <p:nvPr/>
        </p:nvPicPr>
        <p:blipFill>
          <a:blip r:embed="rId2"/>
          <a:stretch/>
        </p:blipFill>
        <p:spPr>
          <a:xfrm>
            <a:off x="4630680" y="2205000"/>
            <a:ext cx="368640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0:44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57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