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6.jpeg" ContentType="image/jpeg"/>
  <Override PartName="/ppt/media/image24.gif" ContentType="image/gif"/>
  <Override PartName="/ppt/media/image23.jpeg" ContentType="image/jpeg"/>
  <Override PartName="/ppt/media/image21.gif" ContentType="image/gif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5.jpeg" ContentType="image/jpeg"/>
  <Override PartName="/ppt/media/image20.gif" ContentType="image/gif"/>
  <Override PartName="/ppt/media/image13.jpeg" ContentType="image/jpeg"/>
  <Override PartName="/ppt/media/image40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16.jpeg" ContentType="image/jpeg"/>
  <Override PartName="/ppt/media/image39.gif" ContentType="image/gif"/>
  <Override PartName="/ppt/media/image10.gif" ContentType="image/gif"/>
  <Override PartName="/ppt/media/projctor.wav" ContentType="audio/x-wav"/>
  <Override PartName="/ppt/media/image37.jpeg" ContentType="image/jpeg"/>
  <Override PartName="/ppt/media/image30.png" ContentType="image/png"/>
  <Override PartName="/ppt/media/image45.gif" ContentType="image/gif"/>
  <Override PartName="/ppt/media/image8.jpeg" ContentType="image/jpeg"/>
  <Override PartName="/ppt/media/image31.png" ContentType="image/png"/>
  <Override PartName="/ppt/media/image36.jpeg" ContentType="image/jpeg"/>
  <Override PartName="/ppt/media/image11.gif" ContentType="image/gif"/>
  <Override PartName="/ppt/media/image43.jpeg" ContentType="image/jpeg"/>
  <Override PartName="/ppt/media/image12.jpeg" ContentType="image/jpeg"/>
  <Override PartName="/ppt/media/image41.gif" ContentType="image/gif"/>
  <Override PartName="/ppt/media/image46.jpeg" ContentType="image/jpeg"/>
  <Override PartName="/ppt/media/image38.gif" ContentType="image/gif"/>
  <Override PartName="/ppt/media/image48.jpeg" ContentType="image/jpeg"/>
  <Override PartName="/ppt/media/image44.gif" ContentType="image/gif"/>
  <Override PartName="/ppt/media/image7.png" ContentType="image/png"/>
  <Override PartName="/ppt/media/image34.gif" ContentType="image/gif"/>
  <Override PartName="/ppt/media/image4.gif" ContentType="image/gif"/>
  <Override PartName="/ppt/media/image35.jpeg" ContentType="image/jpeg"/>
  <Override PartName="/ppt/media/image47.png" ContentType="image/png"/>
  <Override PartName="/ppt/media/image1.jpeg" ContentType="image/jpeg"/>
  <Override PartName="/ppt/media/image22.jpeg" ContentType="image/jpeg"/>
  <Override PartName="/ppt/media/image5.gif" ContentType="image/gif"/>
  <Override PartName="/ppt/media/image14.jpeg" ContentType="image/jpeg"/>
  <Override PartName="/ppt/media/image25.gif" ContentType="image/gif"/>
  <Override PartName="/ppt/media/image6.jpeg" ContentType="image/jpeg"/>
  <Override PartName="/ppt/media/image29.png" ContentType="image/png"/>
  <Override PartName="/ppt/media/chimes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A63-C173-466B-AA2F-A3C3B024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70C-EF43-457C-BC31-E7CE2382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522-97D8-4153-9B63-15086E61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218-9D5D-460F-81CB-700E91C7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C148-AF8D-461D-9DB7-50B05000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771C-5F93-44E7-8844-0E9AD301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34E7-6EC5-47F0-BBAD-4A0F0DAC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9AB3-6072-4329-82C5-3A407980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38CE-D218-4872-8BF5-3ADC3184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1952-AE3A-4641-A472-DF4D710E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1CCA-45FD-4350-921E-BB4A2012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D2D-CEDD-4146-8EF2-02EA5AE8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127A-658A-4296-B363-AD9297A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650E-C60B-42BC-A7B9-225D967D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BDC5-988B-42BF-8B45-B47FDC3A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2B69-620A-4B17-8A2D-96CFC500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E4A1-2CB1-421E-A5F7-16C5FB7E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4BA2-8390-41EE-9E68-2B0C365D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503A-17DF-4514-8C83-9ABF4CC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F291-4C1C-453B-81FD-08C3BD6D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743B-840D-4380-BE3C-0E50DA9E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DED4-1175-4E15-91AB-78795BA2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32D-79BB-47CB-B894-F1A2640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C207-B88C-44B0-8B4F-4CA6523A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DD2D-B348-426E-89EC-0BB98F5B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17D3-C902-4A55-B930-42696162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F11C-FD43-4BDD-B396-0FFDAC85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44AD-6601-49AE-9835-DBEDF0FE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422B-7C6D-4859-93D2-A50B72ED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A627-2C47-424B-8AB1-1CDE78F5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977-83ED-46CA-80B7-C0C85CF8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3E6-22B5-4FB8-9BC2-BBA47E72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455-1C74-422D-A573-0101A596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C32-418E-4A35-B992-C6E4367F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A7A-2E7A-4BE0-8426-4F079062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7DE-72F8-4E99-8CF6-AE783E30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216D-6FE3-48F6-8B9E-B9318EC1790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45C5-5539-4D63-854E-1FA8488968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C761-250B-4E04-9D5B-DA76119A67F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ac1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560" y="765000"/>
            <a:ext cx="702144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3d7a"/>
                </a:solidFill>
                <a:latin typeface="微软雅黑"/>
                <a:ea typeface="微软雅黑"/>
              </a:rPr>
              <a:t>第九课  保护自我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9640" y="48690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684360" y="566100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8406"/>
                </a:moveTo>
                <a:lnTo>
                  <a:pt x="20786" y="8406"/>
                </a:lnTo>
                <a:lnTo>
                  <a:pt x="25208" y="3794"/>
                </a:lnTo>
                <a:lnTo>
                  <a:pt x="25208" y="17806"/>
                </a:lnTo>
                <a:lnTo>
                  <a:pt x="20786" y="13194"/>
                </a:lnTo>
                <a:lnTo>
                  <a:pt x="16356" y="13194"/>
                </a:lnTo>
                <a:close/>
              </a:path>
              <a:path fill="darken" w="46725" h="21600">
                <a:moveTo>
                  <a:pt x="26861" y="10800"/>
                </a:moveTo>
                <a:lnTo>
                  <a:pt x="30369" y="10800"/>
                </a:lnTo>
              </a:path>
              <a:path fill="darken" w="46725" h="21600">
                <a:moveTo>
                  <a:pt x="26861" y="8406"/>
                </a:moveTo>
                <a:lnTo>
                  <a:pt x="30369" y="5639"/>
                </a:lnTo>
              </a:path>
              <a:path fill="darken" w="46725" h="21600">
                <a:moveTo>
                  <a:pt x="26861" y="13194"/>
                </a:moveTo>
                <a:lnTo>
                  <a:pt x="30369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539640" y="5373720"/>
            <a:ext cx="1152720" cy="934920"/>
          </a:xfrm>
          <a:custGeom>
            <a:avLst/>
            <a:gdLst>
              <a:gd name="textAreaLeft" fmla="*/ 60480 w 1152720"/>
              <a:gd name="textAreaRight" fmla="*/ 1092240 w 1152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6630" h="21600">
                <a:moveTo>
                  <a:pt x="0" y="0"/>
                </a:moveTo>
                <a:lnTo>
                  <a:pt x="26630" y="0"/>
                </a:lnTo>
                <a:lnTo>
                  <a:pt x="26630" y="21600"/>
                </a:lnTo>
                <a:lnTo>
                  <a:pt x="0" y="21600"/>
                </a:lnTo>
                <a:close/>
              </a:path>
              <a:path fill="lightenLess" w="26630" h="21600">
                <a:moveTo>
                  <a:pt x="0" y="0"/>
                </a:moveTo>
                <a:lnTo>
                  <a:pt x="26630" y="0"/>
                </a:lnTo>
                <a:lnTo>
                  <a:pt x="25230" y="1400"/>
                </a:lnTo>
                <a:lnTo>
                  <a:pt x="1400" y="1400"/>
                </a:lnTo>
                <a:close/>
              </a:path>
              <a:path fill="darken" w="26630" h="21600">
                <a:moveTo>
                  <a:pt x="26630" y="0"/>
                </a:moveTo>
                <a:lnTo>
                  <a:pt x="26630" y="21600"/>
                </a:lnTo>
                <a:lnTo>
                  <a:pt x="25230" y="20200"/>
                </a:lnTo>
                <a:lnTo>
                  <a:pt x="25230" y="1400"/>
                </a:lnTo>
                <a:close/>
              </a:path>
              <a:path fill="darkenLess" w="26630" h="21600">
                <a:moveTo>
                  <a:pt x="26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0" y="20200"/>
                </a:lnTo>
                <a:close/>
              </a:path>
              <a:path fill="lighten" w="26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0" h="21600">
                <a:moveTo>
                  <a:pt x="6309" y="8406"/>
                </a:moveTo>
                <a:lnTo>
                  <a:pt x="10739" y="8406"/>
                </a:lnTo>
                <a:lnTo>
                  <a:pt x="15160" y="3794"/>
                </a:lnTo>
                <a:lnTo>
                  <a:pt x="15160" y="17806"/>
                </a:lnTo>
                <a:lnTo>
                  <a:pt x="10739" y="13194"/>
                </a:lnTo>
                <a:lnTo>
                  <a:pt x="6309" y="13194"/>
                </a:lnTo>
                <a:close/>
              </a:path>
              <a:path fill="darken" w="26630" h="21600">
                <a:moveTo>
                  <a:pt x="16814" y="10800"/>
                </a:moveTo>
                <a:lnTo>
                  <a:pt x="20321" y="10800"/>
                </a:lnTo>
              </a:path>
              <a:path fill="darken" w="26630" h="21600">
                <a:moveTo>
                  <a:pt x="16814" y="8406"/>
                </a:moveTo>
                <a:lnTo>
                  <a:pt x="20321" y="5639"/>
                </a:lnTo>
              </a:path>
              <a:path fill="darken" w="26630" h="21600">
                <a:moveTo>
                  <a:pt x="16814" y="13194"/>
                </a:moveTo>
                <a:lnTo>
                  <a:pt x="20321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39640" y="508464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AutoShape 15">
            <a:hlinkClick r:id="" action="ppaction://hlinkshowjump?jump=nextslide"/>
          </p:cNvPr>
          <p:cNvSpPr/>
          <p:nvPr/>
        </p:nvSpPr>
        <p:spPr>
          <a:xfrm>
            <a:off x="1116000" y="5805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1658160" y="2492280"/>
            <a:ext cx="56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宋体"/>
              </a:rPr>
              <a:t>身边的侵害与保护课件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家庭环境"/>
          <p:cNvPicPr/>
          <p:nvPr/>
        </p:nvPicPr>
        <p:blipFill>
          <a:blip r:embed="rId2"/>
          <a:stretch/>
        </p:blipFill>
        <p:spPr>
          <a:xfrm>
            <a:off x="304920" y="0"/>
            <a:ext cx="3962160" cy="288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劣父教子"/>
          <p:cNvPicPr/>
          <p:nvPr/>
        </p:nvPicPr>
        <p:blipFill>
          <a:blip r:embed="rId3"/>
          <a:stretch/>
        </p:blipFill>
        <p:spPr>
          <a:xfrm>
            <a:off x="4419720" y="1828800"/>
            <a:ext cx="4724280" cy="3359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三缺一，凑个手"/>
          <p:cNvPicPr/>
          <p:nvPr/>
        </p:nvPicPr>
        <p:blipFill>
          <a:blip r:embed="rId4"/>
          <a:stretch/>
        </p:blipFill>
        <p:spPr>
          <a:xfrm>
            <a:off x="304920" y="3863880"/>
            <a:ext cx="3962160" cy="29941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990720" y="3124080"/>
            <a:ext cx="2514600" cy="52056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0ae6a"/>
                </a:solidFill>
                <a:latin typeface="Times New Roman"/>
                <a:ea typeface="华文楷体"/>
              </a:rPr>
              <a:t>家庭环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572000" y="5943600"/>
            <a:ext cx="3200400" cy="52056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华文楷体"/>
              </a:rPr>
              <a:t>三缺一，凑个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1066680"/>
            <a:ext cx="2438280" cy="52056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楷体"/>
              </a:rPr>
              <a:t>劣父教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611280" y="162864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问：这些侵害来自哪方面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592360" y="3789360"/>
            <a:ext cx="41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8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家庭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9" name="Picture 4" descr="006"/>
          <p:cNvPicPr/>
          <p:nvPr/>
        </p:nvPicPr>
        <p:blipFill>
          <a:blip r:embed="rId1"/>
          <a:stretch/>
        </p:blipFill>
        <p:spPr>
          <a:xfrm>
            <a:off x="1692360" y="405936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006"/>
          <p:cNvPicPr/>
          <p:nvPr/>
        </p:nvPicPr>
        <p:blipFill>
          <a:blip r:embed="rId2"/>
          <a:stretch/>
        </p:blipFill>
        <p:spPr>
          <a:xfrm>
            <a:off x="297000" y="5030640"/>
            <a:ext cx="1800000" cy="155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02"/>
          <p:cNvPicPr/>
          <p:nvPr/>
        </p:nvPicPr>
        <p:blipFill>
          <a:blip r:embed="rId3"/>
          <a:stretch/>
        </p:blipFill>
        <p:spPr>
          <a:xfrm>
            <a:off x="6686640" y="4194000"/>
            <a:ext cx="18907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邵阳一中学6间危房挤进500名学生1"/>
          <p:cNvPicPr/>
          <p:nvPr/>
        </p:nvPicPr>
        <p:blipFill>
          <a:blip r:embed="rId1"/>
          <a:stretch/>
        </p:blipFill>
        <p:spPr>
          <a:xfrm>
            <a:off x="4114800" y="3544920"/>
            <a:ext cx="5029200" cy="3084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6019920" y="914400"/>
            <a:ext cx="2332080" cy="119124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华文楷体"/>
              </a:rPr>
              <a:t>学校房舍坍塌造成学生人员伤亡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85920" y="4495680"/>
            <a:ext cx="3376440" cy="119124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邵阳一中学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间危房挤进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500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名学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5" name="Picture 6" descr="U41P4T8D1448419F107DT20081113150502"/>
          <p:cNvPicPr/>
          <p:nvPr/>
        </p:nvPicPr>
        <p:blipFill>
          <a:blip r:embed="rId2"/>
          <a:stretch/>
        </p:blipFill>
        <p:spPr>
          <a:xfrm>
            <a:off x="395280" y="333360"/>
            <a:ext cx="4635360" cy="3113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8199"/>
          <p:cNvSpPr/>
          <p:nvPr/>
        </p:nvSpPr>
        <p:spPr>
          <a:xfrm>
            <a:off x="79200" y="3803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150920" y="1494000"/>
            <a:ext cx="65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问：这些侵害来自哪个方面？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322360" y="3924360"/>
            <a:ext cx="450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8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学校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9" name="Picture 4" descr="006"/>
          <p:cNvPicPr/>
          <p:nvPr/>
        </p:nvPicPr>
        <p:blipFill>
          <a:blip r:embed="rId1"/>
          <a:stretch/>
        </p:blipFill>
        <p:spPr>
          <a:xfrm>
            <a:off x="1511280" y="4194000"/>
            <a:ext cx="45720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tree01"/>
          <p:cNvPicPr/>
          <p:nvPr/>
        </p:nvPicPr>
        <p:blipFill>
          <a:blip r:embed="rId2"/>
          <a:stretch/>
        </p:blipFill>
        <p:spPr>
          <a:xfrm>
            <a:off x="6066000" y="3159000"/>
            <a:ext cx="3078000" cy="369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gif002"/>
          <p:cNvPicPr/>
          <p:nvPr/>
        </p:nvPicPr>
        <p:blipFill>
          <a:blip r:embed="rId3"/>
          <a:stretch/>
        </p:blipFill>
        <p:spPr>
          <a:xfrm>
            <a:off x="0" y="0"/>
            <a:ext cx="39416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1124_30_5675"/>
          <p:cNvPicPr/>
          <p:nvPr/>
        </p:nvPicPr>
        <p:blipFill>
          <a:blip r:embed="rId2"/>
          <a:stretch/>
        </p:blipFill>
        <p:spPr>
          <a:xfrm>
            <a:off x="395280" y="0"/>
            <a:ext cx="8353440" cy="6093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681120" y="6140520"/>
            <a:ext cx="8462880" cy="70344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接纳未成年人的黑网吧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600200" y="15238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问：这是哪种侵害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322360" y="32940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社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6" name="Picture 4" descr="006"/>
          <p:cNvPicPr/>
          <p:nvPr/>
        </p:nvPicPr>
        <p:blipFill>
          <a:blip r:embed="rId1"/>
          <a:stretch/>
        </p:blipFill>
        <p:spPr>
          <a:xfrm>
            <a:off x="1692360" y="3429000"/>
            <a:ext cx="457200" cy="444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gif0211"/>
          <p:cNvPicPr/>
          <p:nvPr/>
        </p:nvPicPr>
        <p:blipFill>
          <a:blip r:embed="rId2"/>
          <a:stretch/>
        </p:blipFill>
        <p:spPr>
          <a:xfrm>
            <a:off x="173160" y="4235400"/>
            <a:ext cx="3633840" cy="2475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aoSc4_160_20052494648797"/>
          <p:cNvPicPr/>
          <p:nvPr/>
        </p:nvPicPr>
        <p:blipFill>
          <a:blip r:embed="rId3"/>
          <a:stretch/>
        </p:blipFill>
        <p:spPr>
          <a:xfrm>
            <a:off x="6597720" y="4959360"/>
            <a:ext cx="20700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2004413101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/>
          <p:cNvSpPr/>
          <p:nvPr/>
        </p:nvSpPr>
        <p:spPr>
          <a:xfrm>
            <a:off x="4952880" y="0"/>
            <a:ext cx="3657600" cy="1600200"/>
          </a:xfrm>
          <a:prstGeom prst="horizontalScroll">
            <a:avLst>
              <a:gd name="adj" fmla="val 12500"/>
            </a:avLst>
          </a:prstGeom>
          <a:solidFill>
            <a:srgbClr val="c9ddf1"/>
          </a:solidFill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181480" y="304920"/>
            <a:ext cx="3276720" cy="91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开动脑筋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457200" y="2895480"/>
            <a:ext cx="8305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青少年为何会受到这些侵害呢？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3" name="Picture 6" descr="问号女孩"/>
          <p:cNvPicPr/>
          <p:nvPr/>
        </p:nvPicPr>
        <p:blipFill>
          <a:blip r:embed="rId2"/>
          <a:stretch/>
        </p:blipFill>
        <p:spPr>
          <a:xfrm>
            <a:off x="1295280" y="380880"/>
            <a:ext cx="22100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2004413101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2914920" y="365760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、社会生活环境复杂多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09480" y="3808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b5249"/>
                </a:solidFill>
                <a:latin typeface="Times New Roman"/>
                <a:ea typeface="隶书"/>
              </a:rPr>
              <a:t>青少年受到侵害的原因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6002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、社会阅历少、生活经验不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28600" y="2666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、各方面都很不成熟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9144000" cy="5532840"/>
              <a:chOff x="0" y="0"/>
              <a:chExt cx="9144000" cy="5532840"/>
            </a:xfrm>
          </p:grpSpPr>
          <p:pic>
            <p:nvPicPr>
              <p:cNvPr id="241" name="Picture 4" descr="bj-205"/>
              <p:cNvPicPr/>
              <p:nvPr/>
            </p:nvPicPr>
            <p:blipFill>
              <a:blip r:embed="rId1"/>
              <a:stretch/>
            </p:blipFill>
            <p:spPr>
              <a:xfrm>
                <a:off x="0" y="2742840"/>
                <a:ext cx="9144000" cy="14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5" descr="bj-205"/>
              <p:cNvPicPr/>
              <p:nvPr/>
            </p:nvPicPr>
            <p:blipFill>
              <a:blip r:embed="rId2"/>
              <a:stretch/>
            </p:blipFill>
            <p:spPr>
              <a:xfrm>
                <a:off x="0" y="1371240"/>
                <a:ext cx="9144000" cy="14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6" descr="bj-205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14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7" descr="bj-205"/>
              <p:cNvPicPr/>
              <p:nvPr/>
            </p:nvPicPr>
            <p:blipFill>
              <a:blip r:embed="rId4"/>
              <a:stretch/>
            </p:blipFill>
            <p:spPr>
              <a:xfrm>
                <a:off x="0" y="4114080"/>
                <a:ext cx="9144000" cy="1418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5" name="Picture 8" descr="bj-205"/>
            <p:cNvPicPr/>
            <p:nvPr/>
          </p:nvPicPr>
          <p:blipFill>
            <a:blip r:embed="rId5"/>
            <a:stretch/>
          </p:blipFill>
          <p:spPr>
            <a:xfrm>
              <a:off x="0" y="5438520"/>
              <a:ext cx="9144000" cy="141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9" descr="问号女孩"/>
          <p:cNvPicPr/>
          <p:nvPr/>
        </p:nvPicPr>
        <p:blipFill>
          <a:blip r:embed="rId6"/>
          <a:stretch/>
        </p:blipFill>
        <p:spPr>
          <a:xfrm>
            <a:off x="5791320" y="228600"/>
            <a:ext cx="1638360" cy="1600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问号女孩"/>
          <p:cNvPicPr/>
          <p:nvPr/>
        </p:nvPicPr>
        <p:blipFill>
          <a:blip r:embed="rId7"/>
          <a:stretch/>
        </p:blipFill>
        <p:spPr>
          <a:xfrm>
            <a:off x="3886200" y="1066680"/>
            <a:ext cx="114300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1"/>
          <p:cNvSpPr/>
          <p:nvPr/>
        </p:nvSpPr>
        <p:spPr>
          <a:xfrm>
            <a:off x="1219320" y="2286000"/>
            <a:ext cx="73152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思考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结合你们的所见所      闻，说说以上所有这些侵害给青少年带来什么</a:t>
            </a:r>
            <a:r>
              <a:rPr b="1" i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影响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2268360" y="476280"/>
            <a:ext cx="3810240" cy="12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产生的影响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838080" y="1828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对青少年身体健康产生危害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38080" y="28195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青少年的心理、精神产生严重影响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838080" y="4114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影响了青少年的进步与发展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3" name="Picture 6" descr="花边1"/>
          <p:cNvPicPr/>
          <p:nvPr/>
        </p:nvPicPr>
        <p:blipFill>
          <a:blip r:embed="rId1"/>
          <a:stretch/>
        </p:blipFill>
        <p:spPr>
          <a:xfrm>
            <a:off x="762120" y="304920"/>
            <a:ext cx="8381880" cy="30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花边1"/>
          <p:cNvPicPr/>
          <p:nvPr/>
        </p:nvPicPr>
        <p:blipFill>
          <a:blip r:embed="rId2"/>
          <a:stretch/>
        </p:blipFill>
        <p:spPr>
          <a:xfrm>
            <a:off x="533520" y="6553080"/>
            <a:ext cx="838188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t"/>
          <p:cNvPicPr/>
          <p:nvPr/>
        </p:nvPicPr>
        <p:blipFill>
          <a:blip r:embed="rId3"/>
          <a:stretch/>
        </p:blipFill>
        <p:spPr>
          <a:xfrm>
            <a:off x="7772400" y="5257800"/>
            <a:ext cx="1371600" cy="1285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9"/>
          <p:cNvSpPr/>
          <p:nvPr/>
        </p:nvSpPr>
        <p:spPr>
          <a:xfrm>
            <a:off x="838080" y="51055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侵犯了青少年的合法权益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484360" y="68580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本课主要内容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76360" y="1989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身边的侵害形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403280" y="27813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青少年受到侵害的原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23880" y="43434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身边存在的保护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447920" y="5181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防范侵害，保护自己的途径与方法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7" descr="20058995951"/>
          <p:cNvPicPr/>
          <p:nvPr/>
        </p:nvPicPr>
        <p:blipFill>
          <a:blip r:embed="rId1"/>
          <a:stretch/>
        </p:blipFill>
        <p:spPr>
          <a:xfrm>
            <a:off x="304920" y="7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20058995951"/>
          <p:cNvPicPr/>
          <p:nvPr/>
        </p:nvPicPr>
        <p:blipFill>
          <a:blip r:embed="rId2"/>
          <a:stretch/>
        </p:blipFill>
        <p:spPr>
          <a:xfrm>
            <a:off x="7238880" y="6858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006"/>
          <p:cNvPicPr/>
          <p:nvPr/>
        </p:nvPicPr>
        <p:blipFill>
          <a:blip r:embed="rId3"/>
          <a:stretch/>
        </p:blipFill>
        <p:spPr>
          <a:xfrm>
            <a:off x="971640" y="213372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006"/>
          <p:cNvPicPr/>
          <p:nvPr/>
        </p:nvPicPr>
        <p:blipFill>
          <a:blip r:embed="rId4"/>
          <a:stretch/>
        </p:blipFill>
        <p:spPr>
          <a:xfrm>
            <a:off x="990720" y="533412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006"/>
          <p:cNvPicPr/>
          <p:nvPr/>
        </p:nvPicPr>
        <p:blipFill>
          <a:blip r:embed="rId5"/>
          <a:stretch/>
        </p:blipFill>
        <p:spPr>
          <a:xfrm>
            <a:off x="971640" y="4437000"/>
            <a:ext cx="457200" cy="44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006"/>
          <p:cNvPicPr/>
          <p:nvPr/>
        </p:nvPicPr>
        <p:blipFill>
          <a:blip r:embed="rId6"/>
          <a:stretch/>
        </p:blipFill>
        <p:spPr>
          <a:xfrm>
            <a:off x="971640" y="292428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006"/>
          <p:cNvPicPr/>
          <p:nvPr/>
        </p:nvPicPr>
        <p:blipFill>
          <a:blip r:embed="rId7"/>
          <a:stretch/>
        </p:blipFill>
        <p:spPr>
          <a:xfrm>
            <a:off x="971640" y="371628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1403280" y="3573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身边的侵害对青少年的影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209680" y="304920"/>
            <a:ext cx="4648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身 边 的 保 护</a:t>
            </a:r>
            <a:endParaRPr b="1" lang="en-US" sz="5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18288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24000" y="1484280"/>
            <a:ext cx="8540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家庭保护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父母或其他监护人依法履行对未成年人的抚养、监护和教育的义务及其职责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学校保护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尊重学生人格尊严；保护学生人身安全、健康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社会保护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政府创办学校；禁止未成年人进入营业性舞厅、网吧；禁止童工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司法保护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设立少年法庭；尊重违法犯罪未成年人的人格尊严；保护未成年人的合法权益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0" name="Picture 5" descr="会动的小花4"/>
          <p:cNvPicPr/>
          <p:nvPr/>
        </p:nvPicPr>
        <p:blipFill>
          <a:blip r:embed="rId1"/>
          <a:stretch/>
        </p:blipFill>
        <p:spPr>
          <a:xfrm>
            <a:off x="7772400" y="609480"/>
            <a:ext cx="985680" cy="739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会动的小花4"/>
          <p:cNvPicPr/>
          <p:nvPr/>
        </p:nvPicPr>
        <p:blipFill>
          <a:blip r:embed="rId2"/>
          <a:stretch/>
        </p:blipFill>
        <p:spPr>
          <a:xfrm>
            <a:off x="609480" y="45720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会动的小花4"/>
          <p:cNvPicPr/>
          <p:nvPr/>
        </p:nvPicPr>
        <p:blipFill>
          <a:blip r:embed="rId3"/>
          <a:stretch/>
        </p:blipFill>
        <p:spPr>
          <a:xfrm>
            <a:off x="7620120" y="4419720"/>
            <a:ext cx="757080" cy="587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会动的小花4"/>
          <p:cNvPicPr/>
          <p:nvPr/>
        </p:nvPicPr>
        <p:blipFill>
          <a:blip r:embed="rId4"/>
          <a:stretch/>
        </p:blipFill>
        <p:spPr>
          <a:xfrm>
            <a:off x="8386920" y="3200400"/>
            <a:ext cx="757080" cy="587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会动的小花4"/>
          <p:cNvPicPr/>
          <p:nvPr/>
        </p:nvPicPr>
        <p:blipFill>
          <a:blip r:embed="rId5"/>
          <a:stretch/>
        </p:blipFill>
        <p:spPr>
          <a:xfrm>
            <a:off x="7924680" y="5867280"/>
            <a:ext cx="909720" cy="6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FR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925560" y="177336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有了这些方面的保护，我们青少年是不是就可以高枕无忧了呢？还必须怎样？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7" name="Picture 4" descr="问号女孩"/>
          <p:cNvPicPr/>
          <p:nvPr/>
        </p:nvPicPr>
        <p:blipFill>
          <a:blip r:embed="rId2"/>
          <a:stretch/>
        </p:blipFill>
        <p:spPr>
          <a:xfrm>
            <a:off x="6248520" y="0"/>
            <a:ext cx="21333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457200" y="2133720"/>
            <a:ext cx="8381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重要在于：青少年提高自我保护意识。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9" name="Picture 3" descr="aftb"/>
          <p:cNvPicPr/>
          <p:nvPr/>
        </p:nvPicPr>
        <p:blipFill>
          <a:blip r:embed="rId1"/>
          <a:stretch/>
        </p:blipFill>
        <p:spPr>
          <a:xfrm>
            <a:off x="685800" y="0"/>
            <a:ext cx="2209680" cy="2666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独行林中"/>
          <p:cNvPicPr/>
          <p:nvPr/>
        </p:nvPicPr>
        <p:blipFill>
          <a:blip r:embed="rId2"/>
          <a:stretch/>
        </p:blipFill>
        <p:spPr>
          <a:xfrm>
            <a:off x="5867280" y="434340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可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1295280" y="137160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    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通过网上聊天，小丽认识了网友阿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，两人都有点相见恨晚的感觉，于是小丽很快地介绍自己的姓名、家庭电话等基本情况，阿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也介绍了自己的“基本情况”，阿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想带小丽去游玩并约好见面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星期六的早上，小丽毫不犹豫地坐上了阿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的摩托车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根据你的猜测与想象，请你给这个故事续写结尾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048120" y="5335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小丽的遭遇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JSK16-1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685800" y="19051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小丽跟着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Q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来到公园的一个偏僻的角落，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Q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对小丽说：“先拿点钱给本大爷花一花，否则就不客气。”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Q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边说边用一把小刀对着小丽晃来晃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时的小丽才意识到遇上歹徒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里想，谁来帮我脱离魔掌呢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导致小丽这么轻易落入魔掌的原因是什么呢？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6" name="Picture 4" descr="natu"/>
          <p:cNvPicPr/>
          <p:nvPr/>
        </p:nvPicPr>
        <p:blipFill>
          <a:blip r:embed="rId2"/>
          <a:stretch/>
        </p:blipFill>
        <p:spPr>
          <a:xfrm>
            <a:off x="7805880" y="5519880"/>
            <a:ext cx="1338120" cy="13381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2533320" y="1098720"/>
            <a:ext cx="296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小丽的遭遇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二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306600" y="5410080"/>
            <a:ext cx="22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保持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高度警惕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是避免侵害的前提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68580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　不要轻易说出自己的真实姓名 和地址、电话、学校等</a:t>
            </a:r>
            <a:r>
              <a:rPr b="1" lang="zh-CN" sz="3200" spc="-1" strike="noStrike" u="sng">
                <a:solidFill>
                  <a:srgbClr val="e400a8"/>
                </a:solidFill>
                <a:uFillTx/>
                <a:latin typeface="Times New Roman"/>
                <a:ea typeface="黑体"/>
              </a:rPr>
              <a:t>信息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85800" y="3733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　一般情况，不要与网友</a:t>
            </a:r>
            <a:r>
              <a:rPr b="1" lang="zh-CN" sz="3200" spc="-1" strike="noStrike" u="sng">
                <a:solidFill>
                  <a:srgbClr val="e400a8"/>
                </a:solidFill>
                <a:uFillTx/>
                <a:latin typeface="Times New Roman"/>
                <a:ea typeface="黑体"/>
              </a:rPr>
              <a:t>见面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；如果会面要慎重，并采取必要的防护措施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4.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　遇到低级庸俗的网友，马上避开，</a:t>
            </a:r>
            <a:r>
              <a:rPr b="1" lang="zh-CN" sz="3200" spc="-1" strike="noStrike" u="sng">
                <a:solidFill>
                  <a:srgbClr val="e400a8"/>
                </a:solidFill>
                <a:uFillTx/>
                <a:latin typeface="Times New Roman"/>
                <a:ea typeface="黑体"/>
              </a:rPr>
              <a:t>不要理睬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57200" y="1219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　</a:t>
            </a:r>
            <a:r>
              <a:rPr b="1" lang="zh-CN" sz="3200" spc="-1" strike="noStrike" u="sng">
                <a:solidFill>
                  <a:srgbClr val="e400a8"/>
                </a:solidFill>
                <a:uFillTx/>
                <a:latin typeface="Times New Roman"/>
                <a:ea typeface="黑体"/>
              </a:rPr>
              <a:t>时间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不能太长，以免影响学习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240920" y="380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上网请注意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7236360" y="1173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时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7019640" y="2743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真实信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7258320" y="42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不见面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993000" y="5745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不理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文本框 8199"/>
          <p:cNvSpPr/>
          <p:nvPr/>
        </p:nvSpPr>
        <p:spPr>
          <a:xfrm>
            <a:off x="1595520" y="1951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762120" y="2362320"/>
            <a:ext cx="813096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对女学生来说，保持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度的警惕、文明的举止、得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体的衣着打扮，是保护自我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的防护衣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0" name="Picture 3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1676520" cy="2286000"/>
          </a:xfrm>
          <a:prstGeom prst="rect">
            <a:avLst/>
          </a:prstGeom>
          <a:ln w="0">
            <a:noFill/>
          </a:ln>
        </p:spPr>
      </p:pic>
      <p:sp>
        <p:nvSpPr>
          <p:cNvPr id="291" name="WordArt 4"/>
          <p:cNvSpPr txBox="1"/>
          <p:nvPr/>
        </p:nvSpPr>
        <p:spPr>
          <a:xfrm>
            <a:off x="2666880" y="457200"/>
            <a:ext cx="304812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847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b0ae6a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温馨提示：</a:t>
            </a:r>
            <a:endParaRPr b="1" lang="en-US" sz="4400" spc="1" strike="noStrike">
              <a:ln w="9360">
                <a:solidFill>
                  <a:srgbClr val="b0ae6a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光线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1755720" y="1752480"/>
            <a:ext cx="558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于小丽在思想上没有提高警惕，落入了魔掌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她非常后悔，也向我们发出了求助。同学们，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们一起来帮帮她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帮小丽脱离魔掌出谋划策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4" name="Picture 4" descr="分隔1"/>
          <p:cNvPicPr/>
          <p:nvPr/>
        </p:nvPicPr>
        <p:blipFill>
          <a:blip r:embed="rId2"/>
          <a:stretch/>
        </p:blipFill>
        <p:spPr>
          <a:xfrm>
            <a:off x="468360" y="5268960"/>
            <a:ext cx="8675640" cy="15890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43000" y="53352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小丽的遭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三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346480" y="4816440"/>
            <a:ext cx="489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用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智慧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保护自己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JSK16-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"/>
          <p:cNvSpPr/>
          <p:nvPr/>
        </p:nvSpPr>
        <p:spPr>
          <a:xfrm>
            <a:off x="2133720" y="9144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69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隶书"/>
              </a:rPr>
              <a:t>如何正确理解智慧的方法？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JSK16-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2092680" y="2514600"/>
            <a:ext cx="54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丽终于安全的回到了父母的身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认为这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最完满的结局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什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2" name="Picture 4" descr="girl"/>
          <p:cNvPicPr/>
          <p:nvPr/>
        </p:nvPicPr>
        <p:blipFill>
          <a:blip r:embed="rId2"/>
          <a:stretch/>
        </p:blipFill>
        <p:spPr>
          <a:xfrm>
            <a:off x="457200" y="4724280"/>
            <a:ext cx="1290600" cy="19051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2286000" y="8380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小丽的遭遇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四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2438280" y="46483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用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法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保护自己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2468160"/>
            <a:ext cx="86421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据统计，近年各类未成年人伤害事件呈上升趋势。每年我国有近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万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岁以下儿童非正常死亡，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至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万儿童受到车祸、中毒、他杀、自杀等意外伤害，未成年人已成为危险环境的受害者。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　　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摘自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北京青年报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JSK16-1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066040" y="1371600"/>
            <a:ext cx="561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丽不幸的遭遇，对我们以后防范侵害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保护自己有什么启示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7" name="Picture 4" descr="14"/>
          <p:cNvPicPr/>
          <p:nvPr/>
        </p:nvPicPr>
        <p:blipFill>
          <a:blip r:embed="rId2"/>
          <a:stretch/>
        </p:blipFill>
        <p:spPr>
          <a:xfrm>
            <a:off x="7391520" y="2362320"/>
            <a:ext cx="1092240" cy="33717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5"/>
          <p:cNvSpPr/>
          <p:nvPr/>
        </p:nvSpPr>
        <p:spPr>
          <a:xfrm>
            <a:off x="829800" y="2819520"/>
            <a:ext cx="275472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保护自己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防范侵害，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590920" y="2895480"/>
            <a:ext cx="609480" cy="3048120"/>
          </a:xfrm>
          <a:custGeom>
            <a:avLst/>
            <a:gdLst>
              <a:gd name="textAreaLeft" fmla="*/ 389520 w 609480"/>
              <a:gd name="textAreaRight" fmla="*/ 609840 w 6094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3200400" y="2514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提高警惕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124080" y="388620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用智慧保护自己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00400" y="5410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用法律保护自己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29640" y="228600"/>
            <a:ext cx="298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学会了吗</a:t>
            </a:r>
            <a:r>
              <a:rPr b="0" lang="en-US" sz="60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214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990720" y="21337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763640" y="333360"/>
            <a:ext cx="3429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中宋"/>
                <a:ea typeface="华文中宋"/>
              </a:rPr>
              <a:t>知识结构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-379800" y="3500280"/>
            <a:ext cx="307044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02a2"/>
                </a:solidFill>
                <a:latin typeface="Times New Roman"/>
              </a:rPr>
              <a:t>保护自我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1835280" y="3429000"/>
            <a:ext cx="152280" cy="213372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2124000" y="3141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身边的侵害与保护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124000" y="472428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防范侵害，保护自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AutoShape 11"/>
          <p:cNvSpPr/>
          <p:nvPr/>
        </p:nvSpPr>
        <p:spPr>
          <a:xfrm>
            <a:off x="6659640" y="1341360"/>
            <a:ext cx="75960" cy="99072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5148360" y="177336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种种侵害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5148360" y="40053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身边的保护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5364000" y="4653000"/>
            <a:ext cx="22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提高警惕</a:t>
            </a: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5364000" y="5229360"/>
            <a:ext cx="302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用智慧保护自己</a:t>
            </a: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5435640" y="573408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用法律保护自己</a:t>
            </a: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8" name="Picture 18" descr="花03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20"/>
          <p:cNvSpPr/>
          <p:nvPr/>
        </p:nvSpPr>
        <p:spPr>
          <a:xfrm>
            <a:off x="6804000" y="981000"/>
            <a:ext cx="2340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家庭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学校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社会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意外事故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自然灾害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AutoShape 21"/>
          <p:cNvSpPr/>
          <p:nvPr/>
        </p:nvSpPr>
        <p:spPr>
          <a:xfrm>
            <a:off x="5003640" y="220500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AutoShape 23"/>
          <p:cNvSpPr/>
          <p:nvPr/>
        </p:nvSpPr>
        <p:spPr>
          <a:xfrm>
            <a:off x="5219640" y="501336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5219640" y="278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青少年受侵害的原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5219640" y="335772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身边的侵害对青少年的影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针对性练习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当你的合法权益受到侵犯时，最有利的武器是（ 　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忍气吞声，退一步“海阔天空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打击报复，以牙还牙，以暴抗暴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告诉父母和朋友，让他们解决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用法律手段保护自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某班在上体育课，突然校园旁边山林发生大火，有的同学说应该去救火，有的同学说我们不能去，因为未成年人也是受保护对象。面对一些突发事故和侵害，我们应该（　　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　Ａ在自我保护的前提下，通过社会力量避免或减少损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　Ｂ不必担心受到损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　Ｃ完全依靠自己的力量避免或减少损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　Ｄ见义勇为，敢于牺牲自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659640" y="2205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6012000" y="4292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87280" y="907560"/>
            <a:ext cx="77724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３．暑假的一天中午，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3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岁的小华独自一人在家，突然听到门外有响动，好像有人在撬门，他从自家的猫眼往外看，却发现猫眼被堵住。此时她的正确做法（　　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Ａ打开大门看个究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Ｂ看快跑回房间关上门躲起来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大声叫喊把门外人吓跑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打电话给邻居或拨打“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10”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报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某校几位学生放学回家经过一建筑工地时，遇见一伙窃贼正在偷建筑材料。下列是几个人对该怎么办所持的不同观点，其中正确的是（        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①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窃贼是大人，我们斗不过他们，保护自己、不理他们是上策②拨打“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10”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报警电话③暗地里跟踪，看他们把材料偷到哪里去，好为将来破案提供线索④一个人去报警，其余的人悄悄的跟着，不能让那几个家伙跑掉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②③    B②④    C③④     D②③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4643280" y="14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195640" y="378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2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95D2-0ABB-404E-A988-DC8FC0567EED}" type="slidenum">
              <a:rPr b="0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小明在放学的路上，被几个高年级的学生拦住索要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元钱，并要他第二天再带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0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元钱来，否则就揍他。在这种情况下，小明应该（       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及时报警或告诉老师、家长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找几个哥们修理他们一顿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忍气吞声，明天把钱带来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明天带上防身刀具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6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一天晚上，小兰的妈妈送奶奶去医院，爸爸上夜班还没回来。突然一位自称是爸爸朋友的陌生人敲门。如果你是小兰，你会（      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出于礼貌，开门让客人进来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向邻居或周围的人大声呼救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立即拨打“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10”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报警     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告知对方父母不在，有事下次再来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835280" y="1413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8172360" y="357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35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我们身边有哪些侵害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1280" y="141264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身边的侵害与保护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、种种侵害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少年的侵害主要来自五方面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46080" cy="2978280"/>
            <a:chOff x="2438280" y="2971800"/>
            <a:chExt cx="46080" cy="2978280"/>
          </a:xfrm>
        </p:grpSpPr>
        <p:sp>
          <p:nvSpPr>
            <p:cNvPr id="159" name="Line 4"/>
            <p:cNvSpPr/>
            <p:nvPr/>
          </p:nvSpPr>
          <p:spPr>
            <a:xfrm>
              <a:off x="2438280" y="2971800"/>
              <a:ext cx="46080" cy="29782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438280" y="2971800"/>
              <a:ext cx="46080" cy="29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438280" y="2971800"/>
            <a:ext cx="609840" cy="360"/>
            <a:chOff x="2438280" y="2971800"/>
            <a:chExt cx="609840" cy="360"/>
          </a:xfrm>
        </p:grpSpPr>
        <p:sp>
          <p:nvSpPr>
            <p:cNvPr id="162" name="Line 5"/>
            <p:cNvSpPr/>
            <p:nvPr/>
          </p:nvSpPr>
          <p:spPr>
            <a:xfrm>
              <a:off x="2438280" y="2971800"/>
              <a:ext cx="609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2438280" y="29718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38280" y="3733920"/>
            <a:ext cx="609840" cy="360"/>
            <a:chOff x="2438280" y="3733920"/>
            <a:chExt cx="609840" cy="360"/>
          </a:xfrm>
        </p:grpSpPr>
        <p:sp>
          <p:nvSpPr>
            <p:cNvPr id="165" name="Line 6"/>
            <p:cNvSpPr/>
            <p:nvPr/>
          </p:nvSpPr>
          <p:spPr>
            <a:xfrm>
              <a:off x="2438280" y="3733920"/>
              <a:ext cx="6098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438280" y="373392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484360" y="4581360"/>
            <a:ext cx="609840" cy="360"/>
            <a:chOff x="2484360" y="4581360"/>
            <a:chExt cx="609840" cy="360"/>
          </a:xfrm>
        </p:grpSpPr>
        <p:sp>
          <p:nvSpPr>
            <p:cNvPr id="168" name="Line 7"/>
            <p:cNvSpPr/>
            <p:nvPr/>
          </p:nvSpPr>
          <p:spPr>
            <a:xfrm>
              <a:off x="2484360" y="4581360"/>
              <a:ext cx="6098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484360" y="458136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84360" y="5950080"/>
            <a:ext cx="609840" cy="360"/>
            <a:chOff x="2484360" y="5950080"/>
            <a:chExt cx="609840" cy="360"/>
          </a:xfrm>
        </p:grpSpPr>
        <p:sp>
          <p:nvSpPr>
            <p:cNvPr id="171" name="Line 8"/>
            <p:cNvSpPr/>
            <p:nvPr/>
          </p:nvSpPr>
          <p:spPr>
            <a:xfrm>
              <a:off x="2484360" y="5950080"/>
              <a:ext cx="6098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484360" y="59500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3352680" y="2819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20040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家庭伤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159000" y="3429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伤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200400" y="4267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社会伤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200400" y="4952880"/>
            <a:ext cx="27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外事故伤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438280" y="2971800"/>
            <a:ext cx="533520" cy="360"/>
            <a:chOff x="2438280" y="2971800"/>
            <a:chExt cx="533520" cy="360"/>
          </a:xfrm>
        </p:grpSpPr>
        <p:sp>
          <p:nvSpPr>
            <p:cNvPr id="179" name="Line 14"/>
            <p:cNvSpPr/>
            <p:nvPr/>
          </p:nvSpPr>
          <p:spPr>
            <a:xfrm>
              <a:off x="2438280" y="2971800"/>
              <a:ext cx="5335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2438280" y="29718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84360" y="5300640"/>
            <a:ext cx="609840" cy="360"/>
            <a:chOff x="2484360" y="5300640"/>
            <a:chExt cx="609840" cy="360"/>
          </a:xfrm>
        </p:grpSpPr>
        <p:sp>
          <p:nvSpPr>
            <p:cNvPr id="182" name="Line 15"/>
            <p:cNvSpPr/>
            <p:nvPr/>
          </p:nvSpPr>
          <p:spPr>
            <a:xfrm>
              <a:off x="2484360" y="5300640"/>
              <a:ext cx="6098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2484360" y="530064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4" name="Text Box 16"/>
          <p:cNvSpPr/>
          <p:nvPr/>
        </p:nvSpPr>
        <p:spPr>
          <a:xfrm>
            <a:off x="3132000" y="55897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灾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" descr="u=66373074,2862182837&amp;fm=0&amp;gp=0"/>
          <p:cNvPicPr/>
          <p:nvPr/>
        </p:nvPicPr>
        <p:blipFill>
          <a:blip r:embed="rId1"/>
          <a:stretch/>
        </p:blipFill>
        <p:spPr>
          <a:xfrm>
            <a:off x="539640" y="0"/>
            <a:ext cx="4032360" cy="3354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1"/>
          <p:cNvPicPr/>
          <p:nvPr/>
        </p:nvPicPr>
        <p:blipFill>
          <a:blip r:embed="rId2"/>
          <a:stretch/>
        </p:blipFill>
        <p:spPr>
          <a:xfrm>
            <a:off x="4716360" y="-28440"/>
            <a:ext cx="4103640" cy="3386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u=763467911,2378340721&amp;fm=0&amp;gp=8"/>
          <p:cNvPicPr/>
          <p:nvPr/>
        </p:nvPicPr>
        <p:blipFill>
          <a:blip r:embed="rId3"/>
          <a:stretch/>
        </p:blipFill>
        <p:spPr>
          <a:xfrm>
            <a:off x="611280" y="3645000"/>
            <a:ext cx="3889440" cy="3130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u=3746353256,1643119314&amp;fm=0&amp;gp=44"/>
          <p:cNvPicPr/>
          <p:nvPr/>
        </p:nvPicPr>
        <p:blipFill>
          <a:blip r:embed="rId4"/>
          <a:stretch/>
        </p:blipFill>
        <p:spPr>
          <a:xfrm>
            <a:off x="5148360" y="3652920"/>
            <a:ext cx="3600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85800" y="152388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问：这些侵害来自哪方面</a:t>
            </a:r>
            <a:r>
              <a:rPr b="1" lang="en-US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268360" y="3789360"/>
            <a:ext cx="56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8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自然灾害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1" name="Picture 4" descr="006"/>
          <p:cNvPicPr/>
          <p:nvPr/>
        </p:nvPicPr>
        <p:blipFill>
          <a:blip r:embed="rId1"/>
          <a:stretch/>
        </p:blipFill>
        <p:spPr>
          <a:xfrm>
            <a:off x="1692360" y="405936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006"/>
          <p:cNvPicPr/>
          <p:nvPr/>
        </p:nvPicPr>
        <p:blipFill>
          <a:blip r:embed="rId2"/>
          <a:stretch/>
        </p:blipFill>
        <p:spPr>
          <a:xfrm>
            <a:off x="297000" y="5030640"/>
            <a:ext cx="1800000" cy="155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002"/>
          <p:cNvPicPr/>
          <p:nvPr/>
        </p:nvPicPr>
        <p:blipFill>
          <a:blip r:embed="rId3"/>
          <a:stretch/>
        </p:blipFill>
        <p:spPr>
          <a:xfrm>
            <a:off x="6686640" y="4194000"/>
            <a:ext cx="18907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u=1176842180,2577195291&amp;fm=0&amp;gp=36"/>
          <p:cNvPicPr/>
          <p:nvPr/>
        </p:nvPicPr>
        <p:blipFill>
          <a:blip r:embed="rId1"/>
          <a:stretch/>
        </p:blipFill>
        <p:spPr>
          <a:xfrm>
            <a:off x="0" y="0"/>
            <a:ext cx="4643280" cy="358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u=4266856746,2310302962&amp;fm=0&amp;gp=40"/>
          <p:cNvPicPr/>
          <p:nvPr/>
        </p:nvPicPr>
        <p:blipFill>
          <a:blip r:embed="rId2"/>
          <a:stretch/>
        </p:blipFill>
        <p:spPr>
          <a:xfrm>
            <a:off x="4643280" y="3479760"/>
            <a:ext cx="45007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85800" y="152388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问：这些侵害来自哪方面</a:t>
            </a:r>
            <a:r>
              <a:rPr b="1" lang="en-US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268360" y="3789360"/>
            <a:ext cx="56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8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意外事故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8" name="Picture 4" descr="006"/>
          <p:cNvPicPr/>
          <p:nvPr/>
        </p:nvPicPr>
        <p:blipFill>
          <a:blip r:embed="rId2"/>
          <a:stretch/>
        </p:blipFill>
        <p:spPr>
          <a:xfrm>
            <a:off x="1692360" y="405936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006"/>
          <p:cNvPicPr/>
          <p:nvPr/>
        </p:nvPicPr>
        <p:blipFill>
          <a:blip r:embed="rId3"/>
          <a:stretch/>
        </p:blipFill>
        <p:spPr>
          <a:xfrm>
            <a:off x="297000" y="5030640"/>
            <a:ext cx="1800000" cy="155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002"/>
          <p:cNvPicPr/>
          <p:nvPr/>
        </p:nvPicPr>
        <p:blipFill>
          <a:blip r:embed="rId4"/>
          <a:stretch/>
        </p:blipFill>
        <p:spPr>
          <a:xfrm>
            <a:off x="6686640" y="4194000"/>
            <a:ext cx="18907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46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9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