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839-44CA-4E61-814F-BBC54F49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F58-A5B1-4BE9-88FD-B491BF9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FCE-4B1C-4F73-BD05-F063E70B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28A-A81B-4AE8-93E7-24B798F8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903C-786E-4823-8FFC-012AA132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ADD-0231-4A0C-8670-EC1B107B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D549-E2BE-45F5-B819-49CC0ED7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014F-30D2-4D64-B1DD-D24DEF8E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B083-0574-4C92-8406-6C5AAEA3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6F30-56DC-4F12-9B72-53B169F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9CED-251C-4036-ABD8-056A973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255-E225-450D-90F3-9468DFCD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ABCD-4867-431E-9409-A0C9AEB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B2BD-5F6A-4F27-953E-C72A3F0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637-BE67-4D1D-BD07-97F0A62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EBE-0BBE-473D-B8A6-450683C0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BF9-F8AB-405D-95D8-07E8CB6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DED2-C22B-4A81-9BC0-2C276163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0D02-1B5F-43D3-B8CA-13F6945D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69F0-A8DE-4783-9BDA-4B9FEA79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C67D-19BD-4096-9706-D6138A29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1C5E-0EB5-465D-BF1D-3BD2BCA1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139-858A-4A4C-8D08-2AF3190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7335-CD6B-4835-B655-19587909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3C3A-5459-47B7-A8F3-E75D631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BF16-EDDA-4551-B37D-C72FCD6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BF8B-1D8F-4182-A9F8-E45E773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312F-E202-4112-83AB-780ED9F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2469-E932-4F4B-AC15-2C0F63D0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9D7E-C096-4BBC-A08D-80C43441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D0F-45C1-40DC-8788-632171EE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4ED-BD5C-4C58-B79C-BDFD26A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4DF-8BAA-44F9-BE9F-2E050CEB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701-44FB-4673-BD5A-4404E7A4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FC2-BF83-4954-93F2-DC12F9D0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3C7-BFAD-4567-8E6D-CDF891E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2920-12CD-49F9-A092-12DC4F3D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98C8-545D-4303-836B-7BE8BF8ED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CF0-5D68-49B0-8EA6-A50D34DA86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6%BE&#439;%B6&#1340;%D2&#869;%B5%C4&#931;%BA%A6&amp;in=13273&amp;cl=2&amp;cm=1&amp;sc=0&amp;lm=-1&amp;pn=3&amp;rn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.baidu.com/i?ct=503316480&amp;z=0&amp;tn=baiduimagedetail&amp;word=%CE%FC%B6%BE&#931;%BA%A6&amp;in=24897&amp;cl=2&amp;cm=1&amp;sc=0&amp;lm=-1&amp;pn=142&amp;rn=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.baidu.com/ir?t=1&amp;u=http://www.511511.com/az/200406/az00000312820040618052705125.jpg&amp;f=http://www.511511.com/AZ/200406/AZ00000312820040618052810406.shtml&amp;jn=24897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hyperlink" Target="http://image.baidu.com/ir?t=1&amp;u=http://www.511511.com/az/200406/az00000312820040618052705125.jpg&amp;f=http://www.511511.com/AZ/200406/AZ00000312820040618052810406.shtml&amp;jn=24897" TargetMode="External"/><Relationship Id="rId9" Type="http://schemas.openxmlformats.org/officeDocument/2006/relationships/hyperlink" Target="http://image.baidu.com/ir?t=1&amp;u=http://www.511511.com/az/200406/az00000312820040618052705125.jpg&amp;f=http://www.511511.com/AZ/200406/AZ00000312820040618052810406.shtml&amp;jn=24897" TargetMode="Externa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89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八课  学会拒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27_4200_106"/>
          <p:cNvPicPr/>
          <p:nvPr/>
        </p:nvPicPr>
        <p:blipFill>
          <a:blip r:embed="rId1"/>
          <a:stretch/>
        </p:blipFill>
        <p:spPr>
          <a:xfrm>
            <a:off x="457200" y="380880"/>
            <a:ext cx="502920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7_4200_106"/>
          <p:cNvPicPr/>
          <p:nvPr/>
        </p:nvPicPr>
        <p:blipFill>
          <a:blip r:embed="rId2"/>
          <a:stretch/>
        </p:blipFill>
        <p:spPr>
          <a:xfrm>
            <a:off x="3581280" y="5410080"/>
            <a:ext cx="5181840" cy="7336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1295280" y="2666880"/>
            <a:ext cx="67057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-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身边的诱惑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xr056"/>
          <p:cNvPicPr/>
          <p:nvPr/>
        </p:nvPicPr>
        <p:blipFill>
          <a:blip r:embed="rId1"/>
          <a:stretch/>
        </p:blipFill>
        <p:spPr>
          <a:xfrm>
            <a:off x="500040" y="3733920"/>
            <a:ext cx="2203560" cy="26812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>
            <a:off x="250920" y="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33cc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超级大辩台</a:t>
            </a:r>
            <a:endParaRPr b="1" lang="en-US" sz="6000" spc="1" strike="noStrike">
              <a:ln w="9360">
                <a:solidFill>
                  <a:srgbClr val="ff33cc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523880" y="2057400"/>
            <a:ext cx="70106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辩题：论电脑游戏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利与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85840" y="428760"/>
            <a:ext cx="47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排   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692360" y="2924280"/>
            <a:ext cx="691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仿宋_GB2312"/>
              </a:rPr>
              <a:t>过度沉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影响学习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影响人际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影响家庭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诱发违法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63640" y="148428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适度游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开发智力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调节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28600" y="380880"/>
          <a:ext cx="8777160" cy="615636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609480" y="1371600"/>
            <a:ext cx="7925040" cy="184788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适当的、有节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娱乐是有益的，它对于开发人的智力，锻炼眼耳手脑并用能力，有一定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但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绝不能沉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此，因为沉迷网络游戏有很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危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损害健康、影响学习、浪费钱财、破坏家庭、违法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要以丰富的学习、健身、交友等活动坚决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抵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诱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858320" y="62496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正确看待网络游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WordArt 7" descr=""/>
          <p:cNvPicPr/>
          <p:nvPr/>
        </p:nvPicPr>
        <p:blipFill>
          <a:blip r:embed="rId1"/>
          <a:stretch/>
        </p:blipFill>
        <p:spPr>
          <a:xfrm>
            <a:off x="147600" y="15192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180" name="WordArt 8" descr=""/>
          <p:cNvPicPr/>
          <p:nvPr/>
        </p:nvPicPr>
        <p:blipFill>
          <a:blip r:embed="rId2"/>
          <a:stretch/>
        </p:blipFill>
        <p:spPr>
          <a:xfrm>
            <a:off x="61920" y="33480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9" descr=""/>
          <p:cNvPicPr/>
          <p:nvPr/>
        </p:nvPicPr>
        <p:blipFill>
          <a:blip r:embed="rId3"/>
          <a:stretch/>
        </p:blipFill>
        <p:spPr>
          <a:xfrm>
            <a:off x="147600" y="5176800"/>
            <a:ext cx="514440" cy="13622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0"/>
          <p:cNvSpPr txBox="1"/>
          <p:nvPr/>
        </p:nvSpPr>
        <p:spPr>
          <a:xfrm>
            <a:off x="6248520" y="53352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辨析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380880"/>
          <a:ext cx="8777160" cy="62658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0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4" name="AutoShape 40"/>
          <p:cNvSpPr/>
          <p:nvPr/>
        </p:nvSpPr>
        <p:spPr>
          <a:xfrm>
            <a:off x="2057400" y="37339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2514600" y="4645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品的诱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2"/>
          <p:cNvSpPr/>
          <p:nvPr/>
        </p:nvSpPr>
        <p:spPr>
          <a:xfrm>
            <a:off x="2438280" y="4037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赌博的诱惑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3"/>
          <p:cNvSpPr/>
          <p:nvPr/>
        </p:nvSpPr>
        <p:spPr>
          <a:xfrm>
            <a:off x="2057400" y="350424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不健康信息的诱惑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05520" y="129492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6324120"/>
            <a:ext cx="40384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吸毒危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0" y="6172200"/>
            <a:ext cx="40384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吸毒危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u=4117515778,3493467828&amp;gp=-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53172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u=1498164011,263376062&amp;gp=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3962520"/>
            <a:ext cx="3529080" cy="2060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5105520" y="3200400"/>
            <a:ext cx="360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吸毒危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5" descr="u=3465895777,2855687824&amp;fm=23&amp;gp=0"/>
          <p:cNvPicPr/>
          <p:nvPr/>
        </p:nvPicPr>
        <p:blipFill>
          <a:blip r:embed="rId6"/>
          <a:stretch/>
        </p:blipFill>
        <p:spPr>
          <a:xfrm>
            <a:off x="457200" y="38862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2004841353105"/>
          <p:cNvPicPr/>
          <p:nvPr/>
        </p:nvPicPr>
        <p:blipFill>
          <a:blip r:embed="rId7"/>
          <a:stretch/>
        </p:blipFill>
        <p:spPr>
          <a:xfrm>
            <a:off x="0" y="533520"/>
            <a:ext cx="4724280" cy="2743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304920" y="327672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吸毒危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吸毒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3809880"/>
            <a:ext cx="9144000" cy="360"/>
            <a:chOff x="0" y="3809880"/>
            <a:chExt cx="9144000" cy="360"/>
          </a:xfrm>
        </p:grpSpPr>
        <p:sp>
          <p:nvSpPr>
            <p:cNvPr id="200" name="Line 17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0" y="3809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74680" y="636120"/>
            <a:ext cx="360" cy="6248520"/>
            <a:chOff x="4774680" y="636120"/>
            <a:chExt cx="360" cy="6248520"/>
          </a:xfrm>
        </p:grpSpPr>
        <p:sp>
          <p:nvSpPr>
            <p:cNvPr id="203" name="Line 18"/>
            <p:cNvSpPr/>
            <p:nvPr/>
          </p:nvSpPr>
          <p:spPr>
            <a:xfrm flipV="1">
              <a:off x="4775040" y="636120"/>
              <a:ext cx="0" cy="6248520"/>
            </a:xfrm>
            <a:prstGeom prst="line">
              <a:avLst/>
            </a:prstGeom>
            <a:ln w="76320">
              <a:solidFill>
                <a:srgbClr val="0000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4774680" y="636120"/>
              <a:ext cx="360" cy="624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8600" y="380880"/>
          <a:ext cx="8777160" cy="62658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0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AutoShape 37"/>
          <p:cNvSpPr/>
          <p:nvPr/>
        </p:nvSpPr>
        <p:spPr>
          <a:xfrm>
            <a:off x="2057400" y="37339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2514600" y="4645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品的诱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2438280" y="4037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赌博的诱惑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2057400" y="350424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不健康信息的诱惑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380880"/>
          <a:ext cx="8777160" cy="58086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不健康信息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赌博的诱惑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毒品的诱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华人民共和国预防未成年人犯罪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法网站，暴力、色情不良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u=2820467458,295936932&amp;fm=23&amp;gp=0"/>
          <p:cNvPicPr/>
          <p:nvPr/>
        </p:nvPicPr>
        <p:blipFill>
          <a:blip r:embed="rId1"/>
          <a:stretch/>
        </p:blipFill>
        <p:spPr>
          <a:xfrm>
            <a:off x="152280" y="228600"/>
            <a:ext cx="3333960" cy="3124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/img300202_1.jpg"/>
          <p:cNvPicPr/>
          <p:nvPr/>
        </p:nvPicPr>
        <p:blipFill>
          <a:blip r:embed="rId2"/>
          <a:stretch/>
        </p:blipFill>
        <p:spPr>
          <a:xfrm>
            <a:off x="4419720" y="457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W020050119271384534594"/>
          <p:cNvPicPr/>
          <p:nvPr/>
        </p:nvPicPr>
        <p:blipFill>
          <a:blip r:embed="rId3"/>
          <a:stretch/>
        </p:blipFill>
        <p:spPr>
          <a:xfrm>
            <a:off x="838080" y="3505320"/>
            <a:ext cx="76201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28600" y="380880"/>
          <a:ext cx="8777160" cy="58086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不健康信息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赌博的诱惑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毒品的诱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华人民共和国预防未成年人犯罪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法网站，暴力、色情不良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邪教是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威胁人民生命财产安全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社会稳定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的毒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11970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乐观、幽默的生活态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陶冶情操、追求高雅生活情趣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重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684360" y="260280"/>
            <a:ext cx="42004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如何追寻高雅生活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68360" y="25066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善于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奇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化为浓厚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而培养自己高雅的生活情趣，不能盲目从众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39640" y="374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丰富文化生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陶冶情操、追求高雅生活情趣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要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1280" y="5095800"/>
            <a:ext cx="648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升情趣，陶冶情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609480" y="1371600"/>
            <a:ext cx="7925040" cy="184788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适当的、有节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娱乐是有益的，它对于开发人的智力，锻炼眼耳手脑并用能力，有一定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但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绝不能沉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此，因为沉迷网络游戏有很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危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损害健康、影响学习、浪费钱财、破坏家庭、违法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要以丰富的学习、健身、交友等活动坚决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抵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诱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858320" y="62496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正确看待网络游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WordArt 4" descr=""/>
          <p:cNvPicPr/>
          <p:nvPr/>
        </p:nvPicPr>
        <p:blipFill>
          <a:blip r:embed="rId1"/>
          <a:stretch/>
        </p:blipFill>
        <p:spPr>
          <a:xfrm>
            <a:off x="147600" y="15192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5" descr=""/>
          <p:cNvPicPr/>
          <p:nvPr/>
        </p:nvPicPr>
        <p:blipFill>
          <a:blip r:embed="rId2"/>
          <a:stretch/>
        </p:blipFill>
        <p:spPr>
          <a:xfrm>
            <a:off x="61920" y="33480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219" name="WordArt 6" descr=""/>
          <p:cNvPicPr/>
          <p:nvPr/>
        </p:nvPicPr>
        <p:blipFill>
          <a:blip r:embed="rId3"/>
          <a:stretch/>
        </p:blipFill>
        <p:spPr>
          <a:xfrm>
            <a:off x="147600" y="5176800"/>
            <a:ext cx="514440" cy="13622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"/>
          <p:cNvSpPr txBox="1"/>
          <p:nvPr/>
        </p:nvSpPr>
        <p:spPr>
          <a:xfrm>
            <a:off x="6248520" y="53352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辨析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260280"/>
            <a:ext cx="87138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习题巩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人说网络是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双刃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你的看法是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网络其实有利无弊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网络有利也有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网络其实有弊无利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青少年不应该接触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丰富多彩的中学生活，让我们觉得欣喜与兴奋。我们学习到更多的知识，结识了更多的朋友，有了更大的自由度。面对学校和社会中的各种诱惑，我们应该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对身边发生的事情不用关注，学习好了就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听之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理智对待，努力抵制不良诱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大胆尝试各种诱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50920" y="260280"/>
            <a:ext cx="15890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随堂练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79280" y="981000"/>
            <a:ext cx="8785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项选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说法正确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吸食毒品是未成年人的严重不良行为，但不是违法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君子爱财，取之有道”指的是要通过合法劳动和正当途径获得金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良诱惑犹如病毒，需要我们用科学的态度、坚强的意志、清醒的头脑和正确的方法战胜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金钱的诱惑，我们视之如粪土才是惟一正确的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43280" y="162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9DB-6042-4B19-88EF-8D50FEB38C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404640"/>
            <a:ext cx="871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子游戏是中小学生所喜爱的一种娱乐方式，但是长期沉迷于此，有可能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开发智力，有篮球学习成绩的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损害身体健康，导致疾病的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降低大脑灵活性，影响学习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诱发盗窃、抢劫、诈骗等违法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059280" y="692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00400" y="10663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忍住一份甜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美国著名的心理学家瓦尔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米歇尔曾经在一群幼儿身上做过一个有趣的实验。他给每个孩子发一块软糖，然后告诉他们说他有事要离开一会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他希望孩子们都不要吃掉那块软糖，他允诺说</a:t>
            </a:r>
            <a:r>
              <a:rPr b="1" i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“</a:t>
            </a:r>
            <a:r>
              <a:rPr b="1" i="1" lang="zh-CN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假如你们能将这块软糖留到我办完事回来，我会再奖励给你们两块糖。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他出去了，孩子们守着那诱人的软糖等啊等。终于有人熬不住了，吃掉了那块软糖。接着，又有人做同样的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钟后，米歇尔回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多年后，他发现，那些不能等待的孩子大多一事无成，而那几个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幼圆"/>
                <a:ea typeface="黑体"/>
              </a:rPr>
              <a:t>经得起诱惑的儿童成年后，在事业上取得了成功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 rot="21027000">
            <a:off x="380520" y="304920"/>
            <a:ext cx="2438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1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心理实验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1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1371600" y="1905120"/>
            <a:ext cx="1752120" cy="1071360"/>
            <a:chOff x="1371600" y="1905120"/>
            <a:chExt cx="1752120" cy="1071360"/>
          </a:xfrm>
        </p:grpSpPr>
        <p:sp>
          <p:nvSpPr>
            <p:cNvPr id="137" name="AutoShape 3"/>
            <p:cNvSpPr/>
            <p:nvPr/>
          </p:nvSpPr>
          <p:spPr>
            <a:xfrm>
              <a:off x="1371600" y="2327040"/>
              <a:ext cx="728640" cy="6490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1942560" y="1905120"/>
              <a:ext cx="669600" cy="1071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>
              <a:off x="2454480" y="2424600"/>
              <a:ext cx="669240" cy="551880"/>
            </a:xfrm>
            <a:prstGeom prst="cube">
              <a:avLst>
                <a:gd name="adj" fmla="val 4819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1447920" y="236232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438280" y="243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905120" y="2209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68360" y="2924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荣誉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g1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37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g1"/>
          <p:cNvPicPr/>
          <p:nvPr/>
        </p:nvPicPr>
        <p:blipFill>
          <a:blip r:embed="rId2"/>
          <a:stretch/>
        </p:blipFill>
        <p:spPr>
          <a:xfrm>
            <a:off x="0" y="-838080"/>
            <a:ext cx="369720" cy="9144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g1"/>
          <p:cNvPicPr/>
          <p:nvPr/>
        </p:nvPicPr>
        <p:blipFill>
          <a:blip r:embed="rId3"/>
          <a:stretch/>
        </p:blipFill>
        <p:spPr>
          <a:xfrm>
            <a:off x="8958240" y="-457200"/>
            <a:ext cx="370080" cy="914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U397P249T3D105212F37DT20040828063937"/>
          <p:cNvPicPr/>
          <p:nvPr/>
        </p:nvPicPr>
        <p:blipFill>
          <a:blip r:embed="rId4"/>
          <a:stretch/>
        </p:blipFill>
        <p:spPr>
          <a:xfrm>
            <a:off x="1752480" y="0"/>
            <a:ext cx="1067040" cy="1828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xr056"/>
          <p:cNvPicPr/>
          <p:nvPr/>
        </p:nvPicPr>
        <p:blipFill>
          <a:blip r:embed="rId5"/>
          <a:stretch/>
        </p:blipFill>
        <p:spPr>
          <a:xfrm>
            <a:off x="4495680" y="380880"/>
            <a:ext cx="3889440" cy="2538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5"/>
          <p:cNvSpPr/>
          <p:nvPr/>
        </p:nvSpPr>
        <p:spPr>
          <a:xfrm>
            <a:off x="4572000" y="2924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网络游戏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040401014acn_2"/>
          <p:cNvPicPr/>
          <p:nvPr/>
        </p:nvPicPr>
        <p:blipFill>
          <a:blip r:embed="rId6"/>
          <a:stretch/>
        </p:blipFill>
        <p:spPr>
          <a:xfrm>
            <a:off x="611280" y="3500280"/>
            <a:ext cx="2808360" cy="1793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7"/>
          <p:cNvSpPr/>
          <p:nvPr/>
        </p:nvSpPr>
        <p:spPr>
          <a:xfrm>
            <a:off x="324000" y="5229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金钱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101737_099"/>
          <p:cNvPicPr/>
          <p:nvPr/>
        </p:nvPicPr>
        <p:blipFill>
          <a:blip r:embed="rId7"/>
          <a:stretch/>
        </p:blipFill>
        <p:spPr>
          <a:xfrm>
            <a:off x="4800600" y="3581280"/>
            <a:ext cx="3672000" cy="1757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9"/>
          <p:cNvSpPr/>
          <p:nvPr/>
        </p:nvSpPr>
        <p:spPr>
          <a:xfrm>
            <a:off x="4495680" y="53341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毒品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395280" y="5667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在我们身边还存在着哪些诱惑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? 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哪些属于不良诱惑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28600" y="380880"/>
          <a:ext cx="8832960" cy="5689440"/>
        </p:xfrm>
        <a:graphic>
          <a:graphicData uri="http://schemas.openxmlformats.org/drawingml/2006/table">
            <a:tbl>
              <a:tblPr/>
              <a:tblGrid>
                <a:gridCol w="3041640"/>
                <a:gridCol w="579132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6"/>
          <p:cNvSpPr/>
          <p:nvPr/>
        </p:nvSpPr>
        <p:spPr>
          <a:xfrm>
            <a:off x="2895480" y="51814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S0D20100831193242MT906759"/>
          <p:cNvPicPr/>
          <p:nvPr/>
        </p:nvPicPr>
        <p:blipFill>
          <a:blip r:embed="rId1"/>
          <a:stretch/>
        </p:blipFill>
        <p:spPr>
          <a:xfrm>
            <a:off x="1981080" y="1503360"/>
            <a:ext cx="5753160" cy="494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600200" y="30492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一、金钱的诱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U1716P1T1D10826620F21DT20060825105622"/>
          <p:cNvPicPr/>
          <p:nvPr/>
        </p:nvPicPr>
        <p:blipFill>
          <a:blip r:embed="rId1"/>
          <a:stretch/>
        </p:blipFill>
        <p:spPr>
          <a:xfrm>
            <a:off x="0" y="0"/>
            <a:ext cx="4724280" cy="3139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01005151273886447375"/>
          <p:cNvPicPr/>
          <p:nvPr/>
        </p:nvPicPr>
        <p:blipFill>
          <a:blip r:embed="rId2"/>
          <a:stretch/>
        </p:blipFill>
        <p:spPr>
          <a:xfrm>
            <a:off x="0" y="3200400"/>
            <a:ext cx="47242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289877_185319615545_2"/>
          <p:cNvPicPr/>
          <p:nvPr/>
        </p:nvPicPr>
        <p:blipFill>
          <a:blip r:embed="rId3"/>
          <a:stretch/>
        </p:blipFill>
        <p:spPr>
          <a:xfrm>
            <a:off x="5562720" y="-1219320"/>
            <a:ext cx="3152520" cy="84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28600" y="380880"/>
          <a:ext cx="8777160" cy="574056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取之有道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通过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50"/>
          <p:cNvSpPr/>
          <p:nvPr/>
        </p:nvSpPr>
        <p:spPr>
          <a:xfrm>
            <a:off x="6705720" y="1066680"/>
            <a:ext cx="12189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8077320" y="1066680"/>
            <a:ext cx="8380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199"/>
          <p:cNvSpPr/>
          <p:nvPr/>
        </p:nvSpPr>
        <p:spPr>
          <a:xfrm>
            <a:off x="2027160" y="308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200805273d38d4d2065845ff80507604791a4d39"/>
          <p:cNvPicPr/>
          <p:nvPr/>
        </p:nvPicPr>
        <p:blipFill>
          <a:blip r:embed="rId1"/>
          <a:stretch/>
        </p:blipFill>
        <p:spPr>
          <a:xfrm>
            <a:off x="0" y="1359000"/>
            <a:ext cx="4716360" cy="549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图片4"/>
          <p:cNvPicPr/>
          <p:nvPr/>
        </p:nvPicPr>
        <p:blipFill>
          <a:blip r:embed="rId2"/>
          <a:stretch/>
        </p:blipFill>
        <p:spPr>
          <a:xfrm>
            <a:off x="5149800" y="1384200"/>
            <a:ext cx="3994200" cy="54738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" descr="shenghuoyongpinsan2_0275.jpg"/>
          <p:cNvPicPr/>
          <p:nvPr/>
        </p:nvPicPr>
        <p:blipFill>
          <a:blip r:embed="rId3"/>
          <a:stretch/>
        </p:blipFill>
        <p:spPr>
          <a:xfrm>
            <a:off x="0" y="0"/>
            <a:ext cx="1230480" cy="1268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1828800" y="22860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二、游戏机的诱惑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6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51Z</dcterms:modified>
  <cp:revision>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