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FD3-0333-4900-81D5-F21D067B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142-8297-4E41-8577-67124CDC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8D6-40AF-4B7A-A6B3-FE0189CF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B4B-FCFE-4AB3-86FE-6DCA7AD1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1D65-64D7-4E78-A34B-C763F07E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F92F-9594-4B0D-8178-7D21F0EA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CCBA-1E4D-4C98-AACD-6E0A135B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70D8-D33E-441B-B675-10268B13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CDE0-780B-4F3C-AD70-DE497A62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513B-D781-40F2-B50A-94CDBB47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6514-FDA8-4C7A-B3A0-B03E65F3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F5B3-EE2B-4EFE-B69E-F61C2077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6B85-15EC-420B-96B0-5DBB8BDC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70AE-455D-4C79-AC82-39733F8E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2E0A-ACDE-4962-B4D2-6D2C136D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1EFB-AE3E-405C-B886-81B40228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8F8A-5FF3-45A9-9C4D-D289AEC8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05B-FF19-4E04-BC2D-811DE712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DFA-8BEB-43AB-8C34-E2546D71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734-EFB1-478B-AB43-D535A915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DFD-9E89-4926-B46F-9D59E232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B90-33AA-4428-86B4-E27AB570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F7C-0441-480B-8ADF-CC35E2F5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B20-9BDB-4AEE-B218-C24D2684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A60C-6E91-4D97-B8B3-DB4BC658D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8C98-43CA-4B55-B1B3-76152ED526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1681200" y="1960560"/>
            <a:ext cx="594360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伸出爱的手课件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013640" y="4062240"/>
            <a:ext cx="33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关爱残疾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2438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谈一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在日常生活中，同学们有没有遇到过残疾人，和他们交流过呢？谁来谈谈自己的亲身经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533520" y="457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cc"/>
                </a:solidFill>
                <a:latin typeface="Arial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154520" y="1171440"/>
            <a:ext cx="16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如果我是他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199"/>
          <p:cNvSpPr/>
          <p:nvPr/>
        </p:nvSpPr>
        <p:spPr>
          <a:xfrm>
            <a:off x="708120" y="2286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现在就请大家当一回小科学家，想一想今后可以为残疾人发明一些什么呢？请各小组讨论讨论，比比看，哪组的点子最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3"/>
          <p:cNvSpPr txBox="1"/>
          <p:nvPr/>
        </p:nvSpPr>
        <p:spPr>
          <a:xfrm>
            <a:off x="609480" y="380880"/>
            <a:ext cx="38862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奇思妙想</a:t>
            </a:r>
            <a:endParaRPr b="1" lang="en-US" sz="4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0" name="Picture 4" descr="icon2"/>
          <p:cNvPicPr/>
          <p:nvPr/>
        </p:nvPicPr>
        <p:blipFill>
          <a:blip r:embed="rId1"/>
          <a:stretch/>
        </p:blipFill>
        <p:spPr>
          <a:xfrm>
            <a:off x="7543800" y="4191120"/>
            <a:ext cx="1157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50560" y="907560"/>
            <a:ext cx="856908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残疾人也是一个人，们也享有生活的权利，我们要尊重他们，伸出爱的手帮助他们，我们更要向那些身残志坚的人学习，学习他们的精神，学习他们的品质，同时让我们更珍惜我们的一切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AA60-20ED-4E3A-ADF4-176C884FBC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 rot="184800">
            <a:off x="1751040" y="2138040"/>
            <a:ext cx="6248520" cy="236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同学们再见！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5351040" y="43434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谢谢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Q05315BP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777640" y="5335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残奥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Q0564621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5562720" y="76212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残奥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5"/>
          <p:cNvSpPr/>
          <p:nvPr/>
        </p:nvSpPr>
        <p:spPr>
          <a:xfrm>
            <a:off x="5292720" y="4292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Img250238229"/>
          <p:cNvPicPr/>
          <p:nvPr/>
        </p:nvPicPr>
        <p:blipFill>
          <a:blip r:embed="rId1"/>
          <a:stretch/>
        </p:blipFill>
        <p:spPr>
          <a:xfrm>
            <a:off x="457200" y="5335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xin_5720905111242812922739"/>
          <p:cNvPicPr/>
          <p:nvPr/>
        </p:nvPicPr>
        <p:blipFill>
          <a:blip r:embed="rId2"/>
          <a:stretch/>
        </p:blipFill>
        <p:spPr>
          <a:xfrm>
            <a:off x="3962520" y="3048120"/>
            <a:ext cx="4762440" cy="3286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5105520" y="8380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行楷"/>
              </a:rPr>
              <a:t>残奥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447920" y="1219320"/>
            <a:ext cx="207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10800" y="2433600"/>
            <a:ext cx="100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大家是否知道一些残疾人的故事呢？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能简短地做一些介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01300000177739121332783086535"/>
          <p:cNvPicPr/>
          <p:nvPr/>
        </p:nvPicPr>
        <p:blipFill>
          <a:blip r:embed="rId1"/>
          <a:stretch/>
        </p:blipFill>
        <p:spPr>
          <a:xfrm>
            <a:off x="533520" y="228600"/>
            <a:ext cx="4628880" cy="612144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8199"/>
          <p:cNvSpPr/>
          <p:nvPr/>
        </p:nvSpPr>
        <p:spPr>
          <a:xfrm>
            <a:off x="4802040" y="3708360"/>
            <a:ext cx="4246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835280" y="1219320"/>
            <a:ext cx="5547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世界音乐史上，还没有一个作曲家的名字比贝多芬的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更响亮。人们称贝多芬是“乐圣”、“最伟大的作曲家”，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他来说，是当着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贝多芬从小就显露出音乐的天才，不幸的是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的时候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了耳聋症。这个他带来沉重的打击和极大的痛苦。但是，疾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没有使这位作曲家意志消沉和屈服。他曾说过“我要扼住命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喉咙，才能走向胜利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贝多芬一生创作了大量作品。具有代表性的作品是九部交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曲，其中，以第三（英雄）、第五（命运）、第六（田园）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九（合唱）最为著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828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交流一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听了这么多残疾人的故事，你有什么感受？你觉得残疾人有一种怎样的精神呢？大家互相交流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残疾人虽然在生理上有缺陷，但他们残疾而不残废，同样具有奋发图强、努力拼搏的精神，在不同的岗位上、用不同的方式为国家和社会做贡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5:08:52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44:05Z</dcterms:modified>
  <cp:revision>8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