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32B-CCB5-4BDE-ADA2-1EF0C2C9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3E06-213F-47A6-B1A0-2C1A4DA2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BBF40-B59A-451F-8CB5-9A66BE41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54231-BBE7-424F-BBDB-0988FD37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E6002-5ED9-4E2C-8C8D-87C9A78D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8E584-7937-44BB-AFEC-02AE8890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A7906-9996-4663-856C-0031756E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B4D2C-0DD3-4005-9FCA-4125F3BC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FCAD9-47AE-41C3-B30F-C85144A8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9E3C4-381C-45D1-8021-CDD419E2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E410C-BF80-4231-B7F6-BEDDBDF4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42FA4-D482-474B-9809-7D1B5C05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394C-E7A2-4691-9D22-79C19B60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AC34E-FE3C-4016-B6D5-6FD04757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1C317-E897-418D-813D-C2B9F5FB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44B26-8EF6-43EE-AE82-7341E821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2CF72-A47A-4BA2-8549-109BB6C2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5C91C-A176-4CA9-B5DA-6AA3A098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FAC96-735C-46B6-8D0B-2748BD3A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CE592-B2C1-4B2A-B45D-27F0B61A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F109B-8657-48EA-A77C-AF2BE0DC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AEAE1-C67D-45AD-B877-797B7836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1A5C1-3D90-43B9-9541-4EADF18A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FC14-0ED9-4438-BC6B-D4C52F1D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DB339-EF31-42B1-915D-2EE3776C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DC8C4-584A-4C32-876B-00F7AAE7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D7636-87AC-4AB6-A5F3-6EA78664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835FD-2ADE-45AE-8F73-8478A30D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2FC05-262E-4310-AEF4-05403F70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26549-3259-4EF9-999D-2BA52571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5790B-634C-4D53-B902-902BD4AE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30BA5-724A-4745-A9BB-758505FE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FFA5A-3B1F-40CC-AE8F-D3E1577E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CA42C-80D8-4055-8F90-03FB25A0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F8A5-0822-4BCE-8B60-233B28CE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E9881-E7E9-46A0-B676-4A57C28E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5655F-5CCB-47D1-B040-5F807EFC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FFA15-FD03-4E28-A250-95A0E0D4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85C3A-CE14-405E-9400-E286B525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063DF-66A3-4214-8407-5DF02848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BB4FC-409E-40F9-A0C4-5EB1EFF7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6AC67-FFD4-4582-BA44-F3FC56BD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4543A-4136-4812-BE39-5DF25C2F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25F47-AE2B-450D-93BB-8C72FDCC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6B539-A7FB-43E7-8437-DF224A3F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D89C-56E8-4B3D-9E07-83153880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33E84-B8EF-44EE-B8CA-FB66E854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4B60B-A1E8-4506-8DBE-0E2B6089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81276-4BF9-4B29-955C-5D27A0A1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60DB0-71D2-40E1-93BB-665AE829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8304D-087C-40F2-942E-F30F026A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18E752-6CDA-44BB-81E8-8B70B471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77425C-D57E-473E-AB87-5AC6E021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938B4-C058-4D3C-A563-31DCAAB5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3FBD0-4E9D-4ECF-9ECB-6A8023EB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EF4B6-24C3-435D-A14A-6ADC489E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74A1-4F63-4C97-8B4F-69E68884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DE053-D722-4D06-ABEF-2F371F97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97DFEF-C8E9-4185-B640-F753B609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EFB17-56E1-4E0C-861B-3740C1EA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DDF7E1-3733-4350-BB1F-9D604F63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B555B-429F-459C-A907-A303988F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580AE-AB49-4294-9E87-750080A3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9B671-A9C4-4B98-9FFE-3F595FD6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75860-6CFF-4BA1-9B71-210F96EC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5DF2A-700E-4D25-A4C0-B56AB9F1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F05440-39A3-4F18-AFCE-A9D30A2F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5C1B-5534-41D2-8757-02852257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43358-B1A4-47D3-8C28-ADDA0397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2B4640-765C-45E0-82B2-EFBA3696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0EE3D4-1CA5-4BC7-9C01-C2699427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51AF90-F07B-44B2-A3B8-935833AF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B859ED-C236-422A-B439-9A1447D8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B0DBC8-72EB-4038-8460-9CD8BF25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0C1D0-E48E-44D6-BB4B-2C593A4E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A731D6-831D-4A06-B721-A55018B6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61B7E-25D6-49B6-B28F-6FB06E57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F127-EF44-4EC2-B7BC-49CCE808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0AEF-303D-462F-B655-4E54C2C7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60D2-630C-4556-9C44-380F63BD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1C80-9F9A-40B0-990D-50BFB08A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5301-42DA-4B9E-8B12-88C466DF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4F2D-28E6-43B6-9EAE-A7C433CB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8641-5F81-40AC-A8BF-F495C92D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210C-22FC-49C8-AB96-00BAEA63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D932-7CA6-4DEE-BAAC-141FD062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BF4EF-9D63-4960-AD7A-86FBFC8A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3298D-3998-497B-83D2-502D12B1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889FA-50A3-42E8-8DF8-1F2B82F2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49679-0FAB-43B0-9CFA-8FD1D7CB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B3A58-F7C1-4FE5-A633-6B262D68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146C-E42A-4A62-9225-70708E05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46362-0CEC-4E50-9ACF-29F48428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9A1BD-31BD-4DAF-88B4-6596664E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C3172-D3E0-4108-BBBC-BF9A0ADF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15545-52DA-4ECB-B6A0-C528D626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2A930-4225-476C-9A35-996F8630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AF2E4-52E9-4DD6-94A3-8287D8C0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D98DC-7EE5-4E26-9BA2-50C3657E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C412A-9566-420C-BE51-E97370DC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6EE50-37D1-42B6-BBEB-730A98B9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8D78A-981E-4EC1-B157-63AFF328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AF6-FF51-43A9-83A5-F8A390B7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6875D-2A52-4BE5-8823-987705D3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BF41F-D87D-4EE8-A761-8AE18FE4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4FFEC-BAE0-4E7F-B6E6-A9224188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4C902-02E2-44EC-AE6B-D4AAC4E6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A866D-9707-47BA-B93D-4A25C5CC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E22C2-6888-4684-A7CD-054AFA28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5566E-CE19-4690-96A8-701ADF3A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137C8-21D0-471D-9820-AA752CAB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B4909-8AAC-4AB4-BE1D-4463A10A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E8A8A-E86F-42C2-8E04-A9154288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2FC-A740-4FD7-9E2D-FFE28086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ECE5F-CF40-47F5-AAFB-DF686814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2D1B2-F25A-417B-AA77-DA54019D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B20A3-5C9A-4183-B627-DFC237D8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B2EB3-393B-41AE-B731-0C431CFC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291C9-55B1-4F8E-85DA-BC74143A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CDFFF-E640-42B0-B634-DD51FBFE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66C09-09B6-4445-9EA0-994D48AB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3F1B8-0831-45F6-80B6-63277C07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79500-E36D-49A3-B52C-890BC1B7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38B85-00BC-4016-816B-38CC9FE0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D83-E91F-4F5B-9036-EFE4BB30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62794-8910-46AD-A007-0B66F090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AB513-A920-47D5-B0D0-8A764D5A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E059A-D4D6-4E80-8E74-07F46869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D9B93-9016-45DC-BF56-344C0ADC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14DCF-CE5D-4ACA-9CC9-47C29EF6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8475F-8D98-488E-AD48-0207E504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FB008-EACF-4CEC-B87D-E44702AA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DF582-BC5A-4E42-B920-D113A2E7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55CDE-4C6F-47E3-9D38-E73D5A73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91B21-58AC-4683-8E38-6FBC74F8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147A-61C9-4BEB-92EE-714D15AD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DAF8C-E286-4F21-9305-FE938C48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5AFC7-EB6B-48AF-940A-E916D9D5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5D10F-7C6F-4244-A3DE-4D60EDCE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45482-5A7D-4D09-B1A9-FC5DD469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46B6E-891D-4A77-BEFC-9A194BDE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21D3F-10A3-4DAA-AEBA-01431D90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34FEE-CAA2-443E-AA18-1A0A577B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7A31B-DE48-4E5D-B4A3-F7CB670F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AFBC5-3CB8-407C-A461-BAC58C12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24735-ECB4-42DB-8A11-0F203DA2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36E-AA94-490F-8862-ACD50E0D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C10E3-16A0-4E9C-AB19-56CCB4F7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E0853-10E8-48C0-ADE7-E0B20628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53DA0-C20D-460D-9189-F0F60D58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D509F-13D0-4951-9159-DDFED347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DBAAA-1CBD-48E3-90E2-8A6A7FE9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5EC85-871D-48FA-BB24-3AE0A5E6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E723E-F02D-4EDB-A22B-0116DFE4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13E85-8413-4D65-B816-318A567B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30D28-EF8F-4732-9645-4E892726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97942-9903-4C3D-A707-7BAD9EF5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975-EB80-46A2-A601-A661B973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A7A76-1064-4CEE-9261-5C635FAE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5937C-49BB-4E84-9162-68E7344D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B033A-ED17-4F90-BBE7-1350451B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DE09C-AFB0-47E4-8742-9164DE5B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25468-8C9E-41A3-A310-282D405A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4753C-B25C-4A80-B991-0C00D45F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8AC80-0424-4F5A-9CCA-90C80C6E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94267-707C-449C-BD54-40B49FC2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A11E0-BC8D-448F-B8D9-679590D5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9E9BC-4FC1-4B03-A929-4F51D738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557B-BBB1-47F9-B983-CFB59ECC2B33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64F4-F05D-4C84-A20B-FADEEA913836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CB93-F5F4-44C4-94DD-491EBFCE1615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CF0F-334F-4228-9F30-7E5FDFB36DD5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27B9-8512-4693-B970-7DC85D5BC9F7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8026-7886-4BE8-83BA-4D566ACB5D98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9B4E-DA50-48E8-AE9D-B26043BADFC0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8AC3-71AA-45F2-8301-9F81779ED8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328F-0919-437C-BD18-A9F253B321BC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11AA-815F-4EBD-83AC-EB2CD39D7693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81BB-BC89-44B5-A6A4-F2AD9882D000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F0D0-6E9E-4981-8BED-344343EB5C1F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4373-6C0D-44E6-88C4-CE5114EBE56E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70C9-7A2D-4CFB-ABBB-2E7107D65B24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3"/>
          <p:cNvSpPr/>
          <p:nvPr/>
        </p:nvSpPr>
        <p:spPr>
          <a:xfrm>
            <a:off x="682560" y="1057320"/>
            <a:ext cx="76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Times New Roman"/>
              </a:rPr>
              <a:t>人教新课标 五年级品德与社会上册</a:t>
            </a:r>
            <a:endParaRPr b="1" lang="en-US" sz="3200" spc="-1" strike="noStrike">
              <a:solidFill>
                <a:srgbClr val="272776"/>
              </a:solidFill>
              <a:latin typeface="Times New Roman"/>
            </a:endParaRPr>
          </a:p>
        </p:txBody>
      </p:sp>
      <p:pic>
        <p:nvPicPr>
          <p:cNvPr id="576" name="矩形 5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7490160" cy="700200"/>
          </a:xfrm>
          <a:prstGeom prst="rect">
            <a:avLst/>
          </a:prstGeom>
          <a:ln w="0">
            <a:noFill/>
          </a:ln>
        </p:spPr>
      </p:pic>
      <p:sp>
        <p:nvSpPr>
          <p:cNvPr id="57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72776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272776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shui03"/>
          <p:cNvPicPr/>
          <p:nvPr/>
        </p:nvPicPr>
        <p:blipFill>
          <a:blip r:embed="rId1"/>
          <a:stretch/>
        </p:blipFill>
        <p:spPr>
          <a:xfrm>
            <a:off x="995400" y="5889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" descr="wen17"/>
          <p:cNvPicPr/>
          <p:nvPr/>
        </p:nvPicPr>
        <p:blipFill>
          <a:blip r:embed="rId2"/>
          <a:stretch/>
        </p:blipFill>
        <p:spPr>
          <a:xfrm>
            <a:off x="1187280" y="1547640"/>
            <a:ext cx="69850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shui03"/>
          <p:cNvPicPr/>
          <p:nvPr/>
        </p:nvPicPr>
        <p:blipFill>
          <a:blip r:embed="rId1"/>
          <a:stretch/>
        </p:blipFill>
        <p:spPr>
          <a:xfrm>
            <a:off x="1025640" y="114300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3"/>
          <p:cNvSpPr/>
          <p:nvPr/>
        </p:nvSpPr>
        <p:spPr>
          <a:xfrm>
            <a:off x="1905120" y="2327400"/>
            <a:ext cx="5867280" cy="73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277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272776"/>
                </a:solidFill>
                <a:latin typeface="Times New Roman"/>
              </a:rPr>
              <a:t>为什么一时一事就能毁掉温州的信誉，而重新建立信誉要花很长的时间？</a:t>
            </a: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600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1" lang="en-US" sz="1600" spc="-1" strike="noStrike">
                <a:solidFill>
                  <a:srgbClr val="272776"/>
                </a:solidFill>
                <a:latin typeface="Arial"/>
                <a:ea typeface="宋体"/>
              </a:rPr>
              <a:t>http://www.eeppt.com/</a:t>
            </a:r>
            <a:endParaRPr b="1" lang="en-US" sz="16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26920" y="2060640"/>
            <a:ext cx="72741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272776"/>
                </a:solidFill>
                <a:latin typeface="Century Gothic"/>
              </a:rPr>
              <a:t>你怎么看下面的几种情况？</a:t>
            </a:r>
            <a:br>
              <a:rPr sz="3700"/>
            </a:br>
            <a:br>
              <a:rPr sz="3700"/>
            </a:br>
            <a:r>
              <a:rPr b="0" lang="zh-CN" sz="2600" spc="-1" strike="noStrike">
                <a:solidFill>
                  <a:srgbClr val="272776"/>
                </a:solidFill>
                <a:latin typeface="Century Gothic"/>
              </a:rPr>
              <a:t>1</a:t>
            </a:r>
            <a:r>
              <a:rPr b="0" lang="zh-CN" sz="2600" spc="-1" strike="noStrike">
                <a:solidFill>
                  <a:srgbClr val="272776"/>
                </a:solidFill>
                <a:latin typeface="Century Gothic"/>
              </a:rPr>
              <a:t>、学校原定</a:t>
            </a:r>
            <a:r>
              <a:rPr b="0" lang="zh-CN" sz="2600" spc="-1" strike="noStrike">
                <a:solidFill>
                  <a:srgbClr val="272776"/>
                </a:solidFill>
                <a:latin typeface="Century Gothic"/>
              </a:rPr>
              <a:t>9</a:t>
            </a:r>
            <a:r>
              <a:rPr b="0" lang="zh-CN" sz="2600" spc="-1" strike="noStrike">
                <a:solidFill>
                  <a:srgbClr val="272776"/>
                </a:solidFill>
                <a:latin typeface="Century Gothic"/>
              </a:rPr>
              <a:t>月</a:t>
            </a:r>
            <a:r>
              <a:rPr b="0" lang="zh-CN" sz="2600" spc="-1" strike="noStrike">
                <a:solidFill>
                  <a:srgbClr val="272776"/>
                </a:solidFill>
                <a:latin typeface="Century Gothic"/>
              </a:rPr>
              <a:t>20</a:t>
            </a:r>
            <a:r>
              <a:rPr b="0" lang="zh-CN" sz="2600" spc="-1" strike="noStrike">
                <a:solidFill>
                  <a:srgbClr val="272776"/>
                </a:solidFill>
                <a:latin typeface="Century Gothic"/>
              </a:rPr>
              <a:t>日召开秋季运动会，可是由于下雨却没能如期举行。</a:t>
            </a:r>
            <a:br>
              <a:rPr sz="2600"/>
            </a:br>
            <a:r>
              <a:rPr b="0" lang="zh-CN" sz="2600" spc="-1" strike="noStrike">
                <a:solidFill>
                  <a:srgbClr val="272776"/>
                </a:solidFill>
                <a:latin typeface="Century Gothic"/>
              </a:rPr>
              <a:t>2</a:t>
            </a:r>
            <a:r>
              <a:rPr b="0" lang="zh-CN" sz="2600" spc="-1" strike="noStrike">
                <a:solidFill>
                  <a:srgbClr val="272776"/>
                </a:solidFill>
                <a:latin typeface="Century Gothic"/>
              </a:rPr>
              <a:t>、某些养猪场为经济利益用动物违禁药品“瘦肉精”饲养生猪。</a:t>
            </a:r>
            <a:br>
              <a:rPr sz="2600"/>
            </a:br>
            <a:r>
              <a:rPr b="0" lang="zh-CN" sz="2600" spc="-1" strike="noStrike">
                <a:solidFill>
                  <a:srgbClr val="272776"/>
                </a:solidFill>
                <a:latin typeface="Century Gothic"/>
              </a:rPr>
              <a:t>3</a:t>
            </a:r>
            <a:r>
              <a:rPr b="0" lang="zh-CN" sz="2600" spc="-1" strike="noStrike">
                <a:solidFill>
                  <a:srgbClr val="272776"/>
                </a:solidFill>
                <a:latin typeface="Century Gothic"/>
              </a:rPr>
              <a:t>、小明与小丽相约下午一起去少年宫，可是小丽接到学校通知，下午需要去学校训练大合唱，就没有去少年宫。小明说小丽说话不算数。</a:t>
            </a:r>
            <a:br>
              <a:rPr sz="2600"/>
            </a:br>
            <a:r>
              <a:rPr b="0" lang="zh-CN" sz="2600" spc="-1" strike="noStrike">
                <a:solidFill>
                  <a:srgbClr val="272776"/>
                </a:solidFill>
                <a:latin typeface="Century Gothic"/>
              </a:rPr>
              <a:t>4</a:t>
            </a:r>
            <a:r>
              <a:rPr b="0" lang="zh-CN" sz="2600" spc="-1" strike="noStrike">
                <a:solidFill>
                  <a:srgbClr val="272776"/>
                </a:solidFill>
                <a:latin typeface="Century Gothic"/>
              </a:rPr>
              <a:t>、小</a:t>
            </a:r>
            <a:r>
              <a:rPr b="0" lang="zh-CN" sz="2600" spc="-1" strike="noStrike">
                <a:solidFill>
                  <a:srgbClr val="272776"/>
                </a:solidFill>
                <a:latin typeface="Century Gothic"/>
              </a:rPr>
              <a:t>A</a:t>
            </a:r>
            <a:r>
              <a:rPr b="0" lang="zh-CN" sz="2600" spc="-1" strike="noStrike">
                <a:solidFill>
                  <a:srgbClr val="272776"/>
                </a:solidFill>
                <a:latin typeface="Century Gothic"/>
              </a:rPr>
              <a:t>答应为小</a:t>
            </a:r>
            <a:r>
              <a:rPr b="0" lang="zh-CN" sz="2600" spc="-1" strike="noStrike">
                <a:solidFill>
                  <a:srgbClr val="272776"/>
                </a:solidFill>
                <a:latin typeface="Century Gothic"/>
              </a:rPr>
              <a:t>B</a:t>
            </a:r>
            <a:r>
              <a:rPr b="0" lang="zh-CN" sz="2600" spc="-1" strike="noStrike">
                <a:solidFill>
                  <a:srgbClr val="272776"/>
                </a:solidFill>
                <a:latin typeface="Century Gothic"/>
              </a:rPr>
              <a:t>写作业，第二天果然带来了写好的作业。小</a:t>
            </a:r>
            <a:r>
              <a:rPr b="0" lang="zh-CN" sz="2600" spc="-1" strike="noStrike">
                <a:solidFill>
                  <a:srgbClr val="272776"/>
                </a:solidFill>
                <a:latin typeface="Century Gothic"/>
              </a:rPr>
              <a:t>B</a:t>
            </a:r>
            <a:r>
              <a:rPr b="0" lang="zh-CN" sz="2600" spc="-1" strike="noStrike">
                <a:solidFill>
                  <a:srgbClr val="272776"/>
                </a:solidFill>
                <a:latin typeface="Century Gothic"/>
              </a:rPr>
              <a:t>夸小</a:t>
            </a:r>
            <a:r>
              <a:rPr b="0" lang="zh-CN" sz="2600" spc="-1" strike="noStrike">
                <a:solidFill>
                  <a:srgbClr val="272776"/>
                </a:solidFill>
                <a:latin typeface="Century Gothic"/>
              </a:rPr>
              <a:t>A</a:t>
            </a:r>
            <a:r>
              <a:rPr b="0" lang="zh-CN" sz="2600" spc="-1" strike="noStrike">
                <a:solidFill>
                  <a:srgbClr val="272776"/>
                </a:solidFill>
                <a:latin typeface="Century Gothic"/>
              </a:rPr>
              <a:t>是个守信用的人。</a:t>
            </a:r>
            <a:endParaRPr b="0" lang="en-US" sz="26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25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72776"/>
                </a:solidFill>
                <a:latin typeface="Century Gothic"/>
              </a:rPr>
              <a:t>   </a:t>
            </a:r>
            <a:r>
              <a:rPr b="0" lang="zh-CN" sz="4800" spc="-1" strike="noStrike">
                <a:solidFill>
                  <a:srgbClr val="272776"/>
                </a:solidFill>
                <a:latin typeface="Century Gothic"/>
              </a:rPr>
              <a:t>诚信是无形资产；诚信是无字招牌；诚信是无言口碑；诚信是无声广告。</a:t>
            </a:r>
            <a:endParaRPr b="0" lang="en-US" sz="4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72776"/>
                </a:solidFill>
                <a:latin typeface="Century Gothic"/>
              </a:rPr>
              <a:t>         </a:t>
            </a:r>
            <a:r>
              <a:rPr b="0" lang="zh-CN" sz="4800" spc="-1" strike="noStrike">
                <a:solidFill>
                  <a:srgbClr val="272776"/>
                </a:solidFill>
                <a:latin typeface="Century Gothic"/>
              </a:rPr>
              <a:t>承诺重于泰山，</a:t>
            </a:r>
            <a:endParaRPr b="0" lang="en-US" sz="4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72776"/>
                </a:solidFill>
                <a:latin typeface="Century Gothic"/>
              </a:rPr>
              <a:t>         </a:t>
            </a:r>
            <a:r>
              <a:rPr b="0" lang="zh-CN" sz="4800" spc="-1" strike="noStrike">
                <a:solidFill>
                  <a:srgbClr val="272776"/>
                </a:solidFill>
                <a:latin typeface="Century Gothic"/>
              </a:rPr>
              <a:t>信誉高于生命。</a:t>
            </a:r>
            <a:endParaRPr b="0" lang="en-US" sz="4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72776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60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1D2C-E100-4CB8-87EF-D55D6D2BE8F0}" type="slidenum">
              <a:rPr b="0" lang="zh-CN" sz="1400" spc="-1" strike="noStrike">
                <a:solidFill>
                  <a:srgbClr val="27277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82692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72776"/>
                </a:solidFill>
                <a:latin typeface="Century Gothic"/>
              </a:rPr>
              <a:t>  </a:t>
            </a:r>
            <a:r>
              <a:rPr b="0" lang="zh-CN" sz="6000" spc="-1" strike="noStrike">
                <a:solidFill>
                  <a:srgbClr val="272776"/>
                </a:solidFill>
                <a:latin typeface="Century Gothic"/>
              </a:rPr>
              <a:t>以诚实守信为荣   </a:t>
            </a:r>
            <a:endParaRPr b="0" lang="en-US" sz="6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72776"/>
                </a:solidFill>
                <a:latin typeface="Century Gothic"/>
              </a:rPr>
              <a:t>  </a:t>
            </a:r>
            <a:r>
              <a:rPr b="0" lang="zh-CN" sz="6000" spc="-1" strike="noStrike">
                <a:solidFill>
                  <a:srgbClr val="272776"/>
                </a:solidFill>
                <a:latin typeface="Century Gothic"/>
              </a:rPr>
              <a:t>以见利忘义为耻  </a:t>
            </a:r>
            <a:endParaRPr b="0" lang="en-US" sz="60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shui03"/>
          <p:cNvPicPr/>
          <p:nvPr/>
        </p:nvPicPr>
        <p:blipFill>
          <a:blip r:embed="rId1"/>
          <a:stretch/>
        </p:blipFill>
        <p:spPr>
          <a:xfrm>
            <a:off x="1025640" y="114300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诚信危机"/>
          <p:cNvPicPr/>
          <p:nvPr/>
        </p:nvPicPr>
        <p:blipFill>
          <a:blip r:embed="rId2"/>
          <a:stretch/>
        </p:blipFill>
        <p:spPr>
          <a:xfrm>
            <a:off x="1763640" y="1628640"/>
            <a:ext cx="59943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900000" y="2060640"/>
            <a:ext cx="7527960" cy="160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50440" bIns="622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642960" y="2300400"/>
            <a:ext cx="781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72776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272776"/>
                </a:solidFill>
                <a:latin typeface="Times New Roman"/>
              </a:rPr>
              <a:t>检验合格，未含三聚氰胺</a:t>
            </a:r>
            <a:endParaRPr b="1" lang="en-US" sz="4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582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1" lang="en-US" sz="1600" spc="-1" strike="noStrike">
                <a:solidFill>
                  <a:srgbClr val="272776"/>
                </a:solidFill>
                <a:latin typeface="Arial"/>
                <a:ea typeface="宋体"/>
              </a:rPr>
              <a:t>http://www.eeppt.com/</a:t>
            </a:r>
            <a:endParaRPr b="1" lang="en-US" sz="16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13716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72776"/>
                </a:solidFill>
                <a:latin typeface="Century Gothic"/>
              </a:rPr>
              <a:t>          </a:t>
            </a:r>
            <a:r>
              <a:rPr b="0" lang="zh-CN" sz="40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zh-CN" sz="4000" spc="-1" strike="noStrike">
                <a:solidFill>
                  <a:srgbClr val="272776"/>
                </a:solidFill>
                <a:latin typeface="Century Gothic"/>
              </a:rPr>
              <a:t>三鹿事件造成</a:t>
            </a:r>
            <a:r>
              <a:rPr b="0" lang="zh-CN" sz="4000" spc="-1" strike="noStrike">
                <a:solidFill>
                  <a:srgbClr val="272776"/>
                </a:solidFill>
                <a:latin typeface="Century Gothic"/>
              </a:rPr>
              <a:t>6</a:t>
            </a:r>
            <a:r>
              <a:rPr b="0" lang="zh-CN" sz="4000" spc="-1" strike="noStrike">
                <a:solidFill>
                  <a:srgbClr val="272776"/>
                </a:solidFill>
                <a:latin typeface="Century Gothic"/>
              </a:rPr>
              <a:t>个婴孩因喝了毒奶死亡，逾</a:t>
            </a:r>
            <a:r>
              <a:rPr b="0" lang="zh-CN" sz="4000" spc="-1" strike="noStrike">
                <a:solidFill>
                  <a:srgbClr val="272776"/>
                </a:solidFill>
                <a:latin typeface="Century Gothic"/>
              </a:rPr>
              <a:t>30</a:t>
            </a:r>
            <a:r>
              <a:rPr b="0" lang="zh-CN" sz="4000" spc="-1" strike="noStrike">
                <a:solidFill>
                  <a:srgbClr val="272776"/>
                </a:solidFill>
                <a:latin typeface="Century Gothic"/>
              </a:rPr>
              <a:t>万儿童患病。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72776"/>
                </a:solidFill>
                <a:latin typeface="Century Gothic"/>
              </a:rPr>
              <a:t>             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72776"/>
                </a:solidFill>
                <a:latin typeface="Century Gothic"/>
              </a:rPr>
              <a:t>          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4" name="Text Box 3"/>
          <p:cNvSpPr/>
          <p:nvPr/>
        </p:nvSpPr>
        <p:spPr>
          <a:xfrm flipV="1">
            <a:off x="2031840" y="548280"/>
            <a:ext cx="5080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611280" y="981000"/>
            <a:ext cx="8066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72776"/>
                </a:solidFill>
                <a:latin typeface="Century Gothic"/>
              </a:rPr>
              <a:t>   </a:t>
            </a:r>
            <a:r>
              <a:rPr b="0" lang="zh-CN" sz="3600" spc="-1" strike="noStrike">
                <a:solidFill>
                  <a:srgbClr val="272776"/>
                </a:solidFill>
                <a:latin typeface="Century Gothic"/>
              </a:rPr>
              <a:t>三鹿事件，使中国的奶制品企业，面临一场将近毁灭性的打击！中国几十年发展起来的奶制品行业，将面临毁于一旦的危险！而其破坏效应随着产业链条的传导和放射，将直接对中国经济造成沉重的打击！中国的整个食品制造行业，将为此付出惨重代价。中国的整个农产品系统，将为此付出惨痛代价。中国整个制造业系统，将为此付出惨痛代价。三鹿对中国经济的打击将远远出乎意料。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1332000" y="1699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72776"/>
                </a:solidFill>
                <a:latin typeface="Century Gothic"/>
              </a:rPr>
              <a:t>三鹿停产后已宣告破产。</a:t>
            </a:r>
            <a:endParaRPr b="0" lang="en-US" sz="4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shui03"/>
          <p:cNvPicPr/>
          <p:nvPr/>
        </p:nvPicPr>
        <p:blipFill>
          <a:blip r:embed="rId1"/>
          <a:stretch/>
        </p:blipFill>
        <p:spPr>
          <a:xfrm>
            <a:off x="1025640" y="114300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3"/>
          <p:cNvSpPr/>
          <p:nvPr/>
        </p:nvSpPr>
        <p:spPr>
          <a:xfrm>
            <a:off x="1258920" y="1484280"/>
            <a:ext cx="7056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277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272776"/>
                </a:solidFill>
                <a:latin typeface="Times New Roman"/>
              </a:rPr>
              <a:t>一天，某冰箱厂的厂长收到一封用户的来信，反应他们厂生产的电冰箱不合格。经过调查，他发现由于部分工人产品质量意识差，造成了</a:t>
            </a:r>
            <a:r>
              <a:rPr b="1" lang="zh-CN" sz="2800" spc="-1" strike="noStrike">
                <a:solidFill>
                  <a:srgbClr val="272776"/>
                </a:solidFill>
                <a:latin typeface="Times New Roman"/>
              </a:rPr>
              <a:t>76</a:t>
            </a:r>
            <a:r>
              <a:rPr b="1" lang="zh-CN" sz="2800" spc="-1" strike="noStrike">
                <a:solidFill>
                  <a:srgbClr val="272776"/>
                </a:solidFill>
                <a:latin typeface="Times New Roman"/>
              </a:rPr>
              <a:t>台电冰箱不合格的严重后果。于是，厂长当即召开职工大会，把</a:t>
            </a:r>
            <a:r>
              <a:rPr b="1" lang="zh-CN" sz="2800" spc="-1" strike="noStrike">
                <a:solidFill>
                  <a:srgbClr val="272776"/>
                </a:solidFill>
                <a:latin typeface="Times New Roman"/>
              </a:rPr>
              <a:t>76</a:t>
            </a:r>
            <a:r>
              <a:rPr b="1" lang="zh-CN" sz="2800" spc="-1" strike="noStrike">
                <a:solidFill>
                  <a:srgbClr val="272776"/>
                </a:solidFill>
                <a:latin typeface="Times New Roman"/>
              </a:rPr>
              <a:t>台不合格的冰箱放在台上，带头用铁锤砸毁了这些冰箱。一锤锤砸下，砸在了工人们的心上。一位技术员心痛地阻拦，说：“其实这些冰箱还可以用，降价内部处理就行了嘛，这一砸，多可惜呀。</a:t>
            </a:r>
            <a:endParaRPr b="1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589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1" lang="en-US" sz="1600" spc="-1" strike="noStrike">
                <a:solidFill>
                  <a:srgbClr val="272776"/>
                </a:solidFill>
                <a:latin typeface="Arial"/>
                <a:ea typeface="宋体"/>
              </a:rPr>
              <a:t>http://www.eeppt.com/</a:t>
            </a:r>
            <a:endParaRPr b="1" lang="en-US" sz="16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shui03"/>
          <p:cNvPicPr/>
          <p:nvPr/>
        </p:nvPicPr>
        <p:blipFill>
          <a:blip r:embed="rId1"/>
          <a:stretch/>
        </p:blipFill>
        <p:spPr>
          <a:xfrm>
            <a:off x="1025640" y="114300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3" descr="男孩在思考"/>
          <p:cNvPicPr/>
          <p:nvPr/>
        </p:nvPicPr>
        <p:blipFill>
          <a:blip r:embed="rId2"/>
          <a:stretch/>
        </p:blipFill>
        <p:spPr>
          <a:xfrm>
            <a:off x="4952880" y="2286000"/>
            <a:ext cx="2936880" cy="416088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4"/>
          <p:cNvGrpSpPr/>
          <p:nvPr/>
        </p:nvGrpSpPr>
        <p:grpSpPr>
          <a:xfrm>
            <a:off x="609480" y="1828800"/>
            <a:ext cx="5105520" cy="2057400"/>
            <a:chOff x="609480" y="1828800"/>
            <a:chExt cx="5105520" cy="2057400"/>
          </a:xfrm>
        </p:grpSpPr>
        <p:sp>
          <p:nvSpPr>
            <p:cNvPr id="593" name="AutoShape 5"/>
            <p:cNvSpPr/>
            <p:nvPr/>
          </p:nvSpPr>
          <p:spPr>
            <a:xfrm>
              <a:off x="609480" y="1828800"/>
              <a:ext cx="5105520" cy="2057400"/>
            </a:xfrm>
            <a:prstGeom prst="cloudCallout">
              <a:avLst>
                <a:gd name="adj1" fmla="val 53453"/>
                <a:gd name="adj2" fmla="val 4776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2727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  <p:sp>
          <p:nvSpPr>
            <p:cNvPr id="594" name="Rectangle 6"/>
            <p:cNvSpPr/>
            <p:nvPr/>
          </p:nvSpPr>
          <p:spPr>
            <a:xfrm>
              <a:off x="914400" y="2330280"/>
              <a:ext cx="4755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72776"/>
                  </a:solidFill>
                  <a:latin typeface="Times New Roman"/>
                </a:rPr>
                <a:t>         </a:t>
              </a:r>
              <a:r>
                <a:rPr b="1" lang="zh-CN" sz="2800" spc="-1" strike="noStrike">
                  <a:solidFill>
                    <a:srgbClr val="272776"/>
                  </a:solidFill>
                  <a:latin typeface="Times New Roman"/>
                </a:rPr>
                <a:t>厂长为什么要这样做？可以不砸冰箱吗？”</a:t>
              </a:r>
              <a:endParaRPr b="1" lang="en-US" sz="28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466200" y="765000"/>
            <a:ext cx="79916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    </a:t>
            </a: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当时一台冰箱的价格</a:t>
            </a: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800</a:t>
            </a: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多元，相当于一名职工两年的收入。张瑞敏说：“我要是允许把这</a:t>
            </a: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76</a:t>
            </a: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台冰箱卖了，就等于允许你们明天再生产</a:t>
            </a: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760</a:t>
            </a: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台这样的冰箱。”他宣布，这些冰箱要全部砸掉，谁干的谁来砸，并抡起大锤亲手砸了第一锤！很多职工砸冰箱时流下了眼泪。在接下来的一个多月里，张瑞敏发动和主持了一个又一个会议，讨论的主题非常集中：“如何从我做起，提高产品质量”，</a:t>
            </a:r>
            <a:r>
              <a:rPr b="1" lang="zh-CN" sz="2800" spc="-1" strike="noStrike">
                <a:solidFill>
                  <a:srgbClr val="ff0000"/>
                </a:solidFill>
                <a:latin typeface="Century Gothic"/>
              </a:rPr>
              <a:t>三年以后，海尔人捧回了我国冰箱行业的第一块国家质量金奖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272776"/>
                </a:solidFill>
                <a:latin typeface="Century Gothic"/>
              </a:rPr>
              <a:t>    一场砸冰箱的事件，不仅使海尔成为了当时注重质量的代名词，同时也震服了海尔所有的人。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4:36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34Z</dcterms:modified>
  <cp:revision>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e60b000000000001024120</vt:lpwstr>
  </property>
</Properties>
</file>