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25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BEE-4D71-4C75-9E87-CBFB9A06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604-CD55-4D9F-ABC2-87BCC5A4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510-48CA-438E-8784-D4102C47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A5E-5EB4-4FE4-BBB9-B4CA33E6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7B3A-EC45-45BC-A9CB-2DD3DA09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6B04-4BB2-4BFD-AC0F-DBDBBB13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ECF6-D716-4A5A-A476-3430BCA1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CAE-B91E-42D4-A7DD-14C6A8C0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51FF-EED7-4D5B-9BD2-C16083E2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2F5C-CD63-4083-909A-997DC04A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5040-636E-4817-A144-63868227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127-146B-4F1E-B277-EB77B9A4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D82D-7BAC-495F-99C3-15FDB7DE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CDFF-0595-4ECB-9CCD-6419EEFC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4201-BBFB-4FD1-AD86-B1E9ADC9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7334-2877-40D0-99B3-8FA97150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7301-BE49-4C6E-AA15-968938AC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0DF-1ACD-49A5-B871-53826117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BEC-61A6-4D76-89D4-5957029A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F38-2821-4335-94E1-87DF2A5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A6E-F457-4C43-AE2C-E695642E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14A-74FF-4718-8383-F231DE1B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64F-BE80-4CE9-988F-AC3AAD1C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48F-7048-4CF9-8AB0-0FDA0A0A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F44D-279A-4FB7-8CE3-E8D6936A60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7AC6-9BB7-4FBE-8DAE-C43DEE750B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\\Lhs-3\2-4&#21319;&#21326;&#21644;&#20957;&#21326;\2-&#35270;&#39057;-3&#26377;&#36259;&#30340;&#28082;&#27694;&#23454;&#39564;.mpg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1"/>
          <p:cNvPicPr/>
          <p:nvPr/>
        </p:nvPicPr>
        <p:blipFill>
          <a:blip r:embed="rId1"/>
          <a:stretch/>
        </p:blipFill>
        <p:spPr>
          <a:xfrm>
            <a:off x="533520" y="1944720"/>
            <a:ext cx="8202600" cy="4444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528480" y="735120"/>
            <a:ext cx="820764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升华和凝华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2"/>
          <p:cNvSpPr/>
          <p:nvPr/>
        </p:nvSpPr>
        <p:spPr>
          <a:xfrm>
            <a:off x="0" y="601560"/>
            <a:ext cx="86756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冬天霜的形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20051227112818434"/>
          <p:cNvPicPr/>
          <p:nvPr/>
        </p:nvPicPr>
        <p:blipFill>
          <a:blip r:embed="rId1"/>
          <a:stretch/>
        </p:blipFill>
        <p:spPr>
          <a:xfrm>
            <a:off x="611280" y="4213080"/>
            <a:ext cx="3805200" cy="210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004"/>
          <p:cNvPicPr/>
          <p:nvPr/>
        </p:nvPicPr>
        <p:blipFill>
          <a:blip r:embed="rId2"/>
          <a:stretch/>
        </p:blipFill>
        <p:spPr>
          <a:xfrm>
            <a:off x="4716360" y="1628640"/>
            <a:ext cx="3875040" cy="468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009"/>
          <p:cNvPicPr/>
          <p:nvPr/>
        </p:nvPicPr>
        <p:blipFill>
          <a:blip r:embed="rId3"/>
          <a:stretch/>
        </p:blipFill>
        <p:spPr>
          <a:xfrm>
            <a:off x="611280" y="1628640"/>
            <a:ext cx="3816360" cy="2525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611280" y="1628640"/>
            <a:ext cx="29527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- 5℃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时在窗上出现的冰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788000" y="1628640"/>
            <a:ext cx="8636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雾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611280" y="5950080"/>
            <a:ext cx="15127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围栏上的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1" descr="发黑的灯泡4-27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076720" y="3573360"/>
            <a:ext cx="3097440" cy="256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0" y="692280"/>
            <a:ext cx="8532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电灯泡用久了，钨丝会变细、内壁会发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241440" cy="396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2006122313041832062"/>
          <p:cNvPicPr/>
          <p:nvPr/>
        </p:nvPicPr>
        <p:blipFill>
          <a:blip r:embed="rId3"/>
          <a:stretch/>
        </p:blipFill>
        <p:spPr>
          <a:xfrm>
            <a:off x="4067280" y="1989000"/>
            <a:ext cx="1904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8" descr="200708171758066468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2"/>
          <p:cNvSpPr/>
          <p:nvPr/>
        </p:nvSpPr>
        <p:spPr>
          <a:xfrm>
            <a:off x="0" y="601560"/>
            <a:ext cx="86756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冬天的雪花的形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4" descr="222133"/>
          <p:cNvPicPr/>
          <p:nvPr/>
        </p:nvPicPr>
        <p:blipFill>
          <a:blip r:embed="rId2"/>
          <a:stretch/>
        </p:blipFill>
        <p:spPr>
          <a:xfrm>
            <a:off x="6480000" y="4791240"/>
            <a:ext cx="2664000" cy="2066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256046"/>
          <p:cNvPicPr/>
          <p:nvPr/>
        </p:nvPicPr>
        <p:blipFill>
          <a:blip r:embed="rId3"/>
          <a:stretch/>
        </p:blipFill>
        <p:spPr>
          <a:xfrm>
            <a:off x="6467400" y="1700280"/>
            <a:ext cx="2705040" cy="288108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8196"/>
          <p:cNvSpPr/>
          <p:nvPr/>
        </p:nvSpPr>
        <p:spPr>
          <a:xfrm>
            <a:off x="498600" y="55497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0" y="0"/>
            <a:ext cx="855504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知道舞台上的“云雾”是哪里来的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0" y="765000"/>
            <a:ext cx="9143640" cy="6092280"/>
            <a:chOff x="0" y="765000"/>
            <a:chExt cx="9143640" cy="6092280"/>
          </a:xfrm>
        </p:grpSpPr>
        <p:pic>
          <p:nvPicPr>
            <p:cNvPr id="157" name="Picture 12" descr="good2"/>
            <p:cNvPicPr/>
            <p:nvPr/>
          </p:nvPicPr>
          <p:blipFill>
            <a:blip r:embed="rId1"/>
            <a:stretch/>
          </p:blipFill>
          <p:spPr>
            <a:xfrm>
              <a:off x="4488840" y="812880"/>
              <a:ext cx="4654800" cy="60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3" descr="good"/>
            <p:cNvPicPr/>
            <p:nvPr/>
          </p:nvPicPr>
          <p:blipFill>
            <a:blip r:embed="rId2">
              <a:lum bright="-30000"/>
            </a:blip>
            <a:stretch/>
          </p:blipFill>
          <p:spPr>
            <a:xfrm>
              <a:off x="0" y="765000"/>
              <a:ext cx="4488840" cy="609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1083167047"/>
          <p:cNvPicPr/>
          <p:nvPr/>
        </p:nvPicPr>
        <p:blipFill>
          <a:blip r:embed="rId1"/>
          <a:stretch/>
        </p:blipFill>
        <p:spPr>
          <a:xfrm>
            <a:off x="5148360" y="1052640"/>
            <a:ext cx="3255840" cy="4895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6169680" y="5805360"/>
            <a:ext cx="1278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饮料中加入干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68360" y="260280"/>
            <a:ext cx="2411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干冰简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395280" y="981000"/>
            <a:ext cx="4572000" cy="1620000"/>
          </a:xfrm>
          <a:prstGeom prst="rect">
            <a:avLst/>
          </a:prstGeom>
          <a:solidFill>
            <a:srgbClr val="333399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▲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干冰即是在大气压下以零下摄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78.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度存在的固体二氧化碳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▲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液态二氧化碳冷却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-21.1℃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、     压力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.415Mpa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就形成固态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▲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干冰吸热可直接升华为气体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▲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干冰密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500Kg/m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4681440" cy="2981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5"/>
          <p:cNvSpPr/>
          <p:nvPr/>
        </p:nvSpPr>
        <p:spPr>
          <a:xfrm>
            <a:off x="1763640" y="6093000"/>
            <a:ext cx="12956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干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1"/>
          <p:cNvSpPr/>
          <p:nvPr/>
        </p:nvSpPr>
        <p:spPr>
          <a:xfrm>
            <a:off x="468360" y="4668840"/>
            <a:ext cx="7920000" cy="520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琥珀"/>
              </a:rPr>
              <a:t>舞台上喷出的干冰瞬间升华，从周围吸热，导致温度下降；周围空气里的水蒸气遇冷液化成小水珠，即我们所见到烟雾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2_039"/>
          <p:cNvPicPr/>
          <p:nvPr/>
        </p:nvPicPr>
        <p:blipFill>
          <a:blip r:embed="rId1"/>
          <a:stretch/>
        </p:blipFill>
        <p:spPr>
          <a:xfrm>
            <a:off x="7885080" y="5605560"/>
            <a:ext cx="895320" cy="847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0" y="620640"/>
            <a:ext cx="8388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舞台的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烟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之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2"/>
          <p:cNvGrpSpPr/>
          <p:nvPr/>
        </p:nvGrpSpPr>
        <p:grpSpPr>
          <a:xfrm>
            <a:off x="468360" y="1636560"/>
            <a:ext cx="7920000" cy="2656080"/>
            <a:chOff x="468360" y="1636560"/>
            <a:chExt cx="7920000" cy="2656080"/>
          </a:xfrm>
        </p:grpSpPr>
        <p:pic>
          <p:nvPicPr>
            <p:cNvPr id="169" name="Picture 13" descr="good2"/>
            <p:cNvPicPr/>
            <p:nvPr/>
          </p:nvPicPr>
          <p:blipFill>
            <a:blip r:embed="rId2"/>
            <a:stretch/>
          </p:blipFill>
          <p:spPr>
            <a:xfrm>
              <a:off x="4356360" y="1657440"/>
              <a:ext cx="4032000" cy="26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4" descr="good"/>
            <p:cNvPicPr/>
            <p:nvPr/>
          </p:nvPicPr>
          <p:blipFill>
            <a:blip r:embed="rId3">
              <a:lum bright="-30000"/>
            </a:blip>
            <a:stretch/>
          </p:blipFill>
          <p:spPr>
            <a:xfrm>
              <a:off x="468360" y="1636560"/>
              <a:ext cx="3888000" cy="265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7"/>
          <p:cNvGrpSpPr/>
          <p:nvPr/>
        </p:nvGrpSpPr>
        <p:grpSpPr>
          <a:xfrm>
            <a:off x="1979640" y="1989000"/>
            <a:ext cx="6267240" cy="3307680"/>
            <a:chOff x="1979640" y="1989000"/>
            <a:chExt cx="6267240" cy="3307680"/>
          </a:xfrm>
        </p:grpSpPr>
        <p:sp>
          <p:nvSpPr>
            <p:cNvPr id="172" name="Oval 14"/>
            <p:cNvSpPr/>
            <p:nvPr/>
          </p:nvSpPr>
          <p:spPr>
            <a:xfrm>
              <a:off x="1979640" y="2309040"/>
              <a:ext cx="3391560" cy="2240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3528000" y="3376080"/>
              <a:ext cx="3686760" cy="19206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4633920" y="1989000"/>
              <a:ext cx="3612960" cy="23475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2"/>
          <p:cNvGrpSpPr/>
          <p:nvPr/>
        </p:nvGrpSpPr>
        <p:grpSpPr>
          <a:xfrm>
            <a:off x="3132000" y="2854440"/>
            <a:ext cx="1870920" cy="608760"/>
            <a:chOff x="3132000" y="2854440"/>
            <a:chExt cx="1870920" cy="608760"/>
          </a:xfrm>
        </p:grpSpPr>
        <p:sp>
          <p:nvSpPr>
            <p:cNvPr id="176" name="AutoShape 18"/>
            <p:cNvSpPr/>
            <p:nvPr/>
          </p:nvSpPr>
          <p:spPr>
            <a:xfrm>
              <a:off x="3132000" y="2854440"/>
              <a:ext cx="339840" cy="15228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812760" y="2930400"/>
              <a:ext cx="169560" cy="1519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"/>
            <p:cNvSpPr/>
            <p:nvPr/>
          </p:nvSpPr>
          <p:spPr>
            <a:xfrm>
              <a:off x="4152600" y="3082680"/>
              <a:ext cx="339840" cy="22824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 flipV="1">
              <a:off x="4663080" y="3386880"/>
              <a:ext cx="339840" cy="759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23"/>
          <p:cNvSpPr/>
          <p:nvPr/>
        </p:nvSpPr>
        <p:spPr>
          <a:xfrm>
            <a:off x="3564000" y="1701720"/>
            <a:ext cx="2133360" cy="914400"/>
          </a:xfrm>
          <a:prstGeom prst="wedgeRoundRectCallout">
            <a:avLst>
              <a:gd name="adj1" fmla="val -56694"/>
              <a:gd name="adj2" fmla="val 783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把干冰撒入冷云层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-210240" y="1116000"/>
            <a:ext cx="13993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人工降雨剖析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PL_054"/>
          <p:cNvPicPr/>
          <p:nvPr/>
        </p:nvPicPr>
        <p:blipFill>
          <a:blip r:embed="rId1"/>
          <a:stretch/>
        </p:blipFill>
        <p:spPr>
          <a:xfrm>
            <a:off x="1692360" y="1917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1" descr="u=42284029,1445579733&amp;gp=-24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5003640" y="3646440"/>
            <a:ext cx="597240" cy="647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24"/>
          <p:cNvSpPr/>
          <p:nvPr/>
        </p:nvSpPr>
        <p:spPr>
          <a:xfrm>
            <a:off x="5364000" y="4654440"/>
            <a:ext cx="2806920" cy="1366920"/>
          </a:xfrm>
          <a:prstGeom prst="wedgeRoundRectCallout">
            <a:avLst>
              <a:gd name="adj1" fmla="val -52037"/>
              <a:gd name="adj2" fmla="val -102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冰升华吸热，使空气温度急剧下降；空气中的水蒸气凝华成小冰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826920" y="260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四、学以致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PL_054"/>
          <p:cNvPicPr/>
          <p:nvPr/>
        </p:nvPicPr>
        <p:blipFill>
          <a:blip r:embed="rId1"/>
          <a:stretch/>
        </p:blipFill>
        <p:spPr>
          <a:xfrm>
            <a:off x="1687680" y="800280"/>
            <a:ext cx="1828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9"/>
          <p:cNvGrpSpPr/>
          <p:nvPr/>
        </p:nvGrpSpPr>
        <p:grpSpPr>
          <a:xfrm>
            <a:off x="3011400" y="2813040"/>
            <a:ext cx="4800600" cy="2438280"/>
            <a:chOff x="3011400" y="2813040"/>
            <a:chExt cx="4800600" cy="2438280"/>
          </a:xfrm>
        </p:grpSpPr>
        <p:sp>
          <p:nvSpPr>
            <p:cNvPr id="188" name="Oval 4"/>
            <p:cNvSpPr/>
            <p:nvPr/>
          </p:nvSpPr>
          <p:spPr>
            <a:xfrm>
              <a:off x="3011400" y="3346560"/>
              <a:ext cx="1600200" cy="106668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5"/>
            <p:cNvSpPr/>
            <p:nvPr/>
          </p:nvSpPr>
          <p:spPr>
            <a:xfrm>
              <a:off x="4154400" y="2813040"/>
              <a:ext cx="2057400" cy="144792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4154400" y="3651120"/>
              <a:ext cx="2590560" cy="160020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5830560" y="3117960"/>
              <a:ext cx="1981440" cy="99036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4"/>
          <p:cNvSpPr/>
          <p:nvPr/>
        </p:nvSpPr>
        <p:spPr>
          <a:xfrm>
            <a:off x="70560" y="1258920"/>
            <a:ext cx="13993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人工降雨剖析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4451400" y="4336920"/>
            <a:ext cx="115236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404600" y="4400640"/>
            <a:ext cx="911880" cy="70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下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u=42284029,1445579733&amp;gp=-24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4667400" y="3720960"/>
            <a:ext cx="596880" cy="6480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2"/>
          <p:cNvSpPr/>
          <p:nvPr/>
        </p:nvSpPr>
        <p:spPr>
          <a:xfrm>
            <a:off x="5819760" y="2297160"/>
            <a:ext cx="1752480" cy="838080"/>
          </a:xfrm>
          <a:prstGeom prst="wedgeRoundRectCallout">
            <a:avLst>
              <a:gd name="adj1" fmla="val -98550"/>
              <a:gd name="adj2" fmla="val 1647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冰粒变大而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L_054"/>
          <p:cNvPicPr/>
          <p:nvPr/>
        </p:nvPicPr>
        <p:blipFill>
          <a:blip r:embed="rId1"/>
          <a:stretch/>
        </p:blipFill>
        <p:spPr>
          <a:xfrm>
            <a:off x="1447920" y="609480"/>
            <a:ext cx="1828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"/>
          <p:cNvGrpSpPr/>
          <p:nvPr/>
        </p:nvGrpSpPr>
        <p:grpSpPr>
          <a:xfrm>
            <a:off x="3048120" y="2127240"/>
            <a:ext cx="4800600" cy="2438280"/>
            <a:chOff x="3048120" y="2127240"/>
            <a:chExt cx="4800600" cy="2438280"/>
          </a:xfrm>
        </p:grpSpPr>
        <p:sp>
          <p:nvSpPr>
            <p:cNvPr id="199" name="Oval 4"/>
            <p:cNvSpPr/>
            <p:nvPr/>
          </p:nvSpPr>
          <p:spPr>
            <a:xfrm>
              <a:off x="3048120" y="2660760"/>
              <a:ext cx="1600200" cy="106668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5"/>
            <p:cNvSpPr/>
            <p:nvPr/>
          </p:nvSpPr>
          <p:spPr>
            <a:xfrm>
              <a:off x="4191120" y="2127240"/>
              <a:ext cx="2057400" cy="144792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6"/>
            <p:cNvSpPr/>
            <p:nvPr/>
          </p:nvSpPr>
          <p:spPr>
            <a:xfrm>
              <a:off x="4191120" y="2965320"/>
              <a:ext cx="2590560" cy="160020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7"/>
            <p:cNvSpPr/>
            <p:nvPr/>
          </p:nvSpPr>
          <p:spPr>
            <a:xfrm>
              <a:off x="5867280" y="2432160"/>
              <a:ext cx="1981440" cy="990360"/>
            </a:xfrm>
            <a:prstGeom prst="ellipse">
              <a:avLst/>
            </a:prstGeom>
            <a:solidFill>
              <a:srgbClr val="d1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9"/>
          <p:cNvSpPr/>
          <p:nvPr/>
        </p:nvSpPr>
        <p:spPr>
          <a:xfrm>
            <a:off x="4800600" y="4870440"/>
            <a:ext cx="990720" cy="1654200"/>
          </a:xfrm>
          <a:prstGeom prst="upArrow">
            <a:avLst>
              <a:gd name="adj1" fmla="val 57694"/>
              <a:gd name="adj2" fmla="val 5563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暖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3780000" y="3645000"/>
            <a:ext cx="1522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5292720" y="407664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3"/>
          <p:cNvSpPr/>
          <p:nvPr/>
        </p:nvSpPr>
        <p:spPr>
          <a:xfrm>
            <a:off x="4500720" y="4005360"/>
            <a:ext cx="1522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5796000" y="422100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5"/>
          <p:cNvSpPr/>
          <p:nvPr/>
        </p:nvSpPr>
        <p:spPr>
          <a:xfrm>
            <a:off x="3708360" y="42037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6"/>
          <p:cNvSpPr/>
          <p:nvPr/>
        </p:nvSpPr>
        <p:spPr>
          <a:xfrm>
            <a:off x="4495680" y="5157720"/>
            <a:ext cx="1526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7"/>
          <p:cNvSpPr/>
          <p:nvPr/>
        </p:nvSpPr>
        <p:spPr>
          <a:xfrm>
            <a:off x="4500720" y="4508640"/>
            <a:ext cx="1522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8"/>
          <p:cNvSpPr/>
          <p:nvPr/>
        </p:nvSpPr>
        <p:spPr>
          <a:xfrm>
            <a:off x="3635280" y="4941720"/>
            <a:ext cx="1526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9"/>
          <p:cNvSpPr/>
          <p:nvPr/>
        </p:nvSpPr>
        <p:spPr>
          <a:xfrm>
            <a:off x="3505320" y="59371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0"/>
          <p:cNvSpPr/>
          <p:nvPr/>
        </p:nvSpPr>
        <p:spPr>
          <a:xfrm>
            <a:off x="4419720" y="59371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1"/>
          <p:cNvSpPr/>
          <p:nvPr/>
        </p:nvSpPr>
        <p:spPr>
          <a:xfrm>
            <a:off x="6443640" y="472428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6443640" y="41497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3"/>
          <p:cNvSpPr/>
          <p:nvPr/>
        </p:nvSpPr>
        <p:spPr>
          <a:xfrm>
            <a:off x="5940360" y="5013360"/>
            <a:ext cx="1526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4"/>
          <p:cNvSpPr/>
          <p:nvPr/>
        </p:nvSpPr>
        <p:spPr>
          <a:xfrm>
            <a:off x="6588000" y="5445000"/>
            <a:ext cx="1526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5"/>
          <p:cNvSpPr/>
          <p:nvPr/>
        </p:nvSpPr>
        <p:spPr>
          <a:xfrm>
            <a:off x="6019920" y="59371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6"/>
          <p:cNvSpPr/>
          <p:nvPr/>
        </p:nvSpPr>
        <p:spPr>
          <a:xfrm>
            <a:off x="7164360" y="3284640"/>
            <a:ext cx="1522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7"/>
          <p:cNvSpPr/>
          <p:nvPr/>
        </p:nvSpPr>
        <p:spPr>
          <a:xfrm>
            <a:off x="7164360" y="4149720"/>
            <a:ext cx="1522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9"/>
          <p:cNvSpPr/>
          <p:nvPr/>
        </p:nvSpPr>
        <p:spPr>
          <a:xfrm>
            <a:off x="5791320" y="836640"/>
            <a:ext cx="2668320" cy="1152360"/>
          </a:xfrm>
          <a:prstGeom prst="wedgeRoundRectCallout">
            <a:avLst>
              <a:gd name="adj1" fmla="val -66120"/>
              <a:gd name="adj2" fmla="val 24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小冰晶遇到暖流时，就熔化为雨点降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-168840" y="792000"/>
            <a:ext cx="13993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琥珀"/>
              </a:rPr>
              <a:t>人工降雨剖析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1" descr="u=42284029,1445579733&amp;gp=-24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5003640" y="3141720"/>
            <a:ext cx="5972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2514600" y="646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雪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24000" y="69228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用所学的知识解释这些自然现象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3657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0" y="3068640"/>
            <a:ext cx="4572000" cy="3376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68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1"/>
          <p:cNvSpPr/>
          <p:nvPr/>
        </p:nvSpPr>
        <p:spPr>
          <a:xfrm>
            <a:off x="4859280" y="4292640"/>
            <a:ext cx="39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因素影响水蒸气形成露还是霜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0"/>
          <p:cNvSpPr/>
          <p:nvPr/>
        </p:nvSpPr>
        <p:spPr>
          <a:xfrm>
            <a:off x="3997440" y="2276640"/>
            <a:ext cx="1224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气 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1790640" y="5141880"/>
            <a:ext cx="1197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固 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6438960" y="5070600"/>
            <a:ext cx="11574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液 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67360" y="2958840"/>
            <a:ext cx="1752480" cy="1981080"/>
            <a:chOff x="5067360" y="2958840"/>
            <a:chExt cx="1752480" cy="1981080"/>
          </a:xfrm>
        </p:grpSpPr>
        <p:sp>
          <p:nvSpPr>
            <p:cNvPr id="89" name="Line 43"/>
            <p:cNvSpPr/>
            <p:nvPr/>
          </p:nvSpPr>
          <p:spPr>
            <a:xfrm flipH="1" flipV="1">
              <a:off x="5067360" y="2958840"/>
              <a:ext cx="1752480" cy="19810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 rot="10800000">
              <a:off x="5067360" y="2958840"/>
              <a:ext cx="175248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32000" y="5229360"/>
            <a:ext cx="3154680" cy="15840"/>
            <a:chOff x="3132000" y="5229360"/>
            <a:chExt cx="3154680" cy="15840"/>
          </a:xfrm>
        </p:grpSpPr>
        <p:sp>
          <p:nvSpPr>
            <p:cNvPr id="92" name="Line 44"/>
            <p:cNvSpPr/>
            <p:nvPr/>
          </p:nvSpPr>
          <p:spPr>
            <a:xfrm>
              <a:off x="3132000" y="5229360"/>
              <a:ext cx="3154680" cy="15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132000" y="5229360"/>
              <a:ext cx="315468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86280" y="5473800"/>
            <a:ext cx="3124080" cy="360"/>
            <a:chOff x="3086280" y="5473800"/>
            <a:chExt cx="3124080" cy="360"/>
          </a:xfrm>
        </p:grpSpPr>
        <p:sp>
          <p:nvSpPr>
            <p:cNvPr id="95" name="Line 45"/>
            <p:cNvSpPr/>
            <p:nvPr/>
          </p:nvSpPr>
          <p:spPr>
            <a:xfrm flipH="1">
              <a:off x="3086280" y="5473800"/>
              <a:ext cx="31240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3086280" y="54738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628720" y="2882880"/>
            <a:ext cx="1524240" cy="2130480"/>
            <a:chOff x="2628720" y="2882880"/>
            <a:chExt cx="1524240" cy="2130480"/>
          </a:xfrm>
        </p:grpSpPr>
        <p:sp>
          <p:nvSpPr>
            <p:cNvPr id="98" name="Line 46"/>
            <p:cNvSpPr/>
            <p:nvPr/>
          </p:nvSpPr>
          <p:spPr>
            <a:xfrm flipV="1">
              <a:off x="2629080" y="2882880"/>
              <a:ext cx="1523880" cy="21304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 rot="10800000">
              <a:off x="2628720" y="2882880"/>
              <a:ext cx="1523880" cy="213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339640" y="2781360"/>
            <a:ext cx="1600560" cy="2209680"/>
            <a:chOff x="2339640" y="2781360"/>
            <a:chExt cx="1600560" cy="2209680"/>
          </a:xfrm>
        </p:grpSpPr>
        <p:sp>
          <p:nvSpPr>
            <p:cNvPr id="101" name="Line 47"/>
            <p:cNvSpPr/>
            <p:nvPr/>
          </p:nvSpPr>
          <p:spPr>
            <a:xfrm flipH="1">
              <a:off x="2339640" y="2781360"/>
              <a:ext cx="1600200" cy="220968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2781360"/>
              <a:ext cx="16002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8"/>
          <p:cNvSpPr/>
          <p:nvPr/>
        </p:nvSpPr>
        <p:spPr>
          <a:xfrm>
            <a:off x="3827520" y="4761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熔化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3825720" y="5479920"/>
            <a:ext cx="17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凝固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295960" y="2882880"/>
            <a:ext cx="1828800" cy="2057400"/>
            <a:chOff x="5295960" y="2882880"/>
            <a:chExt cx="1828800" cy="2057400"/>
          </a:xfrm>
        </p:grpSpPr>
        <p:sp>
          <p:nvSpPr>
            <p:cNvPr id="106" name="Line 68"/>
            <p:cNvSpPr/>
            <p:nvPr/>
          </p:nvSpPr>
          <p:spPr>
            <a:xfrm>
              <a:off x="5295960" y="2882880"/>
              <a:ext cx="1828800" cy="205740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5295960" y="2882880"/>
              <a:ext cx="182880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69"/>
          <p:cNvSpPr/>
          <p:nvPr/>
        </p:nvSpPr>
        <p:spPr>
          <a:xfrm>
            <a:off x="3390840" y="37972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0"/>
          <p:cNvSpPr/>
          <p:nvPr/>
        </p:nvSpPr>
        <p:spPr>
          <a:xfrm>
            <a:off x="2629080" y="31878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1"/>
          <p:cNvSpPr/>
          <p:nvPr/>
        </p:nvSpPr>
        <p:spPr>
          <a:xfrm>
            <a:off x="0" y="765000"/>
            <a:ext cx="8244000" cy="7858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宋体"/>
              </a:rPr>
              <a:t>一、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温故知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7"/>
          <p:cNvSpPr/>
          <p:nvPr/>
        </p:nvSpPr>
        <p:spPr>
          <a:xfrm rot="2924400">
            <a:off x="5507640" y="3469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液化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8"/>
          <p:cNvSpPr/>
          <p:nvPr/>
        </p:nvSpPr>
        <p:spPr>
          <a:xfrm rot="2893800">
            <a:off x="4899600" y="3901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汽化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奇奇奇     大厅里飘雪花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5157720"/>
            <a:ext cx="741708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请你分析一下，只是怎么回事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39640" y="2752920"/>
            <a:ext cx="784872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一个寒冷得夜晚，彼得堡市中心的一个大厅里灯火辉煌，六千支燃烧着的蜡烛，把大厅里的舞会气氛烘托得热气腾腾。突然一位小姐晕倒，旁边的人不知所措。有人喊：“快打开窗户。”打开窗户后，刺骨的寒风涌入大厅，大厅里竟然飘起了雪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826920" y="2706120"/>
            <a:ext cx="74170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消息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日在罗布沙漠中发生的奇怪的天气现象，令科考队中的专家不得其解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凌晨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左右，罗布沙漠中开始下雪，直到第二天中午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科考队到达小河目的地前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左右时，雪突然停止，沙丘上均匀地覆盖着约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积雪，茫茫无涯。气温一直在零下十四摄氏度，天空没有阳光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而，过了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左右，奇怪的事发生了；就在科考队手忙脚乱地从沙滩车上卸下器材设备，开始向小河墓地靠近的时候，发现脚下踩的不再是雪地，而是干爽的沙地，再远望四周，一眼望不到边的沙漠中哪有雪的影子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A1_247"/>
          <p:cNvPicPr/>
          <p:nvPr/>
        </p:nvPicPr>
        <p:blipFill>
          <a:blip r:embed="rId1"/>
          <a:stretch/>
        </p:blipFill>
        <p:spPr>
          <a:xfrm>
            <a:off x="7812000" y="4437000"/>
            <a:ext cx="1067040" cy="9525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9"/>
          <p:cNvSpPr/>
          <p:nvPr/>
        </p:nvSpPr>
        <p:spPr>
          <a:xfrm>
            <a:off x="826920" y="692280"/>
            <a:ext cx="7417080" cy="855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怪怪怪   大雪飘满天   瞬间就不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疆罗布沙漠出现罕见天气令科考队专家目瞪口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826920" y="5442120"/>
            <a:ext cx="8317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请你推测一下，这可能是什么现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456-7B57-442B-A319-9C2C3567EE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1"/>
          <p:cNvSpPr/>
          <p:nvPr/>
        </p:nvSpPr>
        <p:spPr>
          <a:xfrm rot="18261600">
            <a:off x="2394720" y="37332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升华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 rot="18275400">
            <a:off x="1854720" y="3374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凝华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2411280" y="7650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六种物态变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327240" y="404640"/>
            <a:ext cx="850680" cy="187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琥珀"/>
              </a:rPr>
              <a:t>小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3"/>
          <p:cNvSpPr/>
          <p:nvPr/>
        </p:nvSpPr>
        <p:spPr>
          <a:xfrm>
            <a:off x="3997440" y="2276640"/>
            <a:ext cx="1224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气 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4"/>
          <p:cNvSpPr/>
          <p:nvPr/>
        </p:nvSpPr>
        <p:spPr>
          <a:xfrm>
            <a:off x="1790640" y="5141880"/>
            <a:ext cx="1197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固 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5"/>
          <p:cNvSpPr/>
          <p:nvPr/>
        </p:nvSpPr>
        <p:spPr>
          <a:xfrm>
            <a:off x="6438960" y="5070600"/>
            <a:ext cx="11574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液 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067360" y="2958840"/>
            <a:ext cx="1752480" cy="1981080"/>
            <a:chOff x="5067360" y="2958840"/>
            <a:chExt cx="1752480" cy="1981080"/>
          </a:xfrm>
        </p:grpSpPr>
        <p:sp>
          <p:nvSpPr>
            <p:cNvPr id="250" name="Line 56"/>
            <p:cNvSpPr/>
            <p:nvPr/>
          </p:nvSpPr>
          <p:spPr>
            <a:xfrm flipH="1" flipV="1">
              <a:off x="5067360" y="2958840"/>
              <a:ext cx="1752480" cy="19810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 rot="10800000">
              <a:off x="5067360" y="2958840"/>
              <a:ext cx="175248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132000" y="5229360"/>
            <a:ext cx="3154680" cy="15840"/>
            <a:chOff x="3132000" y="5229360"/>
            <a:chExt cx="3154680" cy="15840"/>
          </a:xfrm>
        </p:grpSpPr>
        <p:sp>
          <p:nvSpPr>
            <p:cNvPr id="253" name="Line 57"/>
            <p:cNvSpPr/>
            <p:nvPr/>
          </p:nvSpPr>
          <p:spPr>
            <a:xfrm>
              <a:off x="3132000" y="5229360"/>
              <a:ext cx="3154680" cy="15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132000" y="5229360"/>
              <a:ext cx="315468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086280" y="5473800"/>
            <a:ext cx="3124080" cy="360"/>
            <a:chOff x="3086280" y="5473800"/>
            <a:chExt cx="3124080" cy="360"/>
          </a:xfrm>
        </p:grpSpPr>
        <p:sp>
          <p:nvSpPr>
            <p:cNvPr id="256" name="Line 58"/>
            <p:cNvSpPr/>
            <p:nvPr/>
          </p:nvSpPr>
          <p:spPr>
            <a:xfrm flipH="1">
              <a:off x="3086280" y="5473800"/>
              <a:ext cx="31240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3086280" y="54738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628720" y="2882880"/>
            <a:ext cx="1524240" cy="2130480"/>
            <a:chOff x="2628720" y="2882880"/>
            <a:chExt cx="1524240" cy="2130480"/>
          </a:xfrm>
        </p:grpSpPr>
        <p:sp>
          <p:nvSpPr>
            <p:cNvPr id="259" name="Line 59"/>
            <p:cNvSpPr/>
            <p:nvPr/>
          </p:nvSpPr>
          <p:spPr>
            <a:xfrm flipV="1">
              <a:off x="2629080" y="2882880"/>
              <a:ext cx="1523880" cy="21304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 rot="10800000">
              <a:off x="2628720" y="2882880"/>
              <a:ext cx="1523880" cy="213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339640" y="2781360"/>
            <a:ext cx="1600560" cy="2209680"/>
            <a:chOff x="2339640" y="2781360"/>
            <a:chExt cx="1600560" cy="2209680"/>
          </a:xfrm>
        </p:grpSpPr>
        <p:sp>
          <p:nvSpPr>
            <p:cNvPr id="262" name="Line 60"/>
            <p:cNvSpPr/>
            <p:nvPr/>
          </p:nvSpPr>
          <p:spPr>
            <a:xfrm flipH="1">
              <a:off x="2339640" y="2781360"/>
              <a:ext cx="1600200" cy="220968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2340000" y="2781360"/>
              <a:ext cx="16002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61"/>
          <p:cNvSpPr/>
          <p:nvPr/>
        </p:nvSpPr>
        <p:spPr>
          <a:xfrm>
            <a:off x="3827520" y="4761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熔化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2"/>
          <p:cNvSpPr/>
          <p:nvPr/>
        </p:nvSpPr>
        <p:spPr>
          <a:xfrm>
            <a:off x="3825720" y="5479920"/>
            <a:ext cx="17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凝 固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295960" y="2882880"/>
            <a:ext cx="1828800" cy="2057400"/>
            <a:chOff x="5295960" y="2882880"/>
            <a:chExt cx="1828800" cy="2057400"/>
          </a:xfrm>
        </p:grpSpPr>
        <p:sp>
          <p:nvSpPr>
            <p:cNvPr id="267" name="Line 81"/>
            <p:cNvSpPr/>
            <p:nvPr/>
          </p:nvSpPr>
          <p:spPr>
            <a:xfrm>
              <a:off x="5295960" y="2882880"/>
              <a:ext cx="1828800" cy="205740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5295960" y="2882880"/>
              <a:ext cx="182880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84"/>
          <p:cNvSpPr/>
          <p:nvPr/>
        </p:nvSpPr>
        <p:spPr>
          <a:xfrm rot="2924400">
            <a:off x="5507640" y="3469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液化（放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5"/>
          <p:cNvSpPr/>
          <p:nvPr/>
        </p:nvSpPr>
        <p:spPr>
          <a:xfrm rot="2893800">
            <a:off x="4899600" y="3901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汽化（吸热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765000"/>
            <a:ext cx="8244000" cy="7034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宋体"/>
              </a:rPr>
              <a:t>温故知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-视频-3有趣的液氮实验.mpg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681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84360" y="161460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加热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时，碘发生了什么样的物态变化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58920" y="233532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发生物态变化时，是否出现过液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413388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冷却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时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发生了什么样的物态变化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258920" y="485460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发生物态变化时，是否出现过液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971640" y="305424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的这种物态变化，是吸热还是放热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900000" y="5573880"/>
            <a:ext cx="72723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碘的这种物态变化，是吸热还是放热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00000" y="33336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0" y="692280"/>
            <a:ext cx="853272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探究活动：   人工造“雪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611280" y="2492280"/>
            <a:ext cx="7848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升华：物质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固态直接变为气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现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11280" y="4218120"/>
            <a:ext cx="7848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凝华：物质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气态直接变为固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现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692280"/>
            <a:ext cx="845964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概   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835280" y="3355920"/>
            <a:ext cx="6624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升华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吸收热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835280" y="5081760"/>
            <a:ext cx="66243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凝华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放出热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196"/>
          <p:cNvSpPr/>
          <p:nvPr/>
        </p:nvSpPr>
        <p:spPr>
          <a:xfrm>
            <a:off x="988920" y="1619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4"/>
          <p:cNvSpPr/>
          <p:nvPr/>
        </p:nvSpPr>
        <p:spPr>
          <a:xfrm>
            <a:off x="1792440" y="3446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Image49"/>
          <p:cNvPicPr/>
          <p:nvPr/>
        </p:nvPicPr>
        <p:blipFill>
          <a:blip r:embed="rId1"/>
          <a:srcRect l="0" t="0" r="0" b="-73"/>
          <a:stretch/>
        </p:blipFill>
        <p:spPr>
          <a:xfrm>
            <a:off x="0" y="765000"/>
            <a:ext cx="9396360" cy="6093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95280" y="260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三、联系实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Image49"/>
          <p:cNvPicPr/>
          <p:nvPr/>
        </p:nvPicPr>
        <p:blipFill>
          <a:blip r:embed="rId1"/>
          <a:stretch/>
        </p:blipFill>
        <p:spPr>
          <a:xfrm rot="21417600">
            <a:off x="183960" y="260280"/>
            <a:ext cx="853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rcRect l="0" t="0" r="0" b="-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7093080" y="620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宋体"/>
              </a:rPr>
              <a:t>雾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0" y="620640"/>
            <a:ext cx="853272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衣橱中的樟脑丸会变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2484360" y="2435400"/>
            <a:ext cx="5975280" cy="3848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2007292231019246"/>
          <p:cNvPicPr/>
          <p:nvPr/>
        </p:nvPicPr>
        <p:blipFill>
          <a:blip r:embed="rId2"/>
          <a:stretch/>
        </p:blipFill>
        <p:spPr>
          <a:xfrm>
            <a:off x="900000" y="1557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OT_0028"/>
          <p:cNvPicPr/>
          <p:nvPr/>
        </p:nvPicPr>
        <p:blipFill>
          <a:blip r:embed="rId3"/>
          <a:stretch/>
        </p:blipFill>
        <p:spPr>
          <a:xfrm>
            <a:off x="684360" y="4941720"/>
            <a:ext cx="10411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8:39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0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40110000000000010250600207f7000400038000</vt:lpwstr>
  </property>
</Properties>
</file>