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5.jpeg" ContentType="image/jpeg"/>
  <Override PartName="/ppt/media/image4.jpeg" ContentType="image/jpeg"/>
  <Override PartName="/ppt/media/image3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7.jpeg" ContentType="image/jpeg"/>
  <Override PartName="/ppt/media/image33.jpeg" ContentType="image/jpeg"/>
  <Override PartName="/ppt/media/image26.jpeg" ContentType="image/jpeg"/>
  <Override PartName="/ppt/media/image5.jpeg" ContentType="image/jpeg"/>
  <Override PartName="/ppt/media/image12.png" ContentType="image/png"/>
  <Override PartName="/ppt/media/image30.jpeg" ContentType="image/jpeg"/>
  <Override PartName="/ppt/media/image9.png" ContentType="image/png"/>
  <Override PartName="/ppt/media/image7.gif" ContentType="image/gif"/>
  <Override PartName="/ppt/media/image3.wmf" ContentType="image/x-wmf"/>
  <Override PartName="/ppt/media/image15.jpeg" ContentType="image/jpeg"/>
  <Override PartName="/ppt/media/image1.jpeg" ContentType="image/jpe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A982A-26CA-4F09-A5C7-AA20F3B3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7EA1-649D-4A1B-AE92-A75EDE13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FB49-96F8-450B-B406-D318223C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1C4C-F709-44B7-953B-34750185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967D-F42A-4784-A8AC-FC2A0B7C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7FB2-5E2E-4C69-97F4-7AC6BFC0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E40D-BB01-4CF8-90E3-17271915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A9D3-FC76-4585-A830-E3048C67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DCB3-D997-49B0-93A3-D1D122E7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52B1-20EE-4D95-B55E-C2625AEC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C07E-451E-49DB-A047-373CA99A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3808-AC24-467F-BBD0-05880556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9DAF-D340-4EA4-8257-AE546E06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0A27-FABA-441F-847D-CCB819AA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FF41-1226-4FD1-83C4-E71C4EBE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96A6-7856-4C3F-B21F-9A5FA84D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BB8F-DD57-4BCF-A0C3-8FEF47FC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54294-1777-4D3B-ABE9-0FACF513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095A3-CBDF-4FD5-8082-837FA9DF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9F8D-F88B-4A6F-A5E3-2C34F96A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21EC7-79E7-489B-91B6-8FDF4919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82F08-5BC0-40B4-9190-AFF73958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BD3D-FDDC-4292-909B-DF39BBDF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4EA72-6505-44F1-A52E-B8748F29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4986-9C8D-4A07-9A9C-9CD2402F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8FAE-D5C1-42BB-A58C-655B364D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9A7B-7D57-4BE5-AD1F-EB235A29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0FA01-5BC8-46C7-A217-D5733908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BE0B-C40C-4033-A480-D5FC734B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1A3E4-ADBA-4346-A6E8-80CADCC3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3530E-BDB1-4AB6-877F-793815FE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D89AE-36E4-4B21-A82B-79625263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BF61E-13CB-4257-8E6F-5920978C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DF666-F417-424B-A8A4-78CAC2B3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88FA2-26C7-4D59-926E-F4B35645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2E7BE-2602-4A4D-BC8A-5DB0235C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A1B0C-5B29-4D18-BC91-1744D556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D76E4-51BC-40F6-B03E-C3F19970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7F7F5-7E24-4EE9-BF6A-15B74097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35E51-9A7D-4F66-A478-944509D8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9E63D-89C4-4A91-BFFE-C8727F44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F9E76-51C4-4884-819A-401657E6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4644A-8541-4EEC-A9DB-BAB5EB4B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79D33-C572-4B1E-95F4-AA93856E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DE1A-5426-4E07-BBC1-4DE9305B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0125-EDEC-4C66-82D3-5751A516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F251C-ED90-499C-8B92-02A167E3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1259-D51B-4E4C-94D2-A5F4BFC7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A276-AB04-496B-B761-201E5C6931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C23B-2536-4332-871F-7DAA2C3C54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1E88-5A1F-4632-8DC0-AB34658A40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8C8F-3422-438F-93B5-4BFFEDB252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WordArt 10"/>
          <p:cNvSpPr txBox="1"/>
          <p:nvPr/>
        </p:nvSpPr>
        <p:spPr>
          <a:xfrm>
            <a:off x="738360" y="2060640"/>
            <a:ext cx="764532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28440">
                  <a:solidFill>
                    <a:srgbClr val="0000ff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撒哈拉以南的非洲课件</a:t>
            </a:r>
            <a:r>
              <a:rPr b="1" lang="en-US" sz="4000" spc="1" strike="noStrike">
                <a:ln w="28440">
                  <a:solidFill>
                    <a:srgbClr val="0000ff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28440">
                  <a:solidFill>
                    <a:srgbClr val="0000ff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免费下载</a:t>
            </a:r>
            <a:endParaRPr b="1" lang="en-US" sz="4000" spc="1" strike="noStrike">
              <a:ln w="28440">
                <a:solidFill>
                  <a:srgbClr val="0000ff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2810520" y="84456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八章　东半球其他的地区和国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5616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撒哈拉以南的非洲的气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6"/>
          <p:cNvPicPr/>
          <p:nvPr/>
        </p:nvPicPr>
        <p:blipFill>
          <a:blip r:embed="rId1"/>
          <a:stretch/>
        </p:blipFill>
        <p:spPr>
          <a:xfrm>
            <a:off x="755640" y="981000"/>
            <a:ext cx="5681520" cy="587700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8"/>
          <p:cNvSpPr/>
          <p:nvPr/>
        </p:nvSpPr>
        <p:spPr>
          <a:xfrm>
            <a:off x="1547640" y="2276640"/>
            <a:ext cx="3367440" cy="552240"/>
          </a:xfrm>
          <a:custGeom>
            <a:avLst/>
            <a:gdLst/>
            <a:ahLst/>
            <a:rect l="l" t="t" r="r" b="b"/>
            <a:pathLst>
              <a:path w="2121" h="348">
                <a:moveTo>
                  <a:pt x="0" y="247"/>
                </a:moveTo>
                <a:cubicBezTo>
                  <a:pt x="60" y="207"/>
                  <a:pt x="132" y="213"/>
                  <a:pt x="192" y="174"/>
                </a:cubicBezTo>
                <a:cubicBezTo>
                  <a:pt x="220" y="133"/>
                  <a:pt x="213" y="100"/>
                  <a:pt x="265" y="83"/>
                </a:cubicBezTo>
                <a:cubicBezTo>
                  <a:pt x="296" y="50"/>
                  <a:pt x="303" y="15"/>
                  <a:pt x="347" y="0"/>
                </a:cubicBezTo>
                <a:cubicBezTo>
                  <a:pt x="368" y="22"/>
                  <a:pt x="386" y="38"/>
                  <a:pt x="411" y="55"/>
                </a:cubicBezTo>
                <a:cubicBezTo>
                  <a:pt x="421" y="97"/>
                  <a:pt x="424" y="115"/>
                  <a:pt x="466" y="128"/>
                </a:cubicBezTo>
                <a:cubicBezTo>
                  <a:pt x="489" y="163"/>
                  <a:pt x="518" y="207"/>
                  <a:pt x="557" y="220"/>
                </a:cubicBezTo>
                <a:cubicBezTo>
                  <a:pt x="563" y="226"/>
                  <a:pt x="572" y="230"/>
                  <a:pt x="576" y="238"/>
                </a:cubicBezTo>
                <a:cubicBezTo>
                  <a:pt x="585" y="255"/>
                  <a:pt x="578" y="282"/>
                  <a:pt x="594" y="293"/>
                </a:cubicBezTo>
                <a:cubicBezTo>
                  <a:pt x="619" y="310"/>
                  <a:pt x="637" y="326"/>
                  <a:pt x="658" y="348"/>
                </a:cubicBezTo>
                <a:cubicBezTo>
                  <a:pt x="708" y="340"/>
                  <a:pt x="736" y="334"/>
                  <a:pt x="768" y="293"/>
                </a:cubicBezTo>
                <a:cubicBezTo>
                  <a:pt x="781" y="276"/>
                  <a:pt x="804" y="238"/>
                  <a:pt x="804" y="238"/>
                </a:cubicBezTo>
                <a:cubicBezTo>
                  <a:pt x="815" y="194"/>
                  <a:pt x="822" y="189"/>
                  <a:pt x="859" y="165"/>
                </a:cubicBezTo>
                <a:cubicBezTo>
                  <a:pt x="934" y="215"/>
                  <a:pt x="863" y="174"/>
                  <a:pt x="1051" y="192"/>
                </a:cubicBezTo>
                <a:cubicBezTo>
                  <a:pt x="1127" y="199"/>
                  <a:pt x="1203" y="222"/>
                  <a:pt x="1280" y="229"/>
                </a:cubicBezTo>
                <a:cubicBezTo>
                  <a:pt x="1352" y="253"/>
                  <a:pt x="1315" y="244"/>
                  <a:pt x="1389" y="256"/>
                </a:cubicBezTo>
                <a:cubicBezTo>
                  <a:pt x="1403" y="270"/>
                  <a:pt x="1421" y="279"/>
                  <a:pt x="1435" y="293"/>
                </a:cubicBezTo>
                <a:cubicBezTo>
                  <a:pt x="1465" y="323"/>
                  <a:pt x="1463" y="333"/>
                  <a:pt x="1508" y="348"/>
                </a:cubicBezTo>
                <a:cubicBezTo>
                  <a:pt x="1555" y="309"/>
                  <a:pt x="1584" y="272"/>
                  <a:pt x="1627" y="229"/>
                </a:cubicBezTo>
                <a:cubicBezTo>
                  <a:pt x="1641" y="215"/>
                  <a:pt x="1659" y="206"/>
                  <a:pt x="1673" y="192"/>
                </a:cubicBezTo>
                <a:cubicBezTo>
                  <a:pt x="1736" y="202"/>
                  <a:pt x="1779" y="194"/>
                  <a:pt x="1846" y="201"/>
                </a:cubicBezTo>
                <a:cubicBezTo>
                  <a:pt x="1952" y="239"/>
                  <a:pt x="1864" y="211"/>
                  <a:pt x="2121" y="211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5884920" y="907920"/>
            <a:ext cx="27399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以赤道为中心，南北半球对称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以热带气候类型为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热带大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23" descr="图片1"/>
          <p:cNvPicPr/>
          <p:nvPr/>
        </p:nvPicPr>
        <p:blipFill>
          <a:blip r:embed="rId2"/>
          <a:stretch/>
        </p:blipFill>
        <p:spPr>
          <a:xfrm>
            <a:off x="6443640" y="6093000"/>
            <a:ext cx="719280" cy="5871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7"/>
          <p:cNvSpPr/>
          <p:nvPr/>
        </p:nvSpPr>
        <p:spPr>
          <a:xfrm>
            <a:off x="93960" y="213372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3.5N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324000" y="378936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9"/>
          <p:cNvSpPr/>
          <p:nvPr/>
        </p:nvSpPr>
        <p:spPr>
          <a:xfrm>
            <a:off x="93960" y="57340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3.5S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热带草原旱季"/>
          <p:cNvPicPr/>
          <p:nvPr/>
        </p:nvPicPr>
        <p:blipFill>
          <a:blip r:embed="rId1"/>
          <a:srcRect l="0" t="0" r="-17" b="0"/>
          <a:stretch/>
        </p:blipFill>
        <p:spPr>
          <a:xfrm>
            <a:off x="4800600" y="168120"/>
            <a:ext cx="4191120" cy="30942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"/>
          <p:cNvSpPr/>
          <p:nvPr/>
        </p:nvSpPr>
        <p:spPr>
          <a:xfrm>
            <a:off x="1042920" y="33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热带草原湿季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热带草原干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55640" y="4869000"/>
            <a:ext cx="41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热带草原气候的典型特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148360" y="486900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明显的干湿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4076640"/>
            <a:ext cx="813600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热带草原气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热带草原雨季"/>
          <p:cNvPicPr/>
          <p:nvPr/>
        </p:nvPicPr>
        <p:blipFill>
          <a:blip r:embed="rId2"/>
          <a:stretch/>
        </p:blipFill>
        <p:spPr>
          <a:xfrm>
            <a:off x="152280" y="152280"/>
            <a:ext cx="4572000" cy="30798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8"/>
          <p:cNvSpPr/>
          <p:nvPr/>
        </p:nvSpPr>
        <p:spPr>
          <a:xfrm>
            <a:off x="2411280" y="58053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这种气候对非洲的农业有何影响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>
            <a:off x="1116000" y="5589720"/>
            <a:ext cx="1143000" cy="457200"/>
          </a:xfrm>
          <a:prstGeom prst="cloudCallout">
            <a:avLst>
              <a:gd name="adj1" fmla="val 76944"/>
              <a:gd name="adj2" fmla="val 58680"/>
            </a:avLst>
          </a:prstGeom>
          <a:solidFill>
            <a:srgbClr val="00008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思 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10" descr="8"/>
          <p:cNvPicPr/>
          <p:nvPr/>
        </p:nvPicPr>
        <p:blipFill>
          <a:blip r:embed="rId3"/>
          <a:stretch/>
        </p:blipFill>
        <p:spPr>
          <a:xfrm>
            <a:off x="971640" y="0"/>
            <a:ext cx="731520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352320" y="563400"/>
            <a:ext cx="114300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未命名2"/>
          <p:cNvPicPr/>
          <p:nvPr/>
        </p:nvPicPr>
        <p:blipFill>
          <a:blip r:embed="rId1"/>
          <a:srcRect l="0" t="0" r="0" b="-97"/>
          <a:stretch/>
        </p:blipFill>
        <p:spPr>
          <a:xfrm>
            <a:off x="1905120" y="3124080"/>
            <a:ext cx="5851440" cy="3048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未命名"/>
          <p:cNvPicPr/>
          <p:nvPr/>
        </p:nvPicPr>
        <p:blipFill>
          <a:blip r:embed="rId2"/>
          <a:stretch/>
        </p:blipFill>
        <p:spPr>
          <a:xfrm>
            <a:off x="2057400" y="0"/>
            <a:ext cx="5715000" cy="2971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未命名"/>
          <p:cNvPicPr/>
          <p:nvPr/>
        </p:nvPicPr>
        <p:blipFill>
          <a:blip r:embed="rId3"/>
          <a:stretch/>
        </p:blipFill>
        <p:spPr>
          <a:xfrm>
            <a:off x="7696080" y="91440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未命名2"/>
          <p:cNvPicPr/>
          <p:nvPr/>
        </p:nvPicPr>
        <p:blipFill>
          <a:blip r:embed="rId4"/>
          <a:stretch/>
        </p:blipFill>
        <p:spPr>
          <a:xfrm>
            <a:off x="1905120" y="152280"/>
            <a:ext cx="2590560" cy="1752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未命名2"/>
          <p:cNvPicPr/>
          <p:nvPr/>
        </p:nvPicPr>
        <p:blipFill>
          <a:blip r:embed="rId5"/>
          <a:srcRect l="0" t="0" r="0" b="-97"/>
          <a:stretch/>
        </p:blipFill>
        <p:spPr>
          <a:xfrm>
            <a:off x="7711920" y="3124080"/>
            <a:ext cx="1432080" cy="3048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未命名2"/>
          <p:cNvPicPr/>
          <p:nvPr/>
        </p:nvPicPr>
        <p:blipFill>
          <a:blip r:embed="rId6"/>
          <a:stretch/>
        </p:blipFill>
        <p:spPr>
          <a:xfrm>
            <a:off x="4343400" y="762120"/>
            <a:ext cx="1371600" cy="761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未命名2"/>
          <p:cNvPicPr/>
          <p:nvPr/>
        </p:nvPicPr>
        <p:blipFill>
          <a:blip r:embed="rId7"/>
          <a:stretch/>
        </p:blipFill>
        <p:spPr>
          <a:xfrm>
            <a:off x="5715000" y="7621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未命名2"/>
          <p:cNvPicPr/>
          <p:nvPr/>
        </p:nvPicPr>
        <p:blipFill>
          <a:blip r:embed="rId8"/>
          <a:stretch/>
        </p:blipFill>
        <p:spPr>
          <a:xfrm>
            <a:off x="6553080" y="76212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未命名2"/>
          <p:cNvPicPr/>
          <p:nvPr/>
        </p:nvPicPr>
        <p:blipFill>
          <a:blip r:embed="rId9"/>
          <a:stretch/>
        </p:blipFill>
        <p:spPr>
          <a:xfrm>
            <a:off x="4419720" y="1523880"/>
            <a:ext cx="1143000" cy="38124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12"/>
          <p:cNvSpPr/>
          <p:nvPr/>
        </p:nvSpPr>
        <p:spPr>
          <a:xfrm>
            <a:off x="6172200" y="1523880"/>
            <a:ext cx="1784520" cy="609840"/>
          </a:xfrm>
          <a:prstGeom prst="wedgeEllipseCallout">
            <a:avLst>
              <a:gd name="adj1" fmla="val -45462"/>
              <a:gd name="adj2" fmla="val 635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收成很好，生活不错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6248520" y="4572000"/>
            <a:ext cx="1923840" cy="609480"/>
          </a:xfrm>
          <a:prstGeom prst="wedgeEllipseCallout">
            <a:avLst>
              <a:gd name="adj1" fmla="val -45791"/>
              <a:gd name="adj2" fmla="val 885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收成不好，我活不下去了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7956720" y="1341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湿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12952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湿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7162920" y="3200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干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17"/>
          <p:cNvSpPr/>
          <p:nvPr/>
        </p:nvSpPr>
        <p:spPr>
          <a:xfrm>
            <a:off x="1600200" y="685800"/>
            <a:ext cx="1676520" cy="304920"/>
          </a:xfrm>
          <a:prstGeom prst="rightArrow">
            <a:avLst>
              <a:gd name="adj1" fmla="val 23213"/>
              <a:gd name="adj2" fmla="val 18536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18"/>
          <p:cNvSpPr/>
          <p:nvPr/>
        </p:nvSpPr>
        <p:spPr>
          <a:xfrm>
            <a:off x="1828800" y="3657600"/>
            <a:ext cx="1371600" cy="228600"/>
          </a:xfrm>
          <a:prstGeom prst="rightArrow">
            <a:avLst>
              <a:gd name="adj1" fmla="val 23213"/>
              <a:gd name="adj2" fmla="val 20227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9"/>
          <p:cNvSpPr/>
          <p:nvPr/>
        </p:nvSpPr>
        <p:spPr>
          <a:xfrm>
            <a:off x="3657600" y="685800"/>
            <a:ext cx="1371600" cy="304920"/>
          </a:xfrm>
          <a:prstGeom prst="rightArrow">
            <a:avLst>
              <a:gd name="adj1" fmla="val 23213"/>
              <a:gd name="adj2" fmla="val 15164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20"/>
          <p:cNvSpPr/>
          <p:nvPr/>
        </p:nvSpPr>
        <p:spPr>
          <a:xfrm>
            <a:off x="5791320" y="685800"/>
            <a:ext cx="1218960" cy="304920"/>
          </a:xfrm>
          <a:prstGeom prst="rightArrow">
            <a:avLst>
              <a:gd name="adj1" fmla="val 23213"/>
              <a:gd name="adj2" fmla="val 13477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1"/>
          <p:cNvSpPr/>
          <p:nvPr/>
        </p:nvSpPr>
        <p:spPr>
          <a:xfrm>
            <a:off x="3352680" y="3657600"/>
            <a:ext cx="1219320" cy="228600"/>
          </a:xfrm>
          <a:prstGeom prst="rightArrow">
            <a:avLst>
              <a:gd name="adj1" fmla="val 23213"/>
              <a:gd name="adj2" fmla="val 17982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22"/>
          <p:cNvSpPr/>
          <p:nvPr/>
        </p:nvSpPr>
        <p:spPr>
          <a:xfrm>
            <a:off x="4724280" y="3505320"/>
            <a:ext cx="4191120" cy="609480"/>
          </a:xfrm>
          <a:prstGeom prst="leftArrow">
            <a:avLst>
              <a:gd name="adj1" fmla="val 50000"/>
              <a:gd name="adj2" fmla="val 17191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23"/>
          <p:cNvSpPr/>
          <p:nvPr/>
        </p:nvSpPr>
        <p:spPr>
          <a:xfrm>
            <a:off x="7315200" y="685800"/>
            <a:ext cx="1676520" cy="152280"/>
          </a:xfrm>
          <a:prstGeom prst="leftArrow">
            <a:avLst>
              <a:gd name="adj1" fmla="val 34167"/>
              <a:gd name="adj2" fmla="val 38395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4"/>
          <p:cNvSpPr/>
          <p:nvPr/>
        </p:nvSpPr>
        <p:spPr>
          <a:xfrm>
            <a:off x="7848720" y="228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干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5"/>
          <p:cNvSpPr/>
          <p:nvPr/>
        </p:nvSpPr>
        <p:spPr>
          <a:xfrm>
            <a:off x="1981080" y="586728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异常年份（热带草原干季延长缺雨时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6"/>
          <p:cNvSpPr/>
          <p:nvPr/>
        </p:nvSpPr>
        <p:spPr>
          <a:xfrm>
            <a:off x="2209680" y="266688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正常年份（热带草原雨季风调雨顺时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27"/>
          <p:cNvSpPr/>
          <p:nvPr/>
        </p:nvSpPr>
        <p:spPr>
          <a:xfrm>
            <a:off x="-201240" y="549360"/>
            <a:ext cx="1460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读右图，说说热带草原地区的国家常受什么灾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600200" y="3124080"/>
            <a:ext cx="7543800" cy="360"/>
            <a:chOff x="1600200" y="3124080"/>
            <a:chExt cx="7543800" cy="360"/>
          </a:xfrm>
        </p:grpSpPr>
        <p:sp>
          <p:nvSpPr>
            <p:cNvPr id="291" name="Line 28"/>
            <p:cNvSpPr/>
            <p:nvPr/>
          </p:nvSpPr>
          <p:spPr>
            <a:xfrm>
              <a:off x="1600200" y="3124080"/>
              <a:ext cx="7543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1600200" y="3124080"/>
              <a:ext cx="7543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Text Box 29"/>
          <p:cNvSpPr/>
          <p:nvPr/>
        </p:nvSpPr>
        <p:spPr>
          <a:xfrm>
            <a:off x="121932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湿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30"/>
          <p:cNvSpPr/>
          <p:nvPr/>
        </p:nvSpPr>
        <p:spPr>
          <a:xfrm>
            <a:off x="8028000" y="4221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干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31"/>
          <p:cNvSpPr/>
          <p:nvPr/>
        </p:nvSpPr>
        <p:spPr>
          <a:xfrm>
            <a:off x="4501440" y="4076640"/>
            <a:ext cx="60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旱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矿产资源分布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4"/>
          <p:cNvSpPr/>
          <p:nvPr/>
        </p:nvSpPr>
        <p:spPr>
          <a:xfrm>
            <a:off x="179280" y="404640"/>
            <a:ext cx="341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矿产资源丰富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种类多，储量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0" y="2492280"/>
            <a:ext cx="3924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南非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黄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几内亚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铝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33"/>
                </a:solidFill>
                <a:latin typeface="Arial"/>
              </a:rPr>
              <a:t>赞比亚</a:t>
            </a:r>
            <a:r>
              <a:rPr b="1" lang="en-US" sz="3600" spc="-1" strike="noStrike">
                <a:solidFill>
                  <a:srgbClr val="ccff33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ccff33"/>
                </a:solidFill>
                <a:latin typeface="Arial"/>
              </a:rPr>
              <a:t>铜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99"/>
                </a:solidFill>
                <a:latin typeface="Arial"/>
              </a:rPr>
              <a:t>刚果</a:t>
            </a:r>
            <a:r>
              <a:rPr b="1" lang="en-US" sz="3600" spc="-1" strike="noStrike">
                <a:solidFill>
                  <a:srgbClr val="ff9999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9999"/>
                </a:solidFill>
                <a:latin typeface="Arial"/>
              </a:rPr>
              <a:t>金刚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尼日利亚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石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3851280" y="6381720"/>
            <a:ext cx="5292720" cy="476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33"/>
                </a:solidFill>
                <a:latin typeface="Arial"/>
              </a:rPr>
              <a:t>丰富的矿产资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象牙2"/>
          <p:cNvPicPr/>
          <p:nvPr/>
        </p:nvPicPr>
        <p:blipFill>
          <a:blip r:embed="rId1"/>
          <a:srcRect l="0" t="0" r="0" b="-141"/>
          <a:stretch/>
        </p:blipFill>
        <p:spPr>
          <a:xfrm>
            <a:off x="2484360" y="0"/>
            <a:ext cx="4138560" cy="306864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6"/>
          <p:cNvSpPr/>
          <p:nvPr/>
        </p:nvSpPr>
        <p:spPr>
          <a:xfrm>
            <a:off x="6659640" y="18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象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468360" y="2421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黄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7380360" y="23493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钻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2" descr="黄金"/>
          <p:cNvPicPr/>
          <p:nvPr/>
        </p:nvPicPr>
        <p:blipFill>
          <a:blip r:embed="rId2"/>
          <a:stretch/>
        </p:blipFill>
        <p:spPr>
          <a:xfrm>
            <a:off x="0" y="314172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3" descr="钻石"/>
          <p:cNvPicPr/>
          <p:nvPr/>
        </p:nvPicPr>
        <p:blipFill>
          <a:blip r:embed="rId3"/>
          <a:stretch/>
        </p:blipFill>
        <p:spPr>
          <a:xfrm>
            <a:off x="4500720" y="3141720"/>
            <a:ext cx="4643280" cy="3382920"/>
          </a:xfrm>
          <a:prstGeom prst="rect">
            <a:avLst/>
          </a:prstGeom>
          <a:ln w="0">
            <a:noFill/>
          </a:ln>
        </p:spPr>
      </p:pic>
      <p:sp>
        <p:nvSpPr>
          <p:cNvPr id="306" name="文本框 8199"/>
          <p:cNvSpPr/>
          <p:nvPr/>
        </p:nvSpPr>
        <p:spPr>
          <a:xfrm>
            <a:off x="2563920" y="2727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7129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Garamond"/>
                <a:ea typeface="华文仿宋"/>
              </a:rPr>
              <a:t>填出图出字母或数字代表的地理事物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0" y="0"/>
            <a:ext cx="2158920" cy="16556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细黑"/>
              </a:rPr>
              <a:t>头脑风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6" descr="图片2"/>
          <p:cNvPicPr/>
          <p:nvPr/>
        </p:nvPicPr>
        <p:blipFill>
          <a:blip r:embed="rId1"/>
          <a:stretch/>
        </p:blipFill>
        <p:spPr>
          <a:xfrm>
            <a:off x="395280" y="1700280"/>
            <a:ext cx="5025960" cy="4986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7"/>
          <p:cNvSpPr/>
          <p:nvPr/>
        </p:nvSpPr>
        <p:spPr>
          <a:xfrm>
            <a:off x="829080" y="4941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4573800" y="364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2773080" y="1844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4067280" y="2852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4644720" y="45021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1765440" y="40053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4501800" y="54165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4"/>
          <p:cNvSpPr/>
          <p:nvPr/>
        </p:nvSpPr>
        <p:spPr>
          <a:xfrm flipH="1">
            <a:off x="2412360" y="2637000"/>
            <a:ext cx="4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6403680" y="1413000"/>
            <a:ext cx="1687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＿＿＿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＿＿＿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＿＿＿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＿＿＿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＿＿＿半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＿＿＿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＿＿＿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＿＿＿沙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＿＿＿高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＿＿＿高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＿＿＿高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4141800" y="3666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8"/>
          <p:cNvSpPr/>
          <p:nvPr/>
        </p:nvSpPr>
        <p:spPr>
          <a:xfrm>
            <a:off x="3925800" y="4437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9"/>
          <p:cNvSpPr/>
          <p:nvPr/>
        </p:nvSpPr>
        <p:spPr>
          <a:xfrm>
            <a:off x="3060720" y="566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东非大裂谷示意图1"/>
          <p:cNvPicPr/>
          <p:nvPr/>
        </p:nvPicPr>
        <p:blipFill>
          <a:blip r:embed="rId1"/>
          <a:stretch/>
        </p:blipFill>
        <p:spPr>
          <a:xfrm>
            <a:off x="2916360" y="260280"/>
            <a:ext cx="5634000" cy="6408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378900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东非大裂谷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662760" y="1052640"/>
            <a:ext cx="14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非洲板块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印度洋板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的张裂运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1187280" y="2852640"/>
            <a:ext cx="287640" cy="792360"/>
          </a:xfrm>
          <a:prstGeom prst="downArrow">
            <a:avLst>
              <a:gd name="adj1" fmla="val 50000"/>
              <a:gd name="adj2" fmla="val 6884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5F4F-23CB-4130-AD11-73B361201DCF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7620120" y="1523880"/>
            <a:ext cx="54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3" descr="乞力马扎罗山1"/>
          <p:cNvPicPr/>
          <p:nvPr/>
        </p:nvPicPr>
        <p:blipFill>
          <a:blip r:embed="rId1"/>
          <a:stretch/>
        </p:blipFill>
        <p:spPr>
          <a:xfrm>
            <a:off x="228600" y="142920"/>
            <a:ext cx="6248520" cy="4124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乞力马扎罗山2"/>
          <p:cNvPicPr/>
          <p:nvPr/>
        </p:nvPicPr>
        <p:blipFill>
          <a:blip r:embed="rId2"/>
          <a:stretch/>
        </p:blipFill>
        <p:spPr>
          <a:xfrm>
            <a:off x="1752480" y="4419720"/>
            <a:ext cx="6121440" cy="22762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88000" y="691920"/>
            <a:ext cx="60984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Garamond"/>
              </a:rPr>
              <a:t>乞力马扎罗山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8211960" y="6272280"/>
            <a:ext cx="681120" cy="433440"/>
          </a:xfrm>
          <a:custGeom>
            <a:avLst/>
            <a:gdLst>
              <a:gd name="textAreaLeft" fmla="*/ 28080 w 681120"/>
              <a:gd name="textAreaRight" fmla="*/ 653040 w 6811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3933" h="21600">
                <a:moveTo>
                  <a:pt x="0" y="0"/>
                </a:moveTo>
                <a:lnTo>
                  <a:pt x="33933" y="0"/>
                </a:lnTo>
                <a:lnTo>
                  <a:pt x="33933" y="21600"/>
                </a:lnTo>
                <a:lnTo>
                  <a:pt x="0" y="21600"/>
                </a:lnTo>
                <a:close/>
              </a:path>
              <a:path fill="lightenLess" w="33933" h="21600">
                <a:moveTo>
                  <a:pt x="0" y="0"/>
                </a:moveTo>
                <a:lnTo>
                  <a:pt x="33933" y="0"/>
                </a:lnTo>
                <a:lnTo>
                  <a:pt x="32533" y="1400"/>
                </a:lnTo>
                <a:lnTo>
                  <a:pt x="1400" y="1400"/>
                </a:lnTo>
                <a:close/>
              </a:path>
              <a:path fill="darken" w="33933" h="21600">
                <a:moveTo>
                  <a:pt x="33933" y="0"/>
                </a:moveTo>
                <a:lnTo>
                  <a:pt x="33933" y="21600"/>
                </a:lnTo>
                <a:lnTo>
                  <a:pt x="32533" y="20200"/>
                </a:lnTo>
                <a:lnTo>
                  <a:pt x="32533" y="1400"/>
                </a:lnTo>
                <a:close/>
              </a:path>
              <a:path fill="darkenLess" w="33933" h="21600">
                <a:moveTo>
                  <a:pt x="3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3" y="20200"/>
                </a:lnTo>
                <a:close/>
              </a:path>
              <a:path fill="lighten" w="3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e4b7e"/>
              </a:gs>
              <a:gs pos="50000">
                <a:srgbClr val="a886e0"/>
              </a:gs>
              <a:gs pos="100000">
                <a:srgbClr val="5e4b7e"/>
              </a:gs>
            </a:gsLst>
            <a:lin ang="54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返 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8275680" y="1052640"/>
            <a:ext cx="48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赤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7380360" y="2133720"/>
            <a:ext cx="792000" cy="287280"/>
          </a:xfrm>
          <a:prstGeom prst="rightArrow">
            <a:avLst>
              <a:gd name="adj1" fmla="val 50000"/>
              <a:gd name="adj2" fmla="val 6889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4"/>
          <p:cNvPicPr/>
          <p:nvPr/>
        </p:nvPicPr>
        <p:blipFill>
          <a:blip r:embed="rId1"/>
          <a:stretch/>
        </p:blipFill>
        <p:spPr>
          <a:xfrm>
            <a:off x="539640" y="189000"/>
            <a:ext cx="7885080" cy="53816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3317040" y="5805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黑色人种主要分布在哪里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684360" y="5013360"/>
            <a:ext cx="1150920" cy="609480"/>
          </a:xfrm>
          <a:prstGeom prst="cloudCallout">
            <a:avLst>
              <a:gd name="adj1" fmla="val 83791"/>
              <a:gd name="adj2" fmla="val 91148"/>
            </a:avLst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观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124000" y="5500800"/>
            <a:ext cx="658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西亚和北非地区与撒哈拉以南的非洲，在人种特征上有什么明显的差异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8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49687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黑种人的故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2" descr="00"/>
          <p:cNvPicPr/>
          <p:nvPr/>
        </p:nvPicPr>
        <p:blipFill>
          <a:blip r:embed="rId2"/>
          <a:stretch/>
        </p:blipFill>
        <p:spPr>
          <a:xfrm>
            <a:off x="1763640" y="162864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4"/>
          <p:cNvSpPr/>
          <p:nvPr/>
        </p:nvSpPr>
        <p:spPr>
          <a:xfrm>
            <a:off x="5580000" y="2781360"/>
            <a:ext cx="318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本区有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亿多人，其中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0%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以上是黑种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黑非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50920" y="189000"/>
            <a:ext cx="51940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绚丽多彩的非洲文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042920" y="5445000"/>
            <a:ext cx="66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不同的部族有着各自的语言、风俗习惯和原始的宗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7" descr="编织"/>
          <p:cNvPicPr/>
          <p:nvPr/>
        </p:nvPicPr>
        <p:blipFill>
          <a:blip r:embed="rId1"/>
          <a:stretch/>
        </p:blipFill>
        <p:spPr>
          <a:xfrm>
            <a:off x="152280" y="1981080"/>
            <a:ext cx="4419720" cy="294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舞蹈"/>
          <p:cNvPicPr/>
          <p:nvPr/>
        </p:nvPicPr>
        <p:blipFill>
          <a:blip r:embed="rId2"/>
          <a:stretch/>
        </p:blipFill>
        <p:spPr>
          <a:xfrm>
            <a:off x="4724280" y="1981080"/>
            <a:ext cx="4191120" cy="29480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2"/>
          <p:cNvSpPr/>
          <p:nvPr/>
        </p:nvSpPr>
        <p:spPr>
          <a:xfrm>
            <a:off x="2050920" y="9810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 Black"/>
                <a:ea typeface="楷体_GB2312"/>
              </a:rPr>
              <a:t>人类文明发祥地之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250920" y="189000"/>
            <a:ext cx="851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自学指导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读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P60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图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8.24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P61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图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8.26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，在图中找出以下地理事物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间：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分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50920" y="1773360"/>
            <a:ext cx="856908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说出撒哈拉以南的非洲的海陆位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找出索马里半岛、马达加斯加岛、几内亚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找出埃塞俄比亚高原、东非高原、南非高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找出东非大裂谷、乞力马扎罗山、好望角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尼罗河、刚果河、刚果盆地、维多利亚湖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坦噶尼喀湖、撒哈拉沙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根据第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点说出撒哈拉以南的非洲的地形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和地势特点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7380360" y="19162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8710560" y="2565360"/>
            <a:ext cx="433440" cy="35892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10800"/>
                </a:moveTo>
                <a:lnTo>
                  <a:pt x="20047" y="3794"/>
                </a:lnTo>
                <a:lnTo>
                  <a:pt x="20047" y="1780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724360" y="4797360"/>
            <a:ext cx="433440" cy="35892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10800"/>
                </a:moveTo>
                <a:lnTo>
                  <a:pt x="20047" y="3794"/>
                </a:lnTo>
                <a:lnTo>
                  <a:pt x="20047" y="1780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3276720" y="5950080"/>
            <a:ext cx="433440" cy="3585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6106" h="21600">
                <a:moveTo>
                  <a:pt x="0" y="0"/>
                </a:moveTo>
                <a:lnTo>
                  <a:pt x="26106" y="0"/>
                </a:lnTo>
                <a:lnTo>
                  <a:pt x="26106" y="21600"/>
                </a:lnTo>
                <a:lnTo>
                  <a:pt x="0" y="21600"/>
                </a:lnTo>
                <a:close/>
              </a:path>
              <a:path fill="lightenLess" w="26106" h="21600">
                <a:moveTo>
                  <a:pt x="0" y="0"/>
                </a:moveTo>
                <a:lnTo>
                  <a:pt x="26106" y="0"/>
                </a:lnTo>
                <a:lnTo>
                  <a:pt x="24706" y="1400"/>
                </a:lnTo>
                <a:lnTo>
                  <a:pt x="1400" y="1400"/>
                </a:lnTo>
                <a:close/>
              </a:path>
              <a:path fill="darken" w="26106" h="21600">
                <a:moveTo>
                  <a:pt x="26106" y="0"/>
                </a:moveTo>
                <a:lnTo>
                  <a:pt x="26106" y="21600"/>
                </a:lnTo>
                <a:lnTo>
                  <a:pt x="24706" y="20200"/>
                </a:lnTo>
                <a:lnTo>
                  <a:pt x="24706" y="1400"/>
                </a:lnTo>
                <a:close/>
              </a:path>
              <a:path fill="darkenLess" w="26106" h="21600">
                <a:moveTo>
                  <a:pt x="261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06" y="20200"/>
                </a:lnTo>
                <a:close/>
              </a:path>
              <a:path fill="lighten" w="261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06" h="21600">
                <a:moveTo>
                  <a:pt x="6047" y="10800"/>
                </a:moveTo>
                <a:lnTo>
                  <a:pt x="20060" y="3794"/>
                </a:lnTo>
                <a:lnTo>
                  <a:pt x="20060" y="1780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8710560" y="3213000"/>
            <a:ext cx="433440" cy="35892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10800"/>
                </a:moveTo>
                <a:lnTo>
                  <a:pt x="20047" y="3794"/>
                </a:lnTo>
                <a:lnTo>
                  <a:pt x="20047" y="1780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16" descr="动画书1"/>
          <p:cNvPicPr/>
          <p:nvPr/>
        </p:nvPicPr>
        <p:blipFill>
          <a:blip r:embed="rId1"/>
          <a:stretch/>
        </p:blipFill>
        <p:spPr>
          <a:xfrm>
            <a:off x="6659640" y="5734080"/>
            <a:ext cx="133200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596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撒哈拉以南非洲在世界上的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058160" cy="447192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>
            <a:off x="324000" y="5516640"/>
            <a:ext cx="990360" cy="457200"/>
          </a:xfrm>
          <a:prstGeom prst="cloudCallout">
            <a:avLst>
              <a:gd name="adj1" fmla="val 83171"/>
              <a:gd name="adj2" fmla="val 88541"/>
            </a:avLst>
          </a:prstGeom>
          <a:solidFill>
            <a:srgbClr val="3333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思 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619280" y="57340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与其它大陆比较，该地区的海岸线有怎样的特点？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 rot="20782200">
            <a:off x="1117800" y="3141360"/>
            <a:ext cx="685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 rot="465000">
            <a:off x="2482920" y="3068280"/>
            <a:ext cx="685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16"/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18567" y="10800"/>
                </a:moveTo>
                <a:lnTo>
                  <a:pt x="8062" y="17806"/>
                </a:lnTo>
                <a:lnTo>
                  <a:pt x="8062" y="3794"/>
                </a:lnTo>
                <a:close/>
              </a:path>
              <a:path fill="darken" w="30137" h="21600">
                <a:moveTo>
                  <a:pt x="20412" y="3794"/>
                </a:moveTo>
                <a:lnTo>
                  <a:pt x="20412" y="17806"/>
                </a:lnTo>
                <a:lnTo>
                  <a:pt x="22075" y="17806"/>
                </a:lnTo>
                <a:lnTo>
                  <a:pt x="22075" y="3794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范围与海陆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447920" y="836640"/>
            <a:ext cx="6019560" cy="59450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5508720" y="3141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索马里半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 rot="1640400">
            <a:off x="6442920" y="4508280"/>
            <a:ext cx="457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黑体"/>
              </a:rPr>
              <a:t>加马达斯加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2268360" y="36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几内亚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1"/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18567" y="10800"/>
                </a:moveTo>
                <a:lnTo>
                  <a:pt x="8062" y="17806"/>
                </a:lnTo>
                <a:lnTo>
                  <a:pt x="8062" y="3794"/>
                </a:lnTo>
                <a:close/>
              </a:path>
              <a:path fill="darken" w="30137" h="21600">
                <a:moveTo>
                  <a:pt x="20412" y="3794"/>
                </a:moveTo>
                <a:lnTo>
                  <a:pt x="20412" y="17806"/>
                </a:lnTo>
                <a:lnTo>
                  <a:pt x="22075" y="17806"/>
                </a:lnTo>
                <a:lnTo>
                  <a:pt x="22075" y="3794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文本框 8199"/>
          <p:cNvSpPr/>
          <p:nvPr/>
        </p:nvSpPr>
        <p:spPr>
          <a:xfrm>
            <a:off x="2073240" y="609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撒哈拉以南非洲的地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撒哈拉以南的非洲地形图"/>
          <p:cNvPicPr/>
          <p:nvPr/>
        </p:nvPicPr>
        <p:blipFill>
          <a:blip r:embed="rId1"/>
          <a:stretch/>
        </p:blipFill>
        <p:spPr>
          <a:xfrm>
            <a:off x="163440" y="838080"/>
            <a:ext cx="5170680" cy="56865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8"/>
          <p:cNvSpPr/>
          <p:nvPr/>
        </p:nvSpPr>
        <p:spPr>
          <a:xfrm>
            <a:off x="6084720" y="4076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东非大裂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3995640" y="400536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fe1c37"/>
          </a:solidFill>
          <a:ln cap="sq" w="12600">
            <a:solidFill>
              <a:srgbClr val="fe1c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6012000" y="4653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乞力马扎罗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6012000" y="5229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好望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5288040" y="1413000"/>
            <a:ext cx="38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地势东南高，西北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5435640" y="242100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地形以高原为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高原大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 rot="1843200">
            <a:off x="3155040" y="3552480"/>
            <a:ext cx="9118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东非高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3564000" y="299736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埃塞俄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亚高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2436120" y="4797360"/>
            <a:ext cx="9118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南非高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22"/>
          <p:cNvSpPr/>
          <p:nvPr/>
        </p:nvSpPr>
        <p:spPr>
          <a:xfrm>
            <a:off x="7956720" y="414972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8101080" y="472428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7236000" y="530064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18567" y="10800"/>
                </a:moveTo>
                <a:lnTo>
                  <a:pt x="8062" y="17806"/>
                </a:lnTo>
                <a:lnTo>
                  <a:pt x="8062" y="3794"/>
                </a:lnTo>
                <a:close/>
              </a:path>
              <a:path fill="darken" w="30137" h="21600">
                <a:moveTo>
                  <a:pt x="20412" y="3794"/>
                </a:moveTo>
                <a:lnTo>
                  <a:pt x="20412" y="17806"/>
                </a:lnTo>
                <a:lnTo>
                  <a:pt x="22075" y="17806"/>
                </a:lnTo>
                <a:lnTo>
                  <a:pt x="22075" y="3794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撒哈拉以南的非洲地形图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3"/>
          <p:cNvSpPr/>
          <p:nvPr/>
        </p:nvSpPr>
        <p:spPr>
          <a:xfrm>
            <a:off x="6138720" y="311040"/>
            <a:ext cx="2700360" cy="935280"/>
          </a:xfrm>
          <a:custGeom>
            <a:avLst/>
            <a:gdLst>
              <a:gd name="textAreaLeft" fmla="*/ 0 w 2700360"/>
              <a:gd name="textAreaRight" fmla="*/ 2700720 w 2700360"/>
              <a:gd name="textAreaTop" fmla="*/ 243000 h 935280"/>
              <a:gd name="textAreaBottom" fmla="*/ 692280 h 93528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隶书"/>
              </a:rPr>
              <a:t>看谁找得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6084720" y="1557360"/>
            <a:ext cx="280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最长的河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流量最大的河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最大的盆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面积最大的湖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最深的湖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最大的沙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635280" y="1268280"/>
            <a:ext cx="360360" cy="151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484360" y="3284640"/>
            <a:ext cx="15829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刚果盆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1042920" y="3573360"/>
            <a:ext cx="1130400" cy="432000"/>
          </a:xfrm>
          <a:prstGeom prst="wedgeRectCallout">
            <a:avLst>
              <a:gd name="adj1" fmla="val 118962"/>
              <a:gd name="adj2" fmla="val 312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刚果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4427640" y="3068640"/>
            <a:ext cx="1512720" cy="393840"/>
          </a:xfrm>
          <a:prstGeom prst="wedgeRectCallout">
            <a:avLst>
              <a:gd name="adj1" fmla="val -54615"/>
              <a:gd name="adj2" fmla="val 102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维多利亚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4356000" y="4149720"/>
            <a:ext cx="1513080" cy="393840"/>
          </a:xfrm>
          <a:prstGeom prst="wedgeRectCallout">
            <a:avLst>
              <a:gd name="adj1" fmla="val -70148"/>
              <a:gd name="adj2" fmla="val -612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坦噶尼喀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1187280" y="1557360"/>
            <a:ext cx="2160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撒哈拉沙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18567" y="10800"/>
                </a:moveTo>
                <a:lnTo>
                  <a:pt x="8062" y="17806"/>
                </a:lnTo>
                <a:lnTo>
                  <a:pt x="8062" y="3794"/>
                </a:lnTo>
                <a:close/>
              </a:path>
              <a:path fill="darken" w="30137" h="21600">
                <a:moveTo>
                  <a:pt x="20412" y="3794"/>
                </a:moveTo>
                <a:lnTo>
                  <a:pt x="20412" y="17806"/>
                </a:lnTo>
                <a:lnTo>
                  <a:pt x="22075" y="17806"/>
                </a:lnTo>
                <a:lnTo>
                  <a:pt x="22075" y="3794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8:38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21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7e160000000000010250600207f7000400038000</vt:lpwstr>
  </property>
</Properties>
</file>