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2086-0CC7-4CC8-802C-DBA13C861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D11A-9C80-4A95-8748-FE736F7F1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2BADC1-B1C6-4F2B-B044-98A845A00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6392F0-A3BF-4978-B70D-58FDA5413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D986AD-EE9D-4954-BF64-CF8F61BD2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62E74A-683F-45BF-B767-1109C359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28B0B3-E320-4985-9BD6-49D34788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45DF5D-BCE8-4BA6-895B-176288E6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CEB33D-D3A1-4E64-B201-7B68A8FF0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D51FED-3033-41B4-9A11-DDA134CAE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C6C557-67AF-4B16-98B7-4D96545CC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4B370F-8A52-4A79-BF69-78A8C5802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CD12-6F64-44D8-8783-9ED50D83C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DA908F-0A89-4D12-8B31-C7F711170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9D49D7-33F9-42A3-8BC3-9F9472A14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4CE33A-B1EC-40C7-A214-F4AB5474D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969C56-E5B3-4375-82B5-BF2481BF8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1C8428-E1F9-4309-867E-11CFCAB1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94F7AF-AA8D-4670-A8C7-F85F88AD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25E8BA-0782-411F-AF40-97C7F059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9F3971-D7F1-4986-9139-B1220D16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23F60B-688B-49F6-9815-A6F399FD2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340FBC-16EE-4330-AE6D-D0B74326A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0235-BC14-4ABF-934A-1094FB230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BAFB86-A54B-4F7C-B994-46609E1E5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E8C69C-7C2E-4A07-83AE-343BB85E9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BBE6A1-1D01-4057-963A-32287F2B0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4D6967-D435-425D-A0DD-76E6666CA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7F1030-3A80-4B9C-9724-CCF494F62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044EEE-F829-4A7C-B33F-9DD5708ED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1BBE1E-B603-4CFA-B01E-2CDED3EDC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B8A32A-C74C-462C-A467-BA610F1F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31D32D-FB20-4D9D-836F-751E076F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83E540-D866-48B1-8D3A-00FD2591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D5BBD-E321-4E24-AA13-D78937E1E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E7178C-3D6B-4729-A76B-43E9DF68B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31F505-AB3C-4AEB-AABF-0A4E28C75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C472AF-04CD-4632-A6D1-3FD07C804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9D8DE8-DB2E-4873-85ED-A3C80E261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A11676-DEF1-4569-857E-F3F5E4E75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D12DEC-7089-4261-BDCA-4EA486BF1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69DFE4-AE6D-45A1-8AC0-987F9F02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B224EA-F20E-4AB4-BA9B-0CA447ED8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61B95A-D26D-4005-B169-624CA4ABD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27254A-DB04-4A3F-B00E-E8631503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185EB-4142-4FEA-82A3-C30015DA5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1B80EA-81A2-4A24-83B6-76782F14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47FECB-1307-4EBE-95CA-1FFC872F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8F4F4A-B2B5-4B4E-933D-355AC602F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2349CC-DB26-41E3-911E-4F6A2D460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A0CC96-BE3B-42E4-8BD9-3DD82EB54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3192B0-63AB-4424-ABF1-EF054DE21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CD8D7D-9CFB-46BA-B73B-3FA1835BA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1F519B-CEAB-4D65-BBEC-776B3DE8F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C467D0-5B08-43F4-9675-6DE0F63BA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29015F-C132-4661-8F35-47512AD79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0CBC8-C5D8-44B7-8311-A63C93BEF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E95AF4-29AD-4FC1-85F2-EC1E5EC19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0B40B6-4187-4119-AD43-01151497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2C046A-92C1-4B21-A098-B7AE100C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7E1D6F-3F6B-4417-9941-B35B2A12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58DE5B-DA45-4DFE-BE7F-0622BC1B4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E6DA80-95F8-4834-9D5E-356E9FC1E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1E600D-997B-4503-B1E9-B9279A035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02FC24-271C-417A-B7B8-48A9FF6D3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2DE64A-A11D-4247-ACE6-3CAC930A4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E65420-F45A-4B64-9570-738B735D2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3CC60-B484-49D6-BDC1-32983C22B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8D05A4-3181-49F8-A73C-301DD7F72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923DF7-65CA-47F3-A98E-6689E6A97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C335CD-F16D-4D7F-8A2C-ADE962CE8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CF8454-F26F-4312-ACCB-59AA4B92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54AC22-1DC8-474A-B5FF-B5B86D46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6F1E66-F7CF-4887-AFEB-558E61F6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00CC33-40A4-4A09-B8C8-5DF2F29BE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6FFC51-ACB0-42EE-9563-D4F360FEB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03E77E-6871-49A5-9321-0B163C872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8AC1F-16D9-45C1-B2B5-AA1F45C28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8F45B-4163-42CF-8F1E-BF03F4315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E0FF2-A376-4D2B-93A6-D40EFFA0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5091-6ACA-4441-9493-0EC365FB8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0BB37-F42D-47AA-A17F-9C55F96F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5C73C-A9B1-476B-AECA-D34E20BB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BD48E-5D63-44A9-AF1B-D791545D1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4BAC9-D955-408E-A95C-B8B1AD67E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E21B6-66C2-473E-905A-3CAC2B2F9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495A3-7DAE-4C82-A174-17D903556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588C9-6F51-4D1C-A3A7-94ABD65DB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1E342-3845-4A96-98B9-AAE5E197A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2218D-5689-45E2-AD05-63FFBCEAE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5AD7E-2146-4253-8A76-47A231B67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215C-6F5B-4D75-B7B7-F17E67C55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053EE-8566-47A2-BFD2-53E9FEB62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D611B-9C40-46B9-9F35-9491B1AA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8FE0A-364D-4A1C-904B-19874EEF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597C5-72E7-4192-8458-E932CA9B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B1B07-A385-46A3-9D92-64DD209F0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00A83-56E7-45B2-A0F4-ABD6E212C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DB584-2F7D-4A30-AFBD-A3FAEC454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C3DF9-5FF5-4866-BC35-99FE5372F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52056-4655-4BE1-B572-00AA84F64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26044-8843-49E6-82A5-8969E2760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3F1A-9A53-49A1-8B7E-05F625EA6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912E5-9C2C-4D96-BA8C-D3A52E46B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BB104-47D6-48C4-98C4-6D28291DA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882E7-BA4A-41C8-BA22-DD145428C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6DF67-B059-4F60-AFBC-DDFC4CA3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32A26-A583-4C6C-99C1-7597287B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BEC7F-9358-4D12-9F3D-B43E3726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ABE40-A235-4744-9697-4474C9114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48898-D04A-48F3-882C-6337AB742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1B921-CAD4-4F85-BCA1-DCE5741C5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806D6-81C0-4119-A4FE-E6E1B7A6E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4F65-4F74-43C7-897A-A9CF1CB0E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B9291-F8ED-48BA-BB78-AF36F580A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EFFED-15E9-4D6A-AB27-8D3D9DBB7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52D07-AEA3-4870-8A56-ED92E45C8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BABEC-0409-4915-8EC5-029492FF2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A486E-EDA3-46A8-AC8F-541D6A030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B522D-574D-4F6C-8F8A-202AE7DD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F69BC-899E-4885-87FA-129940C5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023A2-8CF7-4698-97F7-42B36DAD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74F22-D5D8-47DD-8F5A-6580F06F7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C2D49-3964-4FE4-A12A-86C297A27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1E63-8626-4A2A-88DD-C18D64B7F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4BE82-C230-4791-B9EB-4A1FB928C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84EAA-B8AD-4934-8A9A-46D9BD056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695C7-3360-4EE0-B609-894552850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D68D3-5A98-4667-A075-50E73ADEE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68EFE-7F4F-4514-BE5A-FFD3C651E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25E62B-0CA8-44B3-AC36-2D214C48B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4D7E7-4339-41BC-B0DF-7E855C44A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9CC51-3F54-45BC-A020-82FB1877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3569C-4F45-47BB-93F7-7DB83BBD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1792F-B99C-4415-9170-0DE8C089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E761-FADC-48DA-BA18-A1107805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B822C-328B-431D-AA07-B1C96FECD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E5110-4755-45E0-9134-826F9BD48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56F58F-3393-46B8-BB30-515B38AF2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5C3D2-2B5C-48D9-AEAE-AB887F4A4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FB8D1-093F-4662-96CD-70D67B34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00F2DB-A95E-4AA2-9810-42E403F83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1F517B-6C16-48F0-AD63-3D305D026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0DA60-9B4A-4ADF-A963-CA31D5CBD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4787F3-1E9B-4E18-9D6F-81FC1C183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C1888C-FB6C-4756-8106-439658E6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D1B0-3F51-40D1-90EC-D6358513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F35AC8-7B77-421C-9F50-A0E27B15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03F326-E017-41E8-9CEA-4FBD757F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700A3D-9084-4026-A223-56E04280C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70B6B-745B-4881-BE7A-E2115DDB3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CA2D5-7B33-4EFB-9AE4-3CE2E19F8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9A02D-2839-473A-8E3E-F09EE4852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676600-3E4C-4644-AF2B-E92A11B27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F85EF3-9A15-4331-9776-55909D05A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D8AC27-5878-4B0C-A4E3-C1D19892F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3CA550-2293-4A2D-83C0-06861E60C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7669-CB1A-45E8-943A-3C5F5BD0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D5A597-38A0-4209-A251-932A3ED3C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3601A1-BBF6-444D-8D15-B6A7075B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83762D-1D6B-4571-8454-4182B231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32554B-51BC-4C2E-A970-B139CC35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0FED2E-B18C-4E92-8231-0C37F091B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9DB268-D4D1-421C-819D-333736D37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39C95D-AF1D-4449-A15E-26FE1D098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EE2330-CE6B-49DB-9DCF-F0D05F88E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596A7E-049D-42A9-8E1F-FF04EF06E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4D228A-BAE0-4EAE-B04D-1907A960E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74873-1AB1-4749-B04A-A3D771D36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9922A-81AD-411C-863F-DA3420F9816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947E4-307D-4E23-81E9-5A85085BCDA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B7415-6820-4129-92FA-A306883D839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9FEC6-E902-4121-89D1-0F47904F4F5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B2769-8845-43BA-8D71-687A1F02A71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5B95E-6333-4A6B-9C75-09B0823457C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B4157-B921-4B3F-A335-BB749208700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7C0D1-EBA7-4099-BE2E-836230D3426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046F6-CD16-4445-BA03-691C0690C1A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96A20-C9A2-49DC-91D1-57F84742E5F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ABB77-F79B-40DF-9346-1FE2751E6B2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30AA6-C76F-47C4-8B4A-B5147A6CF3A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E1A8F-4E68-46B1-8BA6-82D230EC555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WordArt 6"/>
          <p:cNvSpPr txBox="1"/>
          <p:nvPr/>
        </p:nvSpPr>
        <p:spPr>
          <a:xfrm>
            <a:off x="1258920" y="1700280"/>
            <a:ext cx="6842160" cy="89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社会生活中的民主课件</a:t>
            </a:r>
            <a:r>
              <a:rPr b="1" lang="en-US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下载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5" name="文本框 6155"/>
          <p:cNvSpPr/>
          <p:nvPr/>
        </p:nvSpPr>
        <p:spPr>
          <a:xfrm>
            <a:off x="23760" y="64533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5"/>
          <p:cNvSpPr/>
          <p:nvPr/>
        </p:nvSpPr>
        <p:spPr>
          <a:xfrm>
            <a:off x="250920" y="404640"/>
            <a:ext cx="79200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民主的基本特征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民主作为与专制相对立的统治形式和国家形态，具有一些共同的基本价值和基本原则。这些价值和原则以及体现这些价值和原则的一些民主形式、程序和方法，随着社会历史的发展而不断得到继承和发展。重要的特征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由与平等的统一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数裁决与允许少数保留意见的统一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选举、监督国家公职人员和服从国家公职人员依法管理的统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民主与法制的统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文本框 8199"/>
          <p:cNvSpPr/>
          <p:nvPr/>
        </p:nvSpPr>
        <p:spPr>
          <a:xfrm>
            <a:off x="3111480" y="5605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6"/>
          <p:cNvSpPr/>
          <p:nvPr/>
        </p:nvSpPr>
        <p:spPr>
          <a:xfrm>
            <a:off x="0" y="0"/>
            <a:ext cx="968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d60093"/>
                </a:solidFill>
                <a:latin typeface="Arial"/>
              </a:rPr>
              <a:t>你知道哪些民主选举活动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7"/>
          <p:cNvSpPr/>
          <p:nvPr/>
        </p:nvSpPr>
        <p:spPr>
          <a:xfrm>
            <a:off x="468360" y="1341360"/>
            <a:ext cx="431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村委会选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8"/>
          <p:cNvSpPr/>
          <p:nvPr/>
        </p:nvSpPr>
        <p:spPr>
          <a:xfrm>
            <a:off x="2484360" y="2852640"/>
            <a:ext cx="583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居委会选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1"/>
          <p:cNvSpPr/>
          <p:nvPr/>
        </p:nvSpPr>
        <p:spPr>
          <a:xfrm>
            <a:off x="1835280" y="4292640"/>
            <a:ext cx="532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人民代表选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矩形 7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5" descr="2009010614270227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7" descr="0013729e41140865560f4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9" descr="caunews_20061108171330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11" descr="xin_0320105252131765059032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13" descr="20061219093330168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 Box 6"/>
          <p:cNvSpPr/>
          <p:nvPr/>
        </p:nvSpPr>
        <p:spPr>
          <a:xfrm>
            <a:off x="0" y="0"/>
            <a:ext cx="96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d60093"/>
                </a:solidFill>
                <a:latin typeface="Arial"/>
              </a:rPr>
              <a:t>我们小学生参加过什么选举活动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7"/>
          <p:cNvSpPr/>
          <p:nvPr/>
        </p:nvSpPr>
        <p:spPr>
          <a:xfrm>
            <a:off x="1476360" y="2492280"/>
            <a:ext cx="417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班干部选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8"/>
          <p:cNvSpPr/>
          <p:nvPr/>
        </p:nvSpPr>
        <p:spPr>
          <a:xfrm>
            <a:off x="1547640" y="4005360"/>
            <a:ext cx="626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少代会代表选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文本框 8199"/>
          <p:cNvSpPr/>
          <p:nvPr/>
        </p:nvSpPr>
        <p:spPr>
          <a:xfrm>
            <a:off x="1295280" y="21574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 Box 5"/>
          <p:cNvSpPr/>
          <p:nvPr/>
        </p:nvSpPr>
        <p:spPr>
          <a:xfrm>
            <a:off x="611280" y="40464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民主选举常识抢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6"/>
          <p:cNvSpPr/>
          <p:nvPr/>
        </p:nvSpPr>
        <p:spPr>
          <a:xfrm>
            <a:off x="324000" y="1268280"/>
            <a:ext cx="84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选举人代会代表时，哪些人有选举权和被选举权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7"/>
          <p:cNvSpPr/>
          <p:nvPr/>
        </p:nvSpPr>
        <p:spPr>
          <a:xfrm>
            <a:off x="250920" y="4365720"/>
            <a:ext cx="84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小学生可以参加人民代表选举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8"/>
          <p:cNvSpPr/>
          <p:nvPr/>
        </p:nvSpPr>
        <p:spPr>
          <a:xfrm>
            <a:off x="395280" y="256536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按照宪法规定，选举权与被选举权是公民的一项基本政治权利 。只要年满</a:t>
            </a: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18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周岁、神智健全的本国公民均享有选举权与被选举权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4" descr="20094151099287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7" name="Text Box 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人代会代表是怎样产生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7"/>
          <p:cNvSpPr/>
          <p:nvPr/>
        </p:nvSpPr>
        <p:spPr>
          <a:xfrm>
            <a:off x="179280" y="836640"/>
            <a:ext cx="828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人民代表是由各地区的选民们选举出来的，他们将代表这一地区的所有选民，参政议政，行使民主权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8"/>
          <p:cNvSpPr/>
          <p:nvPr/>
        </p:nvSpPr>
        <p:spPr>
          <a:xfrm>
            <a:off x="735120" y="2859120"/>
            <a:ext cx="506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9"/>
          <p:cNvSpPr/>
          <p:nvPr/>
        </p:nvSpPr>
        <p:spPr>
          <a:xfrm>
            <a:off x="0" y="27813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居（村）委员会干部是怎样产生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0"/>
          <p:cNvSpPr/>
          <p:nvPr/>
        </p:nvSpPr>
        <p:spPr>
          <a:xfrm>
            <a:off x="0" y="3933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Arial"/>
              </a:rPr>
              <a:t>村民委员会是村民进行自我管理、自我教育、自我服务的基层群众性组织。它是由村民直接投票选举产生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12"/>
          <p:cNvSpPr/>
          <p:nvPr/>
        </p:nvSpPr>
        <p:spPr>
          <a:xfrm>
            <a:off x="0" y="566748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Arial"/>
              </a:rPr>
              <a:t>居民们自己选出的居委会干部，大家最信得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B350F-A12A-4444-B015-A3513077156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AutoShape 6"/>
          <p:cNvSpPr/>
          <p:nvPr/>
        </p:nvSpPr>
        <p:spPr>
          <a:xfrm>
            <a:off x="1692360" y="260280"/>
            <a:ext cx="6337080" cy="3240000"/>
          </a:xfrm>
          <a:prstGeom prst="cloudCallout">
            <a:avLst>
              <a:gd name="adj1" fmla="val -42912"/>
              <a:gd name="adj2" fmla="val 90472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7"/>
          <p:cNvSpPr/>
          <p:nvPr/>
        </p:nvSpPr>
        <p:spPr>
          <a:xfrm>
            <a:off x="2771640" y="692280"/>
            <a:ext cx="460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通过对民主选举的了解，你体会到了什么？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4T03:20:15Z</dcterms:created>
  <dc:creator>幻灯片之家：www.eept.com</dc:creator>
  <dc:description>幻灯片之家：www.eept.com</dc:description>
  <cp:keywords>幻灯片之家：www.eept.com</cp:keywords>
  <dc:language>en-US</dc:language>
  <cp:lastModifiedBy>pc</cp:lastModifiedBy>
  <dcterms:modified xsi:type="dcterms:W3CDTF">2016-06-30T08:58:37Z</dcterms:modified>
  <cp:revision>18</cp:revision>
  <dc:subject>幻灯片之家：www.eept.com</dc:subject>
  <dc:title>幻灯片之家：www.ee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