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C59-0256-4C72-944B-C6783BB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96-C119-425A-9239-3B6B1AD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FD2-14C3-43AC-A9A3-88B57534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745-7E0E-458F-98AA-68E5D191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B13-6B73-4FB4-8538-A72DF304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C91-E0FF-40CE-8E4B-2FFD251B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D71-D600-4481-B71F-B1B1D9F6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09E-B26E-4ECD-BFBC-511364B9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30FA-F1B8-40CE-B72C-1096496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69E8-1F6F-44E0-AEA1-48AD9E6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BB8-A011-4A53-A8A6-99161FD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FB0-2379-4E81-A075-5C59CD61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71F3-284C-4B5F-BBD4-C676C9A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5FC-9E4D-428D-8EFC-0F206C3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C18-7E3C-44BE-9FFA-1E0940F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8B3-D358-4330-9D99-EF8AF77E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08B-D69F-4287-938F-4BD503F7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EBD2-2938-44A2-8F85-11D69A06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D6DF-5027-4B51-9A36-06885A8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CC9E-DE98-487C-BFA3-124F89E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053C-9D4C-4B81-96F6-96F1C9A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2125-4766-43EB-BCBB-C166CB5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4DA-D22D-4BB7-AFDD-A0E7040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0645-0EDB-4D0C-A72B-59DE2E2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E881-AFCE-42DF-A1EF-8513947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F321-FEC7-47E6-9DC1-C0F3091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6816-CDBC-4C1B-A802-E95488D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1D4F-2318-4DB8-AD01-1ED2174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F0C4-64D2-475F-9A12-08AEFAD1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4858-81EB-4882-B9D5-B24F2AC0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F5F-1A9B-4C9D-8CBF-0AE65483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2BF-EF9A-46DE-8DA8-E251C30A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908-BDFB-4055-B0A6-6C1AF6FF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C7A-F3EF-4AD9-910A-6B9CF7C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4D2-E5B4-40E7-8C6C-9D9C8E5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D52-04D9-40BF-AB42-C4295CA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87E-4E25-482C-B56E-6B6683346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8C11-CDCF-43B9-8D92-74260AF09A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BAB-B0C9-47CB-9DEE-EDF3091A6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:\&#31038;&#20250;&#25991;&#26126;&#22823;&#23478;&#35848;\&#21578;&#21035;&#21313;&#22823;&#19981;&#25991;&#26126;&#34892;&#20026;.avi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1294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六年级品德与社会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社会文明大家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1096920" y="644220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07960" y="324792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C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ic_27067202"/>
          <p:cNvPicPr/>
          <p:nvPr/>
        </p:nvPicPr>
        <p:blipFill>
          <a:blip r:embed="rId1"/>
          <a:stretch/>
        </p:blipFill>
        <p:spPr>
          <a:xfrm>
            <a:off x="5452920" y="4076640"/>
            <a:ext cx="3691080" cy="212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0" y="476280"/>
            <a:ext cx="9469080" cy="3965040"/>
            <a:chOff x="0" y="476280"/>
            <a:chExt cx="9469080" cy="3965040"/>
          </a:xfrm>
        </p:grpSpPr>
        <p:sp>
          <p:nvSpPr>
            <p:cNvPr id="164" name="AutoShape 4"/>
            <p:cNvSpPr/>
            <p:nvPr/>
          </p:nvSpPr>
          <p:spPr>
            <a:xfrm>
              <a:off x="0" y="476280"/>
              <a:ext cx="9469080" cy="3965040"/>
            </a:xfrm>
            <a:prstGeom prst="wedgeEllipseCallout">
              <a:avLst>
                <a:gd name="adj1" fmla="val 38143"/>
                <a:gd name="adj2" fmla="val 4648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683280" y="1266840"/>
              <a:ext cx="8200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面对我们身边的种种不文明行为，我们能熟视无睹，不闻不问吗？作为小学生的我们该做些什么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179280" y="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50920" y="458136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黑体"/>
              </a:rPr>
              <a:t>争做文明小卫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>
            <a:hlinkClick r:id="" action="ppaction://hlinkshowjump?jump=firstslide"/>
          </p:cNvPr>
          <p:cNvSpPr/>
          <p:nvPr/>
        </p:nvSpPr>
        <p:spPr>
          <a:xfrm>
            <a:off x="39528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199"/>
          <p:cNvSpPr/>
          <p:nvPr/>
        </p:nvSpPr>
        <p:spPr>
          <a:xfrm>
            <a:off x="2303640" y="93204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9640" y="693720"/>
            <a:ext cx="28796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457000"/>
            <a:ext cx="822960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点点小事，能折射出一个人，一个地区乃至一个国家的文明程度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631880"/>
            <a:ext cx="43923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2420640"/>
            <a:ext cx="91440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今天的学习感受总结设计为一句文明用语送给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引用学过的名言警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395280" y="5950080"/>
            <a:ext cx="647640" cy="765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  <a:path fill="darken" w="21600" h="25512">
                <a:moveTo>
                  <a:pt x="10800" y="5793"/>
                </a:moveTo>
                <a:lnTo>
                  <a:pt x="13376" y="8404"/>
                </a:lnTo>
                <a:lnTo>
                  <a:pt x="13376" y="6663"/>
                </a:lnTo>
                <a:lnTo>
                  <a:pt x="15152" y="6663"/>
                </a:lnTo>
                <a:lnTo>
                  <a:pt x="15152" y="10180"/>
                </a:lnTo>
                <a:lnTo>
                  <a:pt x="17763" y="12756"/>
                </a:lnTo>
                <a:lnTo>
                  <a:pt x="16109" y="12756"/>
                </a:lnTo>
                <a:lnTo>
                  <a:pt x="16109" y="19945"/>
                </a:lnTo>
                <a:lnTo>
                  <a:pt x="5491" y="19945"/>
                </a:lnTo>
                <a:lnTo>
                  <a:pt x="5491" y="12756"/>
                </a:lnTo>
                <a:lnTo>
                  <a:pt x="3837" y="12756"/>
                </a:lnTo>
                <a:close/>
              </a:path>
              <a:path fill="darkenLess" w="21600" h="25512">
                <a:moveTo>
                  <a:pt x="13376" y="8404"/>
                </a:moveTo>
                <a:lnTo>
                  <a:pt x="13376" y="6663"/>
                </a:lnTo>
                <a:lnTo>
                  <a:pt x="15152" y="6663"/>
                </a:lnTo>
                <a:lnTo>
                  <a:pt x="15152" y="10180"/>
                </a:lnTo>
                <a:close/>
              </a:path>
              <a:path fill="darkenLess" w="21600" h="25512">
                <a:moveTo>
                  <a:pt x="9877" y="16255"/>
                </a:moveTo>
                <a:lnTo>
                  <a:pt x="11723" y="16255"/>
                </a:lnTo>
                <a:lnTo>
                  <a:pt x="11723" y="19945"/>
                </a:lnTo>
                <a:lnTo>
                  <a:pt x="16109" y="19945"/>
                </a:lnTo>
                <a:lnTo>
                  <a:pt x="16109" y="12756"/>
                </a:lnTo>
                <a:lnTo>
                  <a:pt x="5491" y="12756"/>
                </a:lnTo>
                <a:lnTo>
                  <a:pt x="5491" y="19945"/>
                </a:lnTo>
                <a:lnTo>
                  <a:pt x="9877" y="19945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4DBF-5CAB-4C1F-B167-6DCC2B1E8D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4175280"/>
            <a:ext cx="644364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你微笑了吗？你问候了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礼让了吗？你帮助别人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0" y="981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教师寄语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9800" y="200160"/>
            <a:ext cx="3670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活动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19844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考察周围社区人们的文明素养现状，知道我们的社会在走向文明的同时，对人们的文明素养的要求也在提高，文明社会需要文明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活动，体验做文明人的重要意义，养成做文明人的重要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省自己的行为，寻找自己的差距，从小事做起，努力塑造自己的文明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468360" y="6021360"/>
            <a:ext cx="790560" cy="83664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58">
                <a:moveTo>
                  <a:pt x="0" y="0"/>
                </a:moveTo>
                <a:lnTo>
                  <a:pt x="21600" y="0"/>
                </a:lnTo>
                <a:lnTo>
                  <a:pt x="21600" y="22858"/>
                </a:lnTo>
                <a:lnTo>
                  <a:pt x="0" y="22858"/>
                </a:lnTo>
                <a:close/>
              </a:path>
              <a:path fill="lightenLess" w="21600" h="228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58">
                <a:moveTo>
                  <a:pt x="21600" y="0"/>
                </a:moveTo>
                <a:lnTo>
                  <a:pt x="21600" y="22858"/>
                </a:lnTo>
                <a:lnTo>
                  <a:pt x="20200" y="21458"/>
                </a:lnTo>
                <a:lnTo>
                  <a:pt x="20200" y="1400"/>
                </a:lnTo>
                <a:close/>
              </a:path>
              <a:path fill="darkenLess" w="21600" h="22858">
                <a:moveTo>
                  <a:pt x="21600" y="22858"/>
                </a:moveTo>
                <a:lnTo>
                  <a:pt x="0" y="22858"/>
                </a:lnTo>
                <a:lnTo>
                  <a:pt x="1400" y="21458"/>
                </a:lnTo>
                <a:lnTo>
                  <a:pt x="20200" y="21458"/>
                </a:lnTo>
                <a:close/>
              </a:path>
              <a:path fill="lighten" w="21600" h="22858">
                <a:moveTo>
                  <a:pt x="0" y="228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58"/>
                </a:lnTo>
                <a:close/>
              </a:path>
              <a:path fill="darken" w="21600" h="22858">
                <a:moveTo>
                  <a:pt x="10800" y="4466"/>
                </a:moveTo>
                <a:lnTo>
                  <a:pt x="13376" y="7077"/>
                </a:ln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lnTo>
                  <a:pt x="17763" y="11429"/>
                </a:lnTo>
                <a:lnTo>
                  <a:pt x="16109" y="11429"/>
                </a:lnTo>
                <a:lnTo>
                  <a:pt x="16109" y="18618"/>
                </a:lnTo>
                <a:lnTo>
                  <a:pt x="5491" y="18618"/>
                </a:lnTo>
                <a:lnTo>
                  <a:pt x="5491" y="11429"/>
                </a:lnTo>
                <a:lnTo>
                  <a:pt x="3837" y="11429"/>
                </a:lnTo>
                <a:close/>
              </a:path>
              <a:path fill="darkenLess" w="21600" h="22858">
                <a:moveTo>
                  <a:pt x="13376" y="7077"/>
                </a:move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close/>
              </a:path>
              <a:path fill="darkenLess" w="21600" h="22858">
                <a:moveTo>
                  <a:pt x="9877" y="14928"/>
                </a:moveTo>
                <a:lnTo>
                  <a:pt x="11723" y="14928"/>
                </a:lnTo>
                <a:lnTo>
                  <a:pt x="11723" y="18618"/>
                </a:lnTo>
                <a:lnTo>
                  <a:pt x="16109" y="18618"/>
                </a:lnTo>
                <a:lnTo>
                  <a:pt x="16109" y="11429"/>
                </a:lnTo>
                <a:lnTo>
                  <a:pt x="5491" y="11429"/>
                </a:lnTo>
                <a:lnTo>
                  <a:pt x="5491" y="18618"/>
                </a:lnTo>
                <a:lnTo>
                  <a:pt x="9877" y="18618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754200"/>
            <a:ext cx="7345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活动一：文明素养面面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000" y="2204640"/>
            <a:ext cx="8675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默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—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的内容。思考：你从教材提供的这些信息中，想到了什么？你最想对哪件事发表自己的评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/>
          </p:cNvPr>
          <p:cNvSpPr/>
          <p:nvPr/>
        </p:nvSpPr>
        <p:spPr>
          <a:xfrm>
            <a:off x="680400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firstslide"/>
          </p:cNvPr>
          <p:cNvSpPr/>
          <p:nvPr/>
        </p:nvSpPr>
        <p:spPr>
          <a:xfrm>
            <a:off x="6112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24120"/>
            <a:ext cx="69134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焦点访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庆节后的天安门广场，口香糖的残渣随处可见，显得格外刺眼，密密麻麻的斑痕与天安门广场的神圣和庄严形成了强烈的反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国庆期间游客们在天安门广场留下了六万余块的口香糖残渣。环卫工人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开始一直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天时间，蹲在地上刷洗的就投入了一千多名工人，消耗铁刷四千余把，铁铲两千余把，购买专用洗剂三吨，价值十四万余元。即使这样，最后还是留下了一些印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4"/>
          <p:cNvSpPr/>
          <p:nvPr/>
        </p:nvSpPr>
        <p:spPr>
          <a:xfrm>
            <a:off x="3203640" y="321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061640"/>
            <a:ext cx="446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动动脑，张张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56536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是扔口香糖的游客，你看到报道后是什么感受？假如你是清除口香糖残渣的工人、假如你是一名游客、假如你是一个外国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后再吃口香糖时怎么做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发想象，谈谈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743040" y="1824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764280"/>
            <a:ext cx="687708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二：我 是小小侦查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将自己观察到的发生在学校、社区、大街上的一些不文明的现象，汇报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25092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11644" y="3837"/>
                </a:moveTo>
                <a:lnTo>
                  <a:pt x="14220" y="6448"/>
                </a:ln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lnTo>
                  <a:pt x="18607" y="10800"/>
                </a:lnTo>
                <a:lnTo>
                  <a:pt x="16953" y="10800"/>
                </a:lnTo>
                <a:lnTo>
                  <a:pt x="16953" y="17989"/>
                </a:lnTo>
                <a:lnTo>
                  <a:pt x="6335" y="17989"/>
                </a:lnTo>
                <a:lnTo>
                  <a:pt x="6335" y="10800"/>
                </a:lnTo>
                <a:lnTo>
                  <a:pt x="4681" y="10800"/>
                </a:lnTo>
                <a:close/>
              </a:path>
              <a:path fill="darkenLess" w="23288" h="21600">
                <a:moveTo>
                  <a:pt x="14220" y="6448"/>
                </a:move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close/>
              </a:path>
              <a:path fill="darkenLess" w="23288" h="21600">
                <a:moveTo>
                  <a:pt x="10721" y="14299"/>
                </a:moveTo>
                <a:lnTo>
                  <a:pt x="12566" y="14299"/>
                </a:lnTo>
                <a:lnTo>
                  <a:pt x="12566" y="17989"/>
                </a:lnTo>
                <a:lnTo>
                  <a:pt x="16953" y="17989"/>
                </a:lnTo>
                <a:lnTo>
                  <a:pt x="16953" y="10800"/>
                </a:lnTo>
                <a:lnTo>
                  <a:pt x="6335" y="10800"/>
                </a:lnTo>
                <a:lnTo>
                  <a:pt x="6335" y="17989"/>
                </a:lnTo>
                <a:lnTo>
                  <a:pt x="10721" y="17989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000" y="117000"/>
            <a:ext cx="902160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3" descr=""/>
          <p:cNvPicPr/>
          <p:nvPr/>
        </p:nvPicPr>
        <p:blipFill>
          <a:blip r:embed="rId1"/>
          <a:stretch/>
        </p:blipFill>
        <p:spPr>
          <a:xfrm>
            <a:off x="0" y="-309600"/>
            <a:ext cx="9180360" cy="75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"/>
          <p:cNvPicPr/>
          <p:nvPr/>
        </p:nvPicPr>
        <p:blipFill>
          <a:blip r:embed="rId1"/>
          <a:stretch/>
        </p:blipFill>
        <p:spPr>
          <a:xfrm>
            <a:off x="0" y="130320"/>
            <a:ext cx="89647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9800" y="321840"/>
            <a:ext cx="822816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8:35Z</dcterms:modified>
  <cp:revision>65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