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468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7372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5564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468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7372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5A4F-EEDA-4830-BE7A-0871F382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4B2-0DF3-4080-B9EC-F5103F6C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D1C-64D1-4E87-A912-B9CD4822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010-A237-4095-A295-FCA96273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DBA-0E9D-44BF-B8E1-AC50CD18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57080" y="406080"/>
            <a:ext cx="8158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33C-0917-46CB-B816-044F5C6F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BCE-BDC1-49CE-89D8-54338B8A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E9E7-F813-4B19-9F4E-9862F957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7CE-FDF0-4672-A73C-2545DD01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821-8A2C-41D9-91A1-4084F5CA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D08-4AD9-40A8-BEC3-28D6761B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468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7372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5564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468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7372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271-6DAF-471B-8FAA-EED0F820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57080" y="406080"/>
            <a:ext cx="8158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1468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73720" y="160020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5564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1468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273720" y="4227120"/>
            <a:ext cx="2627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7080" y="406080"/>
            <a:ext cx="8158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36680" y="422712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7080" y="338760"/>
            <a:ext cx="8158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6680" y="1600200"/>
            <a:ext cx="3981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4227120"/>
            <a:ext cx="8159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7080" y="406080"/>
            <a:ext cx="81583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5f3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1019-C1B9-4790-A469-573F4A85DB0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7080" y="406080"/>
            <a:ext cx="81583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d5f3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d5f3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640" y="160020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9"/>
          <p:cNvSpPr txBox="1"/>
          <p:nvPr/>
        </p:nvSpPr>
        <p:spPr>
          <a:xfrm>
            <a:off x="826920" y="1268280"/>
            <a:ext cx="7490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生活在地球村的人们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文本框 6155"/>
          <p:cNvSpPr/>
          <p:nvPr/>
        </p:nvSpPr>
        <p:spPr>
          <a:xfrm>
            <a:off x="23760" y="64533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仿宋_GB2312"/>
              </a:rPr>
              <a:t>        </a:t>
            </a:r>
            <a:r>
              <a:rPr b="0" lang="zh-CN" sz="4800" spc="-1" strike="noStrike">
                <a:solidFill>
                  <a:srgbClr val="4d4d4d"/>
                </a:solidFill>
                <a:latin typeface="Arial"/>
                <a:ea typeface="仿宋_GB2312"/>
              </a:rPr>
              <a:t>分析一下人的肤色、身材与他们居住的地理环境有什么关系。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4" name="Picture 12" descr="u=183001447,1361822637&amp;fm=23&amp;gp=0"/>
          <p:cNvPicPr/>
          <p:nvPr/>
        </p:nvPicPr>
        <p:blipFill>
          <a:blip r:embed="rId1"/>
          <a:stretch/>
        </p:blipFill>
        <p:spPr>
          <a:xfrm>
            <a:off x="3564000" y="3933720"/>
            <a:ext cx="2143080" cy="29242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3"/>
          <p:cNvSpPr/>
          <p:nvPr/>
        </p:nvSpPr>
        <p:spPr>
          <a:xfrm>
            <a:off x="1116000" y="1989000"/>
            <a:ext cx="2448000" cy="1656000"/>
          </a:xfrm>
          <a:prstGeom prst="cloudCallout">
            <a:avLst>
              <a:gd name="adj1" fmla="val -38523"/>
              <a:gd name="adj2" fmla="val 73009"/>
            </a:avLst>
          </a:prstGeom>
          <a:solidFill>
            <a:srgbClr val="485a27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我发现，住在寒冷地区的人，身高体胖的比较多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AutoShape 14"/>
          <p:cNvSpPr/>
          <p:nvPr/>
        </p:nvSpPr>
        <p:spPr>
          <a:xfrm>
            <a:off x="5724360" y="2421000"/>
            <a:ext cx="1368720" cy="1366920"/>
          </a:xfrm>
          <a:prstGeom prst="wedgeRoundRectCallout">
            <a:avLst>
              <a:gd name="adj1" fmla="val -85962"/>
              <a:gd name="adj2" fmla="val 63935"/>
              <a:gd name="adj3" fmla="val 16667"/>
            </a:avLst>
          </a:prstGeom>
          <a:solidFill>
            <a:srgbClr val="485a27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我认为气候越热，人的肤色越深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AutoShape 15"/>
          <p:cNvSpPr/>
          <p:nvPr/>
        </p:nvSpPr>
        <p:spPr>
          <a:xfrm>
            <a:off x="7093080" y="2349360"/>
            <a:ext cx="1511280" cy="1368720"/>
          </a:xfrm>
          <a:prstGeom prst="wedgeEllipseCallout">
            <a:avLst>
              <a:gd name="adj1" fmla="val 51050"/>
              <a:gd name="adj2" fmla="val 68791"/>
            </a:avLst>
          </a:prstGeom>
          <a:solidFill>
            <a:srgbClr val="485a27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我发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8" name="Picture 22" descr="u=2287977334,450199834&amp;fm=21&amp;gp=0[1]"/>
          <p:cNvPicPr/>
          <p:nvPr/>
        </p:nvPicPr>
        <p:blipFill>
          <a:blip r:embed="rId2"/>
          <a:stretch/>
        </p:blipFill>
        <p:spPr>
          <a:xfrm>
            <a:off x="250920" y="3933720"/>
            <a:ext cx="2340000" cy="292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u=2476161166,855204547&amp;fm=21&amp;gp=0[1]"/>
          <p:cNvPicPr/>
          <p:nvPr/>
        </p:nvPicPr>
        <p:blipFill>
          <a:blip r:embed="rId3"/>
          <a:stretch/>
        </p:blipFill>
        <p:spPr>
          <a:xfrm>
            <a:off x="7164360" y="4005360"/>
            <a:ext cx="1979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042920" y="162864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          </a:t>
            </a:r>
            <a:r>
              <a:rPr b="0" lang="zh-CN" sz="4400" spc="-1" strike="noStrike">
                <a:solidFill>
                  <a:srgbClr val="4d4d4d"/>
                </a:solidFill>
                <a:latin typeface="宋体"/>
              </a:rPr>
              <a:t>可以说，目前世界上的三大人种，既有大范围的集中分布，又有效范围的交叉分布。那么还有哪些国家也是这样的呢</a:t>
            </a:r>
            <a:r>
              <a:rPr b="0" lang="en-US" sz="4400" spc="-1" strike="noStrike">
                <a:solidFill>
                  <a:srgbClr val="4d4d4d"/>
                </a:solidFill>
                <a:latin typeface="宋体"/>
              </a:rPr>
              <a:t>?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63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61,-117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63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61,-117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6"/>
          <p:cNvSpPr txBox="1"/>
          <p:nvPr/>
        </p:nvSpPr>
        <p:spPr>
          <a:xfrm>
            <a:off x="468360" y="260280"/>
            <a:ext cx="2449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小资料</a:t>
            </a:r>
            <a:endParaRPr b="0" lang="en-US" sz="44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95360" y="1628640"/>
            <a:ext cx="825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　　        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楷体_GB2312"/>
              </a:rPr>
              <a:t>世界各地的人们，使用着不同的语言。到现在为止，没人能确切地说出世界上有多少种语言，不过语言学家大都同意至少有</a:t>
            </a:r>
            <a:r>
              <a:rPr b="0" lang="en-US" sz="4000" spc="-1" strike="noStrike">
                <a:solidFill>
                  <a:srgbClr val="4d4d4d"/>
                </a:solidFill>
                <a:latin typeface="Arial"/>
                <a:ea typeface="楷体_GB2312"/>
              </a:rPr>
              <a:t>2500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楷体_GB2312"/>
              </a:rPr>
              <a:t>种～</a:t>
            </a:r>
            <a:r>
              <a:rPr b="0" lang="en-US" sz="4000" spc="-1" strike="noStrike">
                <a:solidFill>
                  <a:srgbClr val="4d4d4d"/>
                </a:solidFill>
                <a:latin typeface="Arial"/>
                <a:ea typeface="楷体_GB2312"/>
              </a:rPr>
              <a:t>3000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楷体_GB2312"/>
              </a:rPr>
              <a:t>种。要知道，光是非洲就有</a:t>
            </a:r>
            <a:r>
              <a:rPr b="0" lang="en-US" sz="4000" spc="-1" strike="noStrike">
                <a:solidFill>
                  <a:srgbClr val="4d4d4d"/>
                </a:solidFill>
                <a:latin typeface="Arial"/>
                <a:ea typeface="楷体_GB2312"/>
              </a:rPr>
              <a:t>1000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楷体_GB2312"/>
              </a:rPr>
              <a:t>种以上，但是使用人数超过</a:t>
            </a:r>
            <a:r>
              <a:rPr b="0" lang="en-US" sz="4000" spc="-1" strike="noStrike">
                <a:solidFill>
                  <a:srgbClr val="4d4d4d"/>
                </a:solidFill>
                <a:latin typeface="Arial"/>
                <a:ea typeface="楷体_GB2312"/>
              </a:rPr>
              <a:t>100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楷体_GB2312"/>
              </a:rPr>
              <a:t>万的语言只有</a:t>
            </a:r>
            <a:r>
              <a:rPr b="0" lang="en-US" sz="4000" spc="-1" strike="noStrike">
                <a:solidFill>
                  <a:srgbClr val="4d4d4d"/>
                </a:solidFill>
                <a:latin typeface="Arial"/>
                <a:ea typeface="楷体_GB2312"/>
              </a:rPr>
              <a:t>100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楷体_GB2312"/>
              </a:rPr>
              <a:t>多种。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720720" y="90792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仿宋_GB2312"/>
              </a:rPr>
              <a:t>　　        </a:t>
            </a:r>
            <a:r>
              <a:rPr b="0" lang="zh-CN" sz="6000" spc="-1" strike="noStrike">
                <a:solidFill>
                  <a:srgbClr val="4d4d4d"/>
                </a:solidFill>
                <a:latin typeface="Arial"/>
                <a:ea typeface="仿宋_GB2312"/>
              </a:rPr>
              <a:t>你还知道有哪些语言？地球村的人们除了用口头和书面语言以外，还可以用什么方式沟通</a:t>
            </a:r>
            <a:r>
              <a:rPr b="0" lang="en-US" sz="6000" spc="-1" strike="noStrike">
                <a:solidFill>
                  <a:srgbClr val="4d4d4d"/>
                </a:solidFill>
                <a:latin typeface="Arial"/>
                <a:ea typeface="仿宋_GB2312"/>
              </a:rPr>
              <a:t>?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文本框 8199"/>
          <p:cNvSpPr/>
          <p:nvPr/>
        </p:nvSpPr>
        <p:spPr>
          <a:xfrm>
            <a:off x="1292400" y="257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8b3d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808b3d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8"/>
          <p:cNvSpPr/>
          <p:nvPr/>
        </p:nvSpPr>
        <p:spPr>
          <a:xfrm>
            <a:off x="900000" y="126828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4d4d4d"/>
                </a:solidFill>
                <a:latin typeface="Arial"/>
                <a:ea typeface="楷体_GB2312"/>
              </a:rPr>
              <a:t>不同的语言反映了不同的文化习惯，如果我们不理解，就会造成误解或闹出笑话。各个国家和民族药相互理解和尊重。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684360" y="1125360"/>
            <a:ext cx="77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d4d4d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808b3d"/>
                </a:solidFill>
                <a:latin typeface="Arial"/>
              </a:rPr>
              <a:t>我们再去了解一下，不同国家和民族在语言和文化习惯上有哪些不同。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CD71-FC5E-486A-8FDE-FF2AB97CF3EB}" type="slidenum">
              <a:rPr b="0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64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250920" y="1197000"/>
            <a:ext cx="41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Arial"/>
                <a:ea typeface="楷体_GB2312"/>
              </a:rPr>
              <a:t>       </a:t>
            </a:r>
            <a:r>
              <a:rPr b="0" lang="zh-CN" sz="4800" spc="-1" strike="noStrike">
                <a:solidFill>
                  <a:srgbClr val="4d4d4d"/>
                </a:solidFill>
                <a:latin typeface="Arial"/>
                <a:ea typeface="楷体_GB2312"/>
              </a:rPr>
              <a:t>我们去找一找不同国家和民族人们的姓名，看看在排列顺序上有什么不同。 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9"/>
          <p:cNvSpPr/>
          <p:nvPr/>
        </p:nvSpPr>
        <p:spPr>
          <a:xfrm>
            <a:off x="611280" y="765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1.</a:t>
            </a:r>
            <a:r>
              <a:rPr b="0" lang="zh-CN" sz="4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不同肤色的居民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68360" y="191628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仿宋_GB2312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世界上的人，根据他们的外表特征，主要可以分为黄色人种、白色人种和黑色人种。人种虽然不同，但没有优劣之分，都是平等的。不同种族的人都是我们地球村的兄弟姐妹。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9"/>
          <p:cNvSpPr/>
          <p:nvPr/>
        </p:nvSpPr>
        <p:spPr>
          <a:xfrm>
            <a:off x="0" y="0"/>
            <a:ext cx="4067280" cy="2016000"/>
          </a:xfrm>
          <a:custGeom>
            <a:avLst/>
            <a:gdLst>
              <a:gd name="textAreaLeft" fmla="*/ 0 w 4067280"/>
              <a:gd name="textAreaRight" fmla="*/ 4067640 w 406728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lnTo>
                  <a:pt x="5398" y="10800"/>
                </a:lnTo>
                <a:close/>
              </a:path>
            </a:pathLst>
          </a:custGeom>
          <a:solidFill>
            <a:srgbClr val="485a27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议一议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11280" y="249228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d4d4d"/>
                </a:solidFill>
                <a:latin typeface="Arial"/>
              </a:rPr>
              <a:t>比较一下，不同人的外表特征有什么不同</a:t>
            </a:r>
            <a:r>
              <a:rPr b="0" lang="en-US" sz="7200" spc="-1" strike="noStrike">
                <a:solidFill>
                  <a:srgbClr val="4d4d4d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52560" y="189000"/>
            <a:ext cx="826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黑种人肤色黝黑，头发黑呈波浪或鬈曲，黑眼睛，鼻子宽扁，鼻根低矮或中等，鼻突出度小，鼻孔横径较大，凸唇，口宽度大，唇厚，胡须和体毛较少。 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0" y="320040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白色人种肤色较白或是浅褐色，颧骨较高，鼻梁高而窄，胡子和体毛发达。眼睛及头发颜色不属于白色人种特征，事实上除了雅利安人拥有浅色的眼睛及头发颜色外，其他闪含语系民族及高加索人皆黑色头发及深褐色的眼睛，而浅色的眼睛及头发颜色属于隐性基因，南欧及伊朗人多与闪含族人混血，所以今天这两地之白人多属黑色头发及深褐色的眼睛。</a:t>
            </a:r>
            <a:br>
              <a:rPr sz="4000"/>
            </a:b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0" y="2902320"/>
            <a:ext cx="9144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黄色人种，俗称</a:t>
            </a:r>
            <a:r>
              <a:rPr b="0" lang="zh-CN" sz="3600" spc="-1" strike="noStrike">
                <a:solidFill>
                  <a:srgbClr val="9900ff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黄种人</a:t>
            </a:r>
            <a:r>
              <a:rPr b="0" lang="zh-CN" sz="3600" spc="-1" strike="noStrike">
                <a:solidFill>
                  <a:srgbClr val="9900ff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，又称蒙古人种或亚美人种，是世界第二大人种，人数仅次于白色人种。</a:t>
            </a:r>
            <a:br>
              <a:rPr sz="3600"/>
            </a:br>
            <a:r>
              <a:rPr b="0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黄色人种肤色黄，头发粗直并且黑色，眼睛是黑色或深褐色的，面部宽阔，颧骨突出平扁，鼻梁低，胡子和体毛较少，身材为中等高度。肤色在世界所有人种中居中，头发直而硬，唇厚适中，眼睑多有内眦褶；头骨上表现的特征是鼻尖点指数中等，眼眶较高，美洲印第安人面部不象亚洲的蒙古人种那样扁，鼻子的突出度也稍大。上门齿舌面的铲形结构也是黄种人的显著特征。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1042920" y="177336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Arial"/>
                <a:ea typeface="仿宋_GB2312"/>
              </a:rPr>
              <a:t>       </a:t>
            </a:r>
            <a:r>
              <a:rPr b="0" lang="zh-CN" sz="5400" spc="-1" strike="noStrike">
                <a:solidFill>
                  <a:srgbClr val="4d4d4d"/>
                </a:solidFill>
                <a:latin typeface="Arial"/>
                <a:ea typeface="仿宋_GB2312"/>
              </a:rPr>
              <a:t>每个种族都有不同的特点和各自的优势，我们的世界也因此而多姿多彩。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8b3d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808b3d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187280" y="1844640"/>
            <a:ext cx="749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Arial"/>
                <a:ea typeface="楷体_GB2312"/>
              </a:rPr>
              <a:t>       </a:t>
            </a:r>
            <a:r>
              <a:rPr b="0" lang="zh-CN" sz="4800" spc="-1" strike="noStrike">
                <a:solidFill>
                  <a:srgbClr val="4d4d4d"/>
                </a:solidFill>
                <a:latin typeface="Arial"/>
                <a:ea typeface="楷体_GB2312"/>
              </a:rPr>
              <a:t>有人分析，就一般情况而言，体育成绩与不同人种的先天身体素质有关，你认为这种说法有道理吗？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0" y="0"/>
            <a:ext cx="2735280" cy="1916280"/>
          </a:xfrm>
          <a:prstGeom prst="rightArrow">
            <a:avLst>
              <a:gd name="adj1" fmla="val 50000"/>
              <a:gd name="adj2" fmla="val 35672"/>
            </a:avLst>
          </a:prstGeom>
          <a:solidFill>
            <a:srgbClr val="485a27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讨论</a:t>
            </a:r>
            <a:endParaRPr b="0" lang="en-US" sz="6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2124000" y="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仿宋_GB2312"/>
                <a:ea typeface="仿宋_GB2312"/>
              </a:rPr>
              <a:t>2.</a:t>
            </a:r>
            <a:r>
              <a:rPr b="0" lang="zh-CN" sz="5400" spc="-1" strike="noStrike">
                <a:solidFill>
                  <a:srgbClr val="4d4d4d"/>
                </a:solidFill>
                <a:latin typeface="仿宋_GB2312"/>
                <a:ea typeface="仿宋_GB2312"/>
              </a:rPr>
              <a:t>人种的分布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0" y="911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        </a:t>
            </a:r>
            <a:r>
              <a:rPr b="0" lang="zh-CN" sz="4800" spc="-1" strike="noStrike">
                <a:solidFill>
                  <a:srgbClr val="9900ff"/>
                </a:solidFill>
                <a:latin typeface="Arial"/>
                <a:ea typeface="楷体_GB2312"/>
              </a:rPr>
              <a:t>长期以来，地理学家和人类学家就认知到。在人类发张早起，人们常起身活在一个地方受到环境的影响，世代相传，身体便逐渐形成了适应环境的特征。因此，在人种形成的早期阶段，受自然环境的影响比较明显，人种分布有一定的地域性。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13:48:39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8:57:03Z</dcterms:modified>
  <cp:revision>17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