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7.png" ContentType="image/png"/>
  <Override PartName="/ppt/media/image5.jpeg" ContentType="image/jpeg"/>
  <Override PartName="/ppt/media/image26.jpeg" ContentType="image/jpeg"/>
  <Override PartName="/ppt/media/image7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whoosh.wav" ContentType="audio/x-wav"/>
  <Override PartName="/ppt/media/image18.jpeg" ContentType="image/jpeg"/>
  <Override PartName="/ppt/media/image8.gif" ContentType="image/gif"/>
  <Override PartName="/ppt/media/image27.jpeg" ContentType="image/jpeg"/>
  <Override PartName="/ppt/media/image6.jpeg" ContentType="image/jpeg"/>
  <Override PartName="/ppt/media/image33.jpeg" ContentType="image/jpeg"/>
  <Override PartName="/ppt/media/image9.jpeg" ContentType="image/jpeg"/>
  <Override PartName="/ppt/media/image30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E605-204A-4949-AAF3-433C89ADC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36E3-78E5-4B66-A031-3CCBC35A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26E1-3229-4C8E-B430-E842A626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B888-3340-4265-B3BD-BD3787DEC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0D1D1-71FF-49C7-889B-6B572AC38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9A7D4-3F46-494D-8202-60BB9007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1F75F-62AF-4AD2-BF5F-F2B2B804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FD2CC-D1CF-46EF-9767-682E2923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FCFC8-8DBA-463D-AC99-280AE4D2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4157D-3887-4E13-94E4-B02ACAA4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346FE0-DDB0-476F-B451-49D7526B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A9AF-01CF-4AF1-AA3D-F35DB918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654AB-0048-42F6-8D37-4CDE8B61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FE735-8D67-4828-BAE8-9EFD711C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E68178-693C-4934-B037-AB20BF88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3BA6B-3017-4E36-AA96-71D0BA1E9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6B046-875D-4660-A6FB-5D1D8CC1A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9ABF72-EC1B-4569-BD1F-2E5DCD8AB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B2BDB2-5E84-4B42-BF1F-AA07B52C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E5180E-19BD-48C8-B667-30209A4B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6D06DC-59AA-4BA9-B9B6-CAFE0445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6FA9D7-D77D-4773-90B7-9861A802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2DBE-14C1-49DF-83E4-22AC32BC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6E5D1C-0973-4850-B96C-D7DAB6BA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C6131F-1369-4F20-BCBA-1E8E8497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D3AB95-D09A-4458-A118-C516BC70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6C2EB9-AD38-4363-817B-0A669E15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2774C0-D9C4-4208-AE74-1DE0E42E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F033D8-206A-4EF8-81D4-EC6A5F40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FE3DFE-CCA4-40D5-B8D5-885B92695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02B8C-F666-4BA8-A411-F0D4375BC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34343-F051-4DDA-9CCB-3FD7978C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A233C-C87D-4503-BA11-89B2F16B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0B57-638D-461E-898E-669AE56C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92562-9518-48B5-996F-85B7E8DB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9F025-F940-461B-93E5-6D272584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E6D20-E6E2-449A-A457-250C5919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16714-DBB7-4077-A9DA-CD9E9809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09251-577C-4C36-BDDC-DDB2725E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0DF0A-845C-4141-87F3-6AC7DEE0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C6DB8-913A-4EFC-B2DD-12141750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EA143-8494-4420-8888-B25ACA018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2D105-DFF4-40E6-A601-5D54DE3B4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12688-8DD7-46EB-8B6D-9C509E750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4801-EE68-4403-9714-F80308C3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C7308-77A2-4C75-8B67-CD0885CD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164B5-F75A-4B0D-8B04-666D45F1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14512-3418-4A24-AB8E-C3B43B02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54D08-4537-4075-8DA1-ECC7F087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3ED0F-5590-4183-81C4-EFEEE64C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0A72F-9060-4D3B-A8E2-B068A16B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D77C0-66E2-4572-B08C-8AA61DAE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A0584-E75F-4018-8832-DAA922DE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85B75-F1AA-46CA-8061-8CAE7C8D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8A1ED-13FB-429D-8D5C-C9813139D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B083-CABD-4FFC-8A82-E02E8433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2E31B-F8C2-4012-89EC-DD17C3C51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D1DCB-5EF9-4F19-A87C-4E615EC8F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D7C8D-3E81-46E2-8F7D-A688DFAC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D9C7F-0BD0-41C1-AF63-2916E972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D83EC-7C71-40BB-B103-37231B01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99B0F-F016-48D5-945C-C80F679B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4FE4E-CAE3-42C3-A501-445A0EAC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95660-EB07-45E1-A6D6-BD05ADE4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EB3CA-C535-4020-B469-EE99EAFE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0C3EF-BC4F-42C7-A683-810A7245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E226-A1CF-4C1E-B92B-BB7BF98A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33911-D92F-47C4-9ECB-F3F9EA99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5BE64-83BA-42DA-975E-A3AD6664A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86338-E94C-4680-969D-6E66C6337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83B83-DAF5-41D3-9C78-4E2A569C3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ED760-565D-4E3C-93FC-793A9E3A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51F5D-9CCB-4F6F-AC6F-ED1D3B42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8D6BC-7AB7-4704-BADF-3758A919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73310-B1EB-4FEC-AB74-0DB0756D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59435-2DCF-4A8B-89E6-50FE0AEE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F5265-EAF0-44EB-965A-AD37D683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38B5-4161-4005-9778-7FFCE903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7E428-D5B7-4B1F-BD19-76177C04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B00CD-1E96-4B98-BC10-C2C4DB26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0C563-0A62-4371-BB15-5C4A5ABE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3C31B-2327-418F-9ECF-CA7EA816B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EA0AC-9073-4C7A-B3B6-FEF7420A0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999A-26FC-4720-B475-C39C9C7A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AutoShap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3240" y="0"/>
              <a:ext cx="8391600" cy="2222640"/>
            </a:xfrm>
            <a:custGeom>
              <a:avLst/>
              <a:gdLst/>
              <a:ahLst/>
              <a:rect l="l" t="t" r="r" b="b"/>
              <a:pathLst>
                <a:path w="15857" h="4199">
                  <a:moveTo>
                    <a:pt x="0" y="4199"/>
                  </a:moveTo>
                  <a:lnTo>
                    <a:pt x="112" y="3894"/>
                  </a:lnTo>
                  <a:lnTo>
                    <a:pt x="252" y="3603"/>
                  </a:lnTo>
                  <a:lnTo>
                    <a:pt x="421" y="3327"/>
                  </a:lnTo>
                  <a:lnTo>
                    <a:pt x="618" y="3066"/>
                  </a:lnTo>
                  <a:lnTo>
                    <a:pt x="843" y="2817"/>
                  </a:lnTo>
                  <a:lnTo>
                    <a:pt x="1096" y="2582"/>
                  </a:lnTo>
                  <a:lnTo>
                    <a:pt x="1375" y="2360"/>
                  </a:lnTo>
                  <a:lnTo>
                    <a:pt x="1681" y="2151"/>
                  </a:lnTo>
                  <a:lnTo>
                    <a:pt x="2014" y="1953"/>
                  </a:lnTo>
                  <a:lnTo>
                    <a:pt x="2371" y="1768"/>
                  </a:lnTo>
                  <a:lnTo>
                    <a:pt x="2754" y="1594"/>
                  </a:lnTo>
                  <a:lnTo>
                    <a:pt x="3163" y="1432"/>
                  </a:lnTo>
                  <a:lnTo>
                    <a:pt x="3595" y="1280"/>
                  </a:lnTo>
                  <a:lnTo>
                    <a:pt x="4052" y="1140"/>
                  </a:lnTo>
                  <a:lnTo>
                    <a:pt x="4531" y="1009"/>
                  </a:lnTo>
                  <a:lnTo>
                    <a:pt x="5034" y="888"/>
                  </a:lnTo>
                  <a:lnTo>
                    <a:pt x="5559" y="776"/>
                  </a:lnTo>
                  <a:lnTo>
                    <a:pt x="6107" y="673"/>
                  </a:lnTo>
                  <a:lnTo>
                    <a:pt x="6676" y="580"/>
                  </a:lnTo>
                  <a:lnTo>
                    <a:pt x="7267" y="495"/>
                  </a:lnTo>
                  <a:lnTo>
                    <a:pt x="7879" y="417"/>
                  </a:lnTo>
                  <a:lnTo>
                    <a:pt x="8511" y="348"/>
                  </a:lnTo>
                  <a:lnTo>
                    <a:pt x="9162" y="286"/>
                  </a:lnTo>
                  <a:lnTo>
                    <a:pt x="9834" y="231"/>
                  </a:lnTo>
                  <a:lnTo>
                    <a:pt x="10525" y="183"/>
                  </a:lnTo>
                  <a:lnTo>
                    <a:pt x="11234" y="140"/>
                  </a:lnTo>
                  <a:lnTo>
                    <a:pt x="11961" y="104"/>
                  </a:lnTo>
                  <a:lnTo>
                    <a:pt x="12707" y="73"/>
                  </a:lnTo>
                  <a:lnTo>
                    <a:pt x="13469" y="48"/>
                  </a:lnTo>
                  <a:lnTo>
                    <a:pt x="14249" y="27"/>
                  </a:lnTo>
                  <a:lnTo>
                    <a:pt x="15045" y="12"/>
                  </a:lnTo>
                  <a:lnTo>
                    <a:pt x="15857" y="0"/>
                  </a:lnTo>
                  <a:lnTo>
                    <a:pt x="0" y="0"/>
                  </a:lnTo>
                  <a:lnTo>
                    <a:pt x="0" y="4199"/>
                  </a:lnTo>
                  <a:close/>
                </a:path>
              </a:pathLst>
            </a:custGeom>
            <a:solidFill>
              <a:srgbClr val="7096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3240" y="0"/>
              <a:ext cx="8391600" cy="1836720"/>
            </a:xfrm>
            <a:custGeom>
              <a:avLst/>
              <a:gdLst/>
              <a:ahLst/>
              <a:rect l="l" t="t" r="r" b="b"/>
              <a:pathLst>
                <a:path w="15857" h="3472">
                  <a:moveTo>
                    <a:pt x="0" y="3472"/>
                  </a:moveTo>
                  <a:lnTo>
                    <a:pt x="123" y="3202"/>
                  </a:lnTo>
                  <a:lnTo>
                    <a:pt x="272" y="2945"/>
                  </a:lnTo>
                  <a:lnTo>
                    <a:pt x="449" y="2703"/>
                  </a:lnTo>
                  <a:lnTo>
                    <a:pt x="652" y="2475"/>
                  </a:lnTo>
                  <a:lnTo>
                    <a:pt x="883" y="2260"/>
                  </a:lnTo>
                  <a:lnTo>
                    <a:pt x="1140" y="2059"/>
                  </a:lnTo>
                  <a:lnTo>
                    <a:pt x="1423" y="1869"/>
                  </a:lnTo>
                  <a:lnTo>
                    <a:pt x="1732" y="1692"/>
                  </a:lnTo>
                  <a:lnTo>
                    <a:pt x="2065" y="1526"/>
                  </a:lnTo>
                  <a:lnTo>
                    <a:pt x="2424" y="1373"/>
                  </a:lnTo>
                  <a:lnTo>
                    <a:pt x="2807" y="1229"/>
                  </a:lnTo>
                  <a:lnTo>
                    <a:pt x="3215" y="1096"/>
                  </a:lnTo>
                  <a:lnTo>
                    <a:pt x="3647" y="974"/>
                  </a:lnTo>
                  <a:lnTo>
                    <a:pt x="4101" y="861"/>
                  </a:lnTo>
                  <a:lnTo>
                    <a:pt x="4579" y="757"/>
                  </a:lnTo>
                  <a:lnTo>
                    <a:pt x="5079" y="662"/>
                  </a:lnTo>
                  <a:lnTo>
                    <a:pt x="5601" y="576"/>
                  </a:lnTo>
                  <a:lnTo>
                    <a:pt x="6146" y="497"/>
                  </a:lnTo>
                  <a:lnTo>
                    <a:pt x="6712" y="426"/>
                  </a:lnTo>
                  <a:lnTo>
                    <a:pt x="7298" y="362"/>
                  </a:lnTo>
                  <a:lnTo>
                    <a:pt x="7906" y="305"/>
                  </a:lnTo>
                  <a:lnTo>
                    <a:pt x="8535" y="254"/>
                  </a:lnTo>
                  <a:lnTo>
                    <a:pt x="9183" y="208"/>
                  </a:lnTo>
                  <a:lnTo>
                    <a:pt x="9851" y="169"/>
                  </a:lnTo>
                  <a:lnTo>
                    <a:pt x="10538" y="134"/>
                  </a:lnTo>
                  <a:lnTo>
                    <a:pt x="11244" y="105"/>
                  </a:lnTo>
                  <a:lnTo>
                    <a:pt x="11969" y="79"/>
                  </a:lnTo>
                  <a:lnTo>
                    <a:pt x="12712" y="57"/>
                  </a:lnTo>
                  <a:lnTo>
                    <a:pt x="13472" y="39"/>
                  </a:lnTo>
                  <a:lnTo>
                    <a:pt x="14250" y="24"/>
                  </a:lnTo>
                  <a:lnTo>
                    <a:pt x="15046" y="11"/>
                  </a:lnTo>
                  <a:lnTo>
                    <a:pt x="15857" y="0"/>
                  </a:lnTo>
                  <a:lnTo>
                    <a:pt x="0" y="0"/>
                  </a:lnTo>
                  <a:lnTo>
                    <a:pt x="0" y="3472"/>
                  </a:lnTo>
                  <a:close/>
                </a:path>
              </a:pathLst>
            </a:custGeom>
            <a:solidFill>
              <a:srgbClr val="495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5191200" y="5148360"/>
              <a:ext cx="3949560" cy="1704960"/>
            </a:xfrm>
            <a:custGeom>
              <a:avLst/>
              <a:gdLst/>
              <a:ahLst/>
              <a:rect l="l" t="t" r="r" b="b"/>
              <a:pathLst>
                <a:path w="7465" h="3223">
                  <a:moveTo>
                    <a:pt x="7465" y="0"/>
                  </a:moveTo>
                  <a:lnTo>
                    <a:pt x="7413" y="235"/>
                  </a:lnTo>
                  <a:lnTo>
                    <a:pt x="7347" y="457"/>
                  </a:lnTo>
                  <a:lnTo>
                    <a:pt x="7267" y="670"/>
                  </a:lnTo>
                  <a:lnTo>
                    <a:pt x="7174" y="871"/>
                  </a:lnTo>
                  <a:lnTo>
                    <a:pt x="7068" y="1061"/>
                  </a:lnTo>
                  <a:lnTo>
                    <a:pt x="6949" y="1241"/>
                  </a:lnTo>
                  <a:lnTo>
                    <a:pt x="6818" y="1412"/>
                  </a:lnTo>
                  <a:lnTo>
                    <a:pt x="6674" y="1573"/>
                  </a:lnTo>
                  <a:lnTo>
                    <a:pt x="6517" y="1724"/>
                  </a:lnTo>
                  <a:lnTo>
                    <a:pt x="6349" y="1867"/>
                  </a:lnTo>
                  <a:lnTo>
                    <a:pt x="6169" y="2000"/>
                  </a:lnTo>
                  <a:lnTo>
                    <a:pt x="5976" y="2125"/>
                  </a:lnTo>
                  <a:lnTo>
                    <a:pt x="5773" y="2240"/>
                  </a:lnTo>
                  <a:lnTo>
                    <a:pt x="5558" y="2350"/>
                  </a:lnTo>
                  <a:lnTo>
                    <a:pt x="5332" y="2450"/>
                  </a:lnTo>
                  <a:lnTo>
                    <a:pt x="5095" y="2543"/>
                  </a:lnTo>
                  <a:lnTo>
                    <a:pt x="4848" y="2628"/>
                  </a:lnTo>
                  <a:lnTo>
                    <a:pt x="4590" y="2707"/>
                  </a:lnTo>
                  <a:lnTo>
                    <a:pt x="4322" y="2778"/>
                  </a:lnTo>
                  <a:lnTo>
                    <a:pt x="4044" y="2844"/>
                  </a:lnTo>
                  <a:lnTo>
                    <a:pt x="3756" y="2904"/>
                  </a:lnTo>
                  <a:lnTo>
                    <a:pt x="3459" y="2957"/>
                  </a:lnTo>
                  <a:lnTo>
                    <a:pt x="3151" y="3004"/>
                  </a:lnTo>
                  <a:lnTo>
                    <a:pt x="2836" y="3046"/>
                  </a:lnTo>
                  <a:lnTo>
                    <a:pt x="2511" y="3084"/>
                  </a:lnTo>
                  <a:lnTo>
                    <a:pt x="2176" y="3117"/>
                  </a:lnTo>
                  <a:lnTo>
                    <a:pt x="1833" y="3144"/>
                  </a:lnTo>
                  <a:lnTo>
                    <a:pt x="1482" y="3167"/>
                  </a:lnTo>
                  <a:lnTo>
                    <a:pt x="1124" y="3187"/>
                  </a:lnTo>
                  <a:lnTo>
                    <a:pt x="757" y="3203"/>
                  </a:lnTo>
                  <a:lnTo>
                    <a:pt x="382" y="3215"/>
                  </a:lnTo>
                  <a:lnTo>
                    <a:pt x="0" y="3223"/>
                  </a:lnTo>
                  <a:lnTo>
                    <a:pt x="7465" y="3223"/>
                  </a:lnTo>
                  <a:lnTo>
                    <a:pt x="7465" y="0"/>
                  </a:lnTo>
                  <a:close/>
                </a:path>
              </a:pathLst>
            </a:custGeom>
            <a:solidFill>
              <a:srgbClr val="aeb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5191200" y="5443560"/>
              <a:ext cx="3949560" cy="1409760"/>
            </a:xfrm>
            <a:custGeom>
              <a:avLst/>
              <a:gdLst/>
              <a:ahLst/>
              <a:rect l="l" t="t" r="r" b="b"/>
              <a:pathLst>
                <a:path w="7465" h="2664">
                  <a:moveTo>
                    <a:pt x="7465" y="0"/>
                  </a:moveTo>
                  <a:lnTo>
                    <a:pt x="7407" y="207"/>
                  </a:lnTo>
                  <a:lnTo>
                    <a:pt x="7337" y="404"/>
                  </a:lnTo>
                  <a:lnTo>
                    <a:pt x="7254" y="589"/>
                  </a:lnTo>
                  <a:lnTo>
                    <a:pt x="7158" y="764"/>
                  </a:lnTo>
                  <a:lnTo>
                    <a:pt x="7050" y="930"/>
                  </a:lnTo>
                  <a:lnTo>
                    <a:pt x="6929" y="1084"/>
                  </a:lnTo>
                  <a:lnTo>
                    <a:pt x="6795" y="1230"/>
                  </a:lnTo>
                  <a:lnTo>
                    <a:pt x="6650" y="1366"/>
                  </a:lnTo>
                  <a:lnTo>
                    <a:pt x="6493" y="1492"/>
                  </a:lnTo>
                  <a:lnTo>
                    <a:pt x="6324" y="1611"/>
                  </a:lnTo>
                  <a:lnTo>
                    <a:pt x="6144" y="1721"/>
                  </a:lnTo>
                  <a:lnTo>
                    <a:pt x="5951" y="1823"/>
                  </a:lnTo>
                  <a:lnTo>
                    <a:pt x="5748" y="1917"/>
                  </a:lnTo>
                  <a:lnTo>
                    <a:pt x="5535" y="2004"/>
                  </a:lnTo>
                  <a:lnTo>
                    <a:pt x="5310" y="2083"/>
                  </a:lnTo>
                  <a:lnTo>
                    <a:pt x="5074" y="2157"/>
                  </a:lnTo>
                  <a:lnTo>
                    <a:pt x="4828" y="2223"/>
                  </a:lnTo>
                  <a:lnTo>
                    <a:pt x="4572" y="2283"/>
                  </a:lnTo>
                  <a:lnTo>
                    <a:pt x="4306" y="2338"/>
                  </a:lnTo>
                  <a:lnTo>
                    <a:pt x="4029" y="2387"/>
                  </a:lnTo>
                  <a:lnTo>
                    <a:pt x="3743" y="2431"/>
                  </a:lnTo>
                  <a:lnTo>
                    <a:pt x="3447" y="2470"/>
                  </a:lnTo>
                  <a:lnTo>
                    <a:pt x="3142" y="2505"/>
                  </a:lnTo>
                  <a:lnTo>
                    <a:pt x="2827" y="2535"/>
                  </a:lnTo>
                  <a:lnTo>
                    <a:pt x="2504" y="2562"/>
                  </a:lnTo>
                  <a:lnTo>
                    <a:pt x="2171" y="2585"/>
                  </a:lnTo>
                  <a:lnTo>
                    <a:pt x="1830" y="2604"/>
                  </a:lnTo>
                  <a:lnTo>
                    <a:pt x="1480" y="2621"/>
                  </a:lnTo>
                  <a:lnTo>
                    <a:pt x="1123" y="2635"/>
                  </a:lnTo>
                  <a:lnTo>
                    <a:pt x="756" y="2647"/>
                  </a:lnTo>
                  <a:lnTo>
                    <a:pt x="382" y="2657"/>
                  </a:lnTo>
                  <a:lnTo>
                    <a:pt x="0" y="2664"/>
                  </a:lnTo>
                  <a:lnTo>
                    <a:pt x="7465" y="2664"/>
                  </a:lnTo>
                  <a:lnTo>
                    <a:pt x="7465" y="0"/>
                  </a:lnTo>
                  <a:close/>
                </a:path>
              </a:pathLst>
            </a:custGeom>
            <a:solidFill>
              <a:srgbClr val="8e8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56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54A7-3441-40D8-8A0F-CED558BEDA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2A1F-CDEA-492E-8244-615EE2261FB9}" type="slidenum">
              <a:rPr b="0" lang="zh-CN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93C2-9BDE-4FB2-92F2-2CED075156DC}" type="slidenum">
              <a:rPr b="0" lang="zh-CN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1547-2B7D-4955-B6B9-8137B6E6F27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2"/>
          <p:cNvGrpSpPr/>
          <p:nvPr/>
        </p:nvGrpSpPr>
        <p:grpSpPr>
          <a:xfrm>
            <a:off x="0" y="0"/>
            <a:ext cx="9144000" cy="6865920"/>
            <a:chOff x="0" y="0"/>
            <a:chExt cx="9144000" cy="6865920"/>
          </a:xfrm>
        </p:grpSpPr>
        <p:sp>
          <p:nvSpPr>
            <p:cNvPr id="191" name="AutoShape 3"/>
            <p:cNvSpPr/>
            <p:nvPr/>
          </p:nvSpPr>
          <p:spPr>
            <a:xfrm>
              <a:off x="0" y="0"/>
              <a:ext cx="9144000" cy="68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4"/>
            <p:cNvSpPr/>
            <p:nvPr/>
          </p:nvSpPr>
          <p:spPr>
            <a:xfrm>
              <a:off x="0" y="1440"/>
              <a:ext cx="9128160" cy="6843960"/>
            </a:xfrm>
            <a:prstGeom prst="rect">
              <a:avLst/>
            </a:prstGeom>
            <a:noFill/>
            <a:ln w="14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4680" y="1454040"/>
              <a:ext cx="9126720" cy="5389560"/>
            </a:xfrm>
            <a:custGeom>
              <a:avLst/>
              <a:gdLst/>
              <a:ahLst/>
              <a:rect l="l" t="t" r="r" b="b"/>
              <a:pathLst>
                <a:path w="17249" h="10185">
                  <a:moveTo>
                    <a:pt x="0" y="0"/>
                  </a:moveTo>
                  <a:lnTo>
                    <a:pt x="121" y="741"/>
                  </a:lnTo>
                  <a:lnTo>
                    <a:pt x="273" y="1445"/>
                  </a:lnTo>
                  <a:lnTo>
                    <a:pt x="456" y="2114"/>
                  </a:lnTo>
                  <a:lnTo>
                    <a:pt x="671" y="2750"/>
                  </a:lnTo>
                  <a:lnTo>
                    <a:pt x="916" y="3353"/>
                  </a:lnTo>
                  <a:lnTo>
                    <a:pt x="1191" y="3923"/>
                  </a:lnTo>
                  <a:lnTo>
                    <a:pt x="1495" y="4461"/>
                  </a:lnTo>
                  <a:lnTo>
                    <a:pt x="1828" y="4969"/>
                  </a:lnTo>
                  <a:lnTo>
                    <a:pt x="2190" y="5448"/>
                  </a:lnTo>
                  <a:lnTo>
                    <a:pt x="2579" y="5897"/>
                  </a:lnTo>
                  <a:lnTo>
                    <a:pt x="2995" y="6318"/>
                  </a:lnTo>
                  <a:lnTo>
                    <a:pt x="3439" y="6711"/>
                  </a:lnTo>
                  <a:lnTo>
                    <a:pt x="3910" y="7079"/>
                  </a:lnTo>
                  <a:lnTo>
                    <a:pt x="4406" y="7421"/>
                  </a:lnTo>
                  <a:lnTo>
                    <a:pt x="4928" y="7738"/>
                  </a:lnTo>
                  <a:lnTo>
                    <a:pt x="5475" y="8032"/>
                  </a:lnTo>
                  <a:lnTo>
                    <a:pt x="6046" y="8303"/>
                  </a:lnTo>
                  <a:lnTo>
                    <a:pt x="6643" y="8551"/>
                  </a:lnTo>
                  <a:lnTo>
                    <a:pt x="7261" y="8778"/>
                  </a:lnTo>
                  <a:lnTo>
                    <a:pt x="7904" y="8985"/>
                  </a:lnTo>
                  <a:lnTo>
                    <a:pt x="8569" y="9172"/>
                  </a:lnTo>
                  <a:lnTo>
                    <a:pt x="9257" y="9341"/>
                  </a:lnTo>
                  <a:lnTo>
                    <a:pt x="9966" y="9492"/>
                  </a:lnTo>
                  <a:lnTo>
                    <a:pt x="10697" y="9626"/>
                  </a:lnTo>
                  <a:lnTo>
                    <a:pt x="11448" y="9742"/>
                  </a:lnTo>
                  <a:lnTo>
                    <a:pt x="12220" y="9845"/>
                  </a:lnTo>
                  <a:lnTo>
                    <a:pt x="13011" y="9932"/>
                  </a:lnTo>
                  <a:lnTo>
                    <a:pt x="13821" y="10007"/>
                  </a:lnTo>
                  <a:lnTo>
                    <a:pt x="14652" y="10068"/>
                  </a:lnTo>
                  <a:lnTo>
                    <a:pt x="15500" y="10118"/>
                  </a:lnTo>
                  <a:lnTo>
                    <a:pt x="16366" y="10156"/>
                  </a:lnTo>
                  <a:lnTo>
                    <a:pt x="17249" y="10185"/>
                  </a:lnTo>
                  <a:lnTo>
                    <a:pt x="0" y="101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96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4680" y="2389320"/>
              <a:ext cx="9126720" cy="4454280"/>
            </a:xfrm>
            <a:custGeom>
              <a:avLst/>
              <a:gdLst/>
              <a:ahLst/>
              <a:rect l="l" t="t" r="r" b="b"/>
              <a:pathLst>
                <a:path w="17249" h="8420">
                  <a:moveTo>
                    <a:pt x="0" y="0"/>
                  </a:moveTo>
                  <a:lnTo>
                    <a:pt x="132" y="656"/>
                  </a:lnTo>
                  <a:lnTo>
                    <a:pt x="294" y="1277"/>
                  </a:lnTo>
                  <a:lnTo>
                    <a:pt x="487" y="1863"/>
                  </a:lnTo>
                  <a:lnTo>
                    <a:pt x="708" y="2417"/>
                  </a:lnTo>
                  <a:lnTo>
                    <a:pt x="960" y="2938"/>
                  </a:lnTo>
                  <a:lnTo>
                    <a:pt x="1239" y="3427"/>
                  </a:lnTo>
                  <a:lnTo>
                    <a:pt x="1547" y="3886"/>
                  </a:lnTo>
                  <a:lnTo>
                    <a:pt x="1883" y="4316"/>
                  </a:lnTo>
                  <a:lnTo>
                    <a:pt x="2246" y="4717"/>
                  </a:lnTo>
                  <a:lnTo>
                    <a:pt x="2636" y="5091"/>
                  </a:lnTo>
                  <a:lnTo>
                    <a:pt x="3053" y="5438"/>
                  </a:lnTo>
                  <a:lnTo>
                    <a:pt x="3497" y="5760"/>
                  </a:lnTo>
                  <a:lnTo>
                    <a:pt x="3965" y="6057"/>
                  </a:lnTo>
                  <a:lnTo>
                    <a:pt x="4460" y="6332"/>
                  </a:lnTo>
                  <a:lnTo>
                    <a:pt x="4979" y="6583"/>
                  </a:lnTo>
                  <a:lnTo>
                    <a:pt x="5524" y="6814"/>
                  </a:lnTo>
                  <a:lnTo>
                    <a:pt x="6092" y="7024"/>
                  </a:lnTo>
                  <a:lnTo>
                    <a:pt x="6685" y="7215"/>
                  </a:lnTo>
                  <a:lnTo>
                    <a:pt x="7300" y="7388"/>
                  </a:lnTo>
                  <a:lnTo>
                    <a:pt x="7939" y="7543"/>
                  </a:lnTo>
                  <a:lnTo>
                    <a:pt x="8600" y="7681"/>
                  </a:lnTo>
                  <a:lnTo>
                    <a:pt x="9283" y="7806"/>
                  </a:lnTo>
                  <a:lnTo>
                    <a:pt x="9988" y="7915"/>
                  </a:lnTo>
                  <a:lnTo>
                    <a:pt x="10715" y="8010"/>
                  </a:lnTo>
                  <a:lnTo>
                    <a:pt x="11463" y="8094"/>
                  </a:lnTo>
                  <a:lnTo>
                    <a:pt x="12231" y="8166"/>
                  </a:lnTo>
                  <a:lnTo>
                    <a:pt x="13019" y="8228"/>
                  </a:lnTo>
                  <a:lnTo>
                    <a:pt x="13827" y="8281"/>
                  </a:lnTo>
                  <a:lnTo>
                    <a:pt x="14654" y="8325"/>
                  </a:lnTo>
                  <a:lnTo>
                    <a:pt x="15501" y="8363"/>
                  </a:lnTo>
                  <a:lnTo>
                    <a:pt x="16366" y="8394"/>
                  </a:lnTo>
                  <a:lnTo>
                    <a:pt x="17249" y="8420"/>
                  </a:lnTo>
                  <a:lnTo>
                    <a:pt x="0" y="8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5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3135240" y="4680"/>
              <a:ext cx="5989680" cy="3086280"/>
            </a:xfrm>
            <a:custGeom>
              <a:avLst/>
              <a:gdLst/>
              <a:ahLst/>
              <a:rect l="l" t="t" r="r" b="b"/>
              <a:pathLst>
                <a:path w="11319" h="5832">
                  <a:moveTo>
                    <a:pt x="11319" y="5832"/>
                  </a:moveTo>
                  <a:lnTo>
                    <a:pt x="11239" y="5407"/>
                  </a:lnTo>
                  <a:lnTo>
                    <a:pt x="11140" y="5004"/>
                  </a:lnTo>
                  <a:lnTo>
                    <a:pt x="11019" y="4621"/>
                  </a:lnTo>
                  <a:lnTo>
                    <a:pt x="10879" y="4257"/>
                  </a:lnTo>
                  <a:lnTo>
                    <a:pt x="10718" y="3912"/>
                  </a:lnTo>
                  <a:lnTo>
                    <a:pt x="10537" y="3586"/>
                  </a:lnTo>
                  <a:lnTo>
                    <a:pt x="10338" y="3277"/>
                  </a:lnTo>
                  <a:lnTo>
                    <a:pt x="10119" y="2986"/>
                  </a:lnTo>
                  <a:lnTo>
                    <a:pt x="9882" y="2712"/>
                  </a:lnTo>
                  <a:lnTo>
                    <a:pt x="9627" y="2455"/>
                  </a:lnTo>
                  <a:lnTo>
                    <a:pt x="9353" y="2214"/>
                  </a:lnTo>
                  <a:lnTo>
                    <a:pt x="9062" y="1989"/>
                  </a:lnTo>
                  <a:lnTo>
                    <a:pt x="8753" y="1778"/>
                  </a:lnTo>
                  <a:lnTo>
                    <a:pt x="8427" y="1583"/>
                  </a:lnTo>
                  <a:lnTo>
                    <a:pt x="8085" y="1400"/>
                  </a:lnTo>
                  <a:lnTo>
                    <a:pt x="7726" y="1233"/>
                  </a:lnTo>
                  <a:lnTo>
                    <a:pt x="7351" y="1077"/>
                  </a:lnTo>
                  <a:lnTo>
                    <a:pt x="6960" y="935"/>
                  </a:lnTo>
                  <a:lnTo>
                    <a:pt x="6553" y="805"/>
                  </a:lnTo>
                  <a:lnTo>
                    <a:pt x="6132" y="686"/>
                  </a:lnTo>
                  <a:lnTo>
                    <a:pt x="5696" y="579"/>
                  </a:lnTo>
                  <a:lnTo>
                    <a:pt x="5244" y="483"/>
                  </a:lnTo>
                  <a:lnTo>
                    <a:pt x="4779" y="397"/>
                  </a:lnTo>
                  <a:lnTo>
                    <a:pt x="4299" y="320"/>
                  </a:lnTo>
                  <a:lnTo>
                    <a:pt x="3807" y="253"/>
                  </a:lnTo>
                  <a:lnTo>
                    <a:pt x="3300" y="194"/>
                  </a:lnTo>
                  <a:lnTo>
                    <a:pt x="2781" y="144"/>
                  </a:lnTo>
                  <a:lnTo>
                    <a:pt x="2250" y="101"/>
                  </a:lnTo>
                  <a:lnTo>
                    <a:pt x="1704" y="67"/>
                  </a:lnTo>
                  <a:lnTo>
                    <a:pt x="1148" y="38"/>
                  </a:lnTo>
                  <a:lnTo>
                    <a:pt x="580" y="16"/>
                  </a:lnTo>
                  <a:lnTo>
                    <a:pt x="0" y="0"/>
                  </a:lnTo>
                  <a:lnTo>
                    <a:pt x="11319" y="0"/>
                  </a:lnTo>
                  <a:lnTo>
                    <a:pt x="11319" y="5832"/>
                  </a:lnTo>
                  <a:close/>
                </a:path>
              </a:pathLst>
            </a:custGeom>
            <a:solidFill>
              <a:srgbClr val="aeb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3135240" y="4680"/>
              <a:ext cx="5989680" cy="2551320"/>
            </a:xfrm>
            <a:custGeom>
              <a:avLst/>
              <a:gdLst/>
              <a:ahLst/>
              <a:rect l="l" t="t" r="r" b="b"/>
              <a:pathLst>
                <a:path w="11319" h="4822">
                  <a:moveTo>
                    <a:pt x="11319" y="4822"/>
                  </a:moveTo>
                  <a:lnTo>
                    <a:pt x="11232" y="4446"/>
                  </a:lnTo>
                  <a:lnTo>
                    <a:pt x="11126" y="4090"/>
                  </a:lnTo>
                  <a:lnTo>
                    <a:pt x="11000" y="3754"/>
                  </a:lnTo>
                  <a:lnTo>
                    <a:pt x="10854" y="3438"/>
                  </a:lnTo>
                  <a:lnTo>
                    <a:pt x="10689" y="3139"/>
                  </a:lnTo>
                  <a:lnTo>
                    <a:pt x="10506" y="2859"/>
                  </a:lnTo>
                  <a:lnTo>
                    <a:pt x="10304" y="2595"/>
                  </a:lnTo>
                  <a:lnTo>
                    <a:pt x="10084" y="2350"/>
                  </a:lnTo>
                  <a:lnTo>
                    <a:pt x="9845" y="2120"/>
                  </a:lnTo>
                  <a:lnTo>
                    <a:pt x="9589" y="1907"/>
                  </a:lnTo>
                  <a:lnTo>
                    <a:pt x="9315" y="1707"/>
                  </a:lnTo>
                  <a:lnTo>
                    <a:pt x="9024" y="1523"/>
                  </a:lnTo>
                  <a:lnTo>
                    <a:pt x="8717" y="1353"/>
                  </a:lnTo>
                  <a:lnTo>
                    <a:pt x="8393" y="1195"/>
                  </a:lnTo>
                  <a:lnTo>
                    <a:pt x="8051" y="1051"/>
                  </a:lnTo>
                  <a:lnTo>
                    <a:pt x="7694" y="920"/>
                  </a:lnTo>
                  <a:lnTo>
                    <a:pt x="7321" y="799"/>
                  </a:lnTo>
                  <a:lnTo>
                    <a:pt x="6932" y="690"/>
                  </a:lnTo>
                  <a:lnTo>
                    <a:pt x="6528" y="590"/>
                  </a:lnTo>
                  <a:lnTo>
                    <a:pt x="6109" y="502"/>
                  </a:lnTo>
                  <a:lnTo>
                    <a:pt x="5675" y="423"/>
                  </a:lnTo>
                  <a:lnTo>
                    <a:pt x="5227" y="352"/>
                  </a:lnTo>
                  <a:lnTo>
                    <a:pt x="4765" y="289"/>
                  </a:lnTo>
                  <a:lnTo>
                    <a:pt x="4287" y="234"/>
                  </a:lnTo>
                  <a:lnTo>
                    <a:pt x="3797" y="186"/>
                  </a:lnTo>
                  <a:lnTo>
                    <a:pt x="3293" y="145"/>
                  </a:lnTo>
                  <a:lnTo>
                    <a:pt x="2775" y="110"/>
                  </a:lnTo>
                  <a:lnTo>
                    <a:pt x="2245" y="79"/>
                  </a:lnTo>
                  <a:lnTo>
                    <a:pt x="1703" y="54"/>
                  </a:lnTo>
                  <a:lnTo>
                    <a:pt x="1147" y="32"/>
                  </a:lnTo>
                  <a:lnTo>
                    <a:pt x="580" y="15"/>
                  </a:lnTo>
                  <a:lnTo>
                    <a:pt x="0" y="0"/>
                  </a:lnTo>
                  <a:lnTo>
                    <a:pt x="11319" y="0"/>
                  </a:lnTo>
                  <a:lnTo>
                    <a:pt x="11319" y="4822"/>
                  </a:lnTo>
                  <a:close/>
                </a:path>
              </a:pathLst>
            </a:custGeom>
            <a:solidFill>
              <a:srgbClr val="8e8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9"/>
            <p:cNvSpPr/>
            <p:nvPr/>
          </p:nvSpPr>
          <p:spPr>
            <a:xfrm>
              <a:off x="7629480" y="6070680"/>
              <a:ext cx="270000" cy="361800"/>
            </a:xfrm>
            <a:prstGeom prst="rect">
              <a:avLst/>
            </a:prstGeom>
            <a:solidFill>
              <a:srgbClr val="42b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7991640" y="6070680"/>
              <a:ext cx="387360" cy="361800"/>
            </a:xfrm>
            <a:prstGeom prst="rect">
              <a:avLst/>
            </a:prstGeom>
            <a:solidFill>
              <a:srgbClr val="009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7353360" y="6070680"/>
              <a:ext cx="185760" cy="361800"/>
            </a:xfrm>
            <a:prstGeom prst="rect">
              <a:avLst/>
            </a:pr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8488440" y="5872320"/>
              <a:ext cx="388800" cy="758520"/>
            </a:xfrm>
            <a:custGeom>
              <a:avLst/>
              <a:gdLst/>
              <a:ahLst/>
              <a:rect l="l" t="t" r="r" b="b"/>
              <a:pathLst>
                <a:path w="736" h="1435">
                  <a:moveTo>
                    <a:pt x="0" y="0"/>
                  </a:moveTo>
                  <a:lnTo>
                    <a:pt x="736" y="716"/>
                  </a:lnTo>
                  <a:lnTo>
                    <a:pt x="0" y="14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1144440" y="334800"/>
              <a:ext cx="203400" cy="203400"/>
            </a:xfrm>
            <a:custGeom>
              <a:avLst/>
              <a:gdLst/>
              <a:ahLst/>
              <a:rect l="l" t="t" r="r" b="b"/>
              <a:pathLst>
                <a:path w="386" h="386">
                  <a:moveTo>
                    <a:pt x="386" y="193"/>
                  </a:moveTo>
                  <a:lnTo>
                    <a:pt x="386" y="174"/>
                  </a:lnTo>
                  <a:lnTo>
                    <a:pt x="382" y="154"/>
                  </a:lnTo>
                  <a:lnTo>
                    <a:pt x="377" y="136"/>
                  </a:lnTo>
                  <a:lnTo>
                    <a:pt x="371" y="117"/>
                  </a:lnTo>
                  <a:lnTo>
                    <a:pt x="363" y="101"/>
                  </a:lnTo>
                  <a:lnTo>
                    <a:pt x="353" y="85"/>
                  </a:lnTo>
                  <a:lnTo>
                    <a:pt x="343" y="70"/>
                  </a:lnTo>
                  <a:lnTo>
                    <a:pt x="330" y="56"/>
                  </a:lnTo>
                  <a:lnTo>
                    <a:pt x="316" y="44"/>
                  </a:lnTo>
                  <a:lnTo>
                    <a:pt x="300" y="32"/>
                  </a:lnTo>
                  <a:lnTo>
                    <a:pt x="285" y="23"/>
                  </a:lnTo>
                  <a:lnTo>
                    <a:pt x="268" y="15"/>
                  </a:lnTo>
                  <a:lnTo>
                    <a:pt x="251" y="8"/>
                  </a:lnTo>
                  <a:lnTo>
                    <a:pt x="232" y="4"/>
                  </a:lnTo>
                  <a:lnTo>
                    <a:pt x="213" y="1"/>
                  </a:lnTo>
                  <a:lnTo>
                    <a:pt x="193" y="0"/>
                  </a:lnTo>
                  <a:lnTo>
                    <a:pt x="173" y="1"/>
                  </a:lnTo>
                  <a:lnTo>
                    <a:pt x="155" y="4"/>
                  </a:lnTo>
                  <a:lnTo>
                    <a:pt x="135" y="8"/>
                  </a:lnTo>
                  <a:lnTo>
                    <a:pt x="118" y="15"/>
                  </a:lnTo>
                  <a:lnTo>
                    <a:pt x="101" y="23"/>
                  </a:lnTo>
                  <a:lnTo>
                    <a:pt x="85" y="32"/>
                  </a:lnTo>
                  <a:lnTo>
                    <a:pt x="70" y="44"/>
                  </a:lnTo>
                  <a:lnTo>
                    <a:pt x="56" y="56"/>
                  </a:lnTo>
                  <a:lnTo>
                    <a:pt x="44" y="70"/>
                  </a:lnTo>
                  <a:lnTo>
                    <a:pt x="33" y="85"/>
                  </a:lnTo>
                  <a:lnTo>
                    <a:pt x="23" y="101"/>
                  </a:lnTo>
                  <a:lnTo>
                    <a:pt x="15" y="117"/>
                  </a:lnTo>
                  <a:lnTo>
                    <a:pt x="9" y="136"/>
                  </a:lnTo>
                  <a:lnTo>
                    <a:pt x="3" y="154"/>
                  </a:lnTo>
                  <a:lnTo>
                    <a:pt x="1" y="174"/>
                  </a:lnTo>
                  <a:lnTo>
                    <a:pt x="0" y="193"/>
                  </a:lnTo>
                  <a:lnTo>
                    <a:pt x="1" y="212"/>
                  </a:lnTo>
                  <a:lnTo>
                    <a:pt x="3" y="232"/>
                  </a:lnTo>
                  <a:lnTo>
                    <a:pt x="9" y="250"/>
                  </a:lnTo>
                  <a:lnTo>
                    <a:pt x="15" y="267"/>
                  </a:lnTo>
                  <a:lnTo>
                    <a:pt x="23" y="285"/>
                  </a:lnTo>
                  <a:lnTo>
                    <a:pt x="33" y="301"/>
                  </a:lnTo>
                  <a:lnTo>
                    <a:pt x="44" y="315"/>
                  </a:lnTo>
                  <a:lnTo>
                    <a:pt x="56" y="329"/>
                  </a:lnTo>
                  <a:lnTo>
                    <a:pt x="70" y="342"/>
                  </a:lnTo>
                  <a:lnTo>
                    <a:pt x="85" y="353"/>
                  </a:lnTo>
                  <a:lnTo>
                    <a:pt x="101" y="363"/>
                  </a:lnTo>
                  <a:lnTo>
                    <a:pt x="118" y="371"/>
                  </a:lnTo>
                  <a:lnTo>
                    <a:pt x="135" y="378"/>
                  </a:lnTo>
                  <a:lnTo>
                    <a:pt x="155" y="382"/>
                  </a:lnTo>
                  <a:lnTo>
                    <a:pt x="173" y="385"/>
                  </a:lnTo>
                  <a:lnTo>
                    <a:pt x="193" y="386"/>
                  </a:lnTo>
                  <a:lnTo>
                    <a:pt x="213" y="385"/>
                  </a:lnTo>
                  <a:lnTo>
                    <a:pt x="232" y="382"/>
                  </a:lnTo>
                  <a:lnTo>
                    <a:pt x="251" y="378"/>
                  </a:lnTo>
                  <a:lnTo>
                    <a:pt x="268" y="371"/>
                  </a:lnTo>
                  <a:lnTo>
                    <a:pt x="285" y="363"/>
                  </a:lnTo>
                  <a:lnTo>
                    <a:pt x="300" y="353"/>
                  </a:lnTo>
                  <a:lnTo>
                    <a:pt x="316" y="342"/>
                  </a:lnTo>
                  <a:lnTo>
                    <a:pt x="330" y="329"/>
                  </a:lnTo>
                  <a:lnTo>
                    <a:pt x="343" y="315"/>
                  </a:lnTo>
                  <a:lnTo>
                    <a:pt x="353" y="301"/>
                  </a:lnTo>
                  <a:lnTo>
                    <a:pt x="363" y="285"/>
                  </a:lnTo>
                  <a:lnTo>
                    <a:pt x="371" y="267"/>
                  </a:lnTo>
                  <a:lnTo>
                    <a:pt x="377" y="250"/>
                  </a:lnTo>
                  <a:lnTo>
                    <a:pt x="382" y="232"/>
                  </a:lnTo>
                  <a:lnTo>
                    <a:pt x="386" y="212"/>
                  </a:lnTo>
                  <a:lnTo>
                    <a:pt x="386" y="193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未知"/>
            <p:cNvSpPr/>
            <p:nvPr/>
          </p:nvSpPr>
          <p:spPr>
            <a:xfrm>
              <a:off x="693720" y="314280"/>
              <a:ext cx="246240" cy="244440"/>
            </a:xfrm>
            <a:custGeom>
              <a:avLst/>
              <a:gdLst/>
              <a:ahLst/>
              <a:rect l="l" t="t" r="r" b="b"/>
              <a:pathLst>
                <a:path w="465" h="463">
                  <a:moveTo>
                    <a:pt x="465" y="232"/>
                  </a:moveTo>
                  <a:lnTo>
                    <a:pt x="465" y="220"/>
                  </a:lnTo>
                  <a:lnTo>
                    <a:pt x="464" y="208"/>
                  </a:lnTo>
                  <a:lnTo>
                    <a:pt x="461" y="196"/>
                  </a:lnTo>
                  <a:lnTo>
                    <a:pt x="460" y="186"/>
                  </a:lnTo>
                  <a:lnTo>
                    <a:pt x="457" y="174"/>
                  </a:lnTo>
                  <a:lnTo>
                    <a:pt x="454" y="163"/>
                  </a:lnTo>
                  <a:lnTo>
                    <a:pt x="451" y="152"/>
                  </a:lnTo>
                  <a:lnTo>
                    <a:pt x="446" y="141"/>
                  </a:lnTo>
                  <a:lnTo>
                    <a:pt x="442" y="132"/>
                  </a:lnTo>
                  <a:lnTo>
                    <a:pt x="437" y="122"/>
                  </a:lnTo>
                  <a:lnTo>
                    <a:pt x="431" y="112"/>
                  </a:lnTo>
                  <a:lnTo>
                    <a:pt x="425" y="102"/>
                  </a:lnTo>
                  <a:lnTo>
                    <a:pt x="412" y="84"/>
                  </a:lnTo>
                  <a:lnTo>
                    <a:pt x="397" y="68"/>
                  </a:lnTo>
                  <a:lnTo>
                    <a:pt x="380" y="53"/>
                  </a:lnTo>
                  <a:lnTo>
                    <a:pt x="362" y="40"/>
                  </a:lnTo>
                  <a:lnTo>
                    <a:pt x="352" y="33"/>
                  </a:lnTo>
                  <a:lnTo>
                    <a:pt x="343" y="28"/>
                  </a:lnTo>
                  <a:lnTo>
                    <a:pt x="333" y="22"/>
                  </a:lnTo>
                  <a:lnTo>
                    <a:pt x="323" y="18"/>
                  </a:lnTo>
                  <a:lnTo>
                    <a:pt x="312" y="14"/>
                  </a:lnTo>
                  <a:lnTo>
                    <a:pt x="302" y="11"/>
                  </a:lnTo>
                  <a:lnTo>
                    <a:pt x="291" y="7"/>
                  </a:lnTo>
                  <a:lnTo>
                    <a:pt x="279" y="4"/>
                  </a:lnTo>
                  <a:lnTo>
                    <a:pt x="268" y="3"/>
                  </a:lnTo>
                  <a:lnTo>
                    <a:pt x="256" y="1"/>
                  </a:lnTo>
                  <a:lnTo>
                    <a:pt x="244" y="0"/>
                  </a:lnTo>
                  <a:lnTo>
                    <a:pt x="232" y="0"/>
                  </a:lnTo>
                  <a:lnTo>
                    <a:pt x="221" y="0"/>
                  </a:lnTo>
                  <a:lnTo>
                    <a:pt x="209" y="1"/>
                  </a:lnTo>
                  <a:lnTo>
                    <a:pt x="198" y="3"/>
                  </a:lnTo>
                  <a:lnTo>
                    <a:pt x="186" y="4"/>
                  </a:lnTo>
                  <a:lnTo>
                    <a:pt x="175" y="7"/>
                  </a:lnTo>
                  <a:lnTo>
                    <a:pt x="163" y="11"/>
                  </a:lnTo>
                  <a:lnTo>
                    <a:pt x="152" y="14"/>
                  </a:lnTo>
                  <a:lnTo>
                    <a:pt x="143" y="18"/>
                  </a:lnTo>
                  <a:lnTo>
                    <a:pt x="132" y="22"/>
                  </a:lnTo>
                  <a:lnTo>
                    <a:pt x="122" y="28"/>
                  </a:lnTo>
                  <a:lnTo>
                    <a:pt x="113" y="33"/>
                  </a:lnTo>
                  <a:lnTo>
                    <a:pt x="103" y="40"/>
                  </a:lnTo>
                  <a:lnTo>
                    <a:pt x="86" y="53"/>
                  </a:lnTo>
                  <a:lnTo>
                    <a:pt x="68" y="68"/>
                  </a:lnTo>
                  <a:lnTo>
                    <a:pt x="54" y="84"/>
                  </a:lnTo>
                  <a:lnTo>
                    <a:pt x="40" y="102"/>
                  </a:lnTo>
                  <a:lnTo>
                    <a:pt x="35" y="112"/>
                  </a:lnTo>
                  <a:lnTo>
                    <a:pt x="28" y="122"/>
                  </a:lnTo>
                  <a:lnTo>
                    <a:pt x="24" y="132"/>
                  </a:lnTo>
                  <a:lnTo>
                    <a:pt x="19" y="141"/>
                  </a:lnTo>
                  <a:lnTo>
                    <a:pt x="15" y="152"/>
                  </a:lnTo>
                  <a:lnTo>
                    <a:pt x="11" y="163"/>
                  </a:lnTo>
                  <a:lnTo>
                    <a:pt x="8" y="174"/>
                  </a:lnTo>
                  <a:lnTo>
                    <a:pt x="6" y="186"/>
                  </a:lnTo>
                  <a:lnTo>
                    <a:pt x="3" y="196"/>
                  </a:lnTo>
                  <a:lnTo>
                    <a:pt x="2" y="208"/>
                  </a:lnTo>
                  <a:lnTo>
                    <a:pt x="1" y="220"/>
                  </a:lnTo>
                  <a:lnTo>
                    <a:pt x="0" y="232"/>
                  </a:lnTo>
                  <a:lnTo>
                    <a:pt x="1" y="244"/>
                  </a:lnTo>
                  <a:lnTo>
                    <a:pt x="2" y="256"/>
                  </a:lnTo>
                  <a:lnTo>
                    <a:pt x="3" y="267"/>
                  </a:lnTo>
                  <a:lnTo>
                    <a:pt x="6" y="278"/>
                  </a:lnTo>
                  <a:lnTo>
                    <a:pt x="8" y="289"/>
                  </a:lnTo>
                  <a:lnTo>
                    <a:pt x="11" y="301"/>
                  </a:lnTo>
                  <a:lnTo>
                    <a:pt x="15" y="311"/>
                  </a:lnTo>
                  <a:lnTo>
                    <a:pt x="19" y="322"/>
                  </a:lnTo>
                  <a:lnTo>
                    <a:pt x="24" y="332"/>
                  </a:lnTo>
                  <a:lnTo>
                    <a:pt x="28" y="342"/>
                  </a:lnTo>
                  <a:lnTo>
                    <a:pt x="35" y="352"/>
                  </a:lnTo>
                  <a:lnTo>
                    <a:pt x="40" y="362"/>
                  </a:lnTo>
                  <a:lnTo>
                    <a:pt x="54" y="379"/>
                  </a:lnTo>
                  <a:lnTo>
                    <a:pt x="68" y="395"/>
                  </a:lnTo>
                  <a:lnTo>
                    <a:pt x="86" y="410"/>
                  </a:lnTo>
                  <a:lnTo>
                    <a:pt x="103" y="424"/>
                  </a:lnTo>
                  <a:lnTo>
                    <a:pt x="113" y="430"/>
                  </a:lnTo>
                  <a:lnTo>
                    <a:pt x="122" y="436"/>
                  </a:lnTo>
                  <a:lnTo>
                    <a:pt x="132" y="440"/>
                  </a:lnTo>
                  <a:lnTo>
                    <a:pt x="143" y="446"/>
                  </a:lnTo>
                  <a:lnTo>
                    <a:pt x="152" y="449"/>
                  </a:lnTo>
                  <a:lnTo>
                    <a:pt x="163" y="453"/>
                  </a:lnTo>
                  <a:lnTo>
                    <a:pt x="175" y="457"/>
                  </a:lnTo>
                  <a:lnTo>
                    <a:pt x="186" y="459"/>
                  </a:lnTo>
                  <a:lnTo>
                    <a:pt x="198" y="461"/>
                  </a:lnTo>
                  <a:lnTo>
                    <a:pt x="209" y="462"/>
                  </a:lnTo>
                  <a:lnTo>
                    <a:pt x="221" y="463"/>
                  </a:lnTo>
                  <a:lnTo>
                    <a:pt x="232" y="463"/>
                  </a:lnTo>
                  <a:lnTo>
                    <a:pt x="244" y="463"/>
                  </a:lnTo>
                  <a:lnTo>
                    <a:pt x="256" y="462"/>
                  </a:lnTo>
                  <a:lnTo>
                    <a:pt x="268" y="461"/>
                  </a:lnTo>
                  <a:lnTo>
                    <a:pt x="279" y="459"/>
                  </a:lnTo>
                  <a:lnTo>
                    <a:pt x="291" y="457"/>
                  </a:lnTo>
                  <a:lnTo>
                    <a:pt x="302" y="453"/>
                  </a:lnTo>
                  <a:lnTo>
                    <a:pt x="312" y="449"/>
                  </a:lnTo>
                  <a:lnTo>
                    <a:pt x="323" y="446"/>
                  </a:lnTo>
                  <a:lnTo>
                    <a:pt x="333" y="440"/>
                  </a:lnTo>
                  <a:lnTo>
                    <a:pt x="343" y="436"/>
                  </a:lnTo>
                  <a:lnTo>
                    <a:pt x="352" y="430"/>
                  </a:lnTo>
                  <a:lnTo>
                    <a:pt x="362" y="424"/>
                  </a:lnTo>
                  <a:lnTo>
                    <a:pt x="380" y="410"/>
                  </a:lnTo>
                  <a:lnTo>
                    <a:pt x="397" y="395"/>
                  </a:lnTo>
                  <a:lnTo>
                    <a:pt x="412" y="379"/>
                  </a:lnTo>
                  <a:lnTo>
                    <a:pt x="425" y="362"/>
                  </a:lnTo>
                  <a:lnTo>
                    <a:pt x="431" y="352"/>
                  </a:lnTo>
                  <a:lnTo>
                    <a:pt x="437" y="342"/>
                  </a:lnTo>
                  <a:lnTo>
                    <a:pt x="442" y="332"/>
                  </a:lnTo>
                  <a:lnTo>
                    <a:pt x="446" y="322"/>
                  </a:lnTo>
                  <a:lnTo>
                    <a:pt x="451" y="311"/>
                  </a:lnTo>
                  <a:lnTo>
                    <a:pt x="454" y="301"/>
                  </a:lnTo>
                  <a:lnTo>
                    <a:pt x="457" y="289"/>
                  </a:lnTo>
                  <a:lnTo>
                    <a:pt x="460" y="278"/>
                  </a:lnTo>
                  <a:lnTo>
                    <a:pt x="461" y="267"/>
                  </a:lnTo>
                  <a:lnTo>
                    <a:pt x="464" y="256"/>
                  </a:lnTo>
                  <a:lnTo>
                    <a:pt x="465" y="244"/>
                  </a:lnTo>
                  <a:lnTo>
                    <a:pt x="465" y="232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未知"/>
            <p:cNvSpPr/>
            <p:nvPr/>
          </p:nvSpPr>
          <p:spPr>
            <a:xfrm>
              <a:off x="246240" y="293760"/>
              <a:ext cx="287280" cy="285840"/>
            </a:xfrm>
            <a:custGeom>
              <a:avLst/>
              <a:gdLst/>
              <a:ahLst/>
              <a:rect l="l" t="t" r="r" b="b"/>
              <a:pathLst>
                <a:path w="542" h="541">
                  <a:moveTo>
                    <a:pt x="542" y="271"/>
                  </a:moveTo>
                  <a:lnTo>
                    <a:pt x="542" y="257"/>
                  </a:lnTo>
                  <a:lnTo>
                    <a:pt x="540" y="243"/>
                  </a:lnTo>
                  <a:lnTo>
                    <a:pt x="538" y="230"/>
                  </a:lnTo>
                  <a:lnTo>
                    <a:pt x="536" y="216"/>
                  </a:lnTo>
                  <a:lnTo>
                    <a:pt x="533" y="203"/>
                  </a:lnTo>
                  <a:lnTo>
                    <a:pt x="530" y="190"/>
                  </a:lnTo>
                  <a:lnTo>
                    <a:pt x="525" y="178"/>
                  </a:lnTo>
                  <a:lnTo>
                    <a:pt x="520" y="165"/>
                  </a:lnTo>
                  <a:lnTo>
                    <a:pt x="515" y="153"/>
                  </a:lnTo>
                  <a:lnTo>
                    <a:pt x="509" y="142"/>
                  </a:lnTo>
                  <a:lnTo>
                    <a:pt x="503" y="131"/>
                  </a:lnTo>
                  <a:lnTo>
                    <a:pt x="495" y="120"/>
                  </a:lnTo>
                  <a:lnTo>
                    <a:pt x="488" y="109"/>
                  </a:lnTo>
                  <a:lnTo>
                    <a:pt x="480" y="99"/>
                  </a:lnTo>
                  <a:lnTo>
                    <a:pt x="471" y="90"/>
                  </a:lnTo>
                  <a:lnTo>
                    <a:pt x="462" y="80"/>
                  </a:lnTo>
                  <a:lnTo>
                    <a:pt x="453" y="70"/>
                  </a:lnTo>
                  <a:lnTo>
                    <a:pt x="443" y="63"/>
                  </a:lnTo>
                  <a:lnTo>
                    <a:pt x="432" y="54"/>
                  </a:lnTo>
                  <a:lnTo>
                    <a:pt x="422" y="46"/>
                  </a:lnTo>
                  <a:lnTo>
                    <a:pt x="411" y="40"/>
                  </a:lnTo>
                  <a:lnTo>
                    <a:pt x="400" y="33"/>
                  </a:lnTo>
                  <a:lnTo>
                    <a:pt x="388" y="27"/>
                  </a:lnTo>
                  <a:lnTo>
                    <a:pt x="376" y="22"/>
                  </a:lnTo>
                  <a:lnTo>
                    <a:pt x="363" y="17"/>
                  </a:lnTo>
                  <a:lnTo>
                    <a:pt x="351" y="13"/>
                  </a:lnTo>
                  <a:lnTo>
                    <a:pt x="339" y="9"/>
                  </a:lnTo>
                  <a:lnTo>
                    <a:pt x="326" y="5"/>
                  </a:lnTo>
                  <a:lnTo>
                    <a:pt x="312" y="3"/>
                  </a:lnTo>
                  <a:lnTo>
                    <a:pt x="299" y="2"/>
                  </a:lnTo>
                  <a:lnTo>
                    <a:pt x="285" y="1"/>
                  </a:lnTo>
                  <a:lnTo>
                    <a:pt x="270" y="0"/>
                  </a:lnTo>
                  <a:lnTo>
                    <a:pt x="258" y="1"/>
                  </a:lnTo>
                  <a:lnTo>
                    <a:pt x="243" y="2"/>
                  </a:lnTo>
                  <a:lnTo>
                    <a:pt x="229" y="3"/>
                  </a:lnTo>
                  <a:lnTo>
                    <a:pt x="216" y="5"/>
                  </a:lnTo>
                  <a:lnTo>
                    <a:pt x="204" y="9"/>
                  </a:lnTo>
                  <a:lnTo>
                    <a:pt x="191" y="13"/>
                  </a:lnTo>
                  <a:lnTo>
                    <a:pt x="178" y="17"/>
                  </a:lnTo>
                  <a:lnTo>
                    <a:pt x="166" y="22"/>
                  </a:lnTo>
                  <a:lnTo>
                    <a:pt x="154" y="27"/>
                  </a:lnTo>
                  <a:lnTo>
                    <a:pt x="142" y="33"/>
                  </a:lnTo>
                  <a:lnTo>
                    <a:pt x="131" y="40"/>
                  </a:lnTo>
                  <a:lnTo>
                    <a:pt x="120" y="46"/>
                  </a:lnTo>
                  <a:lnTo>
                    <a:pt x="110" y="54"/>
                  </a:lnTo>
                  <a:lnTo>
                    <a:pt x="99" y="63"/>
                  </a:lnTo>
                  <a:lnTo>
                    <a:pt x="89" y="70"/>
                  </a:lnTo>
                  <a:lnTo>
                    <a:pt x="79" y="80"/>
                  </a:lnTo>
                  <a:lnTo>
                    <a:pt x="71" y="90"/>
                  </a:lnTo>
                  <a:lnTo>
                    <a:pt x="62" y="99"/>
                  </a:lnTo>
                  <a:lnTo>
                    <a:pt x="54" y="109"/>
                  </a:lnTo>
                  <a:lnTo>
                    <a:pt x="47" y="120"/>
                  </a:lnTo>
                  <a:lnTo>
                    <a:pt x="39" y="131"/>
                  </a:lnTo>
                  <a:lnTo>
                    <a:pt x="33" y="142"/>
                  </a:lnTo>
                  <a:lnTo>
                    <a:pt x="27" y="153"/>
                  </a:lnTo>
                  <a:lnTo>
                    <a:pt x="22" y="165"/>
                  </a:lnTo>
                  <a:lnTo>
                    <a:pt x="17" y="178"/>
                  </a:lnTo>
                  <a:lnTo>
                    <a:pt x="12" y="190"/>
                  </a:lnTo>
                  <a:lnTo>
                    <a:pt x="9" y="203"/>
                  </a:lnTo>
                  <a:lnTo>
                    <a:pt x="6" y="216"/>
                  </a:lnTo>
                  <a:lnTo>
                    <a:pt x="4" y="230"/>
                  </a:lnTo>
                  <a:lnTo>
                    <a:pt x="2" y="243"/>
                  </a:lnTo>
                  <a:lnTo>
                    <a:pt x="0" y="257"/>
                  </a:lnTo>
                  <a:lnTo>
                    <a:pt x="0" y="271"/>
                  </a:lnTo>
                  <a:lnTo>
                    <a:pt x="0" y="285"/>
                  </a:lnTo>
                  <a:lnTo>
                    <a:pt x="2" y="298"/>
                  </a:lnTo>
                  <a:lnTo>
                    <a:pt x="4" y="312"/>
                  </a:lnTo>
                  <a:lnTo>
                    <a:pt x="6" y="325"/>
                  </a:lnTo>
                  <a:lnTo>
                    <a:pt x="9" y="338"/>
                  </a:lnTo>
                  <a:lnTo>
                    <a:pt x="12" y="351"/>
                  </a:lnTo>
                  <a:lnTo>
                    <a:pt x="17" y="364"/>
                  </a:lnTo>
                  <a:lnTo>
                    <a:pt x="22" y="376"/>
                  </a:lnTo>
                  <a:lnTo>
                    <a:pt x="27" y="388"/>
                  </a:lnTo>
                  <a:lnTo>
                    <a:pt x="33" y="399"/>
                  </a:lnTo>
                  <a:lnTo>
                    <a:pt x="39" y="411"/>
                  </a:lnTo>
                  <a:lnTo>
                    <a:pt x="47" y="422"/>
                  </a:lnTo>
                  <a:lnTo>
                    <a:pt x="54" y="432"/>
                  </a:lnTo>
                  <a:lnTo>
                    <a:pt x="62" y="443"/>
                  </a:lnTo>
                  <a:lnTo>
                    <a:pt x="71" y="452"/>
                  </a:lnTo>
                  <a:lnTo>
                    <a:pt x="79" y="462"/>
                  </a:lnTo>
                  <a:lnTo>
                    <a:pt x="89" y="471"/>
                  </a:lnTo>
                  <a:lnTo>
                    <a:pt x="99" y="479"/>
                  </a:lnTo>
                  <a:lnTo>
                    <a:pt x="110" y="487"/>
                  </a:lnTo>
                  <a:lnTo>
                    <a:pt x="120" y="494"/>
                  </a:lnTo>
                  <a:lnTo>
                    <a:pt x="131" y="502"/>
                  </a:lnTo>
                  <a:lnTo>
                    <a:pt x="142" y="509"/>
                  </a:lnTo>
                  <a:lnTo>
                    <a:pt x="154" y="515"/>
                  </a:lnTo>
                  <a:lnTo>
                    <a:pt x="166" y="520"/>
                  </a:lnTo>
                  <a:lnTo>
                    <a:pt x="178" y="525"/>
                  </a:lnTo>
                  <a:lnTo>
                    <a:pt x="191" y="529"/>
                  </a:lnTo>
                  <a:lnTo>
                    <a:pt x="204" y="532"/>
                  </a:lnTo>
                  <a:lnTo>
                    <a:pt x="216" y="536"/>
                  </a:lnTo>
                  <a:lnTo>
                    <a:pt x="229" y="538"/>
                  </a:lnTo>
                  <a:lnTo>
                    <a:pt x="243" y="540"/>
                  </a:lnTo>
                  <a:lnTo>
                    <a:pt x="258" y="541"/>
                  </a:lnTo>
                  <a:lnTo>
                    <a:pt x="270" y="541"/>
                  </a:lnTo>
                  <a:lnTo>
                    <a:pt x="285" y="541"/>
                  </a:lnTo>
                  <a:lnTo>
                    <a:pt x="299" y="540"/>
                  </a:lnTo>
                  <a:lnTo>
                    <a:pt x="312" y="538"/>
                  </a:lnTo>
                  <a:lnTo>
                    <a:pt x="326" y="536"/>
                  </a:lnTo>
                  <a:lnTo>
                    <a:pt x="339" y="532"/>
                  </a:lnTo>
                  <a:lnTo>
                    <a:pt x="351" y="529"/>
                  </a:lnTo>
                  <a:lnTo>
                    <a:pt x="363" y="525"/>
                  </a:lnTo>
                  <a:lnTo>
                    <a:pt x="376" y="520"/>
                  </a:lnTo>
                  <a:lnTo>
                    <a:pt x="388" y="515"/>
                  </a:lnTo>
                  <a:lnTo>
                    <a:pt x="400" y="509"/>
                  </a:lnTo>
                  <a:lnTo>
                    <a:pt x="411" y="502"/>
                  </a:lnTo>
                  <a:lnTo>
                    <a:pt x="422" y="494"/>
                  </a:lnTo>
                  <a:lnTo>
                    <a:pt x="432" y="487"/>
                  </a:lnTo>
                  <a:lnTo>
                    <a:pt x="443" y="479"/>
                  </a:lnTo>
                  <a:lnTo>
                    <a:pt x="453" y="471"/>
                  </a:lnTo>
                  <a:lnTo>
                    <a:pt x="462" y="462"/>
                  </a:lnTo>
                  <a:lnTo>
                    <a:pt x="471" y="452"/>
                  </a:lnTo>
                  <a:lnTo>
                    <a:pt x="480" y="443"/>
                  </a:lnTo>
                  <a:lnTo>
                    <a:pt x="488" y="432"/>
                  </a:lnTo>
                  <a:lnTo>
                    <a:pt x="495" y="422"/>
                  </a:lnTo>
                  <a:lnTo>
                    <a:pt x="503" y="411"/>
                  </a:lnTo>
                  <a:lnTo>
                    <a:pt x="509" y="399"/>
                  </a:lnTo>
                  <a:lnTo>
                    <a:pt x="515" y="388"/>
                  </a:lnTo>
                  <a:lnTo>
                    <a:pt x="520" y="376"/>
                  </a:lnTo>
                  <a:lnTo>
                    <a:pt x="525" y="364"/>
                  </a:lnTo>
                  <a:lnTo>
                    <a:pt x="530" y="351"/>
                  </a:lnTo>
                  <a:lnTo>
                    <a:pt x="533" y="338"/>
                  </a:lnTo>
                  <a:lnTo>
                    <a:pt x="536" y="325"/>
                  </a:lnTo>
                  <a:lnTo>
                    <a:pt x="538" y="312"/>
                  </a:lnTo>
                  <a:lnTo>
                    <a:pt x="540" y="298"/>
                  </a:lnTo>
                  <a:lnTo>
                    <a:pt x="542" y="285"/>
                  </a:lnTo>
                  <a:lnTo>
                    <a:pt x="542" y="271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56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2979-4522-4AB5-B35C-364210E51D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49" name="Rectangle 6"/>
              <p:cNvSpPr/>
              <p:nvPr/>
            </p:nvSpPr>
            <p:spPr>
              <a:xfrm>
                <a:off x="573120" y="3582720"/>
                <a:ext cx="576360" cy="641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9"/>
              <p:cNvSpPr/>
              <p:nvPr/>
            </p:nvSpPr>
            <p:spPr>
              <a:xfrm>
                <a:off x="1141560" y="3582720"/>
                <a:ext cx="583920" cy="641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7198-C374-4BF6-96BC-A834496D0CFD}" type="slidenum">
              <a:rPr b="0" lang="zh-CN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4" name="Rectangle 6"/>
              <p:cNvSpPr/>
              <p:nvPr/>
            </p:nvSpPr>
            <p:spPr>
              <a:xfrm>
                <a:off x="573120" y="3582720"/>
                <a:ext cx="576360" cy="641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9"/>
              <p:cNvSpPr/>
              <p:nvPr/>
            </p:nvSpPr>
            <p:spPr>
              <a:xfrm>
                <a:off x="1141560" y="3582720"/>
                <a:ext cx="583920" cy="641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1F12-3461-48BA-A45A-BEBF35C1D940}" type="slidenum">
              <a:rPr b="0" lang="zh-CN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115640" y="1844280"/>
            <a:ext cx="698508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少年能自强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文本框 6155"/>
          <p:cNvSpPr/>
          <p:nvPr/>
        </p:nvSpPr>
        <p:spPr>
          <a:xfrm>
            <a:off x="69840" y="6237360"/>
            <a:ext cx="509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533520" y="1828800"/>
            <a:ext cx="62481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539640" y="549360"/>
            <a:ext cx="6840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基辛格是驰骋世界的风云人物，中学时因家境困窘，他为自己的前途而感到迷惑，他当时的志向是报考纽约市立大学，学习会计，为将来能找到一份稳定的工作而奋斗。命运的转机源于第二次世界大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时他被应征入伍。此时的他渴望得到更广泛的知识，并从此立志成为一名政治家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4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后考入大学，获得博士学位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就任国务卿，此时的他步入了政治生涯的巅峰，成为活跃在国际大舞台的人物。如果他仅立志于一名会计，世界政坛将是莫大的损失，也许美国的历史都要改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7671960" y="1484280"/>
            <a:ext cx="7290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基辛格的故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文本框 8199"/>
          <p:cNvSpPr/>
          <p:nvPr/>
        </p:nvSpPr>
        <p:spPr>
          <a:xfrm>
            <a:off x="1692360" y="60530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6666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女排队"/>
          <p:cNvPicPr/>
          <p:nvPr/>
        </p:nvPicPr>
        <p:blipFill>
          <a:blip r:embed="rId1"/>
          <a:stretch/>
        </p:blipFill>
        <p:spPr>
          <a:xfrm>
            <a:off x="0" y="0"/>
            <a:ext cx="6019920" cy="39988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" descr="赵蕊 蕊"/>
          <p:cNvPicPr/>
          <p:nvPr/>
        </p:nvPicPr>
        <p:blipFill>
          <a:blip r:embed="rId2"/>
          <a:stretch/>
        </p:blipFill>
        <p:spPr>
          <a:xfrm>
            <a:off x="6051600" y="0"/>
            <a:ext cx="3092400" cy="396252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4"/>
          <p:cNvSpPr/>
          <p:nvPr/>
        </p:nvSpPr>
        <p:spPr>
          <a:xfrm>
            <a:off x="0" y="419112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赵蕊蕊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岁就进了八一队，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岁开始学习打排球，一进队，她就向爸爸郑重其事地宣布：“我先在青年队打三年基本功，争取到一队，争取打主力，然后争取进国家队打主力，成为中国最棒的拦网手，就像中国的万里长城，这是我努力的方向”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152280" y="4343400"/>
            <a:ext cx="88394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赵蕊蕊不仅在训练上刻苦是出了名的，而且她还非常认真，从排球的基本技术垫球、传球、扣球练起，注重每一个动作。向每一次防守、反攻练习要质量。正因为这样不断的练习，她的扣球和拦网技术日臻成熟，真正成为了中国的“网上长城”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3" descr="news_2003116192123"/>
          <p:cNvPicPr/>
          <p:nvPr/>
        </p:nvPicPr>
        <p:blipFill>
          <a:blip r:embed="rId1"/>
          <a:stretch/>
        </p:blipFill>
        <p:spPr>
          <a:xfrm>
            <a:off x="3379680" y="0"/>
            <a:ext cx="5764320" cy="414828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4"/>
          <p:cNvSpPr/>
          <p:nvPr/>
        </p:nvSpPr>
        <p:spPr>
          <a:xfrm>
            <a:off x="1224000" y="8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5" descr="zrr19"/>
          <p:cNvPicPr/>
          <p:nvPr/>
        </p:nvPicPr>
        <p:blipFill>
          <a:blip r:embed="rId2"/>
          <a:stretch/>
        </p:blipFill>
        <p:spPr>
          <a:xfrm>
            <a:off x="0" y="0"/>
            <a:ext cx="3352680" cy="41911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755640" y="357336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黑体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为人生的理想</a:t>
            </a:r>
            <a:r>
              <a:rPr b="1" i="1" lang="zh-CN" sz="4800" spc="-1" strike="noStrike" u="sng">
                <a:solidFill>
                  <a:srgbClr val="3366cc"/>
                </a:solidFill>
                <a:uFillTx/>
                <a:latin typeface="宋体"/>
                <a:ea typeface="隶书"/>
              </a:rPr>
              <a:t>执</a:t>
            </a:r>
            <a:r>
              <a:rPr b="1" i="1" lang="zh-CN" sz="4800" spc="-1" strike="noStrike" u="sng">
                <a:solidFill>
                  <a:srgbClr val="3366cc"/>
                </a:solidFill>
                <a:uFillTx/>
                <a:latin typeface="Times New Roman"/>
                <a:ea typeface="隶书"/>
              </a:rPr>
              <a:t>著追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是自强者的共同特点。当他们确立目标以后，就会不屈不挠地坚持奋斗，直至成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3"/>
          <p:cNvSpPr/>
          <p:nvPr/>
        </p:nvSpPr>
        <p:spPr>
          <a:xfrm>
            <a:off x="611280" y="9810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个政治家、一个运动员，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们都分别取得了各自的成功，你从中领悟到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7"/>
          <p:cNvPicPr/>
          <p:nvPr/>
        </p:nvPicPr>
        <p:blipFill>
          <a:blip r:embed="rId1"/>
          <a:stretch/>
        </p:blipFill>
        <p:spPr>
          <a:xfrm>
            <a:off x="1676520" y="6248520"/>
            <a:ext cx="5715000" cy="51408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3"/>
          <p:cNvSpPr/>
          <p:nvPr/>
        </p:nvSpPr>
        <p:spPr>
          <a:xfrm>
            <a:off x="441360" y="169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4" descr="未标题-1 拷贝"/>
          <p:cNvPicPr/>
          <p:nvPr/>
        </p:nvPicPr>
        <p:blipFill>
          <a:blip r:embed="rId2"/>
          <a:stretch/>
        </p:blipFill>
        <p:spPr>
          <a:xfrm>
            <a:off x="0" y="0"/>
            <a:ext cx="3124080" cy="32767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IMG_0038"/>
          <p:cNvPicPr/>
          <p:nvPr/>
        </p:nvPicPr>
        <p:blipFill>
          <a:blip r:embed="rId3"/>
          <a:stretch/>
        </p:blipFill>
        <p:spPr>
          <a:xfrm>
            <a:off x="0" y="3809880"/>
            <a:ext cx="2971800" cy="3048120"/>
          </a:xfrm>
          <a:prstGeom prst="rect">
            <a:avLst/>
          </a:prstGeom>
          <a:ln w="0">
            <a:noFill/>
          </a:ln>
        </p:spPr>
      </p:pic>
      <p:sp>
        <p:nvSpPr>
          <p:cNvPr id="400" name="AutoShape 6"/>
          <p:cNvSpPr/>
          <p:nvPr/>
        </p:nvSpPr>
        <p:spPr>
          <a:xfrm flipH="1">
            <a:off x="609480" y="3048120"/>
            <a:ext cx="2362320" cy="1295280"/>
          </a:xfrm>
          <a:prstGeom prst="cloudCallout">
            <a:avLst>
              <a:gd name="adj1" fmla="val 32324"/>
              <a:gd name="adj2" fmla="val 6102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914400" y="312408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自己做的东西说不出原理，也就是个木匠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3348000" y="4221000"/>
            <a:ext cx="56386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不是有了理想后，就能够自强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99cc"/>
                </a:solidFill>
                <a:latin typeface="Times New Roman"/>
                <a:ea typeface="宋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9"/>
          <p:cNvSpPr/>
          <p:nvPr/>
        </p:nvSpPr>
        <p:spPr>
          <a:xfrm>
            <a:off x="3708360" y="1557360"/>
            <a:ext cx="49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看看课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页牛顿和小萍的事例，想想自强还需要点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IMG_0038"/>
          <p:cNvPicPr/>
          <p:nvPr/>
        </p:nvPicPr>
        <p:blipFill>
          <a:blip r:embed="rId1"/>
          <a:stretch/>
        </p:blipFill>
        <p:spPr>
          <a:xfrm>
            <a:off x="0" y="3809880"/>
            <a:ext cx="3492360" cy="30481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未标题-1 拷贝"/>
          <p:cNvPicPr/>
          <p:nvPr/>
        </p:nvPicPr>
        <p:blipFill>
          <a:blip r:embed="rId2"/>
          <a:stretch/>
        </p:blipFill>
        <p:spPr>
          <a:xfrm>
            <a:off x="0" y="0"/>
            <a:ext cx="3809880" cy="3276720"/>
          </a:xfrm>
          <a:prstGeom prst="rect">
            <a:avLst/>
          </a:prstGeom>
          <a:ln w="0">
            <a:noFill/>
          </a:ln>
        </p:spPr>
      </p:pic>
      <p:sp>
        <p:nvSpPr>
          <p:cNvPr id="406" name="AutoShape 4"/>
          <p:cNvSpPr/>
          <p:nvPr/>
        </p:nvSpPr>
        <p:spPr>
          <a:xfrm flipH="1">
            <a:off x="608760" y="2421000"/>
            <a:ext cx="2954520" cy="1922400"/>
          </a:xfrm>
          <a:prstGeom prst="cloudCallout">
            <a:avLst>
              <a:gd name="adj1" fmla="val 35865"/>
              <a:gd name="adj2" fmla="val 57347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914400" y="2708280"/>
            <a:ext cx="279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自己做的东西说不出原理，也就是个木匠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6"/>
          <p:cNvSpPr/>
          <p:nvPr/>
        </p:nvSpPr>
        <p:spPr>
          <a:xfrm>
            <a:off x="3708360" y="76320"/>
            <a:ext cx="5435640" cy="5054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  <a:ea typeface="宋体"/>
              </a:rPr>
              <a:t>牛顿小时侯读书不用功，是班里成绩最差的学生之一。一次，他把自己精心制作的漂亮小风车带到学校。同学们讽刺他虽然会造风车，却不懂其中的原理，还打碎了小风车。从那以后，牛顿变得肯动脑筋、爱学习了。他要让那些瞧不起他的人明白，自己在学习上也是强者。战胜自己的弱点、做学习强者的骨气，终于使他成为一位举世公认的科学巨人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3780000" y="4941720"/>
            <a:ext cx="5040000" cy="1068840"/>
          </a:xfrm>
          <a:prstGeom prst="rect">
            <a:avLst/>
          </a:prstGeom>
          <a:noFill/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如果牛顿对于自己的弱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是什么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无动于衷，学习不努力，结果会怎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4" dur="1" fill="hold"/>
                                  <p:tgtEl>
                                    <p:spTgt spid="4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179280" y="1773360"/>
            <a:ext cx="8675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cc"/>
                </a:solidFill>
                <a:latin typeface="黑体"/>
                <a:ea typeface="黑体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每个人都有自己的弱点，有的人不爱思考、有的人做事马虎、有的人怕吃苦、有的人缺乏耐心等。人最大的敌人不是别人，而是自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WordArt 3"/>
          <p:cNvSpPr txBox="1"/>
          <p:nvPr/>
        </p:nvSpPr>
        <p:spPr>
          <a:xfrm rot="259800">
            <a:off x="971280" y="404280"/>
            <a:ext cx="5867280" cy="117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(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二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)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战胜自我，自强的关键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12" name="Rectangle 4"/>
          <p:cNvSpPr/>
          <p:nvPr/>
        </p:nvSpPr>
        <p:spPr>
          <a:xfrm>
            <a:off x="395280" y="4437000"/>
            <a:ext cx="8317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自强的人不是没有弱点，而是勇于并善于战胜它。能够战胜自己、目光远大、控制自我的人，才是能自强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有哪些弱点？是否战胜过它们？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568"/>
                </a:solidFill>
                <a:latin typeface="Arial"/>
              </a:rPr>
              <a:t>小萍的经历给我们什么启示？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68000" y="2708280"/>
            <a:ext cx="8280360" cy="29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3366cc"/>
                </a:solidFill>
                <a:latin typeface="Arial"/>
              </a:rPr>
              <a:t>要自强就不能放任自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在现实生活中，有不少人都想自强，甚至想做“人上人”。他们有理想，有潜力，甚至一次次地制订了自强计划，但最终都碌碌无为。其主要原因是不愿刻苦，不能克制自己，放纵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2"/>
          <p:cNvSpPr/>
          <p:nvPr/>
        </p:nvSpPr>
        <p:spPr>
          <a:xfrm>
            <a:off x="0" y="689040"/>
            <a:ext cx="6553080" cy="1800360"/>
          </a:xfrm>
          <a:prstGeom prst="rect">
            <a:avLst/>
          </a:prstGeom>
          <a:solidFill>
            <a:srgbClr val="ccffcc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被人们认为与埃菲尔铁塔齐名的服装设计大师皮尔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Arial"/>
              </a:rPr>
              <a:t>•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卡丹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从小就对服装感兴趣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岁时设计出第一件衣服，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14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岁时成为一名见习时装设计师。然而，他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父母却希望他成为药剂师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，是对服装的浓厚兴趣使他使他成为一名出色的服装设计师。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30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多年来，他共创造了三万多种时装款式，设计了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500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多种其他产品，在世界上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90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多个国家出售。如果不是兴趣在起作用，皮尔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Arial"/>
              </a:rPr>
              <a:t>•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卡丹也许只是一名平凡的药剂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3" descr="041230092036901"/>
          <p:cNvPicPr/>
          <p:nvPr/>
        </p:nvPicPr>
        <p:blipFill>
          <a:blip r:embed="rId1"/>
          <a:stretch/>
        </p:blipFill>
        <p:spPr>
          <a:xfrm>
            <a:off x="6629400" y="20574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2004114174428508"/>
          <p:cNvPicPr/>
          <p:nvPr/>
        </p:nvPicPr>
        <p:blipFill>
          <a:blip r:embed="rId2"/>
          <a:stretch/>
        </p:blipFill>
        <p:spPr>
          <a:xfrm>
            <a:off x="6629400" y="0"/>
            <a:ext cx="2514600" cy="205740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5"/>
          <p:cNvSpPr/>
          <p:nvPr/>
        </p:nvSpPr>
        <p:spPr>
          <a:xfrm>
            <a:off x="0" y="0"/>
            <a:ext cx="65530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服 装 设 计 大 师 皮 尔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卡 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6" descr="041230092036902"/>
          <p:cNvPicPr/>
          <p:nvPr/>
        </p:nvPicPr>
        <p:blipFill>
          <a:blip r:embed="rId3"/>
          <a:stretch/>
        </p:blipFill>
        <p:spPr>
          <a:xfrm>
            <a:off x="6629400" y="4572000"/>
            <a:ext cx="2514600" cy="228600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7"/>
          <p:cNvSpPr/>
          <p:nvPr/>
        </p:nvSpPr>
        <p:spPr>
          <a:xfrm>
            <a:off x="289080" y="5759280"/>
            <a:ext cx="611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思考：如果皮尔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卡丹听从了父亲的话，他能取得今天的成就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8"/>
          <p:cNvSpPr/>
          <p:nvPr/>
        </p:nvSpPr>
        <p:spPr>
          <a:xfrm>
            <a:off x="212760" y="706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9"/>
          <p:cNvSpPr/>
          <p:nvPr/>
        </p:nvSpPr>
        <p:spPr>
          <a:xfrm>
            <a:off x="0" y="685800"/>
            <a:ext cx="6588000" cy="6426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　　每个人都有自己的长处和短处。要想自强和成功，就一定要认识自己的长处、自己的天赋、自己的兴趣，知道自己适合做什么，不适合做什么。要根据自己的长处、天赋和兴趣以及社会需要来确定自己的努力方向，也就是说，要发扬自己的长处，避开自己的短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1115640" y="1844280"/>
            <a:ext cx="698508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华文琥珀"/>
                <a:ea typeface="华文琥珀"/>
              </a:rPr>
              <a:t>少年能自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394920" y="1196640"/>
            <a:ext cx="8435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如果非要姚明去当航天员，杨利伟去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BA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打拼，牛顿去参加奥运会竞赛，周杰伦去研究苹果为什么落地，刘翔去当历史研究员，那么，这些人都会有今天的成功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WordArt 2"/>
          <p:cNvSpPr txBox="1"/>
          <p:nvPr/>
        </p:nvSpPr>
        <p:spPr>
          <a:xfrm rot="259800">
            <a:off x="610920" y="259920"/>
            <a:ext cx="5867280" cy="117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(</a:t>
            </a:r>
            <a:r>
              <a:rPr b="1" lang="zh-CN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三</a:t>
            </a:r>
            <a:r>
              <a:rPr b="1" lang="en-US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)</a:t>
            </a:r>
            <a:r>
              <a:rPr b="1" lang="zh-CN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扬长避短，自强的捷径</a:t>
            </a:r>
            <a:endParaRPr b="1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00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6" name="Text Box 3"/>
          <p:cNvSpPr/>
          <p:nvPr/>
        </p:nvSpPr>
        <p:spPr>
          <a:xfrm>
            <a:off x="304920" y="24382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黑体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弱点，也就是我们平时所说的缺点，指的是人格上的、态度上的东西，如马虎、懒惰、怕吃苦、贪图享受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4"/>
          <p:cNvGrpSpPr/>
          <p:nvPr/>
        </p:nvGrpSpPr>
        <p:grpSpPr>
          <a:xfrm>
            <a:off x="228600" y="1371600"/>
            <a:ext cx="7391520" cy="1066680"/>
            <a:chOff x="228600" y="1371600"/>
            <a:chExt cx="7391520" cy="1066680"/>
          </a:xfrm>
        </p:grpSpPr>
        <p:sp>
          <p:nvSpPr>
            <p:cNvPr id="428" name="Text Box 5"/>
            <p:cNvSpPr/>
            <p:nvPr/>
          </p:nvSpPr>
          <p:spPr>
            <a:xfrm>
              <a:off x="3048120" y="1600200"/>
              <a:ext cx="457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弱点与短处的区别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9" name="Picture 6" descr="3"/>
            <p:cNvPicPr/>
            <p:nvPr/>
          </p:nvPicPr>
          <p:blipFill>
            <a:blip r:embed="rId1"/>
            <a:stretch/>
          </p:blipFill>
          <p:spPr>
            <a:xfrm>
              <a:off x="228600" y="1371600"/>
              <a:ext cx="2895480" cy="106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0" name="Rectangle 7"/>
          <p:cNvSpPr/>
          <p:nvPr/>
        </p:nvSpPr>
        <p:spPr>
          <a:xfrm>
            <a:off x="380880" y="42670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　　而短处是从天赋上去说的，它是与生俱来的，如有的人擅长运动而不擅长表演，有的人擅长于形象思维而不擅长于逻辑思维，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2" descr="1392791"/>
          <p:cNvPicPr/>
          <p:nvPr/>
        </p:nvPicPr>
        <p:blipFill>
          <a:blip r:embed="rId1"/>
          <a:stretch/>
        </p:blipFill>
        <p:spPr>
          <a:xfrm>
            <a:off x="971640" y="0"/>
            <a:ext cx="1890720" cy="25146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3" descr="b0106092"/>
          <p:cNvPicPr/>
          <p:nvPr/>
        </p:nvPicPr>
        <p:blipFill>
          <a:blip r:embed="rId2"/>
          <a:stretch/>
        </p:blipFill>
        <p:spPr>
          <a:xfrm>
            <a:off x="5724360" y="0"/>
            <a:ext cx="2819520" cy="27432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4" descr="p000005423"/>
          <p:cNvPicPr/>
          <p:nvPr/>
        </p:nvPicPr>
        <p:blipFill>
          <a:blip r:embed="rId3"/>
          <a:stretch/>
        </p:blipFill>
        <p:spPr>
          <a:xfrm>
            <a:off x="3419640" y="260280"/>
            <a:ext cx="2016000" cy="239076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5"/>
          <p:cNvSpPr/>
          <p:nvPr/>
        </p:nvSpPr>
        <p:spPr>
          <a:xfrm>
            <a:off x="380880" y="2590920"/>
            <a:ext cx="8610840" cy="8254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从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1869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年到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190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年，爱迪生就取得了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1328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项发明专利。在他的一生中，平均每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15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天就有一项新发明，他因此而被誉为“发明大王”。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在漫长的一生中，他经历了数不清的失败煎熬，他的那些发明无一不是顽强意志的结晶。为了搞发明创造，他几乎每天都在实验室里辛苦工作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个小时，在那里吃饭、睡觉，但他丝毫不以为苦。他说：我一生中从未做过一天工作，我每天都其乐无穷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1660680" y="6192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250920" y="55897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做自己喜欢的工作，人不仅心情愉快，遇到困难也不退缩，而且会获得成功。所以</a:t>
            </a:r>
            <a:r>
              <a:rPr b="1" lang="zh-CN" sz="2400" spc="-1" strike="noStrike">
                <a:solidFill>
                  <a:srgbClr val="3366cc"/>
                </a:solidFill>
                <a:latin typeface="Arial"/>
                <a:ea typeface="宋体"/>
              </a:rPr>
              <a:t>个人应根据爱好和兴趣确立努力的方向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2"/>
          <p:cNvSpPr/>
          <p:nvPr/>
        </p:nvSpPr>
        <p:spPr>
          <a:xfrm>
            <a:off x="2819520" y="635040"/>
            <a:ext cx="6248160" cy="1800360"/>
          </a:xfrm>
          <a:prstGeom prst="rect">
            <a:avLst/>
          </a:prstGeom>
          <a:solidFill>
            <a:srgbClr val="ccffcc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菲尔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  <a:ea typeface="Arial"/>
              </a:rPr>
              <a:t>•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强森的父亲开洗衣店，他叫儿子到店里工作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希望他将来能接管这店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。可菲尔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  <a:ea typeface="Arial"/>
              </a:rPr>
              <a:t>•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强森痛恨这工作，提不起精神，懒懒散散。父亲十分伤心，认为养了一个不求上进的儿子。有一天菲尔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  <a:ea typeface="Arial"/>
              </a:rPr>
              <a:t>•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强森告诉父亲，他希望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做个机械工人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，也坚持自己的意见。他选修了工程学，研究引擎，装置机械等等。当他在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1944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年去世时，已是波音飞机公司的总裁，并且制造出“空中飞机堡垒”轰炸机，帮助盟国军队赢得了世界大战。如果他当年留在洗衣店，他会有这么大的成绩吗？不会，甚至有可能把整个洗衣店给毁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3" descr="12091704_2005012814370887910400"/>
          <p:cNvPicPr/>
          <p:nvPr/>
        </p:nvPicPr>
        <p:blipFill>
          <a:blip r:embed="rId1"/>
          <a:stretch/>
        </p:blipFill>
        <p:spPr>
          <a:xfrm>
            <a:off x="0" y="1676520"/>
            <a:ext cx="2743200" cy="16761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" descr="_38169011_taiwan300"/>
          <p:cNvPicPr/>
          <p:nvPr/>
        </p:nvPicPr>
        <p:blipFill>
          <a:blip r:embed="rId2"/>
          <a:stretch/>
        </p:blipFill>
        <p:spPr>
          <a:xfrm>
            <a:off x="0" y="3352680"/>
            <a:ext cx="2743200" cy="175284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5"/>
          <p:cNvSpPr/>
          <p:nvPr/>
        </p:nvSpPr>
        <p:spPr>
          <a:xfrm>
            <a:off x="2819520" y="0"/>
            <a:ext cx="63244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 求 上 进” 的 菲 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强 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6" descr="_1777902_newboeing300"/>
          <p:cNvPicPr/>
          <p:nvPr/>
        </p:nvPicPr>
        <p:blipFill>
          <a:blip r:embed="rId3"/>
          <a:stretch/>
        </p:blipFill>
        <p:spPr>
          <a:xfrm>
            <a:off x="0" y="0"/>
            <a:ext cx="2743200" cy="16765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7" descr="1_1-1-1395-295_200212091242"/>
          <p:cNvPicPr/>
          <p:nvPr/>
        </p:nvPicPr>
        <p:blipFill>
          <a:blip r:embed="rId4"/>
          <a:stretch/>
        </p:blipFill>
        <p:spPr>
          <a:xfrm>
            <a:off x="0" y="5105520"/>
            <a:ext cx="2743200" cy="177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2"/>
          <p:cNvSpPr/>
          <p:nvPr/>
        </p:nvSpPr>
        <p:spPr>
          <a:xfrm>
            <a:off x="611280" y="155736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　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要根据自己的长处、天赋、兴趣以及社会需要来确定自己努力的方向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宋体"/>
              </a:rPr>
              <a:t>，我们的主动性就会得到充分发挥。也就是说，要发扬自己的长处，避开自己的短处。即使十分辛苦，也总是心情愉快；即使困难重重，也绝不会灰心丧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文本框 8199"/>
          <p:cNvSpPr/>
          <p:nvPr/>
        </p:nvSpPr>
        <p:spPr>
          <a:xfrm>
            <a:off x="1641600" y="1222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6666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sp>
          <p:nvSpPr>
            <p:cNvPr id="446" name="Rectangle 3"/>
            <p:cNvSpPr/>
            <p:nvPr/>
          </p:nvSpPr>
          <p:spPr>
            <a:xfrm>
              <a:off x="0" y="0"/>
              <a:ext cx="701028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4"/>
            <p:cNvSpPr/>
            <p:nvPr/>
          </p:nvSpPr>
          <p:spPr>
            <a:xfrm>
              <a:off x="6019920" y="3200400"/>
              <a:ext cx="2819160" cy="21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Rectangle 5"/>
          <p:cNvSpPr/>
          <p:nvPr/>
        </p:nvSpPr>
        <p:spPr>
          <a:xfrm>
            <a:off x="468360" y="377676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Arial"/>
                <a:ea typeface="黑体"/>
              </a:rPr>
              <a:t>　　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华文行楷"/>
              </a:rPr>
              <a:t>只要我们选准航向，战胜自身的弱点，发挥自己的特长，就能在自强的人生征途中，劈波斩浪，抵达成功的彼岸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6"/>
          <p:cNvSpPr/>
          <p:nvPr/>
        </p:nvSpPr>
        <p:spPr>
          <a:xfrm>
            <a:off x="1908000" y="1052640"/>
            <a:ext cx="61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自强要从少年始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7" descr="花条4"/>
          <p:cNvPicPr/>
          <p:nvPr/>
        </p:nvPicPr>
        <p:blipFill>
          <a:blip r:embed="rId1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451" name="WordArt 8"/>
          <p:cNvSpPr txBox="1"/>
          <p:nvPr/>
        </p:nvSpPr>
        <p:spPr>
          <a:xfrm rot="19828800">
            <a:off x="395280" y="549000"/>
            <a:ext cx="3544920" cy="1938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5398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800080"/>
                </a:solidFill>
                <a:latin typeface="华文新魏"/>
              </a:rPr>
              <a:t>老师寄语：</a:t>
            </a:r>
            <a:endParaRPr b="1" lang="en-US" sz="5400" spc="1" strike="noStrike">
              <a:ln w="9360">
                <a:solidFill>
                  <a:srgbClr val="ff00ff"/>
                </a:solidFill>
                <a:round/>
              </a:ln>
              <a:solidFill>
                <a:srgbClr val="800080"/>
              </a:solidFill>
              <a:latin typeface="华文新魏"/>
              <a:ea typeface="华文新魏"/>
            </a:endParaRPr>
          </a:p>
        </p:txBody>
      </p:sp>
      <p:pic>
        <p:nvPicPr>
          <p:cNvPr id="452" name="超越梦想.mp3" descr="超越梦想"/>
          <p:cNvPicPr/>
          <p:nvPr/>
        </p:nvPicPr>
        <p:blipFill>
          <a:blip r:embed="rId2"/>
          <a:stretch/>
        </p:blipFill>
        <p:spPr>
          <a:xfrm>
            <a:off x="95400" y="6458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1" fill="hold"/>
                                        <p:tgtEl>
                                          <p:spTgt spid="4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" fill="hold"/>
                                        <p:tgtEl>
                                          <p:spTgt spid="4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1460-40CC-41AB-969B-961EDC991E5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2"/>
          <p:cNvSpPr/>
          <p:nvPr/>
        </p:nvSpPr>
        <p:spPr>
          <a:xfrm>
            <a:off x="-304200" y="1268280"/>
            <a:ext cx="115524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怎样来培养自强品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3"/>
          <p:cNvSpPr/>
          <p:nvPr/>
        </p:nvSpPr>
        <p:spPr>
          <a:xfrm>
            <a:off x="755640" y="1484280"/>
            <a:ext cx="457200" cy="3505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971640" y="126828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理想，自强的航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828720" y="2924280"/>
            <a:ext cx="41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战胜自我，自强的关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6"/>
          <p:cNvSpPr/>
          <p:nvPr/>
        </p:nvSpPr>
        <p:spPr>
          <a:xfrm>
            <a:off x="971640" y="465300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扬长避短，自强的捷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7"/>
          <p:cNvSpPr/>
          <p:nvPr/>
        </p:nvSpPr>
        <p:spPr>
          <a:xfrm>
            <a:off x="4500720" y="9079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8"/>
          <p:cNvSpPr/>
          <p:nvPr/>
        </p:nvSpPr>
        <p:spPr>
          <a:xfrm>
            <a:off x="4788000" y="549360"/>
            <a:ext cx="2808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宋体"/>
              </a:rPr>
              <a:t>树立坚定的理想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9"/>
          <p:cNvSpPr/>
          <p:nvPr/>
        </p:nvSpPr>
        <p:spPr>
          <a:xfrm>
            <a:off x="4716360" y="1125360"/>
            <a:ext cx="3672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宋体"/>
              </a:rPr>
              <a:t>坚定的理想要有具体目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0"/>
          <p:cNvSpPr/>
          <p:nvPr/>
        </p:nvSpPr>
        <p:spPr>
          <a:xfrm>
            <a:off x="4716360" y="1628640"/>
            <a:ext cx="3095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宋体"/>
              </a:rPr>
              <a:t>为人生理想执著追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1"/>
          <p:cNvSpPr/>
          <p:nvPr/>
        </p:nvSpPr>
        <p:spPr>
          <a:xfrm>
            <a:off x="4788000" y="27082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12"/>
          <p:cNvSpPr/>
          <p:nvPr/>
        </p:nvSpPr>
        <p:spPr>
          <a:xfrm>
            <a:off x="5003640" y="44370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3"/>
          <p:cNvSpPr/>
          <p:nvPr/>
        </p:nvSpPr>
        <p:spPr>
          <a:xfrm>
            <a:off x="668988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4"/>
          <p:cNvSpPr/>
          <p:nvPr/>
        </p:nvSpPr>
        <p:spPr>
          <a:xfrm>
            <a:off x="5690880" y="2492280"/>
            <a:ext cx="2535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  <a:ea typeface="宋体"/>
              </a:rPr>
              <a:t>要勇于并善于战胜自己的弱点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5"/>
          <p:cNvSpPr/>
          <p:nvPr/>
        </p:nvSpPr>
        <p:spPr>
          <a:xfrm>
            <a:off x="5546880" y="2840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6"/>
          <p:cNvSpPr/>
          <p:nvPr/>
        </p:nvSpPr>
        <p:spPr>
          <a:xfrm>
            <a:off x="4932360" y="3429000"/>
            <a:ext cx="439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要勇于克服意志薄弱和自我放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7"/>
          <p:cNvSpPr/>
          <p:nvPr/>
        </p:nvSpPr>
        <p:spPr>
          <a:xfrm>
            <a:off x="6004080" y="383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8"/>
          <p:cNvSpPr/>
          <p:nvPr/>
        </p:nvSpPr>
        <p:spPr>
          <a:xfrm>
            <a:off x="5292720" y="4221000"/>
            <a:ext cx="3816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  <a:ea typeface="宋体"/>
              </a:rPr>
              <a:t>要善于发现长处，避开短处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9"/>
          <p:cNvSpPr/>
          <p:nvPr/>
        </p:nvSpPr>
        <p:spPr>
          <a:xfrm>
            <a:off x="6156360" y="4592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0"/>
          <p:cNvSpPr/>
          <p:nvPr/>
        </p:nvSpPr>
        <p:spPr>
          <a:xfrm>
            <a:off x="5292720" y="5084640"/>
            <a:ext cx="36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要根据自己的兴趣爱好确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前进的方向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03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360" name="WordArt 3"/>
          <p:cNvSpPr txBox="1"/>
          <p:nvPr/>
        </p:nvSpPr>
        <p:spPr>
          <a:xfrm>
            <a:off x="755640" y="620640"/>
            <a:ext cx="3578400" cy="13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5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99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议一议</a:t>
            </a:r>
            <a:endParaRPr b="1" lang="en-US" sz="6000" spc="1" strike="noStrike">
              <a:ln w="9360">
                <a:solidFill>
                  <a:srgbClr val="99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971640" y="2135160"/>
            <a:ext cx="727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有同学认为我们现在还小，需要各方面的照顾，谈不上自强，等长大成人了，才能自强。你赞成这种观点吗？少年是否能自强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441360" y="169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3" descr="10001_20051223_576"/>
          <p:cNvPicPr/>
          <p:nvPr/>
        </p:nvPicPr>
        <p:blipFill>
          <a:blip r:embed="rId1"/>
          <a:stretch/>
        </p:blipFill>
        <p:spPr>
          <a:xfrm>
            <a:off x="0" y="0"/>
            <a:ext cx="6443640" cy="685800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4"/>
          <p:cNvSpPr/>
          <p:nvPr/>
        </p:nvSpPr>
        <p:spPr>
          <a:xfrm>
            <a:off x="6050880" y="476280"/>
            <a:ext cx="254052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感动中国人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洪战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7"/>
          <p:cNvPicPr/>
          <p:nvPr/>
        </p:nvPicPr>
        <p:blipFill>
          <a:blip r:embed="rId1"/>
          <a:stretch/>
        </p:blipFill>
        <p:spPr>
          <a:xfrm>
            <a:off x="1676520" y="6248520"/>
            <a:ext cx="5715000" cy="51408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3"/>
          <p:cNvSpPr/>
          <p:nvPr/>
        </p:nvSpPr>
        <p:spPr>
          <a:xfrm>
            <a:off x="441360" y="169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2050920" y="476280"/>
            <a:ext cx="49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洪战辉的自强宣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539640" y="1413000"/>
            <a:ext cx="828036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我觉得一个人自立、自强才是最重要的！苦难和痛苦的经历并不是我接受一切捐助的资本！一个人通过自己的奋斗改变自己劣势的现状才是最重要的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我想告诉大家的是：我已经具备独立自主生存、照顾家庭的能力了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"/>
          <p:cNvSpPr/>
          <p:nvPr/>
        </p:nvSpPr>
        <p:spPr>
          <a:xfrm>
            <a:off x="755640" y="1109520"/>
            <a:ext cx="806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cc"/>
                </a:solidFill>
                <a:latin typeface="Tahoma"/>
                <a:ea typeface="宋体"/>
              </a:rPr>
              <a:t>青少年怎么样才能做到自强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250920" y="2637000"/>
            <a:ext cx="8642160" cy="33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看课本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5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页小辉的故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，</a:t>
            </a:r>
            <a:r>
              <a:rPr b="1" lang="zh-CN" sz="3600" spc="-1" strike="noStrike">
                <a:solidFill>
                  <a:srgbClr val="00007d"/>
                </a:solidFill>
                <a:latin typeface="Arial"/>
                <a:ea typeface="宋体"/>
              </a:rPr>
              <a:t>小辉遇到了哪些困难，困难往往是来自于哪些方面的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看完他们这些自强少年的事迹后，仔细寻找他们自强的方法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00007d"/>
                </a:solidFill>
                <a:latin typeface="Arial"/>
                <a:ea typeface="宋体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380880" y="3049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隶书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755640" y="3645000"/>
            <a:ext cx="755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没有理想，就没有动力，就会在困难面前放弃努力。有了理想，就有了奔头，有了进取的恒久动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539640" y="11970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　　要成就一番事业，会遇到方方面面的困难和挫折。这些困难和挫折既可能是物质上的，也可能是精神上的；既可能是技术方面的，也可能是人际关系方面的；既可能是外在的，也可能是内在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3993480" y="5877000"/>
            <a:ext cx="3787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要自强，首先就要树立坚定的理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6" descr="7"/>
          <p:cNvPicPr/>
          <p:nvPr/>
        </p:nvPicPr>
        <p:blipFill>
          <a:blip r:embed="rId1"/>
          <a:stretch/>
        </p:blipFill>
        <p:spPr>
          <a:xfrm>
            <a:off x="1676520" y="6248520"/>
            <a:ext cx="5715000" cy="5140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2"/>
          <p:cNvSpPr/>
          <p:nvPr/>
        </p:nvSpPr>
        <p:spPr>
          <a:xfrm>
            <a:off x="755640" y="1413000"/>
            <a:ext cx="76215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　　有关学者对智力、环境、学历等条件差不多的年轻人进行了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5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年的调查。主题是：目标对人有何影响。发现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7%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的人没有目标，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60%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的人目标模糊，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0%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的人有清晰而短期的目标，只有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3%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的人有清晰长期的目标。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　　那些有着长期目标的人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5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年后事业有成。目标短而清晰的人大都生活在社会的中层，目标模糊的人生活在社会的中下层，他们能安稳的生活，但没有业绩。没有目标的人，都不如意，还常失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WordArt 3"/>
          <p:cNvSpPr txBox="1"/>
          <p:nvPr/>
        </p:nvSpPr>
        <p:spPr>
          <a:xfrm rot="259800">
            <a:off x="539640" y="333360"/>
            <a:ext cx="4667400" cy="10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(</a:t>
            </a: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一</a:t>
            </a: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)</a:t>
            </a: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理想，自强的航标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solidFill>
                <a:srgbClr val="00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826920" y="5877000"/>
            <a:ext cx="67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有没有理想、目标会影响今后事业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hujintaojixinge"/>
          <p:cNvPicPr/>
          <p:nvPr/>
        </p:nvPicPr>
        <p:blipFill>
          <a:blip r:embed="rId1"/>
          <a:stretch/>
        </p:blipFill>
        <p:spPr>
          <a:xfrm>
            <a:off x="4724280" y="3260880"/>
            <a:ext cx="4419720" cy="35971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xinsrc_b791344fa26d4912a66f5fd2f4ffa540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32767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ggkf18"/>
          <p:cNvPicPr/>
          <p:nvPr/>
        </p:nvPicPr>
        <p:blipFill>
          <a:blip r:embed="rId3"/>
          <a:stretch/>
        </p:blipFill>
        <p:spPr>
          <a:xfrm>
            <a:off x="0" y="3276720"/>
            <a:ext cx="4724280" cy="35812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Img221439543"/>
          <p:cNvPicPr/>
          <p:nvPr/>
        </p:nvPicPr>
        <p:blipFill>
          <a:blip r:embed="rId4"/>
          <a:stretch/>
        </p:blipFill>
        <p:spPr>
          <a:xfrm>
            <a:off x="0" y="0"/>
            <a:ext cx="4724280" cy="32767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5T16:52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8:58Z</dcterms:modified>
  <cp:revision>4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