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5B2-40B8-4363-BB03-C75FDDA7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2A7-51B5-4AD7-9A3C-F8D19FE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B97-87A4-4227-B06C-B7000225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735-BEB6-40D2-BD63-3EC5708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857E-1DAD-447C-8E4D-87929D69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E27-3E05-4DBB-8EA1-D2DDEF1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F84-BF97-4FA5-9587-BE713FF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316-D021-4A94-BD41-BB0D578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C68-5D79-49BC-894B-FE58C1C4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848A-842F-4729-AA62-255A1B0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BDFB-25E0-4F65-A112-D7A1359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E2A-EA18-4450-9F35-05432574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B369-7E7C-4F03-AB03-4D05489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7CD5-28AC-498A-84D8-6464A1B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779F-DD00-420A-8156-BEC6FC3D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7A9-FBD6-4C08-A710-07537A89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4B31-1CF6-4413-9BE6-C3A5835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BFA-B02C-48C6-8C95-2B4EA2B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F90-4476-4716-8353-56F70ED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366-C957-4E99-9A87-5C8C167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546-0E30-418D-88E7-D88392E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CD2-DD1C-48D8-B465-F62BA41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06B-82E3-4509-8B88-ABD3A67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091-FDDE-49DF-842E-0A1C3E2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866-3301-4FA9-9E97-964269A9A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62A-9673-480C-98A5-04B5AE1302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nynews.gov.cn/news/wlbb/picnews/200503/25980.html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hyperlink" Target="263,7,&#24187;&#28783;&#29255; 7" TargetMode="External"/><Relationship Id="rId8" Type="http://schemas.openxmlformats.org/officeDocument/2006/relationships/hyperlink" Target="263,7,&#24187;&#28783;&#29255; 7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隶书"/>
              </a:rPr>
              <a:t>山坡羊 </a:t>
            </a:r>
            <a:r>
              <a:rPr b="1" lang="en-US" sz="6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· 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隶书"/>
              </a:rPr>
              <a:t>潼关怀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9520" y="247608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张养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038480" y="2819520"/>
            <a:ext cx="762120" cy="360"/>
            <a:chOff x="4038480" y="2819520"/>
            <a:chExt cx="762120" cy="360"/>
          </a:xfrm>
        </p:grpSpPr>
        <p:sp>
          <p:nvSpPr>
            <p:cNvPr id="85" name="Line 6"/>
            <p:cNvSpPr/>
            <p:nvPr/>
          </p:nvSpPr>
          <p:spPr>
            <a:xfrm>
              <a:off x="4038480" y="2819520"/>
              <a:ext cx="762120" cy="0"/>
            </a:xfrm>
            <a:prstGeom prst="line">
              <a:avLst/>
            </a:prstGeom>
            <a:ln w="442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4038480" y="28195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WordArt 9"/>
          <p:cNvSpPr txBox="1"/>
          <p:nvPr/>
        </p:nvSpPr>
        <p:spPr>
          <a:xfrm>
            <a:off x="3124080" y="6172200"/>
            <a:ext cx="533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WordArt 32"/>
          <p:cNvSpPr txBox="1"/>
          <p:nvPr/>
        </p:nvSpPr>
        <p:spPr>
          <a:xfrm>
            <a:off x="990720" y="6095880"/>
            <a:ext cx="514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35142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者</a:t>
            </a:r>
            <a:endParaRPr b="0" lang="en-US" sz="2000" spc="1" strike="noStrike">
              <a:ln w="9360">
                <a:solidFill>
                  <a:srgbClr val="335142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WordArt 33"/>
          <p:cNvSpPr txBox="1"/>
          <p:nvPr/>
        </p:nvSpPr>
        <p:spPr>
          <a:xfrm>
            <a:off x="2057400" y="6095880"/>
            <a:ext cx="514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25252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字</a:t>
            </a:r>
            <a:endParaRPr b="0" lang="en-US" sz="2000" spc="1" strike="noStrike">
              <a:ln w="9360">
                <a:solidFill>
                  <a:srgbClr val="325252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34"/>
          <p:cNvSpPr txBox="1"/>
          <p:nvPr/>
        </p:nvSpPr>
        <p:spPr>
          <a:xfrm>
            <a:off x="3276720" y="6095880"/>
            <a:ext cx="514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25252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地形</a:t>
            </a:r>
            <a:endParaRPr b="0" lang="en-US" sz="2000" spc="1" strike="noStrike">
              <a:ln w="9360">
                <a:solidFill>
                  <a:srgbClr val="325252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WordArt 35"/>
          <p:cNvSpPr txBox="1"/>
          <p:nvPr/>
        </p:nvSpPr>
        <p:spPr>
          <a:xfrm>
            <a:off x="4495680" y="6095880"/>
            <a:ext cx="514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25252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山水</a:t>
            </a:r>
            <a:endParaRPr b="0" lang="en-US" sz="2000" spc="1" strike="noStrike">
              <a:ln w="9360">
                <a:solidFill>
                  <a:srgbClr val="325252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WordArt 36"/>
          <p:cNvSpPr txBox="1"/>
          <p:nvPr/>
        </p:nvSpPr>
        <p:spPr>
          <a:xfrm>
            <a:off x="5791320" y="6095880"/>
            <a:ext cx="514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25252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积累</a:t>
            </a:r>
            <a:endParaRPr b="0" lang="en-US" sz="2000" spc="1" strike="noStrike">
              <a:ln w="9360">
                <a:solidFill>
                  <a:srgbClr val="325252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40"/>
          <p:cNvSpPr txBox="1"/>
          <p:nvPr/>
        </p:nvSpPr>
        <p:spPr>
          <a:xfrm>
            <a:off x="6781680" y="6095880"/>
            <a:ext cx="514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c5227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练习</a:t>
            </a:r>
            <a:endParaRPr b="1" lang="en-US" sz="2000" spc="1" strike="noStrike">
              <a:ln w="9360">
                <a:solidFill>
                  <a:srgbClr val="0c5227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531080" y="40464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宋体"/>
              </a:rPr>
              <a:t>山坡羊潼关怀古语文</a:t>
            </a:r>
            <a:r>
              <a:rPr b="1" lang="en-US" sz="4000" spc="-1" strike="noStrike">
                <a:solidFill>
                  <a:srgbClr val="a50021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A-1-011"/>
          <p:cNvPicPr/>
          <p:nvPr/>
        </p:nvPicPr>
        <p:blipFill>
          <a:blip r:embed="rId2"/>
          <a:stretch/>
        </p:blipFill>
        <p:spPr>
          <a:xfrm>
            <a:off x="0" y="0"/>
            <a:ext cx="2743200" cy="61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-1-002"/>
          <p:cNvPicPr/>
          <p:nvPr/>
        </p:nvPicPr>
        <p:blipFill>
          <a:blip r:embed="rId3"/>
          <a:stretch/>
        </p:blipFill>
        <p:spPr>
          <a:xfrm>
            <a:off x="7620120" y="6095880"/>
            <a:ext cx="83808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zhangyanghao"/>
          <p:cNvPicPr/>
          <p:nvPr/>
        </p:nvPicPr>
        <p:blipFill>
          <a:blip r:embed="rId4"/>
          <a:stretch/>
        </p:blipFill>
        <p:spPr>
          <a:xfrm>
            <a:off x="4800600" y="380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-1247040" y="914400"/>
            <a:ext cx="548244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imes New Roman"/>
                <a:ea typeface="隶书"/>
              </a:rPr>
              <a:t>张养浩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  字希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号云庄，是元代散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名家中极少数做过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官的汉族人之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8534520" y="6172200"/>
            <a:ext cx="304560" cy="304920"/>
          </a:xfrm>
          <a:prstGeom prst="downArrow">
            <a:avLst>
              <a:gd name="adj1" fmla="val 34370"/>
              <a:gd name="adj2" fmla="val 32835"/>
            </a:avLst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峦（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）      踌（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蹰（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）      阙（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兴（ </a:t>
            </a:r>
            <a:r>
              <a:rPr b="1" lang="zh-CN" sz="48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-1-001"/>
          <p:cNvPicPr/>
          <p:nvPr/>
        </p:nvPicPr>
        <p:blipFill>
          <a:blip r:embed="rId2"/>
          <a:stretch/>
        </p:blipFill>
        <p:spPr>
          <a:xfrm>
            <a:off x="533520" y="685800"/>
            <a:ext cx="2438280" cy="717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209680" y="1981080"/>
            <a:ext cx="138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luá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5880" y="19810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chó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86720" y="28954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ch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48520" y="27432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qu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133720" y="3657600"/>
            <a:ext cx="14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xī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0" descr="A-1-002"/>
          <p:cNvPicPr/>
          <p:nvPr/>
        </p:nvPicPr>
        <p:blipFill>
          <a:blip r:embed="rId3"/>
          <a:stretch/>
        </p:blipFill>
        <p:spPr>
          <a:xfrm>
            <a:off x="7620120" y="6095880"/>
            <a:ext cx="838080" cy="4194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1"/>
          <p:cNvSpPr/>
          <p:nvPr/>
        </p:nvSpPr>
        <p:spPr>
          <a:xfrm>
            <a:off x="8534520" y="6172200"/>
            <a:ext cx="304560" cy="304920"/>
          </a:xfrm>
          <a:prstGeom prst="downArrow">
            <a:avLst>
              <a:gd name="adj1" fmla="val 34370"/>
              <a:gd name="adj2" fmla="val 32835"/>
            </a:avLst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194"/>
          <p:cNvSpPr/>
          <p:nvPr/>
        </p:nvSpPr>
        <p:spPr>
          <a:xfrm>
            <a:off x="1044720" y="45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176364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6" descr="102675_ddd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A-1-002"/>
          <p:cNvPicPr/>
          <p:nvPr/>
        </p:nvPicPr>
        <p:blipFill>
          <a:blip r:embed="rId2"/>
          <a:stretch/>
        </p:blipFill>
        <p:spPr>
          <a:xfrm>
            <a:off x="8305920" y="6438960"/>
            <a:ext cx="838080" cy="419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9"/>
          <p:cNvSpPr/>
          <p:nvPr/>
        </p:nvSpPr>
        <p:spPr>
          <a:xfrm>
            <a:off x="7848720" y="6553080"/>
            <a:ext cx="304560" cy="304920"/>
          </a:xfrm>
          <a:prstGeom prst="downArrow">
            <a:avLst>
              <a:gd name="adj1" fmla="val 34370"/>
              <a:gd name="adj2" fmla="val 32835"/>
            </a:avLst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qlyp"/>
          <p:cNvPicPr/>
          <p:nvPr/>
        </p:nvPicPr>
        <p:blipFill>
          <a:blip r:embed="rId2"/>
          <a:stretch/>
        </p:blipFill>
        <p:spPr>
          <a:xfrm>
            <a:off x="0" y="0"/>
            <a:ext cx="3581280" cy="35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qlyp1"/>
          <p:cNvPicPr/>
          <p:nvPr/>
        </p:nvPicPr>
        <p:blipFill>
          <a:blip r:embed="rId3"/>
          <a:stretch/>
        </p:blipFill>
        <p:spPr>
          <a:xfrm>
            <a:off x="0" y="3573360"/>
            <a:ext cx="3581280" cy="326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2005032210332296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81560" y="0"/>
            <a:ext cx="476244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huanghe2"/>
          <p:cNvPicPr/>
          <p:nvPr/>
        </p:nvPicPr>
        <p:blipFill>
          <a:blip r:embed="rId6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4"/>
          <p:cNvSpPr/>
          <p:nvPr/>
        </p:nvSpPr>
        <p:spPr>
          <a:xfrm>
            <a:off x="3618000" y="1925640"/>
            <a:ext cx="663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峰峦如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波涛如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6" descr="A-1-002"/>
          <p:cNvPicPr/>
          <p:nvPr/>
        </p:nvPicPr>
        <p:blipFill>
          <a:blip r:embed="rId9"/>
          <a:stretch/>
        </p:blipFill>
        <p:spPr>
          <a:xfrm>
            <a:off x="3581280" y="6438960"/>
            <a:ext cx="838440" cy="4190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7"/>
          <p:cNvSpPr/>
          <p:nvPr/>
        </p:nvSpPr>
        <p:spPr>
          <a:xfrm>
            <a:off x="3924360" y="6021360"/>
            <a:ext cx="304920" cy="304920"/>
          </a:xfrm>
          <a:prstGeom prst="downArrow">
            <a:avLst>
              <a:gd name="adj1" fmla="val 34370"/>
              <a:gd name="adj2" fmla="val 32796"/>
            </a:avLst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60680" y="10875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914400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积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昨日入城市，归来泪满巾。遍身罗绮者，不是养蚕人。（张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②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春种一粒粟，秋收万颗籽。四海无闲田，农夫犹饿死。（李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采菱辛苦废犁锄，血指流丹鬼质枯，无力买田聊种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近来湖面亦收租。 （范成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④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雨足高田白，披蓑半夜耕。人牛力俱尽，东方殊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崔道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⑤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朱门酒肉臭，路有冻死骨。（杜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GIF-475"/>
          <p:cNvPicPr/>
          <p:nvPr/>
        </p:nvPicPr>
        <p:blipFill>
          <a:blip r:embed="rId2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GIF-409"/>
          <p:cNvPicPr/>
          <p:nvPr/>
        </p:nvPicPr>
        <p:blipFill>
          <a:blip r:embed="rId3"/>
          <a:stretch/>
        </p:blipFill>
        <p:spPr>
          <a:xfrm>
            <a:off x="6705720" y="502920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8194"/>
          <p:cNvSpPr/>
          <p:nvPr/>
        </p:nvSpPr>
        <p:spPr>
          <a:xfrm>
            <a:off x="971640" y="609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04920" y="4572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字词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突出潼关地势险要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拟人修辞，把本来静态的山写动了，本来无情的水写得心潮翻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曲为心声，一切景语皆情语，“聚”“怒”两字透露了诗人极不平静的情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A-1-002"/>
          <p:cNvPicPr/>
          <p:nvPr/>
        </p:nvPicPr>
        <p:blipFill>
          <a:blip r:embed="rId2"/>
          <a:stretch/>
        </p:blipFill>
        <p:spPr>
          <a:xfrm>
            <a:off x="8305920" y="6438960"/>
            <a:ext cx="8380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602-759A-4513-B05F-AF4C75107C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d41d0a"/>
                </a:solidFill>
                <a:latin typeface="Times New Roman"/>
                <a:ea typeface="幼圆"/>
              </a:rPr>
              <a:t>当时关中大旱，饥民相食，灾情十分严峻。经历过宦海浮沉的张养浩本已厌倦官场生活，弃官归养；但得知关中百姓外境危困，毅然受命，出任陕西行台中丞，振济灾民，因此途经潼关。后因积劳成疾，客死任所。张养浩对百姓充满深切的同情，有着强烈的忧患意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95720" y="6033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GIF-378"/>
          <p:cNvPicPr/>
          <p:nvPr/>
        </p:nvPicPr>
        <p:blipFill>
          <a:blip r:embed="rId2"/>
          <a:stretch/>
        </p:blipFill>
        <p:spPr>
          <a:xfrm flipH="1" rot="10800000">
            <a:off x="8528040" y="6302160"/>
            <a:ext cx="6159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04:42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05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