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gif" ContentType="image/gif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chimes.wav" ContentType="audio/x-wav"/>
  <Override PartName="/ppt/media/image16.png" ContentType="image/png"/>
  <Override PartName="/ppt/media/image15.jpeg" ContentType="image/jpeg"/>
  <Override PartName="/ppt/media/image14.png" ContentType="image/png"/>
  <Override PartName="/ppt/media/image5.gif" ContentType="image/gif"/>
  <Override PartName="/ppt/media/image13.jpeg" ContentType="image/jpeg"/>
  <Override PartName="/ppt/media/CAMERA.WAV" ContentType="audio/x-wav"/>
  <Override PartName="/ppt/media/image4.gif" ContentType="image/gif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2843-E50D-48B5-B08C-9225AA81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ADC-B9EE-4CF1-B446-3F30B052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7942-0CE3-43B8-8F6A-8BA6424B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E4A6-D3BD-4A3B-85CC-24D5A517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37A4-4A76-4802-BEE0-F95E488D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06A2-5A50-46E7-A1F6-808415DB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73A3-13EF-4C70-8C65-580EC1F7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5DBF-6660-449F-B881-A976166F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F33D-8843-4619-B0B7-FB0E55A5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1C84-DC04-4B52-B059-15150DF2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A010-2973-457F-875B-92BCB361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A4B-6042-42AF-AF8A-D8FFCACD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7528-AE4B-46E6-B01B-B976E018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05FE-3B05-4F69-B32C-D248D190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7A6B-020E-4004-A837-795537BE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4743-790A-45C7-BF14-2B93C811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4515-7321-4EDD-AE69-A038B36C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80CAA-AFCB-44EE-A055-D7D0A4BB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06F52-8F65-4924-A0B9-A77B3217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23CF2-C642-4F1E-9B8A-21434C0D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F9CF0-A287-441C-9D4A-00A15609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363B6-59BB-4710-AE4B-BD1E8268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A6D-E228-42BA-911D-FC66EB54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B7538-DD7C-46A5-AF70-6A3A3B09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7CA5B-C974-4A99-96CA-96652B2A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99A54-98BD-451B-82FA-A2DF375D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CA1BD-A830-4CE9-B5A6-0415E474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2FBBA-CB03-43F2-837F-853865B9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B1C91-D59F-40C5-8D42-7080CFAA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92900-5F57-4845-BE95-E678F2AA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336E-8138-4657-822D-2B35D011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9983-A874-4A4B-999C-C506A079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178-9E8F-4346-A84A-D3A81D09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678-07D4-4444-88A4-E74D16AD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C8B-0372-446B-BB38-23C302BA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204B-2932-457F-A458-3A7FB7DF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BD44-6631-40EE-B387-42769904E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ACA3-689B-4635-BCB0-1F96766E4B9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8413-F101-41C8-BA36-DC771944D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hyperlink" Target="http://www.eeppt.com" TargetMode="Externa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26" descr="0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28"/>
          <p:cNvSpPr/>
          <p:nvPr/>
        </p:nvSpPr>
        <p:spPr>
          <a:xfrm>
            <a:off x="5526000" y="3429000"/>
            <a:ext cx="2286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鲁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32" descr="copyright"/>
          <p:cNvPicPr/>
          <p:nvPr/>
        </p:nvPicPr>
        <p:blipFill>
          <a:blip r:embed="rId2"/>
          <a:stretch/>
        </p:blipFill>
        <p:spPr>
          <a:xfrm>
            <a:off x="6257880" y="4576680"/>
            <a:ext cx="1554120" cy="116532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037"/>
          <p:cNvGrpSpPr/>
          <p:nvPr/>
        </p:nvGrpSpPr>
        <p:grpSpPr>
          <a:xfrm>
            <a:off x="1042920" y="3789360"/>
            <a:ext cx="1982880" cy="1147680"/>
            <a:chOff x="1042920" y="3789360"/>
            <a:chExt cx="1982880" cy="1147680"/>
          </a:xfrm>
        </p:grpSpPr>
        <p:pic>
          <p:nvPicPr>
            <p:cNvPr id="128" name="Picture 1034" descr="鸟"/>
            <p:cNvPicPr/>
            <p:nvPr/>
          </p:nvPicPr>
          <p:blipFill>
            <a:blip r:embed="rId3"/>
            <a:stretch/>
          </p:blipFill>
          <p:spPr>
            <a:xfrm>
              <a:off x="1042920" y="3789360"/>
              <a:ext cx="119052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035" descr="鸟"/>
            <p:cNvPicPr/>
            <p:nvPr/>
          </p:nvPicPr>
          <p:blipFill>
            <a:blip r:embed="rId4"/>
            <a:stretch/>
          </p:blipFill>
          <p:spPr>
            <a:xfrm>
              <a:off x="1403280" y="4005360"/>
              <a:ext cx="11905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036" descr="鸟"/>
            <p:cNvPicPr/>
            <p:nvPr/>
          </p:nvPicPr>
          <p:blipFill>
            <a:blip r:embed="rId5"/>
            <a:stretch/>
          </p:blipFill>
          <p:spPr>
            <a:xfrm>
              <a:off x="1835280" y="4365720"/>
              <a:ext cx="119052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矩形 1" descr=""/>
          <p:cNvPicPr/>
          <p:nvPr/>
        </p:nvPicPr>
        <p:blipFill>
          <a:blip r:embed="rId6"/>
          <a:stretch/>
        </p:blipFill>
        <p:spPr>
          <a:xfrm>
            <a:off x="250920" y="907920"/>
            <a:ext cx="8369280" cy="70164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6"/>
          <p:cNvSpPr/>
          <p:nvPr/>
        </p:nvSpPr>
        <p:spPr>
          <a:xfrm>
            <a:off x="3708360" y="1700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3789360"/>
            <a:ext cx="9144000" cy="34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安桥头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鲁迅的外婆家在安桥头村，他少年时经常随母到外婆家，并与安桥头的农民孩子结下了深厚的友谊。先生的 </a:t>
            </a: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社戏</a:t>
            </a: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文就是以这段生活为素材写就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import36367_2"/>
          <p:cNvPicPr/>
          <p:nvPr/>
        </p:nvPicPr>
        <p:blipFill>
          <a:blip r:embed="rId1"/>
          <a:stretch/>
        </p:blipFill>
        <p:spPr>
          <a:xfrm>
            <a:off x="0" y="0"/>
            <a:ext cx="9144000" cy="3789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244" name="WordArt 3"/>
          <p:cNvSpPr txBox="1"/>
          <p:nvPr/>
        </p:nvSpPr>
        <p:spPr>
          <a:xfrm>
            <a:off x="1187280" y="260280"/>
            <a:ext cx="67532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平桥村是我的乐土</a:t>
            </a:r>
            <a:r>
              <a:rPr b="1" lang="en-US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?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324000" y="2924280"/>
            <a:ext cx="533160" cy="2520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755640" y="263700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我在这里是公共的客，可以得到优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755640" y="386064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免念“秩秩斯干幽幽南山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2377800" y="508464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彩云"/>
              </a:rPr>
              <a:t>可以钓虾放牛，体验到许多乡间生活乐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7894440" y="5661000"/>
            <a:ext cx="10335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华文楷体"/>
              </a:rPr>
              <a:t>赵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395280" y="1197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这样一个偏僻不大眼的小村庄，作者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在我是乐土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其中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乐土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既写了平桥村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心中的地位，又写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对平桥村的情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8200"/>
          <p:cNvSpPr/>
          <p:nvPr/>
        </p:nvSpPr>
        <p:spPr>
          <a:xfrm>
            <a:off x="2050920" y="59500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wqwh.jpg (34496 bytes)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WordArt 3"/>
          <p:cNvSpPr txBox="1"/>
          <p:nvPr/>
        </p:nvSpPr>
        <p:spPr>
          <a:xfrm>
            <a:off x="762120" y="609480"/>
            <a:ext cx="7476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9900"/>
                  </a:solidFill>
                  <a:round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“</a:t>
            </a:r>
            <a:r>
              <a:rPr b="1" lang="zh-CN" sz="1800" spc="1" strike="noStrike">
                <a:ln w="12600">
                  <a:solidFill>
                    <a:srgbClr val="ff9900"/>
                  </a:solidFill>
                  <a:round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我”看不成戏时的心情是怎样的？</a:t>
            </a:r>
            <a:endParaRPr b="1" lang="en-US" sz="1800" spc="1" strike="noStrike">
              <a:ln w="12600">
                <a:solidFill>
                  <a:srgbClr val="ff9900"/>
                </a:solidFill>
                <a:round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685800" y="3124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盼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835280" y="3500280"/>
            <a:ext cx="609480" cy="360"/>
            <a:chOff x="1835280" y="3500280"/>
            <a:chExt cx="609480" cy="360"/>
          </a:xfrm>
        </p:grpSpPr>
        <p:sp>
          <p:nvSpPr>
            <p:cNvPr id="258" name="Line 5"/>
            <p:cNvSpPr/>
            <p:nvPr/>
          </p:nvSpPr>
          <p:spPr>
            <a:xfrm>
              <a:off x="1835280" y="3500280"/>
              <a:ext cx="6094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1835280" y="350028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 Box 6"/>
          <p:cNvSpPr/>
          <p:nvPr/>
        </p:nvSpPr>
        <p:spPr>
          <a:xfrm>
            <a:off x="2484360" y="31417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焦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635280" y="3500280"/>
            <a:ext cx="609840" cy="360"/>
            <a:chOff x="3635280" y="3500280"/>
            <a:chExt cx="609840" cy="360"/>
          </a:xfrm>
        </p:grpSpPr>
        <p:sp>
          <p:nvSpPr>
            <p:cNvPr id="262" name="Line 7"/>
            <p:cNvSpPr/>
            <p:nvPr/>
          </p:nvSpPr>
          <p:spPr>
            <a:xfrm>
              <a:off x="3635280" y="3500280"/>
              <a:ext cx="6098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3635280" y="350028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8"/>
          <p:cNvSpPr/>
          <p:nvPr/>
        </p:nvSpPr>
        <p:spPr>
          <a:xfrm>
            <a:off x="4211640" y="3141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失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64000" y="3500280"/>
            <a:ext cx="609840" cy="360"/>
            <a:chOff x="5364000" y="3500280"/>
            <a:chExt cx="609840" cy="360"/>
          </a:xfrm>
        </p:grpSpPr>
        <p:sp>
          <p:nvSpPr>
            <p:cNvPr id="266" name="Line 9"/>
            <p:cNvSpPr/>
            <p:nvPr/>
          </p:nvSpPr>
          <p:spPr>
            <a:xfrm>
              <a:off x="5364000" y="3500280"/>
              <a:ext cx="6098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5364000" y="350028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10"/>
          <p:cNvSpPr/>
          <p:nvPr/>
        </p:nvSpPr>
        <p:spPr>
          <a:xfrm>
            <a:off x="6012000" y="31417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猜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093080" y="3500280"/>
            <a:ext cx="609480" cy="360"/>
            <a:chOff x="7093080" y="3500280"/>
            <a:chExt cx="609480" cy="360"/>
          </a:xfrm>
        </p:grpSpPr>
        <p:sp>
          <p:nvSpPr>
            <p:cNvPr id="270" name="Line 11"/>
            <p:cNvSpPr/>
            <p:nvPr/>
          </p:nvSpPr>
          <p:spPr>
            <a:xfrm>
              <a:off x="7093080" y="3500280"/>
              <a:ext cx="6094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7093080" y="350028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Text Box 12"/>
          <p:cNvSpPr/>
          <p:nvPr/>
        </p:nvSpPr>
        <p:spPr>
          <a:xfrm>
            <a:off x="7772400" y="3141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沮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380880" y="5335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社戏的时间在什么季节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怎么知道的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533520" y="2133720"/>
            <a:ext cx="79246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春末夏初。因为课文写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消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扫墓完毕之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罗汉豆成熟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岸的豆麦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写的是春末夏初时的景物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981000"/>
            <a:ext cx="94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_GB2312"/>
              </a:rPr>
              <a:t>作者写夏夜行船是怎样烘托急迫心情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24000" y="2205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夏夜行程是课文的精彩片段。作者写出了起伏的连山如奔兽，以动写静，烘托出我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急迫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的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26920" y="2997360"/>
            <a:ext cx="2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324000" y="3645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听到歌声，料想发自戏台，心里更是迫切。而宛转、悠扬的笛声，使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沉静，反衬出此前着急的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水乡社戏（陈）.jpg (31902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611280" y="2637000"/>
            <a:ext cx="7705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——</a:t>
            </a:r>
            <a:r>
              <a:rPr b="1" i="1" lang="zh-CN" sz="66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找找看戏过程中“我们”的心理和语言描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5"/>
          <p:cNvSpPr txBox="1"/>
          <p:nvPr/>
        </p:nvSpPr>
        <p:spPr>
          <a:xfrm>
            <a:off x="468360" y="260280"/>
            <a:ext cx="373392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99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戏好看吗</a:t>
            </a:r>
            <a:endParaRPr b="0" lang="en-US" sz="1800" spc="1" strike="noStrike">
              <a:ln w="19080">
                <a:solidFill>
                  <a:srgbClr val="ffff99"/>
                </a:solidFill>
                <a:round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random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395280" y="404640"/>
            <a:ext cx="79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作者急切看到的戏好看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0" y="2133720"/>
            <a:ext cx="9325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想看铁头老头翻跟头，但那老头却没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想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蛇精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跳老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等，等了许久都不见出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最怕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老旦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然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老旦终于出了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不停地唱着。除正面写出戏不好看，文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喃喃的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经不住吁吁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打起呵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这些神态描写，也从侧面做了烘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2700360" y="119700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Arial"/>
              </a:rPr>
              <a:t>不好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79280" y="83664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写月下归航时，主要写了什么趣事？这时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的心情和去看戏时有什么不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539640" y="2708280"/>
            <a:ext cx="81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月下归航时，写了小伙伴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偷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罗汉豆的趣事。去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心情很急迫，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以为船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而此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和小伙伴们偷豆吃豆，心情无比畅快、轻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395280" y="3500280"/>
            <a:ext cx="8569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写出景物的什么特征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些景物描写对表现文章中心思想起什么作用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WordArt 3" descr=""/>
          <p:cNvPicPr/>
          <p:nvPr/>
        </p:nvPicPr>
        <p:blipFill>
          <a:blip r:embed="rId1"/>
          <a:stretch/>
        </p:blipFill>
        <p:spPr>
          <a:xfrm>
            <a:off x="241200" y="971640"/>
            <a:ext cx="8686800" cy="1627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0" y="83664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嗅觉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触觉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视觉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听觉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想象，写出江南水乡月夜的特征。这些景物描写，写出了江南水乡夜景的清新，写出小朋友行船之快，也很好地烘托了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于看到社戏的迫切心情。情景交融，抒发了作者热爱农村的感情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" descr="ti"/>
          <p:cNvPicPr/>
          <p:nvPr/>
        </p:nvPicPr>
        <p:blipFill>
          <a:blip r:embed="rId1"/>
          <a:stretch/>
        </p:blipFill>
        <p:spPr>
          <a:xfrm>
            <a:off x="7986600" y="6337440"/>
            <a:ext cx="1157400" cy="51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000"/>
          <p:cNvPicPr/>
          <p:nvPr/>
        </p:nvPicPr>
        <p:blipFill>
          <a:blip r:embed="rId1"/>
          <a:stretch/>
        </p:blipFill>
        <p:spPr>
          <a:xfrm>
            <a:off x="0" y="549360"/>
            <a:ext cx="3714840" cy="5737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3809880" y="404640"/>
            <a:ext cx="533412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鲁迅，原名周树人，字豫才。浙江绍兴人。伟大的无产阶级文学家、思想家和革命家。中国现代文学的奠基人。代表作有我国现代文学史上第一篇白话小说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狂人日记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，中篇小说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阿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Q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正传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，散文集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朝花夕拾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，小说集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呐喊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，杂文集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坟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》《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二心集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ti"/>
          <p:cNvPicPr/>
          <p:nvPr/>
        </p:nvPicPr>
        <p:blipFill>
          <a:blip r:embed="rId2"/>
          <a:stretch/>
        </p:blipFill>
        <p:spPr>
          <a:xfrm>
            <a:off x="7986600" y="6346800"/>
            <a:ext cx="1157400" cy="51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jhyy.jpg (15221 bytes)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WordArt 3"/>
          <p:cNvSpPr txBox="1"/>
          <p:nvPr/>
        </p:nvSpPr>
        <p:spPr>
          <a:xfrm>
            <a:off x="2438280" y="609480"/>
            <a:ext cx="6324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看戏途中的所见、所闻、所感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0" y="2209680"/>
            <a:ext cx="81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  <a:ea typeface="文鼎粗圆"/>
              </a:rPr>
              <a:t>        </a:t>
            </a:r>
            <a:r>
              <a:rPr b="1" lang="zh-CN" sz="4400" spc="-1" strike="noStrike">
                <a:solidFill>
                  <a:srgbClr val="0066cc"/>
                </a:solidFill>
                <a:latin typeface="Times New Roman"/>
                <a:ea typeface="文鼎粗圆"/>
              </a:rPr>
              <a:t>不仅表现了小伙伴们友爱、能干的优秀品质，而且通过我的嗅觉、听觉、视觉、想象四方面对平桥村优美景色的描写，热情地歌颂了美好的自然风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描花乌蓬船.jpg (55282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WordArt 3"/>
          <p:cNvSpPr txBox="1"/>
          <p:nvPr/>
        </p:nvSpPr>
        <p:spPr>
          <a:xfrm>
            <a:off x="324000" y="0"/>
            <a:ext cx="327636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7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114480" dir="0" blurRad="0" rotWithShape="0">
                    <a:srgbClr val="47cc40"/>
                  </a:outerShdw>
                </a:effectLst>
                <a:latin typeface="华文行楷"/>
              </a:rPr>
              <a:t>豆好吃吗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114480" dir="0" blurRad="0" rotWithShape="0">
                    <a:srgbClr val="47cc40"/>
                  </a:outerShdw>
                </a:effectLst>
                <a:latin typeface="华文行楷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114480" dir="0" blurRad="0" rotWithShape="0">
                  <a:srgbClr val="47cc4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79280" y="4292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同是六一公公的豆，偷着吃与他送来吃味道为什么不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250920" y="1700280"/>
            <a:ext cx="871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）小伙伴们在什么地方偷？为什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偷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）“偷”谁家的？怎样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）他们怎样预防“偷”的秘密被人发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1760" y="-7413480"/>
            <a:ext cx="759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1029"/>
          <p:cNvSpPr/>
          <p:nvPr/>
        </p:nvSpPr>
        <p:spPr>
          <a:xfrm>
            <a:off x="0" y="0"/>
            <a:ext cx="86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3300"/>
                </a:solidFill>
                <a:latin typeface="Times New Roman"/>
                <a:ea typeface="文鼎特粗圆"/>
              </a:rPr>
              <a:t> 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真的，一直到现在，我实在再没有吃到那夜似地好豆，</a:t>
            </a: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也不再看到那夜似地好戏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1032"/>
          <p:cNvSpPr txBox="1"/>
          <p:nvPr/>
        </p:nvSpPr>
        <p:spPr>
          <a:xfrm>
            <a:off x="1116000" y="2133720"/>
            <a:ext cx="61722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幼圆"/>
              </a:rPr>
              <a:t>其实最令我难忘的是什么？</a:t>
            </a:r>
            <a:endParaRPr b="1" i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312" name="Text Box 1033"/>
          <p:cNvSpPr/>
          <p:nvPr/>
        </p:nvSpPr>
        <p:spPr>
          <a:xfrm>
            <a:off x="0" y="3789360"/>
            <a:ext cx="914400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所难忘的是平桥村的老人孩子那种淳朴、善良、真挚的感情和他们的劳动的本领、办事的能力。再加上特有的农村风光，自由的空气，人与人之间的和谐亲密的关系。这一切都是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童年时代在城镇未曾见到过。在以后的人生路上也很少见到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ti"/>
          <p:cNvPicPr/>
          <p:nvPr/>
        </p:nvPicPr>
        <p:blipFill>
          <a:blip r:embed="rId1"/>
          <a:stretch/>
        </p:blipFill>
        <p:spPr>
          <a:xfrm>
            <a:off x="7986600" y="6337440"/>
            <a:ext cx="1157400" cy="5112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250920" y="98100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其实那夜的戏，看得叫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打呵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破口喃喃的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那夜的豆，第二天吃起来也实在平常。所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那夜似的好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那夜似的好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是过去那段天真烂漫自由有趣生活的标志，代表了作者对天真烂漫童年的美好回忆，充满了浪漫的理想色彩，相对于成人的无限烦恼，重重束缚的现实生活，表现了对人生理想境界的渴望和追求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分析双喜的言行，谈谈双喜是怎样的孩子</a:t>
            </a:r>
            <a:r>
              <a:rPr b="1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0" y="11970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我看社戏受到波折时，双喜大悟似的提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6735600" y="1916280"/>
            <a:ext cx="9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双喜聪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0" y="285264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⑵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外祖母担心都是孩子们时，双喜大声打包票，理由有三：①船又大，②迅哥儿向来不乱跑；③我们又都是识水性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2124000" y="4653000"/>
            <a:ext cx="7020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双喜反应灵敏，考虑周到，善解人意，办事果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0" y="40464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看戏时铁头老生不翻筋斗，“我”很失望，双喜又用“谁肯显本领给白地看”来安慰“我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3022560" y="1700280"/>
            <a:ext cx="612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表现双喜大哥哥般的亲切体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0" y="25653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⑷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归航偷豆时征求豆主人阿发的意见；双喜以为再多偷，倘给阿发的娘知道是要挨骂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3882240" y="3789360"/>
            <a:ext cx="3530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双喜考虑事情周到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替他人做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0" y="465300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⑸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吃完豆，双喜所虑的是用了八公公船上的盐和柴，并考虑好对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6298560" y="5877000"/>
            <a:ext cx="866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双喜考虑事情周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⑹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双喜送我回到家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都回来了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!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里会错。我原说过写包票的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!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529080" y="1557360"/>
            <a:ext cx="5614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双喜做事有始有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0" y="2276640"/>
            <a:ext cx="822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双喜回答六一公公的问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4194000" y="2924280"/>
            <a:ext cx="4950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双喜反应灵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0" y="42210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　　双喜是一个聪明、机灵、善解人意，考虑周到，办事果断的好孩子头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7" descr="ti"/>
          <p:cNvPicPr/>
          <p:nvPr/>
        </p:nvPicPr>
        <p:blipFill>
          <a:blip r:embed="rId1"/>
          <a:stretch/>
        </p:blipFill>
        <p:spPr>
          <a:xfrm>
            <a:off x="7986600" y="6337440"/>
            <a:ext cx="1157400" cy="51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析六一公公的言行，谈谈六一公公是一个什么样的老人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0" y="170028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双喜，你们这班小鬼，昨天偷了我的豆了罢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不肯好好的摘，踏坏了不少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证实双喜他们是否偷了豆，重在指责他们踏坏了庄稼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95280" y="3284640"/>
            <a:ext cx="946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六一公公善良宽厚，爱惜劳动果实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0" y="400536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六一公公看见我，便停了楫，笑道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请客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应该的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迅哥儿，昨天的戏可好么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豆可中吃呢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3041640" y="5661000"/>
            <a:ext cx="6102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六一公公淳朴、好客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28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⑶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六一公公夸自己的豆好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的豆种是粒粒挑选过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029"/>
          <p:cNvSpPr/>
          <p:nvPr/>
        </p:nvSpPr>
        <p:spPr>
          <a:xfrm>
            <a:off x="4176720" y="1484280"/>
            <a:ext cx="4967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六一公公好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30"/>
          <p:cNvSpPr/>
          <p:nvPr/>
        </p:nvSpPr>
        <p:spPr>
          <a:xfrm>
            <a:off x="0" y="2276640"/>
            <a:ext cx="7230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⑷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六一公公送豆给母亲和我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31"/>
          <p:cNvSpPr/>
          <p:nvPr/>
        </p:nvSpPr>
        <p:spPr>
          <a:xfrm>
            <a:off x="3373920" y="3068640"/>
            <a:ext cx="4423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表现六一公公淳朴、好客、热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32"/>
          <p:cNvSpPr/>
          <p:nvPr/>
        </p:nvSpPr>
        <p:spPr>
          <a:xfrm>
            <a:off x="324000" y="400536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六一公公是一个宽厚、善良、淳朴、好客、热诚的老人。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BD77-AD2F-4FE4-B700-36AD7077198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400536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华文隶书"/>
              </a:rPr>
              <a:t>   </a:t>
            </a:r>
            <a:r>
              <a:rPr b="0" lang="en-US" sz="3600" spc="-1" strike="noStrike">
                <a:solidFill>
                  <a:srgbClr val="000099"/>
                </a:solidFill>
                <a:latin typeface="华文隶书"/>
                <a:ea typeface="华文隶书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Times New Roman"/>
                <a:ea typeface="华文隶书"/>
              </a:rPr>
              <a:t>“</a:t>
            </a:r>
            <a:r>
              <a:rPr b="0" lang="zh-CN" sz="3600" spc="-1" strike="noStrike">
                <a:solidFill>
                  <a:srgbClr val="003399"/>
                </a:solidFill>
                <a:latin typeface="华文隶书"/>
                <a:ea typeface="华文隶书"/>
              </a:rPr>
              <a:t>最惹眼的是屹立在庄外临河的空地上的一座戏台，模糊在远处的月夜中，和空间几乎不出界限，我疑心画上见过的仙境，就在这里出现了</a:t>
            </a: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华文隶书"/>
              </a:rPr>
              <a:t>”</a:t>
            </a:r>
            <a:r>
              <a:rPr b="0" lang="en-US" sz="3600" spc="-1" strike="noStrike">
                <a:solidFill>
                  <a:srgbClr val="003399"/>
                </a:solidFill>
                <a:latin typeface="Times New Roman"/>
                <a:ea typeface="华文隶书"/>
              </a:rPr>
              <a:t>——</a:t>
            </a:r>
            <a:r>
              <a:rPr b="0" lang="zh-CN" sz="3600" spc="-1" strike="noStrike">
                <a:solidFill>
                  <a:srgbClr val="003399"/>
                </a:solidFill>
                <a:latin typeface="华文隶书"/>
                <a:ea typeface="华文隶书"/>
              </a:rPr>
              <a:t>鲁迅</a:t>
            </a:r>
            <a:r>
              <a:rPr b="0" lang="en-US" sz="3600" spc="-1" strike="noStrike">
                <a:solidFill>
                  <a:srgbClr val="003399"/>
                </a:solidFill>
                <a:latin typeface="华文隶书"/>
                <a:ea typeface="华文隶书"/>
              </a:rPr>
              <a:t>《</a:t>
            </a:r>
            <a:r>
              <a:rPr b="0" lang="zh-CN" sz="3600" spc="-1" strike="noStrike">
                <a:solidFill>
                  <a:srgbClr val="003399"/>
                </a:solidFill>
                <a:latin typeface="华文隶书"/>
                <a:ea typeface="华文隶书"/>
              </a:rPr>
              <a:t>社戏</a:t>
            </a:r>
            <a:r>
              <a:rPr b="0" lang="en-US" sz="3600" spc="-1" strike="noStrike">
                <a:solidFill>
                  <a:srgbClr val="003399"/>
                </a:solidFill>
                <a:latin typeface="华文隶书"/>
                <a:ea typeface="华文隶书"/>
              </a:rPr>
              <a:t>》</a:t>
            </a:r>
            <a:r>
              <a:rPr b="0" lang="zh-CN" sz="3600" spc="-1" strike="noStrike">
                <a:solidFill>
                  <a:srgbClr val="003399"/>
                </a:solidFill>
                <a:latin typeface="华文隶书"/>
                <a:ea typeface="华文隶书"/>
              </a:rPr>
              <a:t>。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9" name="Picture 3" descr="pic_7888"/>
          <p:cNvPicPr/>
          <p:nvPr/>
        </p:nvPicPr>
        <p:blipFill>
          <a:blip r:embed="rId1"/>
          <a:stretch/>
        </p:blipFill>
        <p:spPr>
          <a:xfrm>
            <a:off x="1835280" y="333360"/>
            <a:ext cx="7127640" cy="412452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sp>
        <p:nvSpPr>
          <p:cNvPr id="140" name="Text Box 4"/>
          <p:cNvSpPr/>
          <p:nvPr/>
        </p:nvSpPr>
        <p:spPr>
          <a:xfrm>
            <a:off x="-271800" y="404640"/>
            <a:ext cx="152100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琥珀"/>
              </a:rPr>
              <a:t>江南社戏（图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838080" y="457200"/>
            <a:ext cx="2286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533520" y="1600200"/>
            <a:ext cx="83818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本文通过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农村孩子看社戏前后故事的叙述，赞美农民和农家孩子淳朴的品质和聪明的才干。表现作者热爱劳动人民的思想感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3719160" y="457200"/>
            <a:ext cx="23752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中心思想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5" descr="ti"/>
          <p:cNvPicPr/>
          <p:nvPr/>
        </p:nvPicPr>
        <p:blipFill>
          <a:blip r:embed="rId1"/>
          <a:stretch/>
        </p:blipFill>
        <p:spPr>
          <a:xfrm>
            <a:off x="7986600" y="6337440"/>
            <a:ext cx="1157400" cy="51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457200" y="228600"/>
            <a:ext cx="4495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给加点的字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981080" y="990720"/>
            <a:ext cx="1371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xǐ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628600" y="1066680"/>
            <a:ext cx="142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h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á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445760" y="1676520"/>
            <a:ext cx="1090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d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734080" y="1752480"/>
            <a:ext cx="1829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ù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 d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2041920" y="2438280"/>
            <a:ext cx="91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d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529600" y="2514600"/>
            <a:ext cx="2517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cuān du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192040" y="3276720"/>
            <a:ext cx="659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f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4956840" y="3200400"/>
            <a:ext cx="136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á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905120" y="3962520"/>
            <a:ext cx="2361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uī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466240" y="3962520"/>
            <a:ext cx="221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y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ù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n  zǎ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1773720" y="4648320"/>
            <a:ext cx="125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ju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5613120" y="4724280"/>
            <a:ext cx="111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ǎ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1820880" y="5410080"/>
            <a:ext cx="268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piāo miǎ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6555600" y="5410080"/>
            <a:ext cx="1517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ū g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7"/>
          <p:cNvGrpSpPr/>
          <p:nvPr/>
        </p:nvGrpSpPr>
        <p:grpSpPr>
          <a:xfrm>
            <a:off x="399960" y="819000"/>
            <a:ext cx="8458200" cy="5334120"/>
            <a:chOff x="399960" y="819000"/>
            <a:chExt cx="8458200" cy="5334120"/>
          </a:xfrm>
        </p:grpSpPr>
        <p:sp>
          <p:nvSpPr>
            <p:cNvPr id="158" name="Text Box 18"/>
            <p:cNvSpPr/>
            <p:nvPr/>
          </p:nvSpPr>
          <p:spPr>
            <a:xfrm>
              <a:off x="399960" y="819000"/>
              <a:ext cx="8458200" cy="5212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归省（     ） 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行家（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惮（    ）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絮叨（   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怠慢（    ）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撺掇（    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凫水（    ）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潺（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歌吹（    ）  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蕴藻（  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家眷（   ）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皎洁（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漂渺（         ） 纠葛（     ）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9"/>
            <p:cNvSpPr/>
            <p:nvPr/>
          </p:nvSpPr>
          <p:spPr>
            <a:xfrm>
              <a:off x="704880" y="6076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0"/>
            <p:cNvSpPr/>
            <p:nvPr/>
          </p:nvSpPr>
          <p:spPr>
            <a:xfrm>
              <a:off x="1238400" y="15811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1"/>
            <p:cNvSpPr/>
            <p:nvPr/>
          </p:nvSpPr>
          <p:spPr>
            <a:xfrm>
              <a:off x="628560" y="2342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4362480" y="1581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4362480" y="2342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4896000" y="23428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704880" y="3105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6"/>
            <p:cNvSpPr/>
            <p:nvPr/>
          </p:nvSpPr>
          <p:spPr>
            <a:xfrm>
              <a:off x="704880" y="3867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7"/>
            <p:cNvSpPr/>
            <p:nvPr/>
          </p:nvSpPr>
          <p:spPr>
            <a:xfrm>
              <a:off x="1238400" y="44766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8"/>
            <p:cNvSpPr/>
            <p:nvPr/>
          </p:nvSpPr>
          <p:spPr>
            <a:xfrm>
              <a:off x="1162080" y="5238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9"/>
            <p:cNvSpPr/>
            <p:nvPr/>
          </p:nvSpPr>
          <p:spPr>
            <a:xfrm>
              <a:off x="4362480" y="5238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30"/>
            <p:cNvSpPr/>
            <p:nvPr/>
          </p:nvSpPr>
          <p:spPr>
            <a:xfrm>
              <a:off x="4362480" y="3105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1"/>
            <p:cNvSpPr/>
            <p:nvPr/>
          </p:nvSpPr>
          <p:spPr>
            <a:xfrm>
              <a:off x="4896000" y="3105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2"/>
            <p:cNvSpPr/>
            <p:nvPr/>
          </p:nvSpPr>
          <p:spPr>
            <a:xfrm>
              <a:off x="4362480" y="4552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3"/>
            <p:cNvSpPr/>
            <p:nvPr/>
          </p:nvSpPr>
          <p:spPr>
            <a:xfrm>
              <a:off x="4896000" y="4552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4"/>
            <p:cNvSpPr/>
            <p:nvPr/>
          </p:nvSpPr>
          <p:spPr>
            <a:xfrm>
              <a:off x="5886360" y="6000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5"/>
            <p:cNvSpPr/>
            <p:nvPr/>
          </p:nvSpPr>
          <p:spPr>
            <a:xfrm>
              <a:off x="5276880" y="6000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6"/>
            <p:cNvSpPr/>
            <p:nvPr/>
          </p:nvSpPr>
          <p:spPr>
            <a:xfrm>
              <a:off x="1162080" y="6076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7"/>
            <p:cNvSpPr/>
            <p:nvPr/>
          </p:nvSpPr>
          <p:spPr>
            <a:xfrm>
              <a:off x="4362480" y="3790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Picture 38" descr="ti"/>
          <p:cNvPicPr/>
          <p:nvPr/>
        </p:nvPicPr>
        <p:blipFill>
          <a:blip r:embed="rId1"/>
          <a:stretch/>
        </p:blipFill>
        <p:spPr>
          <a:xfrm>
            <a:off x="7986600" y="6337440"/>
            <a:ext cx="1157400" cy="51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228600" y="4572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文章的中心情节是什么？围绕这一中心写了哪些事件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547640" y="4076640"/>
            <a:ext cx="1600200" cy="360"/>
            <a:chOff x="1547640" y="4076640"/>
            <a:chExt cx="1600200" cy="360"/>
          </a:xfrm>
        </p:grpSpPr>
        <p:sp>
          <p:nvSpPr>
            <p:cNvPr id="182" name="Line 3"/>
            <p:cNvSpPr/>
            <p:nvPr/>
          </p:nvSpPr>
          <p:spPr>
            <a:xfrm>
              <a:off x="1547640" y="40766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1547640" y="407664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4"/>
          <p:cNvSpPr/>
          <p:nvPr/>
        </p:nvSpPr>
        <p:spPr>
          <a:xfrm>
            <a:off x="1909080" y="42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夏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763640" y="3429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坐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916360" y="3789360"/>
            <a:ext cx="16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赵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295280" y="18208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50920" y="378936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迅哥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4859280" y="3068640"/>
            <a:ext cx="152280" cy="19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219640" y="2781360"/>
            <a:ext cx="2665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戏前波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夏夜行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船头看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月夜归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4211640" y="357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看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0" y="5516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试试分别从时间、事情、原因角度概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8200"/>
          <p:cNvSpPr/>
          <p:nvPr/>
        </p:nvSpPr>
        <p:spPr>
          <a:xfrm>
            <a:off x="1044720" y="2133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26"/>
          <p:cNvSpPr/>
          <p:nvPr/>
        </p:nvSpPr>
        <p:spPr>
          <a:xfrm>
            <a:off x="826920" y="476280"/>
            <a:ext cx="74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除了看戏，还写了什么活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27"/>
          <p:cNvSpPr/>
          <p:nvPr/>
        </p:nvSpPr>
        <p:spPr>
          <a:xfrm>
            <a:off x="900000" y="1844640"/>
            <a:ext cx="684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开头：随母亲归省平桥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乐事：钓虾、放牛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28"/>
          <p:cNvSpPr/>
          <p:nvPr/>
        </p:nvSpPr>
        <p:spPr>
          <a:xfrm>
            <a:off x="826920" y="4292640"/>
            <a:ext cx="60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结尾：六一公公送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28600" y="304920"/>
            <a:ext cx="8610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写了这几件事，哪些事详写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些事略写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80880" y="1600200"/>
            <a:ext cx="7239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随母亲归省小住平桥村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0880" y="2362320"/>
            <a:ext cx="6324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⑵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钓虾放牛的乡间生活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380880" y="3048120"/>
            <a:ext cx="5715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⑶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社戏前的波折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380880" y="3809880"/>
            <a:ext cx="5791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⑷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夜航去看社戏途中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380880" y="4419720"/>
            <a:ext cx="533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⑸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去赵庄看社戏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380880" y="5105520"/>
            <a:ext cx="5791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⑹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社戏后归航偷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380880" y="5791320"/>
            <a:ext cx="464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⑺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六一公公送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7608600" y="2057400"/>
            <a:ext cx="592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7684920" y="4343400"/>
            <a:ext cx="592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400800" y="2209680"/>
            <a:ext cx="1219320" cy="2514600"/>
            <a:chOff x="6400800" y="2209680"/>
            <a:chExt cx="1219320" cy="2514600"/>
          </a:xfrm>
        </p:grpSpPr>
        <p:sp>
          <p:nvSpPr>
            <p:cNvPr id="210" name="Line 15"/>
            <p:cNvSpPr/>
            <p:nvPr/>
          </p:nvSpPr>
          <p:spPr>
            <a:xfrm>
              <a:off x="6400800" y="2209680"/>
              <a:ext cx="1219320" cy="251460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6400800" y="2209680"/>
              <a:ext cx="121932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867280" y="2895480"/>
            <a:ext cx="1676520" cy="1905120"/>
            <a:chOff x="5867280" y="2895480"/>
            <a:chExt cx="1676520" cy="1905120"/>
          </a:xfrm>
        </p:grpSpPr>
        <p:sp>
          <p:nvSpPr>
            <p:cNvPr id="213" name="Line 16"/>
            <p:cNvSpPr/>
            <p:nvPr/>
          </p:nvSpPr>
          <p:spPr>
            <a:xfrm>
              <a:off x="5867280" y="2895480"/>
              <a:ext cx="1676520" cy="19051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5867280" y="2895480"/>
              <a:ext cx="167652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876920" y="2666520"/>
            <a:ext cx="2590560" cy="838440"/>
            <a:chOff x="4876920" y="2666520"/>
            <a:chExt cx="2590560" cy="838440"/>
          </a:xfrm>
        </p:grpSpPr>
        <p:sp>
          <p:nvSpPr>
            <p:cNvPr id="216" name="Line 17"/>
            <p:cNvSpPr/>
            <p:nvPr/>
          </p:nvSpPr>
          <p:spPr>
            <a:xfrm flipV="1">
              <a:off x="4876920" y="2666520"/>
              <a:ext cx="2590560" cy="8384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 rot="10800000">
              <a:off x="4876920" y="2666520"/>
              <a:ext cx="2590560" cy="83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257800" y="2666880"/>
            <a:ext cx="2286000" cy="1524240"/>
            <a:chOff x="5257800" y="2666880"/>
            <a:chExt cx="2286000" cy="1524240"/>
          </a:xfrm>
        </p:grpSpPr>
        <p:sp>
          <p:nvSpPr>
            <p:cNvPr id="219" name="Line 18"/>
            <p:cNvSpPr/>
            <p:nvPr/>
          </p:nvSpPr>
          <p:spPr>
            <a:xfrm flipV="1">
              <a:off x="5257800" y="2666880"/>
              <a:ext cx="2286000" cy="15242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 rot="10800000">
              <a:off x="5257800" y="2666880"/>
              <a:ext cx="228600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419720" y="2819160"/>
            <a:ext cx="3124080" cy="2057400"/>
            <a:chOff x="4419720" y="2819160"/>
            <a:chExt cx="3124080" cy="2057400"/>
          </a:xfrm>
        </p:grpSpPr>
        <p:sp>
          <p:nvSpPr>
            <p:cNvPr id="222" name="Line 19"/>
            <p:cNvSpPr/>
            <p:nvPr/>
          </p:nvSpPr>
          <p:spPr>
            <a:xfrm flipV="1">
              <a:off x="4419720" y="2819160"/>
              <a:ext cx="3124080" cy="205740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 rot="10800000">
              <a:off x="4419720" y="2818800"/>
              <a:ext cx="312408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257800" y="2971440"/>
            <a:ext cx="2286000" cy="2514600"/>
            <a:chOff x="5257800" y="2971440"/>
            <a:chExt cx="2286000" cy="2514600"/>
          </a:xfrm>
        </p:grpSpPr>
        <p:sp>
          <p:nvSpPr>
            <p:cNvPr id="225" name="Line 20"/>
            <p:cNvSpPr/>
            <p:nvPr/>
          </p:nvSpPr>
          <p:spPr>
            <a:xfrm flipV="1">
              <a:off x="5257800" y="2971440"/>
              <a:ext cx="2286000" cy="251460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 rot="10800000">
              <a:off x="5257800" y="2971440"/>
              <a:ext cx="228600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343400" y="4952520"/>
            <a:ext cx="3276720" cy="1219320"/>
            <a:chOff x="4343400" y="4952520"/>
            <a:chExt cx="3276720" cy="1219320"/>
          </a:xfrm>
        </p:grpSpPr>
        <p:sp>
          <p:nvSpPr>
            <p:cNvPr id="228" name="Line 21"/>
            <p:cNvSpPr/>
            <p:nvPr/>
          </p:nvSpPr>
          <p:spPr>
            <a:xfrm flipV="1">
              <a:off x="4343400" y="4952520"/>
              <a:ext cx="3276720" cy="12193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 rot="10800000">
              <a:off x="4343400" y="4952520"/>
              <a:ext cx="327672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0880" y="533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有的情节详写，有的情节略写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457200" y="2057400"/>
            <a:ext cx="82296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文章主要写看社戏，所以赵庄看社戏，夜航去看社戏途中，看社戏前的波折，看社戏后归航偷豆详写，其他情节与看社戏关系不大，所以略写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ti"/>
          <p:cNvPicPr/>
          <p:nvPr/>
        </p:nvPicPr>
        <p:blipFill>
          <a:blip r:embed="rId1"/>
          <a:stretch/>
        </p:blipFill>
        <p:spPr>
          <a:xfrm>
            <a:off x="7986600" y="6337440"/>
            <a:ext cx="1157400" cy="51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468360" y="76500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BM neco"/>
                <a:ea typeface="微软简行楷"/>
              </a:rPr>
              <a:t>平桥村是一个什么样的地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468360" y="2205000"/>
            <a:ext cx="790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归纳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离海不远，偏僻，临河，不满三十家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种田、打鱼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业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只有一个杂货店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68360" y="5013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暗示：江南水乡，村小，演不起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12:32:2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38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