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1.jpeg" ContentType="image/jpeg"/>
  <Override PartName="/ppt/media/chimes.wav" ContentType="audio/x-wav"/>
  <Override PartName="/ppt/media/image16.png" ContentType="image/png"/>
  <Override PartName="/ppt/media/image7.png" ContentType="image/png"/>
  <Override PartName="/ppt/media/image1.jpeg" ContentType="image/jpeg"/>
  <Override PartName="/ppt/media/camera.wav" ContentType="audio/x-wav"/>
  <Override PartName="/ppt/media/image18.jpeg" ContentType="image/jpeg"/>
  <Override PartName="/ppt/media/image12.png" ContentType="image/png"/>
  <Override PartName="/ppt/media/image17.wmf" ContentType="image/x-wmf"/>
  <Override PartName="/ppt/media/image15.jpeg" ContentType="image/jpeg"/>
  <Override PartName="/ppt/media/image14.gif" ContentType="image/gif"/>
  <Override PartName="/ppt/media/cashreg.wav" ContentType="audio/x-wav"/>
  <Override PartName="/ppt/media/image4.jpeg" ContentType="image/jpeg"/>
  <Override PartName="/ppt/media/image13.jpeg" ContentType="image/jpeg"/>
  <Override PartName="/ppt/media/image2.jpeg" ContentType="image/jpeg"/>
  <Override PartName="/ppt/media/image3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2463-8533-4816-B3AE-563AEC43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65C4-A957-4954-A89E-CF1D0551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97064-BC71-4357-BCD7-CBA3FF236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C73-9150-4267-AE70-464975E0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C51C7-FC2E-4CFA-9596-3BAAAEAD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48837-BAD5-434C-9DBC-96A03981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8D7AA-2AD5-48F0-8516-21507A22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BC3CAF-3B1C-425E-8481-3E398ABB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B5009-654C-4EB7-8DCC-D37BBFC4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4FFA44-6C5E-4A62-8684-2EDBF565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A75B3-E0F0-493A-B2E3-1C6F8078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613B85-553D-4614-9126-02A6A2E5C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371E6-6E0C-4B53-92A7-777131DE4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73EFC-7E5F-4201-A7C2-D116B6B0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4E7C-41AD-498C-BB32-019D0E8F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E1A09-521E-408A-84AE-D3D298604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0CAD-2F37-4192-8FA0-4700AAD3A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91CF1-C763-4AB8-A48E-FA1DDE7A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2F0E0-769C-49BF-A992-5FA83C06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B95B-D555-4819-8011-5799A7CC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E98DA-CBDB-44F2-BEC0-C13FE767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72E7-4C85-469D-8694-A73BD36A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93884-08AD-4501-8C19-6E714019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016C-7BB0-49EE-A246-F2E3B4A9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B0593-7986-4BA5-B075-49B7BEF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B411-11F2-4D04-B921-7AEBF29C9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343C-78C0-4086-84B0-E833BB5C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F6241-93AB-414B-A68A-979C4E75B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93CB6-C937-4A0E-9E9C-96F0E7127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52AB1-81DB-45F9-9629-549668F0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27F90-BAD8-44D3-8EF3-C3EB5E178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7165-FA9F-4DC9-9BDD-F1B3DA79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45C4F-B423-4E10-A965-97CD59BDE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98593-D424-4316-BA39-993A4BAE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36D9-1CFE-4D2D-BDF2-819388F4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A8757-E439-4B9A-89C9-E53DCA56F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305C7-A9A6-4FDD-8ABC-E0CE6C79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E94B8-4AE9-4725-ABA2-8B60DBC40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2BBD30-9EF5-40D9-98B1-1C84A746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64B14-44D7-48CC-8436-7B6068DF5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BFBDAB-CC0F-4F72-9373-6CCA1E14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022B-6AA4-4183-AC63-A46D5FD38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F635-F5FF-4EF2-B79A-BCCAE703F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9B608-4F65-4543-B212-D64F9F2C6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87B1-65A5-40B6-9144-2200B5F0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8EFA1-F746-446D-921D-A95D603BC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FCD9-3F6C-4814-9567-EBFFDCF9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ACD1-2A48-4009-BC3B-6494DBA3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98B42-EC41-42B9-A79E-4CD38E7D0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934B0-2DD7-40F2-8FF3-8DDD077D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D5F65-B687-44DE-90AE-A5A893EB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AB280E-692D-438A-ACC2-50C4253F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288A4-F18B-4CE3-B3F2-AE771F6B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CFB30-4268-473C-9E24-307CEF9A8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BBDA5-38CA-4E23-8A44-8A9F645BE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62CB-BB0A-4F6B-AB59-00B3634A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3DD82-6E98-4A54-9A70-E0DD95A56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DCE60-3FA2-4484-89D9-D7D9A42F0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427BB-FFF1-42B7-B128-A7B021E5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EB954-C30A-42B9-95A2-9A14D434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40F75E-8B71-4DF2-8375-4510CE364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266CC-0624-4AE2-852A-03DB25DF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E897E-0C01-45C4-973C-38B14624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62427-10EE-4509-833B-10351D3E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518EE-F2CC-4CCC-AE07-A5856EDD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C002E-6D3F-4FF0-9DD5-30F42214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FFD0-B0D9-4A8F-94D1-4EBB50D4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91369-72D5-4CA6-88B6-3B9D1E0A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127A8-2E2D-46CD-A6FB-5396F669F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CFAC-F148-447E-9534-2A57B60F4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3F92E-ACCE-4491-8966-060AC9E2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2E325D-F2D8-40DB-9A44-1E17F0BDE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FAE6D-2BCF-4619-B0BC-7DF5F238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03060-49E3-4BE6-A59B-53C1BE13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3D41D9-CADB-4247-BD2C-AE1FCA322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2B662-EC2F-4030-B496-CBC73D9B9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21E5F9-2913-4E5A-8EA3-92E36224F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32DC-653F-4D5D-B398-1C171C155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34AB3-9F7D-4697-A6E7-57C06C5A2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8131-CE00-49EF-AA13-56CB3DCDB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D971A0-8B15-42FE-BBBC-32153CFF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76365-82A9-4F64-AA9D-B0008E110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1F8890-C66E-47D9-AF00-5713D8F39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B4075-6351-4FFA-A52F-01C69972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E716D-45C0-47B9-811D-A7949BFC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243B1-AA1E-401E-8034-D8F71BD0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A614E-B6FC-40EE-B38B-39C5CF53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554FB-BE04-4D74-BBF7-C665F98F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09B-9F81-4724-9E93-87C62909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8E5B35-2E5A-4460-B4BB-937F15C2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1FDA4-5317-4970-BB74-0575004FD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84146-4032-4EE2-9F75-657D613DE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3CACB8-4491-4EEB-8E0E-3F38EABD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63AA2-67B1-4C78-91E0-76F116E1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D2DCA2-41CE-46D4-B05A-E4486869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B51E7C-F24E-4DCE-86F0-032BC32CE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646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9FE0-8284-4882-AB33-C0527C6A4B2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387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未知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未知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未知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未知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未知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未知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B924-120A-48EB-899D-BD1F1DB0AABE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B7A0C-E429-491B-981E-8426BE6E27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83" name="Oval 3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4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5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6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7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6B8EF-FC60-4AAD-9E45-1E663D8B690B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69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000f1e"/>
                </a:gs>
                <a:gs pos="50000">
                  <a:srgbClr val="0099cc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未知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未知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f1e"/>
                </a:gs>
                <a:gs pos="50000">
                  <a:srgbClr val="003366"/>
                </a:gs>
                <a:gs pos="100000">
                  <a:srgbClr val="000f1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未知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0f1e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未知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未知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未知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未知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3366"/>
                </a:gs>
                <a:gs pos="50000">
                  <a:srgbClr val="003366"/>
                </a:gs>
                <a:gs pos="100000">
                  <a:srgbClr val="0033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cccc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581A-C8CE-4400-B779-78D3501FC6C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BA2A6-D986-4F64-A780-7C23D4FCA4D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80E73-AF94-4DE3-9C17-4EEAC06233D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301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C2584-386A-4F8D-8765-E81EDD918C89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6.png"/><Relationship Id="rId6" Type="http://schemas.openxmlformats.org/officeDocument/2006/relationships/image" Target="../media/image17.wmf"/><Relationship Id="rId7" Type="http://schemas.openxmlformats.org/officeDocument/2006/relationships/image" Target="../media/image16.png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qd160.com/member/wytd/shiwu/junheng/" TargetMode="External"/><Relationship Id="rId3" Type="http://schemas.openxmlformats.org/officeDocument/2006/relationships/image" Target="../media/image9.gif"/><Relationship Id="rId4" Type="http://schemas.openxmlformats.org/officeDocument/2006/relationships/hyperlink" Target="http://www.23mm.net/sucai/img3/514/32.gif" TargetMode="External"/><Relationship Id="rId5" Type="http://schemas.openxmlformats.org/officeDocument/2006/relationships/image" Target="../media/image10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23mm.net/img2009/02/05/12.gif" TargetMode="External"/><Relationship Id="rId3" Type="http://schemas.openxmlformats.org/officeDocument/2006/relationships/image" Target="../media/image14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WordArt 2"/>
          <p:cNvSpPr txBox="1"/>
          <p:nvPr/>
        </p:nvSpPr>
        <p:spPr>
          <a:xfrm>
            <a:off x="1116000" y="1341360"/>
            <a:ext cx="6888240" cy="17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5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善用法律保护自己课件</a:t>
            </a:r>
            <a:r>
              <a:rPr b="1" lang="en-US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PPT</a:t>
            </a:r>
            <a:r>
              <a:rPr b="1" lang="zh-CN" sz="4000" spc="-1" strike="noStrike">
                <a:ln w="0">
                  <a:noFill/>
                </a:ln>
                <a:solidFill>
                  <a:srgbClr val="ff0000"/>
                </a:solidFill>
                <a:latin typeface="宋体"/>
              </a:rPr>
              <a:t>模板下载</a:t>
            </a:r>
            <a:endParaRPr b="1" lang="en-US" sz="4000" spc="-1" strike="noStrike">
              <a:ln w="0">
                <a:noFill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pic>
        <p:nvPicPr>
          <p:cNvPr id="437" name="Picture 3" descr=""/>
          <p:cNvPicPr/>
          <p:nvPr/>
        </p:nvPicPr>
        <p:blipFill>
          <a:blip r:embed="rId2"/>
          <a:stretch/>
        </p:blipFill>
        <p:spPr>
          <a:xfrm>
            <a:off x="1258920" y="3645000"/>
            <a:ext cx="2563920" cy="1888920"/>
          </a:xfrm>
          <a:prstGeom prst="rect">
            <a:avLst/>
          </a:prstGeom>
          <a:ln w="0">
            <a:noFill/>
          </a:ln>
        </p:spPr>
      </p:pic>
      <p:sp>
        <p:nvSpPr>
          <p:cNvPr id="438" name="矩形 1"/>
          <p:cNvSpPr/>
          <p:nvPr/>
        </p:nvSpPr>
        <p:spPr>
          <a:xfrm>
            <a:off x="3456720" y="6732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思想品德教学课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文本框 6155"/>
          <p:cNvSpPr/>
          <p:nvPr/>
        </p:nvSpPr>
        <p:spPr>
          <a:xfrm>
            <a:off x="23760" y="64533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71600" cy="8985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3"/>
          <p:cNvSpPr/>
          <p:nvPr/>
        </p:nvSpPr>
        <p:spPr>
          <a:xfrm>
            <a:off x="755640" y="765000"/>
            <a:ext cx="727236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天，我下决心偷偷跑出家去找妈妈。在妈妈的鼓励下，我给市妇联写了这一封信，希望他们能够帮帮我，我要上法院告我爸爸。依靠市法律援助中心的帮助，我们母女俩一起将爸爸告上法庭，要求变更我的抚养关系，爸爸要承担相应的抚养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547640" y="436572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同学甲：到法院打官司，是不光彩的的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547640" y="4941720"/>
            <a:ext cx="60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同学乙：到法院打官司的人，都是违法的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692360" y="544500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黑体"/>
              </a:rPr>
              <a:t>请你做个简要评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684360" y="2924280"/>
            <a:ext cx="658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维权途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3"/>
          <p:cNvSpPr/>
          <p:nvPr/>
        </p:nvSpPr>
        <p:spPr>
          <a:xfrm>
            <a:off x="5410080" y="260280"/>
            <a:ext cx="27432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法律服务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律师事务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公证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法律援助中心（</a:t>
            </a:r>
            <a:r>
              <a:rPr b="1" lang="en-US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12348</a:t>
            </a: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700360" y="1916280"/>
            <a:ext cx="360360" cy="2209680"/>
          </a:xfrm>
          <a:custGeom>
            <a:avLst/>
            <a:gdLst>
              <a:gd name="textAreaLeft" fmla="*/ 230400 w 360360"/>
              <a:gd name="textAreaRight" fmla="*/ 360720 w 36036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3203640" y="3645000"/>
            <a:ext cx="1066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投诉反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6"/>
          <p:cNvSpPr/>
          <p:nvPr/>
        </p:nvSpPr>
        <p:spPr>
          <a:xfrm>
            <a:off x="3132000" y="12682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咨询，寻求帮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7"/>
          <p:cNvSpPr/>
          <p:nvPr/>
        </p:nvSpPr>
        <p:spPr>
          <a:xfrm>
            <a:off x="5076720" y="649440"/>
            <a:ext cx="152640" cy="2286000"/>
          </a:xfrm>
          <a:custGeom>
            <a:avLst/>
            <a:gdLst>
              <a:gd name="textAreaLeft" fmla="*/ 97560 w 152640"/>
              <a:gd name="textAreaRight" fmla="*/ 153000 w 15264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8"/>
          <p:cNvSpPr/>
          <p:nvPr/>
        </p:nvSpPr>
        <p:spPr>
          <a:xfrm>
            <a:off x="4168800" y="36450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当地政府、公安局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妇联、新闻媒体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  <a:ea typeface="仿宋_GB2312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9"/>
          <p:cNvSpPr/>
          <p:nvPr/>
        </p:nvSpPr>
        <p:spPr>
          <a:xfrm>
            <a:off x="1692360" y="220500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非诉讼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0"/>
          <p:cNvSpPr/>
          <p:nvPr/>
        </p:nvSpPr>
        <p:spPr>
          <a:xfrm>
            <a:off x="1835280" y="494172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诉讼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1"/>
          <p:cNvSpPr/>
          <p:nvPr/>
        </p:nvSpPr>
        <p:spPr>
          <a:xfrm>
            <a:off x="2843280" y="530064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Times New Roman"/>
                <a:ea typeface="黑体"/>
              </a:rPr>
              <a:t>打官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AutoShape 12"/>
          <p:cNvSpPr/>
          <p:nvPr/>
        </p:nvSpPr>
        <p:spPr>
          <a:xfrm>
            <a:off x="1332000" y="2852640"/>
            <a:ext cx="360360" cy="2521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de6ff"/>
            </a:gs>
            <a:gs pos="100000">
              <a:srgbClr val="fdd3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-320400" y="2852640"/>
            <a:ext cx="164268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f1e"/>
                </a:solidFill>
                <a:latin typeface="Times New Roman"/>
                <a:ea typeface="隶书"/>
              </a:rPr>
              <a:t>诉  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059280" y="1197000"/>
            <a:ext cx="295416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刑事诉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民事诉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行政诉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6372360" y="549360"/>
            <a:ext cx="230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公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楷体_GB2312"/>
              </a:rPr>
              <a:t>自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AutoShape 5"/>
          <p:cNvSpPr/>
          <p:nvPr/>
        </p:nvSpPr>
        <p:spPr>
          <a:xfrm>
            <a:off x="2268360" y="1413000"/>
            <a:ext cx="648000" cy="433440"/>
          </a:xfrm>
          <a:prstGeom prst="rightArrow">
            <a:avLst>
              <a:gd name="adj1" fmla="val 50000"/>
              <a:gd name="adj2" fmla="val 37361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6"/>
          <p:cNvSpPr/>
          <p:nvPr/>
        </p:nvSpPr>
        <p:spPr>
          <a:xfrm>
            <a:off x="2268360" y="3284640"/>
            <a:ext cx="648000" cy="433440"/>
          </a:xfrm>
          <a:prstGeom prst="rightArrow">
            <a:avLst>
              <a:gd name="adj1" fmla="val 50000"/>
              <a:gd name="adj2" fmla="val 37361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2340000" y="5300640"/>
            <a:ext cx="647640" cy="433440"/>
          </a:xfrm>
          <a:prstGeom prst="rightArrow">
            <a:avLst>
              <a:gd name="adj1" fmla="val 50000"/>
              <a:gd name="adj2" fmla="val 37341"/>
            </a:avLst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1547640" y="1628640"/>
            <a:ext cx="358920" cy="4032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104760 h 4032360"/>
              <a:gd name="textAreaBottom" fmla="*/ 392760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5796000" y="83664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0"/>
          <p:cNvSpPr/>
          <p:nvPr/>
        </p:nvSpPr>
        <p:spPr>
          <a:xfrm>
            <a:off x="250920" y="260280"/>
            <a:ext cx="44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f1e"/>
                </a:solidFill>
                <a:latin typeface="Arial"/>
                <a:ea typeface="宋体"/>
              </a:rPr>
              <a:t>诉讼的类型</a:t>
            </a:r>
            <a:r>
              <a:rPr b="1" lang="en-US" sz="4400" spc="-1" strike="noStrike">
                <a:solidFill>
                  <a:srgbClr val="000f1e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2"/>
          <p:cNvSpPr/>
          <p:nvPr/>
        </p:nvSpPr>
        <p:spPr>
          <a:xfrm>
            <a:off x="684360" y="549360"/>
            <a:ext cx="77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一天下午，北京市海淀区某中学学生小张正在家写作业，忽然，楼道里传来一女人的尖叫声。小张侧耳细听，一个男人用低沉的声音说：“快把门打开，把钱拿出来。”小张意识到刘姐家可能出事了。小张打开房门，看到刘姐家门开着，她往里一瞧，只见一男青年正用绳子捆刘姐的双手，威胁着索要钱财。见此情景，小张赶紧拨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，然后快速跑到楼外，寻求路人的帮助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正在施工的两位民工闻讯后，迅速赶到现场。男青年企图夺门而逃，两民工勇敢地与之搏斗，在随后赶来群众的帮助下，将男青年制服，扭送到海淀公安分局恩济庄派出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张同学面对歹徒，毫不退缩，机智勇敢，受到同学、老师和社会各界的称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3"/>
          <p:cNvSpPr/>
          <p:nvPr/>
        </p:nvSpPr>
        <p:spPr>
          <a:xfrm>
            <a:off x="716040" y="5591160"/>
            <a:ext cx="74880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细黑"/>
              </a:rPr>
              <a:t>通过小张的案例，你认为青少年如何与违法犯罪做斗争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2"/>
          <p:cNvSpPr/>
          <p:nvPr/>
        </p:nvSpPr>
        <p:spPr>
          <a:xfrm>
            <a:off x="468360" y="1484280"/>
            <a:ext cx="82296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当自己的合法权益受到侵害时，要善于运用法律武器维权，善于同侵权行为做斗争；当国家、集体、他人的权益受到非法侵害时，我们也要加以维护。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同违法犯罪作斗争，是包括我们青少年在内的全体公民义不容辞的责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华文细黑"/>
                <a:ea typeface="华文细黑"/>
              </a:rPr>
              <a:t>我们在与其斗争时，既要勇敢，又要机智，力求在保护自己的前提下，巧妙地将不法分子抓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、在面对歹徒时，有效的方法应该是：设法稳住歹徒，记住歹徒相貌，了解歹徒去向，及时拨打</a:t>
            </a:r>
            <a:r>
              <a:rPr b="1" lang="en-US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报警电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609480" y="1523880"/>
            <a:ext cx="658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Times New Roman"/>
                <a:ea typeface="黑体"/>
              </a:rPr>
              <a:t>善用法律保护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/>
          <p:cNvSpPr/>
          <p:nvPr/>
        </p:nvSpPr>
        <p:spPr>
          <a:xfrm>
            <a:off x="2819520" y="838080"/>
            <a:ext cx="304560" cy="1067040"/>
          </a:xfrm>
          <a:custGeom>
            <a:avLst/>
            <a:gdLst>
              <a:gd name="textAreaLeft" fmla="*/ 194760 w 304560"/>
              <a:gd name="textAreaRight" fmla="*/ 304920 w 30456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3124080" y="6094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法律是维护权益的最有力武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752480" y="990720"/>
            <a:ext cx="100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求助有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6"/>
          <p:cNvSpPr/>
          <p:nvPr/>
        </p:nvSpPr>
        <p:spPr>
          <a:xfrm>
            <a:off x="1676520" y="495288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善于斗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7"/>
          <p:cNvSpPr/>
          <p:nvPr/>
        </p:nvSpPr>
        <p:spPr>
          <a:xfrm>
            <a:off x="1332000" y="1447920"/>
            <a:ext cx="344520" cy="3925800"/>
          </a:xfrm>
          <a:custGeom>
            <a:avLst/>
            <a:gdLst>
              <a:gd name="textAreaLeft" fmla="*/ 220320 w 344520"/>
              <a:gd name="textAreaRight" fmla="*/ 344880 w 344520"/>
              <a:gd name="textAreaTop" fmla="*/ 102240 h 3925800"/>
              <a:gd name="textAreaBottom" fmla="*/ 3823560 h 39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8"/>
          <p:cNvSpPr/>
          <p:nvPr/>
        </p:nvSpPr>
        <p:spPr>
          <a:xfrm>
            <a:off x="6172200" y="3200400"/>
            <a:ext cx="380880" cy="1295280"/>
          </a:xfrm>
          <a:custGeom>
            <a:avLst/>
            <a:gdLst>
              <a:gd name="textAreaLeft" fmla="*/ 243360 w 380880"/>
              <a:gd name="textAreaRight" fmla="*/ 381240 w 3808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9"/>
          <p:cNvSpPr/>
          <p:nvPr/>
        </p:nvSpPr>
        <p:spPr>
          <a:xfrm>
            <a:off x="6553080" y="2971800"/>
            <a:ext cx="2286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刑事诉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民事诉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行政诉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10"/>
          <p:cNvSpPr/>
          <p:nvPr/>
        </p:nvSpPr>
        <p:spPr>
          <a:xfrm>
            <a:off x="1692360" y="2708280"/>
            <a:ext cx="100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  <a:ea typeface="黑体"/>
              </a:rPr>
              <a:t>敢打官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1"/>
          <p:cNvSpPr/>
          <p:nvPr/>
        </p:nvSpPr>
        <p:spPr>
          <a:xfrm>
            <a:off x="3124080" y="12193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非诉讼手段是维护权益的常用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12"/>
          <p:cNvSpPr/>
          <p:nvPr/>
        </p:nvSpPr>
        <p:spPr>
          <a:xfrm>
            <a:off x="2895480" y="2666880"/>
            <a:ext cx="304920" cy="1371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3"/>
          <p:cNvSpPr/>
          <p:nvPr/>
        </p:nvSpPr>
        <p:spPr>
          <a:xfrm>
            <a:off x="3124080" y="22096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打官司是维护权益最权威、最有效的手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4"/>
          <p:cNvSpPr/>
          <p:nvPr/>
        </p:nvSpPr>
        <p:spPr>
          <a:xfrm>
            <a:off x="2895480" y="50292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15"/>
          <p:cNvSpPr/>
          <p:nvPr/>
        </p:nvSpPr>
        <p:spPr>
          <a:xfrm>
            <a:off x="0" y="76320"/>
            <a:ext cx="2666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3300"/>
                </a:solidFill>
                <a:latin typeface="Arial"/>
                <a:ea typeface="黑体"/>
              </a:rPr>
              <a:t>课堂小结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16"/>
          <p:cNvSpPr/>
          <p:nvPr/>
        </p:nvSpPr>
        <p:spPr>
          <a:xfrm>
            <a:off x="3060720" y="364500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诉讼的三种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7"/>
          <p:cNvSpPr/>
          <p:nvPr/>
        </p:nvSpPr>
        <p:spPr>
          <a:xfrm>
            <a:off x="3276720" y="479736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维护自己的合法权益是每个公民的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18"/>
          <p:cNvSpPr/>
          <p:nvPr/>
        </p:nvSpPr>
        <p:spPr>
          <a:xfrm>
            <a:off x="3348000" y="595008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仿宋_GB2312"/>
              </a:rPr>
              <a:t>机智勇敢、不能硬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8200"/>
          <p:cNvSpPr/>
          <p:nvPr/>
        </p:nvSpPr>
        <p:spPr>
          <a:xfrm>
            <a:off x="2463840" y="64008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6767ff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帮忙牵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AutoShape 3"/>
          <p:cNvSpPr/>
          <p:nvPr/>
        </p:nvSpPr>
        <p:spPr>
          <a:xfrm>
            <a:off x="1171440" y="1490760"/>
            <a:ext cx="6258240" cy="107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"/>
          <p:cNvSpPr/>
          <p:nvPr/>
        </p:nvSpPr>
        <p:spPr>
          <a:xfrm>
            <a:off x="1165320" y="1533600"/>
            <a:ext cx="203976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法律服务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1187280" y="2852640"/>
            <a:ext cx="6259680" cy="1040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1187280" y="3068640"/>
            <a:ext cx="20401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律师事务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7"/>
          <p:cNvSpPr/>
          <p:nvPr/>
        </p:nvSpPr>
        <p:spPr>
          <a:xfrm>
            <a:off x="1187280" y="4076640"/>
            <a:ext cx="6259680" cy="131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8"/>
          <p:cNvSpPr/>
          <p:nvPr/>
        </p:nvSpPr>
        <p:spPr>
          <a:xfrm>
            <a:off x="900000" y="4508640"/>
            <a:ext cx="196704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公证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9"/>
          <p:cNvGrpSpPr/>
          <p:nvPr/>
        </p:nvGrpSpPr>
        <p:grpSpPr>
          <a:xfrm>
            <a:off x="7740720" y="1557360"/>
            <a:ext cx="825120" cy="802800"/>
            <a:chOff x="7740720" y="1557360"/>
            <a:chExt cx="825120" cy="802800"/>
          </a:xfrm>
        </p:grpSpPr>
        <p:grpSp>
          <p:nvGrpSpPr>
            <p:cNvPr id="523" name="Group 10"/>
            <p:cNvGrpSpPr/>
            <p:nvPr/>
          </p:nvGrpSpPr>
          <p:grpSpPr>
            <a:xfrm>
              <a:off x="7740720" y="1557360"/>
              <a:ext cx="825120" cy="802800"/>
              <a:chOff x="7740720" y="1557360"/>
              <a:chExt cx="825120" cy="802800"/>
            </a:xfrm>
          </p:grpSpPr>
          <p:grpSp>
            <p:nvGrpSpPr>
              <p:cNvPr id="524" name="Group 11"/>
              <p:cNvGrpSpPr/>
              <p:nvPr/>
            </p:nvGrpSpPr>
            <p:grpSpPr>
              <a:xfrm>
                <a:off x="7740720" y="1557360"/>
                <a:ext cx="825120" cy="802800"/>
                <a:chOff x="7740720" y="1557360"/>
                <a:chExt cx="825120" cy="802800"/>
              </a:xfrm>
            </p:grpSpPr>
            <p:pic>
              <p:nvPicPr>
                <p:cNvPr id="525" name="Picture 12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740720" y="1557360"/>
                  <a:ext cx="825120" cy="800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6" name="Oval 13"/>
                <p:cNvSpPr/>
                <p:nvPr/>
              </p:nvSpPr>
              <p:spPr>
                <a:xfrm>
                  <a:off x="7740720" y="1557360"/>
                  <a:ext cx="819720" cy="8028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27" name="Picture 14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7823160" y="1564920"/>
                <a:ext cx="65160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28" name="WordArt 15"/>
            <p:cNvSpPr txBox="1"/>
            <p:nvPr/>
          </p:nvSpPr>
          <p:spPr>
            <a:xfrm>
              <a:off x="8022240" y="1773360"/>
              <a:ext cx="18648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29" name="Group 16"/>
          <p:cNvGrpSpPr/>
          <p:nvPr/>
        </p:nvGrpSpPr>
        <p:grpSpPr>
          <a:xfrm>
            <a:off x="7740720" y="2997360"/>
            <a:ext cx="825480" cy="803160"/>
            <a:chOff x="7740720" y="2997360"/>
            <a:chExt cx="825480" cy="803160"/>
          </a:xfrm>
        </p:grpSpPr>
        <p:grpSp>
          <p:nvGrpSpPr>
            <p:cNvPr id="530" name="Group 17"/>
            <p:cNvGrpSpPr/>
            <p:nvPr/>
          </p:nvGrpSpPr>
          <p:grpSpPr>
            <a:xfrm>
              <a:off x="7740720" y="2997360"/>
              <a:ext cx="825480" cy="803160"/>
              <a:chOff x="7740720" y="2997360"/>
              <a:chExt cx="825480" cy="803160"/>
            </a:xfrm>
          </p:grpSpPr>
          <p:grpSp>
            <p:nvGrpSpPr>
              <p:cNvPr id="531" name="Group 18"/>
              <p:cNvGrpSpPr/>
              <p:nvPr/>
            </p:nvGrpSpPr>
            <p:grpSpPr>
              <a:xfrm>
                <a:off x="7740720" y="2997360"/>
                <a:ext cx="825480" cy="803160"/>
                <a:chOff x="7740720" y="2997360"/>
                <a:chExt cx="825480" cy="803160"/>
              </a:xfrm>
            </p:grpSpPr>
            <p:pic>
              <p:nvPicPr>
                <p:cNvPr id="532" name="Picture 19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740720" y="299736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33" name="Oval 20"/>
                <p:cNvSpPr/>
                <p:nvPr/>
              </p:nvSpPr>
              <p:spPr>
                <a:xfrm>
                  <a:off x="7740720" y="299736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34" name="Picture 21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7823160" y="300492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35" name="WordArt 22"/>
            <p:cNvSpPr txBox="1"/>
            <p:nvPr/>
          </p:nvSpPr>
          <p:spPr>
            <a:xfrm>
              <a:off x="8048520" y="321336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36" name="Group 23"/>
          <p:cNvGrpSpPr/>
          <p:nvPr/>
        </p:nvGrpSpPr>
        <p:grpSpPr>
          <a:xfrm>
            <a:off x="7812000" y="4365720"/>
            <a:ext cx="825480" cy="803160"/>
            <a:chOff x="7812000" y="4365720"/>
            <a:chExt cx="825480" cy="803160"/>
          </a:xfrm>
        </p:grpSpPr>
        <p:grpSp>
          <p:nvGrpSpPr>
            <p:cNvPr id="537" name="Group 24"/>
            <p:cNvGrpSpPr/>
            <p:nvPr/>
          </p:nvGrpSpPr>
          <p:grpSpPr>
            <a:xfrm>
              <a:off x="7812000" y="4365720"/>
              <a:ext cx="825480" cy="803160"/>
              <a:chOff x="7812000" y="4365720"/>
              <a:chExt cx="825480" cy="803160"/>
            </a:xfrm>
          </p:grpSpPr>
          <p:grpSp>
            <p:nvGrpSpPr>
              <p:cNvPr id="538" name="Group 25"/>
              <p:cNvGrpSpPr/>
              <p:nvPr/>
            </p:nvGrpSpPr>
            <p:grpSpPr>
              <a:xfrm>
                <a:off x="7812000" y="4365720"/>
                <a:ext cx="825480" cy="803160"/>
                <a:chOff x="7812000" y="4365720"/>
                <a:chExt cx="825480" cy="803160"/>
              </a:xfrm>
            </p:grpSpPr>
            <p:pic>
              <p:nvPicPr>
                <p:cNvPr id="539" name="Picture 26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2000" y="436572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40" name="Oval 27"/>
                <p:cNvSpPr/>
                <p:nvPr/>
              </p:nvSpPr>
              <p:spPr>
                <a:xfrm>
                  <a:off x="7812000" y="436572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41" name="Picture 28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94440" y="437328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42" name="WordArt 29"/>
            <p:cNvSpPr txBox="1"/>
            <p:nvPr/>
          </p:nvSpPr>
          <p:spPr>
            <a:xfrm>
              <a:off x="8119800" y="458172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43" name="Text Box 30"/>
          <p:cNvSpPr/>
          <p:nvPr/>
        </p:nvSpPr>
        <p:spPr>
          <a:xfrm>
            <a:off x="4172040" y="1600200"/>
            <a:ext cx="328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证明合同等的真实性、合法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31"/>
          <p:cNvSpPr/>
          <p:nvPr/>
        </p:nvSpPr>
        <p:spPr>
          <a:xfrm>
            <a:off x="4211640" y="2925720"/>
            <a:ext cx="31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代写法律文书，提供法律咨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32"/>
          <p:cNvSpPr/>
          <p:nvPr/>
        </p:nvSpPr>
        <p:spPr>
          <a:xfrm>
            <a:off x="4390920" y="4284720"/>
            <a:ext cx="29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帮人处理法律事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60720" y="1989000"/>
            <a:ext cx="1295280" cy="1440000"/>
            <a:chOff x="3060720" y="1989000"/>
            <a:chExt cx="1295280" cy="1440000"/>
          </a:xfrm>
        </p:grpSpPr>
        <p:sp>
          <p:nvSpPr>
            <p:cNvPr id="547" name="Line 33"/>
            <p:cNvSpPr/>
            <p:nvPr/>
          </p:nvSpPr>
          <p:spPr>
            <a:xfrm>
              <a:off x="3060720" y="1989000"/>
              <a:ext cx="1295280" cy="1440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3060720" y="1989000"/>
              <a:ext cx="1295280" cy="1440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" name=""/>
          <p:cNvGrpSpPr/>
          <p:nvPr/>
        </p:nvGrpSpPr>
        <p:grpSpPr>
          <a:xfrm>
            <a:off x="2987640" y="3429000"/>
            <a:ext cx="1513080" cy="1368360"/>
            <a:chOff x="2987640" y="3429000"/>
            <a:chExt cx="1513080" cy="1368360"/>
          </a:xfrm>
        </p:grpSpPr>
        <p:sp>
          <p:nvSpPr>
            <p:cNvPr id="550" name="Line 34"/>
            <p:cNvSpPr/>
            <p:nvPr/>
          </p:nvSpPr>
          <p:spPr>
            <a:xfrm>
              <a:off x="2987640" y="3429000"/>
              <a:ext cx="1513080" cy="13683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 txBox="1"/>
            <p:nvPr/>
          </p:nvSpPr>
          <p:spPr>
            <a:xfrm>
              <a:off x="2987640" y="3429000"/>
              <a:ext cx="1513080" cy="136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2" name=""/>
          <p:cNvGrpSpPr/>
          <p:nvPr/>
        </p:nvGrpSpPr>
        <p:grpSpPr>
          <a:xfrm>
            <a:off x="2484000" y="2565000"/>
            <a:ext cx="1872000" cy="2303640"/>
            <a:chOff x="2484000" y="2565000"/>
            <a:chExt cx="1872000" cy="2303640"/>
          </a:xfrm>
        </p:grpSpPr>
        <p:sp>
          <p:nvSpPr>
            <p:cNvPr id="553" name="Line 35"/>
            <p:cNvSpPr/>
            <p:nvPr/>
          </p:nvSpPr>
          <p:spPr>
            <a:xfrm flipV="1">
              <a:off x="2484360" y="2565000"/>
              <a:ext cx="1871640" cy="2303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 txBox="1"/>
            <p:nvPr/>
          </p:nvSpPr>
          <p:spPr>
            <a:xfrm rot="10800000">
              <a:off x="2484000" y="2565000"/>
              <a:ext cx="1871640" cy="230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744E-2CC6-4562-86F5-9B713ECB55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/>
          <p:cNvSpPr/>
          <p:nvPr/>
        </p:nvSpPr>
        <p:spPr>
          <a:xfrm>
            <a:off x="1333440" y="1054080"/>
            <a:ext cx="625788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1260360" y="1125360"/>
            <a:ext cx="2592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法律援助中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4"/>
          <p:cNvSpPr/>
          <p:nvPr/>
        </p:nvSpPr>
        <p:spPr>
          <a:xfrm>
            <a:off x="1333440" y="2349360"/>
            <a:ext cx="625788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260360" y="2708280"/>
            <a:ext cx="2519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国家机关、社会团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6"/>
          <p:cNvSpPr/>
          <p:nvPr/>
        </p:nvSpPr>
        <p:spPr>
          <a:xfrm>
            <a:off x="1333440" y="3646440"/>
            <a:ext cx="6257880" cy="1366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7"/>
          <p:cNvSpPr/>
          <p:nvPr/>
        </p:nvSpPr>
        <p:spPr>
          <a:xfrm>
            <a:off x="1165320" y="3741840"/>
            <a:ext cx="2975040" cy="10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人民调解委员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1332000" y="5013360"/>
            <a:ext cx="6259320" cy="1373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2700000"/>
          </a:gra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"/>
          <p:cNvSpPr/>
          <p:nvPr/>
        </p:nvSpPr>
        <p:spPr>
          <a:xfrm>
            <a:off x="1247760" y="5086440"/>
            <a:ext cx="280836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劳动争议仲裁委员会和劳动争议调解委员会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Group 10"/>
          <p:cNvGrpSpPr/>
          <p:nvPr/>
        </p:nvGrpSpPr>
        <p:grpSpPr>
          <a:xfrm>
            <a:off x="7812000" y="1268280"/>
            <a:ext cx="825120" cy="803160"/>
            <a:chOff x="7812000" y="1268280"/>
            <a:chExt cx="825120" cy="803160"/>
          </a:xfrm>
        </p:grpSpPr>
        <p:grpSp>
          <p:nvGrpSpPr>
            <p:cNvPr id="568" name="Group 11"/>
            <p:cNvGrpSpPr/>
            <p:nvPr/>
          </p:nvGrpSpPr>
          <p:grpSpPr>
            <a:xfrm>
              <a:off x="7812000" y="1268280"/>
              <a:ext cx="825120" cy="803160"/>
              <a:chOff x="7812000" y="1268280"/>
              <a:chExt cx="825120" cy="803160"/>
            </a:xfrm>
          </p:grpSpPr>
          <p:grpSp>
            <p:nvGrpSpPr>
              <p:cNvPr id="569" name="Group 12"/>
              <p:cNvGrpSpPr/>
              <p:nvPr/>
            </p:nvGrpSpPr>
            <p:grpSpPr>
              <a:xfrm>
                <a:off x="7812000" y="1268280"/>
                <a:ext cx="825120" cy="803160"/>
                <a:chOff x="7812000" y="1268280"/>
                <a:chExt cx="825120" cy="803160"/>
              </a:xfrm>
            </p:grpSpPr>
            <p:pic>
              <p:nvPicPr>
                <p:cNvPr id="570" name="Picture 13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7812000" y="1268280"/>
                  <a:ext cx="82512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1" name="Oval 14"/>
                <p:cNvSpPr/>
                <p:nvPr/>
              </p:nvSpPr>
              <p:spPr>
                <a:xfrm>
                  <a:off x="7812000" y="1268280"/>
                  <a:ext cx="81972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2" name="Picture 15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7894440" y="1275840"/>
                <a:ext cx="65160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73" name="WordArt 16"/>
            <p:cNvSpPr txBox="1"/>
            <p:nvPr/>
          </p:nvSpPr>
          <p:spPr>
            <a:xfrm>
              <a:off x="8093520" y="1484280"/>
              <a:ext cx="186480" cy="32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1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74" name="Group 17"/>
          <p:cNvGrpSpPr/>
          <p:nvPr/>
        </p:nvGrpSpPr>
        <p:grpSpPr>
          <a:xfrm>
            <a:off x="7812000" y="2637000"/>
            <a:ext cx="825480" cy="803160"/>
            <a:chOff x="7812000" y="2637000"/>
            <a:chExt cx="825480" cy="803160"/>
          </a:xfrm>
        </p:grpSpPr>
        <p:grpSp>
          <p:nvGrpSpPr>
            <p:cNvPr id="575" name="Group 18"/>
            <p:cNvGrpSpPr/>
            <p:nvPr/>
          </p:nvGrpSpPr>
          <p:grpSpPr>
            <a:xfrm>
              <a:off x="7812000" y="2637000"/>
              <a:ext cx="825480" cy="803160"/>
              <a:chOff x="7812000" y="2637000"/>
              <a:chExt cx="825480" cy="803160"/>
            </a:xfrm>
          </p:grpSpPr>
          <p:grpSp>
            <p:nvGrpSpPr>
              <p:cNvPr id="576" name="Group 19"/>
              <p:cNvGrpSpPr/>
              <p:nvPr/>
            </p:nvGrpSpPr>
            <p:grpSpPr>
              <a:xfrm>
                <a:off x="7812000" y="2637000"/>
                <a:ext cx="825480" cy="803160"/>
                <a:chOff x="7812000" y="2637000"/>
                <a:chExt cx="825480" cy="803160"/>
              </a:xfrm>
            </p:grpSpPr>
            <p:pic>
              <p:nvPicPr>
                <p:cNvPr id="577" name="Picture 20" descr="circuler_1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812000" y="263700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8" name="Oval 21"/>
                <p:cNvSpPr/>
                <p:nvPr/>
              </p:nvSpPr>
              <p:spPr>
                <a:xfrm>
                  <a:off x="7812000" y="263700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79" name="Picture 22" descr="Picture2"/>
              <p:cNvPicPr/>
              <p:nvPr/>
            </p:nvPicPr>
            <p:blipFill>
              <a:blip r:embed="rId4"/>
              <a:stretch/>
            </p:blipFill>
            <p:spPr>
              <a:xfrm>
                <a:off x="7894440" y="264456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0" name="WordArt 23"/>
            <p:cNvSpPr txBox="1"/>
            <p:nvPr/>
          </p:nvSpPr>
          <p:spPr>
            <a:xfrm>
              <a:off x="8119800" y="285300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2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81" name="Group 24"/>
          <p:cNvGrpSpPr/>
          <p:nvPr/>
        </p:nvGrpSpPr>
        <p:grpSpPr>
          <a:xfrm>
            <a:off x="7812000" y="4005360"/>
            <a:ext cx="825480" cy="803160"/>
            <a:chOff x="7812000" y="4005360"/>
            <a:chExt cx="825480" cy="803160"/>
          </a:xfrm>
        </p:grpSpPr>
        <p:grpSp>
          <p:nvGrpSpPr>
            <p:cNvPr id="582" name="Group 25"/>
            <p:cNvGrpSpPr/>
            <p:nvPr/>
          </p:nvGrpSpPr>
          <p:grpSpPr>
            <a:xfrm>
              <a:off x="7812000" y="4005360"/>
              <a:ext cx="825480" cy="803160"/>
              <a:chOff x="7812000" y="4005360"/>
              <a:chExt cx="825480" cy="803160"/>
            </a:xfrm>
          </p:grpSpPr>
          <p:grpSp>
            <p:nvGrpSpPr>
              <p:cNvPr id="583" name="Group 26"/>
              <p:cNvGrpSpPr/>
              <p:nvPr/>
            </p:nvGrpSpPr>
            <p:grpSpPr>
              <a:xfrm>
                <a:off x="7812000" y="4005360"/>
                <a:ext cx="825480" cy="803160"/>
                <a:chOff x="7812000" y="4005360"/>
                <a:chExt cx="825480" cy="803160"/>
              </a:xfrm>
            </p:grpSpPr>
            <p:pic>
              <p:nvPicPr>
                <p:cNvPr id="584" name="Picture 27" descr="circuler_1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7812000" y="400536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5" name="Oval 28"/>
                <p:cNvSpPr/>
                <p:nvPr/>
              </p:nvSpPr>
              <p:spPr>
                <a:xfrm>
                  <a:off x="7812000" y="400536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86" name="Picture 29" descr="Picture2"/>
              <p:cNvPicPr/>
              <p:nvPr/>
            </p:nvPicPr>
            <p:blipFill>
              <a:blip r:embed="rId6"/>
              <a:stretch/>
            </p:blipFill>
            <p:spPr>
              <a:xfrm>
                <a:off x="7894440" y="401292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87" name="WordArt 30"/>
            <p:cNvSpPr txBox="1"/>
            <p:nvPr/>
          </p:nvSpPr>
          <p:spPr>
            <a:xfrm>
              <a:off x="8119800" y="4221360"/>
              <a:ext cx="2286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3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grpSp>
        <p:nvGrpSpPr>
          <p:cNvPr id="588" name="Group 31"/>
          <p:cNvGrpSpPr/>
          <p:nvPr/>
        </p:nvGrpSpPr>
        <p:grpSpPr>
          <a:xfrm>
            <a:off x="7885080" y="5373720"/>
            <a:ext cx="825480" cy="803160"/>
            <a:chOff x="7885080" y="5373720"/>
            <a:chExt cx="825480" cy="803160"/>
          </a:xfrm>
        </p:grpSpPr>
        <p:grpSp>
          <p:nvGrpSpPr>
            <p:cNvPr id="589" name="Group 32"/>
            <p:cNvGrpSpPr/>
            <p:nvPr/>
          </p:nvGrpSpPr>
          <p:grpSpPr>
            <a:xfrm>
              <a:off x="7885080" y="5373720"/>
              <a:ext cx="825480" cy="803160"/>
              <a:chOff x="7885080" y="5373720"/>
              <a:chExt cx="825480" cy="803160"/>
            </a:xfrm>
          </p:grpSpPr>
          <p:grpSp>
            <p:nvGrpSpPr>
              <p:cNvPr id="590" name="Group 33"/>
              <p:cNvGrpSpPr/>
              <p:nvPr/>
            </p:nvGrpSpPr>
            <p:grpSpPr>
              <a:xfrm>
                <a:off x="7885080" y="5373720"/>
                <a:ext cx="825480" cy="803160"/>
                <a:chOff x="7885080" y="5373720"/>
                <a:chExt cx="825480" cy="803160"/>
              </a:xfrm>
            </p:grpSpPr>
            <p:pic>
              <p:nvPicPr>
                <p:cNvPr id="591" name="Picture 34" descr="circuler_1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885080" y="5373720"/>
                  <a:ext cx="825480" cy="800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2" name="Oval 35"/>
                <p:cNvSpPr/>
                <p:nvPr/>
              </p:nvSpPr>
              <p:spPr>
                <a:xfrm>
                  <a:off x="7885080" y="5373720"/>
                  <a:ext cx="820080" cy="80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be0e3"/>
                    </a:gs>
                    <a:gs pos="100000">
                      <a:srgbClr val="333399"/>
                    </a:gs>
                  </a:gsLst>
                  <a:lin ang="5400000"/>
                </a:gradFill>
                <a:ln w="190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93" name="Picture 36" descr="Picture2"/>
              <p:cNvPicPr/>
              <p:nvPr/>
            </p:nvPicPr>
            <p:blipFill>
              <a:blip r:embed="rId8"/>
              <a:stretch/>
            </p:blipFill>
            <p:spPr>
              <a:xfrm>
                <a:off x="7967520" y="5381280"/>
                <a:ext cx="651960" cy="283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94" name="WordArt 37"/>
            <p:cNvSpPr txBox="1"/>
            <p:nvPr/>
          </p:nvSpPr>
          <p:spPr>
            <a:xfrm>
              <a:off x="8155080" y="5589720"/>
              <a:ext cx="266400" cy="323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ffffff"/>
                    </a:solidFill>
                    <a:round/>
                  </a:ln>
                  <a:solidFill>
                    <a:srgbClr val="ffffff"/>
                  </a:solidFill>
                  <a:latin typeface="黑体"/>
                </a:rPr>
                <a:t>4</a:t>
              </a:r>
              <a:endParaRPr b="0" lang="en-US" sz="2400" spc="1" strike="noStrike">
                <a:ln w="9360">
                  <a:solidFill>
                    <a:srgbClr val="ffffff"/>
                  </a:solidFill>
                  <a:round/>
                </a:ln>
                <a:solidFill>
                  <a:srgbClr val="ffffff"/>
                </a:solidFill>
                <a:latin typeface="黑体"/>
                <a:ea typeface="黑体"/>
              </a:endParaRPr>
            </a:p>
          </p:txBody>
        </p:sp>
      </p:grpSp>
      <p:sp>
        <p:nvSpPr>
          <p:cNvPr id="595" name="Text Box 38"/>
          <p:cNvSpPr/>
          <p:nvPr/>
        </p:nvSpPr>
        <p:spPr>
          <a:xfrm>
            <a:off x="4941720" y="1349280"/>
            <a:ext cx="2511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帮助解决群众反映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39"/>
          <p:cNvSpPr/>
          <p:nvPr/>
        </p:nvSpPr>
        <p:spPr>
          <a:xfrm>
            <a:off x="5148360" y="2708280"/>
            <a:ext cx="233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调解民间纠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40"/>
          <p:cNvSpPr/>
          <p:nvPr/>
        </p:nvSpPr>
        <p:spPr>
          <a:xfrm>
            <a:off x="5005440" y="3718080"/>
            <a:ext cx="24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解决劳动者与用人单位的纠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1"/>
          <p:cNvSpPr/>
          <p:nvPr/>
        </p:nvSpPr>
        <p:spPr>
          <a:xfrm>
            <a:off x="5148360" y="5086440"/>
            <a:ext cx="241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宋体"/>
              </a:rPr>
              <a:t>援助无力支付法律服务费用的打官司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9" name=""/>
          <p:cNvGrpSpPr/>
          <p:nvPr/>
        </p:nvGrpSpPr>
        <p:grpSpPr>
          <a:xfrm>
            <a:off x="3635280" y="1773360"/>
            <a:ext cx="1584360" cy="4248000"/>
            <a:chOff x="3635280" y="1773360"/>
            <a:chExt cx="1584360" cy="4248000"/>
          </a:xfrm>
        </p:grpSpPr>
        <p:sp>
          <p:nvSpPr>
            <p:cNvPr id="600" name="Line 42"/>
            <p:cNvSpPr/>
            <p:nvPr/>
          </p:nvSpPr>
          <p:spPr>
            <a:xfrm>
              <a:off x="3635280" y="1773360"/>
              <a:ext cx="1584360" cy="4248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3635280" y="1773360"/>
              <a:ext cx="1584360" cy="424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3347640" y="2133720"/>
            <a:ext cx="1800720" cy="1224000"/>
            <a:chOff x="3347640" y="2133720"/>
            <a:chExt cx="1800720" cy="1224000"/>
          </a:xfrm>
        </p:grpSpPr>
        <p:sp>
          <p:nvSpPr>
            <p:cNvPr id="603" name="Line 43"/>
            <p:cNvSpPr/>
            <p:nvPr/>
          </p:nvSpPr>
          <p:spPr>
            <a:xfrm flipV="1">
              <a:off x="3348000" y="2133720"/>
              <a:ext cx="1800360" cy="1224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 rot="10800000">
              <a:off x="3347640" y="2133720"/>
              <a:ext cx="180036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3780000" y="3212640"/>
            <a:ext cx="1512720" cy="1079640"/>
            <a:chOff x="3780000" y="3212640"/>
            <a:chExt cx="1512720" cy="1079640"/>
          </a:xfrm>
        </p:grpSpPr>
        <p:sp>
          <p:nvSpPr>
            <p:cNvPr id="606" name="Line 44"/>
            <p:cNvSpPr/>
            <p:nvPr/>
          </p:nvSpPr>
          <p:spPr>
            <a:xfrm flipV="1">
              <a:off x="3780000" y="3212640"/>
              <a:ext cx="1512720" cy="1079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 rot="10800000">
              <a:off x="3780000" y="3212640"/>
              <a:ext cx="1512720" cy="107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3708360" y="4941720"/>
            <a:ext cx="1295280" cy="1006560"/>
            <a:chOff x="3708360" y="4941720"/>
            <a:chExt cx="1295280" cy="1006560"/>
          </a:xfrm>
        </p:grpSpPr>
        <p:sp>
          <p:nvSpPr>
            <p:cNvPr id="609" name="Line 45"/>
            <p:cNvSpPr/>
            <p:nvPr/>
          </p:nvSpPr>
          <p:spPr>
            <a:xfrm flipV="1">
              <a:off x="3708360" y="4941720"/>
              <a:ext cx="1295280" cy="1006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 rot="10800000">
              <a:off x="3708360" y="4941720"/>
              <a:ext cx="1295280" cy="100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5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4" descr="214740"/>
          <p:cNvPicPr/>
          <p:nvPr/>
        </p:nvPicPr>
        <p:blipFill>
          <a:blip r:embed="rId2"/>
          <a:stretch/>
        </p:blipFill>
        <p:spPr>
          <a:xfrm>
            <a:off x="457200" y="5791320"/>
            <a:ext cx="8153280" cy="81108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2"/>
          <p:cNvSpPr/>
          <p:nvPr/>
        </p:nvSpPr>
        <p:spPr>
          <a:xfrm>
            <a:off x="468360" y="170028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青少年维护自身合法权益最常用的手段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维护自身合法权益最正规、最权威、最有效的手段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诉讼有哪几种形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、青少年怎样树立法律保护意识，增强敢于斗争、善于斗争的勇气和信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3"/>
          <p:cNvSpPr/>
          <p:nvPr/>
        </p:nvSpPr>
        <p:spPr>
          <a:xfrm>
            <a:off x="755640" y="33192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预习提示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2"/>
          <p:cNvSpPr/>
          <p:nvPr/>
        </p:nvSpPr>
        <p:spPr>
          <a:xfrm>
            <a:off x="1260360" y="5013360"/>
            <a:ext cx="518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她应该向谁求助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3"/>
          <p:cNvSpPr/>
          <p:nvPr/>
        </p:nvSpPr>
        <p:spPr>
          <a:xfrm>
            <a:off x="457200" y="76212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叫刘丽丽，今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岁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000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日爸爸妈妈离婚后，我随爸爸和奶奶生活。由于爸爸经常赌博，夜不归宿，从不关心我的学习和生活，还经常打我，生气时就用东西砸我。我告诉奶奶，奶奶说：忍忍吧，他毕竟是你爸爸，一家人的生活还得靠他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.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214740"/>
          <p:cNvPicPr/>
          <p:nvPr/>
        </p:nvPicPr>
        <p:blipFill>
          <a:blip r:embed="rId2"/>
          <a:stretch/>
        </p:blipFill>
        <p:spPr>
          <a:xfrm>
            <a:off x="457200" y="5791320"/>
            <a:ext cx="815328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2" descr="a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5105520"/>
            <a:ext cx="9144000" cy="1752480"/>
          </a:xfrm>
          <a:prstGeom prst="rect">
            <a:avLst/>
          </a:prstGeom>
          <a:ln w="0">
            <a:noFill/>
          </a:ln>
        </p:spPr>
      </p:pic>
      <p:sp>
        <p:nvSpPr>
          <p:cNvPr id="447" name="WordArt 3"/>
          <p:cNvSpPr txBox="1"/>
          <p:nvPr/>
        </p:nvSpPr>
        <p:spPr>
          <a:xfrm>
            <a:off x="2362320" y="609480"/>
            <a:ext cx="4038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求助有路 </a:t>
            </a:r>
            <a:endParaRPr b="1" lang="en-US" sz="40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4419720" y="1905120"/>
            <a:ext cx="30477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法律服务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律师师务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法律援助中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宋体"/>
              </a:rPr>
              <a:t>妇联、居委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Picture 5" descr="文件:32.gif  &lt;br&gt;  尺寸:80 × 100  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295280" y="1828800"/>
            <a:ext cx="2667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jiabao1"/>
          <p:cNvPicPr/>
          <p:nvPr/>
        </p:nvPicPr>
        <p:blipFill>
          <a:blip r:embed="rId1"/>
          <a:stretch/>
        </p:blipFill>
        <p:spPr>
          <a:xfrm>
            <a:off x="108000" y="1440"/>
            <a:ext cx="5141880" cy="609156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3"/>
          <p:cNvSpPr/>
          <p:nvPr/>
        </p:nvSpPr>
        <p:spPr>
          <a:xfrm>
            <a:off x="5364000" y="117360"/>
            <a:ext cx="3505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戚朋友、街坊邻居也看不下去，都说爸爸不对。我将这些事告诉了老师，老师也带我去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妇联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说明了情况，妇联也找父亲协商调解。可爸爸对我却变本加厉，经常无缘无故就打我。我睡在潮湿有异味的棉被毯子里，里面有许多跳蚤，咬得我全身上下起红块，没一个晚上有安宁觉睡，痒得我直抓，旧疤不好又添新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250920" y="6165720"/>
            <a:ext cx="56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她采取了什么手段维护自身权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3"/>
          <p:cNvSpPr/>
          <p:nvPr/>
        </p:nvSpPr>
        <p:spPr>
          <a:xfrm>
            <a:off x="533520" y="304920"/>
            <a:ext cx="79246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304920" y="1371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非诉讼手段：</a:t>
            </a:r>
            <a:r>
              <a:rPr b="1" lang="zh-CN" sz="4000" spc="-1" strike="noStrike">
                <a:solidFill>
                  <a:srgbClr val="ff3300"/>
                </a:solidFill>
                <a:latin typeface="华文细黑"/>
                <a:ea typeface="华文细黑"/>
              </a:rPr>
              <a:t>常用的有效手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609480" y="2362320"/>
            <a:ext cx="8001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、它通过向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华文细黑"/>
              </a:rPr>
              <a:t>政府有关部门，司法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华文细黑"/>
              </a:rPr>
              <a:t>关、人民团体、有关社会团体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等各方面反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问题，寻求帮助；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762120" y="4495680"/>
            <a:ext cx="80010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、或者通过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华文细黑"/>
              </a:rPr>
              <a:t>调解、仲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等方式，解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华文细黑"/>
              </a:rPr>
              <a:t>争议、纠纷，保障公民权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Picture 2" descr="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68400" cy="152388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"/>
          <p:cNvSpPr/>
          <p:nvPr/>
        </p:nvSpPr>
        <p:spPr>
          <a:xfrm>
            <a:off x="1600200" y="1295280"/>
            <a:ext cx="6553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1066680" y="7621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他为什么这样做？难道我是一个女孩就这么令人讨厌，打骂已成家常便饭，我想到了反抗，可又不知道怎么做？一天傍晚，我无意中发现了奶奶的安眠药，拿着药瓶我想了很久，也想了很多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…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2438280" y="83808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我把瓶里的药都吞了下去，我要让他知道，我不是他的出气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3"/>
          <p:cNvSpPr/>
          <p:nvPr/>
        </p:nvSpPr>
        <p:spPr>
          <a:xfrm>
            <a:off x="2362320" y="236232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可我自杀没能成功，因为药太少，第二天早上，我被爸爸的一顿暴打给打醒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2514600" y="4419720"/>
            <a:ext cx="426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宋体"/>
              </a:rPr>
              <a:t>请同学们为刘丽丽想办法，她还可以通过什么手段维护自身权益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WordArt 5"/>
          <p:cNvSpPr txBox="1"/>
          <p:nvPr/>
        </p:nvSpPr>
        <p:spPr>
          <a:xfrm rot="5400000">
            <a:off x="-723960" y="2857320"/>
            <a:ext cx="4419360" cy="1143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00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出谋划策</a:t>
            </a:r>
            <a:endParaRPr b="1" i="1" lang="en-US" sz="1800" spc="1" strike="noStrike">
              <a:ln w="9360">
                <a:solidFill>
                  <a:srgbClr val="00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611280" y="162864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99"/>
                </a:solidFill>
                <a:latin typeface="Arial"/>
                <a:ea typeface="幼圆"/>
              </a:rPr>
              <a:t>         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幼圆"/>
              </a:rPr>
              <a:t>“</a:t>
            </a: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幼圆"/>
              </a:rPr>
              <a:t>打官司”指的是诉讼，是人民法院主持有利害关系人参与的处理纠纷的程序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3"/>
          <p:cNvSpPr/>
          <p:nvPr/>
        </p:nvSpPr>
        <p:spPr>
          <a:xfrm>
            <a:off x="612720" y="69228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宋体"/>
              </a:rPr>
              <a:t>敢打官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755640" y="378936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宋体"/>
              </a:rPr>
              <a:t>诉讼是 维护我们合法权益最正规、最权威、最有效的一种手段 ，是保护我们权益的最后屏障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文本框 8200"/>
          <p:cNvSpPr/>
          <p:nvPr/>
        </p:nvSpPr>
        <p:spPr>
          <a:xfrm>
            <a:off x="3462480" y="816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cc"/>
                </a:solidFill>
                <a:uFillTx/>
                <a:latin typeface="Times New Roman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 </a:t>
            </a:r>
            <a:r>
              <a:rPr b="0" lang="zh-CN" sz="1600" spc="-1" strike="noStrike">
                <a:solidFill>
                  <a:srgbClr val="161616"/>
                </a:solidFill>
                <a:latin typeface="Times New Roman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1:00:42Z</dcterms:created>
  <dc:creator>幻灯片之家：www.eept.com</dc:creator>
  <dc:description>幻灯片之家：www.eept.com</dc:description>
  <cp:keywords>幻灯片之家：www.eept.com</cp:keywords>
  <dc:language>en-US</dc:language>
  <cp:lastModifiedBy>pc</cp:lastModifiedBy>
  <dcterms:modified xsi:type="dcterms:W3CDTF">2016-06-30T08:47:09Z</dcterms:modified>
  <cp:revision>22</cp:revision>
  <dc:subject>幻灯片之家：www.eept.com</dc:subject>
  <dc:title>幻灯片之家：www.ee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