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F6C-EE1B-4E67-B140-C6B9B074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501-BA58-41DC-A664-BAD1EE9C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2012-3AAB-43E2-AF18-DF5D9219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A19-209E-42F0-A08D-870855D6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5280-8B8C-47F1-96C7-B7392B0F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E3F0-ABFE-4B42-B337-0E6923C0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B12A-B5F9-49C9-A449-C330F3CA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15A0-2F80-463F-A40D-24A0CA75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101A-050D-4574-AA6B-EEC6FEA6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6E39-953E-4D9E-8006-D3F560B6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E1CB-BC33-4730-B29C-65D31188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E4B-C17D-48D5-8F83-2D48ABD8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0F3A-216F-41B1-A227-B1957227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56F3-D4A4-492D-85C0-60EBADA9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F39F-399B-477C-9C5D-587103C6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1635-5241-45D6-8694-2574983A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4C3D-5125-407B-B3CF-8ED4421F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AE0-D96D-4748-AA6A-D096EA76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FD1-E4E0-46CD-91A8-2A867ED1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5B6-EE97-4B56-B1DE-62ACD4AD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2D6-C64C-4D39-8E78-89A65A19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54A6-B16B-49BC-9F21-5DCC911B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063-A283-4A85-923A-1C1FE97D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226-71F3-4BE9-ADA4-825C0730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78AA-AE03-4D73-9E55-E4D5108E0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1EF0-7282-43F3-9FA4-A596830D12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jj_yuxiang.r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b_AC505BF6BD784970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jj_jj.MP3" descr=""/>
          <p:cNvPicPr/>
          <p:nvPr/>
        </p:nvPicPr>
        <p:blipFill>
          <a:blip r:embed="rId2"/>
          <a:stretch/>
        </p:blipFill>
        <p:spPr>
          <a:xfrm>
            <a:off x="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468360" y="6381720"/>
            <a:ext cx="53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文本框 1" descr=""/>
          <p:cNvPicPr/>
          <p:nvPr/>
        </p:nvPicPr>
        <p:blipFill>
          <a:blip r:embed="rId3"/>
          <a:stretch/>
        </p:blipFill>
        <p:spPr>
          <a:xfrm>
            <a:off x="1081080" y="1174680"/>
            <a:ext cx="744552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6"/>
          <p:cNvSpPr txBox="1"/>
          <p:nvPr/>
        </p:nvSpPr>
        <p:spPr>
          <a:xfrm>
            <a:off x="1979640" y="2421000"/>
            <a:ext cx="590544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彩云"/>
              </a:rPr>
              <a:t>在水一方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50920" y="620640"/>
            <a:ext cx="88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绿草苍苍　白雾茫茫　有位佳人　在水一方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绿草萋萋　白雾迷离　有位佳人　靠水而居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我愿逆流而上　依偎在她身旁　无奈前有险滩　道路又远又长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我愿顺流而下　找寻她的方向　却见依稀彷佛　她在水的中央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绿草苍苍　白雾茫茫　有位佳人　在水一方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我愿逆流而上　与她轻言细语　无奈前有险滩　道路曲折无已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我愿顺流而下　找寻她的踪迹　却见彷佛依稀　她在水中伫立 </a:t>
            </a:r>
            <a:br>
              <a:rPr sz="2800"/>
            </a:b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绿草苍苍　白雾茫茫　有位佳人　在水一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8198"/>
          <p:cNvSpPr/>
          <p:nvPr/>
        </p:nvSpPr>
        <p:spPr>
          <a:xfrm>
            <a:off x="2340000" y="19177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030"/>
          <p:cNvSpPr/>
          <p:nvPr/>
        </p:nvSpPr>
        <p:spPr>
          <a:xfrm>
            <a:off x="-252360" y="189000"/>
            <a:ext cx="3635280" cy="3600360"/>
          </a:xfrm>
          <a:prstGeom prst="verticalScroll">
            <a:avLst>
              <a:gd name="adj" fmla="val 11166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31"/>
          <p:cNvSpPr/>
          <p:nvPr/>
        </p:nvSpPr>
        <p:spPr>
          <a:xfrm>
            <a:off x="3166920" y="260280"/>
            <a:ext cx="5977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经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我国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第一部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歌总集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共收入自西周初年至春秋中叶大约五百多年的诗歌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5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篇。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经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共有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风、雅、颂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三个部分。其中风包括十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国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有诗</a:t>
            </a:r>
            <a:r>
              <a:rPr b="1" lang="en-US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160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篇；雅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大雅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小雅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有诗</a:t>
            </a:r>
            <a:r>
              <a:rPr b="1" lang="en-US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105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篇；颂分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周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鲁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商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有诗</a:t>
            </a:r>
            <a:r>
              <a:rPr b="1" lang="en-US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篇。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经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我国文学光辉的起点，是我国文学发达很早的标志，它所表现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饥者歌其食，劳者歌其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现实主义精神对后世文学影响最大。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经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我国乃至世界文化史上都占有极高的地位。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32"/>
          <p:cNvSpPr/>
          <p:nvPr/>
        </p:nvSpPr>
        <p:spPr>
          <a:xfrm>
            <a:off x="0" y="465300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经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表现手法，前人概括为</a:t>
            </a: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赋、比、兴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朱熹在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诗集传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中解释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赋者，敷陈其事而直言之者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比者，以此物比彼物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兴者，先言他物以引起所咏之词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这种解释比较通行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33">
            <a:hlinkClick r:id="" action="ppaction://hlinkshowjump?jump=first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3794" y="11916"/>
                </a:moveTo>
                <a:lnTo>
                  <a:pt x="17806" y="4910"/>
                </a:lnTo>
                <a:lnTo>
                  <a:pt x="17806" y="1892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无标题"/>
          <p:cNvPicPr/>
          <p:nvPr/>
        </p:nvPicPr>
        <p:blipFill>
          <a:blip r:embed="rId1"/>
          <a:stretch/>
        </p:blipFill>
        <p:spPr>
          <a:xfrm>
            <a:off x="4280040" y="0"/>
            <a:ext cx="486396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0" y="0"/>
            <a:ext cx="6408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蒹葭苍苍，白露为霜。所谓伊人，在水一方。溯洄从之，道阻且长。溯游从之，宛在水中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蒹葭萋萋，白露未晞。所谓伊人，在水之湄。溯洄从之，道阻且跻。溯游从之，宛在水中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蒹葭采采，白露未已。所谓伊人，在水之泗。 溯洄从之，道阻且右。溯游从之，宛在水中址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8198"/>
          <p:cNvSpPr/>
          <p:nvPr/>
        </p:nvSpPr>
        <p:spPr>
          <a:xfrm>
            <a:off x="828720" y="16286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26" descr="无标题"/>
          <p:cNvPicPr/>
          <p:nvPr/>
        </p:nvPicPr>
        <p:blipFill>
          <a:blip r:embed="rId1"/>
          <a:stretch/>
        </p:blipFill>
        <p:spPr>
          <a:xfrm>
            <a:off x="4280040" y="0"/>
            <a:ext cx="486396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27"/>
          <p:cNvSpPr/>
          <p:nvPr/>
        </p:nvSpPr>
        <p:spPr>
          <a:xfrm>
            <a:off x="0" y="0"/>
            <a:ext cx="6408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蒹葭</a:t>
            </a:r>
            <a:r>
              <a:rPr b="0" lang="zh-CN" sz="3200" spc="-1" strike="noStrike">
                <a:solidFill>
                  <a:srgbClr val="ff66cc"/>
                </a:solidFill>
                <a:latin typeface="Arial"/>
                <a:ea typeface="隶书"/>
              </a:rPr>
              <a:t>苍苍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，白露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隶书"/>
              </a:rPr>
              <a:t>为霜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所谓伊人，在水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一方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溯洄从之，道阻且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隶书"/>
              </a:rPr>
              <a:t>长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溯游从之，宛在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隶书"/>
              </a:rPr>
              <a:t>水中央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蒹葭</a:t>
            </a:r>
            <a:r>
              <a:rPr b="0" lang="zh-CN" sz="3200" spc="-1" strike="noStrike">
                <a:solidFill>
                  <a:srgbClr val="ff66cc"/>
                </a:solidFill>
                <a:latin typeface="Arial"/>
                <a:ea typeface="隶书"/>
              </a:rPr>
              <a:t>萋萋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，白露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隶书"/>
              </a:rPr>
              <a:t>未晞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所谓伊人，在水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之湄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溯洄从之，道阻且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隶书"/>
              </a:rPr>
              <a:t>跻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溯游从之，宛在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隶书"/>
              </a:rPr>
              <a:t>水中坻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蒹葭</a:t>
            </a:r>
            <a:r>
              <a:rPr b="0" lang="zh-CN" sz="3200" spc="-1" strike="noStrike">
                <a:solidFill>
                  <a:srgbClr val="ff66cc"/>
                </a:solidFill>
                <a:latin typeface="Arial"/>
                <a:ea typeface="隶书"/>
              </a:rPr>
              <a:t>采采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，白露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  <a:ea typeface="隶书"/>
              </a:rPr>
              <a:t>未已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所谓伊人，在水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隶书"/>
              </a:rPr>
              <a:t>之涘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 溯洄从之，道阻且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隶书"/>
              </a:rPr>
              <a:t>右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溯游从之，宛在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隶书"/>
              </a:rPr>
              <a:t>水中沚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250920" y="333360"/>
            <a:ext cx="8893080" cy="46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雨 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撑着油纸伞，独自彷徨在悠长，悠长 又寂寥的雨巷，我希望逢着一个丁香一样地 结着愁怨的姑娘。 她是有丁香一样的颜色，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丁香一样的芬芳，丁香一样的忧愁， 在雨中哀怨， 哀怨又彷徨；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彷徨在这寂寥的雨巷 撑着油纸伞像我一样， 像我一样地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默行着 冷漠，凄清，又惆怅。 她静默地走近 走近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投出太息一般的眼光， 她飘过 像梦一般地，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梦一般地凄婉迷茫。 像梦中飘过 一枝丁香地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身旁飘过这女郎； 她静默地远了，远了， 到了颓圮的篱墙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尽这雨巷。 在雨的哀曲里，消了她的颜色， 散了她的芬芳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散了，甚至她的 太息般的眼光， 丁香般的惆怅。撑着油纸伞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独自 彷徨在悠长，悠长 又寂寥的雨巷， 我希望飘过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丁香一样地结着愁怨的姑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B853-4F6F-44E4-BD1C-EB69C4040A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79280" y="692280"/>
            <a:ext cx="87138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                      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关     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求之不得，寤寐思服。悠哉悠哉。辗转反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参差荇菜，左右毛之。窈窕淑女。钟鼓乐之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2:29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46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