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3.png" ContentType="image/png"/>
  <Override PartName="/ppt/media/image21.png" ContentType="image/png"/>
  <Override PartName="/ppt/media/image19.jpeg" ContentType="image/jpeg"/>
  <Override PartName="/ppt/media/image17.png" ContentType="image/png"/>
  <Override PartName="/ppt/media/chime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9BB-F0E6-42B5-B497-DFE05A25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998-D15B-4063-AEC6-0928F279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D24-6407-425D-9B59-4BC809E1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139-4EA8-4DE1-84D6-2DE995FA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576-C9AD-4DF1-9A11-4EE4C1EC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5C8-6CB6-4FAD-83D3-5887EDF4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791-12D2-41CE-B9E7-C6A5AE4B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81C-9870-437A-A2EC-3B601EB5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980E-B5C3-4C1D-8C8D-7849E38C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794-8EE5-4F99-9B64-54BC5965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261-FE44-4BA9-A3E7-13E4DD9F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D8B-D063-4F3A-9927-1D9EC9D4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CAA8-2BA2-494C-9A94-F6B8FAD6F7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&#29289;&#29702;&#19982;&#29983;&#27963;.rm" TargetMode="Externa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2050920" y="2276640"/>
            <a:ext cx="4319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318960" y="1844640"/>
            <a:ext cx="83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 声的利用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1"/>
          <p:cNvSpPr/>
          <p:nvPr/>
        </p:nvSpPr>
        <p:spPr>
          <a:xfrm>
            <a:off x="2322360" y="836640"/>
            <a:ext cx="43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二章　声现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图片 2" descr=""/>
          <p:cNvPicPr/>
          <p:nvPr/>
        </p:nvPicPr>
        <p:blipFill>
          <a:blip r:embed="rId1"/>
          <a:stretch/>
        </p:blipFill>
        <p:spPr>
          <a:xfrm>
            <a:off x="2322360" y="3062160"/>
            <a:ext cx="4206960" cy="2986200"/>
          </a:xfrm>
          <a:prstGeom prst="rect">
            <a:avLst/>
          </a:prstGeom>
          <a:ln w="0">
            <a:noFill/>
          </a:ln>
        </p:spPr>
      </p:pic>
      <p:sp>
        <p:nvSpPr>
          <p:cNvPr id="51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4824360" y="1989000"/>
            <a:ext cx="4319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755640" y="105264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点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声与能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课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--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“声与能量”部分内容，进一步明确声能的应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超声波产生的比可闻声振动频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常用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2008080314480575"/>
          <p:cNvPicPr/>
          <p:nvPr/>
        </p:nvPicPr>
        <p:blipFill>
          <a:blip r:embed="rId1"/>
          <a:stretch/>
        </p:blipFill>
        <p:spPr>
          <a:xfrm>
            <a:off x="304920" y="380880"/>
            <a:ext cx="4105080" cy="41054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562" name="Rectangle 3"/>
          <p:cNvSpPr/>
          <p:nvPr/>
        </p:nvSpPr>
        <p:spPr>
          <a:xfrm>
            <a:off x="990720" y="4419000"/>
            <a:ext cx="3047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超声波加湿器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6040080" y="4191120"/>
            <a:ext cx="2145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型超声波清洗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5486400" y="54561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清洗物件：电子产品、机械五金配件、眼镜、首饰、钟表、钱币、水果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228600" y="5422680"/>
            <a:ext cx="432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超声波加湿器采用超声波高频振荡原理将水雾化为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微米的超微粒子，通过风动装置，将水雾扩散到空气中，从而达到均匀加湿空气的目的。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7" descr="%E5%B0%8F%E5%9E%8B%E8%B6%85%E5%A3%B0%E6%B3%A2%E6%B8%85%E6%B4%97%E6%9C%BA+%28VGT-1730QT%29"/>
          <p:cNvPicPr/>
          <p:nvPr/>
        </p:nvPicPr>
        <p:blipFill>
          <a:blip r:embed="rId2"/>
          <a:stretch/>
        </p:blipFill>
        <p:spPr>
          <a:xfrm>
            <a:off x="4876920" y="380880"/>
            <a:ext cx="4032000" cy="38260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67" name="Text Box 8"/>
          <p:cNvSpPr/>
          <p:nvPr/>
        </p:nvSpPr>
        <p:spPr>
          <a:xfrm>
            <a:off x="0" y="0"/>
            <a:ext cx="2209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声传递能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8199"/>
          <p:cNvSpPr/>
          <p:nvPr/>
        </p:nvSpPr>
        <p:spPr>
          <a:xfrm>
            <a:off x="2303640" y="4608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200911435151017"/>
          <p:cNvPicPr/>
          <p:nvPr/>
        </p:nvPicPr>
        <p:blipFill>
          <a:blip r:embed="rId1"/>
          <a:stretch/>
        </p:blipFill>
        <p:spPr>
          <a:xfrm>
            <a:off x="228600" y="533520"/>
            <a:ext cx="5329080" cy="304776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570" name="Picture 3" descr="ss33"/>
          <p:cNvPicPr/>
          <p:nvPr/>
        </p:nvPicPr>
        <p:blipFill>
          <a:blip r:embed="rId2"/>
          <a:stretch/>
        </p:blipFill>
        <p:spPr>
          <a:xfrm>
            <a:off x="533520" y="3657600"/>
            <a:ext cx="4824360" cy="274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71" name="Rectangle 4"/>
          <p:cNvSpPr/>
          <p:nvPr/>
        </p:nvSpPr>
        <p:spPr>
          <a:xfrm>
            <a:off x="6492600" y="533880"/>
            <a:ext cx="191808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声波碎石机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向人体内的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发射超声波，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石会被击成细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的粉末，从而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以顺畅地排出体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5" descr="ssk2"/>
          <p:cNvPicPr/>
          <p:nvPr/>
        </p:nvPicPr>
        <p:blipFill>
          <a:blip r:embed="rId3"/>
          <a:stretch/>
        </p:blipFill>
        <p:spPr>
          <a:xfrm>
            <a:off x="5486400" y="3809880"/>
            <a:ext cx="3024360" cy="2343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73" name="Text Box 6"/>
          <p:cNvSpPr/>
          <p:nvPr/>
        </p:nvSpPr>
        <p:spPr>
          <a:xfrm>
            <a:off x="0" y="0"/>
            <a:ext cx="2209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声传递能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200841811313552891"/>
          <p:cNvPicPr/>
          <p:nvPr/>
        </p:nvPicPr>
        <p:blipFill>
          <a:blip r:embed="rId1"/>
          <a:stretch/>
        </p:blipFill>
        <p:spPr>
          <a:xfrm>
            <a:off x="4038480" y="3352680"/>
            <a:ext cx="3810240" cy="2622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d67f6ca87c88b4e51f17a260"/>
          <p:cNvPicPr/>
          <p:nvPr/>
        </p:nvPicPr>
        <p:blipFill>
          <a:blip r:embed="rId2"/>
          <a:stretch/>
        </p:blipFill>
        <p:spPr>
          <a:xfrm>
            <a:off x="914400" y="609480"/>
            <a:ext cx="3384720" cy="464832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914400" y="52578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声波点歌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5181480" y="2819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声波吹灰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11002262_1"/>
          <p:cNvPicPr/>
          <p:nvPr/>
        </p:nvPicPr>
        <p:blipFill>
          <a:blip r:embed="rId3"/>
          <a:stretch/>
        </p:blipFill>
        <p:spPr>
          <a:xfrm>
            <a:off x="4572000" y="380880"/>
            <a:ext cx="3429000" cy="249264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7"/>
          <p:cNvSpPr/>
          <p:nvPr/>
        </p:nvSpPr>
        <p:spPr>
          <a:xfrm>
            <a:off x="4114800" y="57913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家用声波清洗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0" y="0"/>
            <a:ext cx="2209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声传递能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2005451249078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441972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3"/>
          <p:cNvSpPr/>
          <p:nvPr/>
        </p:nvSpPr>
        <p:spPr>
          <a:xfrm>
            <a:off x="1219320" y="54100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超声波能提高发芽率，缩短发芽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0" y="0"/>
            <a:ext cx="2209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声传递能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4"/>
          <p:cNvSpPr/>
          <p:nvPr/>
        </p:nvSpPr>
        <p:spPr>
          <a:xfrm>
            <a:off x="468360" y="836640"/>
            <a:ext cx="806436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科学世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己阅读科学世界，回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下面的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天坛的回音壁和圜坛都是利用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2050920" y="2276640"/>
            <a:ext cx="4319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0" y="76500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说法中不正确的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强超声波对钢铁、宝石、金刚石等坚硬物体进行钻孔和切割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建筑方面，设计、建造大厅堂时，必须把回声现象作为重要因素加以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石油勘探时，常采用人工地震的方法，即在地面上埋好炸药包，放上一个探头，把炸药引爆，探头就可以接受到地下不同层间界面反射回来的声波，从而探测出地下油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超声波能够预报地震、侦察台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4788000" y="126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WordArt 5"/>
          <p:cNvSpPr txBox="1"/>
          <p:nvPr/>
        </p:nvSpPr>
        <p:spPr>
          <a:xfrm>
            <a:off x="179280" y="549360"/>
            <a:ext cx="18288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达标测试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2050920" y="2276640"/>
            <a:ext cx="4319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822240"/>
            <a:ext cx="88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医用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超机利用超声波来诊断病情，但人耳听不到它的声音，这是因为   （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的响度太大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的频率低于人耳能听到的频率范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的音调太低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的频率太高，人不能觉察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有一种电子牙刷，如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示，它能发出超声波，直达牙刷棕毛刷不到的地方，这样刷牙既干净又舒服。关于电子牙刷，正确的说法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刷牙时，人听不到超声波，是因为超声波不能在空气中传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超声波的音调很低，所以人听不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超声波不是由物体振动产生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超声波能传递能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4572000" y="1341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6084720" y="436572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WordArt 7"/>
          <p:cNvSpPr txBox="1"/>
          <p:nvPr/>
        </p:nvSpPr>
        <p:spPr>
          <a:xfrm>
            <a:off x="179280" y="0"/>
            <a:ext cx="18288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达标测试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4"/>
          <p:cNvSpPr/>
          <p:nvPr/>
        </p:nvSpPr>
        <p:spPr>
          <a:xfrm>
            <a:off x="250920" y="105264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．超声波是人耳听不见的声音，但它在许多方面有着广泛的应用．下列设备中，利用超声波工作的是（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．验钞机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．微波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．电视摇控器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．潜艇上的声呐系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6012000" y="234936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5796000" y="23493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563256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5076720" y="2781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WordArt 9"/>
          <p:cNvSpPr txBox="1"/>
          <p:nvPr/>
        </p:nvSpPr>
        <p:spPr>
          <a:xfrm>
            <a:off x="0" y="189000"/>
            <a:ext cx="18288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达标测试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4"/>
          <p:cNvSpPr/>
          <p:nvPr/>
        </p:nvSpPr>
        <p:spPr>
          <a:xfrm>
            <a:off x="250920" y="704880"/>
            <a:ext cx="88930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频率很高的超声波具有很好的方向性（即集中在一定的方向上传播），坚硬物（如石块）容易吸收超声波而被粉碎，松软的物质则能让其通过．目前医学上治疗肾结石，可以不必做外科手术，只需用超声波碎石的办法，无损伤地将石块击碎而自然地从人体内排出，下列关于超声波的说法中，正确的是（ 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超声波的频率高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0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我们的耳朵听不到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超声波的频率高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我们的耳朵能听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发生超声波的物体的振幅比发出次声波物体的振幅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如果发出超声波的物体振动的振幅很大，我们就能听到它发出的声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-92160" y="480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6084720" y="2852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WordArt 7"/>
          <p:cNvSpPr txBox="1"/>
          <p:nvPr/>
        </p:nvSpPr>
        <p:spPr>
          <a:xfrm>
            <a:off x="0" y="189000"/>
            <a:ext cx="18288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达标测试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2050920" y="2276640"/>
            <a:ext cx="4319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2700360" y="2565360"/>
            <a:ext cx="46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0" y="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诊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0" y="620640"/>
            <a:ext cx="9144000" cy="60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很多人喜欢听宋祖英唱的民歌，只要听到广播播放她的歌声就能知道这是宋祖英唱的，他们是根据声音的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来分辨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新年联欢会上，小王在演出前调节二胡弦的松紧程度，他是在调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音调 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响度 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音色 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振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关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声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以下说法正确的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回声的传播速度小于原声的传播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声音在真空中的传播速度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物体振动得越快，声音的传播速度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声音的传播速度与物体振动的幅度无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用大小不同的力按同一个琴键发出的声音不同的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声速 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 音调 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响度  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音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2824200" y="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468360" y="155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音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2627280" y="2349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6300720" y="3141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9051840" y="537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468360" y="5805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0" y="6094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下列例子是怎样利用声？声起到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3"/>
          <p:cNvGrpSpPr/>
          <p:nvPr/>
        </p:nvGrpSpPr>
        <p:grpSpPr>
          <a:xfrm>
            <a:off x="152280" y="1066680"/>
            <a:ext cx="7864560" cy="5153400"/>
            <a:chOff x="152280" y="1066680"/>
            <a:chExt cx="7864560" cy="5153400"/>
          </a:xfrm>
        </p:grpSpPr>
        <p:pic>
          <p:nvPicPr>
            <p:cNvPr id="606" name="Picture 4" descr="20080530003455915"/>
            <p:cNvPicPr/>
            <p:nvPr/>
          </p:nvPicPr>
          <p:blipFill>
            <a:blip r:embed="rId1"/>
            <a:stretch/>
          </p:blipFill>
          <p:spPr>
            <a:xfrm>
              <a:off x="2895480" y="3276360"/>
              <a:ext cx="34894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 Box 5"/>
            <p:cNvSpPr/>
            <p:nvPr/>
          </p:nvSpPr>
          <p:spPr>
            <a:xfrm>
              <a:off x="4191120" y="5638680"/>
              <a:ext cx="237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cc"/>
                  </a:solidFill>
                  <a:latin typeface="仿宋_GB2312"/>
                  <a:ea typeface="仿宋_GB2312"/>
                </a:rPr>
                <a:t>声波洗水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Group 6"/>
            <p:cNvGrpSpPr/>
            <p:nvPr/>
          </p:nvGrpSpPr>
          <p:grpSpPr>
            <a:xfrm>
              <a:off x="152280" y="1066680"/>
              <a:ext cx="7864560" cy="4695840"/>
              <a:chOff x="152280" y="1066680"/>
              <a:chExt cx="7864560" cy="4695840"/>
            </a:xfrm>
          </p:grpSpPr>
          <p:pic>
            <p:nvPicPr>
              <p:cNvPr id="609" name="Picture 7" descr="209996_gz_001"/>
              <p:cNvPicPr/>
              <p:nvPr/>
            </p:nvPicPr>
            <p:blipFill>
              <a:blip r:embed="rId2"/>
              <a:stretch/>
            </p:blipFill>
            <p:spPr>
              <a:xfrm>
                <a:off x="3657600" y="1142640"/>
                <a:ext cx="4295520" cy="232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0" name="Text Box 8"/>
              <p:cNvSpPr/>
              <p:nvPr/>
            </p:nvSpPr>
            <p:spPr>
              <a:xfrm>
                <a:off x="6019560" y="3428640"/>
                <a:ext cx="199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cc"/>
                    </a:solidFill>
                    <a:latin typeface="仿宋_GB2312"/>
                    <a:ea typeface="仿宋_GB2312"/>
                  </a:rPr>
                  <a:t>B</a:t>
                </a:r>
                <a:r>
                  <a:rPr b="1" lang="zh-CN" sz="3200" spc="-1" strike="noStrike">
                    <a:solidFill>
                      <a:srgbClr val="ff33cc"/>
                    </a:solidFill>
                    <a:latin typeface="仿宋_GB2312"/>
                    <a:ea typeface="仿宋_GB2312"/>
                  </a:rPr>
                  <a:t>超检测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Group 9"/>
              <p:cNvGrpSpPr/>
              <p:nvPr/>
            </p:nvGrpSpPr>
            <p:grpSpPr>
              <a:xfrm>
                <a:off x="152280" y="1066680"/>
                <a:ext cx="3809880" cy="4695840"/>
                <a:chOff x="152280" y="1066680"/>
                <a:chExt cx="3809880" cy="4695840"/>
              </a:xfrm>
            </p:grpSpPr>
            <p:sp>
              <p:nvSpPr>
                <p:cNvPr id="612" name="Rectangle 10"/>
                <p:cNvSpPr/>
                <p:nvPr/>
              </p:nvSpPr>
              <p:spPr>
                <a:xfrm>
                  <a:off x="533160" y="5181120"/>
                  <a:ext cx="2667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ff33cc"/>
                      </a:solidFill>
                      <a:latin typeface="仿宋_GB2312"/>
                      <a:ea typeface="仿宋_GB2312"/>
                    </a:rPr>
                    <a:t>声波电动牙刷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13" name="Picture 11" descr="200891750635906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2280" y="1066680"/>
                  <a:ext cx="3809880" cy="3962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614" name="Text Box 13"/>
          <p:cNvSpPr/>
          <p:nvPr/>
        </p:nvSpPr>
        <p:spPr>
          <a:xfrm>
            <a:off x="1707120" y="5638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声传递能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4"/>
          <p:cNvSpPr/>
          <p:nvPr/>
        </p:nvSpPr>
        <p:spPr>
          <a:xfrm>
            <a:off x="6705720" y="396252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声传递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5"/>
          <p:cNvSpPr/>
          <p:nvPr/>
        </p:nvSpPr>
        <p:spPr>
          <a:xfrm>
            <a:off x="5669640" y="6095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声传递能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WordArt 16"/>
          <p:cNvSpPr txBox="1"/>
          <p:nvPr/>
        </p:nvSpPr>
        <p:spPr>
          <a:xfrm>
            <a:off x="0" y="189000"/>
            <a:ext cx="18288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达标测试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380880" y="1219320"/>
            <a:ext cx="84582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一个两端开口的纸筒一端蒙上橡皮膜，用橡皮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扎紧。对着火焰敲橡皮膜，火焰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说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下实例中不能说明声音可以传递信息的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路工人用铁锤敲击钢轨检查螺栓是否松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生用听诊器诊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牙医用超声波给病人洁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声呐探测海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5867280" y="1600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摇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2057400" y="2133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声能传递能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7620120" y="2819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WordArt 6"/>
          <p:cNvSpPr txBox="1"/>
          <p:nvPr/>
        </p:nvSpPr>
        <p:spPr>
          <a:xfrm>
            <a:off x="0" y="304920"/>
            <a:ext cx="18288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达标测试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380880" y="914400"/>
            <a:ext cx="876312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蝙蝠夜间出来活动从来不会撞到墙壁、树枝上，以下说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的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蝙蝠的眼睛有夜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晚有月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蝙蝠嗅觉很好，可以嗅出前面是否有物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蝙蝠发出超声波可以在物体上返回，根据回声就可以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定物体的位置和距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19810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304920" y="419112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列现象或做法中不能说明声可以传递能量的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蝙蝠靠超声波捕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用超声波消除肾结石患者的结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声波清洗精细的机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突然暴露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0d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噪声环境中，鼓膜破裂出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6781680" y="41911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WordArt 7"/>
          <p:cNvSpPr txBox="1"/>
          <p:nvPr/>
        </p:nvSpPr>
        <p:spPr>
          <a:xfrm>
            <a:off x="0" y="33336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达标测试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28" name="WordArt 8"/>
          <p:cNvSpPr txBox="1"/>
          <p:nvPr/>
        </p:nvSpPr>
        <p:spPr>
          <a:xfrm>
            <a:off x="0" y="304920"/>
            <a:ext cx="18288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达标测试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4"/>
          <p:cNvSpPr/>
          <p:nvPr/>
        </p:nvSpPr>
        <p:spPr>
          <a:xfrm>
            <a:off x="152280" y="1219320"/>
            <a:ext cx="86425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科学家发明的声呐系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发出超声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回声获取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发出次声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回声获取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超声波和次声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视探测物体而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生下列做法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声传递能量的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听诊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病人的心肺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病人作常规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超声波治疗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去病人体内的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4419720" y="121932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6400800" y="373392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395280" y="549360"/>
            <a:ext cx="18288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达标测试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4"/>
          <p:cNvSpPr/>
          <p:nvPr/>
        </p:nvSpPr>
        <p:spPr>
          <a:xfrm>
            <a:off x="358920" y="990720"/>
            <a:ext cx="8785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说法正确的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海豚和大象都是利用超声波来相互联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海豚和大象都是利用次声波来相互联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海豚用的超声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象用的次声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海豚用的次声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象用的超声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来清洗钟表等精密机械的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声波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声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耳能听到的声波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任何声音都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4093560" y="9907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5912280" y="419112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WordArt 6"/>
          <p:cNvSpPr txBox="1"/>
          <p:nvPr/>
        </p:nvSpPr>
        <p:spPr>
          <a:xfrm>
            <a:off x="324000" y="47628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达标测试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37" name="文本框 8199"/>
          <p:cNvSpPr/>
          <p:nvPr/>
        </p:nvSpPr>
        <p:spPr>
          <a:xfrm>
            <a:off x="2657520" y="396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4"/>
          <p:cNvSpPr/>
          <p:nvPr/>
        </p:nvSpPr>
        <p:spPr>
          <a:xfrm>
            <a:off x="228600" y="990720"/>
            <a:ext cx="8642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来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会堂的周围墙壁都做成凹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像蜂窝状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样是为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减弱声波的反射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增强声波的反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增强声音的响度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仅是为了装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7924680" y="990720"/>
            <a:ext cx="57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"/>
          <p:cNvSpPr/>
          <p:nvPr/>
        </p:nvSpPr>
        <p:spPr>
          <a:xfrm>
            <a:off x="6300720" y="16286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WordArt 6"/>
          <p:cNvSpPr txBox="1"/>
          <p:nvPr/>
        </p:nvSpPr>
        <p:spPr>
          <a:xfrm>
            <a:off x="0" y="40464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达标测试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4"/>
          <p:cNvSpPr/>
          <p:nvPr/>
        </p:nvSpPr>
        <p:spPr>
          <a:xfrm>
            <a:off x="755640" y="1989000"/>
            <a:ext cx="73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用超声测位仪向海底垂直发射声波，经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秒收到回波，如果海水中声音的平均传播速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00m╱s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此处海水有多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WordArt 5"/>
          <p:cNvSpPr txBox="1"/>
          <p:nvPr/>
        </p:nvSpPr>
        <p:spPr>
          <a:xfrm>
            <a:off x="0" y="404640"/>
            <a:ext cx="241128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达标测试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A84D-1F7D-432B-9EED-9F86AD7673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050920" y="2276640"/>
            <a:ext cx="4319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324000" y="2133720"/>
            <a:ext cx="82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学习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本节课的收获是什么？你还有那些不明白的地方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2050920" y="2276640"/>
            <a:ext cx="4319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2700360" y="2565360"/>
            <a:ext cx="46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755640" y="1197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知识与技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学习，了解声在现在技术中的应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过程与方法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   拓宽学生视野，引导学生关注科技发展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4"/>
          <p:cNvSpPr/>
          <p:nvPr/>
        </p:nvSpPr>
        <p:spPr>
          <a:xfrm>
            <a:off x="2050920" y="2276640"/>
            <a:ext cx="4319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2700360" y="2565360"/>
            <a:ext cx="46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50920" y="-60480"/>
            <a:ext cx="889308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识点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声与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己阅读课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的内容，回答下面的问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大自然的哪些活动能产生次声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蝙蝠在飞行中发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根据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反射回来的方位和时间确定目标的 位置和距离，这种方法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这一原理，科学家发明了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用来探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绘出水下数千米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捕鱼时还可以用声呐获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信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医生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检查胎儿的发育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利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以检测出锅炉有没有裂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1f4b6735-7521-4746-b29c-bca2979f7b67"/>
          <p:cNvPicPr/>
          <p:nvPr/>
        </p:nvPicPr>
        <p:blipFill>
          <a:blip r:embed="rId1"/>
          <a:stretch/>
        </p:blipFill>
        <p:spPr>
          <a:xfrm>
            <a:off x="0" y="1676520"/>
            <a:ext cx="3276720" cy="326376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533" name="Picture 3" descr="cgp_040327_07"/>
          <p:cNvPicPr/>
          <p:nvPr/>
        </p:nvPicPr>
        <p:blipFill>
          <a:blip r:embed="rId2"/>
          <a:stretch/>
        </p:blipFill>
        <p:spPr>
          <a:xfrm>
            <a:off x="6248520" y="1676520"/>
            <a:ext cx="2706480" cy="330840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534" name="Picture 4" descr="6484394"/>
          <p:cNvPicPr/>
          <p:nvPr/>
        </p:nvPicPr>
        <p:blipFill>
          <a:blip r:embed="rId3"/>
          <a:stretch/>
        </p:blipFill>
        <p:spPr>
          <a:xfrm>
            <a:off x="3276720" y="1676520"/>
            <a:ext cx="2943000" cy="327636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sp>
        <p:nvSpPr>
          <p:cNvPr id="535" name="Rectangle 5"/>
          <p:cNvSpPr/>
          <p:nvPr/>
        </p:nvSpPr>
        <p:spPr>
          <a:xfrm>
            <a:off x="3915720" y="502848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超声波测速仪</a:t>
            </a:r>
            <a:r>
              <a:rPr b="1" lang="zh-CN" sz="3200" spc="-1" strike="noStrike">
                <a:solidFill>
                  <a:srgbClr val="1db715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6811200" y="507420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b715"/>
                </a:solidFill>
                <a:latin typeface="华文新魏"/>
                <a:ea typeface="华文新魏"/>
              </a:rPr>
              <a:t>超声波测厚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91640" y="502848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b715"/>
                </a:solidFill>
                <a:latin typeface="华文新魏"/>
                <a:ea typeface="华文新魏"/>
              </a:rPr>
              <a:t>超声波探伤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0" y="0"/>
            <a:ext cx="2209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声传递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7"/>
          <p:cNvSpPr/>
          <p:nvPr/>
        </p:nvSpPr>
        <p:spPr>
          <a:xfrm>
            <a:off x="3419640" y="22701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3a86813d857be113baa1679f"/>
          <p:cNvPicPr/>
          <p:nvPr/>
        </p:nvPicPr>
        <p:blipFill>
          <a:blip r:embed="rId1"/>
          <a:stretch/>
        </p:blipFill>
        <p:spPr>
          <a:xfrm>
            <a:off x="0" y="0"/>
            <a:ext cx="5003640" cy="27082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541" name="Picture 3" descr="180_78885_5549a55bf923d6e"/>
          <p:cNvPicPr/>
          <p:nvPr/>
        </p:nvPicPr>
        <p:blipFill>
          <a:blip r:embed="rId2"/>
          <a:stretch/>
        </p:blipFill>
        <p:spPr>
          <a:xfrm>
            <a:off x="0" y="2819520"/>
            <a:ext cx="5003640" cy="381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2" name="Rectangle 4"/>
          <p:cNvSpPr/>
          <p:nvPr/>
        </p:nvSpPr>
        <p:spPr>
          <a:xfrm>
            <a:off x="5292720" y="990720"/>
            <a:ext cx="3851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海豚利用声波识别食物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敌人和它们周围的环境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5181480" y="4067640"/>
            <a:ext cx="37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核潜艇利用海豚仿生制造了声呐系统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使自己知道与海岸的距离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猎物的行踪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深度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6934320" y="0"/>
            <a:ext cx="2209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声传递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20060723005158870"/>
          <p:cNvPicPr/>
          <p:nvPr/>
        </p:nvPicPr>
        <p:blipFill>
          <a:blip r:embed="rId1"/>
          <a:stretch/>
        </p:blipFill>
        <p:spPr>
          <a:xfrm>
            <a:off x="539640" y="333360"/>
            <a:ext cx="4503960" cy="51530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46" name="Picture 3" descr="20060723005206579"/>
          <p:cNvPicPr/>
          <p:nvPr/>
        </p:nvPicPr>
        <p:blipFill>
          <a:blip r:embed="rId2"/>
          <a:stretch/>
        </p:blipFill>
        <p:spPr>
          <a:xfrm>
            <a:off x="5257800" y="838080"/>
            <a:ext cx="3529080" cy="34750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47" name="Text Box 4"/>
          <p:cNvSpPr/>
          <p:nvPr/>
        </p:nvSpPr>
        <p:spPr>
          <a:xfrm>
            <a:off x="228600" y="55627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2710d"/>
                </a:solidFill>
                <a:latin typeface="华文新魏"/>
                <a:ea typeface="华文新魏"/>
              </a:rPr>
              <a:t>彩色</a:t>
            </a:r>
            <a:r>
              <a:rPr b="1" lang="en-US" sz="4000" spc="-1" strike="noStrike">
                <a:solidFill>
                  <a:srgbClr val="12710d"/>
                </a:solidFill>
                <a:latin typeface="华文新魏"/>
                <a:ea typeface="华文新魏"/>
              </a:rPr>
              <a:t>B</a:t>
            </a:r>
            <a:r>
              <a:rPr b="1" lang="zh-CN" sz="4000" spc="-1" strike="noStrike">
                <a:solidFill>
                  <a:srgbClr val="12710d"/>
                </a:solidFill>
                <a:latin typeface="华文新魏"/>
                <a:ea typeface="华文新魏"/>
              </a:rPr>
              <a:t>型超声波诊断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6934320" y="0"/>
            <a:ext cx="2209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声传递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5410080" y="449568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彩色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型超声波诊断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利用超声波可以更准确地获得人体内部疾病的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1600200" y="114300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想一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457200" y="2895480"/>
            <a:ext cx="8424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  <a:ea typeface="华文新魏"/>
              </a:rPr>
              <a:t>    </a:t>
            </a:r>
            <a:r>
              <a:rPr b="0" lang="zh-CN" sz="6000" spc="-1" strike="noStrike">
                <a:solidFill>
                  <a:srgbClr val="000099"/>
                </a:solidFill>
                <a:latin typeface="Arial"/>
                <a:ea typeface="华文新魏"/>
              </a:rPr>
              <a:t>试试看，说说我们身边还有哪些声音传递信息的例子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思考3"/>
          <p:cNvPicPr/>
          <p:nvPr/>
        </p:nvPicPr>
        <p:blipFill>
          <a:blip r:embed="rId1"/>
          <a:stretch/>
        </p:blipFill>
        <p:spPr>
          <a:xfrm>
            <a:off x="4191120" y="228600"/>
            <a:ext cx="3047760" cy="26398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米老鼠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9480"/>
            <a:ext cx="1727280" cy="16909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6"/>
          <p:cNvSpPr/>
          <p:nvPr/>
        </p:nvSpPr>
        <p:spPr>
          <a:xfrm>
            <a:off x="228600" y="5791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们交谈、听广播、听录音、卖西瓜敲一敲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0" y="0"/>
            <a:ext cx="2209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声传递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3ff66133083b1ab1ced3c9146b820c70"/>
          <p:cNvPicPr/>
          <p:nvPr/>
        </p:nvPicPr>
        <p:blipFill>
          <a:blip r:embed="rId1"/>
          <a:stretch/>
        </p:blipFill>
        <p:spPr>
          <a:xfrm>
            <a:off x="179280" y="0"/>
            <a:ext cx="849636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367.mp3" descr=""/>
          <p:cNvPicPr/>
          <p:nvPr/>
        </p:nvPicPr>
        <p:blipFill>
          <a:blip r:embed="rId2"/>
          <a:stretch/>
        </p:blipFill>
        <p:spPr>
          <a:xfrm>
            <a:off x="78850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20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2:29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35Z</dcterms:modified>
  <cp:revision>3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