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6.gif" ContentType="image/gif"/>
  <Override PartName="/ppt/media/image61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23.png" ContentType="image/png"/>
  <Override PartName="/ppt/media/image55.jpeg" ContentType="image/jpeg"/>
  <Override PartName="/ppt/media/image3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15.jpeg" ContentType="image/jpeg"/>
  <Override PartName="/ppt/media/image62.png" ContentType="image/png"/>
  <Override PartName="/ppt/media/image25.png" ContentType="image/png"/>
  <Override PartName="/ppt/media/image19.jpeg" ContentType="image/jpeg"/>
  <Override PartName="/ppt/media/image50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3.jpeg" ContentType="image/jpeg"/>
  <Override PartName="/ppt/media/image24.jpeg" ContentType="image/jpeg"/>
  <Override PartName="/ppt/media/image21.jpeg" ContentType="image/jpeg"/>
  <Override PartName="/ppt/media/image60.jpeg" ContentType="image/jpeg"/>
  <Override PartName="/ppt/media/image30.png" ContentType="image/png"/>
  <Override PartName="/ppt/media/image16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37.png" ContentType="image/png"/>
  <Override PartName="/ppt/media/image42.gif" ContentType="image/gif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52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867-381E-48EE-9A55-D3F382B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3F4-7A10-46D1-A2DB-8D4CF43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87F-8841-486C-9CC3-44A7FF6A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E34-E9EC-4B89-A7E9-B0A08371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1CA1-3279-4AD1-A210-5C93154E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FB2D-DFF0-43DA-BD23-A0DDB41B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1C2-6051-4A2D-BE31-4A2DD5B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23B9-290A-45ED-8858-34A9FD9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0785-2FD0-4655-9DC6-6FD7D38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D96F-8172-484C-BD1A-39BF51F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D377-D14E-4EBD-938F-B9F7101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43F-0080-4F5D-87A3-2DF7207D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41C-134B-4F7A-A9B6-69F6758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63F4-0B8B-43B7-9597-48B5158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ACE-C510-4BDE-BF2E-745D3BB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789-E31A-423D-89FC-47D26847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87F-5DC1-41E6-B5DA-A7B98194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2DC-CBD1-4A7F-AAC9-A0B3603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516-FE48-417F-B368-97AF5C0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E84-E6DB-4FA5-9028-538B22EE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65D-681D-4B45-A0E5-05BF79C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A5C-061B-405B-B54B-1E20B31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F62-0994-4A4C-B7F8-B8D0524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0E0-A7BF-4323-A7FD-716A149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619-4028-42C4-913E-4F4B2113B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18F-850F-4B7C-B18A-C4ED65658E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课件标题背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310840" y="3654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宋代社会风貌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扇子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2" descr=""/>
          <p:cNvPicPr/>
          <p:nvPr/>
        </p:nvPicPr>
        <p:blipFill>
          <a:blip r:embed="rId2"/>
          <a:stretch/>
        </p:blipFill>
        <p:spPr>
          <a:xfrm>
            <a:off x="571680" y="492120"/>
            <a:ext cx="2333520" cy="2782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/>
          <p:cNvSpPr/>
          <p:nvPr/>
        </p:nvSpPr>
        <p:spPr>
          <a:xfrm>
            <a:off x="250920" y="2133720"/>
            <a:ext cx="6500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宋朝饮食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北喜</a:t>
            </a:r>
            <a:r>
              <a:rPr b="1" lang="zh-CN" sz="44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与面食</a:t>
            </a:r>
            <a:r>
              <a:rPr b="1" lang="zh-CN" sz="44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南吃</a:t>
            </a:r>
            <a:r>
              <a:rPr b="1" lang="zh-CN" sz="44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和米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帝王腐朽百姓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86596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羊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2937600" y="378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动作按钮: 第一张 8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340000" y="981000"/>
            <a:ext cx="4876920" cy="764280"/>
          </a:xfrm>
          <a:prstGeom prst="rect">
            <a:avLst/>
          </a:prstGeom>
          <a:solidFill>
            <a:srgbClr val="008000">
              <a:alpha val="6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二、美食的天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pic_37081"/>
          <p:cNvPicPr/>
          <p:nvPr/>
        </p:nvPicPr>
        <p:blipFill>
          <a:blip r:embed="rId3"/>
          <a:stretch/>
        </p:blipFill>
        <p:spPr>
          <a:xfrm>
            <a:off x="6372360" y="1844640"/>
            <a:ext cx="2206440" cy="1762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200210210020_6628"/>
          <p:cNvPicPr/>
          <p:nvPr/>
        </p:nvPicPr>
        <p:blipFill>
          <a:blip r:embed="rId4"/>
          <a:stretch/>
        </p:blipFill>
        <p:spPr>
          <a:xfrm>
            <a:off x="6372360" y="4076640"/>
            <a:ext cx="2279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250920" y="260280"/>
            <a:ext cx="5328360" cy="6264000"/>
            <a:chOff x="250920" y="260280"/>
            <a:chExt cx="5328360" cy="6264000"/>
          </a:xfrm>
        </p:grpSpPr>
        <p:pic>
          <p:nvPicPr>
            <p:cNvPr id="140" name="Picture 7" descr="画卷3"/>
            <p:cNvPicPr/>
            <p:nvPr/>
          </p:nvPicPr>
          <p:blipFill>
            <a:blip r:embed="rId1"/>
            <a:srcRect l="19718" t="8819" r="19718" b="7307"/>
            <a:stretch/>
          </p:blipFill>
          <p:spPr>
            <a:xfrm>
              <a:off x="250920" y="260280"/>
              <a:ext cx="5328360" cy="62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宋烹茶图"/>
            <p:cNvPicPr/>
            <p:nvPr/>
          </p:nvPicPr>
          <p:blipFill>
            <a:blip r:embed="rId2"/>
            <a:stretch/>
          </p:blipFill>
          <p:spPr>
            <a:xfrm>
              <a:off x="1342440" y="910800"/>
              <a:ext cx="3170880" cy="496260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  <p:sp>
        <p:nvSpPr>
          <p:cNvPr id="142" name="Text Box 9"/>
          <p:cNvSpPr/>
          <p:nvPr/>
        </p:nvSpPr>
        <p:spPr>
          <a:xfrm>
            <a:off x="5724360" y="54118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  <a:ea typeface="隶书"/>
              </a:rPr>
              <a:t>宋烹茶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东坡肉"/>
          <p:cNvPicPr/>
          <p:nvPr/>
        </p:nvPicPr>
        <p:blipFill>
          <a:blip r:embed="rId1"/>
          <a:stretch/>
        </p:blipFill>
        <p:spPr>
          <a:xfrm>
            <a:off x="539640" y="3284640"/>
            <a:ext cx="3810240" cy="2570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124000" y="5157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  <a:ea typeface="隶书"/>
              </a:rPr>
              <a:t>东坡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25960" y="533520"/>
            <a:ext cx="5181480" cy="2819160"/>
          </a:xfrm>
          <a:prstGeom prst="cloudCallout">
            <a:avLst>
              <a:gd name="adj1" fmla="val -41453"/>
              <a:gd name="adj2" fmla="val 58671"/>
            </a:avLst>
          </a:prstGeom>
          <a:solidFill>
            <a:srgbClr val="cccc00">
              <a:alpha val="50000"/>
            </a:srgbClr>
          </a:solidFill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菜“东坡肉”的来历，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427640" y="3429000"/>
            <a:ext cx="381636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3500280"/>
            <a:ext cx="38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猪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州好猪肉，价钱如粪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富者不肯吃，贫者不解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a93"/>
                </a:solidFill>
                <a:latin typeface="Times New Roman"/>
              </a:rPr>
              <a:t>慢着火，少着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a93"/>
                </a:solidFill>
                <a:latin typeface="Times New Roman"/>
              </a:rPr>
              <a:t>火候足时它自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日起来打一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饱得自家君莫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7" descr="20070719150259173.jpg"/>
          <p:cNvPicPr/>
          <p:nvPr/>
        </p:nvPicPr>
        <p:blipFill>
          <a:blip r:embed="rId2"/>
          <a:stretch/>
        </p:blipFill>
        <p:spPr>
          <a:xfrm>
            <a:off x="611280" y="1125360"/>
            <a:ext cx="2428920" cy="19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762120" y="595440"/>
            <a:ext cx="4876560" cy="764280"/>
          </a:xfrm>
          <a:prstGeom prst="rect">
            <a:avLst/>
          </a:prstGeom>
          <a:solidFill>
            <a:srgbClr val="008000">
              <a:alpha val="6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三、宋代的住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35240" y="17002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地位：               住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193840" y="268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98000" y="242100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农村百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003640" y="256536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茅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998000" y="328464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城市平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926360" y="429264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贵族官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932360" y="335772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瓦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788000" y="4365720"/>
            <a:ext cx="29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05bb"/>
                </a:solidFill>
                <a:latin typeface="Arial"/>
              </a:rPr>
              <a:t>园林建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87520" y="3840120"/>
            <a:ext cx="3408120" cy="2613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051520" y="600120"/>
            <a:ext cx="3408120" cy="2612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406_pingyao"/>
          <p:cNvPicPr/>
          <p:nvPr/>
        </p:nvPicPr>
        <p:blipFill>
          <a:blip r:embed="rId1"/>
          <a:stretch/>
        </p:blipFill>
        <p:spPr>
          <a:xfrm>
            <a:off x="5062680" y="333360"/>
            <a:ext cx="3470040" cy="2951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614520" y="600120"/>
            <a:ext cx="3525840" cy="25542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沈园"/>
          <p:cNvPicPr/>
          <p:nvPr/>
        </p:nvPicPr>
        <p:blipFill>
          <a:blip r:embed="rId2"/>
          <a:stretch/>
        </p:blipFill>
        <p:spPr>
          <a:xfrm>
            <a:off x="611280" y="404640"/>
            <a:ext cx="3805200" cy="2737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581800" y="594684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W020090507457348733640"/>
          <p:cNvPicPr/>
          <p:nvPr/>
        </p:nvPicPr>
        <p:blipFill>
          <a:blip r:embed="rId3"/>
          <a:srcRect l="-1490" t="0" r="0" b="0"/>
          <a:stretch/>
        </p:blipFill>
        <p:spPr>
          <a:xfrm>
            <a:off x="539640" y="3573360"/>
            <a:ext cx="3672000" cy="2951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4960800" y="3716280"/>
            <a:ext cx="16272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农村百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960800" y="4776840"/>
            <a:ext cx="16988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城市平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960800" y="5867280"/>
            <a:ext cx="18432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贵族官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9852E-006 L -0.40157 -0.00625 E">
                                      <p:cBhvr>
                                        <p:cTn id="33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23 -0.15695 C -0.0974 -0.36296 -0.05157 -0.56898 -0.02587 -0.65139 C -0.00018 -0.73426 -0.00452 -0.65139 0.01076 -0.65347 C 0.02604 -0.65556 0.05972 -0.66343 0.06632 -0.66412 C 0.07291 -0.66482 0.05295 -0.65903 0.05034 -0.6581 E">
                                      <p:cBhvr>
                                        <p:cTn id="33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69 -0.17871 C -0.1974 -0.43681 -0.33993 -0.69468 -0.40868 -0.79398 C -0.47743 -0.89329 -0.4533 -0.7706 -0.46736 -0.77477 C -0.48142 -0.77894 -0.48507 -0.81042 -0.49271 -0.81922 C -0.50035 -0.82801 -0.50695 -0.82801 -0.51337 -0.82778 E">
                                      <p:cBhvr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165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alibri"/>
                <a:ea typeface="华文行楷"/>
              </a:rPr>
              <a:t>四、宋朝的交通工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95280" y="2205000"/>
            <a:ext cx="8064360" cy="43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cap="sq"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宋朝局限于农耕地区，缺少马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因此，最主要的交通工具是牛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也有驴车。达官贵人出门乘轿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很普遍。士大夫一般骑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矩形 3" descr=""/>
          <p:cNvPicPr/>
          <p:nvPr/>
        </p:nvPicPr>
        <p:blipFill>
          <a:blip r:embed="rId1"/>
          <a:stretch/>
        </p:blipFill>
        <p:spPr>
          <a:xfrm>
            <a:off x="6961320" y="9360"/>
            <a:ext cx="233352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539640" y="1268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百姓：牛车、驴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富人：轿子、马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140360" y="1557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  <a:ea typeface="黑体"/>
              </a:rPr>
              <a:t>陆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780000" y="1341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39640" y="26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内河：轻便的小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黑体"/>
              </a:rPr>
              <a:t>海上：庞大的海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06728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  <a:ea typeface="黑体"/>
              </a:rPr>
              <a:t>水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3708360" y="2708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交通.wav" descr=""/>
          <p:cNvPicPr/>
          <p:nvPr/>
        </p:nvPicPr>
        <p:blipFill>
          <a:blip r:embed="rId1"/>
          <a:stretch/>
        </p:blipFill>
        <p:spPr>
          <a:xfrm>
            <a:off x="7093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200837111734880"/>
          <p:cNvPicPr/>
          <p:nvPr/>
        </p:nvPicPr>
        <p:blipFill>
          <a:blip r:embed="rId2"/>
          <a:stretch/>
        </p:blipFill>
        <p:spPr>
          <a:xfrm>
            <a:off x="0" y="3860640"/>
            <a:ext cx="5940360" cy="2997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taipche"/>
          <p:cNvPicPr/>
          <p:nvPr/>
        </p:nvPicPr>
        <p:blipFill>
          <a:blip r:embed="rId3"/>
          <a:stretch/>
        </p:blipFill>
        <p:spPr>
          <a:xfrm>
            <a:off x="5586480" y="0"/>
            <a:ext cx="3557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_100923192323_5"/>
          <p:cNvPicPr/>
          <p:nvPr/>
        </p:nvPicPr>
        <p:blipFill>
          <a:blip r:embed="rId1"/>
          <a:stretch/>
        </p:blipFill>
        <p:spPr>
          <a:xfrm>
            <a:off x="466560" y="1844640"/>
            <a:ext cx="7775640" cy="4608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395280" y="404640"/>
            <a:ext cx="8389800" cy="520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宋代交通发达，供住宿的邸店很多，宋诗形容“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店如云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ú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，就是形容旅店业的兴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瓦子”又称“瓦市”、“瓦子“谓其来时瓦合，去时瓦解之意，易聚易散也”是城市娱乐兼营商业的场所。“瓦市”中有许多用栏杆之类东西组成的小的演出场所，称为“勾栏” 在勾栏内表演的艺术品类非常丰富，其中有关音乐的就有嘌唱、唱赚、鼓子词、诸宫调、杂剧等多种。这些都是宋以后新出现的音乐门类。宋代前的中国音乐史几乎是宫廷音乐史，宋以后事实上已是市民（或平民）的音乐史。此外还有许多摊位卖饮食、药材、古玩、字画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瓦子的出现是商品经济繁荣、城市规模扩大、以工商业者为主的市民阶层不断壮大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0" y="765000"/>
            <a:ext cx="9144000" cy="6093000"/>
          </a:xfrm>
          <a:prstGeom prst="foldedCorner">
            <a:avLst>
              <a:gd name="adj" fmla="val 21486"/>
            </a:avLst>
          </a:prstGeom>
          <a:solidFill>
            <a:srgbClr val="cccc00">
              <a:alpha val="50000"/>
            </a:srgbClr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26040" y="-1440"/>
            <a:ext cx="139068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6523"/>
                </a:solidFill>
                <a:latin typeface="Calibri"/>
              </a:rPr>
              <a:t>瓦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瓦子1.wav" descr=""/>
          <p:cNvPicPr/>
          <p:nvPr/>
        </p:nvPicPr>
        <p:blipFill>
          <a:blip r:embed="rId1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5724000" y="1699920"/>
            <a:ext cx="3096000" cy="360"/>
            <a:chOff x="5724000" y="1699920"/>
            <a:chExt cx="3096000" cy="360"/>
          </a:xfrm>
        </p:grpSpPr>
        <p:sp>
          <p:nvSpPr>
            <p:cNvPr id="187" name="Line 5"/>
            <p:cNvSpPr/>
            <p:nvPr/>
          </p:nvSpPr>
          <p:spPr>
            <a:xfrm>
              <a:off x="5724360" y="1700280"/>
              <a:ext cx="309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10800000">
              <a:off x="5724000" y="1699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0" y="2205000"/>
            <a:ext cx="1403280" cy="360"/>
            <a:chOff x="0" y="2205000"/>
            <a:chExt cx="1403280" cy="360"/>
          </a:xfrm>
        </p:grpSpPr>
        <p:sp>
          <p:nvSpPr>
            <p:cNvPr id="190" name="Line 6"/>
            <p:cNvSpPr/>
            <p:nvPr/>
          </p:nvSpPr>
          <p:spPr>
            <a:xfrm>
              <a:off x="0" y="2205000"/>
              <a:ext cx="1403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0" y="2205000"/>
              <a:ext cx="14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59280" y="6093000"/>
            <a:ext cx="5833800" cy="360"/>
            <a:chOff x="3059280" y="6093000"/>
            <a:chExt cx="5833800" cy="360"/>
          </a:xfrm>
        </p:grpSpPr>
        <p:sp>
          <p:nvSpPr>
            <p:cNvPr id="193" name="Line 7"/>
            <p:cNvSpPr/>
            <p:nvPr/>
          </p:nvSpPr>
          <p:spPr>
            <a:xfrm>
              <a:off x="3059280" y="6093000"/>
              <a:ext cx="5833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59280" y="6093000"/>
              <a:ext cx="58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79280" y="6669000"/>
            <a:ext cx="7848720" cy="360"/>
            <a:chOff x="179280" y="6669000"/>
            <a:chExt cx="7848720" cy="360"/>
          </a:xfrm>
        </p:grpSpPr>
        <p:sp>
          <p:nvSpPr>
            <p:cNvPr id="196" name="Line 8"/>
            <p:cNvSpPr/>
            <p:nvPr/>
          </p:nvSpPr>
          <p:spPr>
            <a:xfrm>
              <a:off x="179280" y="6669000"/>
              <a:ext cx="7848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79280" y="6669000"/>
              <a:ext cx="78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08000" y="2133720"/>
            <a:ext cx="6767640" cy="360"/>
            <a:chOff x="1908000" y="2133720"/>
            <a:chExt cx="6767640" cy="360"/>
          </a:xfrm>
        </p:grpSpPr>
        <p:sp>
          <p:nvSpPr>
            <p:cNvPr id="199" name="Line 10"/>
            <p:cNvSpPr/>
            <p:nvPr/>
          </p:nvSpPr>
          <p:spPr>
            <a:xfrm>
              <a:off x="1908000" y="2133720"/>
              <a:ext cx="6767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1908000" y="2133720"/>
              <a:ext cx="676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2708280"/>
            <a:ext cx="8748720" cy="360"/>
            <a:chOff x="0" y="2708280"/>
            <a:chExt cx="8748720" cy="360"/>
          </a:xfrm>
        </p:grpSpPr>
        <p:sp>
          <p:nvSpPr>
            <p:cNvPr id="202" name="Line 11"/>
            <p:cNvSpPr/>
            <p:nvPr/>
          </p:nvSpPr>
          <p:spPr>
            <a:xfrm>
              <a:off x="0" y="2708280"/>
              <a:ext cx="8748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0" y="2708280"/>
              <a:ext cx="87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0" y="3213000"/>
            <a:ext cx="8748720" cy="360"/>
            <a:chOff x="0" y="3213000"/>
            <a:chExt cx="8748720" cy="360"/>
          </a:xfrm>
        </p:grpSpPr>
        <p:sp>
          <p:nvSpPr>
            <p:cNvPr id="205" name="Line 12"/>
            <p:cNvSpPr/>
            <p:nvPr/>
          </p:nvSpPr>
          <p:spPr>
            <a:xfrm>
              <a:off x="0" y="3213000"/>
              <a:ext cx="8748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0" y="3213000"/>
              <a:ext cx="87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3716280"/>
            <a:ext cx="5400720" cy="360"/>
            <a:chOff x="0" y="3716280"/>
            <a:chExt cx="5400720" cy="360"/>
          </a:xfrm>
        </p:grpSpPr>
        <p:sp>
          <p:nvSpPr>
            <p:cNvPr id="208" name="Line 13"/>
            <p:cNvSpPr/>
            <p:nvPr/>
          </p:nvSpPr>
          <p:spPr>
            <a:xfrm>
              <a:off x="0" y="3716280"/>
              <a:ext cx="540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0" y="371628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4"/>
          <p:cNvSpPr/>
          <p:nvPr/>
        </p:nvSpPr>
        <p:spPr>
          <a:xfrm>
            <a:off x="0" y="0"/>
            <a:ext cx="3529080" cy="765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华文行楷"/>
              </a:rPr>
              <a:t>五、</a:t>
            </a: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2" name="Group 3"/>
          <p:cNvGrpSpPr/>
          <p:nvPr/>
        </p:nvGrpSpPr>
        <p:grpSpPr>
          <a:xfrm>
            <a:off x="3419640" y="2133720"/>
            <a:ext cx="5096880" cy="4940280"/>
            <a:chOff x="3419640" y="2133720"/>
            <a:chExt cx="5096880" cy="4940280"/>
          </a:xfrm>
        </p:grpSpPr>
        <p:sp>
          <p:nvSpPr>
            <p:cNvPr id="213" name="Oval 4"/>
            <p:cNvSpPr/>
            <p:nvPr/>
          </p:nvSpPr>
          <p:spPr>
            <a:xfrm>
              <a:off x="3419640" y="2133720"/>
              <a:ext cx="3504960" cy="2057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>
              <a:off x="5011560" y="5016600"/>
              <a:ext cx="3504960" cy="2057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6"/>
          <p:cNvSpPr/>
          <p:nvPr/>
        </p:nvSpPr>
        <p:spPr>
          <a:xfrm>
            <a:off x="0" y="2205000"/>
            <a:ext cx="4105440" cy="2879640"/>
          </a:xfrm>
          <a:prstGeom prst="ellipse">
            <a:avLst/>
          </a:prstGeom>
          <a:solidFill>
            <a:srgbClr val="99ccff">
              <a:alpha val="67000"/>
            </a:srgbClr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611280" y="2708280"/>
            <a:ext cx="3009960" cy="12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娱乐兼商业的场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995640" y="836640"/>
            <a:ext cx="1152720" cy="288720"/>
            <a:chOff x="3995640" y="836640"/>
            <a:chExt cx="1152720" cy="288720"/>
          </a:xfrm>
        </p:grpSpPr>
        <p:sp>
          <p:nvSpPr>
            <p:cNvPr id="218" name="Line 8"/>
            <p:cNvSpPr/>
            <p:nvPr/>
          </p:nvSpPr>
          <p:spPr>
            <a:xfrm flipH="1">
              <a:off x="3995640" y="836640"/>
              <a:ext cx="1152720" cy="288720"/>
            </a:xfrm>
            <a:prstGeom prst="line">
              <a:avLst/>
            </a:prstGeom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995640" y="836640"/>
              <a:ext cx="1152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5303520" y="23004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瓦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1116000" y="3357720"/>
            <a:ext cx="1655640" cy="792000"/>
          </a:xfrm>
          <a:prstGeom prst="ellipse">
            <a:avLst/>
          </a:prstGeom>
          <a:solidFill>
            <a:srgbClr val="ff99cc">
              <a:alpha val="68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48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780000" y="1916280"/>
            <a:ext cx="2087280" cy="142560"/>
            <a:chOff x="3780000" y="1916280"/>
            <a:chExt cx="2087280" cy="142560"/>
          </a:xfrm>
        </p:grpSpPr>
        <p:sp>
          <p:nvSpPr>
            <p:cNvPr id="224" name="Line 12"/>
            <p:cNvSpPr/>
            <p:nvPr/>
          </p:nvSpPr>
          <p:spPr>
            <a:xfrm flipH="1" flipV="1">
              <a:off x="3780000" y="1916280"/>
              <a:ext cx="2087280" cy="142560"/>
            </a:xfrm>
            <a:prstGeom prst="line">
              <a:avLst/>
            </a:prstGeom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 rot="10800000">
              <a:off x="3780000" y="1916280"/>
              <a:ext cx="2087280" cy="1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3"/>
          <p:cNvSpPr/>
          <p:nvPr/>
        </p:nvSpPr>
        <p:spPr>
          <a:xfrm>
            <a:off x="5517720" y="184464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勾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-396720" y="404640"/>
            <a:ext cx="9540360" cy="6913440"/>
            <a:chOff x="-396720" y="404640"/>
            <a:chExt cx="9540360" cy="6913440"/>
          </a:xfrm>
        </p:grpSpPr>
        <p:pic>
          <p:nvPicPr>
            <p:cNvPr id="86" name="Picture 12" descr="书画卷"/>
            <p:cNvPicPr/>
            <p:nvPr/>
          </p:nvPicPr>
          <p:blipFill>
            <a:blip r:embed="rId2"/>
            <a:stretch/>
          </p:blipFill>
          <p:spPr>
            <a:xfrm>
              <a:off x="-396720" y="404640"/>
              <a:ext cx="9540360" cy="691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3" descr="135.jpg (59809 個位元組)"/>
            <p:cNvPicPr/>
            <p:nvPr/>
          </p:nvPicPr>
          <p:blipFill>
            <a:blip r:embed="rId3"/>
            <a:stretch/>
          </p:blipFill>
          <p:spPr>
            <a:xfrm>
              <a:off x="1017000" y="1556640"/>
              <a:ext cx="6990840" cy="4503240"/>
            </a:xfrm>
            <a:prstGeom prst="rect">
              <a:avLst/>
            </a:prstGeom>
            <a:ln w="38160">
              <a:solidFill>
                <a:srgbClr val="c0504d"/>
              </a:solidFill>
              <a:miter/>
            </a:ln>
          </p:spPr>
        </p:pic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25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黑体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黑体"/>
              </a:rPr>
              <a:t>了解宋朝社会生活大概的风貌，包括当时流行的穿着打扮、饮食的主要特点，居住条件和房屋建筑的样式；交通旅行的条件；文化娱乐活动、节庆风俗等方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黑体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黑体"/>
              </a:rPr>
              <a:t>通过了解过去的社会生活史，提高认识和改进现代社会生活的能力。了解历史上物质文化生活的条件和特点，有助于更好地认识我们现在的物质文化生活，提高创造性地改进物质文化生活的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黑体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黑体"/>
              </a:rPr>
              <a:t>通过对于过去日常生活的了解，使学生对于历史有更加生动直观的认识，拉近学生与历史之间的距离，加深学生对中华民族的历史和文化的亲和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842920" y="-3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3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傀儡戏铜镜"/>
          <p:cNvPicPr/>
          <p:nvPr/>
        </p:nvPicPr>
        <p:blipFill>
          <a:blip r:embed="rId1">
            <a:lum contrast="36000"/>
          </a:blip>
          <a:srcRect l="2650" t="2296" r="4367" b="0"/>
          <a:stretch/>
        </p:blipFill>
        <p:spPr>
          <a:xfrm>
            <a:off x="-181080" y="3213000"/>
            <a:ext cx="4753080" cy="3645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0" y="3500280"/>
            <a:ext cx="684360" cy="2471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uǐ lě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丁都赛戏曲雕砖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2130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sp>
        <p:nvSpPr>
          <p:cNvPr id="230" name="Text Box 9"/>
          <p:cNvSpPr/>
          <p:nvPr/>
        </p:nvSpPr>
        <p:spPr>
          <a:xfrm>
            <a:off x="4716360" y="0"/>
            <a:ext cx="505080" cy="265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F2003082613441700000"/>
          <p:cNvPicPr/>
          <p:nvPr/>
        </p:nvPicPr>
        <p:blipFill>
          <a:blip r:embed="rId3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0"/>
            <a:ext cx="611280" cy="2471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ù j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4938c59d020009y0"/>
          <p:cNvPicPr/>
          <p:nvPr/>
        </p:nvPicPr>
        <p:blipFill>
          <a:blip r:embed="rId4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Text Box 7"/>
          <p:cNvSpPr/>
          <p:nvPr/>
        </p:nvSpPr>
        <p:spPr>
          <a:xfrm>
            <a:off x="4572000" y="3500280"/>
            <a:ext cx="792000" cy="2471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iā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50920" y="189000"/>
            <a:ext cx="863748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alibri"/>
                <a:ea typeface="华文行楷"/>
              </a:rPr>
              <a:t>六、</a:t>
            </a:r>
            <a:r>
              <a:rPr b="1" lang="zh-CN" sz="6000" spc="-1" strike="noStrike">
                <a:solidFill>
                  <a:srgbClr val="ffff00"/>
                </a:solidFill>
                <a:latin typeface="Calibri"/>
              </a:rPr>
              <a:t>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"/>
          <p:cNvGrpSpPr/>
          <p:nvPr/>
        </p:nvGrpSpPr>
        <p:grpSpPr>
          <a:xfrm>
            <a:off x="92160" y="836640"/>
            <a:ext cx="8872560" cy="5896080"/>
            <a:chOff x="92160" y="836640"/>
            <a:chExt cx="8872560" cy="5896080"/>
          </a:xfrm>
        </p:grpSpPr>
        <p:pic>
          <p:nvPicPr>
            <p:cNvPr id="237" name="Picture 3" descr="书画卷"/>
            <p:cNvPicPr/>
            <p:nvPr/>
          </p:nvPicPr>
          <p:blipFill>
            <a:blip r:embed="rId1"/>
            <a:srcRect l="0" t="0" r="0" b="6520"/>
            <a:stretch/>
          </p:blipFill>
          <p:spPr>
            <a:xfrm>
              <a:off x="92160" y="836640"/>
              <a:ext cx="887256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" descr="71.jpg (62328 個位元組)"/>
            <p:cNvPicPr/>
            <p:nvPr/>
          </p:nvPicPr>
          <p:blipFill>
            <a:blip r:embed="rId2"/>
            <a:stretch/>
          </p:blipFill>
          <p:spPr>
            <a:xfrm>
              <a:off x="1421640" y="1772280"/>
              <a:ext cx="6296760" cy="4362120"/>
            </a:xfrm>
            <a:prstGeom prst="rect">
              <a:avLst/>
            </a:prstGeom>
            <a:ln w="38160">
              <a:solidFill>
                <a:srgbClr val="c0504d"/>
              </a:solidFill>
              <a:miter/>
            </a:ln>
          </p:spPr>
        </p:pic>
      </p:grpSp>
      <p:sp>
        <p:nvSpPr>
          <p:cNvPr id="239" name="AutoShape 5"/>
          <p:cNvSpPr/>
          <p:nvPr/>
        </p:nvSpPr>
        <p:spPr>
          <a:xfrm>
            <a:off x="5407200" y="189000"/>
            <a:ext cx="3736800" cy="1981080"/>
          </a:xfrm>
          <a:prstGeom prst="cloudCallout">
            <a:avLst>
              <a:gd name="adj1" fmla="val -76212"/>
              <a:gd name="adj2" fmla="val 103685"/>
            </a:avLst>
          </a:prstGeom>
          <a:solidFill>
            <a:srgbClr val="008000">
              <a:alpha val="50000"/>
            </a:srgbClr>
          </a:solidFill>
          <a:ln w="28440">
            <a:solidFill>
              <a:srgbClr val="008000"/>
            </a:solidFill>
            <a:round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节日时戏台前人头攒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826920" y="907920"/>
            <a:ext cx="7417080" cy="280836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187280" y="2058120"/>
            <a:ext cx="6985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宋王安石：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爆竹声中一岁除，春风送暖入屠苏。千门万户曈曈日，总把新桃换旧符。”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2340000" y="333360"/>
            <a:ext cx="46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latin typeface="宋体"/>
              </a:rPr>
              <a:t>现在的春节，宋朝叫元旦</a:t>
            </a:r>
            <a:endParaRPr b="0" lang="en-US" sz="3200" spc="1" strike="noStrike">
              <a:ln w="9360">
                <a:solidFill>
                  <a:srgbClr val="008000"/>
                </a:solidFill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pic>
        <p:nvPicPr>
          <p:cNvPr id="243" name="Picture 5" descr="Y2001"/>
          <p:cNvPicPr/>
          <p:nvPr/>
        </p:nvPicPr>
        <p:blipFill>
          <a:blip r:embed="rId1"/>
          <a:stretch/>
        </p:blipFill>
        <p:spPr>
          <a:xfrm>
            <a:off x="250920" y="1197000"/>
            <a:ext cx="685800" cy="417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Y2001"/>
          <p:cNvPicPr/>
          <p:nvPr/>
        </p:nvPicPr>
        <p:blipFill>
          <a:blip r:embed="rId2"/>
          <a:stretch/>
        </p:blipFill>
        <p:spPr>
          <a:xfrm>
            <a:off x="8244000" y="1125360"/>
            <a:ext cx="685800" cy="419580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0"/>
          <p:cNvGrpSpPr/>
          <p:nvPr/>
        </p:nvGrpSpPr>
        <p:grpSpPr>
          <a:xfrm>
            <a:off x="1979640" y="3573360"/>
            <a:ext cx="5400360" cy="2681280"/>
            <a:chOff x="1979640" y="3573360"/>
            <a:chExt cx="5400360" cy="2681280"/>
          </a:xfrm>
        </p:grpSpPr>
        <p:pic>
          <p:nvPicPr>
            <p:cNvPr id="246" name="Picture 11" descr="cfc9fbc919b1f116f31fe76d"/>
            <p:cNvPicPr/>
            <p:nvPr/>
          </p:nvPicPr>
          <p:blipFill>
            <a:blip r:embed="rId3"/>
            <a:stretch/>
          </p:blipFill>
          <p:spPr>
            <a:xfrm>
              <a:off x="1979640" y="3591000"/>
              <a:ext cx="191376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2" descr="819df530c2e22a13ac4b5f61"/>
            <p:cNvPicPr/>
            <p:nvPr/>
          </p:nvPicPr>
          <p:blipFill>
            <a:blip r:embed="rId4"/>
            <a:stretch/>
          </p:blipFill>
          <p:spPr>
            <a:xfrm>
              <a:off x="3868200" y="3591000"/>
              <a:ext cx="2098800" cy="26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3" descr="10"/>
            <p:cNvPicPr/>
            <p:nvPr/>
          </p:nvPicPr>
          <p:blipFill>
            <a:blip r:embed="rId5"/>
            <a:stretch/>
          </p:blipFill>
          <p:spPr>
            <a:xfrm>
              <a:off x="5967000" y="3573360"/>
              <a:ext cx="1413000" cy="2681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201061184253846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250920" y="333360"/>
            <a:ext cx="6227640" cy="520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有一位爱国诗人屈原，他在流放途中听说到楚怀王客死他乡和郢城被攻破的噩耗后，投入到了滚滚流淌的汩罗江中，于是人们纷纷把食物投入到江中，以便药死蛟龙水兽，使他的尸体免遭伤害。我国有一个传统的节日就是为了纪念这位伟大的爱国诗人的，你知道这是什么节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611280" y="3995640"/>
            <a:ext cx="7993080" cy="2862360"/>
            <a:chOff x="611280" y="3995640"/>
            <a:chExt cx="7993080" cy="2862360"/>
          </a:xfrm>
        </p:grpSpPr>
        <p:pic>
          <p:nvPicPr>
            <p:cNvPr id="252" name="Picture 5" descr="20086619654444"/>
            <p:cNvPicPr/>
            <p:nvPr/>
          </p:nvPicPr>
          <p:blipFill>
            <a:blip r:embed="rId2"/>
            <a:stretch/>
          </p:blipFill>
          <p:spPr>
            <a:xfrm>
              <a:off x="611280" y="3995640"/>
              <a:ext cx="3816360" cy="28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200861011656876"/>
            <p:cNvPicPr/>
            <p:nvPr/>
          </p:nvPicPr>
          <p:blipFill>
            <a:blip r:embed="rId3"/>
            <a:stretch/>
          </p:blipFill>
          <p:spPr>
            <a:xfrm>
              <a:off x="4788000" y="4000320"/>
              <a:ext cx="38163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WordArt 7"/>
          <p:cNvSpPr txBox="1"/>
          <p:nvPr/>
        </p:nvSpPr>
        <p:spPr>
          <a:xfrm>
            <a:off x="7093080" y="29242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端午节</a:t>
            </a:r>
            <a:endParaRPr b="0" lang="en-US" sz="4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中秋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月饼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WordArt 5"/>
          <p:cNvSpPr txBox="1"/>
          <p:nvPr/>
        </p:nvSpPr>
        <p:spPr>
          <a:xfrm>
            <a:off x="6588000" y="1341360"/>
            <a:ext cx="208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b05bb"/>
                  </a:solidFill>
                  <a:round/>
                </a:ln>
                <a:solidFill>
                  <a:srgbClr val="fb05bb"/>
                </a:solidFill>
                <a:latin typeface="宋体"/>
              </a:rPr>
              <a:t>中秋节</a:t>
            </a:r>
            <a:endParaRPr b="0" lang="en-US" sz="4800" spc="1" strike="noStrike">
              <a:ln w="9360">
                <a:solidFill>
                  <a:srgbClr val="fb05bb"/>
                </a:solidFill>
                <a:round/>
              </a:ln>
              <a:solidFill>
                <a:srgbClr val="fb05bb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71280" y="2349360"/>
            <a:ext cx="907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宋代气象万万千，衣食住行多变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风土民俗有情趣，心旷神怡好新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宋代市民多层次，娱乐商业兴“瓦子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说唱要踢花样多，市场繁荣大都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0"/>
            <a:ext cx="9524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484200" y="412920"/>
            <a:ext cx="22986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06"/>
          <p:cNvPicPr/>
          <p:nvPr/>
        </p:nvPicPr>
        <p:blipFill>
          <a:blip r:embed="rId2"/>
          <a:stretch/>
        </p:blipFill>
        <p:spPr>
          <a:xfrm>
            <a:off x="468360" y="1341360"/>
            <a:ext cx="320760" cy="3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sq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411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4" name="图片 1" descr="节庆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5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图片 2" descr="背景6.jpg"/>
            <p:cNvPicPr/>
            <p:nvPr/>
          </p:nvPicPr>
          <p:blipFill>
            <a:blip r:embed="rId2"/>
            <a:stretch/>
          </p:blipFill>
          <p:spPr>
            <a:xfrm>
              <a:off x="0" y="3571920"/>
              <a:ext cx="914400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12"/>
          <p:cNvSpPr/>
          <p:nvPr/>
        </p:nvSpPr>
        <p:spPr>
          <a:xfrm>
            <a:off x="1403280" y="1989000"/>
            <a:ext cx="58579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116000" y="1268280"/>
            <a:ext cx="3887640" cy="82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〖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温故知新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动作按钮: 第一张 9"/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1187280" y="3573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05bb"/>
                </a:solidFill>
                <a:latin typeface="黑体"/>
                <a:ea typeface="黑体"/>
              </a:rPr>
              <a:t>随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6000" y="1122480"/>
            <a:ext cx="6048360" cy="48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家家腊月二十五，浙米如珠和豆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独在异乡为异客，每逢佳节倍思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遥知兄弟登高处，遍插茱萸少一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清明时节雨纷纷，路上行人欲断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5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千门万户曈曈日，总把新桃换旧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94160" y="1122480"/>
            <a:ext cx="1870200" cy="48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重阳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B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元旦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C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腊八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中秋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E.</a:t>
            </a:r>
            <a:r>
              <a:rPr b="1" lang="zh-CN" sz="2800" spc="-1" strike="noStrike">
                <a:solidFill>
                  <a:srgbClr val="ffff00"/>
                </a:solidFill>
                <a:latin typeface="Calibri"/>
              </a:rPr>
              <a:t>清明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832360" y="1455840"/>
            <a:ext cx="1260720" cy="2044440"/>
            <a:chOff x="5832360" y="1455840"/>
            <a:chExt cx="1260720" cy="2044440"/>
          </a:xfrm>
        </p:grpSpPr>
        <p:sp>
          <p:nvSpPr>
            <p:cNvPr id="273" name="Line 4"/>
            <p:cNvSpPr/>
            <p:nvPr/>
          </p:nvSpPr>
          <p:spPr>
            <a:xfrm>
              <a:off x="5832360" y="1455840"/>
              <a:ext cx="1260720" cy="204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832360" y="1455840"/>
              <a:ext cx="1260720" cy="20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832000" y="1557000"/>
            <a:ext cx="1404000" cy="1841400"/>
            <a:chOff x="5832000" y="1557000"/>
            <a:chExt cx="1404000" cy="1841400"/>
          </a:xfrm>
        </p:grpSpPr>
        <p:sp>
          <p:nvSpPr>
            <p:cNvPr id="276" name="Line 5"/>
            <p:cNvSpPr/>
            <p:nvPr/>
          </p:nvSpPr>
          <p:spPr>
            <a:xfrm flipV="1">
              <a:off x="5832360" y="1557000"/>
              <a:ext cx="1403640" cy="1841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 rot="10800000">
              <a:off x="5832000" y="1557000"/>
              <a:ext cx="1403640" cy="184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940360" y="4581360"/>
            <a:ext cx="1152720" cy="1008360"/>
            <a:chOff x="5940360" y="4581360"/>
            <a:chExt cx="1152720" cy="1008360"/>
          </a:xfrm>
        </p:grpSpPr>
        <p:sp>
          <p:nvSpPr>
            <p:cNvPr id="279" name="Line 6"/>
            <p:cNvSpPr/>
            <p:nvPr/>
          </p:nvSpPr>
          <p:spPr>
            <a:xfrm>
              <a:off x="5940360" y="4581360"/>
              <a:ext cx="1152720" cy="10083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940360" y="4581360"/>
              <a:ext cx="1152720" cy="10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03640" y="2565000"/>
            <a:ext cx="1260720" cy="3065400"/>
            <a:chOff x="5903640" y="2565000"/>
            <a:chExt cx="1260720" cy="3065400"/>
          </a:xfrm>
        </p:grpSpPr>
        <p:sp>
          <p:nvSpPr>
            <p:cNvPr id="282" name="Line 7"/>
            <p:cNvSpPr/>
            <p:nvPr/>
          </p:nvSpPr>
          <p:spPr>
            <a:xfrm flipV="1">
              <a:off x="5904000" y="2565000"/>
              <a:ext cx="1260360" cy="3065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5903640" y="2565000"/>
              <a:ext cx="1260360" cy="306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77080" y="2535120"/>
            <a:ext cx="1116000" cy="1973520"/>
            <a:chOff x="5977080" y="2535120"/>
            <a:chExt cx="1116000" cy="1973520"/>
          </a:xfrm>
        </p:grpSpPr>
        <p:sp>
          <p:nvSpPr>
            <p:cNvPr id="285" name="Line 8"/>
            <p:cNvSpPr/>
            <p:nvPr/>
          </p:nvSpPr>
          <p:spPr>
            <a:xfrm>
              <a:off x="5977080" y="2535120"/>
              <a:ext cx="1116000" cy="197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5977080" y="2535120"/>
              <a:ext cx="1116000" cy="197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712520" y="1125360"/>
            <a:ext cx="60850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场景一：某娱乐场所内，人山人海，热闹非凡。有踢球的，说书的，唱歌的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应有尽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场景二：大街上，车水马龙。许多外出的人乘着马车接踵而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场景三：街边一排客栈，大都悬挂着涮羊肉的招牌，许多穿着粗布衣裤的人正津津有味地吃着羊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XT[)0(X$[~U80X0C0$WQJIR"/>
          <p:cNvPicPr/>
          <p:nvPr/>
        </p:nvPicPr>
        <p:blipFill>
          <a:blip r:embed="rId1"/>
          <a:stretch/>
        </p:blipFill>
        <p:spPr>
          <a:xfrm>
            <a:off x="922320" y="13129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MYS`_}W$R[W$YMH@XEJDN1P"/>
          <p:cNvPicPr/>
          <p:nvPr/>
        </p:nvPicPr>
        <p:blipFill>
          <a:blip r:embed="rId2"/>
          <a:stretch/>
        </p:blipFill>
        <p:spPr>
          <a:xfrm>
            <a:off x="993600" y="2897280"/>
            <a:ext cx="792360" cy="793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MYS`_}W$R[W$YMH@XEJDN1P"/>
          <p:cNvPicPr/>
          <p:nvPr/>
        </p:nvPicPr>
        <p:blipFill>
          <a:blip r:embed="rId3"/>
          <a:stretch/>
        </p:blipFill>
        <p:spPr>
          <a:xfrm>
            <a:off x="1065240" y="4408560"/>
            <a:ext cx="792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5386320" y="3760920"/>
            <a:ext cx="1008000" cy="360"/>
            <a:chOff x="5386320" y="3760920"/>
            <a:chExt cx="1008000" cy="360"/>
          </a:xfrm>
        </p:grpSpPr>
        <p:sp>
          <p:nvSpPr>
            <p:cNvPr id="292" name="Line 6"/>
            <p:cNvSpPr/>
            <p:nvPr/>
          </p:nvSpPr>
          <p:spPr>
            <a:xfrm>
              <a:off x="5386320" y="3760920"/>
              <a:ext cx="10080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386320" y="376092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05240" y="5776920"/>
            <a:ext cx="1800000" cy="360"/>
            <a:chOff x="2505240" y="5776920"/>
            <a:chExt cx="1800000" cy="360"/>
          </a:xfrm>
        </p:grpSpPr>
        <p:sp>
          <p:nvSpPr>
            <p:cNvPr id="295" name="Line 7"/>
            <p:cNvSpPr/>
            <p:nvPr/>
          </p:nvSpPr>
          <p:spPr>
            <a:xfrm>
              <a:off x="2505240" y="5776920"/>
              <a:ext cx="18000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2505240" y="5776920"/>
              <a:ext cx="180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938320" y="6281640"/>
            <a:ext cx="1006560" cy="360"/>
            <a:chOff x="2938320" y="6281640"/>
            <a:chExt cx="1006560" cy="360"/>
          </a:xfrm>
        </p:grpSpPr>
        <p:sp>
          <p:nvSpPr>
            <p:cNvPr id="298" name="Line 8"/>
            <p:cNvSpPr/>
            <p:nvPr/>
          </p:nvSpPr>
          <p:spPr>
            <a:xfrm>
              <a:off x="2938320" y="6281640"/>
              <a:ext cx="100656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938320" y="6281640"/>
              <a:ext cx="1006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618320" y="2189160"/>
            <a:ext cx="360360" cy="358920"/>
            <a:chOff x="7618320" y="2189160"/>
            <a:chExt cx="360360" cy="358920"/>
          </a:xfrm>
        </p:grpSpPr>
        <p:sp>
          <p:nvSpPr>
            <p:cNvPr id="301" name="Line 10"/>
            <p:cNvSpPr/>
            <p:nvPr/>
          </p:nvSpPr>
          <p:spPr>
            <a:xfrm>
              <a:off x="7618320" y="2189160"/>
              <a:ext cx="360360" cy="35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618320" y="218916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978680" y="1827360"/>
            <a:ext cx="720720" cy="720720"/>
            <a:chOff x="7978680" y="1827360"/>
            <a:chExt cx="720720" cy="720720"/>
          </a:xfrm>
        </p:grpSpPr>
        <p:sp>
          <p:nvSpPr>
            <p:cNvPr id="304" name="Line 11"/>
            <p:cNvSpPr/>
            <p:nvPr/>
          </p:nvSpPr>
          <p:spPr>
            <a:xfrm flipV="1">
              <a:off x="7978680" y="1827360"/>
              <a:ext cx="72072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7978680" y="1827360"/>
              <a:ext cx="72072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WordArt 2"/>
          <p:cNvSpPr txBox="1"/>
          <p:nvPr/>
        </p:nvSpPr>
        <p:spPr>
          <a:xfrm>
            <a:off x="1508040" y="0"/>
            <a:ext cx="379404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出错误的地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08000" y="387360"/>
            <a:ext cx="81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场景四：城里涌进一群城郊的农家女子，她们身着石榴花颜色的丝绸衣裙，有说有笑，带着自家产的蔬菜前来赶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场景五：家住郊区的游客到杭州游玩，匆匆忙忙游玩到下午时分，虽然没有尽兴，但还是决定折返，以免晚上露宿街头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MYS`_}W$R[W$YMH@XEJDN1P"/>
          <p:cNvPicPr/>
          <p:nvPr/>
        </p:nvPicPr>
        <p:blipFill>
          <a:blip r:embed="rId1"/>
          <a:stretch/>
        </p:blipFill>
        <p:spPr>
          <a:xfrm>
            <a:off x="179280" y="792000"/>
            <a:ext cx="971640" cy="86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XT[)0(X$[~U80X0C0$WQJIR"/>
          <p:cNvPicPr/>
          <p:nvPr/>
        </p:nvPicPr>
        <p:blipFill>
          <a:blip r:embed="rId2"/>
          <a:stretch/>
        </p:blipFill>
        <p:spPr>
          <a:xfrm>
            <a:off x="250920" y="3068640"/>
            <a:ext cx="907920" cy="86364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804000" y="1079640"/>
            <a:ext cx="1584360" cy="360"/>
            <a:chOff x="6804000" y="1079640"/>
            <a:chExt cx="1584360" cy="360"/>
          </a:xfrm>
        </p:grpSpPr>
        <p:sp>
          <p:nvSpPr>
            <p:cNvPr id="311" name="Line 6"/>
            <p:cNvSpPr/>
            <p:nvPr/>
          </p:nvSpPr>
          <p:spPr>
            <a:xfrm>
              <a:off x="6804000" y="1079640"/>
              <a:ext cx="158436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6804000" y="107964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580000" y="1655640"/>
            <a:ext cx="1656000" cy="360"/>
            <a:chOff x="5580000" y="1655640"/>
            <a:chExt cx="1656000" cy="360"/>
          </a:xfrm>
        </p:grpSpPr>
        <p:sp>
          <p:nvSpPr>
            <p:cNvPr id="314" name="Line 7"/>
            <p:cNvSpPr/>
            <p:nvPr/>
          </p:nvSpPr>
          <p:spPr>
            <a:xfrm>
              <a:off x="5580000" y="1655640"/>
              <a:ext cx="16560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580000" y="165564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156360" y="4797360"/>
            <a:ext cx="1655640" cy="360"/>
            <a:chOff x="6156360" y="4797360"/>
            <a:chExt cx="1655640" cy="360"/>
          </a:xfrm>
        </p:grpSpPr>
        <p:sp>
          <p:nvSpPr>
            <p:cNvPr id="317" name="Line 9"/>
            <p:cNvSpPr/>
            <p:nvPr/>
          </p:nvSpPr>
          <p:spPr>
            <a:xfrm>
              <a:off x="6156360" y="4797360"/>
              <a:ext cx="165564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6156360" y="479736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110101"/>
          <p:cNvPicPr/>
          <p:nvPr/>
        </p:nvPicPr>
        <p:blipFill>
          <a:blip r:embed="rId1"/>
          <a:stretch/>
        </p:blipFill>
        <p:spPr>
          <a:xfrm>
            <a:off x="4716360" y="907920"/>
            <a:ext cx="3311640" cy="5042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1" name="Text Box 3"/>
          <p:cNvSpPr/>
          <p:nvPr/>
        </p:nvSpPr>
        <p:spPr>
          <a:xfrm>
            <a:off x="7885080" y="1484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朝文官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5280" y="1484280"/>
            <a:ext cx="424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北宋初年，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崇尚节俭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，衣帽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不得缀饰珠玉，曾对各级官员的服色作出规定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    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三品以上穿紫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    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五品以上穿朱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    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七品以上穿绿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    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九品以上穿青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普通百姓，就只能穿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黑白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二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矩形 2" descr=""/>
          <p:cNvPicPr/>
          <p:nvPr/>
        </p:nvPicPr>
        <p:blipFill>
          <a:blip r:embed="rId2"/>
          <a:stretch/>
        </p:blipFill>
        <p:spPr>
          <a:xfrm>
            <a:off x="480960" y="-135000"/>
            <a:ext cx="2333520" cy="28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" descr="扇子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0" y="9032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崇尚节俭，衣帽上不得缀饰珠玉是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北宋初年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北宋末年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南宋初年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南宋末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代饮食相当丰富，东京城里食品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100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多种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200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多种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150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多种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300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多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城内外鱼店，不下一二百家，指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东京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南京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临安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广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京城内就有许多娱乐兼营商业的场所，叫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市 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坊 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夜市 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11"/>
          <p:cNvSpPr txBox="1"/>
          <p:nvPr/>
        </p:nvSpPr>
        <p:spPr>
          <a:xfrm>
            <a:off x="7093080" y="1047600"/>
            <a:ext cx="409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A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7164360" y="24145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23" name="WordArt 13"/>
          <p:cNvSpPr txBox="1"/>
          <p:nvPr/>
        </p:nvSpPr>
        <p:spPr>
          <a:xfrm>
            <a:off x="7093080" y="39276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24" name="WordArt 14"/>
          <p:cNvSpPr txBox="1"/>
          <p:nvPr/>
        </p:nvSpPr>
        <p:spPr>
          <a:xfrm>
            <a:off x="8675640" y="49356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cxnSp>
        <p:nvCxnSpPr>
          <p:cNvPr id="325" name="AutoShape 15"/>
          <p:cNvCxnSpPr>
            <a:stCxn id="320" idx="0"/>
            <a:endCxn id="320" idx="0"/>
          </p:cNvCxnSpPr>
          <p:nvPr/>
        </p:nvCxnSpPr>
        <p:spPr>
          <a:xfrm>
            <a:off x="4571640" y="902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326" name="AutoShape 16"/>
          <p:cNvCxnSpPr>
            <a:stCxn id="320" idx="0"/>
            <a:endCxn id="320" idx="0"/>
          </p:cNvCxnSpPr>
          <p:nvPr/>
        </p:nvCxnSpPr>
        <p:spPr>
          <a:xfrm>
            <a:off x="4571640" y="902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327" name="Rectangle 17"/>
          <p:cNvSpPr/>
          <p:nvPr/>
        </p:nvSpPr>
        <p:spPr>
          <a:xfrm>
            <a:off x="7278840" y="121752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2"/>
          <p:cNvSpPr txBox="1"/>
          <p:nvPr/>
        </p:nvSpPr>
        <p:spPr>
          <a:xfrm>
            <a:off x="755640" y="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选择题练习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3" descr="扇子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0" y="18900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代农村百姓住房多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茅屋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瓦房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四合院  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耳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朝缺马，多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驴车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牛车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乘轿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骑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瓦子中圈出许多专供演出的圈子，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市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坊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邸店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勾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代妇女缠足的陋习逐渐传开是由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妇女的自愿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社会提倡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历代统治者政策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一些士大夫提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3492360" y="1125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32" name="WordArt 5"/>
          <p:cNvSpPr txBox="1"/>
          <p:nvPr/>
        </p:nvSpPr>
        <p:spPr>
          <a:xfrm>
            <a:off x="4140360" y="260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7093080" y="213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7093080" y="3068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3" descr="扇子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0" y="189000"/>
            <a:ext cx="9144000" cy="594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内容叙述宋代饮食丰富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东京城里的食品有二百多种  ②夜市上的小吃很多，夏季还有冷饮  ③北方人吃鱼多，东京城内外鱼店，不下一二百家  ④北宋的肉食以羊肉为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①②④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B.①③④  C.②③④  D.①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诗里的“邸店如云屯”是形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交通发达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旅店业兴旺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商业发达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娱乐活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6012000" y="2708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6300720" y="260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3" descr="扇子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0" y="40464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内容不是反映宋代住宅情况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农村百姓住房简陋，多是低矮的茅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稍富人家外建门屋，内为四合院，院内还种花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城市平民住房，平面多为长方形，屋顶以草或瓦覆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1f497d"/>
                </a:solidFill>
                <a:latin typeface="Arial"/>
              </a:rPr>
              <a:t>官僚贵族宅第宏丽，前堂后寝，以穿廊相连，两侧还有耳房和偏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7380360" y="476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172-06EF-432C-A08B-D02F85B22D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3" descr="背景5.jp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347" name="矩形 4" descr=""/>
          <p:cNvPicPr/>
          <p:nvPr/>
        </p:nvPicPr>
        <p:blipFill>
          <a:blip r:embed="rId2"/>
          <a:stretch/>
        </p:blipFill>
        <p:spPr>
          <a:xfrm>
            <a:off x="7935840" y="4500720"/>
            <a:ext cx="1208160" cy="2506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250920" y="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幼圆"/>
                <a:ea typeface="幼圆"/>
              </a:rPr>
              <a:t>作业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2060"/>
                </a:solidFill>
                <a:latin typeface="幼圆"/>
                <a:ea typeface="幼圆"/>
              </a:rPr>
              <a:t>趣味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395280" y="836640"/>
            <a:ext cx="8572680" cy="642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同样是源自两宋的习俗，为什么过春节这样的习俗流传下来，而缠足的习惯却被人们抛弃了？讲讲自己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0632307164092095"/>
          <p:cNvPicPr/>
          <p:nvPr/>
        </p:nvPicPr>
        <p:blipFill>
          <a:blip r:embed="rId3"/>
          <a:srcRect l="4197" t="29849" r="51492" b="24205"/>
          <a:stretch/>
        </p:blipFill>
        <p:spPr>
          <a:xfrm>
            <a:off x="214200" y="3214800"/>
            <a:ext cx="1605240" cy="128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://img.bbs.szhome.com/UploadFiles/Images/2008/08/06/06151535470.jpg"/>
          <p:cNvPicPr/>
          <p:nvPr/>
        </p:nvPicPr>
        <p:blipFill>
          <a:blip r:embed="rId4"/>
          <a:stretch/>
        </p:blipFill>
        <p:spPr>
          <a:xfrm>
            <a:off x="1714680" y="4643280"/>
            <a:ext cx="2382480" cy="1652760"/>
          </a:xfrm>
          <a:prstGeom prst="rect">
            <a:avLst/>
          </a:prstGeom>
          <a:ln w="0">
            <a:noFill/>
          </a:ln>
        </p:spPr>
      </p:pic>
      <p:sp>
        <p:nvSpPr>
          <p:cNvPr id="352" name="右箭头 12"/>
          <p:cNvSpPr/>
          <p:nvPr/>
        </p:nvSpPr>
        <p:spPr>
          <a:xfrm rot="2062200">
            <a:off x="1328760" y="4292280"/>
            <a:ext cx="1000080" cy="714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http://www.t0001.com/uploadfile/news/uploadfile/200901/20090120114226627.jpg"/>
          <p:cNvPicPr/>
          <p:nvPr/>
        </p:nvPicPr>
        <p:blipFill>
          <a:blip r:embed="rId5"/>
          <a:stretch/>
        </p:blipFill>
        <p:spPr>
          <a:xfrm>
            <a:off x="5000760" y="3143160"/>
            <a:ext cx="3014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972310116947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6337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2c7f3c1bc5053eefaf5133de"/>
          <p:cNvPicPr/>
          <p:nvPr/>
        </p:nvPicPr>
        <p:blipFill>
          <a:blip r:embed="rId2"/>
          <a:stretch/>
        </p:blipFill>
        <p:spPr>
          <a:xfrm>
            <a:off x="4859280" y="260280"/>
            <a:ext cx="4105440" cy="6337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826920" y="5661000"/>
            <a:ext cx="799308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f50b"/>
                </a:solidFill>
                <a:latin typeface="Arial"/>
              </a:rPr>
              <a:t>体现北宋初年，崇尚节俭，衣帽上不得缀饰珠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9011811461848583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4819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11941"/>
          <p:cNvPicPr/>
          <p:nvPr/>
        </p:nvPicPr>
        <p:blipFill>
          <a:blip r:embed="rId2"/>
          <a:stretch/>
        </p:blipFill>
        <p:spPr>
          <a:xfrm>
            <a:off x="4716360" y="1268280"/>
            <a:ext cx="3733920" cy="468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2556000" y="333360"/>
            <a:ext cx="396216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u=2464258115,1454121474&amp;gp=34"/>
          <p:cNvPicPr/>
          <p:nvPr/>
        </p:nvPicPr>
        <p:blipFill>
          <a:blip r:embed="rId1"/>
          <a:stretch/>
        </p:blipFill>
        <p:spPr>
          <a:xfrm>
            <a:off x="468360" y="1341360"/>
            <a:ext cx="374328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971640" y="5734080"/>
            <a:ext cx="2643120" cy="520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崇尚节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35640" y="5805360"/>
            <a:ext cx="2438280" cy="520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后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奢侈成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3962160" cy="63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bitumeninfo.com/bbs/attachments/ext_jpg/AJ1u_32_1098_5.jpg"/>
          <p:cNvPicPr/>
          <p:nvPr/>
        </p:nvPicPr>
        <p:blipFill>
          <a:blip r:embed="rId3"/>
          <a:stretch/>
        </p:blipFill>
        <p:spPr>
          <a:xfrm>
            <a:off x="4643280" y="1341360"/>
            <a:ext cx="38674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345600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jiaju1"/>
          <p:cNvPicPr/>
          <p:nvPr/>
        </p:nvPicPr>
        <p:blipFill>
          <a:blip r:embed="rId2"/>
          <a:stretch/>
        </p:blipFill>
        <p:spPr>
          <a:xfrm>
            <a:off x="1258920" y="189000"/>
            <a:ext cx="3541680" cy="29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angzhifunv"/>
          <p:cNvPicPr/>
          <p:nvPr/>
        </p:nvPicPr>
        <p:blipFill>
          <a:blip r:embed="rId3"/>
          <a:stretch/>
        </p:blipFill>
        <p:spPr>
          <a:xfrm>
            <a:off x="1187280" y="3716280"/>
            <a:ext cx="3565800" cy="254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u=1611802699,3912360833&amp;gp=40"/>
          <p:cNvPicPr/>
          <p:nvPr/>
        </p:nvPicPr>
        <p:blipFill>
          <a:blip r:embed="rId4"/>
          <a:stretch/>
        </p:blipFill>
        <p:spPr>
          <a:xfrm>
            <a:off x="5796000" y="227664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27960" y="2372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城市居家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54880" y="38206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农村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4800600" y="2514600"/>
            <a:ext cx="990720" cy="2743200"/>
            <a:chOff x="4800600" y="2514600"/>
            <a:chExt cx="990720" cy="2743200"/>
          </a:xfrm>
        </p:grpSpPr>
        <p:grpSp>
          <p:nvGrpSpPr>
            <p:cNvPr id="112" name=""/>
            <p:cNvGrpSpPr/>
            <p:nvPr/>
          </p:nvGrpSpPr>
          <p:grpSpPr>
            <a:xfrm>
              <a:off x="4800600" y="2514600"/>
              <a:ext cx="990720" cy="1066680"/>
              <a:chOff x="4800600" y="2514600"/>
              <a:chExt cx="990720" cy="1066680"/>
            </a:xfrm>
          </p:grpSpPr>
          <p:sp>
            <p:nvSpPr>
              <p:cNvPr id="113" name="Line 9"/>
              <p:cNvSpPr/>
              <p:nvPr/>
            </p:nvSpPr>
            <p:spPr>
              <a:xfrm>
                <a:off x="4800600" y="2514600"/>
                <a:ext cx="99072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800600" y="2514600"/>
                <a:ext cx="99072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800600" y="4267080"/>
              <a:ext cx="990720" cy="990720"/>
              <a:chOff x="4800600" y="4267080"/>
              <a:chExt cx="990720" cy="990720"/>
            </a:xfrm>
          </p:grpSpPr>
          <p:sp>
            <p:nvSpPr>
              <p:cNvPr id="116" name="Line 10"/>
              <p:cNvSpPr/>
              <p:nvPr/>
            </p:nvSpPr>
            <p:spPr>
              <a:xfrm flipV="1">
                <a:off x="4800600" y="4267080"/>
                <a:ext cx="990720" cy="990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 rot="10800000">
                <a:off x="4800600" y="4267080"/>
                <a:ext cx="99072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Text Box 11"/>
          <p:cNvSpPr/>
          <p:nvPr/>
        </p:nvSpPr>
        <p:spPr>
          <a:xfrm>
            <a:off x="265680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衣着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103480" y="6172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劳动者小袖狭身的短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905160" y="595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妇女缠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8028000" y="595008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110102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5977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284720" y="2838240"/>
            <a:ext cx="4464000" cy="1191240"/>
          </a:xfrm>
          <a:prstGeom prst="rect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这是古文，意思就是说现在人们穿的衣服，大部分都是原来胡服的风格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是长期以来民族交往和民族融合的结果，民族之间的文化交流起到了丰富人们的物质和文化生活的作用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281040" y="620640"/>
            <a:ext cx="729000" cy="5327640"/>
          </a:xfrm>
          <a:prstGeom prst="rect">
            <a:avLst/>
          </a:prstGeom>
          <a:noFill/>
          <a:ln w="38160">
            <a:solidFill>
              <a:srgbClr val="fb05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今世之服，大抵皆胡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4"/>
          <p:cNvPicPr/>
          <p:nvPr/>
        </p:nvPicPr>
        <p:blipFill>
          <a:blip r:embed="rId1"/>
          <a:stretch/>
        </p:blipFill>
        <p:spPr>
          <a:xfrm>
            <a:off x="4702320" y="40464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24000" y="158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历史发展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崇尚简朴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→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盛行奢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9280" y="620640"/>
            <a:ext cx="3961080" cy="703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一、服饰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4000" y="3219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民族融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受北方少数民族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4000" y="501336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陋俗观念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畸形审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——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缠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反映妇女受到封建束缚越来越严重</a:t>
            </a:r>
            <a:r>
              <a:rPr b="1" i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6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23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