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EDE5F-A698-4516-8E91-BA132A7E5E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71EA7-F023-4685-8A97-FEFCD587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D796-6654-4137-8001-D91A7193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6A594-4317-4E3A-879D-6A43102CC7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ECFD3-01BB-4B63-A88F-8700F85C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3BFF5-0B1E-4419-A3B4-30D1BE19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68DFD-EF28-475D-9D3E-C6662FC2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15FD9-BE24-4697-AD1F-ABC26A69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CCA2D-035A-40FC-9548-F4F77C19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BD76F-117E-4BDB-B636-3D47706E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0B541-F90E-4F95-BCD0-63AFEE1C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201C-076E-4188-8EF1-7A1A4A7F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E5183-E496-4644-94D1-39BE2F10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CC09A-FFA0-48E6-9AAC-08F47230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97C67-6617-462B-85E3-EC943C05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7CC50-EC30-4BFE-92FE-66EAD473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4525B-7A0A-40BA-88F1-1CC26165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8D24-1A78-42E3-8789-16D9435F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BDE4C-0BEC-42B3-AFD8-7C5FDEA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0617-BFC1-4A94-B83B-66B66872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CD69-775D-46C0-9583-2F02089B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F05E-AA6A-4743-9007-34E3B7B3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466F-59BF-456F-947A-1670193D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E845B-6843-4008-8A87-04AB3014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E0EE-09E4-4292-BBCA-94AEB8F6F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A76-3BBE-4BAF-A3E0-C65E980A20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138"/>
          <p:cNvPicPr/>
          <p:nvPr/>
        </p:nvPicPr>
        <p:blipFill>
          <a:blip r:embed="rId1"/>
          <a:srcRect l="5244" t="6314" r="4870" b="0"/>
          <a:stretch/>
        </p:blipFill>
        <p:spPr>
          <a:xfrm>
            <a:off x="1332000" y="1628640"/>
            <a:ext cx="3809880" cy="3322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5994000" y="838080"/>
            <a:ext cx="21913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8000"/>
                </a:solidFill>
                <a:latin typeface="Times New Roman"/>
                <a:ea typeface="宋体"/>
              </a:rPr>
              <a:t>送东阳马生序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5144040" y="2514600"/>
            <a:ext cx="15314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宋    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850400" y="117360"/>
            <a:ext cx="56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宋体"/>
                <a:ea typeface="宋体"/>
              </a:rPr>
              <a:t>送东阳马生序课件</a:t>
            </a:r>
            <a:r>
              <a:rPr b="1" lang="en-US" sz="4000" spc="-1" strike="noStrike">
                <a:solidFill>
                  <a:srgbClr val="808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808000"/>
                </a:solidFill>
                <a:latin typeface="宋体"/>
                <a:ea typeface="宋体"/>
              </a:rPr>
              <a:t>模板免费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1628640"/>
          <a:ext cx="8991720" cy="4249800"/>
        </p:xfrm>
        <a:graphic>
          <a:graphicData uri="http://schemas.openxmlformats.org/drawingml/2006/table">
            <a:tbl>
              <a:tblPr/>
              <a:tblGrid>
                <a:gridCol w="1371600"/>
                <a:gridCol w="3416400"/>
                <a:gridCol w="4203720"/>
              </a:tblGrid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余之求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今诸生学于太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假借  笔录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宜有之书皆集于此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师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未尝稍降辞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未有问而不告求而不得者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缊袍敝衣处其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父母岁有裘葛之遗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食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鲜肥滋味之享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冻馁之患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宋体"/>
                        </a:rPr>
                        <a:t>行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穷冬烈风行深山巨谷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大厦之下无奔走之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53"/>
          <p:cNvSpPr/>
          <p:nvPr/>
        </p:nvSpPr>
        <p:spPr>
          <a:xfrm>
            <a:off x="1926000" y="549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用原文中的词句填充下表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1116000" y="2852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通过对比，作者说明了学习条件的好坏，对学习效果不起决定性作用。成功的重要因素是求学者的态度：要勤奋，能吃苦，有恒心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857600" y="11476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Times New Roman"/>
              </a:rPr>
              <a:t>文章揭示的道理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赠序的特点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15640" y="1844640"/>
            <a:ext cx="6985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辈甚称其贤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善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辞甚畅达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文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言和而色夷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谦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2556000" y="2492280"/>
            <a:ext cx="73080" cy="1224000"/>
          </a:xfrm>
          <a:custGeom>
            <a:avLst/>
            <a:gdLst>
              <a:gd name="textAreaLeft" fmla="*/ 46800 w 73080"/>
              <a:gd name="textAreaRight" fmla="*/ 73440 w 73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284120" y="2708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赞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657080" y="4653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勉励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03840" y="4653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余故道为学之艰以告之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课堂小结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4000" y="1989000"/>
            <a:ext cx="899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</a:rPr>
              <a:t>以记叙为主，兼用描写、议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</a:rPr>
              <a:t>运用对比手法阐发主旨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8194"/>
          <p:cNvSpPr/>
          <p:nvPr/>
        </p:nvSpPr>
        <p:spPr>
          <a:xfrm>
            <a:off x="971640" y="5661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33cc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838080" y="2133720"/>
            <a:ext cx="72392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5410080" y="2362320"/>
            <a:ext cx="25909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762120" y="1143000"/>
            <a:ext cx="76960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列举古人在艰苦条件下勤奋学习、以苦为乐的事例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囊萤映雪（晋车胤和孙康的学习故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悬梁刺股（战国苏秦的学习故事，也叫“头悬梁，锥刺股”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凿壁偷光（西汉匡衡的学习故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韦编三绝（孔子晚年读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的故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画荻教子（欧阳修的学习故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2916360" y="404640"/>
            <a:ext cx="33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2843280" y="260280"/>
            <a:ext cx="38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华文新魏"/>
              </a:rPr>
              <a:t>课堂练习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58CE-FEBB-417F-A84C-8B6092743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Times New Roman"/>
              </a:rPr>
              <a:t>拓展延伸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中的苦和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话题写一段文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注意辩证说理；              </a:t>
            </a:r>
            <a:r>
              <a:rPr b="1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运用对比的论证方法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324000" y="1341360"/>
            <a:ext cx="8353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书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 “序” 一般写在书籍或文章的前面，也有列在后面的，称为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“跋”或“后序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它是指用来说明书籍著述、出版意图、编次体例和作者情况的文章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赠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古代送别以诗文相赠，写在诗文前的文字称为赠序。后来没有什么诗文，只写一篇送别赠言的文章，也叫赠序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内容多为赞许、勉励之辞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即属此类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454560" y="260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cc00"/>
                </a:solidFill>
                <a:latin typeface="Times New Roman"/>
                <a:ea typeface="华文新魏"/>
              </a:rPr>
              <a:t>体裁特点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7164360" y="263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华文新魏"/>
              </a:rPr>
              <a:t>作者简介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9051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宋濂，字景濂，号潜溪，明朝初期著名散文家，生平著作甚丰，曾主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元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与刘基、高启并称为明初诗文三大家，为明代“开国文臣之首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4" descr="fm001"/>
          <p:cNvPicPr/>
          <p:nvPr/>
        </p:nvPicPr>
        <p:blipFill>
          <a:blip r:embed="rId1"/>
          <a:stretch/>
        </p:blipFill>
        <p:spPr>
          <a:xfrm>
            <a:off x="6019920" y="1828800"/>
            <a:ext cx="2727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00"/>
                </a:solidFill>
                <a:latin typeface="Times New Roman"/>
                <a:ea typeface="华文新魏"/>
              </a:rPr>
              <a:t>教学目标</a:t>
            </a: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积累文言词语，把握赠序的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运用对比阐明主旨的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古人专心求学、刻苦勤奋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读准字音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嗜学    加冠    硕师    叱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皲裂    媵人    容臭    缊袍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烨然    廪稍    裘葛    冻馁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负箧曳屣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文言句式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文言文里，第三人称代词一般不用作主语，凡是现代汉语需要用主语“他”“他们”的地方，在文言文里就只重复用名词，或者省略主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如：（先达）未尝稍降辞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马生）撰长书以为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与之论辩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马生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言和而色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马生）自谓少时用心于学甚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8000"/>
                </a:solidFill>
                <a:latin typeface="Times New Roman"/>
                <a:ea typeface="华文新魏"/>
              </a:rPr>
              <a:t>整体感知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1988640"/>
            <a:ext cx="691056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这篇序言主要写了什么内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187280" y="292428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作者以自己艰苦求学的经历，勉励马生勤奋学习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826920" y="4508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文章主要采用了什么写作方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403280" y="5516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对比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8000"/>
                </a:solidFill>
                <a:latin typeface="Times New Roman"/>
                <a:ea typeface="华文新魏"/>
              </a:rPr>
              <a:t>研读课文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2205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作者求学的经历具有怎样的特点？表 现在哪些方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太学生学习条件的优越表现在哪些方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作者通过对比，想要说明什么道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课文哪些地方体现了赠序的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 u="sng">
                <a:solidFill>
                  <a:srgbClr val="0033cc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6227640" y="20606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227640" y="3716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易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308720" y="29242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对比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562720" y="1828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5867280" y="175248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solidFill>
            <a:srgbClr val="ffffcc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"/>
          <p:cNvSpPr/>
          <p:nvPr/>
        </p:nvSpPr>
        <p:spPr>
          <a:xfrm>
            <a:off x="5867280" y="35053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solidFill>
            <a:srgbClr val="ffffcc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6948360" y="24922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solidFill>
            <a:srgbClr val="ffffcc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33520" y="1523880"/>
            <a:ext cx="52578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余幼时学习情况：①致书之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师之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奔走之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④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活之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0880" y="3429000"/>
            <a:ext cx="556272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诸生的学习条件：①无冻馁之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②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无奔走之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③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专门老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④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丰富藏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6:56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10Z</dcterms:modified>
  <cp:revision>1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