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jpeg" ContentType="image/jpeg"/>
  <Override PartName="/ppt/media/image10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2.jpeg" ContentType="image/jpeg"/>
  <Override PartName="/ppt/media/camera.wav" ContentType="audio/x-wav"/>
  <Override PartName="/ppt/media/image17.gif" ContentType="image/gif"/>
  <Override PartName="/ppt/media/image21.jpeg" ContentType="image/jpeg"/>
  <Override PartName="/ppt/media/image22.png" ContentType="image/png"/>
  <Override PartName="/ppt/media/image6.gif" ContentType="image/gif"/>
  <Override PartName="/ppt/media/image5.gif" ContentType="image/gif"/>
  <Override PartName="/ppt/media/image14.jpeg" ContentType="image/jpeg"/>
  <Override PartName="/ppt/media/image11.jpeg" ContentType="image/jpeg"/>
  <Override PartName="/ppt/media/image25.jpeg" ContentType="image/jpeg"/>
  <Override PartName="/ppt/media/projctor.wav" ContentType="audio/x-wav"/>
  <Override PartName="/ppt/media/image20.jpeg" ContentType="image/jpeg"/>
  <Override PartName="/ppt/media/type.wav" ContentType="audio/x-wav"/>
  <Override PartName="/ppt/media/image19.jpeg" ContentType="image/jpeg"/>
  <Override PartName="/ppt/media/image16.gif" ContentType="image/gif"/>
  <Override PartName="/ppt/media/image18.gif" ContentType="image/gif"/>
  <Override PartName="/ppt/media/image13.jpeg" ContentType="image/jpeg"/>
  <Override PartName="/ppt/media/chimes.wav" ContentType="audio/x-wav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CAF-20C9-41E9-B215-2FB9379B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5654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51E-AE4B-4F03-9753-9FCFF191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82680" y="3505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5654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82680" y="5654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DD7-3B4C-488B-8BDA-282B35F0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28000" y="3505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55640" y="3505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5654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628000" y="5654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255640" y="5654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CC3-28D1-4C6D-B66A-C048DD56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090F-9F4A-40B9-A524-66C91848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9A95-A22C-41B5-B815-26BAD5BE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A485-9588-48DA-93C4-08334818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82680" y="3505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43A9-DC62-492C-A02A-B42E8604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1712-A485-402E-8645-DD5DC25E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EB95-94FC-4CB4-B8B4-B32C84F9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82680" y="3505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5654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D6F1-949F-42A3-B75A-E2628325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721-D6DE-476B-8F11-04C0E3F0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82680" y="3505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82680" y="5654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5783-E3FB-4A27-BA8C-9A526B6A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82680" y="3505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5654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B564-9566-4448-B1BC-ADECD296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5654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1B52-8B25-4EFC-89B6-5F73DD07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82680" y="3505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5654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82680" y="5654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793B-C31B-4A6C-9E55-ED3FDCBC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628000" y="3505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55640" y="3505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5654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628000" y="5654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255640" y="5654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DF8A-E470-4B09-A2B9-20E110D2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392-954D-4EE4-94C1-233FE994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82680" y="3505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649-951A-4DA2-82D6-7C334938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B67-8576-4FF5-881A-87B5EA89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126-1313-4E88-949F-A63495D5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82680" y="3505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5654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3EA-3208-4AA2-AAFB-66365436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82680" y="3505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82680" y="5654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47B-5291-4837-826E-F158A3EB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82680" y="3505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5654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DA7-2F4F-4542-BE15-E6730A98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Untitled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4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D72A-036A-44A7-842E-E59BA9437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C71A-8DA4-4B81-8E07-E0A7F5923A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3.jpe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9.jpe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23.jpeg"/><Relationship Id="rId7" Type="http://schemas.openxmlformats.org/officeDocument/2006/relationships/image" Target="../media/image6.gif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3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379080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42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第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18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收复台湾和抗击沙俄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920" y="1484280"/>
            <a:ext cx="86421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单元  统一多民族国家的巩固和社会的危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379080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119160" y="61149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79080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接受荷兰投向1"/>
          <p:cNvPicPr/>
          <p:nvPr/>
        </p:nvPicPr>
        <p:blipFill>
          <a:blip r:embed="rId1"/>
          <a:stretch/>
        </p:blipFill>
        <p:spPr>
          <a:xfrm>
            <a:off x="228600" y="1219320"/>
            <a:ext cx="4800600" cy="28368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grpSp>
        <p:nvGrpSpPr>
          <p:cNvPr id="142" name="Group 8"/>
          <p:cNvGrpSpPr/>
          <p:nvPr/>
        </p:nvGrpSpPr>
        <p:grpSpPr>
          <a:xfrm>
            <a:off x="5410080" y="1371600"/>
            <a:ext cx="3429000" cy="581400"/>
            <a:chOff x="5410080" y="1371600"/>
            <a:chExt cx="3429000" cy="581400"/>
          </a:xfrm>
        </p:grpSpPr>
        <p:sp>
          <p:nvSpPr>
            <p:cNvPr id="143" name="Rectangle 6"/>
            <p:cNvSpPr/>
            <p:nvPr/>
          </p:nvSpPr>
          <p:spPr>
            <a:xfrm>
              <a:off x="5410080" y="1371600"/>
              <a:ext cx="34290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5410080" y="137160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662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年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日，郑成功收复台湾接受荷兰殖民者投降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Picture 9" descr="i13"/>
          <p:cNvPicPr/>
          <p:nvPr/>
        </p:nvPicPr>
        <p:blipFill>
          <a:blip r:embed="rId2"/>
          <a:stretch/>
        </p:blipFill>
        <p:spPr>
          <a:xfrm>
            <a:off x="3962520" y="3870360"/>
            <a:ext cx="4952880" cy="267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146" name="Group 10"/>
          <p:cNvGrpSpPr/>
          <p:nvPr/>
        </p:nvGrpSpPr>
        <p:grpSpPr>
          <a:xfrm>
            <a:off x="990720" y="4800600"/>
            <a:ext cx="2286000" cy="947160"/>
            <a:chOff x="990720" y="4800600"/>
            <a:chExt cx="2286000" cy="947160"/>
          </a:xfrm>
        </p:grpSpPr>
        <p:sp>
          <p:nvSpPr>
            <p:cNvPr id="147" name="Rectangle 11"/>
            <p:cNvSpPr/>
            <p:nvPr/>
          </p:nvSpPr>
          <p:spPr>
            <a:xfrm>
              <a:off x="990720" y="4800600"/>
              <a:ext cx="2286000" cy="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990720" y="4800600"/>
              <a:ext cx="228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在台湾赤嵌楼上，郑成功接受投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14"/>
          <p:cNvSpPr/>
          <p:nvPr/>
        </p:nvSpPr>
        <p:spPr>
          <a:xfrm rot="5284200">
            <a:off x="5295600" y="1104480"/>
            <a:ext cx="304560" cy="533520"/>
          </a:xfrm>
          <a:prstGeom prst="flowChartMerg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5"/>
          <p:cNvSpPr/>
          <p:nvPr/>
        </p:nvSpPr>
        <p:spPr>
          <a:xfrm rot="5313600">
            <a:off x="3047760" y="5105160"/>
            <a:ext cx="304920" cy="609840"/>
          </a:xfrm>
          <a:prstGeom prst="flowChartExtra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7" descr="zheng"/>
          <p:cNvPicPr/>
          <p:nvPr/>
        </p:nvPicPr>
        <p:blipFill>
          <a:blip r:embed="rId3"/>
          <a:stretch/>
        </p:blipFill>
        <p:spPr>
          <a:xfrm>
            <a:off x="179280" y="0"/>
            <a:ext cx="878544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073160" y="1066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台湾府的设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04920" y="17524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清军进入台湾的时间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taiwanfu"/>
          <p:cNvPicPr/>
          <p:nvPr/>
        </p:nvPicPr>
        <p:blipFill>
          <a:blip r:embed="rId1"/>
          <a:stretch/>
        </p:blipFill>
        <p:spPr>
          <a:xfrm>
            <a:off x="5029200" y="1371600"/>
            <a:ext cx="3843360" cy="4572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55" name="Rectangle 6"/>
          <p:cNvSpPr/>
          <p:nvPr/>
        </p:nvSpPr>
        <p:spPr>
          <a:xfrm>
            <a:off x="304920" y="2743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清政府何时设置台湾   府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04920" y="39625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台湾府设置的历史意义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535040" y="2286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683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187280" y="3281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684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年，隶属福建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380880" y="5029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加强了台湾同祖国内地的联系，巩固了祖国的东南海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1" descr="gif140.gif"/>
          <p:cNvPicPr/>
          <p:nvPr/>
        </p:nvPicPr>
        <p:blipFill>
          <a:blip r:embed="rId2"/>
          <a:stretch/>
        </p:blipFill>
        <p:spPr>
          <a:xfrm>
            <a:off x="1162080" y="2433600"/>
            <a:ext cx="457200" cy="274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gif140.gif"/>
          <p:cNvPicPr/>
          <p:nvPr/>
        </p:nvPicPr>
        <p:blipFill>
          <a:blip r:embed="rId3"/>
          <a:stretch/>
        </p:blipFill>
        <p:spPr>
          <a:xfrm>
            <a:off x="900000" y="3429000"/>
            <a:ext cx="457200" cy="274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gif140.gif"/>
          <p:cNvPicPr/>
          <p:nvPr/>
        </p:nvPicPr>
        <p:blipFill>
          <a:blip r:embed="rId4"/>
          <a:stretch/>
        </p:blipFill>
        <p:spPr>
          <a:xfrm>
            <a:off x="2340000" y="4581360"/>
            <a:ext cx="503280" cy="301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back004"/>
          <p:cNvPicPr/>
          <p:nvPr/>
        </p:nvPicPr>
        <p:blipFill>
          <a:blip r:embed="rId5"/>
          <a:stretch/>
        </p:blipFill>
        <p:spPr>
          <a:xfrm>
            <a:off x="7620120" y="615456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zheng"/>
          <p:cNvPicPr/>
          <p:nvPr/>
        </p:nvPicPr>
        <p:blipFill>
          <a:blip r:embed="rId6"/>
          <a:stretch/>
        </p:blipFill>
        <p:spPr>
          <a:xfrm>
            <a:off x="179280" y="0"/>
            <a:ext cx="878544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79080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5" descr="777064"/>
          <p:cNvPicPr/>
          <p:nvPr/>
        </p:nvPicPr>
        <p:blipFill>
          <a:blip r:embed="rId1"/>
          <a:stretch/>
        </p:blipFill>
        <p:spPr>
          <a:xfrm>
            <a:off x="7308720" y="4941720"/>
            <a:ext cx="1420920" cy="1916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304920" y="12952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雅克萨之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1143000" y="2514600"/>
            <a:ext cx="7010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  <a:ea typeface="黑体"/>
              </a:rPr>
              <a:t>、雅克萨之战的背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  <a:ea typeface="黑体"/>
              </a:rPr>
              <a:t>、两次雅克萨自卫反击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  <a:ea typeface="黑体"/>
              </a:rPr>
              <a:t>3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  <a:ea typeface="黑体"/>
              </a:rPr>
              <a:t>、中俄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  <a:ea typeface="黑体"/>
              </a:rPr>
              <a:t>《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  <a:ea typeface="黑体"/>
              </a:rPr>
              <a:t>尼布楚条约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  <a:ea typeface="黑体"/>
              </a:rPr>
              <a:t>》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  <a:ea typeface="黑体"/>
              </a:rPr>
              <a:t>的签订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3" descr="gif215.gif"/>
          <p:cNvPicPr/>
          <p:nvPr/>
        </p:nvPicPr>
        <p:blipFill>
          <a:blip r:embed="rId2"/>
          <a:stretch/>
        </p:blipFill>
        <p:spPr>
          <a:xfrm>
            <a:off x="5796000" y="2781360"/>
            <a:ext cx="380880" cy="29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5" descr="gif215.gif"/>
          <p:cNvPicPr/>
          <p:nvPr/>
        </p:nvPicPr>
        <p:blipFill>
          <a:blip r:embed="rId3"/>
          <a:stretch/>
        </p:blipFill>
        <p:spPr>
          <a:xfrm>
            <a:off x="6516720" y="3573360"/>
            <a:ext cx="380880" cy="290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6" descr="gif215.gif"/>
          <p:cNvPicPr/>
          <p:nvPr/>
        </p:nvPicPr>
        <p:blipFill>
          <a:blip r:embed="rId4"/>
          <a:stretch/>
        </p:blipFill>
        <p:spPr>
          <a:xfrm>
            <a:off x="7667640" y="4365720"/>
            <a:ext cx="380880" cy="29052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8198"/>
          <p:cNvSpPr/>
          <p:nvPr/>
        </p:nvSpPr>
        <p:spPr>
          <a:xfrm>
            <a:off x="1731960" y="2259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228600" y="1600200"/>
            <a:ext cx="4952880" cy="1556280"/>
          </a:xfrm>
          <a:prstGeom prst="rect">
            <a:avLst/>
          </a:prstGeom>
          <a:noFill/>
          <a:ln cap="rnd" w="60480">
            <a:solidFill>
              <a:srgbClr val="ff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宋体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1684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沙俄政府给盘踞在雅克萨城的侵略军委派了一个新头目</a:t>
            </a:r>
            <a:r>
              <a:rPr b="1" lang="en-US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叫托尔布津。沙皇颁发给托尔布津一枚盾形城徽，图案是一只张开翅膀的鹰，一只爪抓着一张弓，另一只爪抓着一支箭。沙皇发的这枚城徽表示了什么意图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5257800" y="2514600"/>
            <a:ext cx="38862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鹰象征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弓和箭象征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楷体_GB2312"/>
                <a:ea typeface="黑体"/>
              </a:rPr>
              <a:t>沙皇发这枚城徽表示了什么意图</a:t>
            </a:r>
            <a:r>
              <a:rPr b="0" lang="en-US" sz="3200" spc="-1" strike="noStrike">
                <a:solidFill>
                  <a:srgbClr val="3366ff"/>
                </a:solidFill>
                <a:latin typeface="楷体_GB2312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2" descr="girl15"/>
          <p:cNvPicPr/>
          <p:nvPr/>
        </p:nvPicPr>
        <p:blipFill>
          <a:blip r:embed="rId1"/>
          <a:stretch/>
        </p:blipFill>
        <p:spPr>
          <a:xfrm>
            <a:off x="5148360" y="692280"/>
            <a:ext cx="976320" cy="113652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4"/>
          <p:cNvSpPr txBox="1"/>
          <p:nvPr/>
        </p:nvSpPr>
        <p:spPr>
          <a:xfrm rot="20702400">
            <a:off x="6089400" y="874800"/>
            <a:ext cx="213336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ff"/>
                    </a:gs>
                  </a:gsLst>
                  <a:lin ang="714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动脑筋？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66ff"/>
                  </a:gs>
                </a:gsLst>
                <a:lin ang="714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7" name="Picture 15" descr="EC287DB9C4750D748679183E846063A7"/>
          <p:cNvPicPr/>
          <p:nvPr/>
        </p:nvPicPr>
        <p:blipFill>
          <a:blip r:embed="rId2"/>
          <a:stretch/>
        </p:blipFill>
        <p:spPr>
          <a:xfrm>
            <a:off x="4952880" y="25909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EC287DB9C4750D748679183E846063A7"/>
          <p:cNvPicPr/>
          <p:nvPr/>
        </p:nvPicPr>
        <p:blipFill>
          <a:blip r:embed="rId3"/>
          <a:stretch/>
        </p:blipFill>
        <p:spPr>
          <a:xfrm>
            <a:off x="4952880" y="3429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EC287DB9C4750D748679183E846063A7"/>
          <p:cNvPicPr/>
          <p:nvPr/>
        </p:nvPicPr>
        <p:blipFill>
          <a:blip r:embed="rId4"/>
          <a:stretch/>
        </p:blipFill>
        <p:spPr>
          <a:xfrm>
            <a:off x="4952880" y="4114800"/>
            <a:ext cx="38124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52280" y="2514600"/>
            <a:ext cx="7315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鹰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是好战的象征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弓和箭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是武力的体现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枚城徽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表明沙皇希望侵略者像图案上的飞鹰一样，使用弓和箭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即武力），飞向更远的地方，侵占中国更多的领土。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世纪中期，沙皇势力侵入黑龙江流域，烧杀抢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4" descr="back004"/>
          <p:cNvPicPr/>
          <p:nvPr/>
        </p:nvPicPr>
        <p:blipFill>
          <a:blip r:embed="rId1"/>
          <a:stretch/>
        </p:blipFill>
        <p:spPr>
          <a:xfrm>
            <a:off x="7696080" y="5791320"/>
            <a:ext cx="685800" cy="514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ql"/>
          <p:cNvPicPr/>
          <p:nvPr/>
        </p:nvPicPr>
        <p:blipFill>
          <a:blip r:embed="rId2"/>
          <a:stretch/>
        </p:blipFill>
        <p:spPr>
          <a:xfrm>
            <a:off x="3505320" y="152280"/>
            <a:ext cx="5486400" cy="312732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426708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沙俄侵略者入侵我国黑龙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QCDT05"/>
          <p:cNvPicPr/>
          <p:nvPr/>
        </p:nvPicPr>
        <p:blipFill>
          <a:blip r:embed="rId1"/>
          <a:stretch/>
        </p:blipFill>
        <p:spPr>
          <a:xfrm>
            <a:off x="990720" y="1752480"/>
            <a:ext cx="7391160" cy="470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5" name="Picture 4" descr="Kangxi"/>
          <p:cNvPicPr/>
          <p:nvPr/>
        </p:nvPicPr>
        <p:blipFill>
          <a:blip r:embed="rId2"/>
          <a:stretch/>
        </p:blipFill>
        <p:spPr>
          <a:xfrm>
            <a:off x="152280" y="152280"/>
            <a:ext cx="2820960" cy="403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6" name="Picture 5" descr=""/>
          <p:cNvPicPr/>
          <p:nvPr/>
        </p:nvPicPr>
        <p:blipFill>
          <a:blip r:embed="rId3"/>
          <a:stretch/>
        </p:blipFill>
        <p:spPr>
          <a:xfrm>
            <a:off x="4952880" y="152280"/>
            <a:ext cx="4038840" cy="2838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7" name="Picture 6" descr="小球"/>
          <p:cNvPicPr/>
          <p:nvPr/>
        </p:nvPicPr>
        <p:blipFill>
          <a:blip r:embed="rId4"/>
          <a:stretch/>
        </p:blipFill>
        <p:spPr>
          <a:xfrm>
            <a:off x="4343400" y="39625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小球"/>
          <p:cNvPicPr/>
          <p:nvPr/>
        </p:nvPicPr>
        <p:blipFill>
          <a:blip r:embed="rId5"/>
          <a:stretch/>
        </p:blipFill>
        <p:spPr>
          <a:xfrm>
            <a:off x="3429000" y="45720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8"/>
          <p:cNvSpPr/>
          <p:nvPr/>
        </p:nvSpPr>
        <p:spPr>
          <a:xfrm>
            <a:off x="228600" y="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康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5029200" y="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清军在雅克萨保卫战中使用的大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11" descr="QCDT06"/>
          <p:cNvPicPr/>
          <p:nvPr/>
        </p:nvPicPr>
        <p:blipFill>
          <a:blip r:embed="rId6"/>
          <a:stretch/>
        </p:blipFill>
        <p:spPr>
          <a:xfrm>
            <a:off x="3124080" y="152280"/>
            <a:ext cx="5867640" cy="2901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2" name="Picture 14" descr="back004"/>
          <p:cNvPicPr/>
          <p:nvPr/>
        </p:nvPicPr>
        <p:blipFill>
          <a:blip r:embed="rId7"/>
          <a:stretch/>
        </p:blipFill>
        <p:spPr>
          <a:xfrm>
            <a:off x="8458200" y="587700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539640" y="19162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隶书"/>
              </a:rPr>
              <a:t>中俄两国以格尔必齐河、额尔古纳河和外兴安岭往东至海为界，外兴安岭以北，格尔必齐河、额尔古纳河以西属俄国，外兴安岭以南，格尔必齐河、额尔古纳河以东属中国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33520" y="1295280"/>
            <a:ext cx="663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尼布楚条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内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26" descr="3_1"/>
          <p:cNvPicPr/>
          <p:nvPr/>
        </p:nvPicPr>
        <p:blipFill>
          <a:blip r:embed="rId1"/>
          <a:stretch/>
        </p:blipFill>
        <p:spPr>
          <a:xfrm>
            <a:off x="685800" y="1295280"/>
            <a:ext cx="7848720" cy="4776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6" name="Text Box 1027"/>
          <p:cNvSpPr/>
          <p:nvPr/>
        </p:nvSpPr>
        <p:spPr>
          <a:xfrm>
            <a:off x="2605680" y="5943600"/>
            <a:ext cx="40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尼布楚条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划定中俄边界示意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533520" y="18446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隶书"/>
              </a:rPr>
              <a:t>中俄两国以格尔必齐河、额尔古纳河和外兴安岭往东至海为界，外兴安岭以北，格尔必齐河、额尔古纳河以西属俄国，外兴安岭以南，格尔必齐河、额尔古纳河以东属中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33520" y="1295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尼布楚条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内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68360" y="479736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从法律上肯定了黑龙江和乌苏里江流域包括库页岛在内的广大地区，都是中国的领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821880" y="4797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back004"/>
          <p:cNvPicPr/>
          <p:nvPr/>
        </p:nvPicPr>
        <p:blipFill>
          <a:blip r:embed="rId1"/>
          <a:stretch/>
        </p:blipFill>
        <p:spPr>
          <a:xfrm>
            <a:off x="7667640" y="33336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>
            <a:off x="2590920" y="152280"/>
            <a:ext cx="28098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课堂小结：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826920" y="1890720"/>
            <a:ext cx="81378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收复台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荷兰殖民者侵占我国宝岛台湾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2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民族英雄郑成功收复台湾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6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清政府设置台湾府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8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抗击沙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雅克萨之战的背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次雅克萨自卫反击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尼布楚条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签订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8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826920" y="119700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  收复台湾和抗击沙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文本框 8198"/>
          <p:cNvSpPr/>
          <p:nvPr/>
        </p:nvSpPr>
        <p:spPr>
          <a:xfrm>
            <a:off x="3006720" y="19954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郑成功像"/>
          <p:cNvPicPr/>
          <p:nvPr/>
        </p:nvPicPr>
        <p:blipFill>
          <a:blip r:embed="rId1"/>
          <a:stretch/>
        </p:blipFill>
        <p:spPr>
          <a:xfrm>
            <a:off x="1619280" y="1197000"/>
            <a:ext cx="5689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36040" y="990720"/>
            <a:ext cx="80910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选择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2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侵占台湾的欧洲资本主义国家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英国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牙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荷兰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法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郑成功收复台湾是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165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166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167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168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清朝设置台湾府是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165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166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167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168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清朝初年，两次组织反击沙俄侵略的皇帝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顺治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康熙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雍正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乾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4343400" y="20574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√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2362320" y="32004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√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6443640" y="4365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√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133720" y="5668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√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WordArt 13"/>
          <p:cNvSpPr txBox="1"/>
          <p:nvPr/>
        </p:nvSpPr>
        <p:spPr>
          <a:xfrm>
            <a:off x="5334120" y="304920"/>
            <a:ext cx="28098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随堂练习：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-319320" y="2057400"/>
            <a:ext cx="10513080" cy="2133720"/>
            <a:chOff x="-319320" y="2057400"/>
            <a:chExt cx="10513080" cy="2133720"/>
          </a:xfrm>
        </p:grpSpPr>
        <p:sp>
          <p:nvSpPr>
            <p:cNvPr id="213" name="Rectangle 3"/>
            <p:cNvSpPr/>
            <p:nvPr/>
          </p:nvSpPr>
          <p:spPr>
            <a:xfrm>
              <a:off x="4572000" y="3733920"/>
              <a:ext cx="2438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4"/>
            <p:cNvSpPr/>
            <p:nvPr/>
          </p:nvSpPr>
          <p:spPr>
            <a:xfrm>
              <a:off x="-319320" y="2081160"/>
              <a:ext cx="1051308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开辟荆榛逐荷夷，十年始克复先基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田横尚有三千客，茹苦间关不忍离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 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郑成功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复台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5"/>
            <p:cNvSpPr/>
            <p:nvPr/>
          </p:nvSpPr>
          <p:spPr>
            <a:xfrm>
              <a:off x="4343400" y="205740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1371600" y="276696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4419720" y="271620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6095880" y="3733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Rectangle 9"/>
          <p:cNvSpPr/>
          <p:nvPr/>
        </p:nvSpPr>
        <p:spPr>
          <a:xfrm>
            <a:off x="304920" y="3276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回答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722520" y="1066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材料分析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905120" y="3886200"/>
            <a:ext cx="6627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荆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的含义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荷夷”的含义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荷夷何时到台湾？何时被赶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荷夷被赶后，清政府如何管理台湾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540720" y="1600200"/>
            <a:ext cx="105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材料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3657600" y="4724280"/>
            <a:ext cx="1447920" cy="457200"/>
          </a:xfrm>
          <a:prstGeom prst="wedgeRectCallout">
            <a:avLst>
              <a:gd name="adj1" fmla="val 58990"/>
              <a:gd name="adj2" fmla="val 122916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624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6156360" y="162864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指荷兰殖民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7086600" y="4572000"/>
            <a:ext cx="1447920" cy="457200"/>
          </a:xfrm>
          <a:prstGeom prst="wedgeRectCallout">
            <a:avLst>
              <a:gd name="adj1" fmla="val -68203"/>
              <a:gd name="adj2" fmla="val 12256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662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6"/>
          <p:cNvSpPr/>
          <p:nvPr/>
        </p:nvSpPr>
        <p:spPr>
          <a:xfrm>
            <a:off x="228600" y="3809880"/>
            <a:ext cx="2255760" cy="2140200"/>
          </a:xfrm>
          <a:prstGeom prst="wedgeRectCallout">
            <a:avLst>
              <a:gd name="adj1" fmla="val 66046"/>
              <a:gd name="adj2" fmla="val 6127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684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年，清政府设置台湾府，隶属福建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6248520" y="3962520"/>
            <a:ext cx="2666880" cy="457200"/>
          </a:xfrm>
          <a:prstGeom prst="wedgeRectCallout">
            <a:avLst>
              <a:gd name="adj1" fmla="val -54166"/>
              <a:gd name="adj2" fmla="val 12256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指荷兰殖民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18"/>
          <p:cNvSpPr/>
          <p:nvPr/>
        </p:nvSpPr>
        <p:spPr>
          <a:xfrm>
            <a:off x="3352680" y="3200400"/>
            <a:ext cx="1447920" cy="457200"/>
          </a:xfrm>
          <a:prstGeom prst="wedgeRectCallout">
            <a:avLst>
              <a:gd name="adj1" fmla="val 58990"/>
              <a:gd name="adj2" fmla="val 122916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指台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84AA-1CCB-4DF6-80B7-572549DB22B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2860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材料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] 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中俄两国以格尔必齐河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额尔古纳河和外兴安岭往东至海为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外兴安岭以北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格尔必齐河、额尔古纳河以西属俄国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外兴安岭以南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格尔必齐河、额尔古纳河以东属于中国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4000" y="3162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回答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80880" y="3886200"/>
            <a:ext cx="6019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这段文字出自哪个条约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哪年签定的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这个条约的作用是什么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352680" y="4343400"/>
            <a:ext cx="1447920" cy="457200"/>
          </a:xfrm>
          <a:prstGeom prst="wedgeRectCallout">
            <a:avLst>
              <a:gd name="adj1" fmla="val -66449"/>
              <a:gd name="adj2" fmla="val 125694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689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4859280" y="4464000"/>
            <a:ext cx="4267080" cy="2133720"/>
          </a:xfrm>
          <a:prstGeom prst="wedgeRectCallout">
            <a:avLst>
              <a:gd name="adj1" fmla="val -62907"/>
              <a:gd name="adj2" fmla="val 37425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从法律上肯定了黑龙江和乌苏里江流域包括库页岛在内的广大地区，都是中国的领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4572000" y="3162240"/>
            <a:ext cx="4103640" cy="554040"/>
          </a:xfrm>
          <a:prstGeom prst="wedgeRectCallout">
            <a:avLst>
              <a:gd name="adj1" fmla="val -54717"/>
              <a:gd name="adj2" fmla="val 11389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中俄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尼布楚条约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09480" y="1676520"/>
            <a:ext cx="569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一、“开辟荆榛逐荷夷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914400" y="2666880"/>
            <a:ext cx="685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荷兰殖民者侵占我国宝岛台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民族英雄郑成功收复台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清政府设置台湾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0" descr="zheng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1371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gif215.gif"/>
          <p:cNvPicPr/>
          <p:nvPr/>
        </p:nvPicPr>
        <p:blipFill>
          <a:blip r:embed="rId2"/>
          <a:stretch/>
        </p:blipFill>
        <p:spPr>
          <a:xfrm>
            <a:off x="7885080" y="2819520"/>
            <a:ext cx="380880" cy="290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gif215.gif"/>
          <p:cNvPicPr/>
          <p:nvPr/>
        </p:nvPicPr>
        <p:blipFill>
          <a:blip r:embed="rId3"/>
          <a:stretch/>
        </p:blipFill>
        <p:spPr>
          <a:xfrm>
            <a:off x="6927840" y="3645000"/>
            <a:ext cx="380880" cy="290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gif215.gif"/>
          <p:cNvPicPr/>
          <p:nvPr/>
        </p:nvPicPr>
        <p:blipFill>
          <a:blip r:embed="rId4"/>
          <a:stretch/>
        </p:blipFill>
        <p:spPr>
          <a:xfrm>
            <a:off x="5559480" y="4437000"/>
            <a:ext cx="380880" cy="290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gif215.gif"/>
          <p:cNvPicPr/>
          <p:nvPr/>
        </p:nvPicPr>
        <p:blipFill>
          <a:blip r:embed="rId5"/>
          <a:stretch/>
        </p:blipFill>
        <p:spPr>
          <a:xfrm>
            <a:off x="7020000" y="5229360"/>
            <a:ext cx="7412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26"/>
          <p:cNvSpPr/>
          <p:nvPr/>
        </p:nvSpPr>
        <p:spPr>
          <a:xfrm>
            <a:off x="539640" y="1484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阅读课本前言部分和课文的第一个子目，请同学们描述我国的宝岛台湾是如何被荷兰殖民者占领的，又是谁将其收复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27"/>
          <p:cNvSpPr/>
          <p:nvPr/>
        </p:nvSpPr>
        <p:spPr>
          <a:xfrm>
            <a:off x="914400" y="3886200"/>
            <a:ext cx="5962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荷兰殖民者何时占领台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修筑了哪两座城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最终又是由谁收复台湾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28"/>
          <p:cNvSpPr/>
          <p:nvPr/>
        </p:nvSpPr>
        <p:spPr>
          <a:xfrm>
            <a:off x="755640" y="31417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请回答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29"/>
          <p:cNvSpPr/>
          <p:nvPr/>
        </p:nvSpPr>
        <p:spPr>
          <a:xfrm>
            <a:off x="6705720" y="3886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624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30"/>
          <p:cNvSpPr/>
          <p:nvPr/>
        </p:nvSpPr>
        <p:spPr>
          <a:xfrm>
            <a:off x="6138720" y="46483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台湾城和赤嵌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31"/>
          <p:cNvSpPr/>
          <p:nvPr/>
        </p:nvSpPr>
        <p:spPr>
          <a:xfrm>
            <a:off x="6953400" y="5334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郑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33" descr="gif140.gif"/>
          <p:cNvPicPr/>
          <p:nvPr/>
        </p:nvPicPr>
        <p:blipFill>
          <a:blip r:embed="rId1"/>
          <a:stretch/>
        </p:blipFill>
        <p:spPr>
          <a:xfrm>
            <a:off x="6248520" y="3962520"/>
            <a:ext cx="533160" cy="32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34" descr="gif140.gif"/>
          <p:cNvPicPr/>
          <p:nvPr/>
        </p:nvPicPr>
        <p:blipFill>
          <a:blip r:embed="rId2"/>
          <a:stretch/>
        </p:blipFill>
        <p:spPr>
          <a:xfrm>
            <a:off x="5105520" y="4724280"/>
            <a:ext cx="533160" cy="320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5" descr="gif140.gif"/>
          <p:cNvPicPr/>
          <p:nvPr/>
        </p:nvPicPr>
        <p:blipFill>
          <a:blip r:embed="rId3"/>
          <a:stretch/>
        </p:blipFill>
        <p:spPr>
          <a:xfrm>
            <a:off x="6324480" y="5486400"/>
            <a:ext cx="533520" cy="320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36" descr="back004"/>
          <p:cNvPicPr/>
          <p:nvPr/>
        </p:nvPicPr>
        <p:blipFill>
          <a:blip r:embed="rId4"/>
          <a:stretch/>
        </p:blipFill>
        <p:spPr>
          <a:xfrm>
            <a:off x="7924680" y="586728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37" descr="zheng"/>
          <p:cNvPicPr/>
          <p:nvPr/>
        </p:nvPicPr>
        <p:blipFill>
          <a:blip r:embed="rId5"/>
          <a:stretch/>
        </p:blipFill>
        <p:spPr>
          <a:xfrm>
            <a:off x="179280" y="189000"/>
            <a:ext cx="878544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龙1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148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124000" y="1413000"/>
            <a:ext cx="5183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开辟荆榛逐荷夷，十年始克复先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田横尚有三千客，茹苦间关不忍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                                           </a:t>
            </a:r>
            <a:r>
              <a:rPr b="1" lang="en-US" sz="44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郑成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               </a:t>
            </a:r>
            <a:r>
              <a:rPr b="1" lang="en-US" sz="44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复台诗</a:t>
            </a:r>
            <a:r>
              <a:rPr b="1" lang="en-US" sz="44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zhen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11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龙1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14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zhen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11826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116000" y="1773360"/>
            <a:ext cx="7559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荆榛</a:t>
            </a:r>
            <a:r>
              <a:rPr b="1" lang="zh-CN" sz="40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的含义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9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台湾当时荒蛮的景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荷夷</a:t>
            </a:r>
            <a:r>
              <a:rPr b="1" lang="zh-CN" sz="40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的含义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9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夷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当时指外国人，</a:t>
            </a:r>
            <a:r>
              <a:rPr b="1" lang="zh-CN" sz="4000" spc="-1" strike="noStrike">
                <a:solidFill>
                  <a:srgbClr val="ffcc99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9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荷夷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指荷兰侵略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、如何理解</a:t>
            </a:r>
            <a:r>
              <a:rPr b="1" lang="zh-CN" sz="40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开辟荆榛逐荷夷</a:t>
            </a:r>
            <a:r>
              <a:rPr b="1" lang="zh-CN" sz="40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99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郑成功收复并开发台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gif215.gif"/>
          <p:cNvPicPr/>
          <p:nvPr/>
        </p:nvPicPr>
        <p:blipFill>
          <a:blip r:embed="rId3"/>
          <a:stretch/>
        </p:blipFill>
        <p:spPr>
          <a:xfrm>
            <a:off x="7956720" y="5661000"/>
            <a:ext cx="3808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79080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2"/>
          <p:cNvPicPr/>
          <p:nvPr/>
        </p:nvPicPr>
        <p:blipFill>
          <a:blip r:embed="rId1"/>
          <a:stretch/>
        </p:blipFill>
        <p:spPr>
          <a:xfrm>
            <a:off x="0" y="1125360"/>
            <a:ext cx="7391520" cy="5272200"/>
          </a:xfrm>
          <a:prstGeom prst="rect">
            <a:avLst/>
          </a:prstGeom>
          <a:ln w="44280">
            <a:solidFill>
              <a:srgbClr val="000000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2895480" y="2286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隶书"/>
              </a:rPr>
              <a:t>郑成功收复台湾示意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286000" y="4267080"/>
            <a:ext cx="9144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台湾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057400" y="2819520"/>
            <a:ext cx="685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金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2" descr="小球"/>
          <p:cNvPicPr/>
          <p:nvPr/>
        </p:nvPicPr>
        <p:blipFill>
          <a:blip r:embed="rId2"/>
          <a:stretch/>
        </p:blipFill>
        <p:spPr>
          <a:xfrm>
            <a:off x="1905120" y="2895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小球"/>
          <p:cNvPicPr/>
          <p:nvPr/>
        </p:nvPicPr>
        <p:blipFill>
          <a:blip r:embed="rId3"/>
          <a:stretch/>
        </p:blipFill>
        <p:spPr>
          <a:xfrm>
            <a:off x="320040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小球"/>
          <p:cNvPicPr/>
          <p:nvPr/>
        </p:nvPicPr>
        <p:blipFill>
          <a:blip r:embed="rId4"/>
          <a:stretch/>
        </p:blipFill>
        <p:spPr>
          <a:xfrm>
            <a:off x="3352680" y="42670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5"/>
          <p:cNvSpPr/>
          <p:nvPr/>
        </p:nvSpPr>
        <p:spPr>
          <a:xfrm>
            <a:off x="3352680" y="4419720"/>
            <a:ext cx="9144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赤嵌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9" descr="挥师东渡"/>
          <p:cNvPicPr/>
          <p:nvPr/>
        </p:nvPicPr>
        <p:blipFill>
          <a:blip r:embed="rId5"/>
          <a:stretch/>
        </p:blipFill>
        <p:spPr>
          <a:xfrm>
            <a:off x="5257800" y="836640"/>
            <a:ext cx="3886200" cy="250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Picture 22" descr="挥师东渡1"/>
          <p:cNvPicPr/>
          <p:nvPr/>
        </p:nvPicPr>
        <p:blipFill>
          <a:blip r:embed="rId6"/>
          <a:stretch/>
        </p:blipFill>
        <p:spPr>
          <a:xfrm>
            <a:off x="5410080" y="4206960"/>
            <a:ext cx="3733920" cy="265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28"/>
          <p:cNvSpPr/>
          <p:nvPr/>
        </p:nvSpPr>
        <p:spPr>
          <a:xfrm>
            <a:off x="174600" y="238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033" descr="11"/>
          <p:cNvPicPr/>
          <p:nvPr/>
        </p:nvPicPr>
        <p:blipFill>
          <a:blip r:embed="rId1"/>
          <a:stretch/>
        </p:blipFill>
        <p:spPr>
          <a:xfrm>
            <a:off x="6095880" y="1143000"/>
            <a:ext cx="28814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34"/>
          <p:cNvSpPr/>
          <p:nvPr/>
        </p:nvSpPr>
        <p:spPr>
          <a:xfrm>
            <a:off x="4318560" y="1413000"/>
            <a:ext cx="1380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郑成功致信荷兰殖民长官揆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台湾者，中国之土地也，久为贵国所踞，今余既来索，则地当归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1035"/>
          <p:cNvSpPr txBox="1"/>
          <p:nvPr/>
        </p:nvSpPr>
        <p:spPr>
          <a:xfrm>
            <a:off x="380880" y="4325760"/>
            <a:ext cx="200052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请思考</a:t>
            </a:r>
            <a:r>
              <a:rPr b="1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:</a:t>
            </a:r>
            <a:endParaRPr b="1" lang="en-US" sz="4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9" name="AutoShape 1037"/>
          <p:cNvSpPr/>
          <p:nvPr/>
        </p:nvSpPr>
        <p:spPr>
          <a:xfrm>
            <a:off x="250920" y="4924440"/>
            <a:ext cx="7850160" cy="16002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38"/>
          <p:cNvSpPr/>
          <p:nvPr/>
        </p:nvSpPr>
        <p:spPr>
          <a:xfrm>
            <a:off x="324000" y="51055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郑成功说“台湾者，中国之土地也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42" descr="zhen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012680" y="1828800"/>
            <a:ext cx="71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三国时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吴国曾派将军卫温率船队到过台湾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当时台湾称作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______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71640" y="3124080"/>
            <a:ext cx="73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隋朝时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台湾与大陆来往更加密切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当时台湾称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______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90720" y="4419720"/>
            <a:ext cx="79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3._____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朝时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台湾正式归入中国版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90720" y="5181480"/>
            <a:ext cx="68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明末时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宝岛被正式称为台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019920" y="2286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夷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581280" y="3581280"/>
            <a:ext cx="13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752480" y="43434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zhen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3:44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23Z</dcterms:modified>
  <cp:revision>27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