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936-15E5-4FA6-BECA-FB346D3D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7DE-1EA1-4616-AB1E-56E5FB6C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7E64-3780-407B-8DA1-7B48E8F8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876-6E10-4D4B-89C8-4D282DA1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DABE-A67D-40C0-8BCF-BCDDC657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1F95-3C9E-426B-9E45-7CB174C0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9C58-1B8E-4677-B0D5-60443BE8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4AD1-3168-475B-87C4-2451DB5B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F5C5-5BF6-4E09-8D52-76373F3E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031E-9C03-414C-963E-BA4F8311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3BDA-6AC8-46DE-AB55-AB206756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5C1-A376-42AE-893E-4777F610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86C4-69FD-45A9-BF5D-473EDA34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019C-58F4-4925-A739-49D6957D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DEB1-303C-4A0E-9E56-78D613C6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3E4B-2B68-48B6-A741-A13F97C3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6A8B-8BC9-4F31-84CC-63D19169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76B00-3918-4BDA-88BA-02F38A90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0A06B-F2F6-4E74-A8D8-4C429493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52412-71B6-41DC-9850-E2D742DA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7FF3F-5277-4302-BA23-48A67DAA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B6D6C-8FB3-4731-BDA5-ED07C6F1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8E9A-76C2-4407-8887-9D70332E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53D37-1EFB-4A6F-AB22-A8610068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B8794-EDE3-4065-AA83-458F481E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01A2F-0ABE-4B12-8FBD-9407BF1D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1B706-FCB3-4A8B-89A7-57E2BFB7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B9E60-8508-4EF8-8727-9D778090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793F4-4969-4D37-A3A7-D345A7F4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6E59A-3BDC-4164-8757-1943ACEA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EEF-6387-483A-A3DF-726D4319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A82-8EFF-487F-B2DF-2D528CA2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3178-7829-4445-B381-589E197B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BA5-2483-4A02-BF47-F4EFD2AE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0BE8-CFF1-4E35-AF13-D37DA113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1F2-A263-480B-A7D9-43CE6E16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C2A0-4911-40E3-B94A-843F13BD55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E:\制作工作\2014\1\PPT模板\样例\13 初中化学\模板1-4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2ACC-F2B9-48E3-97B9-B57B8987AF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E:\制作工作\2014\1\PPT模板\样例\13 初中化学\模板1-4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E:\制作工作\2014\1\PPT模板\样例\13 初中化学\模板1-3.png"/>
          <p:cNvPicPr/>
          <p:nvPr/>
        </p:nvPicPr>
        <p:blipFill>
          <a:blip r:embed="rId3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4E41-321F-4BE2-A3F9-C745B2672A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age.baidu.com/i?ct=503316480&amp;z=0&amp;tn=baiduimagedetail&amp;word=%D1%C0%B8%E0&amp;in=24900&amp;cl=2&amp;cm=1&amp;sc=0&amp;lm=-1&amp;pn=0&amp;rn=1&amp;di=10418314860&amp;ln=2000&amp;fr=&amp;ic=0&amp;s=0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.baidu.com/i?ct=503316480&amp;z=0&amp;tn=baiduimagedetail&amp;word=%B7%CA%D4%ED&#750;&amp;in=1786&amp;cl=2&amp;cm=1&amp;sc=0&amp;lm=-1&amp;pn=34&amp;rn=1&amp;di=2396501685&amp;ln=2000&amp;fr=&amp;ic=0&amp;s=0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339640" y="1483920"/>
            <a:ext cx="62276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题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酸和碱的中和反应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6155"/>
          <p:cNvSpPr/>
          <p:nvPr/>
        </p:nvSpPr>
        <p:spPr>
          <a:xfrm>
            <a:off x="104760" y="62308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6912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中和反应在实际中的应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10" descr="U_2701~1"/>
          <p:cNvPicPr/>
          <p:nvPr/>
        </p:nvPicPr>
        <p:blipFill>
          <a:blip r:embed="rId1"/>
          <a:stretch/>
        </p:blipFill>
        <p:spPr>
          <a:xfrm>
            <a:off x="587520" y="1557360"/>
            <a:ext cx="5352840" cy="3311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2"/>
          <p:cNvSpPr/>
          <p:nvPr/>
        </p:nvSpPr>
        <p:spPr>
          <a:xfrm>
            <a:off x="716760" y="5084640"/>
            <a:ext cx="665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用熟石灰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理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O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 Ca(OH)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=   CaSO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+  2H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6156360" y="1700280"/>
            <a:ext cx="223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路上载有浓硫酸的罐车侧翻，硫酸泄漏，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6084720" y="191628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土壤呈酸性，不利于农作物生长，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酸性土壤"/>
          <p:cNvPicPr/>
          <p:nvPr/>
        </p:nvPicPr>
        <p:blipFill>
          <a:blip r:embed="rId1"/>
          <a:stretch/>
        </p:blipFill>
        <p:spPr>
          <a:xfrm>
            <a:off x="611280" y="1757520"/>
            <a:ext cx="5514840" cy="348444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403280" y="543096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用熟石灰改良酸性土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6912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中和反应在实际中的应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6912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中和反应在实际中的应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6659640" y="1844640"/>
            <a:ext cx="241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胃酸中含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盐酸，胃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泌过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4"/>
          <p:cNvGrpSpPr/>
          <p:nvPr/>
        </p:nvGrpSpPr>
        <p:grpSpPr>
          <a:xfrm>
            <a:off x="324000" y="1628640"/>
            <a:ext cx="6133680" cy="2963160"/>
            <a:chOff x="324000" y="1628640"/>
            <a:chExt cx="6133680" cy="2963160"/>
          </a:xfrm>
        </p:grpSpPr>
        <p:pic>
          <p:nvPicPr>
            <p:cNvPr id="208" name="Picture 35" descr="胃舒平"/>
            <p:cNvPicPr/>
            <p:nvPr/>
          </p:nvPicPr>
          <p:blipFill>
            <a:blip r:embed="rId1"/>
            <a:stretch/>
          </p:blipFill>
          <p:spPr>
            <a:xfrm>
              <a:off x="536760" y="1628640"/>
              <a:ext cx="2381040" cy="226296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209" name="Text Box 36"/>
            <p:cNvSpPr/>
            <p:nvPr/>
          </p:nvSpPr>
          <p:spPr>
            <a:xfrm>
              <a:off x="324000" y="4071240"/>
              <a:ext cx="295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含氢氧化铝药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9" descr="20520051025165831"/>
            <p:cNvPicPr/>
            <p:nvPr/>
          </p:nvPicPr>
          <p:blipFill>
            <a:blip r:embed="rId2"/>
            <a:stretch/>
          </p:blipFill>
          <p:spPr>
            <a:xfrm>
              <a:off x="3803400" y="1718640"/>
              <a:ext cx="2654280" cy="201312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211" name="Text Box 14"/>
            <p:cNvSpPr/>
            <p:nvPr/>
          </p:nvSpPr>
          <p:spPr>
            <a:xfrm>
              <a:off x="3886560" y="4071240"/>
              <a:ext cx="23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含氢氧化镁药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9"/>
          <p:cNvGrpSpPr/>
          <p:nvPr/>
        </p:nvGrpSpPr>
        <p:grpSpPr>
          <a:xfrm>
            <a:off x="541440" y="4869000"/>
            <a:ext cx="8602200" cy="1299960"/>
            <a:chOff x="541440" y="4869000"/>
            <a:chExt cx="8602200" cy="1299960"/>
          </a:xfrm>
        </p:grpSpPr>
        <p:sp>
          <p:nvSpPr>
            <p:cNvPr id="213" name="Rectangle 21"/>
            <p:cNvSpPr/>
            <p:nvPr/>
          </p:nvSpPr>
          <p:spPr>
            <a:xfrm>
              <a:off x="1260360" y="5592600"/>
              <a:ext cx="6552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Mg(OH)</a:t>
              </a:r>
              <a:r>
                <a:rPr b="0" lang="en-US" sz="2800" spc="-1" strike="noStrike" baseline="-25000">
                  <a:solidFill>
                    <a:srgbClr val="0000ff"/>
                  </a:solidFill>
                  <a:latin typeface="Times New Roman"/>
                  <a:ea typeface="黑体"/>
                </a:rPr>
                <a:t>2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+2HCl =MgCl</a:t>
              </a:r>
              <a:r>
                <a:rPr b="0" lang="en-US" sz="2800" spc="-1" strike="noStrike" baseline="-25000">
                  <a:solidFill>
                    <a:srgbClr val="0000ff"/>
                  </a:solidFill>
                  <a:latin typeface="Times New Roman"/>
                  <a:ea typeface="黑体"/>
                </a:rPr>
                <a:t>2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+2H</a:t>
              </a:r>
              <a:r>
                <a:rPr b="0" lang="en-US" sz="2800" spc="-1" strike="noStrike" baseline="-25000">
                  <a:solidFill>
                    <a:srgbClr val="0000ff"/>
                  </a:solidFill>
                  <a:latin typeface="Times New Roman"/>
                  <a:ea typeface="黑体"/>
                </a:rPr>
                <a:t>2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"/>
            <p:cNvSpPr/>
            <p:nvPr/>
          </p:nvSpPr>
          <p:spPr>
            <a:xfrm>
              <a:off x="1371600" y="4869000"/>
              <a:ext cx="777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华文新魏"/>
                </a:rPr>
                <a:t>Al(OH)</a:t>
              </a:r>
              <a:r>
                <a:rPr b="0" lang="en-US" sz="2800" spc="-1" strike="noStrike" baseline="-25000">
                  <a:solidFill>
                    <a:srgbClr val="0000ff"/>
                  </a:solidFill>
                  <a:latin typeface="Times New Roman"/>
                  <a:ea typeface="华文新魏"/>
                </a:rPr>
                <a:t>3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华文新魏"/>
                </a:rPr>
                <a:t>+ 3HCl=AlCl</a:t>
              </a:r>
              <a:r>
                <a:rPr b="0" lang="en-US" sz="2800" spc="-1" strike="noStrike" baseline="-25000">
                  <a:solidFill>
                    <a:srgbClr val="0000ff"/>
                  </a:solidFill>
                  <a:latin typeface="Times New Roman"/>
                  <a:ea typeface="华文新魏"/>
                </a:rPr>
                <a:t>3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华文新魏"/>
                </a:rPr>
                <a:t> +3H</a:t>
              </a:r>
              <a:r>
                <a:rPr b="0" lang="en-US" sz="2800" spc="-1" strike="noStrike" baseline="-25000">
                  <a:solidFill>
                    <a:srgbClr val="0000ff"/>
                  </a:solidFill>
                  <a:latin typeface="Times New Roman"/>
                  <a:ea typeface="华文新魏"/>
                </a:rPr>
                <a:t>2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华文新魏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2"/>
            <p:cNvSpPr/>
            <p:nvPr/>
          </p:nvSpPr>
          <p:spPr>
            <a:xfrm>
              <a:off x="541440" y="4871880"/>
              <a:ext cx="64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原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5"/>
          <p:cNvSpPr/>
          <p:nvPr/>
        </p:nvSpPr>
        <p:spPr>
          <a:xfrm>
            <a:off x="6372360" y="1484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蚊虫叮咬后，皮肤红肿、发痒，怎么办？（蚊虫向人体内注入蚁酸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0"/>
          <p:cNvGrpSpPr/>
          <p:nvPr/>
        </p:nvGrpSpPr>
        <p:grpSpPr>
          <a:xfrm>
            <a:off x="662040" y="1542960"/>
            <a:ext cx="4566960" cy="2217600"/>
            <a:chOff x="662040" y="1542960"/>
            <a:chExt cx="4566960" cy="2217600"/>
          </a:xfrm>
        </p:grpSpPr>
        <p:pic>
          <p:nvPicPr>
            <p:cNvPr id="218" name="Picture 8" descr="20080317091310894"/>
            <p:cNvPicPr/>
            <p:nvPr/>
          </p:nvPicPr>
          <p:blipFill>
            <a:blip r:embed="rId1"/>
            <a:stretch/>
          </p:blipFill>
          <p:spPr>
            <a:xfrm>
              <a:off x="4461480" y="1542960"/>
              <a:ext cx="767520" cy="22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2" descr="http://t3.baidu.com/it/u=716957745,2934547853&amp;fm=0&amp;gp=0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2439000" y="1936080"/>
              <a:ext cx="1134720" cy="145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4" descr="http://t2.baidu.com/it/u=3115616785,2548632250&amp;fm=0&amp;gp=0.jpg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662040" y="2014200"/>
              <a:ext cx="1353960" cy="109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Text Box 11"/>
          <p:cNvSpPr/>
          <p:nvPr/>
        </p:nvSpPr>
        <p:spPr>
          <a:xfrm>
            <a:off x="900000" y="4653000"/>
            <a:ext cx="7272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在皮肤表面涂抹肥皂水、牙膏或者稀氨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6912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中和反应在实际中的应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中和反应在实际中的应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395280" y="1557360"/>
            <a:ext cx="4191120" cy="3827520"/>
            <a:chOff x="395280" y="1557360"/>
            <a:chExt cx="4191120" cy="3827520"/>
          </a:xfrm>
        </p:grpSpPr>
        <p:pic>
          <p:nvPicPr>
            <p:cNvPr id="225" name="Picture 5" descr="皮蛋（原装）"/>
            <p:cNvPicPr/>
            <p:nvPr/>
          </p:nvPicPr>
          <p:blipFill>
            <a:blip r:embed="rId1"/>
            <a:stretch/>
          </p:blipFill>
          <p:spPr>
            <a:xfrm>
              <a:off x="776160" y="1557360"/>
              <a:ext cx="283536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6"/>
            <p:cNvSpPr/>
            <p:nvPr/>
          </p:nvSpPr>
          <p:spPr>
            <a:xfrm>
              <a:off x="395280" y="4681440"/>
              <a:ext cx="4191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利用熟石灰加工的皮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Picture 7" descr="皮蛋（菜）"/>
          <p:cNvPicPr/>
          <p:nvPr/>
        </p:nvPicPr>
        <p:blipFill>
          <a:blip r:embed="rId2"/>
          <a:stretch/>
        </p:blipFill>
        <p:spPr>
          <a:xfrm>
            <a:off x="4572000" y="1557360"/>
            <a:ext cx="4321080" cy="3456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8"/>
          <p:cNvSpPr/>
          <p:nvPr/>
        </p:nvSpPr>
        <p:spPr>
          <a:xfrm>
            <a:off x="4500720" y="558972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吃皮蛋时蘸少量的食醋就能去除皮蛋的涩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32F7-033E-4A0A-B099-308EC3DAEA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1116000" y="1341360"/>
            <a:ext cx="676908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和反应（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探究中和反应是否发生，利用反应物消失或者验证有新物质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和反应在实际生活中的应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农业：可以改良酸性土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工业：处理工厂的废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医药：治疗胃酸过多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211400" y="33336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我的收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179280" y="1268280"/>
            <a:ext cx="3203640" cy="665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-252360" y="191628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掌握酸和碱之间发生的中和反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会设计实验证明常见的酸与碱之间能发生发生反应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解中和反应的应用与盐的概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4167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探究氢氧化钠和盐酸发生反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08000" y="1268280"/>
            <a:ext cx="18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提出问题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979640" y="13413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酸和碱之间会发生什么反应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08000" y="1916280"/>
            <a:ext cx="18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实验验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1908000" y="184464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稀盐酸与氢氧化钠溶液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直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混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0" y="2637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设计出可行的方案证明酸和碱之间发生了反应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0" y="3716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-8]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烧杯中加入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氢氧化钠溶液，滴入几滴酚酞溶液。再用滴管慢慢滴入稀盐酸，并不断搅拌溶液，至溶液颜色恰好变成无色为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6"/>
          <p:cNvSpPr/>
          <p:nvPr/>
        </p:nvSpPr>
        <p:spPr>
          <a:xfrm>
            <a:off x="971640" y="5229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4170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探究氢氧化钠和盐酸发生反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Group 13"/>
          <p:cNvGrpSpPr/>
          <p:nvPr/>
        </p:nvGrpSpPr>
        <p:grpSpPr>
          <a:xfrm>
            <a:off x="610920" y="1989000"/>
            <a:ext cx="2952720" cy="3445560"/>
            <a:chOff x="610920" y="1989000"/>
            <a:chExt cx="2952720" cy="3445560"/>
          </a:xfrm>
        </p:grpSpPr>
        <p:pic>
          <p:nvPicPr>
            <p:cNvPr id="140" name="Picture 14" descr="10"/>
            <p:cNvPicPr/>
            <p:nvPr/>
          </p:nvPicPr>
          <p:blipFill>
            <a:blip r:embed="rId1"/>
            <a:stretch/>
          </p:blipFill>
          <p:spPr>
            <a:xfrm>
              <a:off x="610920" y="1989000"/>
              <a:ext cx="2952720" cy="272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" name=""/>
            <p:cNvGrpSpPr/>
            <p:nvPr/>
          </p:nvGrpSpPr>
          <p:grpSpPr>
            <a:xfrm>
              <a:off x="1330200" y="4352760"/>
              <a:ext cx="217440" cy="647640"/>
              <a:chOff x="1330200" y="4352760"/>
              <a:chExt cx="217440" cy="647640"/>
            </a:xfrm>
          </p:grpSpPr>
          <p:sp>
            <p:nvSpPr>
              <p:cNvPr id="142" name="Line 15"/>
              <p:cNvSpPr/>
              <p:nvPr/>
            </p:nvSpPr>
            <p:spPr>
              <a:xfrm>
                <a:off x="1330200" y="4352760"/>
                <a:ext cx="21744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1330200" y="4352760"/>
                <a:ext cx="217440" cy="6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339640" y="3055680"/>
              <a:ext cx="432000" cy="1297080"/>
              <a:chOff x="2339640" y="3055680"/>
              <a:chExt cx="432000" cy="1297080"/>
            </a:xfrm>
          </p:grpSpPr>
          <p:sp>
            <p:nvSpPr>
              <p:cNvPr id="145" name="Line 16"/>
              <p:cNvSpPr/>
              <p:nvPr/>
            </p:nvSpPr>
            <p:spPr>
              <a:xfrm>
                <a:off x="2339640" y="3055680"/>
                <a:ext cx="43200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 txBox="1"/>
              <p:nvPr/>
            </p:nvSpPr>
            <p:spPr>
              <a:xfrm>
                <a:off x="2339640" y="3055680"/>
                <a:ext cx="432000" cy="1297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474200" y="3055680"/>
              <a:ext cx="360720" cy="216000"/>
              <a:chOff x="1474200" y="3055680"/>
              <a:chExt cx="360720" cy="216000"/>
            </a:xfrm>
          </p:grpSpPr>
          <p:sp>
            <p:nvSpPr>
              <p:cNvPr id="148" name="Line 17"/>
              <p:cNvSpPr/>
              <p:nvPr/>
            </p:nvSpPr>
            <p:spPr>
              <a:xfrm flipV="1">
                <a:off x="1474560" y="3055680"/>
                <a:ext cx="36036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 txBox="1"/>
              <p:nvPr/>
            </p:nvSpPr>
            <p:spPr>
              <a:xfrm rot="10800000">
                <a:off x="1474200" y="3055680"/>
                <a:ext cx="360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Rectangle 18"/>
            <p:cNvSpPr/>
            <p:nvPr/>
          </p:nvSpPr>
          <p:spPr>
            <a:xfrm>
              <a:off x="870480" y="4974840"/>
              <a:ext cx="196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m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氢氧化钠溶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>
              <a:off x="1939320" y="2638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酚酞溶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20"/>
          <p:cNvSpPr/>
          <p:nvPr/>
        </p:nvSpPr>
        <p:spPr>
          <a:xfrm>
            <a:off x="3348000" y="3213000"/>
            <a:ext cx="1224000" cy="863640"/>
          </a:xfrm>
          <a:prstGeom prst="rightArrow">
            <a:avLst>
              <a:gd name="adj1" fmla="val 50000"/>
              <a:gd name="adj2" fmla="val 35412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21"/>
          <p:cNvGrpSpPr/>
          <p:nvPr/>
        </p:nvGrpSpPr>
        <p:grpSpPr>
          <a:xfrm>
            <a:off x="4427640" y="1844640"/>
            <a:ext cx="1657080" cy="2808360"/>
            <a:chOff x="4427640" y="1844640"/>
            <a:chExt cx="1657080" cy="2808360"/>
          </a:xfrm>
        </p:grpSpPr>
        <p:sp>
          <p:nvSpPr>
            <p:cNvPr id="154" name="Text Box 22"/>
            <p:cNvSpPr/>
            <p:nvPr/>
          </p:nvSpPr>
          <p:spPr>
            <a:xfrm>
              <a:off x="4716360" y="206064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稀盐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23" descr="10"/>
            <p:cNvPicPr/>
            <p:nvPr/>
          </p:nvPicPr>
          <p:blipFill>
            <a:blip r:embed="rId2"/>
            <a:stretch/>
          </p:blipFill>
          <p:spPr>
            <a:xfrm>
              <a:off x="4427640" y="1844640"/>
              <a:ext cx="1425600" cy="280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"/>
            <p:cNvGrpSpPr/>
            <p:nvPr/>
          </p:nvGrpSpPr>
          <p:grpSpPr>
            <a:xfrm>
              <a:off x="5292720" y="2491920"/>
              <a:ext cx="287280" cy="505080"/>
              <a:chOff x="5292720" y="2491920"/>
              <a:chExt cx="287280" cy="505080"/>
            </a:xfrm>
          </p:grpSpPr>
          <p:sp>
            <p:nvSpPr>
              <p:cNvPr id="157" name="Line 24"/>
              <p:cNvSpPr/>
              <p:nvPr/>
            </p:nvSpPr>
            <p:spPr>
              <a:xfrm flipH="1" flipV="1">
                <a:off x="5292720" y="2491920"/>
                <a:ext cx="287280" cy="50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 rot="10800000">
                <a:off x="5292720" y="2491920"/>
                <a:ext cx="287280" cy="505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AutoShape 25"/>
          <p:cNvSpPr/>
          <p:nvPr/>
        </p:nvSpPr>
        <p:spPr>
          <a:xfrm>
            <a:off x="5869080" y="3286080"/>
            <a:ext cx="1224000" cy="863640"/>
          </a:xfrm>
          <a:prstGeom prst="rightArrow">
            <a:avLst>
              <a:gd name="adj1" fmla="val 50000"/>
              <a:gd name="adj2" fmla="val 35412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6" descr="10"/>
          <p:cNvPicPr/>
          <p:nvPr/>
        </p:nvPicPr>
        <p:blipFill>
          <a:blip r:embed="rId3"/>
          <a:stretch/>
        </p:blipFill>
        <p:spPr>
          <a:xfrm>
            <a:off x="7020000" y="3143160"/>
            <a:ext cx="1447560" cy="1438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7"/>
          <p:cNvSpPr/>
          <p:nvPr/>
        </p:nvSpPr>
        <p:spPr>
          <a:xfrm>
            <a:off x="2195640" y="55738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氢氧化钠溶液中加入盐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032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中和反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258920" y="42210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             =                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1042920" y="242100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HC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NaOH    =  NaCl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NaO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  Na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HC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  CaCl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  CaSO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1"/>
          <p:cNvGrpSpPr/>
          <p:nvPr/>
        </p:nvGrpSpPr>
        <p:grpSpPr>
          <a:xfrm>
            <a:off x="971640" y="2349360"/>
            <a:ext cx="1295280" cy="2392200"/>
            <a:chOff x="971640" y="2349360"/>
            <a:chExt cx="1295280" cy="2392200"/>
          </a:xfrm>
        </p:grpSpPr>
        <p:sp>
          <p:nvSpPr>
            <p:cNvPr id="166" name="Rectangle 13"/>
            <p:cNvSpPr/>
            <p:nvPr/>
          </p:nvSpPr>
          <p:spPr>
            <a:xfrm>
              <a:off x="971640" y="2349360"/>
              <a:ext cx="1295280" cy="187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7"/>
            <p:cNvSpPr/>
            <p:nvPr/>
          </p:nvSpPr>
          <p:spPr>
            <a:xfrm>
              <a:off x="1260360" y="4221000"/>
              <a:ext cx="6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22"/>
          <p:cNvGrpSpPr/>
          <p:nvPr/>
        </p:nvGrpSpPr>
        <p:grpSpPr>
          <a:xfrm>
            <a:off x="2843280" y="2349360"/>
            <a:ext cx="1366560" cy="2392200"/>
            <a:chOff x="2843280" y="2349360"/>
            <a:chExt cx="1366560" cy="2392200"/>
          </a:xfrm>
        </p:grpSpPr>
        <p:sp>
          <p:nvSpPr>
            <p:cNvPr id="169" name="Rectangle 14"/>
            <p:cNvSpPr/>
            <p:nvPr/>
          </p:nvSpPr>
          <p:spPr>
            <a:xfrm>
              <a:off x="2843280" y="2349360"/>
              <a:ext cx="1366560" cy="187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8"/>
            <p:cNvSpPr/>
            <p:nvPr/>
          </p:nvSpPr>
          <p:spPr>
            <a:xfrm>
              <a:off x="3132000" y="4221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4"/>
          <p:cNvGrpSpPr/>
          <p:nvPr/>
        </p:nvGrpSpPr>
        <p:grpSpPr>
          <a:xfrm>
            <a:off x="6659640" y="2349360"/>
            <a:ext cx="1295280" cy="2392200"/>
            <a:chOff x="6659640" y="2349360"/>
            <a:chExt cx="1295280" cy="2392200"/>
          </a:xfrm>
        </p:grpSpPr>
        <p:sp>
          <p:nvSpPr>
            <p:cNvPr id="172" name="Rectangle 16"/>
            <p:cNvSpPr/>
            <p:nvPr/>
          </p:nvSpPr>
          <p:spPr>
            <a:xfrm>
              <a:off x="6659640" y="2349360"/>
              <a:ext cx="1295280" cy="187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0"/>
            <p:cNvSpPr/>
            <p:nvPr/>
          </p:nvSpPr>
          <p:spPr>
            <a:xfrm>
              <a:off x="6948360" y="4221000"/>
              <a:ext cx="64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6"/>
          <p:cNvGrpSpPr/>
          <p:nvPr/>
        </p:nvGrpSpPr>
        <p:grpSpPr>
          <a:xfrm>
            <a:off x="4716360" y="1125360"/>
            <a:ext cx="3456000" cy="3616200"/>
            <a:chOff x="4716360" y="1125360"/>
            <a:chExt cx="3456000" cy="3616200"/>
          </a:xfrm>
        </p:grpSpPr>
        <p:grpSp>
          <p:nvGrpSpPr>
            <p:cNvPr id="175" name="Group 23"/>
            <p:cNvGrpSpPr/>
            <p:nvPr/>
          </p:nvGrpSpPr>
          <p:grpSpPr>
            <a:xfrm>
              <a:off x="4716360" y="2349360"/>
              <a:ext cx="1295280" cy="2392200"/>
              <a:chOff x="4716360" y="2349360"/>
              <a:chExt cx="1295280" cy="2392200"/>
            </a:xfrm>
          </p:grpSpPr>
          <p:sp>
            <p:nvSpPr>
              <p:cNvPr id="176" name="Rectangle 15"/>
              <p:cNvSpPr/>
              <p:nvPr/>
            </p:nvSpPr>
            <p:spPr>
              <a:xfrm>
                <a:off x="4716360" y="2349360"/>
                <a:ext cx="1295280" cy="187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19"/>
              <p:cNvSpPr/>
              <p:nvPr/>
            </p:nvSpPr>
            <p:spPr>
              <a:xfrm>
                <a:off x="5149800" y="42210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盐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AutoShape 25"/>
            <p:cNvSpPr/>
            <p:nvPr/>
          </p:nvSpPr>
          <p:spPr>
            <a:xfrm>
              <a:off x="5219640" y="1125360"/>
              <a:ext cx="2952720" cy="1008360"/>
            </a:xfrm>
            <a:prstGeom prst="wedgeRoundRectCallout">
              <a:avLst>
                <a:gd name="adj1" fmla="val -42472"/>
                <a:gd name="adj2" fmla="val 8118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金属和酸根离子构成的化合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27"/>
          <p:cNvSpPr/>
          <p:nvPr/>
        </p:nvSpPr>
        <p:spPr>
          <a:xfrm>
            <a:off x="826920" y="5013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酸和碱作用，生成盐和水的反应，叫中和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10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464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5"/>
          <p:cNvSpPr/>
          <p:nvPr/>
        </p:nvSpPr>
        <p:spPr>
          <a:xfrm>
            <a:off x="395280" y="5589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氢氧化钠与盐酸反应示意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8199"/>
          <p:cNvSpPr/>
          <p:nvPr/>
        </p:nvSpPr>
        <p:spPr>
          <a:xfrm>
            <a:off x="3706920" y="2041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1413000"/>
            <a:ext cx="57610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中和反应的实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835280" y="522936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量自由移动的氢离子和氢氧根离子生成稳定的水的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中和反应微观解释.wmv" descr=""/>
          <p:cNvPicPr/>
          <p:nvPr/>
        </p:nvPicPr>
        <p:blipFill>
          <a:blip r:embed="rId1"/>
          <a:stretch/>
        </p:blipFill>
        <p:spPr>
          <a:xfrm>
            <a:off x="3124080" y="2092320"/>
            <a:ext cx="2384640" cy="31370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"/>
          <p:cNvSpPr/>
          <p:nvPr/>
        </p:nvSpPr>
        <p:spPr>
          <a:xfrm>
            <a:off x="1187280" y="260280"/>
            <a:ext cx="40323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中和反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7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下列反应中属于中和反应的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n + 2HCl  =   ZnCl2  +H2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uO + 2HCl  =  CuCl2+  H2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a(OH)2+ H2SO4  =   BaSO4 ↓+ 2H2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NO3+HCl  =  AgCl↓  +HNO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下列物质中，不属于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盐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类的是（      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(OH)2         B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C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2CO3        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2SO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6300720" y="1628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6374520" y="422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6879240" y="422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Calibri"/>
              </a:rPr>
              <a:t>巩固拓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U_3314~1"/>
          <p:cNvPicPr/>
          <p:nvPr/>
        </p:nvPicPr>
        <p:blipFill>
          <a:blip r:embed="rId1"/>
          <a:stretch/>
        </p:blipFill>
        <p:spPr>
          <a:xfrm>
            <a:off x="611280" y="1600200"/>
            <a:ext cx="5514840" cy="3124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6912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中和反应在实际中的应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084720" y="1617840"/>
            <a:ext cx="266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硫酸厂的废水直接排放，会对环境造成污染，怎么处理废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861480" y="5157720"/>
            <a:ext cx="665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用熟石灰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理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O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 Ca(OH)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=   CaSO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+  2H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21Z</dcterms:modified>
  <cp:revision>5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