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FF4-183D-45DE-97A7-33EF1B93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0DEE-A7BA-403E-A5F3-C2D44B0F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775A-D12B-4D70-9CF2-A3EDBDF2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B65A-4B1F-44FE-96C2-CA76198C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D6D4-D43B-41EB-81E6-FF255785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E4A4-F875-4446-9B25-94CFF9E0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19CB-23A0-40A0-A8BE-CFDAE581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AB63-22F5-49A3-BE3E-48FF7EEA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F34C-D591-4501-8C3C-07BB918F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5B57-7728-4C1B-9773-960FE1B0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7C0C-816A-4A01-B8A9-E034287A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2A27-35FC-4590-B240-37EA0D67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46F2-710D-4758-9501-A09A0C57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1102-A12C-42D5-BA10-746C0B0D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3B76-906B-498A-BC7A-633A7920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7E09-C9F1-4FE2-8B1F-C61006E8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9492-9C34-4A99-9DAF-5EDB0FBD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1ADE8-C555-4EF5-9A64-F46D595B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47115-F8DE-44E3-A89B-BD476072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0702B-00BD-4800-A7D6-B1A1D0E2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12C64-EC0A-4E77-934F-F467EA74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146A6-9DA2-43E4-A888-3B227F16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A8DC-F920-4AB2-B67B-3CC0018D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45A57-2BD3-4515-8EC5-6BFAA593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050FD-D09B-460C-AD84-7CB2E335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772C5-AC4B-4BB1-BD16-2DDD9419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39580-ED58-460B-8A99-694DAB99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B1D65-B917-4658-BB6F-38FFC7E1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20A69-06C3-4CC9-90A1-FBE905A5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11354-6D15-429B-AEEA-18B2B2FD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E1D06-1B50-46EC-AE53-5FFA068A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5ED40-7C4B-4410-A6A4-E2EB447C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75BAB-6D7F-4454-BBF1-9445F019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BDDC-2580-4185-8FA8-9BBAF949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1AFBA-17BE-4C41-BAEE-0559BD2B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AA603-7C2B-4AA9-9B66-29154FAD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5322F-A408-4748-A509-32230556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F16B4-6B66-4AEB-BF84-180D7103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C8EF1-C5A6-41BD-9CBE-8F6E8268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DA075-3091-49D4-AD03-463588FA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DDA96-17BF-474A-A552-C92CEA28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BAA61-E0F3-48FD-954E-F1F33E39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380B4-EECB-43A3-83BA-15DD61F3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61A0-193C-4E66-A4DD-2E443C44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C194-2DA0-4D7D-B265-1D8B596A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7C0B-1EFE-4448-B0B2-AB53B47A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D83F-B4D3-40E0-AB7B-4972B54E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F5B5-EB0E-46BF-BD68-CD38C977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9A6E-34BA-4FFA-B0B4-AE29565106D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F9B0F6F-D7D8-4207-A573-6ACCA80A693F}" type="datetime12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59F4-F12F-4414-A63F-7C4AB2A04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60AD-EF43-4086-B04D-E37E18AE30F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F5F2-95CC-4B96-8085-F62C9EF9F62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A3A23CD-A996-4F29-A1F3-926EE171A062}" type="datetime12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7F22-8C0E-4649-B3BE-F91704608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BD90-D186-44AE-B908-9F317E2804A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727C1DE-DC3A-4ABE-9444-5E1C0BFAD7C8}" type="datetime12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B116-EC99-43C8-86C9-07D6CDC67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image" Target="../media/image11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617400" y="2565360"/>
            <a:ext cx="724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宋体"/>
                <a:ea typeface="宋体"/>
              </a:rPr>
              <a:t>水和水蒸气</a:t>
            </a:r>
            <a:r>
              <a:rPr b="1" lang="en-US" sz="4000" spc="-1" strike="noStrike">
                <a:solidFill>
                  <a:srgbClr val="006699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6699"/>
                </a:solidFill>
                <a:latin typeface="宋体"/>
                <a:ea typeface="宋体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539640" y="907920"/>
            <a:ext cx="63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6699"/>
                </a:solidFill>
                <a:latin typeface="Arial"/>
              </a:rPr>
              <a:t>三年级下册第三单元第六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71d7170f5bc2f2026059f39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0" y="1268280"/>
            <a:ext cx="914400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  <a:ea typeface="华文行楷"/>
              </a:rPr>
              <a:t>      </a:t>
            </a:r>
            <a:r>
              <a:rPr b="1" lang="zh-CN" sz="5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举举生活中水蒸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成水蒸气的例子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35F9-F7D2-4DF5-B251-04F5569B621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E2F4C7B-9F62-45E4-A495-A05E0CA4B0B7}" type="datetime12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71d7170f5bc2f2026059f39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 flipV="1">
            <a:off x="2268360" y="3861720"/>
            <a:ext cx="3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图片1"/>
          <p:cNvPicPr/>
          <p:nvPr/>
        </p:nvPicPr>
        <p:blipFill>
          <a:blip r:embed="rId2"/>
          <a:stretch/>
        </p:blipFill>
        <p:spPr>
          <a:xfrm>
            <a:off x="2124000" y="3500280"/>
            <a:ext cx="5329440" cy="10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6"/>
          <p:cNvSpPr/>
          <p:nvPr/>
        </p:nvSpPr>
        <p:spPr>
          <a:xfrm>
            <a:off x="3040200" y="3938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2268360" y="3716280"/>
            <a:ext cx="50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实验探究，加快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蒸发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E59B-1886-467D-9FCD-5CE289A7C81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C29289-7101-4EEF-B016-E657EF97F150}" type="datetime12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71d7170f5bc2f2026059f39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3"/>
          <p:cNvSpPr/>
          <p:nvPr/>
        </p:nvSpPr>
        <p:spPr>
          <a:xfrm flipV="1">
            <a:off x="2268360" y="3861720"/>
            <a:ext cx="3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040200" y="3938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324000" y="126828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水会蒸发成水蒸气，那怎样能让水蒸发的快些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468360" y="3141720"/>
            <a:ext cx="827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实验： 让汤勺里的水在短时间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蒸发成水蒸气。（用酒精灯加热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ADB1-4687-4488-92F0-38267ACB062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0725334-D566-4DAC-B438-0AA16109515A}" type="datetime12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71d7170f5bc2f2026059f39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3"/>
          <p:cNvSpPr/>
          <p:nvPr/>
        </p:nvSpPr>
        <p:spPr>
          <a:xfrm>
            <a:off x="468360" y="692280"/>
            <a:ext cx="3095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实验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 flipV="1">
            <a:off x="2268360" y="3861720"/>
            <a:ext cx="3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3040200" y="3938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250920" y="1413000"/>
            <a:ext cx="770580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一步： 先在将滴管里的水全部滴入汤勺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二步：点燃酒精灯，将汤勺底部放在酒精灯上加热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楷体_GB2312"/>
              </a:rPr>
              <a:t>要将汤勺的底部正好放在酒精灯火焰上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三步：仔细观察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楷体_GB2312"/>
              </a:rPr>
              <a:t>汤勺中水的变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一边观察一边将你的发现记录在记录单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5A92-BE10-41F4-9A2A-B2A5D33E99F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B83C1B2-1105-4662-8B0F-0201FAAC9A6F}" type="datetime12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71d7170f5bc2f2026059f39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3"/>
          <p:cNvSpPr/>
          <p:nvPr/>
        </p:nvSpPr>
        <p:spPr>
          <a:xfrm>
            <a:off x="900000" y="907920"/>
            <a:ext cx="7581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15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WordArt 5"/>
          <p:cNvSpPr txBox="1"/>
          <p:nvPr/>
        </p:nvSpPr>
        <p:spPr>
          <a:xfrm>
            <a:off x="3492360" y="549360"/>
            <a:ext cx="2457720" cy="409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我们发现了！</a:t>
            </a:r>
            <a:endParaRPr b="1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012000" y="54828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是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24000" y="1052640"/>
          <a:ext cx="8280360" cy="4297320"/>
        </p:xfrm>
        <a:graphic>
          <a:graphicData uri="http://schemas.openxmlformats.org/drawingml/2006/table">
            <a:tbl>
              <a:tblPr/>
              <a:tblGrid>
                <a:gridCol w="3527280"/>
                <a:gridCol w="4753080"/>
              </a:tblGrid>
              <a:tr h="88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刚开始我们发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336600"/>
                          </a:solidFill>
                          <a:latin typeface="仿宋_GB2312"/>
                          <a:ea typeface="仿宋_GB2312"/>
                        </a:rPr>
                        <a:t>（有很多小泡泡，水面没有明显的变化。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加热一段时间后发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00"/>
                          </a:solidFill>
                          <a:latin typeface="仿宋_GB2312"/>
                          <a:ea typeface="仿宋_GB2312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336600"/>
                          </a:solidFill>
                          <a:latin typeface="仿宋_GB2312"/>
                          <a:ea typeface="仿宋_GB2312"/>
                        </a:rPr>
                        <a:t>（出现很多大的泡泡，水变少了。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最后我们发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00"/>
                          </a:solidFill>
                          <a:latin typeface="仿宋_GB2312"/>
                          <a:ea typeface="仿宋_GB2312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336600"/>
                          </a:solidFill>
                          <a:latin typeface="仿宋_GB2312"/>
                          <a:ea typeface="仿宋_GB2312"/>
                        </a:rPr>
                        <a:t>（水没了，都蒸发成了水蒸气 。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我们的结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00"/>
                          </a:solidFill>
                          <a:latin typeface="仿宋_GB2312"/>
                          <a:ea typeface="仿宋_GB2312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336600"/>
                          </a:solidFill>
                          <a:latin typeface="仿宋_GB2312"/>
                          <a:ea typeface="仿宋_GB2312"/>
                        </a:rPr>
                        <a:t>（ 加热可以加快水蒸发成水蒸气。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楷体_GB2312"/>
                        </a:rPr>
                        <a:t>加热中我们还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楷体_GB2312"/>
                        </a:rPr>
                        <a:t>现了水面上出现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00"/>
                          </a:solidFill>
                          <a:latin typeface="仿宋_GB2312"/>
                          <a:ea typeface="仿宋_GB2312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336600"/>
                          </a:solidFill>
                          <a:latin typeface="仿宋_GB2312"/>
                          <a:ea typeface="仿宋_GB2312"/>
                        </a:rPr>
                        <a:t>（有白汽不断的冒出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Rectangle 30"/>
          <p:cNvSpPr/>
          <p:nvPr/>
        </p:nvSpPr>
        <p:spPr>
          <a:xfrm>
            <a:off x="5962320" y="6091920"/>
            <a:ext cx="25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实验记录单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0DEB-C457-497B-85A8-1DC9C8C03FB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ED7E8B9-364E-4F7F-99DD-BAFE8EFE92A5}" type="datetime12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20080114144842255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3"/>
          <p:cNvSpPr/>
          <p:nvPr/>
        </p:nvSpPr>
        <p:spPr>
          <a:xfrm>
            <a:off x="26640" y="593640"/>
            <a:ext cx="729000" cy="60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时候需要水蒸发得更快一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烘手"/>
          <p:cNvPicPr/>
          <p:nvPr/>
        </p:nvPicPr>
        <p:blipFill>
          <a:blip r:embed="rId3"/>
          <a:stretch/>
        </p:blipFill>
        <p:spPr>
          <a:xfrm>
            <a:off x="828720" y="252360"/>
            <a:ext cx="8136000" cy="6345360"/>
          </a:xfrm>
          <a:prstGeom prst="rect">
            <a:avLst/>
          </a:prstGeom>
          <a:ln w="0">
            <a:noFill/>
          </a:ln>
        </p:spPr>
      </p:pic>
      <p:sp>
        <p:nvSpPr>
          <p:cNvPr id="279" name="AutoShape 5"/>
          <p:cNvSpPr/>
          <p:nvPr/>
        </p:nvSpPr>
        <p:spPr>
          <a:xfrm>
            <a:off x="468360" y="0"/>
            <a:ext cx="1871640" cy="180036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611280" y="5013360"/>
            <a:ext cx="1944720" cy="165564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7236000" y="5084640"/>
            <a:ext cx="1908000" cy="158436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8"/>
          <p:cNvSpPr/>
          <p:nvPr/>
        </p:nvSpPr>
        <p:spPr>
          <a:xfrm>
            <a:off x="7488360" y="0"/>
            <a:ext cx="1655640" cy="144000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9"/>
          <p:cNvSpPr/>
          <p:nvPr/>
        </p:nvSpPr>
        <p:spPr>
          <a:xfrm>
            <a:off x="1763640" y="1413000"/>
            <a:ext cx="1873440" cy="1728720"/>
          </a:xfrm>
          <a:prstGeom prst="pentag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0"/>
          <p:cNvSpPr/>
          <p:nvPr/>
        </p:nvSpPr>
        <p:spPr>
          <a:xfrm>
            <a:off x="2050920" y="3860640"/>
            <a:ext cx="1871640" cy="1800360"/>
          </a:xfrm>
          <a:prstGeom prst="pentag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1"/>
          <p:cNvSpPr/>
          <p:nvPr/>
        </p:nvSpPr>
        <p:spPr>
          <a:xfrm>
            <a:off x="5724360" y="4076640"/>
            <a:ext cx="1727280" cy="1584360"/>
          </a:xfrm>
          <a:prstGeom prst="pentag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2"/>
          <p:cNvSpPr/>
          <p:nvPr/>
        </p:nvSpPr>
        <p:spPr>
          <a:xfrm>
            <a:off x="5580000" y="1341360"/>
            <a:ext cx="1727280" cy="1582920"/>
          </a:xfrm>
          <a:prstGeom prst="pentag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3"/>
          <p:cNvSpPr/>
          <p:nvPr/>
        </p:nvSpPr>
        <p:spPr>
          <a:xfrm>
            <a:off x="3492360" y="2708280"/>
            <a:ext cx="19432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FABE-C09A-41AB-9388-EDBDA39AFC3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F5AF76-47A5-49BA-828B-0B6479C99CD5}" type="datetime12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20080114144842255"/>
          <p:cNvPicPr/>
          <p:nvPr/>
        </p:nvPicPr>
        <p:blipFill>
          <a:blip r:embed="rId1">
            <a:lum bright="48000"/>
            <a:alphaModFix amt="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9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200831994431536_2"/>
          <p:cNvPicPr/>
          <p:nvPr/>
        </p:nvPicPr>
        <p:blipFill>
          <a:blip r:embed="rId3"/>
          <a:stretch/>
        </p:blipFill>
        <p:spPr>
          <a:xfrm>
            <a:off x="900000" y="333360"/>
            <a:ext cx="8075880" cy="6281640"/>
          </a:xfrm>
          <a:prstGeom prst="rect">
            <a:avLst/>
          </a:prstGeom>
          <a:ln w="0">
            <a:noFill/>
          </a:ln>
        </p:spPr>
      </p:pic>
      <p:sp>
        <p:nvSpPr>
          <p:cNvPr id="292" name="AutoShape 4"/>
          <p:cNvSpPr/>
          <p:nvPr/>
        </p:nvSpPr>
        <p:spPr>
          <a:xfrm>
            <a:off x="324000" y="260280"/>
            <a:ext cx="1368360" cy="115272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7667640" y="5084640"/>
            <a:ext cx="1297080" cy="129708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6"/>
          <p:cNvSpPr/>
          <p:nvPr/>
        </p:nvSpPr>
        <p:spPr>
          <a:xfrm>
            <a:off x="7451640" y="333360"/>
            <a:ext cx="1368360" cy="122400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7"/>
          <p:cNvSpPr/>
          <p:nvPr/>
        </p:nvSpPr>
        <p:spPr>
          <a:xfrm>
            <a:off x="1619280" y="1341360"/>
            <a:ext cx="1440000" cy="1440000"/>
          </a:xfrm>
          <a:prstGeom prst="pentag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8"/>
          <p:cNvSpPr/>
          <p:nvPr/>
        </p:nvSpPr>
        <p:spPr>
          <a:xfrm>
            <a:off x="1692360" y="3500280"/>
            <a:ext cx="1439640" cy="1440000"/>
          </a:xfrm>
          <a:prstGeom prst="pentag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9"/>
          <p:cNvSpPr/>
          <p:nvPr/>
        </p:nvSpPr>
        <p:spPr>
          <a:xfrm>
            <a:off x="5580000" y="3500280"/>
            <a:ext cx="1440000" cy="1440000"/>
          </a:xfrm>
          <a:prstGeom prst="pentag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0"/>
          <p:cNvSpPr/>
          <p:nvPr/>
        </p:nvSpPr>
        <p:spPr>
          <a:xfrm>
            <a:off x="5508720" y="1268280"/>
            <a:ext cx="1439640" cy="1440000"/>
          </a:xfrm>
          <a:prstGeom prst="pentag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3780000" y="2708280"/>
            <a:ext cx="1296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2"/>
          <p:cNvSpPr/>
          <p:nvPr/>
        </p:nvSpPr>
        <p:spPr>
          <a:xfrm>
            <a:off x="324000" y="4941720"/>
            <a:ext cx="1295280" cy="136692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3"/>
          <p:cNvSpPr/>
          <p:nvPr/>
        </p:nvSpPr>
        <p:spPr>
          <a:xfrm>
            <a:off x="324000" y="260280"/>
            <a:ext cx="1368360" cy="115272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4"/>
          <p:cNvSpPr/>
          <p:nvPr/>
        </p:nvSpPr>
        <p:spPr>
          <a:xfrm>
            <a:off x="7667640" y="5084640"/>
            <a:ext cx="1297080" cy="129708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5"/>
          <p:cNvSpPr/>
          <p:nvPr/>
        </p:nvSpPr>
        <p:spPr>
          <a:xfrm>
            <a:off x="324000" y="4941720"/>
            <a:ext cx="1295280" cy="136692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6"/>
          <p:cNvSpPr/>
          <p:nvPr/>
        </p:nvSpPr>
        <p:spPr>
          <a:xfrm>
            <a:off x="324000" y="277920"/>
            <a:ext cx="1368360" cy="115236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7"/>
          <p:cNvSpPr/>
          <p:nvPr/>
        </p:nvSpPr>
        <p:spPr>
          <a:xfrm>
            <a:off x="7667640" y="5102280"/>
            <a:ext cx="1297080" cy="129708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8"/>
          <p:cNvSpPr/>
          <p:nvPr/>
        </p:nvSpPr>
        <p:spPr>
          <a:xfrm>
            <a:off x="324000" y="4959360"/>
            <a:ext cx="1295280" cy="136692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9"/>
          <p:cNvSpPr/>
          <p:nvPr/>
        </p:nvSpPr>
        <p:spPr>
          <a:xfrm>
            <a:off x="324000" y="277920"/>
            <a:ext cx="1368360" cy="115236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0"/>
          <p:cNvSpPr/>
          <p:nvPr/>
        </p:nvSpPr>
        <p:spPr>
          <a:xfrm>
            <a:off x="7667640" y="5102280"/>
            <a:ext cx="1297080" cy="129708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1"/>
          <p:cNvSpPr/>
          <p:nvPr/>
        </p:nvSpPr>
        <p:spPr>
          <a:xfrm>
            <a:off x="324000" y="4959360"/>
            <a:ext cx="1295280" cy="136692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22"/>
          <p:cNvSpPr/>
          <p:nvPr/>
        </p:nvSpPr>
        <p:spPr>
          <a:xfrm>
            <a:off x="324000" y="260280"/>
            <a:ext cx="1368360" cy="115272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23"/>
          <p:cNvSpPr/>
          <p:nvPr/>
        </p:nvSpPr>
        <p:spPr>
          <a:xfrm>
            <a:off x="7667640" y="5084640"/>
            <a:ext cx="1297080" cy="129708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24"/>
          <p:cNvSpPr/>
          <p:nvPr/>
        </p:nvSpPr>
        <p:spPr>
          <a:xfrm>
            <a:off x="7451640" y="333360"/>
            <a:ext cx="1368360" cy="122400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25"/>
          <p:cNvSpPr/>
          <p:nvPr/>
        </p:nvSpPr>
        <p:spPr>
          <a:xfrm>
            <a:off x="1619280" y="1341360"/>
            <a:ext cx="1440000" cy="1440000"/>
          </a:xfrm>
          <a:prstGeom prst="pentag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6"/>
          <p:cNvSpPr/>
          <p:nvPr/>
        </p:nvSpPr>
        <p:spPr>
          <a:xfrm>
            <a:off x="1692360" y="3500280"/>
            <a:ext cx="1439640" cy="1440000"/>
          </a:xfrm>
          <a:prstGeom prst="pentag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27"/>
          <p:cNvSpPr/>
          <p:nvPr/>
        </p:nvSpPr>
        <p:spPr>
          <a:xfrm>
            <a:off x="5580000" y="3500280"/>
            <a:ext cx="1440000" cy="1440000"/>
          </a:xfrm>
          <a:prstGeom prst="pentag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28"/>
          <p:cNvSpPr/>
          <p:nvPr/>
        </p:nvSpPr>
        <p:spPr>
          <a:xfrm>
            <a:off x="5508720" y="1268280"/>
            <a:ext cx="1439640" cy="1440000"/>
          </a:xfrm>
          <a:prstGeom prst="pentag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9"/>
          <p:cNvSpPr/>
          <p:nvPr/>
        </p:nvSpPr>
        <p:spPr>
          <a:xfrm>
            <a:off x="3780000" y="2708280"/>
            <a:ext cx="1296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30"/>
          <p:cNvSpPr/>
          <p:nvPr/>
        </p:nvSpPr>
        <p:spPr>
          <a:xfrm>
            <a:off x="324000" y="4941720"/>
            <a:ext cx="1295280" cy="136692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31"/>
          <p:cNvSpPr/>
          <p:nvPr/>
        </p:nvSpPr>
        <p:spPr>
          <a:xfrm>
            <a:off x="324000" y="260280"/>
            <a:ext cx="1368360" cy="115272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32"/>
          <p:cNvSpPr/>
          <p:nvPr/>
        </p:nvSpPr>
        <p:spPr>
          <a:xfrm>
            <a:off x="7667640" y="5084640"/>
            <a:ext cx="1297080" cy="129708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33"/>
          <p:cNvSpPr/>
          <p:nvPr/>
        </p:nvSpPr>
        <p:spPr>
          <a:xfrm>
            <a:off x="324000" y="4941720"/>
            <a:ext cx="1295280" cy="136692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34"/>
          <p:cNvSpPr/>
          <p:nvPr/>
        </p:nvSpPr>
        <p:spPr>
          <a:xfrm>
            <a:off x="324000" y="277920"/>
            <a:ext cx="1368360" cy="115236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5"/>
          <p:cNvSpPr/>
          <p:nvPr/>
        </p:nvSpPr>
        <p:spPr>
          <a:xfrm>
            <a:off x="7667640" y="5102280"/>
            <a:ext cx="1297080" cy="129708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36"/>
          <p:cNvSpPr/>
          <p:nvPr/>
        </p:nvSpPr>
        <p:spPr>
          <a:xfrm>
            <a:off x="324000" y="4959360"/>
            <a:ext cx="1295280" cy="136692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37"/>
          <p:cNvSpPr/>
          <p:nvPr/>
        </p:nvSpPr>
        <p:spPr>
          <a:xfrm>
            <a:off x="324000" y="277920"/>
            <a:ext cx="1368360" cy="115236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38"/>
          <p:cNvSpPr/>
          <p:nvPr/>
        </p:nvSpPr>
        <p:spPr>
          <a:xfrm>
            <a:off x="7667640" y="5102280"/>
            <a:ext cx="1297080" cy="129708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39"/>
          <p:cNvSpPr/>
          <p:nvPr/>
        </p:nvSpPr>
        <p:spPr>
          <a:xfrm>
            <a:off x="324000" y="4959360"/>
            <a:ext cx="1295280" cy="136692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0"/>
          <p:cNvSpPr/>
          <p:nvPr/>
        </p:nvSpPr>
        <p:spPr>
          <a:xfrm>
            <a:off x="324000" y="260280"/>
            <a:ext cx="1368360" cy="115272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41"/>
          <p:cNvSpPr/>
          <p:nvPr/>
        </p:nvSpPr>
        <p:spPr>
          <a:xfrm>
            <a:off x="7667640" y="5084640"/>
            <a:ext cx="1297080" cy="129708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42"/>
          <p:cNvSpPr/>
          <p:nvPr/>
        </p:nvSpPr>
        <p:spPr>
          <a:xfrm>
            <a:off x="7451640" y="333360"/>
            <a:ext cx="1368360" cy="122400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43"/>
          <p:cNvSpPr/>
          <p:nvPr/>
        </p:nvSpPr>
        <p:spPr>
          <a:xfrm>
            <a:off x="1619280" y="1341360"/>
            <a:ext cx="1440000" cy="1440000"/>
          </a:xfrm>
          <a:prstGeom prst="pentag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4"/>
          <p:cNvSpPr/>
          <p:nvPr/>
        </p:nvSpPr>
        <p:spPr>
          <a:xfrm>
            <a:off x="1692360" y="3500280"/>
            <a:ext cx="1439640" cy="1440000"/>
          </a:xfrm>
          <a:prstGeom prst="pentag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45"/>
          <p:cNvSpPr/>
          <p:nvPr/>
        </p:nvSpPr>
        <p:spPr>
          <a:xfrm>
            <a:off x="5580000" y="3500280"/>
            <a:ext cx="1440000" cy="1440000"/>
          </a:xfrm>
          <a:prstGeom prst="pentag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46"/>
          <p:cNvSpPr/>
          <p:nvPr/>
        </p:nvSpPr>
        <p:spPr>
          <a:xfrm>
            <a:off x="5508720" y="1268280"/>
            <a:ext cx="1439640" cy="1440000"/>
          </a:xfrm>
          <a:prstGeom prst="pentag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7"/>
          <p:cNvSpPr/>
          <p:nvPr/>
        </p:nvSpPr>
        <p:spPr>
          <a:xfrm>
            <a:off x="3780000" y="2708280"/>
            <a:ext cx="1296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48"/>
          <p:cNvSpPr/>
          <p:nvPr/>
        </p:nvSpPr>
        <p:spPr>
          <a:xfrm>
            <a:off x="324000" y="4941720"/>
            <a:ext cx="1295280" cy="136692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49"/>
          <p:cNvSpPr/>
          <p:nvPr/>
        </p:nvSpPr>
        <p:spPr>
          <a:xfrm>
            <a:off x="324000" y="260280"/>
            <a:ext cx="1368360" cy="115272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50"/>
          <p:cNvSpPr/>
          <p:nvPr/>
        </p:nvSpPr>
        <p:spPr>
          <a:xfrm>
            <a:off x="7667640" y="5084640"/>
            <a:ext cx="1297080" cy="129708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51"/>
          <p:cNvSpPr/>
          <p:nvPr/>
        </p:nvSpPr>
        <p:spPr>
          <a:xfrm>
            <a:off x="324000" y="4941720"/>
            <a:ext cx="1295280" cy="136692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2"/>
          <p:cNvSpPr/>
          <p:nvPr/>
        </p:nvSpPr>
        <p:spPr>
          <a:xfrm>
            <a:off x="324000" y="277920"/>
            <a:ext cx="1368360" cy="115236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53"/>
          <p:cNvSpPr/>
          <p:nvPr/>
        </p:nvSpPr>
        <p:spPr>
          <a:xfrm>
            <a:off x="7667640" y="5102280"/>
            <a:ext cx="1297080" cy="129708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54"/>
          <p:cNvSpPr/>
          <p:nvPr/>
        </p:nvSpPr>
        <p:spPr>
          <a:xfrm>
            <a:off x="324000" y="4959360"/>
            <a:ext cx="1295280" cy="136692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55"/>
          <p:cNvSpPr/>
          <p:nvPr/>
        </p:nvSpPr>
        <p:spPr>
          <a:xfrm>
            <a:off x="324000" y="277920"/>
            <a:ext cx="1368360" cy="115236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56"/>
          <p:cNvSpPr/>
          <p:nvPr/>
        </p:nvSpPr>
        <p:spPr>
          <a:xfrm>
            <a:off x="7667640" y="5102280"/>
            <a:ext cx="1297080" cy="129708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57"/>
          <p:cNvSpPr/>
          <p:nvPr/>
        </p:nvSpPr>
        <p:spPr>
          <a:xfrm>
            <a:off x="324000" y="4959360"/>
            <a:ext cx="1295280" cy="136692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8"/>
          <p:cNvSpPr/>
          <p:nvPr/>
        </p:nvSpPr>
        <p:spPr>
          <a:xfrm>
            <a:off x="26640" y="593640"/>
            <a:ext cx="72900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时候需要水蒸发得更快一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35D9-33DE-4186-8A80-E6CB2A7C64E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EC5AB49-985E-4C3A-9223-C88EB24827A5}" type="datetime12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8199"/>
          <p:cNvSpPr/>
          <p:nvPr/>
        </p:nvSpPr>
        <p:spPr>
          <a:xfrm>
            <a:off x="1327320" y="1222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71d7170f5bc2f2026059f39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4"/>
          <p:cNvSpPr/>
          <p:nvPr/>
        </p:nvSpPr>
        <p:spPr>
          <a:xfrm flipV="1">
            <a:off x="2268360" y="3861720"/>
            <a:ext cx="3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5" descr="图片1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1979640" y="3500280"/>
            <a:ext cx="5329080" cy="10083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6"/>
          <p:cNvSpPr/>
          <p:nvPr/>
        </p:nvSpPr>
        <p:spPr>
          <a:xfrm>
            <a:off x="3040200" y="3938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2268360" y="3716280"/>
            <a:ext cx="507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3331440" y="3645000"/>
            <a:ext cx="292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静态观察，发现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凝结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4A5C-C2D2-4515-9432-A32445D6BD2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B147E4B-E9FB-4856-BB18-A684C6D77CC4}" type="datetime12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71d7170f5bc2f2026059f39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3"/>
          <p:cNvSpPr/>
          <p:nvPr/>
        </p:nvSpPr>
        <p:spPr>
          <a:xfrm flipV="1">
            <a:off x="2268360" y="3861720"/>
            <a:ext cx="3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3040200" y="3938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971640" y="2637000"/>
            <a:ext cx="692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水蒸气会重新变成水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A366-CC60-49D8-8701-178EF9BB0C5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99253C-672B-4648-A041-2A03C28BCA6E}" type="datetime12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71d7170f5bc2f2026059f39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3"/>
          <p:cNvSpPr/>
          <p:nvPr/>
        </p:nvSpPr>
        <p:spPr>
          <a:xfrm>
            <a:off x="755640" y="620640"/>
            <a:ext cx="3095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实验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 flipV="1">
            <a:off x="2268360" y="3861720"/>
            <a:ext cx="3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3040200" y="3938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1042920" y="1268280"/>
            <a:ext cx="727236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组合作把烧杯倒扣在热水杯上，仔细观察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Arial"/>
                <a:ea typeface="楷体_GB2312"/>
              </a:rPr>
              <a:t>烧杯底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变化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934920" y="3068640"/>
            <a:ext cx="8209080" cy="27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温馨提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、小心热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、小心玻璃烧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、实验完成后，整理好实验材料，保持安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58ED-610C-49FC-AD1E-7C516908CA5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33F356B-F616-4DB4-98E0-0083ABD65DE4}" type="datetime12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1"/>
          <p:cNvPicPr/>
          <p:nvPr/>
        </p:nvPicPr>
        <p:blipFill>
          <a:blip r:embed="rId2">
            <a:lum contrast="16000"/>
            <a:alphaModFix amt="0"/>
          </a:blip>
          <a:stretch/>
        </p:blipFill>
        <p:spPr>
          <a:xfrm>
            <a:off x="1459080" y="1087560"/>
            <a:ext cx="6208560" cy="467820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6858000" y="3886200"/>
            <a:ext cx="1523880" cy="360"/>
            <a:chOff x="6858000" y="3886200"/>
            <a:chExt cx="1523880" cy="360"/>
          </a:xfrm>
        </p:grpSpPr>
        <p:sp>
          <p:nvSpPr>
            <p:cNvPr id="171" name="Line 3"/>
            <p:cNvSpPr/>
            <p:nvPr/>
          </p:nvSpPr>
          <p:spPr>
            <a:xfrm>
              <a:off x="6858000" y="3886200"/>
              <a:ext cx="15238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6858000" y="3886200"/>
              <a:ext cx="152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4"/>
          <p:cNvSpPr/>
          <p:nvPr/>
        </p:nvSpPr>
        <p:spPr>
          <a:xfrm>
            <a:off x="3505320" y="57150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00cc"/>
                </a:solidFill>
                <a:latin typeface="楷体_GB2312"/>
                <a:ea typeface="楷体_GB2312"/>
              </a:rPr>
              <a:t>第一天</a:t>
            </a:r>
            <a:r>
              <a:rPr b="1" lang="en-US" sz="2400" spc="-1" strike="noStrike">
                <a:solidFill>
                  <a:srgbClr val="1d00cc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1d00cc"/>
                </a:solidFill>
                <a:latin typeface="楷体_GB2312"/>
                <a:ea typeface="楷体_GB2312"/>
              </a:rPr>
              <a:t>白天</a:t>
            </a:r>
            <a:r>
              <a:rPr b="1" lang="en-US" sz="2400" spc="-1" strike="noStrike">
                <a:solidFill>
                  <a:srgbClr val="1d00cc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6330-E450-4508-A744-A650340A774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82F322C-3540-4B71-80A7-9365A0588516}" type="datetime12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71d7170f5bc2f2026059f39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3"/>
          <p:cNvSpPr/>
          <p:nvPr/>
        </p:nvSpPr>
        <p:spPr>
          <a:xfrm flipV="1">
            <a:off x="2268360" y="3861720"/>
            <a:ext cx="3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040200" y="3938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1940760" y="2924280"/>
            <a:ext cx="520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水蒸气重新变成水的条件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492360" y="3789360"/>
            <a:ext cx="242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（遇冷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D7CE-CFC3-40E3-BD70-B45E01872C6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D17E723-3248-4121-BA5C-C118F0F2E138}" type="datetime12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71d7170f5bc2f2026059f39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900000" y="907920"/>
            <a:ext cx="7581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179280" y="1125360"/>
            <a:ext cx="89647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思考上一节课的问题：盛冰的玻璃杯外壁上的水珠是哪里来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是由于周围空气中的水蒸气遇到冷的玻璃杯外壁凝结成的小水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8E3B-D418-4209-9838-A816DB087B7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73561AC-97E2-481F-9E6A-F01B99F691CF}" type="datetime12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71d7170f5bc2f2026059f39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3"/>
          <p:cNvSpPr/>
          <p:nvPr/>
        </p:nvSpPr>
        <p:spPr>
          <a:xfrm>
            <a:off x="900000" y="907920"/>
            <a:ext cx="7581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"/>
          <p:cNvSpPr/>
          <p:nvPr/>
        </p:nvSpPr>
        <p:spPr>
          <a:xfrm flipV="1">
            <a:off x="2268360" y="3861720"/>
            <a:ext cx="3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图片1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908000" y="3500280"/>
            <a:ext cx="5977080" cy="100836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6"/>
          <p:cNvSpPr/>
          <p:nvPr/>
        </p:nvSpPr>
        <p:spPr>
          <a:xfrm>
            <a:off x="3040200" y="3938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2197080" y="3716280"/>
            <a:ext cx="57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四、深入思考，解析“白汽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2D4D-8F7C-41EF-9670-6C8F3A265C7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76C5805-A40D-4547-AAAF-620A7EAF21FF}" type="datetime12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71d7170f5bc2f2026059f39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3"/>
          <p:cNvSpPr/>
          <p:nvPr/>
        </p:nvSpPr>
        <p:spPr>
          <a:xfrm>
            <a:off x="900000" y="907920"/>
            <a:ext cx="7581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2"/>
          <p:cNvPicPr/>
          <p:nvPr/>
        </p:nvPicPr>
        <p:blipFill>
          <a:blip r:embed="rId2"/>
          <a:stretch/>
        </p:blipFill>
        <p:spPr>
          <a:xfrm>
            <a:off x="2700360" y="189000"/>
            <a:ext cx="3889440" cy="33354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388" name="Text Box 5"/>
          <p:cNvSpPr/>
          <p:nvPr/>
        </p:nvSpPr>
        <p:spPr>
          <a:xfrm>
            <a:off x="3040200" y="409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755640" y="494172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水壶里面的水蒸发形成的温度很高的水蒸气，遇到外面温度较低的冷的空气凝结成的小水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684360" y="3645000"/>
            <a:ext cx="819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这些白汽到底是什么呢？它是怎么产生的？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请你用今天学到的知识来解释一下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741F-465E-49AE-9195-1C7DFE24DBA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1DA1BE7-14EB-4579-ABA9-8DE7B54D7EEA}" type="datetime12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71d7170f5bc2f2026059f39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4"/>
          <p:cNvSpPr/>
          <p:nvPr/>
        </p:nvSpPr>
        <p:spPr>
          <a:xfrm flipV="1">
            <a:off x="2268360" y="3861720"/>
            <a:ext cx="3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5" descr="图片1"/>
          <p:cNvPicPr/>
          <p:nvPr/>
        </p:nvPicPr>
        <p:blipFill>
          <a:blip r:embed="rId2">
            <a:lum bright="22000"/>
          </a:blip>
          <a:stretch/>
        </p:blipFill>
        <p:spPr>
          <a:xfrm>
            <a:off x="2124000" y="3500280"/>
            <a:ext cx="5761080" cy="100836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6"/>
          <p:cNvSpPr/>
          <p:nvPr/>
        </p:nvSpPr>
        <p:spPr>
          <a:xfrm>
            <a:off x="3040200" y="3938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2124000" y="371628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五、课外延伸，回归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生活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35CF-9B18-4DEB-BA15-86FA16D2085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07FBFD3-8D50-4DCF-957D-AE3D68C51A2A}" type="datetime12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71d7170f5bc2f2026059f39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3"/>
          <p:cNvSpPr/>
          <p:nvPr/>
        </p:nvSpPr>
        <p:spPr>
          <a:xfrm>
            <a:off x="900000" y="907920"/>
            <a:ext cx="7581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468360" y="1916280"/>
            <a:ext cx="831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有的时候，我们会发现家里的墙壁上、地面上会有很多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汗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你知道这是为什么吗？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1042920" y="39337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你有什么好的方法解决这个问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3A8C-4C27-4A71-B67F-6C4C3254508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FC0B97D-296A-44A0-AB0D-83AD56CC0482}" type="datetime12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4" descr="a2241827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05" name="WordArt 5" descr=""/>
          <p:cNvPicPr/>
          <p:nvPr/>
        </p:nvPicPr>
        <p:blipFill>
          <a:blip r:embed="rId2"/>
          <a:stretch/>
        </p:blipFill>
        <p:spPr>
          <a:xfrm>
            <a:off x="1687680" y="903240"/>
            <a:ext cx="6019560" cy="1762200"/>
          </a:xfrm>
          <a:prstGeom prst="rect">
            <a:avLst/>
          </a:prstGeom>
          <a:ln w="0">
            <a:noFill/>
          </a:ln>
        </p:spPr>
      </p:pic>
      <p:sp>
        <p:nvSpPr>
          <p:cNvPr id="40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096C-7AB7-40A3-A263-3F49FB69E1F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109C1F7-2EBE-4CD7-81D7-1A0619AD8C3F}" type="datetime12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BCC5-3074-46DE-9BB5-A48D598E8A4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4" descr="80a09b8c4023f335b21bba46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  <p:sp>
        <p:nvSpPr>
          <p:cNvPr id="414" name="WordArt 5"/>
          <p:cNvSpPr txBox="1"/>
          <p:nvPr/>
        </p:nvSpPr>
        <p:spPr>
          <a:xfrm>
            <a:off x="4356000" y="2060640"/>
            <a:ext cx="43261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bbe0e3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华文新魏"/>
              </a:rPr>
              <a:t>谢 谢 ！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000000"/>
                  </a:gs>
                  <a:gs pos="100000">
                    <a:srgbClr val="bbe0e3"/>
                  </a:gs>
                </a:gsLst>
                <a:lin ang="5400000"/>
              </a:gra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1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1A2B-958D-4FD4-8F60-405376911FD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3FD79D0-D0B1-4B64-BB2A-20F8E4F99252}" type="datetime12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3"/>
          <p:cNvPicPr/>
          <p:nvPr/>
        </p:nvPicPr>
        <p:blipFill>
          <a:blip r:embed="rId2">
            <a:grayscl/>
            <a:lum bright="-34000"/>
          </a:blip>
          <a:stretch/>
        </p:blipFill>
        <p:spPr>
          <a:xfrm>
            <a:off x="1344600" y="1087560"/>
            <a:ext cx="6237360" cy="46782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3429000" y="5791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00cc"/>
                </a:solidFill>
                <a:latin typeface="楷体_GB2312"/>
                <a:ea typeface="楷体_GB2312"/>
              </a:rPr>
              <a:t>第三天</a:t>
            </a:r>
            <a:r>
              <a:rPr b="1" lang="en-US" sz="2400" spc="-1" strike="noStrike">
                <a:solidFill>
                  <a:srgbClr val="1d00cc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1d00cc"/>
                </a:solidFill>
                <a:latin typeface="楷体_GB2312"/>
                <a:ea typeface="楷体_GB2312"/>
              </a:rPr>
              <a:t>晚上</a:t>
            </a:r>
            <a:r>
              <a:rPr b="1" lang="en-US" sz="2400" spc="-1" strike="noStrike">
                <a:solidFill>
                  <a:srgbClr val="1d00cc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58000" y="3886200"/>
            <a:ext cx="1523880" cy="360"/>
            <a:chOff x="6858000" y="3886200"/>
            <a:chExt cx="1523880" cy="360"/>
          </a:xfrm>
        </p:grpSpPr>
        <p:sp>
          <p:nvSpPr>
            <p:cNvPr id="179" name="Line 4"/>
            <p:cNvSpPr/>
            <p:nvPr/>
          </p:nvSpPr>
          <p:spPr>
            <a:xfrm>
              <a:off x="6858000" y="3886200"/>
              <a:ext cx="15238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6858000" y="3886200"/>
              <a:ext cx="152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6858000" y="3962520"/>
            <a:ext cx="1600200" cy="360"/>
            <a:chOff x="6858000" y="3962520"/>
            <a:chExt cx="1600200" cy="360"/>
          </a:xfrm>
        </p:grpSpPr>
        <p:sp>
          <p:nvSpPr>
            <p:cNvPr id="182" name="Line 5"/>
            <p:cNvSpPr/>
            <p:nvPr/>
          </p:nvSpPr>
          <p:spPr>
            <a:xfrm>
              <a:off x="6858000" y="396252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6858000" y="396252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31EE-59F8-4C7C-A255-6C653B0B59A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44CDBB6-985D-4C8B-8886-BB0DFDDF2880}" type="datetime12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7"/>
          <p:cNvPicPr/>
          <p:nvPr/>
        </p:nvPicPr>
        <p:blipFill>
          <a:blip r:embed="rId2"/>
          <a:stretch/>
        </p:blipFill>
        <p:spPr>
          <a:xfrm>
            <a:off x="1306440" y="1062000"/>
            <a:ext cx="6237360" cy="46785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3429000" y="5791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00cc"/>
                </a:solidFill>
                <a:latin typeface="楷体_GB2312"/>
                <a:ea typeface="楷体_GB2312"/>
              </a:rPr>
              <a:t>第七天</a:t>
            </a:r>
            <a:r>
              <a:rPr b="1" lang="en-US" sz="2400" spc="-1" strike="noStrike">
                <a:solidFill>
                  <a:srgbClr val="1d00cc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1d00cc"/>
                </a:solidFill>
                <a:latin typeface="楷体_GB2312"/>
                <a:ea typeface="楷体_GB2312"/>
              </a:rPr>
              <a:t>白天</a:t>
            </a:r>
            <a:r>
              <a:rPr b="1" lang="en-US" sz="2400" spc="-1" strike="noStrike">
                <a:solidFill>
                  <a:srgbClr val="1d00cc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858000" y="3886200"/>
            <a:ext cx="1523880" cy="360"/>
            <a:chOff x="6858000" y="3886200"/>
            <a:chExt cx="1523880" cy="360"/>
          </a:xfrm>
        </p:grpSpPr>
        <p:sp>
          <p:nvSpPr>
            <p:cNvPr id="189" name="Line 4"/>
            <p:cNvSpPr/>
            <p:nvPr/>
          </p:nvSpPr>
          <p:spPr>
            <a:xfrm>
              <a:off x="6858000" y="3886200"/>
              <a:ext cx="15238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6858000" y="3886200"/>
              <a:ext cx="152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870600" y="4089240"/>
            <a:ext cx="1600200" cy="360"/>
            <a:chOff x="6870600" y="4089240"/>
            <a:chExt cx="1600200" cy="360"/>
          </a:xfrm>
        </p:grpSpPr>
        <p:sp>
          <p:nvSpPr>
            <p:cNvPr id="192" name="Line 5"/>
            <p:cNvSpPr/>
            <p:nvPr/>
          </p:nvSpPr>
          <p:spPr>
            <a:xfrm>
              <a:off x="6870600" y="408924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6870600" y="408924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858000" y="3962520"/>
            <a:ext cx="1600200" cy="360"/>
            <a:chOff x="6858000" y="3962520"/>
            <a:chExt cx="1600200" cy="360"/>
          </a:xfrm>
        </p:grpSpPr>
        <p:sp>
          <p:nvSpPr>
            <p:cNvPr id="195" name="Line 6"/>
            <p:cNvSpPr/>
            <p:nvPr/>
          </p:nvSpPr>
          <p:spPr>
            <a:xfrm>
              <a:off x="6858000" y="396252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6858000" y="396252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71EC-DF8F-4473-8955-93D61AA58AA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EDCFB07-0C1B-4EC1-89B8-5FF6D10EDD86}" type="datetime12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10"/>
          <p:cNvPicPr/>
          <p:nvPr/>
        </p:nvPicPr>
        <p:blipFill>
          <a:blip r:embed="rId2">
            <a:grayscl/>
            <a:lum bright="-42000"/>
          </a:blip>
          <a:stretch/>
        </p:blipFill>
        <p:spPr>
          <a:xfrm>
            <a:off x="1459080" y="1041480"/>
            <a:ext cx="6237000" cy="46782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3581280" y="57150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00cc"/>
                </a:solidFill>
                <a:latin typeface="楷体_GB2312"/>
                <a:ea typeface="楷体_GB2312"/>
              </a:rPr>
              <a:t>第十天</a:t>
            </a:r>
            <a:r>
              <a:rPr b="1" lang="en-US" sz="2400" spc="-1" strike="noStrike">
                <a:solidFill>
                  <a:srgbClr val="1d00cc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1d00cc"/>
                </a:solidFill>
                <a:latin typeface="楷体_GB2312"/>
                <a:ea typeface="楷体_GB2312"/>
              </a:rPr>
              <a:t>晚上</a:t>
            </a:r>
            <a:r>
              <a:rPr b="1" lang="en-US" sz="2400" spc="-1" strike="noStrike">
                <a:solidFill>
                  <a:srgbClr val="1d00cc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858000" y="3886200"/>
            <a:ext cx="1523880" cy="360"/>
            <a:chOff x="6858000" y="3886200"/>
            <a:chExt cx="1523880" cy="360"/>
          </a:xfrm>
        </p:grpSpPr>
        <p:sp>
          <p:nvSpPr>
            <p:cNvPr id="202" name="Line 4"/>
            <p:cNvSpPr/>
            <p:nvPr/>
          </p:nvSpPr>
          <p:spPr>
            <a:xfrm>
              <a:off x="6858000" y="3886200"/>
              <a:ext cx="15238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6858000" y="3886200"/>
              <a:ext cx="152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845400" y="4216320"/>
            <a:ext cx="1536480" cy="360"/>
            <a:chOff x="6845400" y="4216320"/>
            <a:chExt cx="1536480" cy="360"/>
          </a:xfrm>
        </p:grpSpPr>
        <p:sp>
          <p:nvSpPr>
            <p:cNvPr id="205" name="Line 5"/>
            <p:cNvSpPr/>
            <p:nvPr/>
          </p:nvSpPr>
          <p:spPr>
            <a:xfrm>
              <a:off x="6845400" y="4216320"/>
              <a:ext cx="15364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6845400" y="4216320"/>
              <a:ext cx="1536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858000" y="4089240"/>
            <a:ext cx="1600200" cy="360"/>
            <a:chOff x="6858000" y="4089240"/>
            <a:chExt cx="1600200" cy="360"/>
          </a:xfrm>
        </p:grpSpPr>
        <p:sp>
          <p:nvSpPr>
            <p:cNvPr id="208" name="Line 6"/>
            <p:cNvSpPr/>
            <p:nvPr/>
          </p:nvSpPr>
          <p:spPr>
            <a:xfrm>
              <a:off x="6858000" y="408924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6858000" y="408924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858000" y="3962520"/>
            <a:ext cx="1600200" cy="360"/>
            <a:chOff x="6858000" y="3962520"/>
            <a:chExt cx="1600200" cy="360"/>
          </a:xfrm>
        </p:grpSpPr>
        <p:sp>
          <p:nvSpPr>
            <p:cNvPr id="211" name="Line 7"/>
            <p:cNvSpPr/>
            <p:nvPr/>
          </p:nvSpPr>
          <p:spPr>
            <a:xfrm>
              <a:off x="6858000" y="396252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6858000" y="396252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DC84-3072-4572-B70C-7C45B9824C8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5B1636D-26E3-4A9D-ADA7-B70286BFD38E}" type="datetime12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15"/>
          <p:cNvPicPr/>
          <p:nvPr/>
        </p:nvPicPr>
        <p:blipFill>
          <a:blip r:embed="rId2"/>
          <a:stretch/>
        </p:blipFill>
        <p:spPr>
          <a:xfrm>
            <a:off x="1409760" y="1015920"/>
            <a:ext cx="6237360" cy="46785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"/>
          <p:cNvSpPr/>
          <p:nvPr/>
        </p:nvSpPr>
        <p:spPr>
          <a:xfrm>
            <a:off x="3429000" y="57150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00cc"/>
                </a:solidFill>
                <a:latin typeface="楷体_GB2312"/>
                <a:ea typeface="楷体_GB2312"/>
              </a:rPr>
              <a:t>第十五天</a:t>
            </a:r>
            <a:r>
              <a:rPr b="1" lang="en-US" sz="2400" spc="-1" strike="noStrike">
                <a:solidFill>
                  <a:srgbClr val="1d00cc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1d00cc"/>
                </a:solidFill>
                <a:latin typeface="楷体_GB2312"/>
                <a:ea typeface="楷体_GB2312"/>
              </a:rPr>
              <a:t>白天</a:t>
            </a:r>
            <a:r>
              <a:rPr b="1" lang="en-US" sz="2400" spc="-1" strike="noStrike">
                <a:solidFill>
                  <a:srgbClr val="1d00cc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858000" y="3886200"/>
            <a:ext cx="1523880" cy="360"/>
            <a:chOff x="6858000" y="3886200"/>
            <a:chExt cx="1523880" cy="360"/>
          </a:xfrm>
        </p:grpSpPr>
        <p:sp>
          <p:nvSpPr>
            <p:cNvPr id="218" name="Line 4"/>
            <p:cNvSpPr/>
            <p:nvPr/>
          </p:nvSpPr>
          <p:spPr>
            <a:xfrm>
              <a:off x="6858000" y="3886200"/>
              <a:ext cx="15238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6858000" y="3886200"/>
              <a:ext cx="152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832440" y="4356000"/>
            <a:ext cx="1600200" cy="360"/>
            <a:chOff x="6832440" y="4356000"/>
            <a:chExt cx="1600200" cy="360"/>
          </a:xfrm>
        </p:grpSpPr>
        <p:sp>
          <p:nvSpPr>
            <p:cNvPr id="221" name="Line 5"/>
            <p:cNvSpPr/>
            <p:nvPr/>
          </p:nvSpPr>
          <p:spPr>
            <a:xfrm>
              <a:off x="6832440" y="435600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6832440" y="435600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845400" y="4216320"/>
            <a:ext cx="1536480" cy="360"/>
            <a:chOff x="6845400" y="4216320"/>
            <a:chExt cx="1536480" cy="360"/>
          </a:xfrm>
        </p:grpSpPr>
        <p:sp>
          <p:nvSpPr>
            <p:cNvPr id="224" name="Line 6"/>
            <p:cNvSpPr/>
            <p:nvPr/>
          </p:nvSpPr>
          <p:spPr>
            <a:xfrm>
              <a:off x="6845400" y="4216320"/>
              <a:ext cx="15364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6845400" y="4216320"/>
              <a:ext cx="1536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58000" y="4089240"/>
            <a:ext cx="1600200" cy="360"/>
            <a:chOff x="6858000" y="4089240"/>
            <a:chExt cx="1600200" cy="360"/>
          </a:xfrm>
        </p:grpSpPr>
        <p:sp>
          <p:nvSpPr>
            <p:cNvPr id="227" name="Line 7"/>
            <p:cNvSpPr/>
            <p:nvPr/>
          </p:nvSpPr>
          <p:spPr>
            <a:xfrm>
              <a:off x="6858000" y="408924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6858000" y="408924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858000" y="3962520"/>
            <a:ext cx="1600200" cy="360"/>
            <a:chOff x="6858000" y="3962520"/>
            <a:chExt cx="1600200" cy="360"/>
          </a:xfrm>
        </p:grpSpPr>
        <p:sp>
          <p:nvSpPr>
            <p:cNvPr id="230" name="Line 8"/>
            <p:cNvSpPr/>
            <p:nvPr/>
          </p:nvSpPr>
          <p:spPr>
            <a:xfrm>
              <a:off x="6858000" y="396252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6858000" y="396252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1CB8-814D-4C35-BFB9-86B6DED2A2C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6BC69B-B474-4667-8989-586CC62D97A3}" type="datetime12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71d7170f5bc2f2026059f39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900000" y="907920"/>
            <a:ext cx="7581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755640" y="1413000"/>
            <a:ext cx="80280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  <a:ea typeface="华文行楷"/>
              </a:rPr>
              <a:t>  </a:t>
            </a:r>
            <a:r>
              <a:rPr b="0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容器里的水去哪里了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水变成水蒸气的过程，我们叫做蒸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72FC-A1D9-4948-BA60-F3D6615A3B7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5C8FF4-77AC-47B9-B491-6B769D9DFB00}" type="datetime12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71d7170f5bc2f2026059f39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3059280" y="404640"/>
            <a:ext cx="3311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观察水蒸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539640" y="1413000"/>
            <a:ext cx="799308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验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装水的容器放在桌子上，仔细观察水蒸气的特点，小组成员可以互相讨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684360" y="4005360"/>
            <a:ext cx="750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用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闻一闻、看一看、摸一摸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观察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F051-DBBA-4E7B-83AC-29255A05CFC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C44F241-3239-49D3-B9D1-6B0B1307D861}" type="datetime12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71d7170f5bc2f2026059f39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3"/>
          <p:cNvSpPr/>
          <p:nvPr/>
        </p:nvSpPr>
        <p:spPr>
          <a:xfrm>
            <a:off x="324000" y="2349360"/>
            <a:ext cx="914400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  <a:ea typeface="华文行楷"/>
              </a:rPr>
              <a:t>     </a:t>
            </a:r>
            <a:r>
              <a:rPr b="1" lang="zh-CN" sz="4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水蒸气是一种看不见、摸不着、没有颜色、没有气味的气体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C2CD-71AC-43ED-8FD8-3D432EF621B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B7E3D22-0299-452A-ADD9-0D5FD751C112}" type="datetime12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05:43:5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34Z</dcterms:modified>
  <cp:revision>2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