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0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22.png" ContentType="image/png"/>
  <Override PartName="/ppt/media/image21.jpeg" ContentType="image/jpeg"/>
  <Override PartName="/ppt/media/camera.wav" ContentType="audio/x-wav"/>
  <Override PartName="/ppt/media/image18.jpeg" ContentType="image/jpe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67071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980720" y="3910680"/>
            <a:ext cx="67071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80720" y="39106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17640" y="39106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48720" y="14860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6720" y="14860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980720" y="39106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248720" y="39106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6720" y="39106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1AE-D5D5-40FF-985F-4451A14B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E44-FB13-411F-93E6-D68DE04E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5EC-B9CA-4AEA-B84F-06E20CD9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50A-0A88-49BA-A52D-2F538131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153-6AAB-4041-AAF0-8782766B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2743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C89-204E-44B8-B9E7-A9B21FF2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39106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8C8-F29D-424D-A5E4-416B36DF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17640" y="39106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4D4-EBD0-45BD-B265-1073BCC4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3910680"/>
            <a:ext cx="67071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454-FE5F-4A97-8812-CA4753DA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67071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3910680"/>
            <a:ext cx="67071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89D-224F-4D14-B7EB-C0B798F4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39106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17640" y="39106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A16-D739-4FE8-807C-A583F34F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48720" y="14860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16720" y="14860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39106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248720" y="39106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16720" y="39106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0DD-481D-4917-BBA4-369BF1A9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2743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39106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417640" y="39106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3910680"/>
            <a:ext cx="67071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67071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3910680"/>
            <a:ext cx="67071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39106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417640" y="39106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48720" y="14860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16720" y="14860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39106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248720" y="39106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516720" y="3910680"/>
            <a:ext cx="21596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980720" y="274320"/>
            <a:ext cx="6705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980720" y="39106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17640" y="39106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072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7640" y="1486080"/>
            <a:ext cx="3272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980720" y="3910680"/>
            <a:ext cx="67071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8c3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58c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58c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758c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AB12-03F6-4A8D-A38F-E30EA1B524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8c3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58c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58c3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758c3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c3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027160" y="317520"/>
            <a:ext cx="640872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生活中的各行各业课件</a:t>
            </a:r>
            <a:r>
              <a:rPr b="1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03"/>
          <p:cNvPicPr/>
          <p:nvPr/>
        </p:nvPicPr>
        <p:blipFill>
          <a:blip r:embed="rId1"/>
          <a:stretch/>
        </p:blipFill>
        <p:spPr>
          <a:xfrm>
            <a:off x="468360" y="3333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124000" y="836640"/>
            <a:ext cx="5178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行业小调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362320" y="5851440"/>
            <a:ext cx="426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姑姑是教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p42_4"/>
          <p:cNvPicPr/>
          <p:nvPr/>
        </p:nvPicPr>
        <p:blipFill>
          <a:blip r:embed="rId2"/>
          <a:stretch/>
        </p:blipFill>
        <p:spPr>
          <a:xfrm>
            <a:off x="2535120" y="1773360"/>
            <a:ext cx="4341960" cy="406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3"/>
          <p:cNvPicPr/>
          <p:nvPr/>
        </p:nvPicPr>
        <p:blipFill>
          <a:blip r:embed="rId1"/>
          <a:stretch/>
        </p:blipFill>
        <p:spPr>
          <a:xfrm>
            <a:off x="468360" y="40464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124000" y="1125360"/>
            <a:ext cx="5178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行业小调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362320" y="5851440"/>
            <a:ext cx="426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爷爷是农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p42_3"/>
          <p:cNvPicPr/>
          <p:nvPr/>
        </p:nvPicPr>
        <p:blipFill>
          <a:blip r:embed="rId2"/>
          <a:stretch/>
        </p:blipFill>
        <p:spPr>
          <a:xfrm>
            <a:off x="2987640" y="2133720"/>
            <a:ext cx="3960720" cy="37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03"/>
          <p:cNvPicPr/>
          <p:nvPr/>
        </p:nvPicPr>
        <p:blipFill>
          <a:blip r:embed="rId1"/>
          <a:stretch/>
        </p:blipFill>
        <p:spPr>
          <a:xfrm>
            <a:off x="468360" y="3333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295280" y="1752480"/>
            <a:ext cx="6007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贾怡宁一、行业小调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362320" y="5851440"/>
            <a:ext cx="4267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舅舅是电脑工程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5" descr="p42_5"/>
          <p:cNvPicPr/>
          <p:nvPr/>
        </p:nvPicPr>
        <p:blipFill>
          <a:blip r:embed="rId2"/>
          <a:stretch/>
        </p:blipFill>
        <p:spPr>
          <a:xfrm>
            <a:off x="2639880" y="2514600"/>
            <a:ext cx="3760920" cy="33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03"/>
          <p:cNvPicPr/>
          <p:nvPr/>
        </p:nvPicPr>
        <p:blipFill>
          <a:blip r:embed="rId1"/>
          <a:stretch/>
        </p:blipFill>
        <p:spPr>
          <a:xfrm>
            <a:off x="395280" y="40464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411280" y="1052640"/>
            <a:ext cx="4818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行业小调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2195640" y="1989000"/>
            <a:ext cx="6278040" cy="4039920"/>
            <a:chOff x="2195640" y="1989000"/>
            <a:chExt cx="6278040" cy="4039920"/>
          </a:xfrm>
        </p:grpSpPr>
        <p:sp>
          <p:nvSpPr>
            <p:cNvPr id="167" name="AutoShape 5"/>
            <p:cNvSpPr/>
            <p:nvPr/>
          </p:nvSpPr>
          <p:spPr>
            <a:xfrm>
              <a:off x="2195640" y="1989000"/>
              <a:ext cx="6278040" cy="40399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属于农业部门的行业有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2718720" y="2889360"/>
              <a:ext cx="5319000" cy="28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林业、渔业、牧业、种植业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果树栽培、家庭副业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03"/>
          <p:cNvPicPr/>
          <p:nvPr/>
        </p:nvPicPr>
        <p:blipFill>
          <a:blip r:embed="rId1"/>
          <a:stretch/>
        </p:blipFill>
        <p:spPr>
          <a:xfrm>
            <a:off x="395280" y="40464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2340000" y="1125360"/>
            <a:ext cx="4962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行业小调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1908000" y="2060640"/>
            <a:ext cx="6984720" cy="3824280"/>
            <a:chOff x="1908000" y="2060640"/>
            <a:chExt cx="6984720" cy="3824280"/>
          </a:xfrm>
        </p:grpSpPr>
        <p:sp>
          <p:nvSpPr>
            <p:cNvPr id="172" name="AutoShape 5"/>
            <p:cNvSpPr/>
            <p:nvPr/>
          </p:nvSpPr>
          <p:spPr>
            <a:xfrm>
              <a:off x="1908000" y="2060640"/>
              <a:ext cx="6984720" cy="38242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属于工业部门的行业有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buClr>
                  <a:srgbClr val="00999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buClr>
                  <a:srgbClr val="00999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buClr>
                  <a:srgbClr val="00999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buClr>
                  <a:srgbClr val="00999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buClr>
                  <a:srgbClr val="0099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2489760" y="2913120"/>
              <a:ext cx="591768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开采业（如：煤、石油、铜、铁矿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03"/>
          <p:cNvPicPr/>
          <p:nvPr/>
        </p:nvPicPr>
        <p:blipFill>
          <a:blip r:embed="rId1"/>
          <a:stretch/>
        </p:blipFill>
        <p:spPr>
          <a:xfrm>
            <a:off x="395280" y="4762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340000" y="1197000"/>
            <a:ext cx="5033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行业小调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2050920" y="2205000"/>
            <a:ext cx="6841800" cy="4039920"/>
            <a:chOff x="2050920" y="2205000"/>
            <a:chExt cx="6841800" cy="4039920"/>
          </a:xfrm>
        </p:grpSpPr>
        <p:sp>
          <p:nvSpPr>
            <p:cNvPr id="177" name="AutoShape 5"/>
            <p:cNvSpPr/>
            <p:nvPr/>
          </p:nvSpPr>
          <p:spPr>
            <a:xfrm>
              <a:off x="2050920" y="2205000"/>
              <a:ext cx="6841800" cy="40399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属于其他部门的行业有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2620800" y="3105360"/>
              <a:ext cx="5796720" cy="28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交通运输、商业、娱乐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出版、保险、银行、教育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医疗、卫生、科研、服务等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58c3a"/>
                </a:solidFill>
                <a:latin typeface="Arial"/>
                <a:ea typeface="幼圆"/>
              </a:rPr>
              <a:t>一个面粉的自述</a:t>
            </a:r>
            <a:endParaRPr b="1" lang="en-US" sz="54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15640" y="1486080"/>
            <a:ext cx="77295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下面是一袋面粉，大家一起来听它的自述。</a:t>
            </a:r>
            <a:endParaRPr b="0" lang="en-US" sz="3200" spc="-1" strike="noStrike">
              <a:solidFill>
                <a:srgbClr val="758c3a"/>
              </a:solidFill>
              <a:latin typeface="Arial"/>
            </a:endParaRPr>
          </a:p>
        </p:txBody>
      </p:sp>
      <p:pic>
        <p:nvPicPr>
          <p:cNvPr id="181" name="Picture 4" descr="MCj03050390000[1]"/>
          <p:cNvPicPr/>
          <p:nvPr/>
        </p:nvPicPr>
        <p:blipFill>
          <a:blip r:embed="rId1"/>
          <a:stretch/>
        </p:blipFill>
        <p:spPr>
          <a:xfrm>
            <a:off x="611280" y="2421000"/>
            <a:ext cx="169056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413080" y="314172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小小的面粉，别看我各自个子不大可是把生产出来，并送到千家万户，要涉及到很多行业。下面就带参观一下我的家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67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67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67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67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58c3a"/>
                </a:solidFill>
                <a:latin typeface="Arial"/>
              </a:rPr>
              <a:t>农村麦地</a:t>
            </a:r>
            <a:endParaRPr b="0" lang="en-US" sz="4400" spc="-1" strike="noStrike">
              <a:solidFill>
                <a:srgbClr val="758c3a"/>
              </a:solidFill>
              <a:latin typeface="Arial"/>
            </a:endParaRPr>
          </a:p>
        </p:txBody>
      </p:sp>
      <p:pic>
        <p:nvPicPr>
          <p:cNvPr id="185" name="Picture 4" descr="u=2024784015,1887821115&amp;fm=0&amp;gp=0"/>
          <p:cNvPicPr/>
          <p:nvPr/>
        </p:nvPicPr>
        <p:blipFill>
          <a:blip r:embed="rId1"/>
          <a:stretch/>
        </p:blipFill>
        <p:spPr>
          <a:xfrm>
            <a:off x="1979640" y="2577960"/>
            <a:ext cx="6480000" cy="38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58c3a"/>
                </a:solidFill>
                <a:latin typeface="Arial"/>
              </a:rPr>
              <a:t>汽车运送</a:t>
            </a:r>
            <a:endParaRPr b="0" lang="en-US" sz="4400" spc="-1" strike="noStrike">
              <a:solidFill>
                <a:srgbClr val="758c3a"/>
              </a:solidFill>
              <a:latin typeface="Arial"/>
            </a:endParaRPr>
          </a:p>
        </p:txBody>
      </p:sp>
      <p:pic>
        <p:nvPicPr>
          <p:cNvPr id="188" name="Picture 4" descr="汽车"/>
          <p:cNvPicPr/>
          <p:nvPr/>
        </p:nvPicPr>
        <p:blipFill>
          <a:blip r:embed="rId1"/>
          <a:stretch/>
        </p:blipFill>
        <p:spPr>
          <a:xfrm>
            <a:off x="2124000" y="2641680"/>
            <a:ext cx="6624720" cy="36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58c3a"/>
                </a:solidFill>
                <a:latin typeface="Arial"/>
              </a:rPr>
              <a:t>面粉厂</a:t>
            </a:r>
            <a:endParaRPr b="0" lang="en-US" sz="4400" spc="-1" strike="noStrike">
              <a:solidFill>
                <a:srgbClr val="758c3a"/>
              </a:solidFill>
              <a:latin typeface="Arial"/>
            </a:endParaRPr>
          </a:p>
        </p:txBody>
      </p:sp>
      <p:pic>
        <p:nvPicPr>
          <p:cNvPr id="191" name="Picture 4" descr="面粉厂"/>
          <p:cNvPicPr/>
          <p:nvPr/>
        </p:nvPicPr>
        <p:blipFill>
          <a:blip r:embed="rId1"/>
          <a:stretch/>
        </p:blipFill>
        <p:spPr>
          <a:xfrm>
            <a:off x="2484360" y="2733840"/>
            <a:ext cx="633564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6705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学习目标：</a:t>
            </a:r>
            <a:endParaRPr b="1" lang="en-US" sz="32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35280" y="836640"/>
            <a:ext cx="67802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3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1503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、让学生通过对身边生活的调查，了解社会生活需要各行各业。 </a:t>
            </a:r>
            <a:endParaRPr b="0" lang="en-US" sz="32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3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31503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、通过对各行各业的分类，了解各行各业与工农业等生产部门的关系。   </a:t>
            </a:r>
            <a:endParaRPr b="0" lang="en-US" sz="32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3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1503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、通过某物品的发展变化，认识生产要根据人们的需求不断革新和发展。  </a:t>
            </a:r>
            <a:endParaRPr b="0" lang="en-US" sz="32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3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1503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、知道各行各业没有高低贵贱之分，同时要尊重各行各业的劳动者。</a:t>
            </a:r>
            <a:endParaRPr b="0" lang="en-US" sz="32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31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58c3a"/>
                </a:solidFill>
                <a:latin typeface="Arial"/>
              </a:rPr>
              <a:t>食品加工厂</a:t>
            </a:r>
            <a:endParaRPr b="0" lang="en-US" sz="4400" spc="-1" strike="noStrike">
              <a:solidFill>
                <a:srgbClr val="758c3a"/>
              </a:solidFill>
              <a:latin typeface="Arial"/>
            </a:endParaRPr>
          </a:p>
        </p:txBody>
      </p:sp>
      <p:pic>
        <p:nvPicPr>
          <p:cNvPr id="194" name="Picture 4" descr="食品加工厂"/>
          <p:cNvPicPr/>
          <p:nvPr/>
        </p:nvPicPr>
        <p:blipFill>
          <a:blip r:embed="rId1"/>
          <a:stretch/>
        </p:blipFill>
        <p:spPr>
          <a:xfrm>
            <a:off x="2340000" y="2421000"/>
            <a:ext cx="6335640" cy="410364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8198"/>
          <p:cNvSpPr/>
          <p:nvPr/>
        </p:nvSpPr>
        <p:spPr>
          <a:xfrm>
            <a:off x="2155680" y="11509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58c3a"/>
                </a:solidFill>
                <a:latin typeface="Arial"/>
              </a:rPr>
              <a:t>生活中的各行各业</a:t>
            </a:r>
            <a:endParaRPr b="1" lang="en-US" sz="54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980720" y="1486080"/>
            <a:ext cx="6705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的社会就像一台大机器，每个行业就像机器上的一个部件，各有各的用处。各个部件组合在一起，相互配合，机器才能正常运行。</a:t>
            </a:r>
            <a:endParaRPr b="0" lang="en-US" sz="48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50052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假如没有了老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44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95280" y="1844280"/>
            <a:ext cx="655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假如没有了医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假如没有了警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假如没有了农民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假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的生活会是什么样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今后的生活中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会以怎样的实际行动去尊重他人的劳动呢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  <p:transition spd="slow">
    <p:split dir="in" orient="horz"/>
    <p:sndAc>
      <p:stSnd>
        <p:snd r:embed="rId1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ljl"/>
          <p:cNvPicPr/>
          <p:nvPr/>
        </p:nvPicPr>
        <p:blipFill>
          <a:blip r:embed="rId1"/>
          <a:stretch/>
        </p:blipFill>
        <p:spPr>
          <a:xfrm>
            <a:off x="0" y="0"/>
            <a:ext cx="2627280" cy="3284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ljl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3284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03030100034501"/>
          <p:cNvPicPr/>
          <p:nvPr/>
        </p:nvPicPr>
        <p:blipFill>
          <a:blip r:embed="rId3"/>
          <a:stretch/>
        </p:blipFill>
        <p:spPr>
          <a:xfrm>
            <a:off x="3276720" y="3284640"/>
            <a:ext cx="2952720" cy="3573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无标题"/>
          <p:cNvPicPr/>
          <p:nvPr/>
        </p:nvPicPr>
        <p:blipFill>
          <a:blip r:embed="rId4"/>
          <a:stretch/>
        </p:blipFill>
        <p:spPr>
          <a:xfrm>
            <a:off x="6156360" y="3284640"/>
            <a:ext cx="2987640" cy="3573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1211594416"/>
          <p:cNvPicPr/>
          <p:nvPr/>
        </p:nvPicPr>
        <p:blipFill>
          <a:blip r:embed="rId5"/>
          <a:stretch/>
        </p:blipFill>
        <p:spPr>
          <a:xfrm>
            <a:off x="0" y="3357720"/>
            <a:ext cx="3276720" cy="3500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0460030020"/>
          <p:cNvPicPr/>
          <p:nvPr/>
        </p:nvPicPr>
        <p:blipFill>
          <a:blip r:embed="rId6"/>
          <a:stretch/>
        </p:blipFill>
        <p:spPr>
          <a:xfrm>
            <a:off x="2627280" y="0"/>
            <a:ext cx="3024360" cy="3284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0" y="1989000"/>
            <a:ext cx="32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fd543"/>
                </a:solidFill>
                <a:latin typeface="Times New Roman"/>
                <a:ea typeface="隶书"/>
              </a:rPr>
              <a:t>化工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276720" y="404640"/>
            <a:ext cx="244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Times New Roman"/>
                <a:ea typeface="隶书"/>
              </a:rPr>
              <a:t>交通运输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364000" y="907920"/>
            <a:ext cx="259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ffcc"/>
                </a:solidFill>
                <a:latin typeface="Times New Roman"/>
                <a:ea typeface="隶书"/>
              </a:rPr>
              <a:t>电力公司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395280" y="5734080"/>
            <a:ext cx="221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00"/>
                </a:solidFill>
                <a:latin typeface="Times New Roman"/>
                <a:ea typeface="隶书"/>
              </a:rPr>
              <a:t>学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2771640" y="4581360"/>
            <a:ext cx="39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fd543"/>
                </a:solidFill>
                <a:latin typeface="Times New Roman"/>
                <a:ea typeface="隶书"/>
              </a:rPr>
              <a:t>机器制造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6732720" y="285264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de3906"/>
                </a:solidFill>
                <a:latin typeface="Times New Roman"/>
                <a:ea typeface="隶书"/>
              </a:rPr>
              <a:t>农业生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些行业只是我们生活中的一部分，在我们的生活中还有许多行业，现在我们交流一下，看生活中还有哪些行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还知道社会上有哪些行业？</a:t>
            </a:r>
            <a:endParaRPr b="0" lang="en-US" sz="40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社会上的行业有很多，都是我们生活离不了的。有这样行业，就是社会的需要，，不管从事哪个行业工作都属于劳动者，都是为人民服务。</a:t>
            </a:r>
            <a:endParaRPr b="0" lang="en-US" sz="40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58c3a"/>
                </a:solidFill>
                <a:latin typeface="Arial"/>
              </a:rPr>
              <a:t>社会上的各行各业有没有高低贵贱之分？为什么？</a:t>
            </a:r>
            <a:endParaRPr b="0" lang="en-US" sz="32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58c3a"/>
                </a:solidFill>
                <a:latin typeface="Arial"/>
              </a:rPr>
              <a:t>没有，就如机器上的各个零件，不能缺少任何一个，每个工作只是 分工不同，没有高低贵贱之分</a:t>
            </a:r>
            <a:endParaRPr b="0" lang="en-US" sz="28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58c3a"/>
                </a:solidFill>
                <a:latin typeface="Arial"/>
              </a:rPr>
              <a:t>各种行业之间有区别吗？ </a:t>
            </a:r>
            <a:endParaRPr b="0" lang="en-US" sz="32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58c3a"/>
                </a:solidFill>
                <a:latin typeface="Arial"/>
              </a:rPr>
              <a:t>社会上的各行各业没有高低贵贱之分，每个工作的人们都付出了辛勤的劳动，都是社会所需要的，大家都是平等的，这正如古语所说</a:t>
            </a:r>
            <a:r>
              <a:rPr b="0" lang="zh-CN" sz="2800" spc="-1" strike="noStrike">
                <a:solidFill>
                  <a:srgbClr val="758c3a"/>
                </a:solidFill>
                <a:latin typeface="微软雅黑"/>
              </a:rPr>
              <a:t>“</a:t>
            </a:r>
            <a:r>
              <a:rPr b="0" lang="zh-CN" sz="2800" spc="-1" strike="noStrike">
                <a:solidFill>
                  <a:srgbClr val="758c3a"/>
                </a:solidFill>
                <a:latin typeface="Arial"/>
              </a:rPr>
              <a:t>三十六行，行行出状元</a:t>
            </a:r>
            <a:r>
              <a:rPr b="0" lang="zh-CN" sz="2800" spc="-1" strike="noStrike">
                <a:solidFill>
                  <a:srgbClr val="758c3a"/>
                </a:solidFill>
                <a:latin typeface="微软雅黑"/>
              </a:rPr>
              <a:t>”</a:t>
            </a:r>
            <a:r>
              <a:rPr b="0" lang="zh-CN" sz="2800" spc="-1" strike="noStrike">
                <a:solidFill>
                  <a:srgbClr val="758c3a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 rot="5340000">
            <a:off x="852480" y="2391480"/>
            <a:ext cx="6502680" cy="151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</a:rPr>
              <a:t>请翻到课本的</a:t>
            </a:r>
            <a:r>
              <a:rPr b="0" i="1" lang="en-US" sz="5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</a:rPr>
              <a:t>P78</a:t>
            </a:r>
            <a:r>
              <a:rPr b="0" i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</a:rPr>
              <a:t>页</a:t>
            </a:r>
            <a:endParaRPr b="0" i="1" lang="en-US" sz="5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58c3a"/>
                </a:solidFill>
                <a:latin typeface="Arial"/>
              </a:rPr>
              <a:t>方便面有哪几部分组成的？ </a:t>
            </a:r>
            <a:endParaRPr b="1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8c3a"/>
                </a:solidFill>
                <a:latin typeface="Arial"/>
              </a:rPr>
              <a:t>面粉、油、调料，还需要包装袋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58c3a"/>
                </a:solidFill>
                <a:latin typeface="Arial"/>
              </a:rPr>
              <a:t>方便面的生产有多少行业配合？</a:t>
            </a:r>
            <a:endParaRPr b="0" lang="en-US" sz="32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8c3a"/>
                </a:solidFill>
                <a:latin typeface="Arial"/>
              </a:rPr>
              <a:t>农民种麦、汽车运输、面粉厂、食品厂生产、石油开采、化工厂生产塑料膜、制成包装袋、食品包装厂包装。</a:t>
            </a: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58c3a"/>
                </a:solidFill>
                <a:latin typeface="Arial"/>
              </a:rPr>
              <a:t>方便面生产出来后，还要经过哪些行业，才能到我们手里？</a:t>
            </a:r>
            <a:endParaRPr b="0" lang="en-US" sz="32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58c3a"/>
                </a:solidFill>
                <a:latin typeface="Arial"/>
              </a:rPr>
              <a:t>铁矿开采、炼钢厂、机器制造厂、交通运输、食品厂机器生产。  电厂发电、输电站发电、供电站供电、食品生产。</a:t>
            </a:r>
            <a:endParaRPr b="0" lang="en-US" sz="28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6696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请你读读下面的对联</a:t>
            </a:r>
            <a:r>
              <a:rPr b="1" lang="en-US" sz="3200" spc="-1" strike="noStrike">
                <a:solidFill>
                  <a:srgbClr val="c3150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然后猜猜它们分别出自于哪个行业</a:t>
            </a:r>
            <a:r>
              <a:rPr b="1" lang="en-US" sz="3200" spc="-1" strike="noStrike">
                <a:solidFill>
                  <a:srgbClr val="c31503"/>
                </a:solidFill>
                <a:latin typeface="Arial"/>
              </a:rPr>
              <a:t>.</a:t>
            </a:r>
            <a:br>
              <a:rPr sz="3200"/>
            </a:br>
            <a:r>
              <a:rPr b="1" lang="en-US" sz="4000" spc="-1" strike="noStrike">
                <a:solidFill>
                  <a:srgbClr val="758c3a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50560" y="2997000"/>
            <a:ext cx="67690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200b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bb"/>
                </a:solidFill>
                <a:latin typeface="Arial"/>
              </a:rPr>
              <a:t>服装厂      酒馆餐馆      玩具店</a:t>
            </a:r>
            <a:endParaRPr b="0" lang="en-US" sz="36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200b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bb"/>
                </a:solidFill>
                <a:latin typeface="Arial"/>
              </a:rPr>
              <a:t>文具店      药店药厂      钟表厂</a:t>
            </a:r>
            <a:endParaRPr b="0" lang="en-US" sz="36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200b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bb"/>
                </a:solidFill>
                <a:latin typeface="Arial"/>
              </a:rPr>
              <a:t>鲜花店      保险公司      眼镜店</a:t>
            </a:r>
            <a:endParaRPr b="0" lang="en-US" sz="36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00bbb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763640" y="1125360"/>
            <a:ext cx="7380360" cy="24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奇花异草增春色   尽如人意花常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雅菊幽兰缀市容   巧夺天工蝶也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780000" y="5373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鲜花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7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7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7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7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58c3a"/>
                </a:solidFill>
                <a:latin typeface="Arial"/>
              </a:rPr>
              <a:t>生活中的各行各业</a:t>
            </a:r>
            <a:endParaRPr b="1" lang="en-US" sz="4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58c3a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758c3a"/>
                </a:solidFill>
                <a:latin typeface="Arial"/>
              </a:rPr>
              <a:t>由于行业不断变迁，以及各种行业需求量不断变化，人们从事的工作也在不断变化。不管从事什么工作，都是社会工作中不可缺少的。他们为社会作出了贡献，应该得到社会的尊重。</a:t>
            </a:r>
            <a:endParaRPr b="0" lang="en-US" sz="36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23" name="文本框 8198"/>
          <p:cNvSpPr/>
          <p:nvPr/>
        </p:nvSpPr>
        <p:spPr>
          <a:xfrm>
            <a:off x="2365200" y="11509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99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799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799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799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999800" y="141120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58c3a"/>
                </a:solidFill>
                <a:latin typeface="Arial"/>
              </a:rPr>
              <a:t>说说你的父母的行业是什么？ </a:t>
            </a:r>
            <a:endParaRPr b="0" lang="en-US" sz="3200" spc="-1" strike="noStrike">
              <a:solidFill>
                <a:srgbClr val="758c3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5942-FCF0-4A2B-9B8B-68789B6BB5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980720" y="14860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58c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2540160" y="1773360"/>
            <a:ext cx="54165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谢谢大家</a:t>
            </a:r>
            <a:endParaRPr b="0" lang="en-US" sz="80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4920" y="907560"/>
            <a:ext cx="676908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请你读读下面的对联</a:t>
            </a:r>
            <a:r>
              <a:rPr b="1" lang="en-US" sz="3200" spc="-1" strike="noStrike">
                <a:solidFill>
                  <a:srgbClr val="c3150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然后猜猜它们分别出自于哪个行业</a:t>
            </a:r>
            <a:r>
              <a:rPr b="1" lang="en-US" sz="3200" spc="-1" strike="noStrike">
                <a:solidFill>
                  <a:srgbClr val="c31503"/>
                </a:solidFill>
                <a:latin typeface="Arial"/>
              </a:rPr>
              <a:t>.</a:t>
            </a:r>
            <a:br>
              <a:rPr sz="3200"/>
            </a:br>
            <a:r>
              <a:rPr b="1" lang="en-US" sz="4000" spc="-1" strike="noStrike">
                <a:solidFill>
                  <a:srgbClr val="758c3a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95640" y="3573000"/>
            <a:ext cx="6121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758c3a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1e02c4"/>
                </a:solidFill>
                <a:latin typeface="Arial"/>
              </a:rPr>
              <a:t>服装厂   酒馆餐馆     玩具店</a:t>
            </a:r>
            <a:endParaRPr b="0" lang="en-US" sz="36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e02c4"/>
                </a:solidFill>
                <a:latin typeface="Arial"/>
              </a:rPr>
              <a:t>文具店    药店药厂     钟表厂</a:t>
            </a:r>
            <a:endParaRPr b="0" lang="en-US" sz="36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e02c4"/>
                </a:solidFill>
                <a:latin typeface="Arial"/>
              </a:rPr>
              <a:t>鲜花店     保险公司     眼镜店</a:t>
            </a:r>
            <a:endParaRPr b="0" lang="en-US" sz="36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124000" y="1844640"/>
            <a:ext cx="734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多亏工匠巧    玩具藏智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博得小儿欢     娱乐长精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987640" y="5229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987640" y="5300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851280" y="57340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玩具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870600" cy="15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请你读读下面的对联</a:t>
            </a:r>
            <a:r>
              <a:rPr b="1" lang="en-US" sz="3200" spc="-1" strike="noStrike">
                <a:solidFill>
                  <a:srgbClr val="c3150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然后猜猜它们分别出自于哪个行业</a:t>
            </a:r>
            <a:r>
              <a:rPr b="1" lang="en-US" sz="3200" spc="-1" strike="noStrike">
                <a:solidFill>
                  <a:srgbClr val="c31503"/>
                </a:solidFill>
                <a:latin typeface="Arial"/>
              </a:rPr>
              <a:t>.</a:t>
            </a:r>
            <a:br>
              <a:rPr sz="3200"/>
            </a:br>
            <a:r>
              <a:rPr b="1" lang="en-US" sz="4000" spc="-1" strike="noStrike">
                <a:solidFill>
                  <a:srgbClr val="758c3a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68000" y="3573360"/>
            <a:ext cx="5977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0b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0bbb"/>
                </a:solidFill>
                <a:latin typeface="Arial"/>
              </a:rPr>
              <a:t>服装厂      酒馆餐馆      玩具店</a:t>
            </a:r>
            <a:endParaRPr b="0" lang="en-US" sz="28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0b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0bbb"/>
                </a:solidFill>
                <a:latin typeface="Arial"/>
              </a:rPr>
              <a:t>文具店      药店药厂      钟表厂</a:t>
            </a:r>
            <a:endParaRPr b="0" lang="en-US" sz="28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0b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0bbb"/>
                </a:solidFill>
                <a:latin typeface="Arial"/>
              </a:rPr>
              <a:t>鲜花店      保险公司      眼镜店</a:t>
            </a:r>
            <a:endParaRPr b="0" lang="en-US" sz="28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58c3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016000" y="1557360"/>
            <a:ext cx="712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入室一杯酒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室陋宾客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登程满路香    艺高饭菜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780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酒馆餐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23960" y="333360"/>
            <a:ext cx="72691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58c3a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请你读读下面的对联</a:t>
            </a:r>
            <a:r>
              <a:rPr b="1" lang="en-US" sz="3200" spc="-1" strike="noStrike">
                <a:solidFill>
                  <a:srgbClr val="c3150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31503"/>
                </a:solidFill>
                <a:latin typeface="Arial"/>
              </a:rPr>
              <a:t>然后猜猜它们分别出自于哪个行业</a:t>
            </a:r>
            <a:r>
              <a:rPr b="1" lang="en-US" sz="3200" spc="-1" strike="noStrike">
                <a:solidFill>
                  <a:srgbClr val="c31503"/>
                </a:solidFill>
                <a:latin typeface="Arial"/>
              </a:rPr>
              <a:t>.</a:t>
            </a:r>
            <a:br>
              <a:rPr sz="3200"/>
            </a:br>
            <a:r>
              <a:rPr b="1" lang="en-US" sz="4000" spc="-1" strike="noStrike">
                <a:solidFill>
                  <a:srgbClr val="758c3a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95280" y="3428640"/>
            <a:ext cx="6048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00b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0bbb"/>
                </a:solidFill>
                <a:latin typeface="Arial"/>
              </a:rPr>
              <a:t>服装厂      酒馆餐馆      玩具店</a:t>
            </a:r>
            <a:endParaRPr b="0" lang="en-US" sz="28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0b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0bbb"/>
                </a:solidFill>
                <a:latin typeface="Arial"/>
              </a:rPr>
              <a:t>文具店      药店药厂      钟表厂</a:t>
            </a:r>
            <a:endParaRPr b="0" lang="en-US" sz="28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0b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0bbb"/>
                </a:solidFill>
                <a:latin typeface="Arial"/>
              </a:rPr>
              <a:t>鲜花店      保险公司      眼镜店</a:t>
            </a:r>
            <a:endParaRPr b="0" lang="en-US" sz="2800" spc="-1" strike="noStrike">
              <a:solidFill>
                <a:srgbClr val="758c3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58c3a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124000" y="148428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年年保险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年保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岁岁平安      四季无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780000" y="537372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保险公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8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7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7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7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01"/>
          <p:cNvPicPr/>
          <p:nvPr/>
        </p:nvPicPr>
        <p:blipFill>
          <a:blip r:embed="rId1"/>
          <a:stretch/>
        </p:blipFill>
        <p:spPr>
          <a:xfrm>
            <a:off x="611280" y="476280"/>
            <a:ext cx="2479680" cy="5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5638680" y="3965400"/>
            <a:ext cx="2438640" cy="22831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1833480" y="539640"/>
            <a:ext cx="5023080" cy="4019400"/>
          </a:xfrm>
          <a:prstGeom prst="cloudCallout">
            <a:avLst>
              <a:gd name="adj1" fmla="val 49111"/>
              <a:gd name="adj2" fmla="val 29397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妈妈和周围的人们，他们都在从事什么行业的工作，又是怎样干好自己的工作的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6"/>
          <p:cNvSpPr/>
          <p:nvPr/>
        </p:nvSpPr>
        <p:spPr>
          <a:xfrm>
            <a:off x="4643280" y="3068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03"/>
          <p:cNvPicPr/>
          <p:nvPr/>
        </p:nvPicPr>
        <p:blipFill>
          <a:blip r:embed="rId1"/>
          <a:stretch/>
        </p:blipFill>
        <p:spPr>
          <a:xfrm>
            <a:off x="468360" y="3333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124000" y="981000"/>
            <a:ext cx="5178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行业小调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743200" y="5927760"/>
            <a:ext cx="4267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爸爸是商店的售货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p42_1"/>
          <p:cNvPicPr/>
          <p:nvPr/>
        </p:nvPicPr>
        <p:blipFill>
          <a:blip r:embed="rId2"/>
          <a:stretch/>
        </p:blipFill>
        <p:spPr>
          <a:xfrm>
            <a:off x="2666880" y="1989000"/>
            <a:ext cx="4353120" cy="403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3"/>
          <p:cNvPicPr/>
          <p:nvPr/>
        </p:nvPicPr>
        <p:blipFill>
          <a:blip r:embed="rId1"/>
          <a:stretch/>
        </p:blipFill>
        <p:spPr>
          <a:xfrm>
            <a:off x="324000" y="26028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2340000" y="765000"/>
            <a:ext cx="4962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行业小调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362320" y="5851440"/>
            <a:ext cx="4946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妈妈是纺织厂工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p42_2"/>
          <p:cNvPicPr/>
          <p:nvPr/>
        </p:nvPicPr>
        <p:blipFill>
          <a:blip r:embed="rId2"/>
          <a:stretch/>
        </p:blipFill>
        <p:spPr>
          <a:xfrm>
            <a:off x="2590920" y="1700280"/>
            <a:ext cx="4286160" cy="393840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8198"/>
          <p:cNvSpPr/>
          <p:nvPr/>
        </p:nvSpPr>
        <p:spPr>
          <a:xfrm>
            <a:off x="2131920" y="15447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5T07:48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58Z</dcterms:modified>
  <cp:revision>1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0a0b000000000001024120</vt:lpwstr>
  </property>
</Properties>
</file>