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3.jpeg" ContentType="image/jpeg"/>
  <Override PartName="/ppt/media/image24.wmf" ContentType="image/x-wmf"/>
  <Override PartName="/ppt/media/type.wav" ContentType="audio/x-wav"/>
  <Override PartName="/ppt/media/image15.jpeg" ContentType="image/jpe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jpeg" ContentType="image/jpeg"/>
  <Override PartName="/ppt/media/chimes.wav" ContentType="audio/x-wav"/>
  <Override PartName="/ppt/media/image16.jpeg" ContentType="image/jpeg"/>
  <Override PartName="/ppt/media/image25.wmf" ContentType="image/x-wmf"/>
  <Override PartName="/ppt/media/image23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83C2-9F9B-400C-88FE-A1A40F738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7603-C3E8-49B6-9FE7-8BF0A2B6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BA78-BB83-4740-B382-DEF2588C8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2C1D-0AD7-40C2-A784-3CCA4E939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987C4-F891-4EBE-93C1-4AB244D42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3C58E-07B6-412C-8E97-25678DFD2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3A25D-9CF5-4C7E-B580-658851F0B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15984-271E-4B88-A33D-5F6B5F135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7D13F-40E9-48C1-8B48-267283C0C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601C4-BD74-431F-A82F-B388E59E2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09311-AF33-4811-9603-5EA0A4B8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C8CE-D504-434D-8F96-B980C99C1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7DCD0-50D8-46C6-9735-5E21416B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5B854-ADC9-4541-B301-E420A477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85492-BE53-4993-85D8-D81AD9D8B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440E9-024E-4611-9E73-2DA497660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4AAA0-F7C1-4F9D-BF77-340A966CE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46986-51C6-4954-9B5D-EACFBD9B4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0EB58-896E-4D98-A887-378FDFCCD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05C79-5174-4898-BC9D-44582A016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0FA2C-A47C-4889-AB0A-56A7AC6C3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72DAF-B37F-4019-BA58-96D1DB05A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9A1E-22DA-4895-9D83-A4C6F0FDA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81D79-0B10-4543-8520-9512DFBB8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04077-A7CA-46CA-B4D1-09ACCB39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80271-C986-4E88-9758-3C0A3B3D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883AB-3AFD-4EF4-BA46-C7907EBC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25AE7-1FA7-45AC-A463-668D2402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37021-7E20-41EB-AF0E-1F6571805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6CFD7-F1F3-4403-970E-13CDC4191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5A4A-95EF-4DD9-82FF-B84319399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BD0C-BCE1-47CC-896A-2B1013B07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69D6-3C31-4818-B1E1-FD8363E56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00CE-2CAE-47A0-AA2A-91702619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EDCF-9FAF-4A1D-B7C6-33A11E26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59C6-6F9A-4417-BBBE-0FBE12E8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95FBD-8208-41B4-AE5A-6C94EE75A8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EA104-9DAD-4430-A5EB-D3AFAAFE89A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C20F7-5F99-44EF-9A12-9E33F113CF96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1" descr=""/>
          <p:cNvPicPr/>
          <p:nvPr/>
        </p:nvPicPr>
        <p:blipFill>
          <a:blip r:embed="rId1"/>
          <a:stretch/>
        </p:blipFill>
        <p:spPr>
          <a:xfrm>
            <a:off x="2260440" y="2600280"/>
            <a:ext cx="4762800" cy="33339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4"/>
          <p:cNvSpPr/>
          <p:nvPr/>
        </p:nvSpPr>
        <p:spPr>
          <a:xfrm>
            <a:off x="650880" y="646200"/>
            <a:ext cx="454824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教科版四年级科学下册第一单元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WordArt 10"/>
          <p:cNvSpPr txBox="1"/>
          <p:nvPr/>
        </p:nvSpPr>
        <p:spPr>
          <a:xfrm>
            <a:off x="1041480" y="1484280"/>
            <a:ext cx="7200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0">
                  <a:noFill/>
                </a:ln>
                <a:solidFill>
                  <a:srgbClr val="00194d"/>
                </a:solidFill>
                <a:latin typeface="宋体"/>
              </a:rPr>
              <a:t>生活中的静电现象课件</a:t>
            </a:r>
            <a:r>
              <a:rPr b="0" lang="en-US" sz="4000" spc="-1" strike="noStrike">
                <a:ln w="0">
                  <a:noFill/>
                </a:ln>
                <a:solidFill>
                  <a:srgbClr val="00194d"/>
                </a:solidFill>
                <a:latin typeface="宋体"/>
              </a:rPr>
              <a:t>PPT</a:t>
            </a:r>
            <a:r>
              <a:rPr b="0" lang="zh-CN" sz="4000" spc="-1" strike="noStrike">
                <a:ln w="0">
                  <a:noFill/>
                </a:ln>
                <a:solidFill>
                  <a:srgbClr val="00194d"/>
                </a:solidFill>
                <a:latin typeface="宋体"/>
              </a:rPr>
              <a:t>模板下载</a:t>
            </a:r>
            <a:endParaRPr b="0" lang="en-US" sz="4000" spc="-1" strike="noStrike">
              <a:ln w="0">
                <a:noFill/>
              </a:ln>
              <a:solidFill>
                <a:srgbClr val="00194d"/>
              </a:solidFill>
              <a:latin typeface="宋体"/>
              <a:ea typeface="宋体"/>
            </a:endParaRPr>
          </a:p>
        </p:txBody>
      </p:sp>
      <p:sp>
        <p:nvSpPr>
          <p:cNvPr id="12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7a77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7a77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图片1"/>
          <p:cNvPicPr/>
          <p:nvPr/>
        </p:nvPicPr>
        <p:blipFill>
          <a:blip r:embed="rId1"/>
          <a:stretch/>
        </p:blipFill>
        <p:spPr>
          <a:xfrm>
            <a:off x="1403280" y="1413000"/>
            <a:ext cx="5400720" cy="44863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"/>
          <p:cNvSpPr/>
          <p:nvPr/>
        </p:nvSpPr>
        <p:spPr>
          <a:xfrm>
            <a:off x="611280" y="9810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梳理后的头发带负电荷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4930920" y="173664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电子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5508720" y="227664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╋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3780000" y="134136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━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5722200" y="2421000"/>
            <a:ext cx="91188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梳过头发的梳子带负电荷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"/>
                            </p:stCondLst>
                            <p:childTnLst>
                              <p:par>
                                <p:cTn id="81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6"/>
          <p:cNvSpPr/>
          <p:nvPr/>
        </p:nvSpPr>
        <p:spPr>
          <a:xfrm>
            <a:off x="684360" y="72864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活动一： 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用充气的气球和头发摩擦后分开，再用经过摩擦的气球的一侧去靠近头发，观察现象。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60" name="Picture 3" descr="图片1_!"/>
          <p:cNvPicPr/>
          <p:nvPr/>
        </p:nvPicPr>
        <p:blipFill>
          <a:blip r:embed="rId1"/>
          <a:stretch/>
        </p:blipFill>
        <p:spPr>
          <a:xfrm>
            <a:off x="1068480" y="2790720"/>
            <a:ext cx="7751520" cy="8017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4"/>
          <p:cNvSpPr/>
          <p:nvPr/>
        </p:nvSpPr>
        <p:spPr>
          <a:xfrm>
            <a:off x="684360" y="233352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活动二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62" name="Picture 5" descr="图片1_2"/>
          <p:cNvPicPr/>
          <p:nvPr/>
        </p:nvPicPr>
        <p:blipFill>
          <a:blip r:embed="rId2"/>
          <a:stretch/>
        </p:blipFill>
        <p:spPr>
          <a:xfrm>
            <a:off x="1247760" y="3500280"/>
            <a:ext cx="555624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179280" y="360360"/>
          <a:ext cx="8713800" cy="6021360"/>
        </p:xfrm>
        <a:graphic>
          <a:graphicData uri="http://schemas.openxmlformats.org/drawingml/2006/table">
            <a:tbl>
              <a:tblPr/>
              <a:tblGrid>
                <a:gridCol w="5040360"/>
                <a:gridCol w="3673440"/>
              </a:tblGrid>
              <a:tr h="863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7a77"/>
                          </a:solidFill>
                          <a:latin typeface="Times New Roman"/>
                        </a:rPr>
                        <a:t>活动</a:t>
                      </a:r>
                      <a:endParaRPr b="0" lang="en-US" sz="32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7a77"/>
                          </a:solidFill>
                          <a:latin typeface="Times New Roman"/>
                        </a:rPr>
                        <a:t>我看到的现象</a:t>
                      </a:r>
                      <a:endParaRPr b="0" lang="en-US" sz="32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1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Times New Roman"/>
                        </a:rPr>
                        <a:t>活动一：用充气的气球和头发摩擦后分开，再用气球经过摩擦的一侧去靠近头发。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6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Times New Roman"/>
                        </a:rPr>
                        <a:t>活动二：将两个充气的气球分别系在木尺上，让它们挨在一起，然后用羊皮制品分别摩擦两个气球互相接触的部位。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Times New Roman"/>
                        </a:rPr>
                        <a:t>活动三：两个橡胶棒，分别用毛皮摩擦，摩擦之后的部位相互接近。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文本框 8199"/>
          <p:cNvSpPr/>
          <p:nvPr/>
        </p:nvSpPr>
        <p:spPr>
          <a:xfrm>
            <a:off x="615960" y="23907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dc5900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dc5900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7a77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5" descr="L2HD[6VQRL2}UYVUNR5FXJ3"/>
          <p:cNvPicPr/>
          <p:nvPr/>
        </p:nvPicPr>
        <p:blipFill>
          <a:blip r:embed="rId1"/>
          <a:stretch/>
        </p:blipFill>
        <p:spPr>
          <a:xfrm>
            <a:off x="1763640" y="2708280"/>
            <a:ext cx="3311640" cy="30574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684360" y="72864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活动一： 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用充气的气球和头发摩擦后分开，再用经过摩擦的气球的一侧去靠近头发，观察现象。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图片1_!"/>
          <p:cNvPicPr/>
          <p:nvPr/>
        </p:nvPicPr>
        <p:blipFill>
          <a:blip r:embed="rId1"/>
          <a:stretch/>
        </p:blipFill>
        <p:spPr>
          <a:xfrm>
            <a:off x="971640" y="1052640"/>
            <a:ext cx="7751520" cy="8017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" descr="图片1_3"/>
          <p:cNvPicPr/>
          <p:nvPr/>
        </p:nvPicPr>
        <p:blipFill>
          <a:blip r:embed="rId2"/>
          <a:stretch/>
        </p:blipFill>
        <p:spPr>
          <a:xfrm>
            <a:off x="6443640" y="2276640"/>
            <a:ext cx="2376360" cy="29527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图片1_2"/>
          <p:cNvPicPr/>
          <p:nvPr/>
        </p:nvPicPr>
        <p:blipFill>
          <a:blip r:embed="rId3"/>
          <a:stretch/>
        </p:blipFill>
        <p:spPr>
          <a:xfrm>
            <a:off x="900000" y="2421000"/>
            <a:ext cx="5556240" cy="278604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538200" y="98100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活动二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584280" y="1128960"/>
            <a:ext cx="813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两个摩擦后的物体，有时相互吸引，有时互相排斥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这跟我们前面所学的磁铁性质极其相似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72" name="Picture 56" descr="M@TT}FX~D({OQ9BQ18}ED2N"/>
          <p:cNvPicPr/>
          <p:nvPr/>
        </p:nvPicPr>
        <p:blipFill>
          <a:blip r:embed="rId1"/>
          <a:stretch/>
        </p:blipFill>
        <p:spPr>
          <a:xfrm>
            <a:off x="611280" y="3213000"/>
            <a:ext cx="7775640" cy="244152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4"/>
          <p:cNvSpPr/>
          <p:nvPr/>
        </p:nvSpPr>
        <p:spPr>
          <a:xfrm>
            <a:off x="1148760" y="57340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互相排斥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6908400" y="57340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互相排斥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3987360" y="57340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互相吸引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3247200" y="2324160"/>
            <a:ext cx="5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同种电荷互相排斥，不同种电荷互相吸引 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1101D"/>
          <p:cNvPicPr/>
          <p:nvPr/>
        </p:nvPicPr>
        <p:blipFill>
          <a:blip r:embed="rId1"/>
          <a:stretch/>
        </p:blipFill>
        <p:spPr>
          <a:xfrm>
            <a:off x="190440" y="63360"/>
            <a:ext cx="8763120" cy="673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611280" y="604800"/>
            <a:ext cx="75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让电荷流动起来形成电流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需要具备两个条件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1258920" y="1916280"/>
            <a:ext cx="66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、要有动力，也就是电源；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1692360" y="3573360"/>
            <a:ext cx="5688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1332000" y="3500280"/>
            <a:ext cx="712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、要有电路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—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电流只有在电路      中才能流动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1547640" y="3068640"/>
            <a:ext cx="18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电路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3" name="AutoShape 3"/>
          <p:cNvSpPr/>
          <p:nvPr/>
        </p:nvSpPr>
        <p:spPr>
          <a:xfrm>
            <a:off x="2771640" y="1700280"/>
            <a:ext cx="792360" cy="3600360"/>
          </a:xfrm>
          <a:custGeom>
            <a:avLst/>
            <a:gdLst>
              <a:gd name="textAreaLeft" fmla="*/ 506160 w 792360"/>
              <a:gd name="textAreaRight" fmla="*/ 792720 w 792360"/>
              <a:gd name="textAreaTop" fmla="*/ 93600 h 3600360"/>
              <a:gd name="textAreaBottom" fmla="*/ 3506760 h 36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3851280" y="148428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电源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3851280" y="251136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用电器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3924360" y="3664080"/>
            <a:ext cx="17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导线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3852720" y="479736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电器元件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555"/>
          <p:cNvPicPr/>
          <p:nvPr/>
        </p:nvPicPr>
        <p:blipFill>
          <a:blip r:embed="rId1"/>
          <a:stretch/>
        </p:blipFill>
        <p:spPr>
          <a:xfrm>
            <a:off x="2771640" y="171360"/>
            <a:ext cx="5472360" cy="410544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3"/>
          <p:cNvSpPr/>
          <p:nvPr/>
        </p:nvSpPr>
        <p:spPr>
          <a:xfrm>
            <a:off x="5618160" y="11970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用电器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90" name="Group 4"/>
          <p:cNvGrpSpPr/>
          <p:nvPr/>
        </p:nvGrpSpPr>
        <p:grpSpPr>
          <a:xfrm>
            <a:off x="614880" y="2425680"/>
            <a:ext cx="9358560" cy="4432320"/>
            <a:chOff x="614880" y="2425680"/>
            <a:chExt cx="9358560" cy="4432320"/>
          </a:xfrm>
        </p:grpSpPr>
        <p:grpSp>
          <p:nvGrpSpPr>
            <p:cNvPr id="191" name="Group 5"/>
            <p:cNvGrpSpPr/>
            <p:nvPr/>
          </p:nvGrpSpPr>
          <p:grpSpPr>
            <a:xfrm>
              <a:off x="958680" y="2425680"/>
              <a:ext cx="9014760" cy="4432320"/>
              <a:chOff x="958680" y="2425680"/>
              <a:chExt cx="9014760" cy="4432320"/>
            </a:xfrm>
          </p:grpSpPr>
          <p:pic>
            <p:nvPicPr>
              <p:cNvPr id="192" name="Picture 6" descr="444"/>
              <p:cNvPicPr/>
              <p:nvPr/>
            </p:nvPicPr>
            <p:blipFill>
              <a:blip r:embed="rId2"/>
              <a:stretch/>
            </p:blipFill>
            <p:spPr>
              <a:xfrm>
                <a:off x="4271400" y="2581200"/>
                <a:ext cx="5702040" cy="427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3" name="Picture 7" descr="333"/>
              <p:cNvPicPr/>
              <p:nvPr/>
            </p:nvPicPr>
            <p:blipFill>
              <a:blip r:embed="rId3"/>
              <a:stretch/>
            </p:blipFill>
            <p:spPr>
              <a:xfrm>
                <a:off x="958680" y="2425680"/>
                <a:ext cx="5775120" cy="4332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4" name="Text Box 8"/>
            <p:cNvSpPr/>
            <p:nvPr/>
          </p:nvSpPr>
          <p:spPr>
            <a:xfrm>
              <a:off x="614880" y="3023280"/>
              <a:ext cx="789840" cy="14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7a77"/>
                  </a:solidFill>
                  <a:latin typeface="Arial"/>
                </a:rPr>
                <a:t>导线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5" name="Text Box 9"/>
            <p:cNvSpPr/>
            <p:nvPr/>
          </p:nvSpPr>
          <p:spPr>
            <a:xfrm>
              <a:off x="7240680" y="3085200"/>
              <a:ext cx="789840" cy="14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7a77"/>
                  </a:solidFill>
                  <a:latin typeface="Arial"/>
                </a:rPr>
                <a:t>导线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96" name="Group 10"/>
          <p:cNvGrpSpPr/>
          <p:nvPr/>
        </p:nvGrpSpPr>
        <p:grpSpPr>
          <a:xfrm>
            <a:off x="3265560" y="5013360"/>
            <a:ext cx="5410080" cy="4057560"/>
            <a:chOff x="3265560" y="5013360"/>
            <a:chExt cx="5410080" cy="4057560"/>
          </a:xfrm>
        </p:grpSpPr>
        <p:pic>
          <p:nvPicPr>
            <p:cNvPr id="197" name="Picture 11" descr="22"/>
            <p:cNvPicPr/>
            <p:nvPr/>
          </p:nvPicPr>
          <p:blipFill>
            <a:blip r:embed="rId4"/>
            <a:stretch/>
          </p:blipFill>
          <p:spPr>
            <a:xfrm>
              <a:off x="3265560" y="5013360"/>
              <a:ext cx="5410080" cy="40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Text Box 12"/>
            <p:cNvSpPr/>
            <p:nvPr/>
          </p:nvSpPr>
          <p:spPr>
            <a:xfrm>
              <a:off x="4029480" y="6040440"/>
              <a:ext cx="1188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7a77"/>
                  </a:solidFill>
                  <a:latin typeface="Arial"/>
                </a:rPr>
                <a:t>电   源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5ENA2$E`RYPAA[PA5MI}BIH"/>
          <p:cNvPicPr/>
          <p:nvPr/>
        </p:nvPicPr>
        <p:blipFill>
          <a:blip r:embed="rId1"/>
          <a:stretch/>
        </p:blipFill>
        <p:spPr>
          <a:xfrm>
            <a:off x="395280" y="404640"/>
            <a:ext cx="3672000" cy="23241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5318280" y="8366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科学小实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4356000" y="1844640"/>
            <a:ext cx="43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实验材料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塑料梳子、碎纸片、头发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324000" y="2997360"/>
            <a:ext cx="8569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实验步骤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1.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手拿塑料梳子，靠近碎纸片，观察现象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2.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手拿塑料梳子，靠近头发，观察现象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3.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把刚梳过头发的梳子靠近头发，观察现象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4.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梳子在头发上梳几下，再接近碎纸屑，观察现象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1042920" y="5380200"/>
            <a:ext cx="68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看到了什么？你能解释一下吗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2854440" y="1989000"/>
            <a:ext cx="3917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课外延伸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油罐车为什么会有一条尾巴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避雷针怎样避雷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468360" y="62064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２、静电的防止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0" y="1197000"/>
            <a:ext cx="4572000" cy="5472000"/>
          </a:xfrm>
          <a:prstGeom prst="rect">
            <a:avLst/>
          </a:prstGeom>
          <a:solidFill>
            <a:srgbClr val="ffffff"/>
          </a:solidFill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静电力的不良后果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电视机的荧屏表面容易吸附灰尘，使图像的清晰度和亮度下降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混纺衣服上常出现不易拍掉的灰尘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印刷厂里，纸页之间因静电而粘合，给印刷带来不便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制药厂时，因静电吸引尘埃，使药品达不到标准纯度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4572000" y="1197000"/>
            <a:ext cx="4572000" cy="5472000"/>
          </a:xfrm>
          <a:prstGeom prst="rect">
            <a:avLst/>
          </a:prstGeom>
          <a:noFill/>
          <a:ln cap="rnd" w="38160">
            <a:solidFill>
              <a:srgbClr val="33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静电火花引起的危害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医院手术台上，静电火花会引起麻醉剂爆炸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煤矿里，静电火花会引起瓦斯爆炸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在航开工业里，静电放电会干扰航天器的运行，甚至会造成火箭和卫星的发射失败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在石化工业里，因静电放电引起的事故屡见不鲜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0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3564000" cy="72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雷暴来临时留在室内比处于室外安全；留在有防雷设施的室内比无防雷设施的室内安全；站立于屋顶最不安全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雷暴来临时当你处于空旷的田野或开阔地带时，应尽快找有防雷设施的地方躲避；如果当时找不到躲避的地方，切记：处于低矮的地方比突出的高地更安全。不能在山顶、山脊、田埂、土堆上行走或肩扛长形工具和物件，不能靠近孤立的高大树木和烟囱类建筑物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5" name="Oval 3"/>
          <p:cNvSpPr/>
          <p:nvPr/>
        </p:nvSpPr>
        <p:spPr>
          <a:xfrm>
            <a:off x="1403280" y="476280"/>
            <a:ext cx="6121440" cy="12240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避雷小知识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36360" y="0"/>
            <a:ext cx="9107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c5900"/>
                </a:solidFill>
                <a:latin typeface="Arial"/>
              </a:rPr>
              <a:t>如何防止和消除静电呢？关键要保持周围环境的湿度，并尽量减少易引发静电的因素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一、室内要保持一定的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湿度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。房间里要勤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拖地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勤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洒些水，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或使用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空气加湿器增加湿度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二、要勤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洗澡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勤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换衣服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，以消除人体表面积聚的静电荷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三、少穿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皮、毛和化纤质地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的衣物，特别是老年人，应尽量穿柔软、光滑的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棉纺织或丝织衣物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四、平时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多喝水、勤洗脸、洗手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，发现头发无法梳理时，将梳子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浸湿消除静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电后再梳理头发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五、脱衣后和接触金属用品前，先用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手摸一下墙壁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，将身体上的静电释放出去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ShockwaveFlash1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136000" cy="5904000"/>
          </a:xfrm>
          <a:prstGeom prst="rect">
            <a:avLst/>
          </a:prstGeom>
          <a:ln w="0">
            <a:noFill/>
          </a:ln>
        </p:spPr>
      </p:pic>
      <p:sp>
        <p:nvSpPr>
          <p:cNvPr id="208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dc5900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dc5900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7a77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ShockwaveFlash1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81360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0" y="-360"/>
            <a:ext cx="896472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一、填空题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、静电存在于所有物质中，物质同时具有（        ）种电荷，分别是（      ）电荷和（       ）电荷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、在用塑料梳子梳理干燥头发的时候，梳子带（  负   ）电荷，头发带（ 正    ）电荷，当梳子和头发靠近的时候，会发生相互（ 吸引    ）的现象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二、选择题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、下列属于静电现象的是（          ）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、打雷时闪电                 </a:t>
            </a: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、手电筒使用的电池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、脱毛衣时的啪啪声           </a:t>
            </a: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D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、以上都不是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、將这两个带负电的小球相互靠近，出现的现象是（       ）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、相互远离       </a:t>
            </a: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、相互靠近    </a:t>
            </a: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、先远离再靠近   </a:t>
            </a: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D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、先靠近再远离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、將两个小球用棉线拴在一个小木尺上，出现了相互吸引的情况，由此实验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现象可知，两个小球所带的电荷是（        ）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、同种电荷   </a:t>
            </a: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、异种电荷   </a:t>
            </a: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、可能是同种电荷，也可能是异种电荷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、若用另外两个小球用上题的方法做实验，出现了相互排斥的情况，由此可知这两个小球所带的电荷（          ）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、同种电荷    </a:t>
            </a: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、异种电荷   </a:t>
            </a: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、可能是同种电荷，也可能是异种电荷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655560" y="260280"/>
            <a:ext cx="1155960" cy="581400"/>
          </a:xfrm>
          <a:prstGeom prst="rect">
            <a:avLst/>
          </a:prstGeom>
          <a:noFill/>
          <a:ln w="9360">
            <a:solidFill>
              <a:srgbClr val="dc5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c5900"/>
                </a:solidFill>
                <a:latin typeface="Arial"/>
              </a:rPr>
              <a:t>课堂作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5171040" y="1197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dc5900"/>
                </a:solidFill>
                <a:latin typeface="Arial"/>
              </a:rPr>
              <a:t>两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8004600" y="1197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c5900"/>
                </a:solidFill>
                <a:latin typeface="Arial"/>
              </a:rPr>
              <a:t>正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1932840" y="1413000"/>
            <a:ext cx="4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dc5900"/>
                </a:solidFill>
                <a:latin typeface="Arial"/>
              </a:rPr>
              <a:t>负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3278160" y="24922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dc5900"/>
                </a:solidFill>
                <a:latin typeface="Arial"/>
              </a:rPr>
              <a:t>AC</a:t>
            </a: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6157800" y="35002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dc5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4286520" y="4437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c59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4069080" y="5300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c5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7a77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1A7D8-8B73-4552-9201-A33FBA0E8766}" type="slidenum">
              <a:rPr b="0" lang="zh-CN" sz="1400" spc="-1" strike="noStrike">
                <a:solidFill>
                  <a:srgbClr val="007a77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WordArt 2"/>
          <p:cNvSpPr txBox="1"/>
          <p:nvPr/>
        </p:nvSpPr>
        <p:spPr>
          <a:xfrm>
            <a:off x="1116000" y="1550880"/>
            <a:ext cx="655164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cc0099"/>
                </a:solidFill>
                <a:effectLst>
                  <a:outerShdw dist="153753" dir="2700000" blurRad="0" rotWithShape="0">
                    <a:srgbClr val="990000">
                      <a:alpha val="50000"/>
                    </a:srgbClr>
                  </a:outerShdw>
                </a:effectLst>
                <a:latin typeface="华文行楷"/>
              </a:rPr>
              <a:t>祝同学们学习愉快，再见！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cc0099"/>
              </a:solidFill>
              <a:effectLst>
                <a:outerShdw dist="153753" dir="2700000" blurRad="0" rotWithShape="0">
                  <a:srgbClr val="990000">
                    <a:alpha val="5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1102d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7" descr="2002822162752"/>
          <p:cNvPicPr/>
          <p:nvPr/>
        </p:nvPicPr>
        <p:blipFill>
          <a:blip r:embed="rId1"/>
          <a:stretch/>
        </p:blipFill>
        <p:spPr>
          <a:xfrm>
            <a:off x="826920" y="620640"/>
            <a:ext cx="7561440" cy="56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3" descr="IMG_4605"/>
          <p:cNvPicPr/>
          <p:nvPr/>
        </p:nvPicPr>
        <p:blipFill>
          <a:blip r:embed="rId1"/>
          <a:stretch/>
        </p:blipFill>
        <p:spPr>
          <a:xfrm>
            <a:off x="1692360" y="907920"/>
            <a:ext cx="6192720" cy="489744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4"/>
          <p:cNvSpPr/>
          <p:nvPr/>
        </p:nvSpPr>
        <p:spPr>
          <a:xfrm>
            <a:off x="3975480" y="5950080"/>
            <a:ext cx="17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怒发冲冠”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2751840" y="353880"/>
            <a:ext cx="39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女孩用手触摸静电起电机的金属球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971640" y="907920"/>
            <a:ext cx="69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生活中的静电现象随处可见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  <a:ea typeface="黑体"/>
              </a:rPr>
              <a:t>静电存在于我们周围的一切物质之中，包括人类在内的生物和非生物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6156360" y="3141720"/>
            <a:ext cx="1800360" cy="26654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900000" y="4073760"/>
            <a:ext cx="51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静电既然存在于所有的物质之中，为什么我们通常感觉不到物体带电呢？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3" descr="IMG_46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4"/>
          <p:cNvSpPr/>
          <p:nvPr/>
        </p:nvSpPr>
        <p:spPr>
          <a:xfrm>
            <a:off x="7083360" y="22766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尺子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7081920" y="6206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梳子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1392120" y="57340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气球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7008840" y="59500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毛皮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4848120" y="59500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丝绸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1712160" y="5493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玻璃棒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2577240" y="18446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橡胶棒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2758320" y="18900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探究活动：摩擦起电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468360" y="981000"/>
            <a:ext cx="8280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实验材料：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纸屑、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玻璃棒、橡胶棒、梳子、尺子、气球、丝绸、毛皮等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实验建议：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、任意选择</a:t>
            </a: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种物体，快速摩擦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、用它们分别去接近纸屑，观察现象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、注意尽量不要用手接触摩擦过的部位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、每个实验最好做</a:t>
            </a: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2-3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次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627280" y="3675240"/>
          <a:ext cx="6256440" cy="2927160"/>
        </p:xfrm>
        <a:graphic>
          <a:graphicData uri="http://schemas.openxmlformats.org/drawingml/2006/table">
            <a:tbl>
              <a:tblPr/>
              <a:tblGrid>
                <a:gridCol w="2239920"/>
                <a:gridCol w="4016520"/>
              </a:tblGrid>
              <a:tr h="335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7a77"/>
                          </a:solidFill>
                          <a:latin typeface="Times New Roman"/>
                        </a:rPr>
                        <a:t>哪两种物体摩擦</a:t>
                      </a:r>
                      <a:endParaRPr b="0" lang="en-US" sz="16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7a77"/>
                          </a:solidFill>
                          <a:latin typeface="Times New Roman"/>
                        </a:rPr>
                        <a:t>摩擦后，能吸引碎纸屑吗？</a:t>
                      </a:r>
                      <a:endParaRPr b="0" lang="en-US" sz="16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7a77"/>
                          </a:solidFill>
                          <a:latin typeface="Times New Roman"/>
                        </a:rPr>
                        <a:t>玻璃棒 </a:t>
                      </a:r>
                      <a:r>
                        <a:rPr b="0" lang="en-US" sz="1800" spc="-1" strike="noStrike">
                          <a:solidFill>
                            <a:srgbClr val="007a77"/>
                          </a:solidFill>
                          <a:latin typeface="Times New Roman"/>
                        </a:rPr>
                        <a:t>+ </a:t>
                      </a:r>
                      <a:r>
                        <a:rPr b="0" lang="zh-CN" sz="1800" spc="-1" strike="noStrike">
                          <a:solidFill>
                            <a:srgbClr val="007a77"/>
                          </a:solidFill>
                          <a:latin typeface="Times New Roman"/>
                        </a:rPr>
                        <a:t>丝绸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7a77"/>
                          </a:solidFill>
                          <a:latin typeface="Times New Roman"/>
                        </a:rPr>
                        <a:t>橡胶棒 </a:t>
                      </a:r>
                      <a:r>
                        <a:rPr b="0" lang="en-US" sz="1800" spc="-1" strike="noStrike">
                          <a:solidFill>
                            <a:srgbClr val="007a77"/>
                          </a:solidFill>
                          <a:latin typeface="Times New Roman"/>
                        </a:rPr>
                        <a:t>+ </a:t>
                      </a:r>
                      <a:r>
                        <a:rPr b="0" lang="zh-CN" sz="1800" spc="-1" strike="noStrike">
                          <a:solidFill>
                            <a:srgbClr val="007a77"/>
                          </a:solidFill>
                          <a:latin typeface="Times New Roman"/>
                        </a:rPr>
                        <a:t>毛皮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7a77"/>
                          </a:solidFill>
                          <a:latin typeface="Times New Roman"/>
                        </a:rPr>
                        <a:t>气球 </a:t>
                      </a:r>
                      <a:r>
                        <a:rPr b="0" lang="en-US" sz="1800" spc="-1" strike="noStrike">
                          <a:solidFill>
                            <a:srgbClr val="007a77"/>
                          </a:solidFill>
                          <a:latin typeface="Times New Roman"/>
                        </a:rPr>
                        <a:t>+ </a:t>
                      </a:r>
                      <a:r>
                        <a:rPr b="0" lang="zh-CN" sz="1800" spc="-1" strike="noStrike">
                          <a:solidFill>
                            <a:srgbClr val="007a77"/>
                          </a:solidFill>
                          <a:latin typeface="Times New Roman"/>
                        </a:rPr>
                        <a:t>毛皮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7a77"/>
                          </a:solidFill>
                          <a:latin typeface="Times New Roman"/>
                        </a:rPr>
                        <a:t>尺子 </a:t>
                      </a:r>
                      <a:r>
                        <a:rPr b="0" lang="en-US" sz="1800" spc="-1" strike="noStrike">
                          <a:solidFill>
                            <a:srgbClr val="007a77"/>
                          </a:solidFill>
                          <a:latin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02.mpg" descr=""/>
          <p:cNvPicPr/>
          <p:nvPr/>
        </p:nvPicPr>
        <p:blipFill>
          <a:blip r:embed="rId1"/>
          <a:stretch/>
        </p:blipFill>
        <p:spPr>
          <a:xfrm>
            <a:off x="1476360" y="1916280"/>
            <a:ext cx="5759640" cy="392724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3"/>
          <p:cNvSpPr/>
          <p:nvPr/>
        </p:nvSpPr>
        <p:spPr>
          <a:xfrm>
            <a:off x="2822400" y="765000"/>
            <a:ext cx="245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不一样的电荷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正电荷和负电荷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38845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3" dur="1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16:00:0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7:00Z</dcterms:modified>
  <cp:revision>4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